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23A-3E25-4911-82F2-90360D7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B03-88C6-48FE-85A2-519A5AB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FC8-C2F8-43C4-A294-A304D4E2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1AD-FDD6-4D3F-9334-E9E02F05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1B0-DA9B-4C2C-A8F3-CE43CE5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949-57EE-4669-BA25-B6FF90EA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613-5FD7-44BE-9307-61C5ED2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DDB-CEDA-4E3C-A663-22550CB6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9CD-DFA4-4BEC-84FF-3586189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5AB-59C2-4139-9B80-9E86CA4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059-5B6C-4A04-B5D5-4F5B1BCE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91F-FE9A-442C-B68E-208B7FA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67A45FC6-276C-4C8E-9D0A-5ECCC3647FE0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3240" y="0"/>
            <a:ext cx="43198920" cy="10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240" y="4311720"/>
            <a:ext cx="43195680" cy="6381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240" y="0"/>
            <a:ext cx="43195680" cy="70390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9"/>
          <p:cNvGrpSpPr/>
          <p:nvPr/>
        </p:nvGrpSpPr>
        <p:grpSpPr>
          <a:xfrm>
            <a:off x="31048200" y="2308320"/>
            <a:ext cx="7655040" cy="6540480"/>
            <a:chOff x="31048200" y="2308320"/>
            <a:chExt cx="7655040" cy="6540480"/>
          </a:xfrm>
        </p:grpSpPr>
        <p:sp>
          <p:nvSpPr>
            <p:cNvPr id="45" name="Freeform 5"/>
            <p:cNvSpPr/>
            <p:nvPr/>
          </p:nvSpPr>
          <p:spPr>
            <a:xfrm>
              <a:off x="35817120" y="5114880"/>
              <a:ext cx="2860560" cy="370224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3702240"/>
                <a:gd name="textAreaBottom" fmla="*/ 3702600 h 3702240"/>
              </a:gdLst>
              <a:ahLst/>
              <a:rect l="textAreaLeft" t="textAreaTop" r="textAreaRight" b="textAreaBottom"/>
              <a:pathLst>
                <a:path w="1802" h="2332">
                  <a:moveTo>
                    <a:pt x="808" y="282"/>
                  </a:moveTo>
                  <a:lnTo>
                    <a:pt x="856" y="360"/>
                  </a:lnTo>
                  <a:lnTo>
                    <a:pt x="856" y="360"/>
                  </a:lnTo>
                  <a:lnTo>
                    <a:pt x="902" y="334"/>
                  </a:lnTo>
                  <a:lnTo>
                    <a:pt x="952" y="306"/>
                  </a:lnTo>
                  <a:lnTo>
                    <a:pt x="1004" y="278"/>
                  </a:lnTo>
                  <a:lnTo>
                    <a:pt x="1060" y="250"/>
                  </a:lnTo>
                  <a:lnTo>
                    <a:pt x="1116" y="224"/>
                  </a:lnTo>
                  <a:lnTo>
                    <a:pt x="1174" y="198"/>
                  </a:lnTo>
                  <a:lnTo>
                    <a:pt x="1232" y="174"/>
                  </a:lnTo>
                  <a:lnTo>
                    <a:pt x="1290" y="152"/>
                  </a:lnTo>
                  <a:lnTo>
                    <a:pt x="1348" y="132"/>
                  </a:lnTo>
                  <a:lnTo>
                    <a:pt x="1402" y="116"/>
                  </a:lnTo>
                  <a:lnTo>
                    <a:pt x="1454" y="104"/>
                  </a:lnTo>
                  <a:lnTo>
                    <a:pt x="1504" y="96"/>
                  </a:lnTo>
                  <a:lnTo>
                    <a:pt x="1550" y="92"/>
                  </a:lnTo>
                  <a:lnTo>
                    <a:pt x="1570" y="92"/>
                  </a:lnTo>
                  <a:lnTo>
                    <a:pt x="1590" y="92"/>
                  </a:lnTo>
                  <a:lnTo>
                    <a:pt x="1610" y="96"/>
                  </a:lnTo>
                  <a:lnTo>
                    <a:pt x="1626" y="100"/>
                  </a:lnTo>
                  <a:lnTo>
                    <a:pt x="1642" y="106"/>
                  </a:lnTo>
                  <a:lnTo>
                    <a:pt x="1656" y="112"/>
                  </a:lnTo>
                  <a:lnTo>
                    <a:pt x="1656" y="112"/>
                  </a:lnTo>
                  <a:lnTo>
                    <a:pt x="1664" y="116"/>
                  </a:lnTo>
                  <a:lnTo>
                    <a:pt x="1672" y="124"/>
                  </a:lnTo>
                  <a:lnTo>
                    <a:pt x="1682" y="132"/>
                  </a:lnTo>
                  <a:lnTo>
                    <a:pt x="1690" y="146"/>
                  </a:lnTo>
                  <a:lnTo>
                    <a:pt x="1698" y="164"/>
                  </a:lnTo>
                  <a:lnTo>
                    <a:pt x="1706" y="188"/>
                  </a:lnTo>
                  <a:lnTo>
                    <a:pt x="1710" y="216"/>
                  </a:lnTo>
                  <a:lnTo>
                    <a:pt x="1710" y="252"/>
                  </a:lnTo>
                  <a:lnTo>
                    <a:pt x="1710" y="252"/>
                  </a:lnTo>
                  <a:lnTo>
                    <a:pt x="1706" y="280"/>
                  </a:lnTo>
                  <a:lnTo>
                    <a:pt x="1700" y="312"/>
                  </a:lnTo>
                  <a:lnTo>
                    <a:pt x="1688" y="350"/>
                  </a:lnTo>
                  <a:lnTo>
                    <a:pt x="1670" y="392"/>
                  </a:lnTo>
                  <a:lnTo>
                    <a:pt x="1648" y="440"/>
                  </a:lnTo>
                  <a:lnTo>
                    <a:pt x="1618" y="492"/>
                  </a:lnTo>
                  <a:lnTo>
                    <a:pt x="1582" y="552"/>
                  </a:lnTo>
                  <a:lnTo>
                    <a:pt x="1538" y="620"/>
                  </a:lnTo>
                  <a:lnTo>
                    <a:pt x="1486" y="692"/>
                  </a:lnTo>
                  <a:lnTo>
                    <a:pt x="1424" y="774"/>
                  </a:lnTo>
                  <a:lnTo>
                    <a:pt x="1354" y="862"/>
                  </a:lnTo>
                  <a:lnTo>
                    <a:pt x="1274" y="958"/>
                  </a:lnTo>
                  <a:lnTo>
                    <a:pt x="1182" y="1062"/>
                  </a:lnTo>
                  <a:lnTo>
                    <a:pt x="1080" y="1174"/>
                  </a:lnTo>
                  <a:lnTo>
                    <a:pt x="968" y="1296"/>
                  </a:lnTo>
                  <a:lnTo>
                    <a:pt x="842" y="1428"/>
                  </a:lnTo>
                  <a:lnTo>
                    <a:pt x="842" y="1428"/>
                  </a:lnTo>
                  <a:lnTo>
                    <a:pt x="686" y="1584"/>
                  </a:lnTo>
                  <a:lnTo>
                    <a:pt x="542" y="1726"/>
                  </a:lnTo>
                  <a:lnTo>
                    <a:pt x="414" y="1852"/>
                  </a:lnTo>
                  <a:lnTo>
                    <a:pt x="300" y="1956"/>
                  </a:lnTo>
                  <a:lnTo>
                    <a:pt x="138" y="2106"/>
                  </a:lnTo>
                  <a:lnTo>
                    <a:pt x="78" y="2160"/>
                  </a:lnTo>
                  <a:lnTo>
                    <a:pt x="0" y="2332"/>
                  </a:lnTo>
                  <a:lnTo>
                    <a:pt x="0" y="2332"/>
                  </a:lnTo>
                  <a:lnTo>
                    <a:pt x="84" y="2262"/>
                  </a:lnTo>
                  <a:lnTo>
                    <a:pt x="176" y="2182"/>
                  </a:lnTo>
                  <a:lnTo>
                    <a:pt x="294" y="2076"/>
                  </a:lnTo>
                  <a:lnTo>
                    <a:pt x="432" y="1950"/>
                  </a:lnTo>
                  <a:lnTo>
                    <a:pt x="584" y="1808"/>
                  </a:lnTo>
                  <a:lnTo>
                    <a:pt x="744" y="1654"/>
                  </a:lnTo>
                  <a:lnTo>
                    <a:pt x="826" y="1574"/>
                  </a:lnTo>
                  <a:lnTo>
                    <a:pt x="906" y="1492"/>
                  </a:lnTo>
                  <a:lnTo>
                    <a:pt x="906" y="1492"/>
                  </a:lnTo>
                  <a:lnTo>
                    <a:pt x="1012" y="1382"/>
                  </a:lnTo>
                  <a:lnTo>
                    <a:pt x="1112" y="1276"/>
                  </a:lnTo>
                  <a:lnTo>
                    <a:pt x="1204" y="1174"/>
                  </a:lnTo>
                  <a:lnTo>
                    <a:pt x="1290" y="1078"/>
                  </a:lnTo>
                  <a:lnTo>
                    <a:pt x="1370" y="984"/>
                  </a:lnTo>
                  <a:lnTo>
                    <a:pt x="1442" y="896"/>
                  </a:lnTo>
                  <a:lnTo>
                    <a:pt x="1508" y="812"/>
                  </a:lnTo>
                  <a:lnTo>
                    <a:pt x="1568" y="732"/>
                  </a:lnTo>
                  <a:lnTo>
                    <a:pt x="1622" y="658"/>
                  </a:lnTo>
                  <a:lnTo>
                    <a:pt x="1668" y="586"/>
                  </a:lnTo>
                  <a:lnTo>
                    <a:pt x="1706" y="520"/>
                  </a:lnTo>
                  <a:lnTo>
                    <a:pt x="1738" y="458"/>
                  </a:lnTo>
                  <a:lnTo>
                    <a:pt x="1764" y="402"/>
                  </a:lnTo>
                  <a:lnTo>
                    <a:pt x="1774" y="374"/>
                  </a:lnTo>
                  <a:lnTo>
                    <a:pt x="1784" y="348"/>
                  </a:lnTo>
                  <a:lnTo>
                    <a:pt x="1790" y="324"/>
                  </a:lnTo>
                  <a:lnTo>
                    <a:pt x="1796" y="300"/>
                  </a:lnTo>
                  <a:lnTo>
                    <a:pt x="1800" y="278"/>
                  </a:lnTo>
                  <a:lnTo>
                    <a:pt x="1802" y="256"/>
                  </a:lnTo>
                  <a:lnTo>
                    <a:pt x="1802" y="256"/>
                  </a:lnTo>
                  <a:lnTo>
                    <a:pt x="1802" y="218"/>
                  </a:lnTo>
                  <a:lnTo>
                    <a:pt x="1798" y="182"/>
                  </a:lnTo>
                  <a:lnTo>
                    <a:pt x="1792" y="150"/>
                  </a:lnTo>
                  <a:lnTo>
                    <a:pt x="1780" y="120"/>
                  </a:lnTo>
                  <a:lnTo>
                    <a:pt x="1766" y="94"/>
                  </a:lnTo>
                  <a:lnTo>
                    <a:pt x="1750" y="72"/>
                  </a:lnTo>
                  <a:lnTo>
                    <a:pt x="1728" y="50"/>
                  </a:lnTo>
                  <a:lnTo>
                    <a:pt x="1704" y="34"/>
                  </a:lnTo>
                  <a:lnTo>
                    <a:pt x="1704" y="34"/>
                  </a:lnTo>
                  <a:lnTo>
                    <a:pt x="1680" y="22"/>
                  </a:lnTo>
                  <a:lnTo>
                    <a:pt x="1656" y="12"/>
                  </a:lnTo>
                  <a:lnTo>
                    <a:pt x="1628" y="6"/>
                  </a:lnTo>
                  <a:lnTo>
                    <a:pt x="1600" y="2"/>
                  </a:lnTo>
                  <a:lnTo>
                    <a:pt x="1570" y="0"/>
                  </a:lnTo>
                  <a:lnTo>
                    <a:pt x="1538" y="0"/>
                  </a:lnTo>
                  <a:lnTo>
                    <a:pt x="1506" y="2"/>
                  </a:lnTo>
                  <a:lnTo>
                    <a:pt x="1474" y="8"/>
                  </a:lnTo>
                  <a:lnTo>
                    <a:pt x="1440" y="12"/>
                  </a:lnTo>
                  <a:lnTo>
                    <a:pt x="1404" y="20"/>
                  </a:lnTo>
                  <a:lnTo>
                    <a:pt x="1334" y="40"/>
                  </a:lnTo>
                  <a:lnTo>
                    <a:pt x="1262" y="62"/>
                  </a:lnTo>
                  <a:lnTo>
                    <a:pt x="1192" y="90"/>
                  </a:lnTo>
                  <a:lnTo>
                    <a:pt x="1124" y="118"/>
                  </a:lnTo>
                  <a:lnTo>
                    <a:pt x="1058" y="148"/>
                  </a:lnTo>
                  <a:lnTo>
                    <a:pt x="998" y="178"/>
                  </a:lnTo>
                  <a:lnTo>
                    <a:pt x="942" y="206"/>
                  </a:lnTo>
                  <a:lnTo>
                    <a:pt x="856" y="254"/>
                  </a:lnTo>
                  <a:lnTo>
                    <a:pt x="808" y="282"/>
                  </a:lnTo>
                  <a:lnTo>
                    <a:pt x="808" y="2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35763120" y="5089680"/>
              <a:ext cx="2940120" cy="3749760"/>
            </a:xfrm>
            <a:custGeom>
              <a:avLst/>
              <a:gdLst>
                <a:gd name="textAreaLeft" fmla="*/ 0 w 2940120"/>
                <a:gd name="textAreaRight" fmla="*/ 2940480 w 2940120"/>
                <a:gd name="textAreaTop" fmla="*/ 0 h 3749760"/>
                <a:gd name="textAreaBottom" fmla="*/ 3750120 h 3749760"/>
              </a:gdLst>
              <a:ahLst/>
              <a:rect l="textAreaLeft" t="textAreaTop" r="textAreaRight" b="textAreaBottom"/>
              <a:pathLst>
                <a:path w="1852" h="2362">
                  <a:moveTo>
                    <a:pt x="834" y="284"/>
                  </a:moveTo>
                  <a:lnTo>
                    <a:pt x="820" y="292"/>
                  </a:lnTo>
                  <a:lnTo>
                    <a:pt x="884" y="400"/>
                  </a:lnTo>
                  <a:lnTo>
                    <a:pt x="898" y="390"/>
                  </a:lnTo>
                  <a:lnTo>
                    <a:pt x="898" y="390"/>
                  </a:lnTo>
                  <a:lnTo>
                    <a:pt x="946" y="362"/>
                  </a:lnTo>
                  <a:lnTo>
                    <a:pt x="998" y="334"/>
                  </a:lnTo>
                  <a:lnTo>
                    <a:pt x="1052" y="306"/>
                  </a:lnTo>
                  <a:lnTo>
                    <a:pt x="1106" y="278"/>
                  </a:lnTo>
                  <a:lnTo>
                    <a:pt x="1164" y="252"/>
                  </a:lnTo>
                  <a:lnTo>
                    <a:pt x="1220" y="226"/>
                  </a:lnTo>
                  <a:lnTo>
                    <a:pt x="1278" y="202"/>
                  </a:lnTo>
                  <a:lnTo>
                    <a:pt x="1334" y="182"/>
                  </a:lnTo>
                  <a:lnTo>
                    <a:pt x="1390" y="164"/>
                  </a:lnTo>
                  <a:lnTo>
                    <a:pt x="1442" y="148"/>
                  </a:lnTo>
                  <a:lnTo>
                    <a:pt x="1492" y="136"/>
                  </a:lnTo>
                  <a:lnTo>
                    <a:pt x="1540" y="128"/>
                  </a:lnTo>
                  <a:lnTo>
                    <a:pt x="1584" y="124"/>
                  </a:lnTo>
                  <a:lnTo>
                    <a:pt x="1602" y="124"/>
                  </a:lnTo>
                  <a:lnTo>
                    <a:pt x="1622" y="126"/>
                  </a:lnTo>
                  <a:lnTo>
                    <a:pt x="1638" y="128"/>
                  </a:lnTo>
                  <a:lnTo>
                    <a:pt x="1654" y="132"/>
                  </a:lnTo>
                  <a:lnTo>
                    <a:pt x="1670" y="136"/>
                  </a:lnTo>
                  <a:lnTo>
                    <a:pt x="1682" y="142"/>
                  </a:lnTo>
                  <a:lnTo>
                    <a:pt x="1682" y="142"/>
                  </a:lnTo>
                  <a:lnTo>
                    <a:pt x="1696" y="152"/>
                  </a:lnTo>
                  <a:lnTo>
                    <a:pt x="1702" y="160"/>
                  </a:lnTo>
                  <a:lnTo>
                    <a:pt x="1710" y="172"/>
                  </a:lnTo>
                  <a:lnTo>
                    <a:pt x="1718" y="188"/>
                  </a:lnTo>
                  <a:lnTo>
                    <a:pt x="1724" y="208"/>
                  </a:lnTo>
                  <a:lnTo>
                    <a:pt x="1726" y="234"/>
                  </a:lnTo>
                  <a:lnTo>
                    <a:pt x="1726" y="268"/>
                  </a:lnTo>
                  <a:lnTo>
                    <a:pt x="1726" y="268"/>
                  </a:lnTo>
                  <a:lnTo>
                    <a:pt x="1724" y="294"/>
                  </a:lnTo>
                  <a:lnTo>
                    <a:pt x="1716" y="326"/>
                  </a:lnTo>
                  <a:lnTo>
                    <a:pt x="1704" y="362"/>
                  </a:lnTo>
                  <a:lnTo>
                    <a:pt x="1688" y="404"/>
                  </a:lnTo>
                  <a:lnTo>
                    <a:pt x="1666" y="452"/>
                  </a:lnTo>
                  <a:lnTo>
                    <a:pt x="1636" y="504"/>
                  </a:lnTo>
                  <a:lnTo>
                    <a:pt x="1600" y="564"/>
                  </a:lnTo>
                  <a:lnTo>
                    <a:pt x="1556" y="630"/>
                  </a:lnTo>
                  <a:lnTo>
                    <a:pt x="1504" y="702"/>
                  </a:lnTo>
                  <a:lnTo>
                    <a:pt x="1444" y="782"/>
                  </a:lnTo>
                  <a:lnTo>
                    <a:pt x="1374" y="870"/>
                  </a:lnTo>
                  <a:lnTo>
                    <a:pt x="1294" y="964"/>
                  </a:lnTo>
                  <a:lnTo>
                    <a:pt x="1204" y="1068"/>
                  </a:lnTo>
                  <a:lnTo>
                    <a:pt x="1102" y="1180"/>
                  </a:lnTo>
                  <a:lnTo>
                    <a:pt x="988" y="1302"/>
                  </a:lnTo>
                  <a:lnTo>
                    <a:pt x="864" y="1432"/>
                  </a:lnTo>
                  <a:lnTo>
                    <a:pt x="864" y="1432"/>
                  </a:lnTo>
                  <a:lnTo>
                    <a:pt x="708" y="1590"/>
                  </a:lnTo>
                  <a:lnTo>
                    <a:pt x="564" y="1732"/>
                  </a:lnTo>
                  <a:lnTo>
                    <a:pt x="434" y="1856"/>
                  </a:lnTo>
                  <a:lnTo>
                    <a:pt x="322" y="1962"/>
                  </a:lnTo>
                  <a:lnTo>
                    <a:pt x="160" y="2110"/>
                  </a:lnTo>
                  <a:lnTo>
                    <a:pt x="100" y="2164"/>
                  </a:lnTo>
                  <a:lnTo>
                    <a:pt x="88" y="2176"/>
                  </a:lnTo>
                  <a:lnTo>
                    <a:pt x="0" y="2352"/>
                  </a:lnTo>
                  <a:lnTo>
                    <a:pt x="46" y="2362"/>
                  </a:lnTo>
                  <a:lnTo>
                    <a:pt x="46" y="2362"/>
                  </a:lnTo>
                  <a:lnTo>
                    <a:pt x="128" y="2290"/>
                  </a:lnTo>
                  <a:lnTo>
                    <a:pt x="220" y="2210"/>
                  </a:lnTo>
                  <a:lnTo>
                    <a:pt x="338" y="2106"/>
                  </a:lnTo>
                  <a:lnTo>
                    <a:pt x="476" y="1980"/>
                  </a:lnTo>
                  <a:lnTo>
                    <a:pt x="628" y="1838"/>
                  </a:lnTo>
                  <a:lnTo>
                    <a:pt x="790" y="1684"/>
                  </a:lnTo>
                  <a:lnTo>
                    <a:pt x="872" y="1602"/>
                  </a:lnTo>
                  <a:lnTo>
                    <a:pt x="952" y="1520"/>
                  </a:lnTo>
                  <a:lnTo>
                    <a:pt x="952" y="1520"/>
                  </a:lnTo>
                  <a:lnTo>
                    <a:pt x="1060" y="1408"/>
                  </a:lnTo>
                  <a:lnTo>
                    <a:pt x="1158" y="1302"/>
                  </a:lnTo>
                  <a:lnTo>
                    <a:pt x="1252" y="1200"/>
                  </a:lnTo>
                  <a:lnTo>
                    <a:pt x="1338" y="1102"/>
                  </a:lnTo>
                  <a:lnTo>
                    <a:pt x="1418" y="1010"/>
                  </a:lnTo>
                  <a:lnTo>
                    <a:pt x="1492" y="920"/>
                  </a:lnTo>
                  <a:lnTo>
                    <a:pt x="1558" y="836"/>
                  </a:lnTo>
                  <a:lnTo>
                    <a:pt x="1618" y="756"/>
                  </a:lnTo>
                  <a:lnTo>
                    <a:pt x="1670" y="680"/>
                  </a:lnTo>
                  <a:lnTo>
                    <a:pt x="1716" y="608"/>
                  </a:lnTo>
                  <a:lnTo>
                    <a:pt x="1756" y="542"/>
                  </a:lnTo>
                  <a:lnTo>
                    <a:pt x="1788" y="478"/>
                  </a:lnTo>
                  <a:lnTo>
                    <a:pt x="1814" y="420"/>
                  </a:lnTo>
                  <a:lnTo>
                    <a:pt x="1826" y="394"/>
                  </a:lnTo>
                  <a:lnTo>
                    <a:pt x="1834" y="368"/>
                  </a:lnTo>
                  <a:lnTo>
                    <a:pt x="1842" y="342"/>
                  </a:lnTo>
                  <a:lnTo>
                    <a:pt x="1846" y="318"/>
                  </a:lnTo>
                  <a:lnTo>
                    <a:pt x="1850" y="296"/>
                  </a:lnTo>
                  <a:lnTo>
                    <a:pt x="1852" y="274"/>
                  </a:lnTo>
                  <a:lnTo>
                    <a:pt x="1852" y="274"/>
                  </a:lnTo>
                  <a:lnTo>
                    <a:pt x="1852" y="232"/>
                  </a:lnTo>
                  <a:lnTo>
                    <a:pt x="1848" y="194"/>
                  </a:lnTo>
                  <a:lnTo>
                    <a:pt x="1840" y="160"/>
                  </a:lnTo>
                  <a:lnTo>
                    <a:pt x="1830" y="128"/>
                  </a:lnTo>
                  <a:lnTo>
                    <a:pt x="1822" y="114"/>
                  </a:lnTo>
                  <a:lnTo>
                    <a:pt x="1814" y="100"/>
                  </a:lnTo>
                  <a:lnTo>
                    <a:pt x="1806" y="88"/>
                  </a:lnTo>
                  <a:lnTo>
                    <a:pt x="1796" y="76"/>
                  </a:lnTo>
                  <a:lnTo>
                    <a:pt x="1784" y="64"/>
                  </a:lnTo>
                  <a:lnTo>
                    <a:pt x="1772" y="54"/>
                  </a:lnTo>
                  <a:lnTo>
                    <a:pt x="1760" y="44"/>
                  </a:lnTo>
                  <a:lnTo>
                    <a:pt x="1746" y="36"/>
                  </a:lnTo>
                  <a:lnTo>
                    <a:pt x="1746" y="36"/>
                  </a:lnTo>
                  <a:lnTo>
                    <a:pt x="1722" y="24"/>
                  </a:lnTo>
                  <a:lnTo>
                    <a:pt x="1696" y="14"/>
                  </a:lnTo>
                  <a:lnTo>
                    <a:pt x="1668" y="6"/>
                  </a:lnTo>
                  <a:lnTo>
                    <a:pt x="1640" y="2"/>
                  </a:lnTo>
                  <a:lnTo>
                    <a:pt x="1608" y="0"/>
                  </a:lnTo>
                  <a:lnTo>
                    <a:pt x="1576" y="0"/>
                  </a:lnTo>
                  <a:lnTo>
                    <a:pt x="1544" y="2"/>
                  </a:lnTo>
                  <a:lnTo>
                    <a:pt x="1510" y="6"/>
                  </a:lnTo>
                  <a:lnTo>
                    <a:pt x="1474" y="12"/>
                  </a:lnTo>
                  <a:lnTo>
                    <a:pt x="1440" y="20"/>
                  </a:lnTo>
                  <a:lnTo>
                    <a:pt x="1404" y="28"/>
                  </a:lnTo>
                  <a:lnTo>
                    <a:pt x="1368" y="38"/>
                  </a:lnTo>
                  <a:lnTo>
                    <a:pt x="1294" y="62"/>
                  </a:lnTo>
                  <a:lnTo>
                    <a:pt x="1224" y="90"/>
                  </a:lnTo>
                  <a:lnTo>
                    <a:pt x="1154" y="118"/>
                  </a:lnTo>
                  <a:lnTo>
                    <a:pt x="1088" y="148"/>
                  </a:lnTo>
                  <a:lnTo>
                    <a:pt x="1026" y="178"/>
                  </a:lnTo>
                  <a:lnTo>
                    <a:pt x="970" y="206"/>
                  </a:lnTo>
                  <a:lnTo>
                    <a:pt x="882" y="254"/>
                  </a:lnTo>
                  <a:lnTo>
                    <a:pt x="834" y="284"/>
                  </a:lnTo>
                  <a:lnTo>
                    <a:pt x="834" y="284"/>
                  </a:lnTo>
                  <a:close/>
                  <a:moveTo>
                    <a:pt x="1730" y="64"/>
                  </a:moveTo>
                  <a:lnTo>
                    <a:pt x="1730" y="64"/>
                  </a:lnTo>
                  <a:lnTo>
                    <a:pt x="1752" y="80"/>
                  </a:lnTo>
                  <a:lnTo>
                    <a:pt x="1770" y="98"/>
                  </a:lnTo>
                  <a:lnTo>
                    <a:pt x="1786" y="120"/>
                  </a:lnTo>
                  <a:lnTo>
                    <a:pt x="1800" y="144"/>
                  </a:lnTo>
                  <a:lnTo>
                    <a:pt x="1810" y="172"/>
                  </a:lnTo>
                  <a:lnTo>
                    <a:pt x="1816" y="202"/>
                  </a:lnTo>
                  <a:lnTo>
                    <a:pt x="1818" y="236"/>
                  </a:lnTo>
                  <a:lnTo>
                    <a:pt x="1818" y="272"/>
                  </a:lnTo>
                  <a:lnTo>
                    <a:pt x="1818" y="272"/>
                  </a:lnTo>
                  <a:lnTo>
                    <a:pt x="1814" y="306"/>
                  </a:lnTo>
                  <a:lnTo>
                    <a:pt x="1806" y="342"/>
                  </a:lnTo>
                  <a:lnTo>
                    <a:pt x="1794" y="382"/>
                  </a:lnTo>
                  <a:lnTo>
                    <a:pt x="1778" y="424"/>
                  </a:lnTo>
                  <a:lnTo>
                    <a:pt x="1778" y="424"/>
                  </a:lnTo>
                  <a:lnTo>
                    <a:pt x="1758" y="470"/>
                  </a:lnTo>
                  <a:lnTo>
                    <a:pt x="1732" y="518"/>
                  </a:lnTo>
                  <a:lnTo>
                    <a:pt x="1702" y="570"/>
                  </a:lnTo>
                  <a:lnTo>
                    <a:pt x="1668" y="624"/>
                  </a:lnTo>
                  <a:lnTo>
                    <a:pt x="1630" y="682"/>
                  </a:lnTo>
                  <a:lnTo>
                    <a:pt x="1588" y="742"/>
                  </a:lnTo>
                  <a:lnTo>
                    <a:pt x="1542" y="804"/>
                  </a:lnTo>
                  <a:lnTo>
                    <a:pt x="1490" y="870"/>
                  </a:lnTo>
                  <a:lnTo>
                    <a:pt x="1434" y="938"/>
                  </a:lnTo>
                  <a:lnTo>
                    <a:pt x="1376" y="1010"/>
                  </a:lnTo>
                  <a:lnTo>
                    <a:pt x="1312" y="1084"/>
                  </a:lnTo>
                  <a:lnTo>
                    <a:pt x="1244" y="1160"/>
                  </a:lnTo>
                  <a:lnTo>
                    <a:pt x="1172" y="1240"/>
                  </a:lnTo>
                  <a:lnTo>
                    <a:pt x="1094" y="1322"/>
                  </a:lnTo>
                  <a:lnTo>
                    <a:pt x="928" y="1496"/>
                  </a:lnTo>
                  <a:lnTo>
                    <a:pt x="928" y="1496"/>
                  </a:lnTo>
                  <a:lnTo>
                    <a:pt x="782" y="1644"/>
                  </a:lnTo>
                  <a:lnTo>
                    <a:pt x="634" y="1786"/>
                  </a:lnTo>
                  <a:lnTo>
                    <a:pt x="494" y="1918"/>
                  </a:lnTo>
                  <a:lnTo>
                    <a:pt x="364" y="2036"/>
                  </a:lnTo>
                  <a:lnTo>
                    <a:pt x="248" y="2140"/>
                  </a:lnTo>
                  <a:lnTo>
                    <a:pt x="152" y="2224"/>
                  </a:lnTo>
                  <a:lnTo>
                    <a:pt x="36" y="2326"/>
                  </a:lnTo>
                  <a:lnTo>
                    <a:pt x="36" y="2326"/>
                  </a:lnTo>
                  <a:lnTo>
                    <a:pt x="36" y="2322"/>
                  </a:lnTo>
                  <a:lnTo>
                    <a:pt x="38" y="2316"/>
                  </a:lnTo>
                  <a:lnTo>
                    <a:pt x="48" y="2298"/>
                  </a:lnTo>
                  <a:lnTo>
                    <a:pt x="86" y="2252"/>
                  </a:lnTo>
                  <a:lnTo>
                    <a:pt x="122" y="2204"/>
                  </a:lnTo>
                  <a:lnTo>
                    <a:pt x="134" y="2188"/>
                  </a:lnTo>
                  <a:lnTo>
                    <a:pt x="136" y="2182"/>
                  </a:lnTo>
                  <a:lnTo>
                    <a:pt x="134" y="2178"/>
                  </a:lnTo>
                  <a:lnTo>
                    <a:pt x="134" y="2178"/>
                  </a:lnTo>
                  <a:lnTo>
                    <a:pt x="228" y="2094"/>
                  </a:lnTo>
                  <a:lnTo>
                    <a:pt x="392" y="1942"/>
                  </a:lnTo>
                  <a:lnTo>
                    <a:pt x="498" y="1842"/>
                  </a:lnTo>
                  <a:lnTo>
                    <a:pt x="616" y="1728"/>
                  </a:lnTo>
                  <a:lnTo>
                    <a:pt x="746" y="1598"/>
                  </a:lnTo>
                  <a:lnTo>
                    <a:pt x="888" y="1456"/>
                  </a:lnTo>
                  <a:lnTo>
                    <a:pt x="888" y="1456"/>
                  </a:lnTo>
                  <a:lnTo>
                    <a:pt x="1050" y="1284"/>
                  </a:lnTo>
                  <a:lnTo>
                    <a:pt x="1126" y="1204"/>
                  </a:lnTo>
                  <a:lnTo>
                    <a:pt x="1198" y="1124"/>
                  </a:lnTo>
                  <a:lnTo>
                    <a:pt x="1264" y="1048"/>
                  </a:lnTo>
                  <a:lnTo>
                    <a:pt x="1328" y="976"/>
                  </a:lnTo>
                  <a:lnTo>
                    <a:pt x="1386" y="904"/>
                  </a:lnTo>
                  <a:lnTo>
                    <a:pt x="1442" y="838"/>
                  </a:lnTo>
                  <a:lnTo>
                    <a:pt x="1492" y="772"/>
                  </a:lnTo>
                  <a:lnTo>
                    <a:pt x="1538" y="710"/>
                  </a:lnTo>
                  <a:lnTo>
                    <a:pt x="1580" y="652"/>
                  </a:lnTo>
                  <a:lnTo>
                    <a:pt x="1618" y="596"/>
                  </a:lnTo>
                  <a:lnTo>
                    <a:pt x="1650" y="542"/>
                  </a:lnTo>
                  <a:lnTo>
                    <a:pt x="1680" y="492"/>
                  </a:lnTo>
                  <a:lnTo>
                    <a:pt x="1704" y="446"/>
                  </a:lnTo>
                  <a:lnTo>
                    <a:pt x="1724" y="402"/>
                  </a:lnTo>
                  <a:lnTo>
                    <a:pt x="1724" y="402"/>
                  </a:lnTo>
                  <a:lnTo>
                    <a:pt x="1738" y="364"/>
                  </a:lnTo>
                  <a:lnTo>
                    <a:pt x="1750" y="330"/>
                  </a:lnTo>
                  <a:lnTo>
                    <a:pt x="1756" y="298"/>
                  </a:lnTo>
                  <a:lnTo>
                    <a:pt x="1760" y="268"/>
                  </a:lnTo>
                  <a:lnTo>
                    <a:pt x="1760" y="268"/>
                  </a:lnTo>
                  <a:lnTo>
                    <a:pt x="1760" y="248"/>
                  </a:lnTo>
                  <a:lnTo>
                    <a:pt x="1760" y="230"/>
                  </a:lnTo>
                  <a:lnTo>
                    <a:pt x="1756" y="198"/>
                  </a:lnTo>
                  <a:lnTo>
                    <a:pt x="1748" y="172"/>
                  </a:lnTo>
                  <a:lnTo>
                    <a:pt x="1738" y="152"/>
                  </a:lnTo>
                  <a:lnTo>
                    <a:pt x="1728" y="138"/>
                  </a:lnTo>
                  <a:lnTo>
                    <a:pt x="1716" y="126"/>
                  </a:lnTo>
                  <a:lnTo>
                    <a:pt x="1706" y="118"/>
                  </a:lnTo>
                  <a:lnTo>
                    <a:pt x="1700" y="114"/>
                  </a:lnTo>
                  <a:lnTo>
                    <a:pt x="1700" y="114"/>
                  </a:lnTo>
                  <a:lnTo>
                    <a:pt x="1684" y="106"/>
                  </a:lnTo>
                  <a:lnTo>
                    <a:pt x="1666" y="100"/>
                  </a:lnTo>
                  <a:lnTo>
                    <a:pt x="1646" y="94"/>
                  </a:lnTo>
                  <a:lnTo>
                    <a:pt x="1626" y="92"/>
                  </a:lnTo>
                  <a:lnTo>
                    <a:pt x="1604" y="90"/>
                  </a:lnTo>
                  <a:lnTo>
                    <a:pt x="1580" y="90"/>
                  </a:lnTo>
                  <a:lnTo>
                    <a:pt x="1556" y="92"/>
                  </a:lnTo>
                  <a:lnTo>
                    <a:pt x="1530" y="96"/>
                  </a:lnTo>
                  <a:lnTo>
                    <a:pt x="1476" y="104"/>
                  </a:lnTo>
                  <a:lnTo>
                    <a:pt x="1420" y="118"/>
                  </a:lnTo>
                  <a:lnTo>
                    <a:pt x="1362" y="136"/>
                  </a:lnTo>
                  <a:lnTo>
                    <a:pt x="1304" y="156"/>
                  </a:lnTo>
                  <a:lnTo>
                    <a:pt x="1244" y="180"/>
                  </a:lnTo>
                  <a:lnTo>
                    <a:pt x="1186" y="204"/>
                  </a:lnTo>
                  <a:lnTo>
                    <a:pt x="1130" y="230"/>
                  </a:lnTo>
                  <a:lnTo>
                    <a:pt x="1074" y="258"/>
                  </a:lnTo>
                  <a:lnTo>
                    <a:pt x="976" y="308"/>
                  </a:lnTo>
                  <a:lnTo>
                    <a:pt x="896" y="354"/>
                  </a:lnTo>
                  <a:lnTo>
                    <a:pt x="896" y="354"/>
                  </a:lnTo>
                  <a:lnTo>
                    <a:pt x="866" y="304"/>
                  </a:lnTo>
                  <a:lnTo>
                    <a:pt x="866" y="304"/>
                  </a:lnTo>
                  <a:lnTo>
                    <a:pt x="912" y="276"/>
                  </a:lnTo>
                  <a:lnTo>
                    <a:pt x="964" y="248"/>
                  </a:lnTo>
                  <a:lnTo>
                    <a:pt x="1020" y="218"/>
                  </a:lnTo>
                  <a:lnTo>
                    <a:pt x="1076" y="190"/>
                  </a:lnTo>
                  <a:lnTo>
                    <a:pt x="1136" y="162"/>
                  </a:lnTo>
                  <a:lnTo>
                    <a:pt x="1196" y="136"/>
                  </a:lnTo>
                  <a:lnTo>
                    <a:pt x="1258" y="112"/>
                  </a:lnTo>
                  <a:lnTo>
                    <a:pt x="1320" y="88"/>
                  </a:lnTo>
                  <a:lnTo>
                    <a:pt x="1380" y="70"/>
                  </a:lnTo>
                  <a:lnTo>
                    <a:pt x="1440" y="54"/>
                  </a:lnTo>
                  <a:lnTo>
                    <a:pt x="1496" y="42"/>
                  </a:lnTo>
                  <a:lnTo>
                    <a:pt x="1552" y="36"/>
                  </a:lnTo>
                  <a:lnTo>
                    <a:pt x="1578" y="34"/>
                  </a:lnTo>
                  <a:lnTo>
                    <a:pt x="1602" y="34"/>
                  </a:lnTo>
                  <a:lnTo>
                    <a:pt x="1626" y="34"/>
                  </a:lnTo>
                  <a:lnTo>
                    <a:pt x="1650" y="38"/>
                  </a:lnTo>
                  <a:lnTo>
                    <a:pt x="1672" y="42"/>
                  </a:lnTo>
                  <a:lnTo>
                    <a:pt x="1692" y="48"/>
                  </a:lnTo>
                  <a:lnTo>
                    <a:pt x="1712" y="54"/>
                  </a:lnTo>
                  <a:lnTo>
                    <a:pt x="1730" y="64"/>
                  </a:lnTo>
                  <a:lnTo>
                    <a:pt x="1730" y="6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31076640" y="2333520"/>
              <a:ext cx="1504800" cy="442908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4429080"/>
                <a:gd name="textAreaBottom" fmla="*/ 4429440 h 4429080"/>
              </a:gdLst>
              <a:ahLst/>
              <a:rect l="textAreaLeft" t="textAreaTop" r="textAreaRight" b="textAreaBottom"/>
              <a:pathLst>
                <a:path w="948" h="2790">
                  <a:moveTo>
                    <a:pt x="948" y="824"/>
                  </a:moveTo>
                  <a:lnTo>
                    <a:pt x="858" y="844"/>
                  </a:lnTo>
                  <a:lnTo>
                    <a:pt x="858" y="844"/>
                  </a:lnTo>
                  <a:lnTo>
                    <a:pt x="846" y="792"/>
                  </a:lnTo>
                  <a:lnTo>
                    <a:pt x="832" y="738"/>
                  </a:lnTo>
                  <a:lnTo>
                    <a:pt x="814" y="680"/>
                  </a:lnTo>
                  <a:lnTo>
                    <a:pt x="796" y="622"/>
                  </a:lnTo>
                  <a:lnTo>
                    <a:pt x="776" y="562"/>
                  </a:lnTo>
                  <a:lnTo>
                    <a:pt x="754" y="502"/>
                  </a:lnTo>
                  <a:lnTo>
                    <a:pt x="732" y="444"/>
                  </a:lnTo>
                  <a:lnTo>
                    <a:pt x="706" y="386"/>
                  </a:lnTo>
                  <a:lnTo>
                    <a:pt x="682" y="332"/>
                  </a:lnTo>
                  <a:lnTo>
                    <a:pt x="654" y="282"/>
                  </a:lnTo>
                  <a:lnTo>
                    <a:pt x="628" y="236"/>
                  </a:lnTo>
                  <a:lnTo>
                    <a:pt x="598" y="194"/>
                  </a:lnTo>
                  <a:lnTo>
                    <a:pt x="570" y="158"/>
                  </a:lnTo>
                  <a:lnTo>
                    <a:pt x="556" y="144"/>
                  </a:lnTo>
                  <a:lnTo>
                    <a:pt x="540" y="130"/>
                  </a:lnTo>
                  <a:lnTo>
                    <a:pt x="526" y="118"/>
                  </a:lnTo>
                  <a:lnTo>
                    <a:pt x="510" y="108"/>
                  </a:lnTo>
                  <a:lnTo>
                    <a:pt x="496" y="102"/>
                  </a:lnTo>
                  <a:lnTo>
                    <a:pt x="480" y="96"/>
                  </a:lnTo>
                  <a:lnTo>
                    <a:pt x="480" y="96"/>
                  </a:lnTo>
                  <a:lnTo>
                    <a:pt x="472" y="94"/>
                  </a:lnTo>
                  <a:lnTo>
                    <a:pt x="462" y="92"/>
                  </a:lnTo>
                  <a:lnTo>
                    <a:pt x="448" y="92"/>
                  </a:lnTo>
                  <a:lnTo>
                    <a:pt x="432" y="94"/>
                  </a:lnTo>
                  <a:lnTo>
                    <a:pt x="414" y="102"/>
                  </a:lnTo>
                  <a:lnTo>
                    <a:pt x="392" y="112"/>
                  </a:lnTo>
                  <a:lnTo>
                    <a:pt x="370" y="130"/>
                  </a:lnTo>
                  <a:lnTo>
                    <a:pt x="344" y="154"/>
                  </a:lnTo>
                  <a:lnTo>
                    <a:pt x="344" y="154"/>
                  </a:lnTo>
                  <a:lnTo>
                    <a:pt x="326" y="176"/>
                  </a:lnTo>
                  <a:lnTo>
                    <a:pt x="308" y="204"/>
                  </a:lnTo>
                  <a:lnTo>
                    <a:pt x="288" y="238"/>
                  </a:lnTo>
                  <a:lnTo>
                    <a:pt x="270" y="280"/>
                  </a:lnTo>
                  <a:lnTo>
                    <a:pt x="252" y="330"/>
                  </a:lnTo>
                  <a:lnTo>
                    <a:pt x="234" y="388"/>
                  </a:lnTo>
                  <a:lnTo>
                    <a:pt x="216" y="456"/>
                  </a:lnTo>
                  <a:lnTo>
                    <a:pt x="198" y="534"/>
                  </a:lnTo>
                  <a:lnTo>
                    <a:pt x="182" y="622"/>
                  </a:lnTo>
                  <a:lnTo>
                    <a:pt x="166" y="722"/>
                  </a:lnTo>
                  <a:lnTo>
                    <a:pt x="152" y="834"/>
                  </a:lnTo>
                  <a:lnTo>
                    <a:pt x="138" y="958"/>
                  </a:lnTo>
                  <a:lnTo>
                    <a:pt x="126" y="1096"/>
                  </a:lnTo>
                  <a:lnTo>
                    <a:pt x="116" y="1248"/>
                  </a:lnTo>
                  <a:lnTo>
                    <a:pt x="106" y="1414"/>
                  </a:lnTo>
                  <a:lnTo>
                    <a:pt x="100" y="1596"/>
                  </a:lnTo>
                  <a:lnTo>
                    <a:pt x="100" y="1596"/>
                  </a:lnTo>
                  <a:lnTo>
                    <a:pt x="90" y="1994"/>
                  </a:lnTo>
                  <a:lnTo>
                    <a:pt x="84" y="2276"/>
                  </a:lnTo>
                  <a:lnTo>
                    <a:pt x="84" y="2442"/>
                  </a:lnTo>
                  <a:lnTo>
                    <a:pt x="84" y="2500"/>
                  </a:lnTo>
                  <a:lnTo>
                    <a:pt x="12" y="2790"/>
                  </a:lnTo>
                  <a:lnTo>
                    <a:pt x="12" y="2790"/>
                  </a:lnTo>
                  <a:lnTo>
                    <a:pt x="10" y="2688"/>
                  </a:lnTo>
                  <a:lnTo>
                    <a:pt x="4" y="2420"/>
                  </a:lnTo>
                  <a:lnTo>
                    <a:pt x="2" y="2240"/>
                  </a:lnTo>
                  <a:lnTo>
                    <a:pt x="0" y="2038"/>
                  </a:lnTo>
                  <a:lnTo>
                    <a:pt x="2" y="1820"/>
                  </a:lnTo>
                  <a:lnTo>
                    <a:pt x="8" y="1594"/>
                  </a:lnTo>
                  <a:lnTo>
                    <a:pt x="8" y="1594"/>
                  </a:lnTo>
                  <a:lnTo>
                    <a:pt x="14" y="1440"/>
                  </a:lnTo>
                  <a:lnTo>
                    <a:pt x="20" y="1296"/>
                  </a:lnTo>
                  <a:lnTo>
                    <a:pt x="30" y="1158"/>
                  </a:lnTo>
                  <a:lnTo>
                    <a:pt x="40" y="1030"/>
                  </a:lnTo>
                  <a:lnTo>
                    <a:pt x="52" y="908"/>
                  </a:lnTo>
                  <a:lnTo>
                    <a:pt x="64" y="794"/>
                  </a:lnTo>
                  <a:lnTo>
                    <a:pt x="80" y="688"/>
                  </a:lnTo>
                  <a:lnTo>
                    <a:pt x="96" y="590"/>
                  </a:lnTo>
                  <a:lnTo>
                    <a:pt x="112" y="500"/>
                  </a:lnTo>
                  <a:lnTo>
                    <a:pt x="132" y="418"/>
                  </a:lnTo>
                  <a:lnTo>
                    <a:pt x="152" y="344"/>
                  </a:lnTo>
                  <a:lnTo>
                    <a:pt x="174" y="278"/>
                  </a:lnTo>
                  <a:lnTo>
                    <a:pt x="198" y="218"/>
                  </a:lnTo>
                  <a:lnTo>
                    <a:pt x="210" y="192"/>
                  </a:lnTo>
                  <a:lnTo>
                    <a:pt x="222" y="168"/>
                  </a:lnTo>
                  <a:lnTo>
                    <a:pt x="236" y="146"/>
                  </a:lnTo>
                  <a:lnTo>
                    <a:pt x="248" y="126"/>
                  </a:lnTo>
                  <a:lnTo>
                    <a:pt x="262" y="108"/>
                  </a:lnTo>
                  <a:lnTo>
                    <a:pt x="276" y="92"/>
                  </a:lnTo>
                  <a:lnTo>
                    <a:pt x="276" y="92"/>
                  </a:lnTo>
                  <a:lnTo>
                    <a:pt x="304" y="66"/>
                  </a:lnTo>
                  <a:lnTo>
                    <a:pt x="332" y="42"/>
                  </a:lnTo>
                  <a:lnTo>
                    <a:pt x="360" y="26"/>
                  </a:lnTo>
                  <a:lnTo>
                    <a:pt x="388" y="12"/>
                  </a:lnTo>
                  <a:lnTo>
                    <a:pt x="418" y="4"/>
                  </a:lnTo>
                  <a:lnTo>
                    <a:pt x="446" y="0"/>
                  </a:lnTo>
                  <a:lnTo>
                    <a:pt x="476" y="2"/>
                  </a:lnTo>
                  <a:lnTo>
                    <a:pt x="504" y="8"/>
                  </a:lnTo>
                  <a:lnTo>
                    <a:pt x="504" y="8"/>
                  </a:lnTo>
                  <a:lnTo>
                    <a:pt x="530" y="16"/>
                  </a:lnTo>
                  <a:lnTo>
                    <a:pt x="554" y="28"/>
                  </a:lnTo>
                  <a:lnTo>
                    <a:pt x="576" y="42"/>
                  </a:lnTo>
                  <a:lnTo>
                    <a:pt x="600" y="60"/>
                  </a:lnTo>
                  <a:lnTo>
                    <a:pt x="622" y="80"/>
                  </a:lnTo>
                  <a:lnTo>
                    <a:pt x="642" y="104"/>
                  </a:lnTo>
                  <a:lnTo>
                    <a:pt x="664" y="128"/>
                  </a:lnTo>
                  <a:lnTo>
                    <a:pt x="684" y="154"/>
                  </a:lnTo>
                  <a:lnTo>
                    <a:pt x="704" y="184"/>
                  </a:lnTo>
                  <a:lnTo>
                    <a:pt x="722" y="214"/>
                  </a:lnTo>
                  <a:lnTo>
                    <a:pt x="758" y="278"/>
                  </a:lnTo>
                  <a:lnTo>
                    <a:pt x="790" y="346"/>
                  </a:lnTo>
                  <a:lnTo>
                    <a:pt x="820" y="414"/>
                  </a:lnTo>
                  <a:lnTo>
                    <a:pt x="846" y="484"/>
                  </a:lnTo>
                  <a:lnTo>
                    <a:pt x="870" y="552"/>
                  </a:lnTo>
                  <a:lnTo>
                    <a:pt x="890" y="616"/>
                  </a:lnTo>
                  <a:lnTo>
                    <a:pt x="908" y="674"/>
                  </a:lnTo>
                  <a:lnTo>
                    <a:pt x="934" y="770"/>
                  </a:lnTo>
                  <a:lnTo>
                    <a:pt x="948" y="824"/>
                  </a:lnTo>
                  <a:lnTo>
                    <a:pt x="948" y="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31051080" y="2308320"/>
              <a:ext cx="1562040" cy="4483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4483080"/>
                <a:gd name="textAreaBottom" fmla="*/ 4483440 h 4483080"/>
              </a:gdLst>
              <a:ahLst/>
              <a:rect l="textAreaLeft" t="textAreaTop" r="textAreaRight" b="textAreaBottom"/>
              <a:pathLst>
                <a:path w="984" h="2824">
                  <a:moveTo>
                    <a:pt x="524" y="8"/>
                  </a:moveTo>
                  <a:lnTo>
                    <a:pt x="524" y="8"/>
                  </a:lnTo>
                  <a:lnTo>
                    <a:pt x="508" y="4"/>
                  </a:lnTo>
                  <a:lnTo>
                    <a:pt x="494" y="0"/>
                  </a:lnTo>
                  <a:lnTo>
                    <a:pt x="478" y="0"/>
                  </a:lnTo>
                  <a:lnTo>
                    <a:pt x="462" y="0"/>
                  </a:lnTo>
                  <a:lnTo>
                    <a:pt x="446" y="2"/>
                  </a:lnTo>
                  <a:lnTo>
                    <a:pt x="430" y="4"/>
                  </a:lnTo>
                  <a:lnTo>
                    <a:pt x="416" y="8"/>
                  </a:lnTo>
                  <a:lnTo>
                    <a:pt x="400" y="12"/>
                  </a:lnTo>
                  <a:lnTo>
                    <a:pt x="370" y="26"/>
                  </a:lnTo>
                  <a:lnTo>
                    <a:pt x="340" y="44"/>
                  </a:lnTo>
                  <a:lnTo>
                    <a:pt x="310" y="68"/>
                  </a:lnTo>
                  <a:lnTo>
                    <a:pt x="280" y="96"/>
                  </a:lnTo>
                  <a:lnTo>
                    <a:pt x="280" y="96"/>
                  </a:lnTo>
                  <a:lnTo>
                    <a:pt x="266" y="112"/>
                  </a:lnTo>
                  <a:lnTo>
                    <a:pt x="252" y="132"/>
                  </a:lnTo>
                  <a:lnTo>
                    <a:pt x="238" y="152"/>
                  </a:lnTo>
                  <a:lnTo>
                    <a:pt x="226" y="174"/>
                  </a:lnTo>
                  <a:lnTo>
                    <a:pt x="212" y="198"/>
                  </a:lnTo>
                  <a:lnTo>
                    <a:pt x="200" y="226"/>
                  </a:lnTo>
                  <a:lnTo>
                    <a:pt x="176" y="284"/>
                  </a:lnTo>
                  <a:lnTo>
                    <a:pt x="154" y="352"/>
                  </a:lnTo>
                  <a:lnTo>
                    <a:pt x="132" y="426"/>
                  </a:lnTo>
                  <a:lnTo>
                    <a:pt x="114" y="508"/>
                  </a:lnTo>
                  <a:lnTo>
                    <a:pt x="96" y="600"/>
                  </a:lnTo>
                  <a:lnTo>
                    <a:pt x="80" y="698"/>
                  </a:lnTo>
                  <a:lnTo>
                    <a:pt x="64" y="804"/>
                  </a:lnTo>
                  <a:lnTo>
                    <a:pt x="52" y="920"/>
                  </a:lnTo>
                  <a:lnTo>
                    <a:pt x="40" y="1042"/>
                  </a:lnTo>
                  <a:lnTo>
                    <a:pt x="30" y="1172"/>
                  </a:lnTo>
                  <a:lnTo>
                    <a:pt x="20" y="1310"/>
                  </a:lnTo>
                  <a:lnTo>
                    <a:pt x="14" y="1456"/>
                  </a:lnTo>
                  <a:lnTo>
                    <a:pt x="8" y="1608"/>
                  </a:lnTo>
                  <a:lnTo>
                    <a:pt x="8" y="1608"/>
                  </a:lnTo>
                  <a:lnTo>
                    <a:pt x="2" y="1838"/>
                  </a:lnTo>
                  <a:lnTo>
                    <a:pt x="0" y="2056"/>
                  </a:lnTo>
                  <a:lnTo>
                    <a:pt x="0" y="2258"/>
                  </a:lnTo>
                  <a:lnTo>
                    <a:pt x="2" y="2438"/>
                  </a:lnTo>
                  <a:lnTo>
                    <a:pt x="8" y="2706"/>
                  </a:lnTo>
                  <a:lnTo>
                    <a:pt x="12" y="2808"/>
                  </a:lnTo>
                  <a:lnTo>
                    <a:pt x="12" y="2824"/>
                  </a:lnTo>
                  <a:lnTo>
                    <a:pt x="116" y="2532"/>
                  </a:lnTo>
                  <a:lnTo>
                    <a:pt x="116" y="2516"/>
                  </a:lnTo>
                  <a:lnTo>
                    <a:pt x="116" y="2516"/>
                  </a:lnTo>
                  <a:lnTo>
                    <a:pt x="116" y="2458"/>
                  </a:lnTo>
                  <a:lnTo>
                    <a:pt x="116" y="2292"/>
                  </a:lnTo>
                  <a:lnTo>
                    <a:pt x="122" y="2012"/>
                  </a:lnTo>
                  <a:lnTo>
                    <a:pt x="132" y="1612"/>
                  </a:lnTo>
                  <a:lnTo>
                    <a:pt x="132" y="1612"/>
                  </a:lnTo>
                  <a:lnTo>
                    <a:pt x="140" y="1432"/>
                  </a:lnTo>
                  <a:lnTo>
                    <a:pt x="148" y="1266"/>
                  </a:lnTo>
                  <a:lnTo>
                    <a:pt x="158" y="1116"/>
                  </a:lnTo>
                  <a:lnTo>
                    <a:pt x="170" y="978"/>
                  </a:lnTo>
                  <a:lnTo>
                    <a:pt x="184" y="854"/>
                  </a:lnTo>
                  <a:lnTo>
                    <a:pt x="198" y="744"/>
                  </a:lnTo>
                  <a:lnTo>
                    <a:pt x="214" y="644"/>
                  </a:lnTo>
                  <a:lnTo>
                    <a:pt x="230" y="556"/>
                  </a:lnTo>
                  <a:lnTo>
                    <a:pt x="246" y="480"/>
                  </a:lnTo>
                  <a:lnTo>
                    <a:pt x="264" y="412"/>
                  </a:lnTo>
                  <a:lnTo>
                    <a:pt x="282" y="354"/>
                  </a:lnTo>
                  <a:lnTo>
                    <a:pt x="300" y="306"/>
                  </a:lnTo>
                  <a:lnTo>
                    <a:pt x="318" y="264"/>
                  </a:lnTo>
                  <a:lnTo>
                    <a:pt x="336" y="230"/>
                  </a:lnTo>
                  <a:lnTo>
                    <a:pt x="354" y="204"/>
                  </a:lnTo>
                  <a:lnTo>
                    <a:pt x="372" y="182"/>
                  </a:lnTo>
                  <a:lnTo>
                    <a:pt x="372" y="182"/>
                  </a:lnTo>
                  <a:lnTo>
                    <a:pt x="394" y="160"/>
                  </a:lnTo>
                  <a:lnTo>
                    <a:pt x="416" y="144"/>
                  </a:lnTo>
                  <a:lnTo>
                    <a:pt x="434" y="134"/>
                  </a:lnTo>
                  <a:lnTo>
                    <a:pt x="452" y="128"/>
                  </a:lnTo>
                  <a:lnTo>
                    <a:pt x="466" y="126"/>
                  </a:lnTo>
                  <a:lnTo>
                    <a:pt x="476" y="126"/>
                  </a:lnTo>
                  <a:lnTo>
                    <a:pt x="492" y="128"/>
                  </a:lnTo>
                  <a:lnTo>
                    <a:pt x="492" y="128"/>
                  </a:lnTo>
                  <a:lnTo>
                    <a:pt x="506" y="132"/>
                  </a:lnTo>
                  <a:lnTo>
                    <a:pt x="520" y="140"/>
                  </a:lnTo>
                  <a:lnTo>
                    <a:pt x="534" y="148"/>
                  </a:lnTo>
                  <a:lnTo>
                    <a:pt x="546" y="160"/>
                  </a:lnTo>
                  <a:lnTo>
                    <a:pt x="560" y="172"/>
                  </a:lnTo>
                  <a:lnTo>
                    <a:pt x="574" y="186"/>
                  </a:lnTo>
                  <a:lnTo>
                    <a:pt x="602" y="220"/>
                  </a:lnTo>
                  <a:lnTo>
                    <a:pt x="628" y="260"/>
                  </a:lnTo>
                  <a:lnTo>
                    <a:pt x="654" y="304"/>
                  </a:lnTo>
                  <a:lnTo>
                    <a:pt x="680" y="352"/>
                  </a:lnTo>
                  <a:lnTo>
                    <a:pt x="706" y="406"/>
                  </a:lnTo>
                  <a:lnTo>
                    <a:pt x="730" y="460"/>
                  </a:lnTo>
                  <a:lnTo>
                    <a:pt x="752" y="518"/>
                  </a:lnTo>
                  <a:lnTo>
                    <a:pt x="774" y="576"/>
                  </a:lnTo>
                  <a:lnTo>
                    <a:pt x="794" y="636"/>
                  </a:lnTo>
                  <a:lnTo>
                    <a:pt x="812" y="694"/>
                  </a:lnTo>
                  <a:lnTo>
                    <a:pt x="830" y="754"/>
                  </a:lnTo>
                  <a:lnTo>
                    <a:pt x="844" y="810"/>
                  </a:lnTo>
                  <a:lnTo>
                    <a:pt x="858" y="864"/>
                  </a:lnTo>
                  <a:lnTo>
                    <a:pt x="862" y="880"/>
                  </a:lnTo>
                  <a:lnTo>
                    <a:pt x="984" y="852"/>
                  </a:lnTo>
                  <a:lnTo>
                    <a:pt x="980" y="836"/>
                  </a:lnTo>
                  <a:lnTo>
                    <a:pt x="980" y="836"/>
                  </a:lnTo>
                  <a:lnTo>
                    <a:pt x="966" y="782"/>
                  </a:lnTo>
                  <a:lnTo>
                    <a:pt x="940" y="684"/>
                  </a:lnTo>
                  <a:lnTo>
                    <a:pt x="922" y="626"/>
                  </a:lnTo>
                  <a:lnTo>
                    <a:pt x="902" y="560"/>
                  </a:lnTo>
                  <a:lnTo>
                    <a:pt x="876" y="492"/>
                  </a:lnTo>
                  <a:lnTo>
                    <a:pt x="850" y="422"/>
                  </a:lnTo>
                  <a:lnTo>
                    <a:pt x="818" y="350"/>
                  </a:lnTo>
                  <a:lnTo>
                    <a:pt x="786" y="282"/>
                  </a:lnTo>
                  <a:lnTo>
                    <a:pt x="768" y="250"/>
                  </a:lnTo>
                  <a:lnTo>
                    <a:pt x="750" y="218"/>
                  </a:lnTo>
                  <a:lnTo>
                    <a:pt x="730" y="186"/>
                  </a:lnTo>
                  <a:lnTo>
                    <a:pt x="710" y="158"/>
                  </a:lnTo>
                  <a:lnTo>
                    <a:pt x="690" y="130"/>
                  </a:lnTo>
                  <a:lnTo>
                    <a:pt x="668" y="104"/>
                  </a:lnTo>
                  <a:lnTo>
                    <a:pt x="646" y="82"/>
                  </a:lnTo>
                  <a:lnTo>
                    <a:pt x="622" y="62"/>
                  </a:lnTo>
                  <a:lnTo>
                    <a:pt x="600" y="44"/>
                  </a:lnTo>
                  <a:lnTo>
                    <a:pt x="576" y="28"/>
                  </a:lnTo>
                  <a:lnTo>
                    <a:pt x="550" y="16"/>
                  </a:lnTo>
                  <a:lnTo>
                    <a:pt x="524" y="8"/>
                  </a:lnTo>
                  <a:lnTo>
                    <a:pt x="524" y="8"/>
                  </a:lnTo>
                  <a:close/>
                  <a:moveTo>
                    <a:pt x="944" y="828"/>
                  </a:moveTo>
                  <a:lnTo>
                    <a:pt x="944" y="828"/>
                  </a:lnTo>
                  <a:lnTo>
                    <a:pt x="886" y="840"/>
                  </a:lnTo>
                  <a:lnTo>
                    <a:pt x="886" y="840"/>
                  </a:lnTo>
                  <a:lnTo>
                    <a:pt x="864" y="752"/>
                  </a:lnTo>
                  <a:lnTo>
                    <a:pt x="832" y="644"/>
                  </a:lnTo>
                  <a:lnTo>
                    <a:pt x="812" y="586"/>
                  </a:lnTo>
                  <a:lnTo>
                    <a:pt x="792" y="528"/>
                  </a:lnTo>
                  <a:lnTo>
                    <a:pt x="768" y="468"/>
                  </a:lnTo>
                  <a:lnTo>
                    <a:pt x="744" y="410"/>
                  </a:lnTo>
                  <a:lnTo>
                    <a:pt x="718" y="354"/>
                  </a:lnTo>
                  <a:lnTo>
                    <a:pt x="690" y="300"/>
                  </a:lnTo>
                  <a:lnTo>
                    <a:pt x="662" y="250"/>
                  </a:lnTo>
                  <a:lnTo>
                    <a:pt x="632" y="204"/>
                  </a:lnTo>
                  <a:lnTo>
                    <a:pt x="616" y="184"/>
                  </a:lnTo>
                  <a:lnTo>
                    <a:pt x="600" y="166"/>
                  </a:lnTo>
                  <a:lnTo>
                    <a:pt x="584" y="148"/>
                  </a:lnTo>
                  <a:lnTo>
                    <a:pt x="568" y="134"/>
                  </a:lnTo>
                  <a:lnTo>
                    <a:pt x="552" y="120"/>
                  </a:lnTo>
                  <a:lnTo>
                    <a:pt x="534" y="110"/>
                  </a:lnTo>
                  <a:lnTo>
                    <a:pt x="518" y="102"/>
                  </a:lnTo>
                  <a:lnTo>
                    <a:pt x="500" y="96"/>
                  </a:lnTo>
                  <a:lnTo>
                    <a:pt x="500" y="96"/>
                  </a:lnTo>
                  <a:lnTo>
                    <a:pt x="492" y="94"/>
                  </a:lnTo>
                  <a:lnTo>
                    <a:pt x="480" y="92"/>
                  </a:lnTo>
                  <a:lnTo>
                    <a:pt x="464" y="92"/>
                  </a:lnTo>
                  <a:lnTo>
                    <a:pt x="446" y="94"/>
                  </a:lnTo>
                  <a:lnTo>
                    <a:pt x="426" y="100"/>
                  </a:lnTo>
                  <a:lnTo>
                    <a:pt x="402" y="114"/>
                  </a:lnTo>
                  <a:lnTo>
                    <a:pt x="376" y="132"/>
                  </a:lnTo>
                  <a:lnTo>
                    <a:pt x="362" y="144"/>
                  </a:lnTo>
                  <a:lnTo>
                    <a:pt x="348" y="160"/>
                  </a:lnTo>
                  <a:lnTo>
                    <a:pt x="348" y="160"/>
                  </a:lnTo>
                  <a:lnTo>
                    <a:pt x="328" y="182"/>
                  </a:lnTo>
                  <a:lnTo>
                    <a:pt x="310" y="210"/>
                  </a:lnTo>
                  <a:lnTo>
                    <a:pt x="292" y="242"/>
                  </a:lnTo>
                  <a:lnTo>
                    <a:pt x="276" y="278"/>
                  </a:lnTo>
                  <a:lnTo>
                    <a:pt x="276" y="278"/>
                  </a:lnTo>
                  <a:lnTo>
                    <a:pt x="258" y="322"/>
                  </a:lnTo>
                  <a:lnTo>
                    <a:pt x="242" y="372"/>
                  </a:lnTo>
                  <a:lnTo>
                    <a:pt x="226" y="428"/>
                  </a:lnTo>
                  <a:lnTo>
                    <a:pt x="210" y="488"/>
                  </a:lnTo>
                  <a:lnTo>
                    <a:pt x="196" y="554"/>
                  </a:lnTo>
                  <a:lnTo>
                    <a:pt x="184" y="626"/>
                  </a:lnTo>
                  <a:lnTo>
                    <a:pt x="172" y="702"/>
                  </a:lnTo>
                  <a:lnTo>
                    <a:pt x="160" y="784"/>
                  </a:lnTo>
                  <a:lnTo>
                    <a:pt x="148" y="870"/>
                  </a:lnTo>
                  <a:lnTo>
                    <a:pt x="138" y="962"/>
                  </a:lnTo>
                  <a:lnTo>
                    <a:pt x="130" y="1058"/>
                  </a:lnTo>
                  <a:lnTo>
                    <a:pt x="122" y="1158"/>
                  </a:lnTo>
                  <a:lnTo>
                    <a:pt x="114" y="1264"/>
                  </a:lnTo>
                  <a:lnTo>
                    <a:pt x="108" y="1376"/>
                  </a:lnTo>
                  <a:lnTo>
                    <a:pt x="100" y="1612"/>
                  </a:lnTo>
                  <a:lnTo>
                    <a:pt x="100" y="1612"/>
                  </a:lnTo>
                  <a:lnTo>
                    <a:pt x="94" y="1808"/>
                  </a:lnTo>
                  <a:lnTo>
                    <a:pt x="90" y="1980"/>
                  </a:lnTo>
                  <a:lnTo>
                    <a:pt x="90" y="2130"/>
                  </a:lnTo>
                  <a:lnTo>
                    <a:pt x="90" y="2256"/>
                  </a:lnTo>
                  <a:lnTo>
                    <a:pt x="94" y="2448"/>
                  </a:lnTo>
                  <a:lnTo>
                    <a:pt x="96" y="2558"/>
                  </a:lnTo>
                  <a:lnTo>
                    <a:pt x="96" y="2558"/>
                  </a:lnTo>
                  <a:lnTo>
                    <a:pt x="94" y="2562"/>
                  </a:lnTo>
                  <a:lnTo>
                    <a:pt x="90" y="2568"/>
                  </a:lnTo>
                  <a:lnTo>
                    <a:pt x="84" y="2594"/>
                  </a:lnTo>
                  <a:lnTo>
                    <a:pt x="70" y="2674"/>
                  </a:lnTo>
                  <a:lnTo>
                    <a:pt x="58" y="2754"/>
                  </a:lnTo>
                  <a:lnTo>
                    <a:pt x="52" y="2780"/>
                  </a:lnTo>
                  <a:lnTo>
                    <a:pt x="48" y="2786"/>
                  </a:lnTo>
                  <a:lnTo>
                    <a:pt x="44" y="2790"/>
                  </a:lnTo>
                  <a:lnTo>
                    <a:pt x="44" y="2790"/>
                  </a:lnTo>
                  <a:lnTo>
                    <a:pt x="40" y="2642"/>
                  </a:lnTo>
                  <a:lnTo>
                    <a:pt x="34" y="2372"/>
                  </a:lnTo>
                  <a:lnTo>
                    <a:pt x="34" y="2204"/>
                  </a:lnTo>
                  <a:lnTo>
                    <a:pt x="34" y="2016"/>
                  </a:lnTo>
                  <a:lnTo>
                    <a:pt x="36" y="1818"/>
                  </a:lnTo>
                  <a:lnTo>
                    <a:pt x="40" y="1610"/>
                  </a:lnTo>
                  <a:lnTo>
                    <a:pt x="40" y="1610"/>
                  </a:lnTo>
                  <a:lnTo>
                    <a:pt x="50" y="1370"/>
                  </a:lnTo>
                  <a:lnTo>
                    <a:pt x="56" y="1258"/>
                  </a:lnTo>
                  <a:lnTo>
                    <a:pt x="64" y="1150"/>
                  </a:lnTo>
                  <a:lnTo>
                    <a:pt x="72" y="1048"/>
                  </a:lnTo>
                  <a:lnTo>
                    <a:pt x="82" y="950"/>
                  </a:lnTo>
                  <a:lnTo>
                    <a:pt x="92" y="858"/>
                  </a:lnTo>
                  <a:lnTo>
                    <a:pt x="102" y="770"/>
                  </a:lnTo>
                  <a:lnTo>
                    <a:pt x="114" y="688"/>
                  </a:lnTo>
                  <a:lnTo>
                    <a:pt x="126" y="612"/>
                  </a:lnTo>
                  <a:lnTo>
                    <a:pt x="140" y="538"/>
                  </a:lnTo>
                  <a:lnTo>
                    <a:pt x="156" y="472"/>
                  </a:lnTo>
                  <a:lnTo>
                    <a:pt x="170" y="410"/>
                  </a:lnTo>
                  <a:lnTo>
                    <a:pt x="188" y="352"/>
                  </a:lnTo>
                  <a:lnTo>
                    <a:pt x="204" y="300"/>
                  </a:lnTo>
                  <a:lnTo>
                    <a:pt x="224" y="254"/>
                  </a:lnTo>
                  <a:lnTo>
                    <a:pt x="224" y="254"/>
                  </a:lnTo>
                  <a:lnTo>
                    <a:pt x="242" y="212"/>
                  </a:lnTo>
                  <a:lnTo>
                    <a:pt x="262" y="176"/>
                  </a:lnTo>
                  <a:lnTo>
                    <a:pt x="282" y="146"/>
                  </a:lnTo>
                  <a:lnTo>
                    <a:pt x="304" y="120"/>
                  </a:lnTo>
                  <a:lnTo>
                    <a:pt x="304" y="120"/>
                  </a:lnTo>
                  <a:lnTo>
                    <a:pt x="330" y="94"/>
                  </a:lnTo>
                  <a:lnTo>
                    <a:pt x="356" y="74"/>
                  </a:lnTo>
                  <a:lnTo>
                    <a:pt x="382" y="56"/>
                  </a:lnTo>
                  <a:lnTo>
                    <a:pt x="410" y="44"/>
                  </a:lnTo>
                  <a:lnTo>
                    <a:pt x="436" y="36"/>
                  </a:lnTo>
                  <a:lnTo>
                    <a:pt x="462" y="34"/>
                  </a:lnTo>
                  <a:lnTo>
                    <a:pt x="490" y="34"/>
                  </a:lnTo>
                  <a:lnTo>
                    <a:pt x="516" y="40"/>
                  </a:lnTo>
                  <a:lnTo>
                    <a:pt x="516" y="40"/>
                  </a:lnTo>
                  <a:lnTo>
                    <a:pt x="536" y="46"/>
                  </a:lnTo>
                  <a:lnTo>
                    <a:pt x="554" y="54"/>
                  </a:lnTo>
                  <a:lnTo>
                    <a:pt x="572" y="66"/>
                  </a:lnTo>
                  <a:lnTo>
                    <a:pt x="590" y="78"/>
                  </a:lnTo>
                  <a:lnTo>
                    <a:pt x="608" y="92"/>
                  </a:lnTo>
                  <a:lnTo>
                    <a:pt x="626" y="110"/>
                  </a:lnTo>
                  <a:lnTo>
                    <a:pt x="644" y="128"/>
                  </a:lnTo>
                  <a:lnTo>
                    <a:pt x="660" y="148"/>
                  </a:lnTo>
                  <a:lnTo>
                    <a:pt x="694" y="192"/>
                  </a:lnTo>
                  <a:lnTo>
                    <a:pt x="724" y="240"/>
                  </a:lnTo>
                  <a:lnTo>
                    <a:pt x="754" y="294"/>
                  </a:lnTo>
                  <a:lnTo>
                    <a:pt x="782" y="352"/>
                  </a:lnTo>
                  <a:lnTo>
                    <a:pt x="810" y="412"/>
                  </a:lnTo>
                  <a:lnTo>
                    <a:pt x="834" y="472"/>
                  </a:lnTo>
                  <a:lnTo>
                    <a:pt x="858" y="534"/>
                  </a:lnTo>
                  <a:lnTo>
                    <a:pt x="878" y="596"/>
                  </a:lnTo>
                  <a:lnTo>
                    <a:pt x="898" y="658"/>
                  </a:lnTo>
                  <a:lnTo>
                    <a:pt x="916" y="718"/>
                  </a:lnTo>
                  <a:lnTo>
                    <a:pt x="930" y="774"/>
                  </a:lnTo>
                  <a:lnTo>
                    <a:pt x="944" y="828"/>
                  </a:lnTo>
                  <a:lnTo>
                    <a:pt x="944" y="828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31076640" y="3606840"/>
              <a:ext cx="6121440" cy="521964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5219640"/>
                <a:gd name="textAreaBottom" fmla="*/ 5220000 h 5219640"/>
              </a:gdLst>
              <a:ahLst/>
              <a:rect l="textAreaLeft" t="textAreaTop" r="textAreaRight" b="textAreaBottom"/>
              <a:pathLst>
                <a:path w="3856" h="3288">
                  <a:moveTo>
                    <a:pt x="2194" y="494"/>
                  </a:moveTo>
                  <a:lnTo>
                    <a:pt x="2194" y="494"/>
                  </a:lnTo>
                  <a:lnTo>
                    <a:pt x="2068" y="442"/>
                  </a:lnTo>
                  <a:lnTo>
                    <a:pt x="1942" y="392"/>
                  </a:lnTo>
                  <a:lnTo>
                    <a:pt x="1700" y="296"/>
                  </a:lnTo>
                  <a:lnTo>
                    <a:pt x="1474" y="212"/>
                  </a:lnTo>
                  <a:lnTo>
                    <a:pt x="1272" y="140"/>
                  </a:lnTo>
                  <a:lnTo>
                    <a:pt x="1102" y="80"/>
                  </a:lnTo>
                  <a:lnTo>
                    <a:pt x="972" y="36"/>
                  </a:lnTo>
                  <a:lnTo>
                    <a:pt x="860" y="0"/>
                  </a:lnTo>
                  <a:lnTo>
                    <a:pt x="860" y="0"/>
                  </a:lnTo>
                  <a:lnTo>
                    <a:pt x="852" y="2"/>
                  </a:lnTo>
                  <a:lnTo>
                    <a:pt x="844" y="8"/>
                  </a:lnTo>
                  <a:lnTo>
                    <a:pt x="836" y="16"/>
                  </a:lnTo>
                  <a:lnTo>
                    <a:pt x="826" y="26"/>
                  </a:lnTo>
                  <a:lnTo>
                    <a:pt x="818" y="38"/>
                  </a:lnTo>
                  <a:lnTo>
                    <a:pt x="810" y="56"/>
                  </a:lnTo>
                  <a:lnTo>
                    <a:pt x="806" y="76"/>
                  </a:lnTo>
                  <a:lnTo>
                    <a:pt x="806" y="76"/>
                  </a:lnTo>
                  <a:lnTo>
                    <a:pt x="800" y="122"/>
                  </a:lnTo>
                  <a:lnTo>
                    <a:pt x="796" y="146"/>
                  </a:lnTo>
                  <a:lnTo>
                    <a:pt x="792" y="170"/>
                  </a:lnTo>
                  <a:lnTo>
                    <a:pt x="784" y="192"/>
                  </a:lnTo>
                  <a:lnTo>
                    <a:pt x="774" y="214"/>
                  </a:lnTo>
                  <a:lnTo>
                    <a:pt x="762" y="236"/>
                  </a:lnTo>
                  <a:lnTo>
                    <a:pt x="744" y="254"/>
                  </a:lnTo>
                  <a:lnTo>
                    <a:pt x="744" y="254"/>
                  </a:lnTo>
                  <a:lnTo>
                    <a:pt x="734" y="268"/>
                  </a:lnTo>
                  <a:lnTo>
                    <a:pt x="722" y="290"/>
                  </a:lnTo>
                  <a:lnTo>
                    <a:pt x="706" y="318"/>
                  </a:lnTo>
                  <a:lnTo>
                    <a:pt x="690" y="352"/>
                  </a:lnTo>
                  <a:lnTo>
                    <a:pt x="654" y="434"/>
                  </a:lnTo>
                  <a:lnTo>
                    <a:pt x="618" y="526"/>
                  </a:lnTo>
                  <a:lnTo>
                    <a:pt x="582" y="618"/>
                  </a:lnTo>
                  <a:lnTo>
                    <a:pt x="550" y="704"/>
                  </a:lnTo>
                  <a:lnTo>
                    <a:pt x="510" y="814"/>
                  </a:lnTo>
                  <a:lnTo>
                    <a:pt x="510" y="814"/>
                  </a:lnTo>
                  <a:lnTo>
                    <a:pt x="490" y="878"/>
                  </a:lnTo>
                  <a:lnTo>
                    <a:pt x="478" y="914"/>
                  </a:lnTo>
                  <a:lnTo>
                    <a:pt x="466" y="952"/>
                  </a:lnTo>
                  <a:lnTo>
                    <a:pt x="450" y="988"/>
                  </a:lnTo>
                  <a:lnTo>
                    <a:pt x="434" y="1022"/>
                  </a:lnTo>
                  <a:lnTo>
                    <a:pt x="416" y="1050"/>
                  </a:lnTo>
                  <a:lnTo>
                    <a:pt x="406" y="1062"/>
                  </a:lnTo>
                  <a:lnTo>
                    <a:pt x="396" y="1074"/>
                  </a:lnTo>
                  <a:lnTo>
                    <a:pt x="396" y="1074"/>
                  </a:lnTo>
                  <a:lnTo>
                    <a:pt x="386" y="1084"/>
                  </a:lnTo>
                  <a:lnTo>
                    <a:pt x="374" y="1100"/>
                  </a:lnTo>
                  <a:lnTo>
                    <a:pt x="348" y="1138"/>
                  </a:lnTo>
                  <a:lnTo>
                    <a:pt x="320" y="1188"/>
                  </a:lnTo>
                  <a:lnTo>
                    <a:pt x="292" y="1242"/>
                  </a:lnTo>
                  <a:lnTo>
                    <a:pt x="268" y="1302"/>
                  </a:lnTo>
                  <a:lnTo>
                    <a:pt x="248" y="1360"/>
                  </a:lnTo>
                  <a:lnTo>
                    <a:pt x="240" y="1386"/>
                  </a:lnTo>
                  <a:lnTo>
                    <a:pt x="234" y="1414"/>
                  </a:lnTo>
                  <a:lnTo>
                    <a:pt x="230" y="1438"/>
                  </a:lnTo>
                  <a:lnTo>
                    <a:pt x="228" y="1460"/>
                  </a:lnTo>
                  <a:lnTo>
                    <a:pt x="228" y="1460"/>
                  </a:lnTo>
                  <a:lnTo>
                    <a:pt x="228" y="1480"/>
                  </a:lnTo>
                  <a:lnTo>
                    <a:pt x="224" y="1496"/>
                  </a:lnTo>
                  <a:lnTo>
                    <a:pt x="220" y="1512"/>
                  </a:lnTo>
                  <a:lnTo>
                    <a:pt x="214" y="1526"/>
                  </a:lnTo>
                  <a:lnTo>
                    <a:pt x="206" y="1540"/>
                  </a:lnTo>
                  <a:lnTo>
                    <a:pt x="198" y="1552"/>
                  </a:lnTo>
                  <a:lnTo>
                    <a:pt x="180" y="1572"/>
                  </a:lnTo>
                  <a:lnTo>
                    <a:pt x="162" y="1590"/>
                  </a:lnTo>
                  <a:lnTo>
                    <a:pt x="146" y="1606"/>
                  </a:lnTo>
                  <a:lnTo>
                    <a:pt x="140" y="1614"/>
                  </a:lnTo>
                  <a:lnTo>
                    <a:pt x="134" y="1622"/>
                  </a:lnTo>
                  <a:lnTo>
                    <a:pt x="130" y="1632"/>
                  </a:lnTo>
                  <a:lnTo>
                    <a:pt x="128" y="1642"/>
                  </a:lnTo>
                  <a:lnTo>
                    <a:pt x="128" y="1642"/>
                  </a:lnTo>
                  <a:lnTo>
                    <a:pt x="126" y="1654"/>
                  </a:lnTo>
                  <a:lnTo>
                    <a:pt x="120" y="1672"/>
                  </a:lnTo>
                  <a:lnTo>
                    <a:pt x="106" y="1720"/>
                  </a:lnTo>
                  <a:lnTo>
                    <a:pt x="60" y="1844"/>
                  </a:lnTo>
                  <a:lnTo>
                    <a:pt x="18" y="1958"/>
                  </a:lnTo>
                  <a:lnTo>
                    <a:pt x="4" y="1996"/>
                  </a:lnTo>
                  <a:lnTo>
                    <a:pt x="0" y="2014"/>
                  </a:lnTo>
                  <a:lnTo>
                    <a:pt x="0" y="2014"/>
                  </a:lnTo>
                  <a:lnTo>
                    <a:pt x="36" y="2034"/>
                  </a:lnTo>
                  <a:lnTo>
                    <a:pt x="132" y="2086"/>
                  </a:lnTo>
                  <a:lnTo>
                    <a:pt x="284" y="2166"/>
                  </a:lnTo>
                  <a:lnTo>
                    <a:pt x="482" y="2266"/>
                  </a:lnTo>
                  <a:lnTo>
                    <a:pt x="714" y="2380"/>
                  </a:lnTo>
                  <a:lnTo>
                    <a:pt x="974" y="2506"/>
                  </a:lnTo>
                  <a:lnTo>
                    <a:pt x="1110" y="2570"/>
                  </a:lnTo>
                  <a:lnTo>
                    <a:pt x="1252" y="2634"/>
                  </a:lnTo>
                  <a:lnTo>
                    <a:pt x="1394" y="2698"/>
                  </a:lnTo>
                  <a:lnTo>
                    <a:pt x="1538" y="2760"/>
                  </a:lnTo>
                  <a:lnTo>
                    <a:pt x="1538" y="2760"/>
                  </a:lnTo>
                  <a:lnTo>
                    <a:pt x="1672" y="2816"/>
                  </a:lnTo>
                  <a:lnTo>
                    <a:pt x="1806" y="2870"/>
                  </a:lnTo>
                  <a:lnTo>
                    <a:pt x="1936" y="2922"/>
                  </a:lnTo>
                  <a:lnTo>
                    <a:pt x="2064" y="2972"/>
                  </a:lnTo>
                  <a:lnTo>
                    <a:pt x="2308" y="3062"/>
                  </a:lnTo>
                  <a:lnTo>
                    <a:pt x="2524" y="3138"/>
                  </a:lnTo>
                  <a:lnTo>
                    <a:pt x="2708" y="3202"/>
                  </a:lnTo>
                  <a:lnTo>
                    <a:pt x="2850" y="3248"/>
                  </a:lnTo>
                  <a:lnTo>
                    <a:pt x="2974" y="3288"/>
                  </a:lnTo>
                  <a:lnTo>
                    <a:pt x="2974" y="3288"/>
                  </a:lnTo>
                  <a:lnTo>
                    <a:pt x="3004" y="3246"/>
                  </a:lnTo>
                  <a:lnTo>
                    <a:pt x="3034" y="3198"/>
                  </a:lnTo>
                  <a:lnTo>
                    <a:pt x="3070" y="3138"/>
                  </a:lnTo>
                  <a:lnTo>
                    <a:pt x="3090" y="3104"/>
                  </a:lnTo>
                  <a:lnTo>
                    <a:pt x="3108" y="3066"/>
                  </a:lnTo>
                  <a:lnTo>
                    <a:pt x="3126" y="3028"/>
                  </a:lnTo>
                  <a:lnTo>
                    <a:pt x="3142" y="2988"/>
                  </a:lnTo>
                  <a:lnTo>
                    <a:pt x="3158" y="2948"/>
                  </a:lnTo>
                  <a:lnTo>
                    <a:pt x="3170" y="2906"/>
                  </a:lnTo>
                  <a:lnTo>
                    <a:pt x="3180" y="2866"/>
                  </a:lnTo>
                  <a:lnTo>
                    <a:pt x="3186" y="2826"/>
                  </a:lnTo>
                  <a:lnTo>
                    <a:pt x="3186" y="2826"/>
                  </a:lnTo>
                  <a:lnTo>
                    <a:pt x="3194" y="2802"/>
                  </a:lnTo>
                  <a:lnTo>
                    <a:pt x="3204" y="2780"/>
                  </a:lnTo>
                  <a:lnTo>
                    <a:pt x="3214" y="2760"/>
                  </a:lnTo>
                  <a:lnTo>
                    <a:pt x="3224" y="2740"/>
                  </a:lnTo>
                  <a:lnTo>
                    <a:pt x="3248" y="2704"/>
                  </a:lnTo>
                  <a:lnTo>
                    <a:pt x="3274" y="2668"/>
                  </a:lnTo>
                  <a:lnTo>
                    <a:pt x="3300" y="2632"/>
                  </a:lnTo>
                  <a:lnTo>
                    <a:pt x="3312" y="2612"/>
                  </a:lnTo>
                  <a:lnTo>
                    <a:pt x="3324" y="2592"/>
                  </a:lnTo>
                  <a:lnTo>
                    <a:pt x="3334" y="2570"/>
                  </a:lnTo>
                  <a:lnTo>
                    <a:pt x="3344" y="2548"/>
                  </a:lnTo>
                  <a:lnTo>
                    <a:pt x="3352" y="2522"/>
                  </a:lnTo>
                  <a:lnTo>
                    <a:pt x="3358" y="2496"/>
                  </a:lnTo>
                  <a:lnTo>
                    <a:pt x="3358" y="2496"/>
                  </a:lnTo>
                  <a:lnTo>
                    <a:pt x="3376" y="2396"/>
                  </a:lnTo>
                  <a:lnTo>
                    <a:pt x="3390" y="2320"/>
                  </a:lnTo>
                  <a:lnTo>
                    <a:pt x="3398" y="2288"/>
                  </a:lnTo>
                  <a:lnTo>
                    <a:pt x="3408" y="2258"/>
                  </a:lnTo>
                  <a:lnTo>
                    <a:pt x="3422" y="2230"/>
                  </a:lnTo>
                  <a:lnTo>
                    <a:pt x="3438" y="2204"/>
                  </a:lnTo>
                  <a:lnTo>
                    <a:pt x="3438" y="2204"/>
                  </a:lnTo>
                  <a:lnTo>
                    <a:pt x="3448" y="2186"/>
                  </a:lnTo>
                  <a:lnTo>
                    <a:pt x="3462" y="2160"/>
                  </a:lnTo>
                  <a:lnTo>
                    <a:pt x="3498" y="2092"/>
                  </a:lnTo>
                  <a:lnTo>
                    <a:pt x="3538" y="2006"/>
                  </a:lnTo>
                  <a:lnTo>
                    <a:pt x="3582" y="1912"/>
                  </a:lnTo>
                  <a:lnTo>
                    <a:pt x="3660" y="1734"/>
                  </a:lnTo>
                  <a:lnTo>
                    <a:pt x="3704" y="1632"/>
                  </a:lnTo>
                  <a:lnTo>
                    <a:pt x="3704" y="1632"/>
                  </a:lnTo>
                  <a:lnTo>
                    <a:pt x="3710" y="1610"/>
                  </a:lnTo>
                  <a:lnTo>
                    <a:pt x="3718" y="1584"/>
                  </a:lnTo>
                  <a:lnTo>
                    <a:pt x="3732" y="1526"/>
                  </a:lnTo>
                  <a:lnTo>
                    <a:pt x="3740" y="1498"/>
                  </a:lnTo>
                  <a:lnTo>
                    <a:pt x="3750" y="1468"/>
                  </a:lnTo>
                  <a:lnTo>
                    <a:pt x="3760" y="1440"/>
                  </a:lnTo>
                  <a:lnTo>
                    <a:pt x="3772" y="1414"/>
                  </a:lnTo>
                  <a:lnTo>
                    <a:pt x="3772" y="1414"/>
                  </a:lnTo>
                  <a:lnTo>
                    <a:pt x="3788" y="1390"/>
                  </a:lnTo>
                  <a:lnTo>
                    <a:pt x="3804" y="1368"/>
                  </a:lnTo>
                  <a:lnTo>
                    <a:pt x="3836" y="1328"/>
                  </a:lnTo>
                  <a:lnTo>
                    <a:pt x="3848" y="1310"/>
                  </a:lnTo>
                  <a:lnTo>
                    <a:pt x="3856" y="1294"/>
                  </a:lnTo>
                  <a:lnTo>
                    <a:pt x="3856" y="1286"/>
                  </a:lnTo>
                  <a:lnTo>
                    <a:pt x="3856" y="1280"/>
                  </a:lnTo>
                  <a:lnTo>
                    <a:pt x="3854" y="1274"/>
                  </a:lnTo>
                  <a:lnTo>
                    <a:pt x="3848" y="1268"/>
                  </a:lnTo>
                  <a:lnTo>
                    <a:pt x="3848" y="1268"/>
                  </a:lnTo>
                  <a:lnTo>
                    <a:pt x="3818" y="1246"/>
                  </a:lnTo>
                  <a:lnTo>
                    <a:pt x="3774" y="1218"/>
                  </a:lnTo>
                  <a:lnTo>
                    <a:pt x="3718" y="1184"/>
                  </a:lnTo>
                  <a:lnTo>
                    <a:pt x="3650" y="1148"/>
                  </a:lnTo>
                  <a:lnTo>
                    <a:pt x="3570" y="1108"/>
                  </a:lnTo>
                  <a:lnTo>
                    <a:pt x="3482" y="1064"/>
                  </a:lnTo>
                  <a:lnTo>
                    <a:pt x="3274" y="966"/>
                  </a:lnTo>
                  <a:lnTo>
                    <a:pt x="3036" y="858"/>
                  </a:lnTo>
                  <a:lnTo>
                    <a:pt x="2772" y="742"/>
                  </a:lnTo>
                  <a:lnTo>
                    <a:pt x="2490" y="620"/>
                  </a:lnTo>
                  <a:lnTo>
                    <a:pt x="2194" y="494"/>
                  </a:lnTo>
                  <a:lnTo>
                    <a:pt x="2194" y="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31048200" y="3575160"/>
              <a:ext cx="6162840" cy="52736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5273640"/>
                <a:gd name="textAreaBottom" fmla="*/ 5274000 h 5273640"/>
              </a:gdLst>
              <a:ahLst/>
              <a:rect l="textAreaLeft" t="textAreaTop" r="textAreaRight" b="textAreaBottom"/>
              <a:pathLst>
                <a:path w="3882" h="3322">
                  <a:moveTo>
                    <a:pt x="2366" y="560"/>
                  </a:moveTo>
                  <a:lnTo>
                    <a:pt x="2366" y="560"/>
                  </a:lnTo>
                  <a:lnTo>
                    <a:pt x="2166" y="476"/>
                  </a:lnTo>
                  <a:lnTo>
                    <a:pt x="1984" y="402"/>
                  </a:lnTo>
                  <a:lnTo>
                    <a:pt x="1670" y="278"/>
                  </a:lnTo>
                  <a:lnTo>
                    <a:pt x="1420" y="182"/>
                  </a:lnTo>
                  <a:lnTo>
                    <a:pt x="1228" y="114"/>
                  </a:lnTo>
                  <a:lnTo>
                    <a:pt x="1088" y="66"/>
                  </a:lnTo>
                  <a:lnTo>
                    <a:pt x="992" y="36"/>
                  </a:lnTo>
                  <a:lnTo>
                    <a:pt x="936" y="20"/>
                  </a:lnTo>
                  <a:lnTo>
                    <a:pt x="912" y="14"/>
                  </a:lnTo>
                  <a:lnTo>
                    <a:pt x="912" y="14"/>
                  </a:lnTo>
                  <a:lnTo>
                    <a:pt x="882" y="0"/>
                  </a:lnTo>
                  <a:lnTo>
                    <a:pt x="882" y="0"/>
                  </a:lnTo>
                  <a:lnTo>
                    <a:pt x="874" y="0"/>
                  </a:lnTo>
                  <a:lnTo>
                    <a:pt x="866" y="2"/>
                  </a:lnTo>
                  <a:lnTo>
                    <a:pt x="866" y="2"/>
                  </a:lnTo>
                  <a:lnTo>
                    <a:pt x="858" y="8"/>
                  </a:lnTo>
                  <a:lnTo>
                    <a:pt x="844" y="18"/>
                  </a:lnTo>
                  <a:lnTo>
                    <a:pt x="830" y="34"/>
                  </a:lnTo>
                  <a:lnTo>
                    <a:pt x="824" y="44"/>
                  </a:lnTo>
                  <a:lnTo>
                    <a:pt x="818" y="54"/>
                  </a:lnTo>
                  <a:lnTo>
                    <a:pt x="818" y="54"/>
                  </a:lnTo>
                  <a:lnTo>
                    <a:pt x="814" y="64"/>
                  </a:lnTo>
                  <a:lnTo>
                    <a:pt x="812" y="86"/>
                  </a:lnTo>
                  <a:lnTo>
                    <a:pt x="812" y="86"/>
                  </a:lnTo>
                  <a:lnTo>
                    <a:pt x="810" y="112"/>
                  </a:lnTo>
                  <a:lnTo>
                    <a:pt x="804" y="144"/>
                  </a:lnTo>
                  <a:lnTo>
                    <a:pt x="796" y="178"/>
                  </a:lnTo>
                  <a:lnTo>
                    <a:pt x="790" y="196"/>
                  </a:lnTo>
                  <a:lnTo>
                    <a:pt x="784" y="214"/>
                  </a:lnTo>
                  <a:lnTo>
                    <a:pt x="784" y="214"/>
                  </a:lnTo>
                  <a:lnTo>
                    <a:pt x="778" y="230"/>
                  </a:lnTo>
                  <a:lnTo>
                    <a:pt x="770" y="244"/>
                  </a:lnTo>
                  <a:lnTo>
                    <a:pt x="760" y="256"/>
                  </a:lnTo>
                  <a:lnTo>
                    <a:pt x="750" y="268"/>
                  </a:lnTo>
                  <a:lnTo>
                    <a:pt x="750" y="268"/>
                  </a:lnTo>
                  <a:lnTo>
                    <a:pt x="740" y="284"/>
                  </a:lnTo>
                  <a:lnTo>
                    <a:pt x="726" y="302"/>
                  </a:lnTo>
                  <a:lnTo>
                    <a:pt x="700" y="348"/>
                  </a:lnTo>
                  <a:lnTo>
                    <a:pt x="672" y="404"/>
                  </a:lnTo>
                  <a:lnTo>
                    <a:pt x="644" y="470"/>
                  </a:lnTo>
                  <a:lnTo>
                    <a:pt x="644" y="470"/>
                  </a:lnTo>
                  <a:lnTo>
                    <a:pt x="606" y="560"/>
                  </a:lnTo>
                  <a:lnTo>
                    <a:pt x="572" y="652"/>
                  </a:lnTo>
                  <a:lnTo>
                    <a:pt x="542" y="738"/>
                  </a:lnTo>
                  <a:lnTo>
                    <a:pt x="518" y="812"/>
                  </a:lnTo>
                  <a:lnTo>
                    <a:pt x="518" y="812"/>
                  </a:lnTo>
                  <a:lnTo>
                    <a:pt x="490" y="906"/>
                  </a:lnTo>
                  <a:lnTo>
                    <a:pt x="478" y="940"/>
                  </a:lnTo>
                  <a:lnTo>
                    <a:pt x="466" y="970"/>
                  </a:lnTo>
                  <a:lnTo>
                    <a:pt x="466" y="970"/>
                  </a:lnTo>
                  <a:lnTo>
                    <a:pt x="450" y="1004"/>
                  </a:lnTo>
                  <a:lnTo>
                    <a:pt x="430" y="1038"/>
                  </a:lnTo>
                  <a:lnTo>
                    <a:pt x="406" y="1074"/>
                  </a:lnTo>
                  <a:lnTo>
                    <a:pt x="374" y="1120"/>
                  </a:lnTo>
                  <a:lnTo>
                    <a:pt x="374" y="1120"/>
                  </a:lnTo>
                  <a:lnTo>
                    <a:pt x="346" y="1160"/>
                  </a:lnTo>
                  <a:lnTo>
                    <a:pt x="322" y="1202"/>
                  </a:lnTo>
                  <a:lnTo>
                    <a:pt x="302" y="1242"/>
                  </a:lnTo>
                  <a:lnTo>
                    <a:pt x="284" y="1282"/>
                  </a:lnTo>
                  <a:lnTo>
                    <a:pt x="284" y="1282"/>
                  </a:lnTo>
                  <a:lnTo>
                    <a:pt x="266" y="1326"/>
                  </a:lnTo>
                  <a:lnTo>
                    <a:pt x="254" y="1364"/>
                  </a:lnTo>
                  <a:lnTo>
                    <a:pt x="242" y="1400"/>
                  </a:lnTo>
                  <a:lnTo>
                    <a:pt x="242" y="1400"/>
                  </a:lnTo>
                  <a:lnTo>
                    <a:pt x="238" y="1410"/>
                  </a:lnTo>
                  <a:lnTo>
                    <a:pt x="236" y="1420"/>
                  </a:lnTo>
                  <a:lnTo>
                    <a:pt x="234" y="1440"/>
                  </a:lnTo>
                  <a:lnTo>
                    <a:pt x="234" y="1440"/>
                  </a:lnTo>
                  <a:lnTo>
                    <a:pt x="234" y="1458"/>
                  </a:lnTo>
                  <a:lnTo>
                    <a:pt x="230" y="1480"/>
                  </a:lnTo>
                  <a:lnTo>
                    <a:pt x="222" y="1506"/>
                  </a:lnTo>
                  <a:lnTo>
                    <a:pt x="210" y="1538"/>
                  </a:lnTo>
                  <a:lnTo>
                    <a:pt x="210" y="1538"/>
                  </a:lnTo>
                  <a:lnTo>
                    <a:pt x="204" y="1554"/>
                  </a:lnTo>
                  <a:lnTo>
                    <a:pt x="204" y="1554"/>
                  </a:lnTo>
                  <a:lnTo>
                    <a:pt x="192" y="1566"/>
                  </a:lnTo>
                  <a:lnTo>
                    <a:pt x="176" y="1588"/>
                  </a:lnTo>
                  <a:lnTo>
                    <a:pt x="156" y="1618"/>
                  </a:lnTo>
                  <a:lnTo>
                    <a:pt x="148" y="1634"/>
                  </a:lnTo>
                  <a:lnTo>
                    <a:pt x="140" y="1652"/>
                  </a:lnTo>
                  <a:lnTo>
                    <a:pt x="140" y="1652"/>
                  </a:lnTo>
                  <a:lnTo>
                    <a:pt x="140" y="1652"/>
                  </a:lnTo>
                  <a:lnTo>
                    <a:pt x="140" y="1652"/>
                  </a:lnTo>
                  <a:lnTo>
                    <a:pt x="120" y="1692"/>
                  </a:lnTo>
                  <a:lnTo>
                    <a:pt x="86" y="1768"/>
                  </a:lnTo>
                  <a:lnTo>
                    <a:pt x="68" y="1808"/>
                  </a:lnTo>
                  <a:lnTo>
                    <a:pt x="52" y="1848"/>
                  </a:lnTo>
                  <a:lnTo>
                    <a:pt x="42" y="1882"/>
                  </a:lnTo>
                  <a:lnTo>
                    <a:pt x="38" y="1896"/>
                  </a:lnTo>
                  <a:lnTo>
                    <a:pt x="36" y="1908"/>
                  </a:lnTo>
                  <a:lnTo>
                    <a:pt x="34" y="1924"/>
                  </a:lnTo>
                  <a:lnTo>
                    <a:pt x="34" y="1924"/>
                  </a:lnTo>
                  <a:lnTo>
                    <a:pt x="32" y="1952"/>
                  </a:lnTo>
                  <a:lnTo>
                    <a:pt x="28" y="1982"/>
                  </a:lnTo>
                  <a:lnTo>
                    <a:pt x="24" y="1994"/>
                  </a:lnTo>
                  <a:lnTo>
                    <a:pt x="20" y="2006"/>
                  </a:lnTo>
                  <a:lnTo>
                    <a:pt x="14" y="2016"/>
                  </a:lnTo>
                  <a:lnTo>
                    <a:pt x="8" y="2022"/>
                  </a:lnTo>
                  <a:lnTo>
                    <a:pt x="8" y="2022"/>
                  </a:lnTo>
                  <a:lnTo>
                    <a:pt x="4" y="2024"/>
                  </a:lnTo>
                  <a:lnTo>
                    <a:pt x="2" y="2028"/>
                  </a:lnTo>
                  <a:lnTo>
                    <a:pt x="0" y="2032"/>
                  </a:lnTo>
                  <a:lnTo>
                    <a:pt x="0" y="2036"/>
                  </a:lnTo>
                  <a:lnTo>
                    <a:pt x="0" y="2036"/>
                  </a:lnTo>
                  <a:lnTo>
                    <a:pt x="2" y="2042"/>
                  </a:lnTo>
                  <a:lnTo>
                    <a:pt x="4" y="2046"/>
                  </a:lnTo>
                  <a:lnTo>
                    <a:pt x="6" y="2048"/>
                  </a:lnTo>
                  <a:lnTo>
                    <a:pt x="10" y="2052"/>
                  </a:lnTo>
                  <a:lnTo>
                    <a:pt x="10" y="2052"/>
                  </a:lnTo>
                  <a:lnTo>
                    <a:pt x="40" y="2064"/>
                  </a:lnTo>
                  <a:lnTo>
                    <a:pt x="40" y="2064"/>
                  </a:lnTo>
                  <a:lnTo>
                    <a:pt x="152" y="2126"/>
                  </a:lnTo>
                  <a:lnTo>
                    <a:pt x="276" y="2194"/>
                  </a:lnTo>
                  <a:lnTo>
                    <a:pt x="444" y="2282"/>
                  </a:lnTo>
                  <a:lnTo>
                    <a:pt x="652" y="2386"/>
                  </a:lnTo>
                  <a:lnTo>
                    <a:pt x="770" y="2444"/>
                  </a:lnTo>
                  <a:lnTo>
                    <a:pt x="898" y="2504"/>
                  </a:lnTo>
                  <a:lnTo>
                    <a:pt x="1034" y="2568"/>
                  </a:lnTo>
                  <a:lnTo>
                    <a:pt x="1180" y="2636"/>
                  </a:lnTo>
                  <a:lnTo>
                    <a:pt x="1336" y="2704"/>
                  </a:lnTo>
                  <a:lnTo>
                    <a:pt x="1498" y="2774"/>
                  </a:lnTo>
                  <a:lnTo>
                    <a:pt x="1498" y="2774"/>
                  </a:lnTo>
                  <a:lnTo>
                    <a:pt x="1664" y="2844"/>
                  </a:lnTo>
                  <a:lnTo>
                    <a:pt x="1822" y="2908"/>
                  </a:lnTo>
                  <a:lnTo>
                    <a:pt x="1972" y="2968"/>
                  </a:lnTo>
                  <a:lnTo>
                    <a:pt x="2114" y="3022"/>
                  </a:lnTo>
                  <a:lnTo>
                    <a:pt x="2246" y="3070"/>
                  </a:lnTo>
                  <a:lnTo>
                    <a:pt x="2370" y="3116"/>
                  </a:lnTo>
                  <a:lnTo>
                    <a:pt x="2586" y="3192"/>
                  </a:lnTo>
                  <a:lnTo>
                    <a:pt x="2760" y="3248"/>
                  </a:lnTo>
                  <a:lnTo>
                    <a:pt x="2890" y="3290"/>
                  </a:lnTo>
                  <a:lnTo>
                    <a:pt x="3000" y="3322"/>
                  </a:lnTo>
                  <a:lnTo>
                    <a:pt x="3000" y="3322"/>
                  </a:lnTo>
                  <a:lnTo>
                    <a:pt x="3008" y="3322"/>
                  </a:lnTo>
                  <a:lnTo>
                    <a:pt x="3016" y="3318"/>
                  </a:lnTo>
                  <a:lnTo>
                    <a:pt x="3016" y="3318"/>
                  </a:lnTo>
                  <a:lnTo>
                    <a:pt x="3020" y="3310"/>
                  </a:lnTo>
                  <a:lnTo>
                    <a:pt x="3020" y="3302"/>
                  </a:lnTo>
                  <a:lnTo>
                    <a:pt x="3020" y="3302"/>
                  </a:lnTo>
                  <a:lnTo>
                    <a:pt x="3020" y="3292"/>
                  </a:lnTo>
                  <a:lnTo>
                    <a:pt x="3024" y="3282"/>
                  </a:lnTo>
                  <a:lnTo>
                    <a:pt x="3028" y="3270"/>
                  </a:lnTo>
                  <a:lnTo>
                    <a:pt x="3036" y="3260"/>
                  </a:lnTo>
                  <a:lnTo>
                    <a:pt x="3054" y="3236"/>
                  </a:lnTo>
                  <a:lnTo>
                    <a:pt x="3072" y="3216"/>
                  </a:lnTo>
                  <a:lnTo>
                    <a:pt x="3082" y="3204"/>
                  </a:lnTo>
                  <a:lnTo>
                    <a:pt x="3082" y="3204"/>
                  </a:lnTo>
                  <a:lnTo>
                    <a:pt x="3090" y="3194"/>
                  </a:lnTo>
                  <a:lnTo>
                    <a:pt x="3098" y="3182"/>
                  </a:lnTo>
                  <a:lnTo>
                    <a:pt x="3114" y="3150"/>
                  </a:lnTo>
                  <a:lnTo>
                    <a:pt x="3132" y="3110"/>
                  </a:lnTo>
                  <a:lnTo>
                    <a:pt x="3150" y="3070"/>
                  </a:lnTo>
                  <a:lnTo>
                    <a:pt x="3180" y="2994"/>
                  </a:lnTo>
                  <a:lnTo>
                    <a:pt x="3196" y="2950"/>
                  </a:lnTo>
                  <a:lnTo>
                    <a:pt x="3196" y="2950"/>
                  </a:lnTo>
                  <a:lnTo>
                    <a:pt x="3196" y="2952"/>
                  </a:lnTo>
                  <a:lnTo>
                    <a:pt x="3196" y="2952"/>
                  </a:lnTo>
                  <a:lnTo>
                    <a:pt x="3202" y="2932"/>
                  </a:lnTo>
                  <a:lnTo>
                    <a:pt x="3208" y="2914"/>
                  </a:lnTo>
                  <a:lnTo>
                    <a:pt x="3216" y="2880"/>
                  </a:lnTo>
                  <a:lnTo>
                    <a:pt x="3220" y="2852"/>
                  </a:lnTo>
                  <a:lnTo>
                    <a:pt x="3222" y="2836"/>
                  </a:lnTo>
                  <a:lnTo>
                    <a:pt x="3222" y="2836"/>
                  </a:lnTo>
                  <a:lnTo>
                    <a:pt x="3228" y="2820"/>
                  </a:lnTo>
                  <a:lnTo>
                    <a:pt x="3228" y="2820"/>
                  </a:lnTo>
                  <a:lnTo>
                    <a:pt x="3242" y="2788"/>
                  </a:lnTo>
                  <a:lnTo>
                    <a:pt x="3256" y="2766"/>
                  </a:lnTo>
                  <a:lnTo>
                    <a:pt x="3270" y="2748"/>
                  </a:lnTo>
                  <a:lnTo>
                    <a:pt x="3282" y="2736"/>
                  </a:lnTo>
                  <a:lnTo>
                    <a:pt x="3282" y="2736"/>
                  </a:lnTo>
                  <a:lnTo>
                    <a:pt x="3294" y="2720"/>
                  </a:lnTo>
                  <a:lnTo>
                    <a:pt x="3300" y="2712"/>
                  </a:lnTo>
                  <a:lnTo>
                    <a:pt x="3306" y="2702"/>
                  </a:lnTo>
                  <a:lnTo>
                    <a:pt x="3306" y="2702"/>
                  </a:lnTo>
                  <a:lnTo>
                    <a:pt x="3324" y="2668"/>
                  </a:lnTo>
                  <a:lnTo>
                    <a:pt x="3342" y="2634"/>
                  </a:lnTo>
                  <a:lnTo>
                    <a:pt x="3362" y="2590"/>
                  </a:lnTo>
                  <a:lnTo>
                    <a:pt x="3362" y="2590"/>
                  </a:lnTo>
                  <a:lnTo>
                    <a:pt x="3378" y="2550"/>
                  </a:lnTo>
                  <a:lnTo>
                    <a:pt x="3392" y="2506"/>
                  </a:lnTo>
                  <a:lnTo>
                    <a:pt x="3406" y="2460"/>
                  </a:lnTo>
                  <a:lnTo>
                    <a:pt x="3416" y="2412"/>
                  </a:lnTo>
                  <a:lnTo>
                    <a:pt x="3416" y="2412"/>
                  </a:lnTo>
                  <a:lnTo>
                    <a:pt x="3426" y="2358"/>
                  </a:lnTo>
                  <a:lnTo>
                    <a:pt x="3436" y="2316"/>
                  </a:lnTo>
                  <a:lnTo>
                    <a:pt x="3446" y="2278"/>
                  </a:lnTo>
                  <a:lnTo>
                    <a:pt x="3460" y="2242"/>
                  </a:lnTo>
                  <a:lnTo>
                    <a:pt x="3460" y="2242"/>
                  </a:lnTo>
                  <a:lnTo>
                    <a:pt x="3474" y="2212"/>
                  </a:lnTo>
                  <a:lnTo>
                    <a:pt x="3490" y="2180"/>
                  </a:lnTo>
                  <a:lnTo>
                    <a:pt x="3536" y="2094"/>
                  </a:lnTo>
                  <a:lnTo>
                    <a:pt x="3536" y="2094"/>
                  </a:lnTo>
                  <a:lnTo>
                    <a:pt x="3574" y="2026"/>
                  </a:lnTo>
                  <a:lnTo>
                    <a:pt x="3614" y="1946"/>
                  </a:lnTo>
                  <a:lnTo>
                    <a:pt x="3656" y="1856"/>
                  </a:lnTo>
                  <a:lnTo>
                    <a:pt x="3696" y="1766"/>
                  </a:lnTo>
                  <a:lnTo>
                    <a:pt x="3696" y="1766"/>
                  </a:lnTo>
                  <a:lnTo>
                    <a:pt x="3724" y="1702"/>
                  </a:lnTo>
                  <a:lnTo>
                    <a:pt x="3744" y="1642"/>
                  </a:lnTo>
                  <a:lnTo>
                    <a:pt x="3760" y="1590"/>
                  </a:lnTo>
                  <a:lnTo>
                    <a:pt x="3764" y="1568"/>
                  </a:lnTo>
                  <a:lnTo>
                    <a:pt x="3766" y="1550"/>
                  </a:lnTo>
                  <a:lnTo>
                    <a:pt x="3766" y="1550"/>
                  </a:lnTo>
                  <a:lnTo>
                    <a:pt x="3768" y="1534"/>
                  </a:lnTo>
                  <a:lnTo>
                    <a:pt x="3772" y="1520"/>
                  </a:lnTo>
                  <a:lnTo>
                    <a:pt x="3776" y="1504"/>
                  </a:lnTo>
                  <a:lnTo>
                    <a:pt x="3782" y="1490"/>
                  </a:lnTo>
                  <a:lnTo>
                    <a:pt x="3782" y="1490"/>
                  </a:lnTo>
                  <a:lnTo>
                    <a:pt x="3790" y="1472"/>
                  </a:lnTo>
                  <a:lnTo>
                    <a:pt x="3800" y="1454"/>
                  </a:lnTo>
                  <a:lnTo>
                    <a:pt x="3820" y="1424"/>
                  </a:lnTo>
                  <a:lnTo>
                    <a:pt x="3840" y="1398"/>
                  </a:lnTo>
                  <a:lnTo>
                    <a:pt x="3856" y="1378"/>
                  </a:lnTo>
                  <a:lnTo>
                    <a:pt x="3870" y="1362"/>
                  </a:lnTo>
                  <a:lnTo>
                    <a:pt x="3870" y="1362"/>
                  </a:lnTo>
                  <a:lnTo>
                    <a:pt x="3874" y="1352"/>
                  </a:lnTo>
                  <a:lnTo>
                    <a:pt x="3874" y="1352"/>
                  </a:lnTo>
                  <a:lnTo>
                    <a:pt x="3878" y="1342"/>
                  </a:lnTo>
                  <a:lnTo>
                    <a:pt x="3880" y="1330"/>
                  </a:lnTo>
                  <a:lnTo>
                    <a:pt x="3882" y="1308"/>
                  </a:lnTo>
                  <a:lnTo>
                    <a:pt x="3880" y="1292"/>
                  </a:lnTo>
                  <a:lnTo>
                    <a:pt x="3878" y="1282"/>
                  </a:lnTo>
                  <a:lnTo>
                    <a:pt x="3878" y="1282"/>
                  </a:lnTo>
                  <a:lnTo>
                    <a:pt x="3876" y="1276"/>
                  </a:lnTo>
                  <a:lnTo>
                    <a:pt x="3872" y="1272"/>
                  </a:lnTo>
                  <a:lnTo>
                    <a:pt x="3872" y="1272"/>
                  </a:lnTo>
                  <a:lnTo>
                    <a:pt x="3854" y="1260"/>
                  </a:lnTo>
                  <a:lnTo>
                    <a:pt x="3796" y="1228"/>
                  </a:lnTo>
                  <a:lnTo>
                    <a:pt x="3698" y="1172"/>
                  </a:lnTo>
                  <a:lnTo>
                    <a:pt x="3550" y="1094"/>
                  </a:lnTo>
                  <a:lnTo>
                    <a:pt x="3456" y="1048"/>
                  </a:lnTo>
                  <a:lnTo>
                    <a:pt x="3348" y="996"/>
                  </a:lnTo>
                  <a:lnTo>
                    <a:pt x="3226" y="936"/>
                  </a:lnTo>
                  <a:lnTo>
                    <a:pt x="3086" y="874"/>
                  </a:lnTo>
                  <a:lnTo>
                    <a:pt x="2932" y="804"/>
                  </a:lnTo>
                  <a:lnTo>
                    <a:pt x="2762" y="728"/>
                  </a:lnTo>
                  <a:lnTo>
                    <a:pt x="2574" y="646"/>
                  </a:lnTo>
                  <a:lnTo>
                    <a:pt x="2366" y="560"/>
                  </a:lnTo>
                  <a:lnTo>
                    <a:pt x="2366" y="560"/>
                  </a:lnTo>
                  <a:close/>
                  <a:moveTo>
                    <a:pt x="900" y="44"/>
                  </a:moveTo>
                  <a:lnTo>
                    <a:pt x="900" y="44"/>
                  </a:lnTo>
                  <a:lnTo>
                    <a:pt x="902" y="46"/>
                  </a:lnTo>
                  <a:lnTo>
                    <a:pt x="902" y="46"/>
                  </a:lnTo>
                  <a:lnTo>
                    <a:pt x="918" y="50"/>
                  </a:lnTo>
                  <a:lnTo>
                    <a:pt x="970" y="64"/>
                  </a:lnTo>
                  <a:lnTo>
                    <a:pt x="1062" y="92"/>
                  </a:lnTo>
                  <a:lnTo>
                    <a:pt x="1200" y="140"/>
                  </a:lnTo>
                  <a:lnTo>
                    <a:pt x="1392" y="208"/>
                  </a:lnTo>
                  <a:lnTo>
                    <a:pt x="1644" y="304"/>
                  </a:lnTo>
                  <a:lnTo>
                    <a:pt x="1794" y="362"/>
                  </a:lnTo>
                  <a:lnTo>
                    <a:pt x="1962" y="430"/>
                  </a:lnTo>
                  <a:lnTo>
                    <a:pt x="2148" y="506"/>
                  </a:lnTo>
                  <a:lnTo>
                    <a:pt x="2354" y="590"/>
                  </a:lnTo>
                  <a:lnTo>
                    <a:pt x="2354" y="590"/>
                  </a:lnTo>
                  <a:lnTo>
                    <a:pt x="2546" y="672"/>
                  </a:lnTo>
                  <a:lnTo>
                    <a:pt x="2722" y="748"/>
                  </a:lnTo>
                  <a:lnTo>
                    <a:pt x="2884" y="818"/>
                  </a:lnTo>
                  <a:lnTo>
                    <a:pt x="3030" y="884"/>
                  </a:lnTo>
                  <a:lnTo>
                    <a:pt x="3162" y="944"/>
                  </a:lnTo>
                  <a:lnTo>
                    <a:pt x="3282" y="1000"/>
                  </a:lnTo>
                  <a:lnTo>
                    <a:pt x="3482" y="1098"/>
                  </a:lnTo>
                  <a:lnTo>
                    <a:pt x="3634" y="1176"/>
                  </a:lnTo>
                  <a:lnTo>
                    <a:pt x="3742" y="1234"/>
                  </a:lnTo>
                  <a:lnTo>
                    <a:pt x="3812" y="1274"/>
                  </a:lnTo>
                  <a:lnTo>
                    <a:pt x="3846" y="1296"/>
                  </a:lnTo>
                  <a:lnTo>
                    <a:pt x="3846" y="1296"/>
                  </a:lnTo>
                  <a:lnTo>
                    <a:pt x="3848" y="1318"/>
                  </a:lnTo>
                  <a:lnTo>
                    <a:pt x="3846" y="1330"/>
                  </a:lnTo>
                  <a:lnTo>
                    <a:pt x="3844" y="1340"/>
                  </a:lnTo>
                  <a:lnTo>
                    <a:pt x="3844" y="1340"/>
                  </a:lnTo>
                  <a:lnTo>
                    <a:pt x="3842" y="1344"/>
                  </a:lnTo>
                  <a:lnTo>
                    <a:pt x="3830" y="1356"/>
                  </a:lnTo>
                  <a:lnTo>
                    <a:pt x="3830" y="1356"/>
                  </a:lnTo>
                  <a:lnTo>
                    <a:pt x="3812" y="1378"/>
                  </a:lnTo>
                  <a:lnTo>
                    <a:pt x="3792" y="1406"/>
                  </a:lnTo>
                  <a:lnTo>
                    <a:pt x="3770" y="1438"/>
                  </a:lnTo>
                  <a:lnTo>
                    <a:pt x="3760" y="1456"/>
                  </a:lnTo>
                  <a:lnTo>
                    <a:pt x="3752" y="1476"/>
                  </a:lnTo>
                  <a:lnTo>
                    <a:pt x="3752" y="1476"/>
                  </a:lnTo>
                  <a:lnTo>
                    <a:pt x="3746" y="1494"/>
                  </a:lnTo>
                  <a:lnTo>
                    <a:pt x="3740" y="1510"/>
                  </a:lnTo>
                  <a:lnTo>
                    <a:pt x="3736" y="1530"/>
                  </a:lnTo>
                  <a:lnTo>
                    <a:pt x="3734" y="1548"/>
                  </a:lnTo>
                  <a:lnTo>
                    <a:pt x="3734" y="1548"/>
                  </a:lnTo>
                  <a:lnTo>
                    <a:pt x="3732" y="1564"/>
                  </a:lnTo>
                  <a:lnTo>
                    <a:pt x="3728" y="1584"/>
                  </a:lnTo>
                  <a:lnTo>
                    <a:pt x="3712" y="1632"/>
                  </a:lnTo>
                  <a:lnTo>
                    <a:pt x="3692" y="1690"/>
                  </a:lnTo>
                  <a:lnTo>
                    <a:pt x="3666" y="1754"/>
                  </a:lnTo>
                  <a:lnTo>
                    <a:pt x="3666" y="1754"/>
                  </a:lnTo>
                  <a:lnTo>
                    <a:pt x="3628" y="1840"/>
                  </a:lnTo>
                  <a:lnTo>
                    <a:pt x="3588" y="1926"/>
                  </a:lnTo>
                  <a:lnTo>
                    <a:pt x="3546" y="2006"/>
                  </a:lnTo>
                  <a:lnTo>
                    <a:pt x="3508" y="2078"/>
                  </a:lnTo>
                  <a:lnTo>
                    <a:pt x="3508" y="2078"/>
                  </a:lnTo>
                  <a:lnTo>
                    <a:pt x="3460" y="2164"/>
                  </a:lnTo>
                  <a:lnTo>
                    <a:pt x="3444" y="2198"/>
                  </a:lnTo>
                  <a:lnTo>
                    <a:pt x="3430" y="2228"/>
                  </a:lnTo>
                  <a:lnTo>
                    <a:pt x="3430" y="2228"/>
                  </a:lnTo>
                  <a:lnTo>
                    <a:pt x="3416" y="2264"/>
                  </a:lnTo>
                  <a:lnTo>
                    <a:pt x="3404" y="2304"/>
                  </a:lnTo>
                  <a:lnTo>
                    <a:pt x="3394" y="2350"/>
                  </a:lnTo>
                  <a:lnTo>
                    <a:pt x="3384" y="2406"/>
                  </a:lnTo>
                  <a:lnTo>
                    <a:pt x="3384" y="2406"/>
                  </a:lnTo>
                  <a:lnTo>
                    <a:pt x="3374" y="2452"/>
                  </a:lnTo>
                  <a:lnTo>
                    <a:pt x="3360" y="2496"/>
                  </a:lnTo>
                  <a:lnTo>
                    <a:pt x="3346" y="2538"/>
                  </a:lnTo>
                  <a:lnTo>
                    <a:pt x="3330" y="2576"/>
                  </a:lnTo>
                  <a:lnTo>
                    <a:pt x="3330" y="2576"/>
                  </a:lnTo>
                  <a:lnTo>
                    <a:pt x="3312" y="2620"/>
                  </a:lnTo>
                  <a:lnTo>
                    <a:pt x="3294" y="2654"/>
                  </a:lnTo>
                  <a:lnTo>
                    <a:pt x="3278" y="2684"/>
                  </a:lnTo>
                  <a:lnTo>
                    <a:pt x="3278" y="2684"/>
                  </a:lnTo>
                  <a:lnTo>
                    <a:pt x="3276" y="2686"/>
                  </a:lnTo>
                  <a:lnTo>
                    <a:pt x="3276" y="2686"/>
                  </a:lnTo>
                  <a:lnTo>
                    <a:pt x="3268" y="2700"/>
                  </a:lnTo>
                  <a:lnTo>
                    <a:pt x="3256" y="2712"/>
                  </a:lnTo>
                  <a:lnTo>
                    <a:pt x="3256" y="2712"/>
                  </a:lnTo>
                  <a:lnTo>
                    <a:pt x="3244" y="2728"/>
                  </a:lnTo>
                  <a:lnTo>
                    <a:pt x="3230" y="2746"/>
                  </a:lnTo>
                  <a:lnTo>
                    <a:pt x="3214" y="2772"/>
                  </a:lnTo>
                  <a:lnTo>
                    <a:pt x="3198" y="2808"/>
                  </a:lnTo>
                  <a:lnTo>
                    <a:pt x="3198" y="2808"/>
                  </a:lnTo>
                  <a:lnTo>
                    <a:pt x="3190" y="2826"/>
                  </a:lnTo>
                  <a:lnTo>
                    <a:pt x="3190" y="2826"/>
                  </a:lnTo>
                  <a:lnTo>
                    <a:pt x="3188" y="2832"/>
                  </a:lnTo>
                  <a:lnTo>
                    <a:pt x="3188" y="2832"/>
                  </a:lnTo>
                  <a:lnTo>
                    <a:pt x="3188" y="2842"/>
                  </a:lnTo>
                  <a:lnTo>
                    <a:pt x="3184" y="2866"/>
                  </a:lnTo>
                  <a:lnTo>
                    <a:pt x="3178" y="2900"/>
                  </a:lnTo>
                  <a:lnTo>
                    <a:pt x="3172" y="2920"/>
                  </a:lnTo>
                  <a:lnTo>
                    <a:pt x="3164" y="2938"/>
                  </a:lnTo>
                  <a:lnTo>
                    <a:pt x="3164" y="2938"/>
                  </a:lnTo>
                  <a:lnTo>
                    <a:pt x="3164" y="2938"/>
                  </a:lnTo>
                  <a:lnTo>
                    <a:pt x="3164" y="2938"/>
                  </a:lnTo>
                  <a:lnTo>
                    <a:pt x="3140" y="3002"/>
                  </a:lnTo>
                  <a:lnTo>
                    <a:pt x="3108" y="3082"/>
                  </a:lnTo>
                  <a:lnTo>
                    <a:pt x="3108" y="3082"/>
                  </a:lnTo>
                  <a:lnTo>
                    <a:pt x="3080" y="3144"/>
                  </a:lnTo>
                  <a:lnTo>
                    <a:pt x="3068" y="3166"/>
                  </a:lnTo>
                  <a:lnTo>
                    <a:pt x="3058" y="3182"/>
                  </a:lnTo>
                  <a:lnTo>
                    <a:pt x="3048" y="3192"/>
                  </a:lnTo>
                  <a:lnTo>
                    <a:pt x="3048" y="3192"/>
                  </a:lnTo>
                  <a:lnTo>
                    <a:pt x="3018" y="3228"/>
                  </a:lnTo>
                  <a:lnTo>
                    <a:pt x="3004" y="3248"/>
                  </a:lnTo>
                  <a:lnTo>
                    <a:pt x="2994" y="3268"/>
                  </a:lnTo>
                  <a:lnTo>
                    <a:pt x="2994" y="3268"/>
                  </a:lnTo>
                  <a:lnTo>
                    <a:pt x="2988" y="3284"/>
                  </a:lnTo>
                  <a:lnTo>
                    <a:pt x="2988" y="3284"/>
                  </a:lnTo>
                  <a:lnTo>
                    <a:pt x="2926" y="3266"/>
                  </a:lnTo>
                  <a:lnTo>
                    <a:pt x="2826" y="3234"/>
                  </a:lnTo>
                  <a:lnTo>
                    <a:pt x="2686" y="3190"/>
                  </a:lnTo>
                  <a:lnTo>
                    <a:pt x="2512" y="3130"/>
                  </a:lnTo>
                  <a:lnTo>
                    <a:pt x="2306" y="3058"/>
                  </a:lnTo>
                  <a:lnTo>
                    <a:pt x="2068" y="2968"/>
                  </a:lnTo>
                  <a:lnTo>
                    <a:pt x="1938" y="2918"/>
                  </a:lnTo>
                  <a:lnTo>
                    <a:pt x="1802" y="2864"/>
                  </a:lnTo>
                  <a:lnTo>
                    <a:pt x="1660" y="2806"/>
                  </a:lnTo>
                  <a:lnTo>
                    <a:pt x="1512" y="2744"/>
                  </a:lnTo>
                  <a:lnTo>
                    <a:pt x="1512" y="2744"/>
                  </a:lnTo>
                  <a:lnTo>
                    <a:pt x="1346" y="2672"/>
                  </a:lnTo>
                  <a:lnTo>
                    <a:pt x="1190" y="2602"/>
                  </a:lnTo>
                  <a:lnTo>
                    <a:pt x="1042" y="2536"/>
                  </a:lnTo>
                  <a:lnTo>
                    <a:pt x="904" y="2472"/>
                  </a:lnTo>
                  <a:lnTo>
                    <a:pt x="776" y="2410"/>
                  </a:lnTo>
                  <a:lnTo>
                    <a:pt x="656" y="2352"/>
                  </a:lnTo>
                  <a:lnTo>
                    <a:pt x="448" y="2246"/>
                  </a:lnTo>
                  <a:lnTo>
                    <a:pt x="282" y="2160"/>
                  </a:lnTo>
                  <a:lnTo>
                    <a:pt x="160" y="2092"/>
                  </a:lnTo>
                  <a:lnTo>
                    <a:pt x="56" y="2034"/>
                  </a:lnTo>
                  <a:lnTo>
                    <a:pt x="56" y="2034"/>
                  </a:lnTo>
                  <a:lnTo>
                    <a:pt x="54" y="2034"/>
                  </a:lnTo>
                  <a:lnTo>
                    <a:pt x="54" y="2034"/>
                  </a:lnTo>
                  <a:lnTo>
                    <a:pt x="46" y="2030"/>
                  </a:lnTo>
                  <a:lnTo>
                    <a:pt x="46" y="2030"/>
                  </a:lnTo>
                  <a:lnTo>
                    <a:pt x="52" y="2018"/>
                  </a:lnTo>
                  <a:lnTo>
                    <a:pt x="52" y="2018"/>
                  </a:lnTo>
                  <a:lnTo>
                    <a:pt x="58" y="1996"/>
                  </a:lnTo>
                  <a:lnTo>
                    <a:pt x="62" y="1974"/>
                  </a:lnTo>
                  <a:lnTo>
                    <a:pt x="68" y="1926"/>
                  </a:lnTo>
                  <a:lnTo>
                    <a:pt x="68" y="1912"/>
                  </a:lnTo>
                  <a:lnTo>
                    <a:pt x="68" y="1912"/>
                  </a:lnTo>
                  <a:lnTo>
                    <a:pt x="72" y="1894"/>
                  </a:lnTo>
                  <a:lnTo>
                    <a:pt x="80" y="1868"/>
                  </a:lnTo>
                  <a:lnTo>
                    <a:pt x="106" y="1806"/>
                  </a:lnTo>
                  <a:lnTo>
                    <a:pt x="106" y="1806"/>
                  </a:lnTo>
                  <a:lnTo>
                    <a:pt x="140" y="1726"/>
                  </a:lnTo>
                  <a:lnTo>
                    <a:pt x="170" y="1666"/>
                  </a:lnTo>
                  <a:lnTo>
                    <a:pt x="170" y="1666"/>
                  </a:lnTo>
                  <a:lnTo>
                    <a:pt x="170" y="1666"/>
                  </a:lnTo>
                  <a:lnTo>
                    <a:pt x="170" y="1666"/>
                  </a:lnTo>
                  <a:lnTo>
                    <a:pt x="178" y="1648"/>
                  </a:lnTo>
                  <a:lnTo>
                    <a:pt x="188" y="1630"/>
                  </a:lnTo>
                  <a:lnTo>
                    <a:pt x="208" y="1602"/>
                  </a:lnTo>
                  <a:lnTo>
                    <a:pt x="224" y="1582"/>
                  </a:lnTo>
                  <a:lnTo>
                    <a:pt x="230" y="1576"/>
                  </a:lnTo>
                  <a:lnTo>
                    <a:pt x="230" y="1576"/>
                  </a:lnTo>
                  <a:lnTo>
                    <a:pt x="232" y="1570"/>
                  </a:lnTo>
                  <a:lnTo>
                    <a:pt x="232" y="1570"/>
                  </a:lnTo>
                  <a:lnTo>
                    <a:pt x="242" y="1552"/>
                  </a:lnTo>
                  <a:lnTo>
                    <a:pt x="242" y="1552"/>
                  </a:lnTo>
                  <a:lnTo>
                    <a:pt x="254" y="1514"/>
                  </a:lnTo>
                  <a:lnTo>
                    <a:pt x="262" y="1486"/>
                  </a:lnTo>
                  <a:lnTo>
                    <a:pt x="266" y="1462"/>
                  </a:lnTo>
                  <a:lnTo>
                    <a:pt x="268" y="1442"/>
                  </a:lnTo>
                  <a:lnTo>
                    <a:pt x="268" y="1442"/>
                  </a:lnTo>
                  <a:lnTo>
                    <a:pt x="270" y="1426"/>
                  </a:lnTo>
                  <a:lnTo>
                    <a:pt x="274" y="1410"/>
                  </a:lnTo>
                  <a:lnTo>
                    <a:pt x="274" y="1410"/>
                  </a:lnTo>
                  <a:lnTo>
                    <a:pt x="274" y="1408"/>
                  </a:lnTo>
                  <a:lnTo>
                    <a:pt x="274" y="1408"/>
                  </a:lnTo>
                  <a:lnTo>
                    <a:pt x="284" y="1374"/>
                  </a:lnTo>
                  <a:lnTo>
                    <a:pt x="298" y="1338"/>
                  </a:lnTo>
                  <a:lnTo>
                    <a:pt x="316" y="1294"/>
                  </a:lnTo>
                  <a:lnTo>
                    <a:pt x="316" y="1294"/>
                  </a:lnTo>
                  <a:lnTo>
                    <a:pt x="332" y="1256"/>
                  </a:lnTo>
                  <a:lnTo>
                    <a:pt x="352" y="1218"/>
                  </a:lnTo>
                  <a:lnTo>
                    <a:pt x="374" y="1178"/>
                  </a:lnTo>
                  <a:lnTo>
                    <a:pt x="400" y="1140"/>
                  </a:lnTo>
                  <a:lnTo>
                    <a:pt x="400" y="1140"/>
                  </a:lnTo>
                  <a:lnTo>
                    <a:pt x="434" y="1092"/>
                  </a:lnTo>
                  <a:lnTo>
                    <a:pt x="460" y="1052"/>
                  </a:lnTo>
                  <a:lnTo>
                    <a:pt x="480" y="1018"/>
                  </a:lnTo>
                  <a:lnTo>
                    <a:pt x="498" y="982"/>
                  </a:lnTo>
                  <a:lnTo>
                    <a:pt x="498" y="982"/>
                  </a:lnTo>
                  <a:lnTo>
                    <a:pt x="510" y="950"/>
                  </a:lnTo>
                  <a:lnTo>
                    <a:pt x="522" y="916"/>
                  </a:lnTo>
                  <a:lnTo>
                    <a:pt x="550" y="822"/>
                  </a:lnTo>
                  <a:lnTo>
                    <a:pt x="550" y="822"/>
                  </a:lnTo>
                  <a:lnTo>
                    <a:pt x="576" y="744"/>
                  </a:lnTo>
                  <a:lnTo>
                    <a:pt x="606" y="658"/>
                  </a:lnTo>
                  <a:lnTo>
                    <a:pt x="640" y="570"/>
                  </a:lnTo>
                  <a:lnTo>
                    <a:pt x="674" y="484"/>
                  </a:lnTo>
                  <a:lnTo>
                    <a:pt x="674" y="484"/>
                  </a:lnTo>
                  <a:lnTo>
                    <a:pt x="702" y="420"/>
                  </a:lnTo>
                  <a:lnTo>
                    <a:pt x="730" y="364"/>
                  </a:lnTo>
                  <a:lnTo>
                    <a:pt x="754" y="320"/>
                  </a:lnTo>
                  <a:lnTo>
                    <a:pt x="766" y="304"/>
                  </a:lnTo>
                  <a:lnTo>
                    <a:pt x="776" y="290"/>
                  </a:lnTo>
                  <a:lnTo>
                    <a:pt x="776" y="290"/>
                  </a:lnTo>
                  <a:lnTo>
                    <a:pt x="788" y="276"/>
                  </a:lnTo>
                  <a:lnTo>
                    <a:pt x="798" y="260"/>
                  </a:lnTo>
                  <a:lnTo>
                    <a:pt x="806" y="244"/>
                  </a:lnTo>
                  <a:lnTo>
                    <a:pt x="814" y="228"/>
                  </a:lnTo>
                  <a:lnTo>
                    <a:pt x="814" y="228"/>
                  </a:lnTo>
                  <a:lnTo>
                    <a:pt x="822" y="208"/>
                  </a:lnTo>
                  <a:lnTo>
                    <a:pt x="828" y="188"/>
                  </a:lnTo>
                  <a:lnTo>
                    <a:pt x="838" y="150"/>
                  </a:lnTo>
                  <a:lnTo>
                    <a:pt x="842" y="116"/>
                  </a:lnTo>
                  <a:lnTo>
                    <a:pt x="846" y="88"/>
                  </a:lnTo>
                  <a:lnTo>
                    <a:pt x="848" y="70"/>
                  </a:lnTo>
                  <a:lnTo>
                    <a:pt x="848" y="70"/>
                  </a:lnTo>
                  <a:lnTo>
                    <a:pt x="848" y="66"/>
                  </a:lnTo>
                  <a:lnTo>
                    <a:pt x="848" y="66"/>
                  </a:lnTo>
                  <a:lnTo>
                    <a:pt x="854" y="58"/>
                  </a:lnTo>
                  <a:lnTo>
                    <a:pt x="862" y="50"/>
                  </a:lnTo>
                  <a:lnTo>
                    <a:pt x="878" y="36"/>
                  </a:lnTo>
                  <a:lnTo>
                    <a:pt x="878" y="36"/>
                  </a:lnTo>
                  <a:lnTo>
                    <a:pt x="900" y="44"/>
                  </a:lnTo>
                  <a:lnTo>
                    <a:pt x="900" y="4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35372520" y="5438880"/>
              <a:ext cx="1377720" cy="31719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868" h="1998">
                  <a:moveTo>
                    <a:pt x="836" y="10"/>
                  </a:moveTo>
                  <a:lnTo>
                    <a:pt x="836" y="10"/>
                  </a:lnTo>
                  <a:lnTo>
                    <a:pt x="826" y="32"/>
                  </a:lnTo>
                  <a:lnTo>
                    <a:pt x="816" y="48"/>
                  </a:lnTo>
                  <a:lnTo>
                    <a:pt x="800" y="74"/>
                  </a:lnTo>
                  <a:lnTo>
                    <a:pt x="800" y="74"/>
                  </a:lnTo>
                  <a:lnTo>
                    <a:pt x="782" y="102"/>
                  </a:lnTo>
                  <a:lnTo>
                    <a:pt x="772" y="120"/>
                  </a:lnTo>
                  <a:lnTo>
                    <a:pt x="760" y="144"/>
                  </a:lnTo>
                  <a:lnTo>
                    <a:pt x="760" y="144"/>
                  </a:lnTo>
                  <a:lnTo>
                    <a:pt x="750" y="170"/>
                  </a:lnTo>
                  <a:lnTo>
                    <a:pt x="744" y="190"/>
                  </a:lnTo>
                  <a:lnTo>
                    <a:pt x="736" y="222"/>
                  </a:lnTo>
                  <a:lnTo>
                    <a:pt x="736" y="222"/>
                  </a:lnTo>
                  <a:lnTo>
                    <a:pt x="730" y="252"/>
                  </a:lnTo>
                  <a:lnTo>
                    <a:pt x="724" y="270"/>
                  </a:lnTo>
                  <a:lnTo>
                    <a:pt x="716" y="292"/>
                  </a:lnTo>
                  <a:lnTo>
                    <a:pt x="716" y="292"/>
                  </a:lnTo>
                  <a:lnTo>
                    <a:pt x="706" y="314"/>
                  </a:lnTo>
                  <a:lnTo>
                    <a:pt x="696" y="330"/>
                  </a:lnTo>
                  <a:lnTo>
                    <a:pt x="680" y="356"/>
                  </a:lnTo>
                  <a:lnTo>
                    <a:pt x="680" y="356"/>
                  </a:lnTo>
                  <a:lnTo>
                    <a:pt x="662" y="384"/>
                  </a:lnTo>
                  <a:lnTo>
                    <a:pt x="652" y="402"/>
                  </a:lnTo>
                  <a:lnTo>
                    <a:pt x="640" y="426"/>
                  </a:lnTo>
                  <a:lnTo>
                    <a:pt x="640" y="426"/>
                  </a:lnTo>
                  <a:lnTo>
                    <a:pt x="630" y="452"/>
                  </a:lnTo>
                  <a:lnTo>
                    <a:pt x="624" y="472"/>
                  </a:lnTo>
                  <a:lnTo>
                    <a:pt x="616" y="504"/>
                  </a:lnTo>
                  <a:lnTo>
                    <a:pt x="616" y="504"/>
                  </a:lnTo>
                  <a:lnTo>
                    <a:pt x="610" y="532"/>
                  </a:lnTo>
                  <a:lnTo>
                    <a:pt x="604" y="550"/>
                  </a:lnTo>
                  <a:lnTo>
                    <a:pt x="596" y="574"/>
                  </a:lnTo>
                  <a:lnTo>
                    <a:pt x="596" y="574"/>
                  </a:lnTo>
                  <a:lnTo>
                    <a:pt x="586" y="596"/>
                  </a:lnTo>
                  <a:lnTo>
                    <a:pt x="576" y="612"/>
                  </a:lnTo>
                  <a:lnTo>
                    <a:pt x="560" y="638"/>
                  </a:lnTo>
                  <a:lnTo>
                    <a:pt x="560" y="638"/>
                  </a:lnTo>
                  <a:lnTo>
                    <a:pt x="542" y="666"/>
                  </a:lnTo>
                  <a:lnTo>
                    <a:pt x="532" y="684"/>
                  </a:lnTo>
                  <a:lnTo>
                    <a:pt x="520" y="708"/>
                  </a:lnTo>
                  <a:lnTo>
                    <a:pt x="520" y="708"/>
                  </a:lnTo>
                  <a:lnTo>
                    <a:pt x="510" y="732"/>
                  </a:lnTo>
                  <a:lnTo>
                    <a:pt x="504" y="752"/>
                  </a:lnTo>
                  <a:lnTo>
                    <a:pt x="498" y="784"/>
                  </a:lnTo>
                  <a:lnTo>
                    <a:pt x="498" y="784"/>
                  </a:lnTo>
                  <a:lnTo>
                    <a:pt x="490" y="814"/>
                  </a:lnTo>
                  <a:lnTo>
                    <a:pt x="486" y="832"/>
                  </a:lnTo>
                  <a:lnTo>
                    <a:pt x="476" y="854"/>
                  </a:lnTo>
                  <a:lnTo>
                    <a:pt x="476" y="854"/>
                  </a:lnTo>
                  <a:lnTo>
                    <a:pt x="466" y="876"/>
                  </a:lnTo>
                  <a:lnTo>
                    <a:pt x="458" y="894"/>
                  </a:lnTo>
                  <a:lnTo>
                    <a:pt x="440" y="918"/>
                  </a:lnTo>
                  <a:lnTo>
                    <a:pt x="440" y="918"/>
                  </a:lnTo>
                  <a:lnTo>
                    <a:pt x="422" y="946"/>
                  </a:lnTo>
                  <a:lnTo>
                    <a:pt x="412" y="964"/>
                  </a:lnTo>
                  <a:lnTo>
                    <a:pt x="402" y="988"/>
                  </a:lnTo>
                  <a:lnTo>
                    <a:pt x="402" y="988"/>
                  </a:lnTo>
                  <a:lnTo>
                    <a:pt x="392" y="1012"/>
                  </a:lnTo>
                  <a:lnTo>
                    <a:pt x="386" y="1034"/>
                  </a:lnTo>
                  <a:lnTo>
                    <a:pt x="378" y="1066"/>
                  </a:lnTo>
                  <a:lnTo>
                    <a:pt x="378" y="1066"/>
                  </a:lnTo>
                  <a:lnTo>
                    <a:pt x="372" y="1094"/>
                  </a:lnTo>
                  <a:lnTo>
                    <a:pt x="366" y="1112"/>
                  </a:lnTo>
                  <a:lnTo>
                    <a:pt x="358" y="1136"/>
                  </a:lnTo>
                  <a:lnTo>
                    <a:pt x="358" y="1136"/>
                  </a:lnTo>
                  <a:lnTo>
                    <a:pt x="346" y="1158"/>
                  </a:lnTo>
                  <a:lnTo>
                    <a:pt x="338" y="1174"/>
                  </a:lnTo>
                  <a:lnTo>
                    <a:pt x="322" y="1200"/>
                  </a:lnTo>
                  <a:lnTo>
                    <a:pt x="322" y="1200"/>
                  </a:lnTo>
                  <a:lnTo>
                    <a:pt x="304" y="1226"/>
                  </a:lnTo>
                  <a:lnTo>
                    <a:pt x="294" y="1246"/>
                  </a:lnTo>
                  <a:lnTo>
                    <a:pt x="282" y="1270"/>
                  </a:lnTo>
                  <a:lnTo>
                    <a:pt x="282" y="1270"/>
                  </a:lnTo>
                  <a:lnTo>
                    <a:pt x="272" y="1294"/>
                  </a:lnTo>
                  <a:lnTo>
                    <a:pt x="266" y="1314"/>
                  </a:lnTo>
                  <a:lnTo>
                    <a:pt x="258" y="1346"/>
                  </a:lnTo>
                  <a:lnTo>
                    <a:pt x="258" y="1346"/>
                  </a:lnTo>
                  <a:lnTo>
                    <a:pt x="252" y="1376"/>
                  </a:lnTo>
                  <a:lnTo>
                    <a:pt x="246" y="1394"/>
                  </a:lnTo>
                  <a:lnTo>
                    <a:pt x="238" y="1418"/>
                  </a:lnTo>
                  <a:lnTo>
                    <a:pt x="238" y="1418"/>
                  </a:lnTo>
                  <a:lnTo>
                    <a:pt x="228" y="1440"/>
                  </a:lnTo>
                  <a:lnTo>
                    <a:pt x="218" y="1456"/>
                  </a:lnTo>
                  <a:lnTo>
                    <a:pt x="202" y="1480"/>
                  </a:lnTo>
                  <a:lnTo>
                    <a:pt x="202" y="1480"/>
                  </a:lnTo>
                  <a:lnTo>
                    <a:pt x="184" y="1508"/>
                  </a:lnTo>
                  <a:lnTo>
                    <a:pt x="174" y="1526"/>
                  </a:lnTo>
                  <a:lnTo>
                    <a:pt x="162" y="1550"/>
                  </a:lnTo>
                  <a:lnTo>
                    <a:pt x="162" y="1550"/>
                  </a:lnTo>
                  <a:lnTo>
                    <a:pt x="152" y="1576"/>
                  </a:lnTo>
                  <a:lnTo>
                    <a:pt x="146" y="1596"/>
                  </a:lnTo>
                  <a:lnTo>
                    <a:pt x="140" y="1628"/>
                  </a:lnTo>
                  <a:lnTo>
                    <a:pt x="140" y="1628"/>
                  </a:lnTo>
                  <a:lnTo>
                    <a:pt x="132" y="1658"/>
                  </a:lnTo>
                  <a:lnTo>
                    <a:pt x="126" y="1676"/>
                  </a:lnTo>
                  <a:lnTo>
                    <a:pt x="118" y="1698"/>
                  </a:lnTo>
                  <a:lnTo>
                    <a:pt x="118" y="1698"/>
                  </a:lnTo>
                  <a:lnTo>
                    <a:pt x="108" y="1720"/>
                  </a:lnTo>
                  <a:lnTo>
                    <a:pt x="100" y="1736"/>
                  </a:lnTo>
                  <a:lnTo>
                    <a:pt x="82" y="1760"/>
                  </a:lnTo>
                  <a:lnTo>
                    <a:pt x="82" y="1760"/>
                  </a:lnTo>
                  <a:lnTo>
                    <a:pt x="64" y="1788"/>
                  </a:lnTo>
                  <a:lnTo>
                    <a:pt x="54" y="1806"/>
                  </a:lnTo>
                  <a:lnTo>
                    <a:pt x="44" y="1830"/>
                  </a:lnTo>
                  <a:lnTo>
                    <a:pt x="44" y="1830"/>
                  </a:lnTo>
                  <a:lnTo>
                    <a:pt x="34" y="1854"/>
                  </a:lnTo>
                  <a:lnTo>
                    <a:pt x="28" y="1874"/>
                  </a:lnTo>
                  <a:lnTo>
                    <a:pt x="22" y="1906"/>
                  </a:lnTo>
                  <a:lnTo>
                    <a:pt x="22" y="1906"/>
                  </a:lnTo>
                  <a:lnTo>
                    <a:pt x="14" y="1934"/>
                  </a:lnTo>
                  <a:lnTo>
                    <a:pt x="10" y="1952"/>
                  </a:lnTo>
                  <a:lnTo>
                    <a:pt x="0" y="1974"/>
                  </a:lnTo>
                  <a:lnTo>
                    <a:pt x="0" y="1974"/>
                  </a:lnTo>
                  <a:lnTo>
                    <a:pt x="0" y="1980"/>
                  </a:lnTo>
                  <a:lnTo>
                    <a:pt x="0" y="1986"/>
                  </a:lnTo>
                  <a:lnTo>
                    <a:pt x="4" y="1992"/>
                  </a:lnTo>
                  <a:lnTo>
                    <a:pt x="10" y="1996"/>
                  </a:lnTo>
                  <a:lnTo>
                    <a:pt x="10" y="1996"/>
                  </a:lnTo>
                  <a:lnTo>
                    <a:pt x="16" y="1998"/>
                  </a:lnTo>
                  <a:lnTo>
                    <a:pt x="22" y="1996"/>
                  </a:lnTo>
                  <a:lnTo>
                    <a:pt x="28" y="1992"/>
                  </a:lnTo>
                  <a:lnTo>
                    <a:pt x="32" y="1988"/>
                  </a:lnTo>
                  <a:lnTo>
                    <a:pt x="32" y="1988"/>
                  </a:lnTo>
                  <a:lnTo>
                    <a:pt x="40" y="1962"/>
                  </a:lnTo>
                  <a:lnTo>
                    <a:pt x="48" y="1944"/>
                  </a:lnTo>
                  <a:lnTo>
                    <a:pt x="54" y="1912"/>
                  </a:lnTo>
                  <a:lnTo>
                    <a:pt x="54" y="1912"/>
                  </a:lnTo>
                  <a:lnTo>
                    <a:pt x="60" y="1882"/>
                  </a:lnTo>
                  <a:lnTo>
                    <a:pt x="66" y="1864"/>
                  </a:lnTo>
                  <a:lnTo>
                    <a:pt x="74" y="1842"/>
                  </a:lnTo>
                  <a:lnTo>
                    <a:pt x="74" y="1842"/>
                  </a:lnTo>
                  <a:lnTo>
                    <a:pt x="84" y="1822"/>
                  </a:lnTo>
                  <a:lnTo>
                    <a:pt x="94" y="1804"/>
                  </a:lnTo>
                  <a:lnTo>
                    <a:pt x="110" y="1780"/>
                  </a:lnTo>
                  <a:lnTo>
                    <a:pt x="110" y="1780"/>
                  </a:lnTo>
                  <a:lnTo>
                    <a:pt x="128" y="1752"/>
                  </a:lnTo>
                  <a:lnTo>
                    <a:pt x="138" y="1734"/>
                  </a:lnTo>
                  <a:lnTo>
                    <a:pt x="148" y="1710"/>
                  </a:lnTo>
                  <a:lnTo>
                    <a:pt x="148" y="1710"/>
                  </a:lnTo>
                  <a:lnTo>
                    <a:pt x="158" y="1686"/>
                  </a:lnTo>
                  <a:lnTo>
                    <a:pt x="164" y="1666"/>
                  </a:lnTo>
                  <a:lnTo>
                    <a:pt x="172" y="1634"/>
                  </a:lnTo>
                  <a:lnTo>
                    <a:pt x="172" y="1634"/>
                  </a:lnTo>
                  <a:lnTo>
                    <a:pt x="178" y="1604"/>
                  </a:lnTo>
                  <a:lnTo>
                    <a:pt x="184" y="1586"/>
                  </a:lnTo>
                  <a:lnTo>
                    <a:pt x="194" y="1564"/>
                  </a:lnTo>
                  <a:lnTo>
                    <a:pt x="194" y="1564"/>
                  </a:lnTo>
                  <a:lnTo>
                    <a:pt x="204" y="1542"/>
                  </a:lnTo>
                  <a:lnTo>
                    <a:pt x="212" y="1526"/>
                  </a:lnTo>
                  <a:lnTo>
                    <a:pt x="228" y="1500"/>
                  </a:lnTo>
                  <a:lnTo>
                    <a:pt x="228" y="1500"/>
                  </a:lnTo>
                  <a:lnTo>
                    <a:pt x="246" y="1472"/>
                  </a:lnTo>
                  <a:lnTo>
                    <a:pt x="256" y="1454"/>
                  </a:lnTo>
                  <a:lnTo>
                    <a:pt x="268" y="1430"/>
                  </a:lnTo>
                  <a:lnTo>
                    <a:pt x="268" y="1430"/>
                  </a:lnTo>
                  <a:lnTo>
                    <a:pt x="278" y="1406"/>
                  </a:lnTo>
                  <a:lnTo>
                    <a:pt x="284" y="1386"/>
                  </a:lnTo>
                  <a:lnTo>
                    <a:pt x="292" y="1352"/>
                  </a:lnTo>
                  <a:lnTo>
                    <a:pt x="292" y="1352"/>
                  </a:lnTo>
                  <a:lnTo>
                    <a:pt x="298" y="1324"/>
                  </a:lnTo>
                  <a:lnTo>
                    <a:pt x="304" y="1304"/>
                  </a:lnTo>
                  <a:lnTo>
                    <a:pt x="312" y="1282"/>
                  </a:lnTo>
                  <a:lnTo>
                    <a:pt x="312" y="1282"/>
                  </a:lnTo>
                  <a:lnTo>
                    <a:pt x="322" y="1260"/>
                  </a:lnTo>
                  <a:lnTo>
                    <a:pt x="332" y="1244"/>
                  </a:lnTo>
                  <a:lnTo>
                    <a:pt x="348" y="1218"/>
                  </a:lnTo>
                  <a:lnTo>
                    <a:pt x="348" y="1218"/>
                  </a:lnTo>
                  <a:lnTo>
                    <a:pt x="366" y="1192"/>
                  </a:lnTo>
                  <a:lnTo>
                    <a:pt x="376" y="1172"/>
                  </a:lnTo>
                  <a:lnTo>
                    <a:pt x="388" y="1148"/>
                  </a:lnTo>
                  <a:lnTo>
                    <a:pt x="388" y="1148"/>
                  </a:lnTo>
                  <a:lnTo>
                    <a:pt x="398" y="1124"/>
                  </a:lnTo>
                  <a:lnTo>
                    <a:pt x="404" y="1104"/>
                  </a:lnTo>
                  <a:lnTo>
                    <a:pt x="410" y="1072"/>
                  </a:lnTo>
                  <a:lnTo>
                    <a:pt x="410" y="1072"/>
                  </a:lnTo>
                  <a:lnTo>
                    <a:pt x="418" y="1042"/>
                  </a:lnTo>
                  <a:lnTo>
                    <a:pt x="424" y="1024"/>
                  </a:lnTo>
                  <a:lnTo>
                    <a:pt x="432" y="1002"/>
                  </a:lnTo>
                  <a:lnTo>
                    <a:pt x="432" y="1002"/>
                  </a:lnTo>
                  <a:lnTo>
                    <a:pt x="442" y="980"/>
                  </a:lnTo>
                  <a:lnTo>
                    <a:pt x="452" y="962"/>
                  </a:lnTo>
                  <a:lnTo>
                    <a:pt x="468" y="938"/>
                  </a:lnTo>
                  <a:lnTo>
                    <a:pt x="468" y="938"/>
                  </a:lnTo>
                  <a:lnTo>
                    <a:pt x="486" y="910"/>
                  </a:lnTo>
                  <a:lnTo>
                    <a:pt x="496" y="892"/>
                  </a:lnTo>
                  <a:lnTo>
                    <a:pt x="508" y="868"/>
                  </a:lnTo>
                  <a:lnTo>
                    <a:pt x="508" y="868"/>
                  </a:lnTo>
                  <a:lnTo>
                    <a:pt x="516" y="844"/>
                  </a:lnTo>
                  <a:lnTo>
                    <a:pt x="524" y="822"/>
                  </a:lnTo>
                  <a:lnTo>
                    <a:pt x="530" y="790"/>
                  </a:lnTo>
                  <a:lnTo>
                    <a:pt x="530" y="790"/>
                  </a:lnTo>
                  <a:lnTo>
                    <a:pt x="536" y="762"/>
                  </a:lnTo>
                  <a:lnTo>
                    <a:pt x="542" y="744"/>
                  </a:lnTo>
                  <a:lnTo>
                    <a:pt x="552" y="720"/>
                  </a:lnTo>
                  <a:lnTo>
                    <a:pt x="552" y="720"/>
                  </a:lnTo>
                  <a:lnTo>
                    <a:pt x="562" y="698"/>
                  </a:lnTo>
                  <a:lnTo>
                    <a:pt x="570" y="682"/>
                  </a:lnTo>
                  <a:lnTo>
                    <a:pt x="588" y="656"/>
                  </a:lnTo>
                  <a:lnTo>
                    <a:pt x="588" y="656"/>
                  </a:lnTo>
                  <a:lnTo>
                    <a:pt x="606" y="630"/>
                  </a:lnTo>
                  <a:lnTo>
                    <a:pt x="616" y="610"/>
                  </a:lnTo>
                  <a:lnTo>
                    <a:pt x="626" y="586"/>
                  </a:lnTo>
                  <a:lnTo>
                    <a:pt x="626" y="586"/>
                  </a:lnTo>
                  <a:lnTo>
                    <a:pt x="636" y="562"/>
                  </a:lnTo>
                  <a:lnTo>
                    <a:pt x="642" y="542"/>
                  </a:lnTo>
                  <a:lnTo>
                    <a:pt x="650" y="510"/>
                  </a:lnTo>
                  <a:lnTo>
                    <a:pt x="650" y="510"/>
                  </a:lnTo>
                  <a:lnTo>
                    <a:pt x="656" y="480"/>
                  </a:lnTo>
                  <a:lnTo>
                    <a:pt x="662" y="462"/>
                  </a:lnTo>
                  <a:lnTo>
                    <a:pt x="670" y="440"/>
                  </a:lnTo>
                  <a:lnTo>
                    <a:pt x="670" y="440"/>
                  </a:lnTo>
                  <a:lnTo>
                    <a:pt x="680" y="418"/>
                  </a:lnTo>
                  <a:lnTo>
                    <a:pt x="690" y="400"/>
                  </a:lnTo>
                  <a:lnTo>
                    <a:pt x="706" y="376"/>
                  </a:lnTo>
                  <a:lnTo>
                    <a:pt x="706" y="376"/>
                  </a:lnTo>
                  <a:lnTo>
                    <a:pt x="724" y="348"/>
                  </a:lnTo>
                  <a:lnTo>
                    <a:pt x="734" y="330"/>
                  </a:lnTo>
                  <a:lnTo>
                    <a:pt x="746" y="306"/>
                  </a:lnTo>
                  <a:lnTo>
                    <a:pt x="746" y="306"/>
                  </a:lnTo>
                  <a:lnTo>
                    <a:pt x="756" y="280"/>
                  </a:lnTo>
                  <a:lnTo>
                    <a:pt x="762" y="260"/>
                  </a:lnTo>
                  <a:lnTo>
                    <a:pt x="770" y="228"/>
                  </a:lnTo>
                  <a:lnTo>
                    <a:pt x="770" y="228"/>
                  </a:lnTo>
                  <a:lnTo>
                    <a:pt x="776" y="198"/>
                  </a:lnTo>
                  <a:lnTo>
                    <a:pt x="782" y="180"/>
                  </a:lnTo>
                  <a:lnTo>
                    <a:pt x="790" y="158"/>
                  </a:lnTo>
                  <a:lnTo>
                    <a:pt x="790" y="158"/>
                  </a:lnTo>
                  <a:lnTo>
                    <a:pt x="800" y="136"/>
                  </a:lnTo>
                  <a:lnTo>
                    <a:pt x="810" y="118"/>
                  </a:lnTo>
                  <a:lnTo>
                    <a:pt x="826" y="94"/>
                  </a:lnTo>
                  <a:lnTo>
                    <a:pt x="826" y="94"/>
                  </a:lnTo>
                  <a:lnTo>
                    <a:pt x="844" y="66"/>
                  </a:lnTo>
                  <a:lnTo>
                    <a:pt x="854" y="46"/>
                  </a:lnTo>
                  <a:lnTo>
                    <a:pt x="866" y="22"/>
                  </a:lnTo>
                  <a:lnTo>
                    <a:pt x="866" y="22"/>
                  </a:lnTo>
                  <a:lnTo>
                    <a:pt x="868" y="16"/>
                  </a:lnTo>
                  <a:lnTo>
                    <a:pt x="866" y="10"/>
                  </a:lnTo>
                  <a:lnTo>
                    <a:pt x="862" y="4"/>
                  </a:lnTo>
                  <a:lnTo>
                    <a:pt x="858" y="0"/>
                  </a:lnTo>
                  <a:lnTo>
                    <a:pt x="858" y="0"/>
                  </a:lnTo>
                  <a:lnTo>
                    <a:pt x="850" y="0"/>
                  </a:lnTo>
                  <a:lnTo>
                    <a:pt x="844" y="0"/>
                  </a:lnTo>
                  <a:lnTo>
                    <a:pt x="840" y="4"/>
                  </a:lnTo>
                  <a:lnTo>
                    <a:pt x="836" y="10"/>
                  </a:lnTo>
                  <a:lnTo>
                    <a:pt x="836" y="1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31565520" y="3819600"/>
              <a:ext cx="1377720" cy="31719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868" h="1998">
                  <a:moveTo>
                    <a:pt x="836" y="10"/>
                  </a:moveTo>
                  <a:lnTo>
                    <a:pt x="836" y="10"/>
                  </a:lnTo>
                  <a:lnTo>
                    <a:pt x="826" y="34"/>
                  </a:lnTo>
                  <a:lnTo>
                    <a:pt x="818" y="50"/>
                  </a:lnTo>
                  <a:lnTo>
                    <a:pt x="800" y="76"/>
                  </a:lnTo>
                  <a:lnTo>
                    <a:pt x="800" y="76"/>
                  </a:lnTo>
                  <a:lnTo>
                    <a:pt x="782" y="104"/>
                  </a:lnTo>
                  <a:lnTo>
                    <a:pt x="772" y="122"/>
                  </a:lnTo>
                  <a:lnTo>
                    <a:pt x="760" y="146"/>
                  </a:lnTo>
                  <a:lnTo>
                    <a:pt x="760" y="146"/>
                  </a:lnTo>
                  <a:lnTo>
                    <a:pt x="752" y="170"/>
                  </a:lnTo>
                  <a:lnTo>
                    <a:pt x="744" y="192"/>
                  </a:lnTo>
                  <a:lnTo>
                    <a:pt x="738" y="224"/>
                  </a:lnTo>
                  <a:lnTo>
                    <a:pt x="738" y="224"/>
                  </a:lnTo>
                  <a:lnTo>
                    <a:pt x="730" y="252"/>
                  </a:lnTo>
                  <a:lnTo>
                    <a:pt x="726" y="272"/>
                  </a:lnTo>
                  <a:lnTo>
                    <a:pt x="716" y="294"/>
                  </a:lnTo>
                  <a:lnTo>
                    <a:pt x="716" y="294"/>
                  </a:lnTo>
                  <a:lnTo>
                    <a:pt x="706" y="316"/>
                  </a:lnTo>
                  <a:lnTo>
                    <a:pt x="698" y="332"/>
                  </a:lnTo>
                  <a:lnTo>
                    <a:pt x="680" y="358"/>
                  </a:lnTo>
                  <a:lnTo>
                    <a:pt x="680" y="358"/>
                  </a:lnTo>
                  <a:lnTo>
                    <a:pt x="662" y="386"/>
                  </a:lnTo>
                  <a:lnTo>
                    <a:pt x="652" y="404"/>
                  </a:lnTo>
                  <a:lnTo>
                    <a:pt x="642" y="428"/>
                  </a:lnTo>
                  <a:lnTo>
                    <a:pt x="642" y="428"/>
                  </a:lnTo>
                  <a:lnTo>
                    <a:pt x="632" y="452"/>
                  </a:lnTo>
                  <a:lnTo>
                    <a:pt x="626" y="472"/>
                  </a:lnTo>
                  <a:lnTo>
                    <a:pt x="618" y="504"/>
                  </a:lnTo>
                  <a:lnTo>
                    <a:pt x="618" y="504"/>
                  </a:lnTo>
                  <a:lnTo>
                    <a:pt x="612" y="534"/>
                  </a:lnTo>
                  <a:lnTo>
                    <a:pt x="606" y="552"/>
                  </a:lnTo>
                  <a:lnTo>
                    <a:pt x="596" y="574"/>
                  </a:lnTo>
                  <a:lnTo>
                    <a:pt x="596" y="574"/>
                  </a:lnTo>
                  <a:lnTo>
                    <a:pt x="586" y="596"/>
                  </a:lnTo>
                  <a:lnTo>
                    <a:pt x="578" y="614"/>
                  </a:lnTo>
                  <a:lnTo>
                    <a:pt x="560" y="638"/>
                  </a:lnTo>
                  <a:lnTo>
                    <a:pt x="560" y="638"/>
                  </a:lnTo>
                  <a:lnTo>
                    <a:pt x="542" y="666"/>
                  </a:lnTo>
                  <a:lnTo>
                    <a:pt x="532" y="686"/>
                  </a:lnTo>
                  <a:lnTo>
                    <a:pt x="522" y="710"/>
                  </a:lnTo>
                  <a:lnTo>
                    <a:pt x="522" y="710"/>
                  </a:lnTo>
                  <a:lnTo>
                    <a:pt x="512" y="734"/>
                  </a:lnTo>
                  <a:lnTo>
                    <a:pt x="506" y="754"/>
                  </a:lnTo>
                  <a:lnTo>
                    <a:pt x="498" y="786"/>
                  </a:lnTo>
                  <a:lnTo>
                    <a:pt x="498" y="786"/>
                  </a:lnTo>
                  <a:lnTo>
                    <a:pt x="492" y="816"/>
                  </a:lnTo>
                  <a:lnTo>
                    <a:pt x="486" y="834"/>
                  </a:lnTo>
                  <a:lnTo>
                    <a:pt x="478" y="856"/>
                  </a:lnTo>
                  <a:lnTo>
                    <a:pt x="478" y="856"/>
                  </a:lnTo>
                  <a:lnTo>
                    <a:pt x="468" y="878"/>
                  </a:lnTo>
                  <a:lnTo>
                    <a:pt x="458" y="894"/>
                  </a:lnTo>
                  <a:lnTo>
                    <a:pt x="442" y="920"/>
                  </a:lnTo>
                  <a:lnTo>
                    <a:pt x="442" y="920"/>
                  </a:lnTo>
                  <a:lnTo>
                    <a:pt x="424" y="948"/>
                  </a:lnTo>
                  <a:lnTo>
                    <a:pt x="414" y="966"/>
                  </a:lnTo>
                  <a:lnTo>
                    <a:pt x="402" y="990"/>
                  </a:lnTo>
                  <a:lnTo>
                    <a:pt x="402" y="990"/>
                  </a:lnTo>
                  <a:lnTo>
                    <a:pt x="392" y="1014"/>
                  </a:lnTo>
                  <a:lnTo>
                    <a:pt x="386" y="1034"/>
                  </a:lnTo>
                  <a:lnTo>
                    <a:pt x="380" y="1066"/>
                  </a:lnTo>
                  <a:lnTo>
                    <a:pt x="380" y="1066"/>
                  </a:lnTo>
                  <a:lnTo>
                    <a:pt x="372" y="1096"/>
                  </a:lnTo>
                  <a:lnTo>
                    <a:pt x="366" y="1114"/>
                  </a:lnTo>
                  <a:lnTo>
                    <a:pt x="358" y="1136"/>
                  </a:lnTo>
                  <a:lnTo>
                    <a:pt x="358" y="1136"/>
                  </a:lnTo>
                  <a:lnTo>
                    <a:pt x="348" y="1158"/>
                  </a:lnTo>
                  <a:lnTo>
                    <a:pt x="338" y="1176"/>
                  </a:lnTo>
                  <a:lnTo>
                    <a:pt x="322" y="1200"/>
                  </a:lnTo>
                  <a:lnTo>
                    <a:pt x="322" y="1200"/>
                  </a:lnTo>
                  <a:lnTo>
                    <a:pt x="304" y="1228"/>
                  </a:lnTo>
                  <a:lnTo>
                    <a:pt x="294" y="1246"/>
                  </a:lnTo>
                  <a:lnTo>
                    <a:pt x="284" y="1270"/>
                  </a:lnTo>
                  <a:lnTo>
                    <a:pt x="284" y="1270"/>
                  </a:lnTo>
                  <a:lnTo>
                    <a:pt x="274" y="1296"/>
                  </a:lnTo>
                  <a:lnTo>
                    <a:pt x="266" y="1316"/>
                  </a:lnTo>
                  <a:lnTo>
                    <a:pt x="260" y="1348"/>
                  </a:lnTo>
                  <a:lnTo>
                    <a:pt x="260" y="1348"/>
                  </a:lnTo>
                  <a:lnTo>
                    <a:pt x="252" y="1378"/>
                  </a:lnTo>
                  <a:lnTo>
                    <a:pt x="248" y="1396"/>
                  </a:lnTo>
                  <a:lnTo>
                    <a:pt x="238" y="1418"/>
                  </a:lnTo>
                  <a:lnTo>
                    <a:pt x="238" y="1418"/>
                  </a:lnTo>
                  <a:lnTo>
                    <a:pt x="228" y="1440"/>
                  </a:lnTo>
                  <a:lnTo>
                    <a:pt x="220" y="1458"/>
                  </a:lnTo>
                  <a:lnTo>
                    <a:pt x="202" y="1482"/>
                  </a:lnTo>
                  <a:lnTo>
                    <a:pt x="202" y="1482"/>
                  </a:lnTo>
                  <a:lnTo>
                    <a:pt x="184" y="1510"/>
                  </a:lnTo>
                  <a:lnTo>
                    <a:pt x="174" y="1528"/>
                  </a:lnTo>
                  <a:lnTo>
                    <a:pt x="164" y="1552"/>
                  </a:lnTo>
                  <a:lnTo>
                    <a:pt x="164" y="1552"/>
                  </a:lnTo>
                  <a:lnTo>
                    <a:pt x="154" y="1576"/>
                  </a:lnTo>
                  <a:lnTo>
                    <a:pt x="148" y="1596"/>
                  </a:lnTo>
                  <a:lnTo>
                    <a:pt x="140" y="1628"/>
                  </a:lnTo>
                  <a:lnTo>
                    <a:pt x="140" y="1628"/>
                  </a:lnTo>
                  <a:lnTo>
                    <a:pt x="134" y="1658"/>
                  </a:lnTo>
                  <a:lnTo>
                    <a:pt x="128" y="1676"/>
                  </a:lnTo>
                  <a:lnTo>
                    <a:pt x="120" y="1698"/>
                  </a:lnTo>
                  <a:lnTo>
                    <a:pt x="120" y="1698"/>
                  </a:lnTo>
                  <a:lnTo>
                    <a:pt x="110" y="1720"/>
                  </a:lnTo>
                  <a:lnTo>
                    <a:pt x="100" y="1738"/>
                  </a:lnTo>
                  <a:lnTo>
                    <a:pt x="84" y="1762"/>
                  </a:lnTo>
                  <a:lnTo>
                    <a:pt x="84" y="1762"/>
                  </a:lnTo>
                  <a:lnTo>
                    <a:pt x="66" y="1790"/>
                  </a:lnTo>
                  <a:lnTo>
                    <a:pt x="56" y="1808"/>
                  </a:lnTo>
                  <a:lnTo>
                    <a:pt x="44" y="1832"/>
                  </a:lnTo>
                  <a:lnTo>
                    <a:pt x="44" y="1832"/>
                  </a:lnTo>
                  <a:lnTo>
                    <a:pt x="36" y="1856"/>
                  </a:lnTo>
                  <a:lnTo>
                    <a:pt x="30" y="1876"/>
                  </a:lnTo>
                  <a:lnTo>
                    <a:pt x="22" y="1906"/>
                  </a:lnTo>
                  <a:lnTo>
                    <a:pt x="22" y="1906"/>
                  </a:lnTo>
                  <a:lnTo>
                    <a:pt x="16" y="1936"/>
                  </a:lnTo>
                  <a:lnTo>
                    <a:pt x="10" y="1954"/>
                  </a:lnTo>
                  <a:lnTo>
                    <a:pt x="2" y="1976"/>
                  </a:lnTo>
                  <a:lnTo>
                    <a:pt x="2" y="1976"/>
                  </a:lnTo>
                  <a:lnTo>
                    <a:pt x="0" y="1982"/>
                  </a:lnTo>
                  <a:lnTo>
                    <a:pt x="2" y="1988"/>
                  </a:lnTo>
                  <a:lnTo>
                    <a:pt x="4" y="1994"/>
                  </a:lnTo>
                  <a:lnTo>
                    <a:pt x="10" y="1998"/>
                  </a:lnTo>
                  <a:lnTo>
                    <a:pt x="10" y="1998"/>
                  </a:lnTo>
                  <a:lnTo>
                    <a:pt x="16" y="1998"/>
                  </a:lnTo>
                  <a:lnTo>
                    <a:pt x="24" y="1998"/>
                  </a:lnTo>
                  <a:lnTo>
                    <a:pt x="28" y="1994"/>
                  </a:lnTo>
                  <a:lnTo>
                    <a:pt x="32" y="1988"/>
                  </a:lnTo>
                  <a:lnTo>
                    <a:pt x="32" y="1988"/>
                  </a:lnTo>
                  <a:lnTo>
                    <a:pt x="42" y="1964"/>
                  </a:lnTo>
                  <a:lnTo>
                    <a:pt x="48" y="1944"/>
                  </a:lnTo>
                  <a:lnTo>
                    <a:pt x="54" y="1912"/>
                  </a:lnTo>
                  <a:lnTo>
                    <a:pt x="54" y="1912"/>
                  </a:lnTo>
                  <a:lnTo>
                    <a:pt x="62" y="1884"/>
                  </a:lnTo>
                  <a:lnTo>
                    <a:pt x="66" y="1866"/>
                  </a:lnTo>
                  <a:lnTo>
                    <a:pt x="76" y="1844"/>
                  </a:lnTo>
                  <a:lnTo>
                    <a:pt x="76" y="1844"/>
                  </a:lnTo>
                  <a:lnTo>
                    <a:pt x="86" y="1822"/>
                  </a:lnTo>
                  <a:lnTo>
                    <a:pt x="94" y="1806"/>
                  </a:lnTo>
                  <a:lnTo>
                    <a:pt x="110" y="1782"/>
                  </a:lnTo>
                  <a:lnTo>
                    <a:pt x="110" y="1782"/>
                  </a:lnTo>
                  <a:lnTo>
                    <a:pt x="128" y="1754"/>
                  </a:lnTo>
                  <a:lnTo>
                    <a:pt x="138" y="1736"/>
                  </a:lnTo>
                  <a:lnTo>
                    <a:pt x="150" y="1712"/>
                  </a:lnTo>
                  <a:lnTo>
                    <a:pt x="150" y="1712"/>
                  </a:lnTo>
                  <a:lnTo>
                    <a:pt x="160" y="1688"/>
                  </a:lnTo>
                  <a:lnTo>
                    <a:pt x="166" y="1668"/>
                  </a:lnTo>
                  <a:lnTo>
                    <a:pt x="174" y="1636"/>
                  </a:lnTo>
                  <a:lnTo>
                    <a:pt x="174" y="1636"/>
                  </a:lnTo>
                  <a:lnTo>
                    <a:pt x="180" y="1606"/>
                  </a:lnTo>
                  <a:lnTo>
                    <a:pt x="186" y="1588"/>
                  </a:lnTo>
                  <a:lnTo>
                    <a:pt x="194" y="1566"/>
                  </a:lnTo>
                  <a:lnTo>
                    <a:pt x="194" y="1566"/>
                  </a:lnTo>
                  <a:lnTo>
                    <a:pt x="204" y="1544"/>
                  </a:lnTo>
                  <a:lnTo>
                    <a:pt x="214" y="1526"/>
                  </a:lnTo>
                  <a:lnTo>
                    <a:pt x="230" y="1502"/>
                  </a:lnTo>
                  <a:lnTo>
                    <a:pt x="230" y="1502"/>
                  </a:lnTo>
                  <a:lnTo>
                    <a:pt x="248" y="1474"/>
                  </a:lnTo>
                  <a:lnTo>
                    <a:pt x="258" y="1456"/>
                  </a:lnTo>
                  <a:lnTo>
                    <a:pt x="268" y="1432"/>
                  </a:lnTo>
                  <a:lnTo>
                    <a:pt x="268" y="1432"/>
                  </a:lnTo>
                  <a:lnTo>
                    <a:pt x="278" y="1406"/>
                  </a:lnTo>
                  <a:lnTo>
                    <a:pt x="286" y="1386"/>
                  </a:lnTo>
                  <a:lnTo>
                    <a:pt x="292" y="1354"/>
                  </a:lnTo>
                  <a:lnTo>
                    <a:pt x="292" y="1354"/>
                  </a:lnTo>
                  <a:lnTo>
                    <a:pt x="300" y="1324"/>
                  </a:lnTo>
                  <a:lnTo>
                    <a:pt x="304" y="1306"/>
                  </a:lnTo>
                  <a:lnTo>
                    <a:pt x="314" y="1284"/>
                  </a:lnTo>
                  <a:lnTo>
                    <a:pt x="314" y="1284"/>
                  </a:lnTo>
                  <a:lnTo>
                    <a:pt x="324" y="1262"/>
                  </a:lnTo>
                  <a:lnTo>
                    <a:pt x="332" y="1246"/>
                  </a:lnTo>
                  <a:lnTo>
                    <a:pt x="350" y="1220"/>
                  </a:lnTo>
                  <a:lnTo>
                    <a:pt x="350" y="1220"/>
                  </a:lnTo>
                  <a:lnTo>
                    <a:pt x="368" y="1192"/>
                  </a:lnTo>
                  <a:lnTo>
                    <a:pt x="378" y="1174"/>
                  </a:lnTo>
                  <a:lnTo>
                    <a:pt x="388" y="1150"/>
                  </a:lnTo>
                  <a:lnTo>
                    <a:pt x="388" y="1150"/>
                  </a:lnTo>
                  <a:lnTo>
                    <a:pt x="398" y="1126"/>
                  </a:lnTo>
                  <a:lnTo>
                    <a:pt x="404" y="1104"/>
                  </a:lnTo>
                  <a:lnTo>
                    <a:pt x="412" y="1072"/>
                  </a:lnTo>
                  <a:lnTo>
                    <a:pt x="412" y="1072"/>
                  </a:lnTo>
                  <a:lnTo>
                    <a:pt x="418" y="1044"/>
                  </a:lnTo>
                  <a:lnTo>
                    <a:pt x="424" y="1026"/>
                  </a:lnTo>
                  <a:lnTo>
                    <a:pt x="434" y="1002"/>
                  </a:lnTo>
                  <a:lnTo>
                    <a:pt x="434" y="1002"/>
                  </a:lnTo>
                  <a:lnTo>
                    <a:pt x="444" y="980"/>
                  </a:lnTo>
                  <a:lnTo>
                    <a:pt x="452" y="964"/>
                  </a:lnTo>
                  <a:lnTo>
                    <a:pt x="468" y="940"/>
                  </a:lnTo>
                  <a:lnTo>
                    <a:pt x="468" y="940"/>
                  </a:lnTo>
                  <a:lnTo>
                    <a:pt x="486" y="912"/>
                  </a:lnTo>
                  <a:lnTo>
                    <a:pt x="496" y="894"/>
                  </a:lnTo>
                  <a:lnTo>
                    <a:pt x="508" y="870"/>
                  </a:lnTo>
                  <a:lnTo>
                    <a:pt x="508" y="870"/>
                  </a:lnTo>
                  <a:lnTo>
                    <a:pt x="518" y="844"/>
                  </a:lnTo>
                  <a:lnTo>
                    <a:pt x="524" y="824"/>
                  </a:lnTo>
                  <a:lnTo>
                    <a:pt x="532" y="792"/>
                  </a:lnTo>
                  <a:lnTo>
                    <a:pt x="532" y="792"/>
                  </a:lnTo>
                  <a:lnTo>
                    <a:pt x="538" y="762"/>
                  </a:lnTo>
                  <a:lnTo>
                    <a:pt x="544" y="744"/>
                  </a:lnTo>
                  <a:lnTo>
                    <a:pt x="552" y="722"/>
                  </a:lnTo>
                  <a:lnTo>
                    <a:pt x="552" y="722"/>
                  </a:lnTo>
                  <a:lnTo>
                    <a:pt x="562" y="700"/>
                  </a:lnTo>
                  <a:lnTo>
                    <a:pt x="572" y="684"/>
                  </a:lnTo>
                  <a:lnTo>
                    <a:pt x="588" y="658"/>
                  </a:lnTo>
                  <a:lnTo>
                    <a:pt x="588" y="658"/>
                  </a:lnTo>
                  <a:lnTo>
                    <a:pt x="606" y="630"/>
                  </a:lnTo>
                  <a:lnTo>
                    <a:pt x="616" y="612"/>
                  </a:lnTo>
                  <a:lnTo>
                    <a:pt x="628" y="588"/>
                  </a:lnTo>
                  <a:lnTo>
                    <a:pt x="628" y="588"/>
                  </a:lnTo>
                  <a:lnTo>
                    <a:pt x="638" y="564"/>
                  </a:lnTo>
                  <a:lnTo>
                    <a:pt x="644" y="544"/>
                  </a:lnTo>
                  <a:lnTo>
                    <a:pt x="650" y="510"/>
                  </a:lnTo>
                  <a:lnTo>
                    <a:pt x="650" y="510"/>
                  </a:lnTo>
                  <a:lnTo>
                    <a:pt x="658" y="482"/>
                  </a:lnTo>
                  <a:lnTo>
                    <a:pt x="664" y="464"/>
                  </a:lnTo>
                  <a:lnTo>
                    <a:pt x="672" y="440"/>
                  </a:lnTo>
                  <a:lnTo>
                    <a:pt x="672" y="440"/>
                  </a:lnTo>
                  <a:lnTo>
                    <a:pt x="682" y="418"/>
                  </a:lnTo>
                  <a:lnTo>
                    <a:pt x="690" y="402"/>
                  </a:lnTo>
                  <a:lnTo>
                    <a:pt x="708" y="376"/>
                  </a:lnTo>
                  <a:lnTo>
                    <a:pt x="708" y="376"/>
                  </a:lnTo>
                  <a:lnTo>
                    <a:pt x="726" y="350"/>
                  </a:lnTo>
                  <a:lnTo>
                    <a:pt x="736" y="330"/>
                  </a:lnTo>
                  <a:lnTo>
                    <a:pt x="748" y="306"/>
                  </a:lnTo>
                  <a:lnTo>
                    <a:pt x="748" y="306"/>
                  </a:lnTo>
                  <a:lnTo>
                    <a:pt x="756" y="282"/>
                  </a:lnTo>
                  <a:lnTo>
                    <a:pt x="764" y="262"/>
                  </a:lnTo>
                  <a:lnTo>
                    <a:pt x="770" y="230"/>
                  </a:lnTo>
                  <a:lnTo>
                    <a:pt x="770" y="230"/>
                  </a:lnTo>
                  <a:lnTo>
                    <a:pt x="776" y="200"/>
                  </a:lnTo>
                  <a:lnTo>
                    <a:pt x="782" y="182"/>
                  </a:lnTo>
                  <a:lnTo>
                    <a:pt x="792" y="160"/>
                  </a:lnTo>
                  <a:lnTo>
                    <a:pt x="792" y="160"/>
                  </a:lnTo>
                  <a:lnTo>
                    <a:pt x="802" y="138"/>
                  </a:lnTo>
                  <a:lnTo>
                    <a:pt x="810" y="120"/>
                  </a:lnTo>
                  <a:lnTo>
                    <a:pt x="828" y="94"/>
                  </a:lnTo>
                  <a:lnTo>
                    <a:pt x="828" y="94"/>
                  </a:lnTo>
                  <a:lnTo>
                    <a:pt x="846" y="68"/>
                  </a:lnTo>
                  <a:lnTo>
                    <a:pt x="856" y="48"/>
                  </a:lnTo>
                  <a:lnTo>
                    <a:pt x="868" y="24"/>
                  </a:lnTo>
                  <a:lnTo>
                    <a:pt x="868" y="24"/>
                  </a:lnTo>
                  <a:lnTo>
                    <a:pt x="868" y="18"/>
                  </a:lnTo>
                  <a:lnTo>
                    <a:pt x="868" y="12"/>
                  </a:lnTo>
                  <a:lnTo>
                    <a:pt x="864" y="6"/>
                  </a:lnTo>
                  <a:lnTo>
                    <a:pt x="858" y="2"/>
                  </a:lnTo>
                  <a:lnTo>
                    <a:pt x="858" y="2"/>
                  </a:lnTo>
                  <a:lnTo>
                    <a:pt x="852" y="0"/>
                  </a:lnTo>
                  <a:lnTo>
                    <a:pt x="846" y="2"/>
                  </a:lnTo>
                  <a:lnTo>
                    <a:pt x="840" y="6"/>
                  </a:lnTo>
                  <a:lnTo>
                    <a:pt x="836" y="10"/>
                  </a:lnTo>
                  <a:lnTo>
                    <a:pt x="836" y="1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6626760" y="5765760"/>
              <a:ext cx="282240" cy="568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8" h="36">
                  <a:moveTo>
                    <a:pt x="6" y="14"/>
                  </a:moveTo>
                  <a:lnTo>
                    <a:pt x="6" y="14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2" y="22"/>
                  </a:lnTo>
                  <a:lnTo>
                    <a:pt x="76" y="18"/>
                  </a:lnTo>
                  <a:lnTo>
                    <a:pt x="98" y="16"/>
                  </a:lnTo>
                  <a:lnTo>
                    <a:pt x="120" y="18"/>
                  </a:lnTo>
                  <a:lnTo>
                    <a:pt x="138" y="20"/>
                  </a:lnTo>
                  <a:lnTo>
                    <a:pt x="154" y="24"/>
                  </a:lnTo>
                  <a:lnTo>
                    <a:pt x="158" y="28"/>
                  </a:lnTo>
                  <a:lnTo>
                    <a:pt x="162" y="32"/>
                  </a:lnTo>
                  <a:lnTo>
                    <a:pt x="162" y="32"/>
                  </a:lnTo>
                  <a:lnTo>
                    <a:pt x="166" y="34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76" y="32"/>
                  </a:lnTo>
                  <a:lnTo>
                    <a:pt x="178" y="28"/>
                  </a:lnTo>
                  <a:lnTo>
                    <a:pt x="178" y="26"/>
                  </a:lnTo>
                  <a:lnTo>
                    <a:pt x="176" y="22"/>
                  </a:lnTo>
                  <a:lnTo>
                    <a:pt x="176" y="22"/>
                  </a:lnTo>
                  <a:lnTo>
                    <a:pt x="170" y="16"/>
                  </a:lnTo>
                  <a:lnTo>
                    <a:pt x="160" y="10"/>
                  </a:lnTo>
                  <a:lnTo>
                    <a:pt x="150" y="6"/>
                  </a:lnTo>
                  <a:lnTo>
                    <a:pt x="138" y="2"/>
                  </a:lnTo>
                  <a:lnTo>
                    <a:pt x="112" y="0"/>
                  </a:lnTo>
                  <a:lnTo>
                    <a:pt x="86" y="0"/>
                  </a:lnTo>
                  <a:lnTo>
                    <a:pt x="58" y="4"/>
                  </a:lnTo>
                  <a:lnTo>
                    <a:pt x="34" y="8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36369720" y="6394680"/>
              <a:ext cx="209520" cy="2062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130"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6" y="38"/>
                  </a:lnTo>
                  <a:lnTo>
                    <a:pt x="30" y="58"/>
                  </a:lnTo>
                  <a:lnTo>
                    <a:pt x="46" y="78"/>
                  </a:lnTo>
                  <a:lnTo>
                    <a:pt x="64" y="100"/>
                  </a:lnTo>
                  <a:lnTo>
                    <a:pt x="84" y="116"/>
                  </a:lnTo>
                  <a:lnTo>
                    <a:pt x="94" y="122"/>
                  </a:lnTo>
                  <a:lnTo>
                    <a:pt x="104" y="128"/>
                  </a:lnTo>
                  <a:lnTo>
                    <a:pt x="11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8" y="128"/>
                  </a:lnTo>
                  <a:lnTo>
                    <a:pt x="130" y="126"/>
                  </a:lnTo>
                  <a:lnTo>
                    <a:pt x="132" y="124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30" y="118"/>
                  </a:lnTo>
                  <a:lnTo>
                    <a:pt x="128" y="114"/>
                  </a:lnTo>
                  <a:lnTo>
                    <a:pt x="126" y="114"/>
                  </a:lnTo>
                  <a:lnTo>
                    <a:pt x="122" y="114"/>
                  </a:lnTo>
                  <a:lnTo>
                    <a:pt x="122" y="114"/>
                  </a:lnTo>
                  <a:lnTo>
                    <a:pt x="116" y="114"/>
                  </a:lnTo>
                  <a:lnTo>
                    <a:pt x="110" y="112"/>
                  </a:lnTo>
                  <a:lnTo>
                    <a:pt x="96" y="104"/>
                  </a:lnTo>
                  <a:lnTo>
                    <a:pt x="82" y="92"/>
                  </a:lnTo>
                  <a:lnTo>
                    <a:pt x="66" y="78"/>
                  </a:lnTo>
                  <a:lnTo>
                    <a:pt x="52" y="60"/>
                  </a:lnTo>
                  <a:lnTo>
                    <a:pt x="38" y="4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36448920" y="6143760"/>
              <a:ext cx="225360" cy="950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42" h="60">
                  <a:moveTo>
                    <a:pt x="136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4" y="60"/>
                  </a:lnTo>
                  <a:lnTo>
                    <a:pt x="138" y="60"/>
                  </a:lnTo>
                  <a:lnTo>
                    <a:pt x="140" y="58"/>
                  </a:lnTo>
                  <a:lnTo>
                    <a:pt x="142" y="56"/>
                  </a:lnTo>
                  <a:lnTo>
                    <a:pt x="142" y="56"/>
                  </a:lnTo>
                  <a:lnTo>
                    <a:pt x="142" y="52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6" y="44"/>
                  </a:lnTo>
                  <a:lnTo>
                    <a:pt x="136" y="4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36207720" y="6702480"/>
              <a:ext cx="228600" cy="98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4" h="62">
                  <a:moveTo>
                    <a:pt x="138" y="46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32" y="62"/>
                  </a:lnTo>
                  <a:lnTo>
                    <a:pt x="132" y="62"/>
                  </a:lnTo>
                  <a:lnTo>
                    <a:pt x="136" y="62"/>
                  </a:lnTo>
                  <a:lnTo>
                    <a:pt x="140" y="62"/>
                  </a:lnTo>
                  <a:lnTo>
                    <a:pt x="142" y="60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4" y="54"/>
                  </a:lnTo>
                  <a:lnTo>
                    <a:pt x="142" y="50"/>
                  </a:lnTo>
                  <a:lnTo>
                    <a:pt x="142" y="48"/>
                  </a:lnTo>
                  <a:lnTo>
                    <a:pt x="138" y="46"/>
                  </a:lnTo>
                  <a:lnTo>
                    <a:pt x="138" y="46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36080640" y="6991560"/>
              <a:ext cx="177480" cy="75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2" h="48">
                  <a:moveTo>
                    <a:pt x="106" y="32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4" y="48"/>
                  </a:lnTo>
                  <a:lnTo>
                    <a:pt x="106" y="48"/>
                  </a:lnTo>
                  <a:lnTo>
                    <a:pt x="110" y="46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6" y="3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35988480" y="7267680"/>
              <a:ext cx="282240" cy="536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8" h="34">
                  <a:moveTo>
                    <a:pt x="6" y="14"/>
                  </a:move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54" y="20"/>
                  </a:lnTo>
                  <a:lnTo>
                    <a:pt x="76" y="18"/>
                  </a:lnTo>
                  <a:lnTo>
                    <a:pt x="98" y="16"/>
                  </a:lnTo>
                  <a:lnTo>
                    <a:pt x="120" y="16"/>
                  </a:lnTo>
                  <a:lnTo>
                    <a:pt x="138" y="18"/>
                  </a:lnTo>
                  <a:lnTo>
                    <a:pt x="154" y="24"/>
                  </a:lnTo>
                  <a:lnTo>
                    <a:pt x="160" y="26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6" y="34"/>
                  </a:lnTo>
                  <a:lnTo>
                    <a:pt x="168" y="34"/>
                  </a:lnTo>
                  <a:lnTo>
                    <a:pt x="172" y="34"/>
                  </a:lnTo>
                  <a:lnTo>
                    <a:pt x="176" y="34"/>
                  </a:lnTo>
                  <a:lnTo>
                    <a:pt x="176" y="34"/>
                  </a:lnTo>
                  <a:lnTo>
                    <a:pt x="178" y="30"/>
                  </a:lnTo>
                  <a:lnTo>
                    <a:pt x="178" y="28"/>
                  </a:lnTo>
                  <a:lnTo>
                    <a:pt x="178" y="24"/>
                  </a:lnTo>
                  <a:lnTo>
                    <a:pt x="176" y="22"/>
                  </a:lnTo>
                  <a:lnTo>
                    <a:pt x="176" y="22"/>
                  </a:lnTo>
                  <a:lnTo>
                    <a:pt x="170" y="14"/>
                  </a:lnTo>
                  <a:lnTo>
                    <a:pt x="162" y="8"/>
                  </a:lnTo>
                  <a:lnTo>
                    <a:pt x="150" y="4"/>
                  </a:lnTo>
                  <a:lnTo>
                    <a:pt x="140" y="2"/>
                  </a:lnTo>
                  <a:lnTo>
                    <a:pt x="114" y="0"/>
                  </a:lnTo>
                  <a:lnTo>
                    <a:pt x="86" y="0"/>
                  </a:lnTo>
                  <a:lnTo>
                    <a:pt x="58" y="2"/>
                  </a:lnTo>
                  <a:lnTo>
                    <a:pt x="36" y="6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35731440" y="7896600"/>
              <a:ext cx="209520" cy="2030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2" h="128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6" y="36"/>
                  </a:lnTo>
                  <a:lnTo>
                    <a:pt x="30" y="56"/>
                  </a:lnTo>
                  <a:lnTo>
                    <a:pt x="46" y="78"/>
                  </a:lnTo>
                  <a:lnTo>
                    <a:pt x="64" y="98"/>
                  </a:lnTo>
                  <a:lnTo>
                    <a:pt x="84" y="116"/>
                  </a:lnTo>
                  <a:lnTo>
                    <a:pt x="94" y="122"/>
                  </a:lnTo>
                  <a:lnTo>
                    <a:pt x="104" y="126"/>
                  </a:lnTo>
                  <a:lnTo>
                    <a:pt x="116" y="128"/>
                  </a:lnTo>
                  <a:lnTo>
                    <a:pt x="124" y="128"/>
                  </a:lnTo>
                  <a:lnTo>
                    <a:pt x="124" y="128"/>
                  </a:lnTo>
                  <a:lnTo>
                    <a:pt x="128" y="128"/>
                  </a:lnTo>
                  <a:lnTo>
                    <a:pt x="130" y="126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32" y="116"/>
                  </a:lnTo>
                  <a:lnTo>
                    <a:pt x="128" y="114"/>
                  </a:lnTo>
                  <a:lnTo>
                    <a:pt x="126" y="112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16" y="112"/>
                  </a:lnTo>
                  <a:lnTo>
                    <a:pt x="110" y="110"/>
                  </a:lnTo>
                  <a:lnTo>
                    <a:pt x="96" y="104"/>
                  </a:lnTo>
                  <a:lnTo>
                    <a:pt x="82" y="92"/>
                  </a:lnTo>
                  <a:lnTo>
                    <a:pt x="66" y="76"/>
                  </a:lnTo>
                  <a:lnTo>
                    <a:pt x="52" y="58"/>
                  </a:lnTo>
                  <a:lnTo>
                    <a:pt x="38" y="4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35810640" y="7642440"/>
              <a:ext cx="225360" cy="982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2" h="62">
                  <a:moveTo>
                    <a:pt x="136" y="46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32" y="62"/>
                  </a:lnTo>
                  <a:lnTo>
                    <a:pt x="132" y="62"/>
                  </a:lnTo>
                  <a:lnTo>
                    <a:pt x="134" y="62"/>
                  </a:lnTo>
                  <a:lnTo>
                    <a:pt x="138" y="62"/>
                  </a:lnTo>
                  <a:lnTo>
                    <a:pt x="140" y="60"/>
                  </a:lnTo>
                  <a:lnTo>
                    <a:pt x="142" y="56"/>
                  </a:lnTo>
                  <a:lnTo>
                    <a:pt x="142" y="56"/>
                  </a:lnTo>
                  <a:lnTo>
                    <a:pt x="142" y="54"/>
                  </a:lnTo>
                  <a:lnTo>
                    <a:pt x="142" y="50"/>
                  </a:lnTo>
                  <a:lnTo>
                    <a:pt x="140" y="48"/>
                  </a:lnTo>
                  <a:lnTo>
                    <a:pt x="136" y="46"/>
                  </a:lnTo>
                  <a:lnTo>
                    <a:pt x="136" y="46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35572680" y="8204400"/>
              <a:ext cx="225360" cy="982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2" h="62">
                  <a:moveTo>
                    <a:pt x="136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4" y="62"/>
                  </a:lnTo>
                  <a:lnTo>
                    <a:pt x="138" y="60"/>
                  </a:lnTo>
                  <a:lnTo>
                    <a:pt x="140" y="58"/>
                  </a:lnTo>
                  <a:lnTo>
                    <a:pt x="142" y="56"/>
                  </a:lnTo>
                  <a:lnTo>
                    <a:pt x="142" y="56"/>
                  </a:lnTo>
                  <a:lnTo>
                    <a:pt x="142" y="52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6" y="44"/>
                  </a:lnTo>
                  <a:lnTo>
                    <a:pt x="136" y="4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35458200" y="8458560"/>
              <a:ext cx="177480" cy="75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2" h="48">
                  <a:moveTo>
                    <a:pt x="106" y="32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4" y="48"/>
                  </a:lnTo>
                  <a:lnTo>
                    <a:pt x="106" y="46"/>
                  </a:lnTo>
                  <a:lnTo>
                    <a:pt x="110" y="44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12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6" y="3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32530680" y="3946680"/>
              <a:ext cx="209520" cy="2030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2" h="128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22" y="18"/>
                  </a:lnTo>
                  <a:lnTo>
                    <a:pt x="36" y="26"/>
                  </a:lnTo>
                  <a:lnTo>
                    <a:pt x="50" y="38"/>
                  </a:lnTo>
                  <a:lnTo>
                    <a:pt x="64" y="52"/>
                  </a:lnTo>
                  <a:lnTo>
                    <a:pt x="80" y="70"/>
                  </a:lnTo>
                  <a:lnTo>
                    <a:pt x="94" y="88"/>
                  </a:lnTo>
                  <a:lnTo>
                    <a:pt x="116" y="124"/>
                  </a:lnTo>
                  <a:lnTo>
                    <a:pt x="116" y="124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4" y="128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30" y="126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30" y="116"/>
                  </a:lnTo>
                  <a:lnTo>
                    <a:pt x="130" y="116"/>
                  </a:lnTo>
                  <a:lnTo>
                    <a:pt x="116" y="92"/>
                  </a:lnTo>
                  <a:lnTo>
                    <a:pt x="102" y="72"/>
                  </a:lnTo>
                  <a:lnTo>
                    <a:pt x="86" y="50"/>
                  </a:lnTo>
                  <a:lnTo>
                    <a:pt x="66" y="30"/>
                  </a:lnTo>
                  <a:lnTo>
                    <a:pt x="48" y="14"/>
                  </a:lnTo>
                  <a:lnTo>
                    <a:pt x="36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32200560" y="4724280"/>
              <a:ext cx="279360" cy="56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6" h="36">
                  <a:moveTo>
                    <a:pt x="166" y="6"/>
                  </a:moveTo>
                  <a:lnTo>
                    <a:pt x="166" y="6"/>
                  </a:lnTo>
                  <a:lnTo>
                    <a:pt x="124" y="14"/>
                  </a:lnTo>
                  <a:lnTo>
                    <a:pt x="102" y="16"/>
                  </a:lnTo>
                  <a:lnTo>
                    <a:pt x="78" y="18"/>
                  </a:lnTo>
                  <a:lnTo>
                    <a:pt x="58" y="18"/>
                  </a:lnTo>
                  <a:lnTo>
                    <a:pt x="38" y="16"/>
                  </a:lnTo>
                  <a:lnTo>
                    <a:pt x="24" y="12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20"/>
                  </a:lnTo>
                  <a:lnTo>
                    <a:pt x="16" y="26"/>
                  </a:lnTo>
                  <a:lnTo>
                    <a:pt x="26" y="30"/>
                  </a:lnTo>
                  <a:lnTo>
                    <a:pt x="38" y="32"/>
                  </a:lnTo>
                  <a:lnTo>
                    <a:pt x="64" y="36"/>
                  </a:lnTo>
                  <a:lnTo>
                    <a:pt x="92" y="34"/>
                  </a:lnTo>
                  <a:lnTo>
                    <a:pt x="118" y="32"/>
                  </a:lnTo>
                  <a:lnTo>
                    <a:pt x="142" y="28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4" y="20"/>
                  </a:lnTo>
                  <a:lnTo>
                    <a:pt x="176" y="18"/>
                  </a:lnTo>
                  <a:lnTo>
                    <a:pt x="176" y="14"/>
                  </a:lnTo>
                  <a:lnTo>
                    <a:pt x="176" y="12"/>
                  </a:lnTo>
                  <a:lnTo>
                    <a:pt x="176" y="12"/>
                  </a:lnTo>
                  <a:lnTo>
                    <a:pt x="176" y="8"/>
                  </a:lnTo>
                  <a:lnTo>
                    <a:pt x="172" y="6"/>
                  </a:lnTo>
                  <a:lnTo>
                    <a:pt x="170" y="4"/>
                  </a:lnTo>
                  <a:lnTo>
                    <a:pt x="166" y="6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32391000" y="4406760"/>
              <a:ext cx="215640" cy="120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6" h="76">
                  <a:moveTo>
                    <a:pt x="2" y="4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28" y="76"/>
                  </a:lnTo>
                  <a:lnTo>
                    <a:pt x="132" y="76"/>
                  </a:lnTo>
                  <a:lnTo>
                    <a:pt x="134" y="74"/>
                  </a:lnTo>
                  <a:lnTo>
                    <a:pt x="136" y="72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36" y="64"/>
                  </a:lnTo>
                  <a:lnTo>
                    <a:pt x="134" y="62"/>
                  </a:lnTo>
                  <a:lnTo>
                    <a:pt x="132" y="6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32153040" y="4965840"/>
              <a:ext cx="215640" cy="123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36" h="7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8" y="78"/>
                  </a:lnTo>
                  <a:lnTo>
                    <a:pt x="132" y="76"/>
                  </a:lnTo>
                  <a:lnTo>
                    <a:pt x="134" y="76"/>
                  </a:lnTo>
                  <a:lnTo>
                    <a:pt x="136" y="72"/>
                  </a:lnTo>
                  <a:lnTo>
                    <a:pt x="136" y="72"/>
                  </a:lnTo>
                  <a:lnTo>
                    <a:pt x="136" y="70"/>
                  </a:lnTo>
                  <a:lnTo>
                    <a:pt x="136" y="66"/>
                  </a:lnTo>
                  <a:lnTo>
                    <a:pt x="134" y="64"/>
                  </a:lnTo>
                  <a:lnTo>
                    <a:pt x="132" y="6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32086440" y="5280120"/>
              <a:ext cx="164880" cy="101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4" h="64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6" y="64"/>
                  </a:lnTo>
                  <a:lnTo>
                    <a:pt x="100" y="64"/>
                  </a:lnTo>
                  <a:lnTo>
                    <a:pt x="102" y="62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56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0" y="4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31892760" y="5445360"/>
              <a:ext cx="209520" cy="2062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130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22" y="20"/>
                  </a:lnTo>
                  <a:lnTo>
                    <a:pt x="36" y="26"/>
                  </a:lnTo>
                  <a:lnTo>
                    <a:pt x="50" y="38"/>
                  </a:lnTo>
                  <a:lnTo>
                    <a:pt x="66" y="54"/>
                  </a:lnTo>
                  <a:lnTo>
                    <a:pt x="80" y="70"/>
                  </a:lnTo>
                  <a:lnTo>
                    <a:pt x="94" y="90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8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30" y="126"/>
                  </a:lnTo>
                  <a:lnTo>
                    <a:pt x="132" y="124"/>
                  </a:lnTo>
                  <a:lnTo>
                    <a:pt x="132" y="120"/>
                  </a:lnTo>
                  <a:lnTo>
                    <a:pt x="130" y="118"/>
                  </a:lnTo>
                  <a:lnTo>
                    <a:pt x="130" y="118"/>
                  </a:lnTo>
                  <a:lnTo>
                    <a:pt x="116" y="92"/>
                  </a:lnTo>
                  <a:lnTo>
                    <a:pt x="102" y="74"/>
                  </a:lnTo>
                  <a:lnTo>
                    <a:pt x="86" y="52"/>
                  </a:lnTo>
                  <a:lnTo>
                    <a:pt x="68" y="32"/>
                  </a:lnTo>
                  <a:lnTo>
                    <a:pt x="48" y="14"/>
                  </a:lnTo>
                  <a:lnTo>
                    <a:pt x="38" y="8"/>
                  </a:lnTo>
                  <a:lnTo>
                    <a:pt x="28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31562280" y="6226200"/>
              <a:ext cx="282240" cy="536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8" h="34">
                  <a:moveTo>
                    <a:pt x="166" y="4"/>
                  </a:moveTo>
                  <a:lnTo>
                    <a:pt x="166" y="4"/>
                  </a:lnTo>
                  <a:lnTo>
                    <a:pt x="126" y="12"/>
                  </a:lnTo>
                  <a:lnTo>
                    <a:pt x="102" y="16"/>
                  </a:lnTo>
                  <a:lnTo>
                    <a:pt x="80" y="18"/>
                  </a:lnTo>
                  <a:lnTo>
                    <a:pt x="58" y="18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20"/>
                  </a:lnTo>
                  <a:lnTo>
                    <a:pt x="16" y="24"/>
                  </a:lnTo>
                  <a:lnTo>
                    <a:pt x="28" y="30"/>
                  </a:lnTo>
                  <a:lnTo>
                    <a:pt x="38" y="32"/>
                  </a:lnTo>
                  <a:lnTo>
                    <a:pt x="64" y="34"/>
                  </a:lnTo>
                  <a:lnTo>
                    <a:pt x="92" y="34"/>
                  </a:lnTo>
                  <a:lnTo>
                    <a:pt x="120" y="30"/>
                  </a:lnTo>
                  <a:lnTo>
                    <a:pt x="142" y="26"/>
                  </a:lnTo>
                  <a:lnTo>
                    <a:pt x="172" y="20"/>
                  </a:lnTo>
                  <a:lnTo>
                    <a:pt x="172" y="20"/>
                  </a:lnTo>
                  <a:lnTo>
                    <a:pt x="174" y="18"/>
                  </a:lnTo>
                  <a:lnTo>
                    <a:pt x="176" y="16"/>
                  </a:lnTo>
                  <a:lnTo>
                    <a:pt x="178" y="14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76" y="8"/>
                  </a:lnTo>
                  <a:lnTo>
                    <a:pt x="174" y="6"/>
                  </a:lnTo>
                  <a:lnTo>
                    <a:pt x="170" y="4"/>
                  </a:lnTo>
                  <a:lnTo>
                    <a:pt x="166" y="4"/>
                  </a:lnTo>
                  <a:lnTo>
                    <a:pt x="166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31755960" y="5905440"/>
              <a:ext cx="215640" cy="120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6" h="76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6" y="76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4" y="66"/>
                  </a:lnTo>
                  <a:lnTo>
                    <a:pt x="134" y="64"/>
                  </a:lnTo>
                  <a:lnTo>
                    <a:pt x="130" y="6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31518000" y="6467760"/>
              <a:ext cx="215640" cy="120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6" h="76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6" y="76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4" y="66"/>
                  </a:lnTo>
                  <a:lnTo>
                    <a:pt x="134" y="62"/>
                  </a:lnTo>
                  <a:lnTo>
                    <a:pt x="130" y="6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31464000" y="6747120"/>
              <a:ext cx="164880" cy="98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4" h="62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6" y="62"/>
                  </a:lnTo>
                  <a:lnTo>
                    <a:pt x="98" y="62"/>
                  </a:lnTo>
                  <a:lnTo>
                    <a:pt x="102" y="62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6"/>
                  </a:lnTo>
                  <a:lnTo>
                    <a:pt x="104" y="52"/>
                  </a:lnTo>
                  <a:lnTo>
                    <a:pt x="102" y="50"/>
                  </a:lnTo>
                  <a:lnTo>
                    <a:pt x="100" y="4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38"/>
          <p:cNvGrpSpPr/>
          <p:nvPr/>
        </p:nvGrpSpPr>
        <p:grpSpPr>
          <a:xfrm>
            <a:off x="2038320" y="6486480"/>
            <a:ext cx="8166240" cy="3606840"/>
            <a:chOff x="2038320" y="6486480"/>
            <a:chExt cx="8166240" cy="3606840"/>
          </a:xfrm>
        </p:grpSpPr>
        <p:sp>
          <p:nvSpPr>
            <p:cNvPr id="74" name="Freeform 33"/>
            <p:cNvSpPr/>
            <p:nvPr/>
          </p:nvSpPr>
          <p:spPr>
            <a:xfrm>
              <a:off x="2038320" y="6486480"/>
              <a:ext cx="8166240" cy="3606840"/>
            </a:xfrm>
            <a:custGeom>
              <a:avLst/>
              <a:gdLst>
                <a:gd name="textAreaLeft" fmla="*/ 0 w 8166240"/>
                <a:gd name="textAreaRight" fmla="*/ 8166600 w 8166240"/>
                <a:gd name="textAreaTop" fmla="*/ 0 h 3606840"/>
                <a:gd name="textAreaBottom" fmla="*/ 3607200 h 3606840"/>
              </a:gdLst>
              <a:ahLst/>
              <a:rect l="textAreaLeft" t="textAreaTop" r="textAreaRight" b="textAreaBottom"/>
              <a:pathLst>
                <a:path w="5144" h="2272">
                  <a:moveTo>
                    <a:pt x="5140" y="2048"/>
                  </a:moveTo>
                  <a:lnTo>
                    <a:pt x="4428" y="1154"/>
                  </a:lnTo>
                  <a:lnTo>
                    <a:pt x="4428" y="1154"/>
                  </a:lnTo>
                  <a:lnTo>
                    <a:pt x="4424" y="1150"/>
                  </a:lnTo>
                  <a:lnTo>
                    <a:pt x="4420" y="1146"/>
                  </a:lnTo>
                  <a:lnTo>
                    <a:pt x="4414" y="1144"/>
                  </a:lnTo>
                  <a:lnTo>
                    <a:pt x="4408" y="1144"/>
                  </a:lnTo>
                  <a:lnTo>
                    <a:pt x="4108" y="1144"/>
                  </a:lnTo>
                  <a:lnTo>
                    <a:pt x="4108" y="1144"/>
                  </a:lnTo>
                  <a:lnTo>
                    <a:pt x="4112" y="1112"/>
                  </a:lnTo>
                  <a:lnTo>
                    <a:pt x="4114" y="1082"/>
                  </a:lnTo>
                  <a:lnTo>
                    <a:pt x="4114" y="1052"/>
                  </a:lnTo>
                  <a:lnTo>
                    <a:pt x="4114" y="1020"/>
                  </a:lnTo>
                  <a:lnTo>
                    <a:pt x="4108" y="990"/>
                  </a:lnTo>
                  <a:lnTo>
                    <a:pt x="4102" y="960"/>
                  </a:lnTo>
                  <a:lnTo>
                    <a:pt x="4092" y="930"/>
                  </a:lnTo>
                  <a:lnTo>
                    <a:pt x="4080" y="902"/>
                  </a:lnTo>
                  <a:lnTo>
                    <a:pt x="4080" y="902"/>
                  </a:lnTo>
                  <a:lnTo>
                    <a:pt x="4056" y="848"/>
                  </a:lnTo>
                  <a:lnTo>
                    <a:pt x="4030" y="796"/>
                  </a:lnTo>
                  <a:lnTo>
                    <a:pt x="4030" y="796"/>
                  </a:lnTo>
                  <a:lnTo>
                    <a:pt x="4008" y="750"/>
                  </a:lnTo>
                  <a:lnTo>
                    <a:pt x="3984" y="708"/>
                  </a:lnTo>
                  <a:lnTo>
                    <a:pt x="3984" y="708"/>
                  </a:lnTo>
                  <a:lnTo>
                    <a:pt x="4006" y="704"/>
                  </a:lnTo>
                  <a:lnTo>
                    <a:pt x="4026" y="698"/>
                  </a:lnTo>
                  <a:lnTo>
                    <a:pt x="4044" y="688"/>
                  </a:lnTo>
                  <a:lnTo>
                    <a:pt x="4062" y="672"/>
                  </a:lnTo>
                  <a:lnTo>
                    <a:pt x="4062" y="672"/>
                  </a:lnTo>
                  <a:lnTo>
                    <a:pt x="4076" y="656"/>
                  </a:lnTo>
                  <a:lnTo>
                    <a:pt x="4086" y="638"/>
                  </a:lnTo>
                  <a:lnTo>
                    <a:pt x="4094" y="620"/>
                  </a:lnTo>
                  <a:lnTo>
                    <a:pt x="4098" y="600"/>
                  </a:lnTo>
                  <a:lnTo>
                    <a:pt x="4100" y="578"/>
                  </a:lnTo>
                  <a:lnTo>
                    <a:pt x="4100" y="558"/>
                  </a:lnTo>
                  <a:lnTo>
                    <a:pt x="4096" y="538"/>
                  </a:lnTo>
                  <a:lnTo>
                    <a:pt x="4088" y="518"/>
                  </a:lnTo>
                  <a:lnTo>
                    <a:pt x="4088" y="518"/>
                  </a:lnTo>
                  <a:lnTo>
                    <a:pt x="4082" y="508"/>
                  </a:lnTo>
                  <a:lnTo>
                    <a:pt x="4074" y="498"/>
                  </a:lnTo>
                  <a:lnTo>
                    <a:pt x="4064" y="486"/>
                  </a:lnTo>
                  <a:lnTo>
                    <a:pt x="4048" y="474"/>
                  </a:lnTo>
                  <a:lnTo>
                    <a:pt x="4030" y="464"/>
                  </a:lnTo>
                  <a:lnTo>
                    <a:pt x="4006" y="456"/>
                  </a:lnTo>
                  <a:lnTo>
                    <a:pt x="3978" y="450"/>
                  </a:lnTo>
                  <a:lnTo>
                    <a:pt x="3962" y="450"/>
                  </a:lnTo>
                  <a:lnTo>
                    <a:pt x="3946" y="450"/>
                  </a:lnTo>
                  <a:lnTo>
                    <a:pt x="3946" y="450"/>
                  </a:lnTo>
                  <a:lnTo>
                    <a:pt x="3938" y="424"/>
                  </a:lnTo>
                  <a:lnTo>
                    <a:pt x="3926" y="398"/>
                  </a:lnTo>
                  <a:lnTo>
                    <a:pt x="3916" y="372"/>
                  </a:lnTo>
                  <a:lnTo>
                    <a:pt x="3902" y="346"/>
                  </a:lnTo>
                  <a:lnTo>
                    <a:pt x="3886" y="322"/>
                  </a:lnTo>
                  <a:lnTo>
                    <a:pt x="3870" y="298"/>
                  </a:lnTo>
                  <a:lnTo>
                    <a:pt x="3852" y="274"/>
                  </a:lnTo>
                  <a:lnTo>
                    <a:pt x="3832" y="252"/>
                  </a:lnTo>
                  <a:lnTo>
                    <a:pt x="3832" y="252"/>
                  </a:lnTo>
                  <a:lnTo>
                    <a:pt x="3816" y="236"/>
                  </a:lnTo>
                  <a:lnTo>
                    <a:pt x="3798" y="220"/>
                  </a:lnTo>
                  <a:lnTo>
                    <a:pt x="3782" y="204"/>
                  </a:lnTo>
                  <a:lnTo>
                    <a:pt x="3762" y="192"/>
                  </a:lnTo>
                  <a:lnTo>
                    <a:pt x="3744" y="178"/>
                  </a:lnTo>
                  <a:lnTo>
                    <a:pt x="3722" y="166"/>
                  </a:lnTo>
                  <a:lnTo>
                    <a:pt x="3680" y="144"/>
                  </a:lnTo>
                  <a:lnTo>
                    <a:pt x="3632" y="126"/>
                  </a:lnTo>
                  <a:lnTo>
                    <a:pt x="3582" y="112"/>
                  </a:lnTo>
                  <a:lnTo>
                    <a:pt x="3528" y="100"/>
                  </a:lnTo>
                  <a:lnTo>
                    <a:pt x="3470" y="94"/>
                  </a:lnTo>
                  <a:lnTo>
                    <a:pt x="3470" y="94"/>
                  </a:lnTo>
                  <a:lnTo>
                    <a:pt x="3472" y="82"/>
                  </a:lnTo>
                  <a:lnTo>
                    <a:pt x="3472" y="68"/>
                  </a:lnTo>
                  <a:lnTo>
                    <a:pt x="3468" y="54"/>
                  </a:lnTo>
                  <a:lnTo>
                    <a:pt x="3458" y="38"/>
                  </a:lnTo>
                  <a:lnTo>
                    <a:pt x="3458" y="38"/>
                  </a:lnTo>
                  <a:lnTo>
                    <a:pt x="3452" y="30"/>
                  </a:lnTo>
                  <a:lnTo>
                    <a:pt x="3444" y="24"/>
                  </a:lnTo>
                  <a:lnTo>
                    <a:pt x="3428" y="14"/>
                  </a:lnTo>
                  <a:lnTo>
                    <a:pt x="3410" y="6"/>
                  </a:lnTo>
                  <a:lnTo>
                    <a:pt x="3390" y="2"/>
                  </a:lnTo>
                  <a:lnTo>
                    <a:pt x="3370" y="0"/>
                  </a:lnTo>
                  <a:lnTo>
                    <a:pt x="3350" y="2"/>
                  </a:lnTo>
                  <a:lnTo>
                    <a:pt x="3332" y="6"/>
                  </a:lnTo>
                  <a:lnTo>
                    <a:pt x="3314" y="12"/>
                  </a:lnTo>
                  <a:lnTo>
                    <a:pt x="3314" y="12"/>
                  </a:lnTo>
                  <a:lnTo>
                    <a:pt x="3304" y="20"/>
                  </a:lnTo>
                  <a:lnTo>
                    <a:pt x="3296" y="28"/>
                  </a:lnTo>
                  <a:lnTo>
                    <a:pt x="3290" y="36"/>
                  </a:lnTo>
                  <a:lnTo>
                    <a:pt x="3284" y="46"/>
                  </a:lnTo>
                  <a:lnTo>
                    <a:pt x="3282" y="56"/>
                  </a:lnTo>
                  <a:lnTo>
                    <a:pt x="3280" y="68"/>
                  </a:lnTo>
                  <a:lnTo>
                    <a:pt x="3280" y="80"/>
                  </a:lnTo>
                  <a:lnTo>
                    <a:pt x="3284" y="92"/>
                  </a:lnTo>
                  <a:lnTo>
                    <a:pt x="3284" y="92"/>
                  </a:lnTo>
                  <a:lnTo>
                    <a:pt x="3252" y="94"/>
                  </a:lnTo>
                  <a:lnTo>
                    <a:pt x="3222" y="98"/>
                  </a:lnTo>
                  <a:lnTo>
                    <a:pt x="3192" y="104"/>
                  </a:lnTo>
                  <a:lnTo>
                    <a:pt x="3162" y="110"/>
                  </a:lnTo>
                  <a:lnTo>
                    <a:pt x="3134" y="120"/>
                  </a:lnTo>
                  <a:lnTo>
                    <a:pt x="3106" y="128"/>
                  </a:lnTo>
                  <a:lnTo>
                    <a:pt x="3078" y="138"/>
                  </a:lnTo>
                  <a:lnTo>
                    <a:pt x="3052" y="150"/>
                  </a:lnTo>
                  <a:lnTo>
                    <a:pt x="3026" y="164"/>
                  </a:lnTo>
                  <a:lnTo>
                    <a:pt x="3002" y="178"/>
                  </a:lnTo>
                  <a:lnTo>
                    <a:pt x="2978" y="192"/>
                  </a:lnTo>
                  <a:lnTo>
                    <a:pt x="2956" y="208"/>
                  </a:lnTo>
                  <a:lnTo>
                    <a:pt x="2934" y="226"/>
                  </a:lnTo>
                  <a:lnTo>
                    <a:pt x="2914" y="244"/>
                  </a:lnTo>
                  <a:lnTo>
                    <a:pt x="2896" y="262"/>
                  </a:lnTo>
                  <a:lnTo>
                    <a:pt x="2878" y="284"/>
                  </a:lnTo>
                  <a:lnTo>
                    <a:pt x="2878" y="284"/>
                  </a:lnTo>
                  <a:lnTo>
                    <a:pt x="2864" y="304"/>
                  </a:lnTo>
                  <a:lnTo>
                    <a:pt x="2848" y="324"/>
                  </a:lnTo>
                  <a:lnTo>
                    <a:pt x="2836" y="346"/>
                  </a:lnTo>
                  <a:lnTo>
                    <a:pt x="2824" y="368"/>
                  </a:lnTo>
                  <a:lnTo>
                    <a:pt x="2816" y="392"/>
                  </a:lnTo>
                  <a:lnTo>
                    <a:pt x="2806" y="416"/>
                  </a:lnTo>
                  <a:lnTo>
                    <a:pt x="2800" y="440"/>
                  </a:lnTo>
                  <a:lnTo>
                    <a:pt x="2794" y="464"/>
                  </a:lnTo>
                  <a:lnTo>
                    <a:pt x="2794" y="464"/>
                  </a:lnTo>
                  <a:lnTo>
                    <a:pt x="2750" y="464"/>
                  </a:lnTo>
                  <a:lnTo>
                    <a:pt x="2750" y="464"/>
                  </a:lnTo>
                  <a:lnTo>
                    <a:pt x="2736" y="448"/>
                  </a:lnTo>
                  <a:lnTo>
                    <a:pt x="2728" y="442"/>
                  </a:lnTo>
                  <a:lnTo>
                    <a:pt x="2720" y="436"/>
                  </a:lnTo>
                  <a:lnTo>
                    <a:pt x="2720" y="436"/>
                  </a:lnTo>
                  <a:lnTo>
                    <a:pt x="2726" y="424"/>
                  </a:lnTo>
                  <a:lnTo>
                    <a:pt x="2732" y="410"/>
                  </a:lnTo>
                  <a:lnTo>
                    <a:pt x="2736" y="394"/>
                  </a:lnTo>
                  <a:lnTo>
                    <a:pt x="2736" y="378"/>
                  </a:lnTo>
                  <a:lnTo>
                    <a:pt x="2734" y="364"/>
                  </a:lnTo>
                  <a:lnTo>
                    <a:pt x="2734" y="364"/>
                  </a:lnTo>
                  <a:lnTo>
                    <a:pt x="2730" y="354"/>
                  </a:lnTo>
                  <a:lnTo>
                    <a:pt x="2724" y="348"/>
                  </a:lnTo>
                  <a:lnTo>
                    <a:pt x="2714" y="340"/>
                  </a:lnTo>
                  <a:lnTo>
                    <a:pt x="2714" y="340"/>
                  </a:lnTo>
                  <a:lnTo>
                    <a:pt x="2690" y="328"/>
                  </a:lnTo>
                  <a:lnTo>
                    <a:pt x="2668" y="320"/>
                  </a:lnTo>
                  <a:lnTo>
                    <a:pt x="2642" y="316"/>
                  </a:lnTo>
                  <a:lnTo>
                    <a:pt x="2618" y="314"/>
                  </a:lnTo>
                  <a:lnTo>
                    <a:pt x="2594" y="314"/>
                  </a:lnTo>
                  <a:lnTo>
                    <a:pt x="2568" y="316"/>
                  </a:lnTo>
                  <a:lnTo>
                    <a:pt x="2518" y="322"/>
                  </a:lnTo>
                  <a:lnTo>
                    <a:pt x="2518" y="322"/>
                  </a:lnTo>
                  <a:lnTo>
                    <a:pt x="2470" y="332"/>
                  </a:lnTo>
                  <a:lnTo>
                    <a:pt x="2446" y="340"/>
                  </a:lnTo>
                  <a:lnTo>
                    <a:pt x="2422" y="348"/>
                  </a:lnTo>
                  <a:lnTo>
                    <a:pt x="2400" y="358"/>
                  </a:lnTo>
                  <a:lnTo>
                    <a:pt x="2378" y="370"/>
                  </a:lnTo>
                  <a:lnTo>
                    <a:pt x="2358" y="382"/>
                  </a:lnTo>
                  <a:lnTo>
                    <a:pt x="2340" y="398"/>
                  </a:lnTo>
                  <a:lnTo>
                    <a:pt x="2340" y="398"/>
                  </a:lnTo>
                  <a:lnTo>
                    <a:pt x="2330" y="376"/>
                  </a:lnTo>
                  <a:lnTo>
                    <a:pt x="2316" y="354"/>
                  </a:lnTo>
                  <a:lnTo>
                    <a:pt x="2304" y="332"/>
                  </a:lnTo>
                  <a:lnTo>
                    <a:pt x="2288" y="310"/>
                  </a:lnTo>
                  <a:lnTo>
                    <a:pt x="2288" y="310"/>
                  </a:lnTo>
                  <a:lnTo>
                    <a:pt x="2290" y="300"/>
                  </a:lnTo>
                  <a:lnTo>
                    <a:pt x="2286" y="292"/>
                  </a:lnTo>
                  <a:lnTo>
                    <a:pt x="2286" y="292"/>
                  </a:lnTo>
                  <a:lnTo>
                    <a:pt x="2270" y="262"/>
                  </a:lnTo>
                  <a:lnTo>
                    <a:pt x="2256" y="230"/>
                  </a:lnTo>
                  <a:lnTo>
                    <a:pt x="2240" y="200"/>
                  </a:lnTo>
                  <a:lnTo>
                    <a:pt x="2230" y="186"/>
                  </a:lnTo>
                  <a:lnTo>
                    <a:pt x="2220" y="172"/>
                  </a:lnTo>
                  <a:lnTo>
                    <a:pt x="2218" y="168"/>
                  </a:lnTo>
                  <a:lnTo>
                    <a:pt x="2218" y="168"/>
                  </a:lnTo>
                  <a:lnTo>
                    <a:pt x="2214" y="160"/>
                  </a:lnTo>
                  <a:lnTo>
                    <a:pt x="2210" y="156"/>
                  </a:lnTo>
                  <a:lnTo>
                    <a:pt x="2204" y="152"/>
                  </a:lnTo>
                  <a:lnTo>
                    <a:pt x="2198" y="148"/>
                  </a:lnTo>
                  <a:lnTo>
                    <a:pt x="2192" y="144"/>
                  </a:lnTo>
                  <a:lnTo>
                    <a:pt x="2192" y="144"/>
                  </a:lnTo>
                  <a:lnTo>
                    <a:pt x="2164" y="122"/>
                  </a:lnTo>
                  <a:lnTo>
                    <a:pt x="2136" y="98"/>
                  </a:lnTo>
                  <a:lnTo>
                    <a:pt x="2106" y="76"/>
                  </a:lnTo>
                  <a:lnTo>
                    <a:pt x="2092" y="68"/>
                  </a:lnTo>
                  <a:lnTo>
                    <a:pt x="2074" y="60"/>
                  </a:lnTo>
                  <a:lnTo>
                    <a:pt x="2074" y="60"/>
                  </a:lnTo>
                  <a:lnTo>
                    <a:pt x="2058" y="54"/>
                  </a:lnTo>
                  <a:lnTo>
                    <a:pt x="2040" y="48"/>
                  </a:lnTo>
                  <a:lnTo>
                    <a:pt x="2022" y="42"/>
                  </a:lnTo>
                  <a:lnTo>
                    <a:pt x="2006" y="34"/>
                  </a:lnTo>
                  <a:lnTo>
                    <a:pt x="2006" y="34"/>
                  </a:lnTo>
                  <a:lnTo>
                    <a:pt x="1962" y="26"/>
                  </a:lnTo>
                  <a:lnTo>
                    <a:pt x="1938" y="20"/>
                  </a:lnTo>
                  <a:lnTo>
                    <a:pt x="1914" y="16"/>
                  </a:lnTo>
                  <a:lnTo>
                    <a:pt x="1892" y="16"/>
                  </a:lnTo>
                  <a:lnTo>
                    <a:pt x="1868" y="18"/>
                  </a:lnTo>
                  <a:lnTo>
                    <a:pt x="1846" y="22"/>
                  </a:lnTo>
                  <a:lnTo>
                    <a:pt x="1834" y="28"/>
                  </a:lnTo>
                  <a:lnTo>
                    <a:pt x="1824" y="32"/>
                  </a:lnTo>
                  <a:lnTo>
                    <a:pt x="1824" y="32"/>
                  </a:lnTo>
                  <a:lnTo>
                    <a:pt x="1820" y="34"/>
                  </a:lnTo>
                  <a:lnTo>
                    <a:pt x="1816" y="34"/>
                  </a:lnTo>
                  <a:lnTo>
                    <a:pt x="1808" y="28"/>
                  </a:lnTo>
                  <a:lnTo>
                    <a:pt x="1808" y="28"/>
                  </a:lnTo>
                  <a:lnTo>
                    <a:pt x="1808" y="28"/>
                  </a:lnTo>
                  <a:lnTo>
                    <a:pt x="1782" y="22"/>
                  </a:lnTo>
                  <a:lnTo>
                    <a:pt x="1756" y="20"/>
                  </a:lnTo>
                  <a:lnTo>
                    <a:pt x="1730" y="20"/>
                  </a:lnTo>
                  <a:lnTo>
                    <a:pt x="1702" y="20"/>
                  </a:lnTo>
                  <a:lnTo>
                    <a:pt x="1650" y="26"/>
                  </a:lnTo>
                  <a:lnTo>
                    <a:pt x="1596" y="34"/>
                  </a:lnTo>
                  <a:lnTo>
                    <a:pt x="1596" y="34"/>
                  </a:lnTo>
                  <a:lnTo>
                    <a:pt x="1574" y="40"/>
                  </a:lnTo>
                  <a:lnTo>
                    <a:pt x="1554" y="46"/>
                  </a:lnTo>
                  <a:lnTo>
                    <a:pt x="1534" y="54"/>
                  </a:lnTo>
                  <a:lnTo>
                    <a:pt x="1514" y="64"/>
                  </a:lnTo>
                  <a:lnTo>
                    <a:pt x="1476" y="84"/>
                  </a:lnTo>
                  <a:lnTo>
                    <a:pt x="1440" y="106"/>
                  </a:lnTo>
                  <a:lnTo>
                    <a:pt x="1440" y="106"/>
                  </a:lnTo>
                  <a:lnTo>
                    <a:pt x="1426" y="114"/>
                  </a:lnTo>
                  <a:lnTo>
                    <a:pt x="1414" y="122"/>
                  </a:lnTo>
                  <a:lnTo>
                    <a:pt x="1394" y="142"/>
                  </a:lnTo>
                  <a:lnTo>
                    <a:pt x="1372" y="162"/>
                  </a:lnTo>
                  <a:lnTo>
                    <a:pt x="1348" y="180"/>
                  </a:lnTo>
                  <a:lnTo>
                    <a:pt x="1348" y="180"/>
                  </a:lnTo>
                  <a:lnTo>
                    <a:pt x="1328" y="204"/>
                  </a:lnTo>
                  <a:lnTo>
                    <a:pt x="1310" y="228"/>
                  </a:lnTo>
                  <a:lnTo>
                    <a:pt x="1292" y="254"/>
                  </a:lnTo>
                  <a:lnTo>
                    <a:pt x="1276" y="280"/>
                  </a:lnTo>
                  <a:lnTo>
                    <a:pt x="1260" y="308"/>
                  </a:lnTo>
                  <a:lnTo>
                    <a:pt x="1248" y="336"/>
                  </a:lnTo>
                  <a:lnTo>
                    <a:pt x="1236" y="364"/>
                  </a:lnTo>
                  <a:lnTo>
                    <a:pt x="1228" y="394"/>
                  </a:lnTo>
                  <a:lnTo>
                    <a:pt x="1228" y="394"/>
                  </a:lnTo>
                  <a:lnTo>
                    <a:pt x="1206" y="382"/>
                  </a:lnTo>
                  <a:lnTo>
                    <a:pt x="1184" y="372"/>
                  </a:lnTo>
                  <a:lnTo>
                    <a:pt x="1160" y="364"/>
                  </a:lnTo>
                  <a:lnTo>
                    <a:pt x="1136" y="356"/>
                  </a:lnTo>
                  <a:lnTo>
                    <a:pt x="1088" y="344"/>
                  </a:lnTo>
                  <a:lnTo>
                    <a:pt x="1038" y="336"/>
                  </a:lnTo>
                  <a:lnTo>
                    <a:pt x="1038" y="336"/>
                  </a:lnTo>
                  <a:lnTo>
                    <a:pt x="1000" y="330"/>
                  </a:lnTo>
                  <a:lnTo>
                    <a:pt x="982" y="330"/>
                  </a:lnTo>
                  <a:lnTo>
                    <a:pt x="962" y="330"/>
                  </a:lnTo>
                  <a:lnTo>
                    <a:pt x="944" y="330"/>
                  </a:lnTo>
                  <a:lnTo>
                    <a:pt x="926" y="334"/>
                  </a:lnTo>
                  <a:lnTo>
                    <a:pt x="908" y="342"/>
                  </a:lnTo>
                  <a:lnTo>
                    <a:pt x="892" y="352"/>
                  </a:lnTo>
                  <a:lnTo>
                    <a:pt x="898" y="348"/>
                  </a:lnTo>
                  <a:lnTo>
                    <a:pt x="898" y="348"/>
                  </a:lnTo>
                  <a:lnTo>
                    <a:pt x="892" y="352"/>
                  </a:lnTo>
                  <a:lnTo>
                    <a:pt x="886" y="356"/>
                  </a:lnTo>
                  <a:lnTo>
                    <a:pt x="878" y="372"/>
                  </a:lnTo>
                  <a:lnTo>
                    <a:pt x="878" y="372"/>
                  </a:lnTo>
                  <a:lnTo>
                    <a:pt x="876" y="384"/>
                  </a:lnTo>
                  <a:lnTo>
                    <a:pt x="876" y="390"/>
                  </a:lnTo>
                  <a:lnTo>
                    <a:pt x="876" y="396"/>
                  </a:lnTo>
                  <a:lnTo>
                    <a:pt x="876" y="402"/>
                  </a:lnTo>
                  <a:lnTo>
                    <a:pt x="876" y="402"/>
                  </a:lnTo>
                  <a:lnTo>
                    <a:pt x="876" y="410"/>
                  </a:lnTo>
                  <a:lnTo>
                    <a:pt x="880" y="416"/>
                  </a:lnTo>
                  <a:lnTo>
                    <a:pt x="882" y="420"/>
                  </a:lnTo>
                  <a:lnTo>
                    <a:pt x="882" y="420"/>
                  </a:lnTo>
                  <a:lnTo>
                    <a:pt x="888" y="428"/>
                  </a:lnTo>
                  <a:lnTo>
                    <a:pt x="894" y="436"/>
                  </a:lnTo>
                  <a:lnTo>
                    <a:pt x="894" y="436"/>
                  </a:lnTo>
                  <a:lnTo>
                    <a:pt x="864" y="452"/>
                  </a:lnTo>
                  <a:lnTo>
                    <a:pt x="848" y="462"/>
                  </a:lnTo>
                  <a:lnTo>
                    <a:pt x="836" y="472"/>
                  </a:lnTo>
                  <a:lnTo>
                    <a:pt x="822" y="484"/>
                  </a:lnTo>
                  <a:lnTo>
                    <a:pt x="812" y="498"/>
                  </a:lnTo>
                  <a:lnTo>
                    <a:pt x="804" y="514"/>
                  </a:lnTo>
                  <a:lnTo>
                    <a:pt x="798" y="530"/>
                  </a:lnTo>
                  <a:lnTo>
                    <a:pt x="796" y="542"/>
                  </a:lnTo>
                  <a:lnTo>
                    <a:pt x="796" y="542"/>
                  </a:lnTo>
                  <a:lnTo>
                    <a:pt x="798" y="554"/>
                  </a:lnTo>
                  <a:lnTo>
                    <a:pt x="800" y="560"/>
                  </a:lnTo>
                  <a:lnTo>
                    <a:pt x="804" y="564"/>
                  </a:lnTo>
                  <a:lnTo>
                    <a:pt x="810" y="570"/>
                  </a:lnTo>
                  <a:lnTo>
                    <a:pt x="810" y="570"/>
                  </a:lnTo>
                  <a:lnTo>
                    <a:pt x="824" y="584"/>
                  </a:lnTo>
                  <a:lnTo>
                    <a:pt x="840" y="594"/>
                  </a:lnTo>
                  <a:lnTo>
                    <a:pt x="856" y="602"/>
                  </a:lnTo>
                  <a:lnTo>
                    <a:pt x="874" y="608"/>
                  </a:lnTo>
                  <a:lnTo>
                    <a:pt x="874" y="608"/>
                  </a:lnTo>
                  <a:lnTo>
                    <a:pt x="866" y="620"/>
                  </a:lnTo>
                  <a:lnTo>
                    <a:pt x="860" y="630"/>
                  </a:lnTo>
                  <a:lnTo>
                    <a:pt x="856" y="642"/>
                  </a:lnTo>
                  <a:lnTo>
                    <a:pt x="854" y="654"/>
                  </a:lnTo>
                  <a:lnTo>
                    <a:pt x="852" y="666"/>
                  </a:lnTo>
                  <a:lnTo>
                    <a:pt x="854" y="678"/>
                  </a:lnTo>
                  <a:lnTo>
                    <a:pt x="858" y="690"/>
                  </a:lnTo>
                  <a:lnTo>
                    <a:pt x="864" y="702"/>
                  </a:lnTo>
                  <a:lnTo>
                    <a:pt x="864" y="702"/>
                  </a:lnTo>
                  <a:lnTo>
                    <a:pt x="876" y="716"/>
                  </a:lnTo>
                  <a:lnTo>
                    <a:pt x="888" y="726"/>
                  </a:lnTo>
                  <a:lnTo>
                    <a:pt x="902" y="734"/>
                  </a:lnTo>
                  <a:lnTo>
                    <a:pt x="918" y="742"/>
                  </a:lnTo>
                  <a:lnTo>
                    <a:pt x="934" y="744"/>
                  </a:lnTo>
                  <a:lnTo>
                    <a:pt x="952" y="746"/>
                  </a:lnTo>
                  <a:lnTo>
                    <a:pt x="968" y="744"/>
                  </a:lnTo>
                  <a:lnTo>
                    <a:pt x="984" y="740"/>
                  </a:lnTo>
                  <a:lnTo>
                    <a:pt x="984" y="740"/>
                  </a:lnTo>
                  <a:lnTo>
                    <a:pt x="990" y="748"/>
                  </a:lnTo>
                  <a:lnTo>
                    <a:pt x="998" y="756"/>
                  </a:lnTo>
                  <a:lnTo>
                    <a:pt x="1008" y="760"/>
                  </a:lnTo>
                  <a:lnTo>
                    <a:pt x="1018" y="764"/>
                  </a:lnTo>
                  <a:lnTo>
                    <a:pt x="1028" y="764"/>
                  </a:lnTo>
                  <a:lnTo>
                    <a:pt x="1040" y="764"/>
                  </a:lnTo>
                  <a:lnTo>
                    <a:pt x="1050" y="764"/>
                  </a:lnTo>
                  <a:lnTo>
                    <a:pt x="1062" y="760"/>
                  </a:lnTo>
                  <a:lnTo>
                    <a:pt x="1062" y="760"/>
                  </a:lnTo>
                  <a:lnTo>
                    <a:pt x="1084" y="752"/>
                  </a:lnTo>
                  <a:lnTo>
                    <a:pt x="1106" y="740"/>
                  </a:lnTo>
                  <a:lnTo>
                    <a:pt x="1126" y="724"/>
                  </a:lnTo>
                  <a:lnTo>
                    <a:pt x="1134" y="714"/>
                  </a:lnTo>
                  <a:lnTo>
                    <a:pt x="1142" y="704"/>
                  </a:lnTo>
                  <a:lnTo>
                    <a:pt x="1142" y="704"/>
                  </a:lnTo>
                  <a:lnTo>
                    <a:pt x="1156" y="712"/>
                  </a:lnTo>
                  <a:lnTo>
                    <a:pt x="1172" y="718"/>
                  </a:lnTo>
                  <a:lnTo>
                    <a:pt x="1188" y="724"/>
                  </a:lnTo>
                  <a:lnTo>
                    <a:pt x="1204" y="726"/>
                  </a:lnTo>
                  <a:lnTo>
                    <a:pt x="1204" y="726"/>
                  </a:lnTo>
                  <a:lnTo>
                    <a:pt x="1200" y="752"/>
                  </a:lnTo>
                  <a:lnTo>
                    <a:pt x="1196" y="776"/>
                  </a:lnTo>
                  <a:lnTo>
                    <a:pt x="1192" y="828"/>
                  </a:lnTo>
                  <a:lnTo>
                    <a:pt x="1190" y="880"/>
                  </a:lnTo>
                  <a:lnTo>
                    <a:pt x="1192" y="932"/>
                  </a:lnTo>
                  <a:lnTo>
                    <a:pt x="1192" y="932"/>
                  </a:lnTo>
                  <a:lnTo>
                    <a:pt x="1206" y="986"/>
                  </a:lnTo>
                  <a:lnTo>
                    <a:pt x="1222" y="1040"/>
                  </a:lnTo>
                  <a:lnTo>
                    <a:pt x="1240" y="1092"/>
                  </a:lnTo>
                  <a:lnTo>
                    <a:pt x="1262" y="1144"/>
                  </a:lnTo>
                  <a:lnTo>
                    <a:pt x="736" y="1144"/>
                  </a:lnTo>
                  <a:lnTo>
                    <a:pt x="736" y="1144"/>
                  </a:lnTo>
                  <a:lnTo>
                    <a:pt x="730" y="1144"/>
                  </a:lnTo>
                  <a:lnTo>
                    <a:pt x="724" y="1146"/>
                  </a:lnTo>
                  <a:lnTo>
                    <a:pt x="720" y="1150"/>
                  </a:lnTo>
                  <a:lnTo>
                    <a:pt x="716" y="1154"/>
                  </a:lnTo>
                  <a:lnTo>
                    <a:pt x="626" y="1268"/>
                  </a:lnTo>
                  <a:lnTo>
                    <a:pt x="626" y="1268"/>
                  </a:lnTo>
                  <a:lnTo>
                    <a:pt x="620" y="1228"/>
                  </a:lnTo>
                  <a:lnTo>
                    <a:pt x="620" y="1228"/>
                  </a:lnTo>
                  <a:lnTo>
                    <a:pt x="622" y="1200"/>
                  </a:lnTo>
                  <a:lnTo>
                    <a:pt x="620" y="1174"/>
                  </a:lnTo>
                  <a:lnTo>
                    <a:pt x="618" y="1148"/>
                  </a:lnTo>
                  <a:lnTo>
                    <a:pt x="614" y="1122"/>
                  </a:lnTo>
                  <a:lnTo>
                    <a:pt x="606" y="1070"/>
                  </a:lnTo>
                  <a:lnTo>
                    <a:pt x="602" y="1044"/>
                  </a:lnTo>
                  <a:lnTo>
                    <a:pt x="602" y="1016"/>
                  </a:lnTo>
                  <a:lnTo>
                    <a:pt x="602" y="1016"/>
                  </a:lnTo>
                  <a:lnTo>
                    <a:pt x="600" y="996"/>
                  </a:lnTo>
                  <a:lnTo>
                    <a:pt x="596" y="976"/>
                  </a:lnTo>
                  <a:lnTo>
                    <a:pt x="596" y="976"/>
                  </a:lnTo>
                  <a:lnTo>
                    <a:pt x="596" y="974"/>
                  </a:lnTo>
                  <a:lnTo>
                    <a:pt x="594" y="962"/>
                  </a:lnTo>
                  <a:lnTo>
                    <a:pt x="594" y="962"/>
                  </a:lnTo>
                  <a:lnTo>
                    <a:pt x="594" y="956"/>
                  </a:lnTo>
                  <a:lnTo>
                    <a:pt x="592" y="950"/>
                  </a:lnTo>
                  <a:lnTo>
                    <a:pt x="588" y="944"/>
                  </a:lnTo>
                  <a:lnTo>
                    <a:pt x="582" y="940"/>
                  </a:lnTo>
                  <a:lnTo>
                    <a:pt x="574" y="936"/>
                  </a:lnTo>
                  <a:lnTo>
                    <a:pt x="574" y="936"/>
                  </a:lnTo>
                  <a:lnTo>
                    <a:pt x="542" y="924"/>
                  </a:lnTo>
                  <a:lnTo>
                    <a:pt x="510" y="916"/>
                  </a:lnTo>
                  <a:lnTo>
                    <a:pt x="478" y="908"/>
                  </a:lnTo>
                  <a:lnTo>
                    <a:pt x="444" y="904"/>
                  </a:lnTo>
                  <a:lnTo>
                    <a:pt x="444" y="904"/>
                  </a:lnTo>
                  <a:lnTo>
                    <a:pt x="444" y="900"/>
                  </a:lnTo>
                  <a:lnTo>
                    <a:pt x="444" y="900"/>
                  </a:lnTo>
                  <a:lnTo>
                    <a:pt x="444" y="894"/>
                  </a:lnTo>
                  <a:lnTo>
                    <a:pt x="444" y="894"/>
                  </a:lnTo>
                  <a:lnTo>
                    <a:pt x="450" y="886"/>
                  </a:lnTo>
                  <a:lnTo>
                    <a:pt x="456" y="876"/>
                  </a:lnTo>
                  <a:lnTo>
                    <a:pt x="460" y="866"/>
                  </a:lnTo>
                  <a:lnTo>
                    <a:pt x="462" y="856"/>
                  </a:lnTo>
                  <a:lnTo>
                    <a:pt x="462" y="856"/>
                  </a:lnTo>
                  <a:lnTo>
                    <a:pt x="494" y="852"/>
                  </a:lnTo>
                  <a:lnTo>
                    <a:pt x="526" y="852"/>
                  </a:lnTo>
                  <a:lnTo>
                    <a:pt x="526" y="852"/>
                  </a:lnTo>
                  <a:lnTo>
                    <a:pt x="530" y="864"/>
                  </a:lnTo>
                  <a:lnTo>
                    <a:pt x="534" y="870"/>
                  </a:lnTo>
                  <a:lnTo>
                    <a:pt x="534" y="870"/>
                  </a:lnTo>
                  <a:lnTo>
                    <a:pt x="540" y="878"/>
                  </a:lnTo>
                  <a:lnTo>
                    <a:pt x="550" y="884"/>
                  </a:lnTo>
                  <a:lnTo>
                    <a:pt x="552" y="886"/>
                  </a:lnTo>
                  <a:lnTo>
                    <a:pt x="552" y="886"/>
                  </a:lnTo>
                  <a:lnTo>
                    <a:pt x="564" y="890"/>
                  </a:lnTo>
                  <a:lnTo>
                    <a:pt x="578" y="892"/>
                  </a:lnTo>
                  <a:lnTo>
                    <a:pt x="590" y="894"/>
                  </a:lnTo>
                  <a:lnTo>
                    <a:pt x="604" y="892"/>
                  </a:lnTo>
                  <a:lnTo>
                    <a:pt x="616" y="890"/>
                  </a:lnTo>
                  <a:lnTo>
                    <a:pt x="628" y="884"/>
                  </a:lnTo>
                  <a:lnTo>
                    <a:pt x="638" y="876"/>
                  </a:lnTo>
                  <a:lnTo>
                    <a:pt x="646" y="866"/>
                  </a:lnTo>
                  <a:lnTo>
                    <a:pt x="646" y="868"/>
                  </a:lnTo>
                  <a:lnTo>
                    <a:pt x="646" y="868"/>
                  </a:lnTo>
                  <a:lnTo>
                    <a:pt x="652" y="864"/>
                  </a:lnTo>
                  <a:lnTo>
                    <a:pt x="654" y="856"/>
                  </a:lnTo>
                  <a:lnTo>
                    <a:pt x="658" y="846"/>
                  </a:lnTo>
                  <a:lnTo>
                    <a:pt x="658" y="846"/>
                  </a:lnTo>
                  <a:lnTo>
                    <a:pt x="658" y="818"/>
                  </a:lnTo>
                  <a:lnTo>
                    <a:pt x="658" y="792"/>
                  </a:lnTo>
                  <a:lnTo>
                    <a:pt x="658" y="782"/>
                  </a:lnTo>
                  <a:lnTo>
                    <a:pt x="658" y="782"/>
                  </a:lnTo>
                  <a:lnTo>
                    <a:pt x="658" y="774"/>
                  </a:lnTo>
                  <a:lnTo>
                    <a:pt x="654" y="768"/>
                  </a:lnTo>
                  <a:lnTo>
                    <a:pt x="650" y="762"/>
                  </a:lnTo>
                  <a:lnTo>
                    <a:pt x="650" y="762"/>
                  </a:lnTo>
                  <a:lnTo>
                    <a:pt x="636" y="750"/>
                  </a:lnTo>
                  <a:lnTo>
                    <a:pt x="620" y="740"/>
                  </a:lnTo>
                  <a:lnTo>
                    <a:pt x="602" y="734"/>
                  </a:lnTo>
                  <a:lnTo>
                    <a:pt x="586" y="730"/>
                  </a:lnTo>
                  <a:lnTo>
                    <a:pt x="566" y="726"/>
                  </a:lnTo>
                  <a:lnTo>
                    <a:pt x="548" y="726"/>
                  </a:lnTo>
                  <a:lnTo>
                    <a:pt x="510" y="724"/>
                  </a:lnTo>
                  <a:lnTo>
                    <a:pt x="510" y="724"/>
                  </a:lnTo>
                  <a:lnTo>
                    <a:pt x="508" y="714"/>
                  </a:lnTo>
                  <a:lnTo>
                    <a:pt x="504" y="706"/>
                  </a:lnTo>
                  <a:lnTo>
                    <a:pt x="500" y="698"/>
                  </a:lnTo>
                  <a:lnTo>
                    <a:pt x="492" y="692"/>
                  </a:lnTo>
                  <a:lnTo>
                    <a:pt x="492" y="692"/>
                  </a:lnTo>
                  <a:lnTo>
                    <a:pt x="480" y="684"/>
                  </a:lnTo>
                  <a:lnTo>
                    <a:pt x="470" y="678"/>
                  </a:lnTo>
                  <a:lnTo>
                    <a:pt x="446" y="670"/>
                  </a:lnTo>
                  <a:lnTo>
                    <a:pt x="420" y="664"/>
                  </a:lnTo>
                  <a:lnTo>
                    <a:pt x="396" y="664"/>
                  </a:lnTo>
                  <a:lnTo>
                    <a:pt x="344" y="664"/>
                  </a:lnTo>
                  <a:lnTo>
                    <a:pt x="318" y="664"/>
                  </a:lnTo>
                  <a:lnTo>
                    <a:pt x="294" y="664"/>
                  </a:lnTo>
                  <a:lnTo>
                    <a:pt x="294" y="664"/>
                  </a:lnTo>
                  <a:lnTo>
                    <a:pt x="286" y="666"/>
                  </a:lnTo>
                  <a:lnTo>
                    <a:pt x="280" y="668"/>
                  </a:lnTo>
                  <a:lnTo>
                    <a:pt x="274" y="674"/>
                  </a:lnTo>
                  <a:lnTo>
                    <a:pt x="270" y="680"/>
                  </a:lnTo>
                  <a:lnTo>
                    <a:pt x="270" y="680"/>
                  </a:lnTo>
                  <a:lnTo>
                    <a:pt x="256" y="684"/>
                  </a:lnTo>
                  <a:lnTo>
                    <a:pt x="256" y="684"/>
                  </a:lnTo>
                  <a:lnTo>
                    <a:pt x="246" y="690"/>
                  </a:lnTo>
                  <a:lnTo>
                    <a:pt x="236" y="698"/>
                  </a:lnTo>
                  <a:lnTo>
                    <a:pt x="230" y="708"/>
                  </a:lnTo>
                  <a:lnTo>
                    <a:pt x="224" y="718"/>
                  </a:lnTo>
                  <a:lnTo>
                    <a:pt x="222" y="730"/>
                  </a:lnTo>
                  <a:lnTo>
                    <a:pt x="222" y="742"/>
                  </a:lnTo>
                  <a:lnTo>
                    <a:pt x="224" y="752"/>
                  </a:lnTo>
                  <a:lnTo>
                    <a:pt x="230" y="764"/>
                  </a:lnTo>
                  <a:lnTo>
                    <a:pt x="230" y="764"/>
                  </a:lnTo>
                  <a:lnTo>
                    <a:pt x="242" y="776"/>
                  </a:lnTo>
                  <a:lnTo>
                    <a:pt x="252" y="786"/>
                  </a:lnTo>
                  <a:lnTo>
                    <a:pt x="266" y="794"/>
                  </a:lnTo>
                  <a:lnTo>
                    <a:pt x="278" y="800"/>
                  </a:lnTo>
                  <a:lnTo>
                    <a:pt x="278" y="800"/>
                  </a:lnTo>
                  <a:lnTo>
                    <a:pt x="274" y="828"/>
                  </a:lnTo>
                  <a:lnTo>
                    <a:pt x="274" y="858"/>
                  </a:lnTo>
                  <a:lnTo>
                    <a:pt x="274" y="860"/>
                  </a:lnTo>
                  <a:lnTo>
                    <a:pt x="274" y="860"/>
                  </a:lnTo>
                  <a:lnTo>
                    <a:pt x="276" y="868"/>
                  </a:lnTo>
                  <a:lnTo>
                    <a:pt x="280" y="876"/>
                  </a:lnTo>
                  <a:lnTo>
                    <a:pt x="288" y="886"/>
                  </a:lnTo>
                  <a:lnTo>
                    <a:pt x="288" y="886"/>
                  </a:lnTo>
                  <a:lnTo>
                    <a:pt x="298" y="894"/>
                  </a:lnTo>
                  <a:lnTo>
                    <a:pt x="298" y="894"/>
                  </a:lnTo>
                  <a:lnTo>
                    <a:pt x="274" y="896"/>
                  </a:lnTo>
                  <a:lnTo>
                    <a:pt x="252" y="898"/>
                  </a:lnTo>
                  <a:lnTo>
                    <a:pt x="228" y="902"/>
                  </a:lnTo>
                  <a:lnTo>
                    <a:pt x="206" y="908"/>
                  </a:lnTo>
                  <a:lnTo>
                    <a:pt x="184" y="916"/>
                  </a:lnTo>
                  <a:lnTo>
                    <a:pt x="162" y="924"/>
                  </a:lnTo>
                  <a:lnTo>
                    <a:pt x="142" y="934"/>
                  </a:lnTo>
                  <a:lnTo>
                    <a:pt x="122" y="946"/>
                  </a:lnTo>
                  <a:lnTo>
                    <a:pt x="124" y="944"/>
                  </a:lnTo>
                  <a:lnTo>
                    <a:pt x="124" y="944"/>
                  </a:lnTo>
                  <a:lnTo>
                    <a:pt x="118" y="946"/>
                  </a:lnTo>
                  <a:lnTo>
                    <a:pt x="114" y="952"/>
                  </a:lnTo>
                  <a:lnTo>
                    <a:pt x="110" y="958"/>
                  </a:lnTo>
                  <a:lnTo>
                    <a:pt x="110" y="964"/>
                  </a:lnTo>
                  <a:lnTo>
                    <a:pt x="110" y="962"/>
                  </a:lnTo>
                  <a:lnTo>
                    <a:pt x="110" y="962"/>
                  </a:lnTo>
                  <a:lnTo>
                    <a:pt x="106" y="974"/>
                  </a:lnTo>
                  <a:lnTo>
                    <a:pt x="104" y="986"/>
                  </a:lnTo>
                  <a:lnTo>
                    <a:pt x="106" y="996"/>
                  </a:lnTo>
                  <a:lnTo>
                    <a:pt x="108" y="1008"/>
                  </a:lnTo>
                  <a:lnTo>
                    <a:pt x="108" y="1008"/>
                  </a:lnTo>
                  <a:lnTo>
                    <a:pt x="106" y="1056"/>
                  </a:lnTo>
                  <a:lnTo>
                    <a:pt x="102" y="1104"/>
                  </a:lnTo>
                  <a:lnTo>
                    <a:pt x="90" y="1202"/>
                  </a:lnTo>
                  <a:lnTo>
                    <a:pt x="90" y="1202"/>
                  </a:lnTo>
                  <a:lnTo>
                    <a:pt x="84" y="1278"/>
                  </a:lnTo>
                  <a:lnTo>
                    <a:pt x="82" y="1356"/>
                  </a:lnTo>
                  <a:lnTo>
                    <a:pt x="80" y="1432"/>
                  </a:lnTo>
                  <a:lnTo>
                    <a:pt x="80" y="1510"/>
                  </a:lnTo>
                  <a:lnTo>
                    <a:pt x="80" y="1510"/>
                  </a:lnTo>
                  <a:lnTo>
                    <a:pt x="82" y="1516"/>
                  </a:lnTo>
                  <a:lnTo>
                    <a:pt x="84" y="1522"/>
                  </a:lnTo>
                  <a:lnTo>
                    <a:pt x="84" y="1522"/>
                  </a:lnTo>
                  <a:lnTo>
                    <a:pt x="84" y="1526"/>
                  </a:lnTo>
                  <a:lnTo>
                    <a:pt x="84" y="1526"/>
                  </a:lnTo>
                  <a:lnTo>
                    <a:pt x="84" y="1534"/>
                  </a:lnTo>
                  <a:lnTo>
                    <a:pt x="86" y="1544"/>
                  </a:lnTo>
                  <a:lnTo>
                    <a:pt x="90" y="1552"/>
                  </a:lnTo>
                  <a:lnTo>
                    <a:pt x="96" y="1558"/>
                  </a:lnTo>
                  <a:lnTo>
                    <a:pt x="96" y="1558"/>
                  </a:lnTo>
                  <a:lnTo>
                    <a:pt x="118" y="1576"/>
                  </a:lnTo>
                  <a:lnTo>
                    <a:pt x="140" y="1590"/>
                  </a:lnTo>
                  <a:lnTo>
                    <a:pt x="152" y="1596"/>
                  </a:lnTo>
                  <a:lnTo>
                    <a:pt x="164" y="1600"/>
                  </a:lnTo>
                  <a:lnTo>
                    <a:pt x="178" y="1604"/>
                  </a:lnTo>
                  <a:lnTo>
                    <a:pt x="190" y="1604"/>
                  </a:lnTo>
                  <a:lnTo>
                    <a:pt x="190" y="1604"/>
                  </a:lnTo>
                  <a:lnTo>
                    <a:pt x="210" y="1614"/>
                  </a:lnTo>
                  <a:lnTo>
                    <a:pt x="232" y="1620"/>
                  </a:lnTo>
                  <a:lnTo>
                    <a:pt x="254" y="1624"/>
                  </a:lnTo>
                  <a:lnTo>
                    <a:pt x="276" y="1626"/>
                  </a:lnTo>
                  <a:lnTo>
                    <a:pt x="276" y="1626"/>
                  </a:lnTo>
                  <a:lnTo>
                    <a:pt x="338" y="1628"/>
                  </a:lnTo>
                  <a:lnTo>
                    <a:pt x="4" y="2048"/>
                  </a:lnTo>
                  <a:lnTo>
                    <a:pt x="4" y="2048"/>
                  </a:lnTo>
                  <a:lnTo>
                    <a:pt x="2" y="2054"/>
                  </a:lnTo>
                  <a:lnTo>
                    <a:pt x="0" y="2060"/>
                  </a:lnTo>
                  <a:lnTo>
                    <a:pt x="0" y="2068"/>
                  </a:lnTo>
                  <a:lnTo>
                    <a:pt x="2" y="2074"/>
                  </a:lnTo>
                  <a:lnTo>
                    <a:pt x="2" y="2074"/>
                  </a:lnTo>
                  <a:lnTo>
                    <a:pt x="6" y="2080"/>
                  </a:lnTo>
                  <a:lnTo>
                    <a:pt x="12" y="2086"/>
                  </a:lnTo>
                  <a:lnTo>
                    <a:pt x="18" y="2088"/>
                  </a:lnTo>
                  <a:lnTo>
                    <a:pt x="26" y="2090"/>
                  </a:lnTo>
                  <a:lnTo>
                    <a:pt x="2032" y="2090"/>
                  </a:lnTo>
                  <a:lnTo>
                    <a:pt x="2032" y="2090"/>
                  </a:lnTo>
                  <a:lnTo>
                    <a:pt x="2034" y="2092"/>
                  </a:lnTo>
                  <a:lnTo>
                    <a:pt x="2034" y="2092"/>
                  </a:lnTo>
                  <a:lnTo>
                    <a:pt x="2044" y="2144"/>
                  </a:lnTo>
                  <a:lnTo>
                    <a:pt x="2052" y="2170"/>
                  </a:lnTo>
                  <a:lnTo>
                    <a:pt x="2058" y="2182"/>
                  </a:lnTo>
                  <a:lnTo>
                    <a:pt x="2066" y="2194"/>
                  </a:lnTo>
                  <a:lnTo>
                    <a:pt x="2066" y="2194"/>
                  </a:lnTo>
                  <a:lnTo>
                    <a:pt x="2078" y="2206"/>
                  </a:lnTo>
                  <a:lnTo>
                    <a:pt x="2092" y="2218"/>
                  </a:lnTo>
                  <a:lnTo>
                    <a:pt x="2110" y="2226"/>
                  </a:lnTo>
                  <a:lnTo>
                    <a:pt x="2126" y="2230"/>
                  </a:lnTo>
                  <a:lnTo>
                    <a:pt x="2126" y="2230"/>
                  </a:lnTo>
                  <a:lnTo>
                    <a:pt x="2154" y="2236"/>
                  </a:lnTo>
                  <a:lnTo>
                    <a:pt x="2180" y="2240"/>
                  </a:lnTo>
                  <a:lnTo>
                    <a:pt x="2234" y="2246"/>
                  </a:lnTo>
                  <a:lnTo>
                    <a:pt x="2288" y="2250"/>
                  </a:lnTo>
                  <a:lnTo>
                    <a:pt x="2342" y="2254"/>
                  </a:lnTo>
                  <a:lnTo>
                    <a:pt x="2342" y="2254"/>
                  </a:lnTo>
                  <a:lnTo>
                    <a:pt x="2386" y="2258"/>
                  </a:lnTo>
                  <a:lnTo>
                    <a:pt x="2430" y="2260"/>
                  </a:lnTo>
                  <a:lnTo>
                    <a:pt x="2474" y="2262"/>
                  </a:lnTo>
                  <a:lnTo>
                    <a:pt x="2520" y="2266"/>
                  </a:lnTo>
                  <a:lnTo>
                    <a:pt x="2520" y="2266"/>
                  </a:lnTo>
                  <a:lnTo>
                    <a:pt x="2530" y="2268"/>
                  </a:lnTo>
                  <a:lnTo>
                    <a:pt x="2540" y="2270"/>
                  </a:lnTo>
                  <a:lnTo>
                    <a:pt x="2540" y="2270"/>
                  </a:lnTo>
                  <a:lnTo>
                    <a:pt x="2760" y="2272"/>
                  </a:lnTo>
                  <a:lnTo>
                    <a:pt x="2872" y="2272"/>
                  </a:lnTo>
                  <a:lnTo>
                    <a:pt x="2982" y="2268"/>
                  </a:lnTo>
                  <a:lnTo>
                    <a:pt x="2982" y="2268"/>
                  </a:lnTo>
                  <a:lnTo>
                    <a:pt x="3008" y="2262"/>
                  </a:lnTo>
                  <a:lnTo>
                    <a:pt x="3034" y="2256"/>
                  </a:lnTo>
                  <a:lnTo>
                    <a:pt x="3086" y="2248"/>
                  </a:lnTo>
                  <a:lnTo>
                    <a:pt x="3112" y="2242"/>
                  </a:lnTo>
                  <a:lnTo>
                    <a:pt x="3138" y="2236"/>
                  </a:lnTo>
                  <a:lnTo>
                    <a:pt x="3164" y="2228"/>
                  </a:lnTo>
                  <a:lnTo>
                    <a:pt x="3188" y="2216"/>
                  </a:lnTo>
                  <a:lnTo>
                    <a:pt x="3200" y="2214"/>
                  </a:lnTo>
                  <a:lnTo>
                    <a:pt x="3200" y="2214"/>
                  </a:lnTo>
                  <a:lnTo>
                    <a:pt x="3204" y="2212"/>
                  </a:lnTo>
                  <a:lnTo>
                    <a:pt x="3208" y="2208"/>
                  </a:lnTo>
                  <a:lnTo>
                    <a:pt x="3208" y="2208"/>
                  </a:lnTo>
                  <a:lnTo>
                    <a:pt x="3222" y="2200"/>
                  </a:lnTo>
                  <a:lnTo>
                    <a:pt x="3232" y="2188"/>
                  </a:lnTo>
                  <a:lnTo>
                    <a:pt x="3238" y="2176"/>
                  </a:lnTo>
                  <a:lnTo>
                    <a:pt x="3244" y="2162"/>
                  </a:lnTo>
                  <a:lnTo>
                    <a:pt x="3246" y="2148"/>
                  </a:lnTo>
                  <a:lnTo>
                    <a:pt x="3248" y="2132"/>
                  </a:lnTo>
                  <a:lnTo>
                    <a:pt x="3248" y="2104"/>
                  </a:lnTo>
                  <a:lnTo>
                    <a:pt x="3248" y="2104"/>
                  </a:lnTo>
                  <a:lnTo>
                    <a:pt x="3246" y="2096"/>
                  </a:lnTo>
                  <a:lnTo>
                    <a:pt x="3246" y="2096"/>
                  </a:lnTo>
                  <a:lnTo>
                    <a:pt x="3254" y="2092"/>
                  </a:lnTo>
                  <a:lnTo>
                    <a:pt x="3260" y="2090"/>
                  </a:lnTo>
                  <a:lnTo>
                    <a:pt x="3260" y="2090"/>
                  </a:lnTo>
                  <a:lnTo>
                    <a:pt x="3262" y="2090"/>
                  </a:lnTo>
                  <a:lnTo>
                    <a:pt x="5118" y="2090"/>
                  </a:lnTo>
                  <a:lnTo>
                    <a:pt x="5118" y="2090"/>
                  </a:lnTo>
                  <a:lnTo>
                    <a:pt x="5126" y="2088"/>
                  </a:lnTo>
                  <a:lnTo>
                    <a:pt x="5132" y="2086"/>
                  </a:lnTo>
                  <a:lnTo>
                    <a:pt x="5138" y="2080"/>
                  </a:lnTo>
                  <a:lnTo>
                    <a:pt x="5142" y="2074"/>
                  </a:lnTo>
                  <a:lnTo>
                    <a:pt x="5142" y="2074"/>
                  </a:lnTo>
                  <a:lnTo>
                    <a:pt x="5144" y="2068"/>
                  </a:lnTo>
                  <a:lnTo>
                    <a:pt x="5144" y="2060"/>
                  </a:lnTo>
                  <a:lnTo>
                    <a:pt x="5144" y="2054"/>
                  </a:lnTo>
                  <a:lnTo>
                    <a:pt x="5140" y="2048"/>
                  </a:lnTo>
                  <a:lnTo>
                    <a:pt x="5140" y="2048"/>
                  </a:lnTo>
                  <a:close/>
                  <a:moveTo>
                    <a:pt x="2810" y="742"/>
                  </a:moveTo>
                  <a:lnTo>
                    <a:pt x="2810" y="742"/>
                  </a:lnTo>
                  <a:lnTo>
                    <a:pt x="2704" y="1144"/>
                  </a:lnTo>
                  <a:lnTo>
                    <a:pt x="2356" y="1144"/>
                  </a:lnTo>
                  <a:lnTo>
                    <a:pt x="2356" y="1144"/>
                  </a:lnTo>
                  <a:lnTo>
                    <a:pt x="2370" y="1108"/>
                  </a:lnTo>
                  <a:lnTo>
                    <a:pt x="2380" y="1072"/>
                  </a:lnTo>
                  <a:lnTo>
                    <a:pt x="2388" y="1034"/>
                  </a:lnTo>
                  <a:lnTo>
                    <a:pt x="2392" y="996"/>
                  </a:lnTo>
                  <a:lnTo>
                    <a:pt x="2392" y="996"/>
                  </a:lnTo>
                  <a:lnTo>
                    <a:pt x="2400" y="974"/>
                  </a:lnTo>
                  <a:lnTo>
                    <a:pt x="2406" y="948"/>
                  </a:lnTo>
                  <a:lnTo>
                    <a:pt x="2408" y="924"/>
                  </a:lnTo>
                  <a:lnTo>
                    <a:pt x="2408" y="900"/>
                  </a:lnTo>
                  <a:lnTo>
                    <a:pt x="2408" y="848"/>
                  </a:lnTo>
                  <a:lnTo>
                    <a:pt x="2406" y="798"/>
                  </a:lnTo>
                  <a:lnTo>
                    <a:pt x="2406" y="798"/>
                  </a:lnTo>
                  <a:lnTo>
                    <a:pt x="2406" y="786"/>
                  </a:lnTo>
                  <a:lnTo>
                    <a:pt x="2402" y="774"/>
                  </a:lnTo>
                  <a:lnTo>
                    <a:pt x="2396" y="748"/>
                  </a:lnTo>
                  <a:lnTo>
                    <a:pt x="2396" y="748"/>
                  </a:lnTo>
                  <a:lnTo>
                    <a:pt x="2424" y="764"/>
                  </a:lnTo>
                  <a:lnTo>
                    <a:pt x="2452" y="778"/>
                  </a:lnTo>
                  <a:lnTo>
                    <a:pt x="2482" y="788"/>
                  </a:lnTo>
                  <a:lnTo>
                    <a:pt x="2512" y="796"/>
                  </a:lnTo>
                  <a:lnTo>
                    <a:pt x="2544" y="800"/>
                  </a:lnTo>
                  <a:lnTo>
                    <a:pt x="2576" y="802"/>
                  </a:lnTo>
                  <a:lnTo>
                    <a:pt x="2608" y="800"/>
                  </a:lnTo>
                  <a:lnTo>
                    <a:pt x="2638" y="794"/>
                  </a:lnTo>
                  <a:lnTo>
                    <a:pt x="2652" y="786"/>
                  </a:lnTo>
                  <a:lnTo>
                    <a:pt x="2652" y="786"/>
                  </a:lnTo>
                  <a:lnTo>
                    <a:pt x="2658" y="782"/>
                  </a:lnTo>
                  <a:lnTo>
                    <a:pt x="2662" y="776"/>
                  </a:lnTo>
                  <a:lnTo>
                    <a:pt x="2666" y="758"/>
                  </a:lnTo>
                  <a:lnTo>
                    <a:pt x="2666" y="758"/>
                  </a:lnTo>
                  <a:lnTo>
                    <a:pt x="2666" y="738"/>
                  </a:lnTo>
                  <a:lnTo>
                    <a:pt x="2662" y="720"/>
                  </a:lnTo>
                  <a:lnTo>
                    <a:pt x="2662" y="720"/>
                  </a:lnTo>
                  <a:lnTo>
                    <a:pt x="2672" y="714"/>
                  </a:lnTo>
                  <a:lnTo>
                    <a:pt x="2682" y="708"/>
                  </a:lnTo>
                  <a:lnTo>
                    <a:pt x="2690" y="702"/>
                  </a:lnTo>
                  <a:lnTo>
                    <a:pt x="2698" y="694"/>
                  </a:lnTo>
                  <a:lnTo>
                    <a:pt x="2698" y="694"/>
                  </a:lnTo>
                  <a:lnTo>
                    <a:pt x="2710" y="704"/>
                  </a:lnTo>
                  <a:lnTo>
                    <a:pt x="2718" y="708"/>
                  </a:lnTo>
                  <a:lnTo>
                    <a:pt x="2726" y="712"/>
                  </a:lnTo>
                  <a:lnTo>
                    <a:pt x="2726" y="712"/>
                  </a:lnTo>
                  <a:lnTo>
                    <a:pt x="2748" y="718"/>
                  </a:lnTo>
                  <a:lnTo>
                    <a:pt x="2770" y="722"/>
                  </a:lnTo>
                  <a:lnTo>
                    <a:pt x="2792" y="722"/>
                  </a:lnTo>
                  <a:lnTo>
                    <a:pt x="2804" y="720"/>
                  </a:lnTo>
                  <a:lnTo>
                    <a:pt x="2816" y="718"/>
                  </a:lnTo>
                  <a:lnTo>
                    <a:pt x="2816" y="718"/>
                  </a:lnTo>
                  <a:lnTo>
                    <a:pt x="2818" y="724"/>
                  </a:lnTo>
                  <a:lnTo>
                    <a:pt x="2818" y="724"/>
                  </a:lnTo>
                  <a:lnTo>
                    <a:pt x="2812" y="732"/>
                  </a:lnTo>
                  <a:lnTo>
                    <a:pt x="2810" y="742"/>
                  </a:lnTo>
                  <a:lnTo>
                    <a:pt x="2810" y="742"/>
                  </a:lnTo>
                  <a:close/>
                  <a:moveTo>
                    <a:pt x="2920" y="1144"/>
                  </a:moveTo>
                  <a:lnTo>
                    <a:pt x="2920" y="1144"/>
                  </a:lnTo>
                  <a:lnTo>
                    <a:pt x="2930" y="1108"/>
                  </a:lnTo>
                  <a:lnTo>
                    <a:pt x="2936" y="1072"/>
                  </a:lnTo>
                  <a:lnTo>
                    <a:pt x="2942" y="1034"/>
                  </a:lnTo>
                  <a:lnTo>
                    <a:pt x="2950" y="996"/>
                  </a:lnTo>
                  <a:lnTo>
                    <a:pt x="2950" y="996"/>
                  </a:lnTo>
                  <a:lnTo>
                    <a:pt x="2950" y="1070"/>
                  </a:lnTo>
                  <a:lnTo>
                    <a:pt x="2950" y="1144"/>
                  </a:lnTo>
                  <a:lnTo>
                    <a:pt x="2920" y="1144"/>
                  </a:lnTo>
                  <a:close/>
                  <a:moveTo>
                    <a:pt x="3810" y="926"/>
                  </a:moveTo>
                  <a:lnTo>
                    <a:pt x="3810" y="926"/>
                  </a:lnTo>
                  <a:lnTo>
                    <a:pt x="3832" y="906"/>
                  </a:lnTo>
                  <a:lnTo>
                    <a:pt x="3832" y="906"/>
                  </a:lnTo>
                  <a:lnTo>
                    <a:pt x="3840" y="930"/>
                  </a:lnTo>
                  <a:lnTo>
                    <a:pt x="3840" y="930"/>
                  </a:lnTo>
                  <a:lnTo>
                    <a:pt x="3842" y="934"/>
                  </a:lnTo>
                  <a:lnTo>
                    <a:pt x="3842" y="934"/>
                  </a:lnTo>
                  <a:lnTo>
                    <a:pt x="3810" y="926"/>
                  </a:lnTo>
                  <a:lnTo>
                    <a:pt x="3810" y="9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4016160" y="8693280"/>
              <a:ext cx="149040" cy="85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54">
                  <a:moveTo>
                    <a:pt x="20" y="44"/>
                  </a:moveTo>
                  <a:lnTo>
                    <a:pt x="20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32" y="50"/>
                  </a:lnTo>
                  <a:lnTo>
                    <a:pt x="52" y="52"/>
                  </a:lnTo>
                  <a:lnTo>
                    <a:pt x="70" y="54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4" y="46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2" y="24"/>
                  </a:lnTo>
                  <a:lnTo>
                    <a:pt x="84" y="1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36" y="0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2" y="40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7553520" y="8016840"/>
              <a:ext cx="717480" cy="2347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52" h="148">
                  <a:moveTo>
                    <a:pt x="68" y="18"/>
                  </a:moveTo>
                  <a:lnTo>
                    <a:pt x="68" y="18"/>
                  </a:lnTo>
                  <a:lnTo>
                    <a:pt x="62" y="24"/>
                  </a:lnTo>
                  <a:lnTo>
                    <a:pt x="58" y="26"/>
                  </a:lnTo>
                  <a:lnTo>
                    <a:pt x="52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26" y="46"/>
                  </a:lnTo>
                  <a:lnTo>
                    <a:pt x="12" y="60"/>
                  </a:lnTo>
                  <a:lnTo>
                    <a:pt x="8" y="68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2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22" y="118"/>
                  </a:lnTo>
                  <a:lnTo>
                    <a:pt x="38" y="126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6" y="122"/>
                  </a:lnTo>
                  <a:lnTo>
                    <a:pt x="104" y="114"/>
                  </a:lnTo>
                  <a:lnTo>
                    <a:pt x="124" y="106"/>
                  </a:lnTo>
                  <a:lnTo>
                    <a:pt x="144" y="102"/>
                  </a:lnTo>
                  <a:lnTo>
                    <a:pt x="166" y="98"/>
                  </a:lnTo>
                  <a:lnTo>
                    <a:pt x="186" y="96"/>
                  </a:lnTo>
                  <a:lnTo>
                    <a:pt x="228" y="96"/>
                  </a:lnTo>
                  <a:lnTo>
                    <a:pt x="228" y="96"/>
                  </a:lnTo>
                  <a:lnTo>
                    <a:pt x="256" y="98"/>
                  </a:lnTo>
                  <a:lnTo>
                    <a:pt x="270" y="102"/>
                  </a:lnTo>
                  <a:lnTo>
                    <a:pt x="284" y="106"/>
                  </a:lnTo>
                  <a:lnTo>
                    <a:pt x="298" y="110"/>
                  </a:lnTo>
                  <a:lnTo>
                    <a:pt x="310" y="116"/>
                  </a:lnTo>
                  <a:lnTo>
                    <a:pt x="320" y="126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24" y="128"/>
                  </a:lnTo>
                  <a:lnTo>
                    <a:pt x="324" y="128"/>
                  </a:lnTo>
                  <a:lnTo>
                    <a:pt x="334" y="136"/>
                  </a:lnTo>
                  <a:lnTo>
                    <a:pt x="344" y="144"/>
                  </a:lnTo>
                  <a:lnTo>
                    <a:pt x="344" y="144"/>
                  </a:lnTo>
                  <a:lnTo>
                    <a:pt x="346" y="148"/>
                  </a:lnTo>
                  <a:lnTo>
                    <a:pt x="346" y="148"/>
                  </a:lnTo>
                  <a:lnTo>
                    <a:pt x="374" y="140"/>
                  </a:lnTo>
                  <a:lnTo>
                    <a:pt x="388" y="134"/>
                  </a:lnTo>
                  <a:lnTo>
                    <a:pt x="400" y="128"/>
                  </a:lnTo>
                  <a:lnTo>
                    <a:pt x="414" y="120"/>
                  </a:lnTo>
                  <a:lnTo>
                    <a:pt x="426" y="110"/>
                  </a:lnTo>
                  <a:lnTo>
                    <a:pt x="436" y="100"/>
                  </a:lnTo>
                  <a:lnTo>
                    <a:pt x="448" y="88"/>
                  </a:lnTo>
                  <a:lnTo>
                    <a:pt x="448" y="88"/>
                  </a:lnTo>
                  <a:lnTo>
                    <a:pt x="450" y="82"/>
                  </a:lnTo>
                  <a:lnTo>
                    <a:pt x="452" y="76"/>
                  </a:lnTo>
                  <a:lnTo>
                    <a:pt x="450" y="70"/>
                  </a:lnTo>
                  <a:lnTo>
                    <a:pt x="446" y="64"/>
                  </a:lnTo>
                  <a:lnTo>
                    <a:pt x="446" y="64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8" y="30"/>
                  </a:lnTo>
                  <a:lnTo>
                    <a:pt x="366" y="24"/>
                  </a:lnTo>
                  <a:lnTo>
                    <a:pt x="322" y="12"/>
                  </a:lnTo>
                  <a:lnTo>
                    <a:pt x="278" y="4"/>
                  </a:lnTo>
                  <a:lnTo>
                    <a:pt x="278" y="4"/>
                  </a:lnTo>
                  <a:lnTo>
                    <a:pt x="226" y="0"/>
                  </a:lnTo>
                  <a:lnTo>
                    <a:pt x="172" y="0"/>
                  </a:lnTo>
                  <a:lnTo>
                    <a:pt x="144" y="0"/>
                  </a:lnTo>
                  <a:lnTo>
                    <a:pt x="118" y="4"/>
                  </a:lnTo>
                  <a:lnTo>
                    <a:pt x="92" y="10"/>
                  </a:lnTo>
                  <a:lnTo>
                    <a:pt x="68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65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4076640" y="8109000"/>
              <a:ext cx="473040" cy="49500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98" h="312">
                  <a:moveTo>
                    <a:pt x="110" y="0"/>
                  </a:moveTo>
                  <a:lnTo>
                    <a:pt x="110" y="0"/>
                  </a:lnTo>
                  <a:lnTo>
                    <a:pt x="80" y="4"/>
                  </a:lnTo>
                  <a:lnTo>
                    <a:pt x="52" y="10"/>
                  </a:lnTo>
                  <a:lnTo>
                    <a:pt x="24" y="22"/>
                  </a:lnTo>
                  <a:lnTo>
                    <a:pt x="12" y="3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6" y="80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50" y="150"/>
                  </a:lnTo>
                  <a:lnTo>
                    <a:pt x="70" y="180"/>
                  </a:lnTo>
                  <a:lnTo>
                    <a:pt x="92" y="206"/>
                  </a:lnTo>
                  <a:lnTo>
                    <a:pt x="118" y="232"/>
                  </a:lnTo>
                  <a:lnTo>
                    <a:pt x="118" y="232"/>
                  </a:lnTo>
                  <a:lnTo>
                    <a:pt x="160" y="274"/>
                  </a:lnTo>
                  <a:lnTo>
                    <a:pt x="182" y="294"/>
                  </a:lnTo>
                  <a:lnTo>
                    <a:pt x="194" y="302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6" y="312"/>
                  </a:lnTo>
                  <a:lnTo>
                    <a:pt x="216" y="302"/>
                  </a:lnTo>
                  <a:lnTo>
                    <a:pt x="226" y="292"/>
                  </a:lnTo>
                  <a:lnTo>
                    <a:pt x="236" y="286"/>
                  </a:lnTo>
                  <a:lnTo>
                    <a:pt x="246" y="278"/>
                  </a:lnTo>
                  <a:lnTo>
                    <a:pt x="258" y="274"/>
                  </a:lnTo>
                  <a:lnTo>
                    <a:pt x="272" y="270"/>
                  </a:lnTo>
                  <a:lnTo>
                    <a:pt x="284" y="266"/>
                  </a:lnTo>
                  <a:lnTo>
                    <a:pt x="298" y="264"/>
                  </a:lnTo>
                  <a:lnTo>
                    <a:pt x="298" y="264"/>
                  </a:lnTo>
                  <a:lnTo>
                    <a:pt x="296" y="238"/>
                  </a:lnTo>
                  <a:lnTo>
                    <a:pt x="296" y="202"/>
                  </a:lnTo>
                  <a:lnTo>
                    <a:pt x="296" y="202"/>
                  </a:lnTo>
                  <a:lnTo>
                    <a:pt x="276" y="190"/>
                  </a:lnTo>
                  <a:lnTo>
                    <a:pt x="276" y="190"/>
                  </a:lnTo>
                  <a:lnTo>
                    <a:pt x="264" y="204"/>
                  </a:lnTo>
                  <a:lnTo>
                    <a:pt x="252" y="214"/>
                  </a:lnTo>
                  <a:lnTo>
                    <a:pt x="236" y="220"/>
                  </a:lnTo>
                  <a:lnTo>
                    <a:pt x="220" y="226"/>
                  </a:lnTo>
                  <a:lnTo>
                    <a:pt x="220" y="226"/>
                  </a:lnTo>
                  <a:lnTo>
                    <a:pt x="208" y="226"/>
                  </a:lnTo>
                  <a:lnTo>
                    <a:pt x="196" y="226"/>
                  </a:lnTo>
                  <a:lnTo>
                    <a:pt x="186" y="226"/>
                  </a:lnTo>
                  <a:lnTo>
                    <a:pt x="176" y="222"/>
                  </a:lnTo>
                  <a:lnTo>
                    <a:pt x="156" y="214"/>
                  </a:lnTo>
                  <a:lnTo>
                    <a:pt x="138" y="202"/>
                  </a:lnTo>
                  <a:lnTo>
                    <a:pt x="138" y="202"/>
                  </a:lnTo>
                  <a:lnTo>
                    <a:pt x="124" y="192"/>
                  </a:lnTo>
                  <a:lnTo>
                    <a:pt x="116" y="178"/>
                  </a:lnTo>
                  <a:lnTo>
                    <a:pt x="112" y="164"/>
                  </a:lnTo>
                  <a:lnTo>
                    <a:pt x="110" y="150"/>
                  </a:lnTo>
                  <a:lnTo>
                    <a:pt x="112" y="134"/>
                  </a:lnTo>
                  <a:lnTo>
                    <a:pt x="118" y="120"/>
                  </a:lnTo>
                  <a:lnTo>
                    <a:pt x="124" y="108"/>
                  </a:lnTo>
                  <a:lnTo>
                    <a:pt x="136" y="96"/>
                  </a:lnTo>
                  <a:lnTo>
                    <a:pt x="136" y="96"/>
                  </a:lnTo>
                  <a:lnTo>
                    <a:pt x="148" y="88"/>
                  </a:lnTo>
                  <a:lnTo>
                    <a:pt x="160" y="80"/>
                  </a:lnTo>
                  <a:lnTo>
                    <a:pt x="160" y="80"/>
                  </a:lnTo>
                  <a:lnTo>
                    <a:pt x="138" y="54"/>
                  </a:lnTo>
                  <a:lnTo>
                    <a:pt x="128" y="40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14" y="1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4327560" y="82962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18" y="10"/>
                  </a:move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8" y="48"/>
                  </a:lnTo>
                  <a:lnTo>
                    <a:pt x="26" y="52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44" y="56"/>
                  </a:lnTo>
                  <a:lnTo>
                    <a:pt x="50" y="56"/>
                  </a:lnTo>
                  <a:lnTo>
                    <a:pt x="62" y="52"/>
                  </a:lnTo>
                  <a:lnTo>
                    <a:pt x="74" y="4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4" y="16"/>
                  </a:lnTo>
                  <a:lnTo>
                    <a:pt x="70" y="8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4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>
              <a:off x="2977920" y="8575560"/>
              <a:ext cx="1638360" cy="885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1032" h="558">
                  <a:moveTo>
                    <a:pt x="260" y="114"/>
                  </a:moveTo>
                  <a:lnTo>
                    <a:pt x="16" y="474"/>
                  </a:lnTo>
                  <a:lnTo>
                    <a:pt x="16" y="474"/>
                  </a:lnTo>
                  <a:lnTo>
                    <a:pt x="6" y="490"/>
                  </a:lnTo>
                  <a:lnTo>
                    <a:pt x="0" y="506"/>
                  </a:lnTo>
                  <a:lnTo>
                    <a:pt x="0" y="520"/>
                  </a:lnTo>
                  <a:lnTo>
                    <a:pt x="0" y="526"/>
                  </a:lnTo>
                  <a:lnTo>
                    <a:pt x="2" y="532"/>
                  </a:lnTo>
                  <a:lnTo>
                    <a:pt x="2" y="532"/>
                  </a:lnTo>
                  <a:lnTo>
                    <a:pt x="6" y="538"/>
                  </a:lnTo>
                  <a:lnTo>
                    <a:pt x="12" y="542"/>
                  </a:lnTo>
                  <a:lnTo>
                    <a:pt x="20" y="548"/>
                  </a:lnTo>
                  <a:lnTo>
                    <a:pt x="28" y="552"/>
                  </a:lnTo>
                  <a:lnTo>
                    <a:pt x="50" y="556"/>
                  </a:lnTo>
                  <a:lnTo>
                    <a:pt x="74" y="558"/>
                  </a:lnTo>
                  <a:lnTo>
                    <a:pt x="184" y="558"/>
                  </a:lnTo>
                  <a:lnTo>
                    <a:pt x="184" y="558"/>
                  </a:lnTo>
                  <a:lnTo>
                    <a:pt x="216" y="494"/>
                  </a:lnTo>
                  <a:lnTo>
                    <a:pt x="216" y="494"/>
                  </a:lnTo>
                  <a:lnTo>
                    <a:pt x="226" y="474"/>
                  </a:lnTo>
                  <a:lnTo>
                    <a:pt x="238" y="454"/>
                  </a:lnTo>
                  <a:lnTo>
                    <a:pt x="250" y="436"/>
                  </a:lnTo>
                  <a:lnTo>
                    <a:pt x="264" y="420"/>
                  </a:lnTo>
                  <a:lnTo>
                    <a:pt x="292" y="388"/>
                  </a:lnTo>
                  <a:lnTo>
                    <a:pt x="324" y="360"/>
                  </a:lnTo>
                  <a:lnTo>
                    <a:pt x="340" y="348"/>
                  </a:lnTo>
                  <a:lnTo>
                    <a:pt x="358" y="338"/>
                  </a:lnTo>
                  <a:lnTo>
                    <a:pt x="374" y="328"/>
                  </a:lnTo>
                  <a:lnTo>
                    <a:pt x="392" y="320"/>
                  </a:lnTo>
                  <a:lnTo>
                    <a:pt x="408" y="314"/>
                  </a:lnTo>
                  <a:lnTo>
                    <a:pt x="424" y="310"/>
                  </a:lnTo>
                  <a:lnTo>
                    <a:pt x="442" y="306"/>
                  </a:lnTo>
                  <a:lnTo>
                    <a:pt x="458" y="306"/>
                  </a:lnTo>
                  <a:lnTo>
                    <a:pt x="1028" y="306"/>
                  </a:lnTo>
                  <a:lnTo>
                    <a:pt x="1028" y="306"/>
                  </a:lnTo>
                  <a:lnTo>
                    <a:pt x="1030" y="292"/>
                  </a:lnTo>
                  <a:lnTo>
                    <a:pt x="1032" y="276"/>
                  </a:lnTo>
                  <a:lnTo>
                    <a:pt x="1032" y="276"/>
                  </a:lnTo>
                  <a:lnTo>
                    <a:pt x="1016" y="274"/>
                  </a:lnTo>
                  <a:lnTo>
                    <a:pt x="1010" y="270"/>
                  </a:lnTo>
                  <a:lnTo>
                    <a:pt x="1002" y="266"/>
                  </a:lnTo>
                  <a:lnTo>
                    <a:pt x="1002" y="266"/>
                  </a:lnTo>
                  <a:lnTo>
                    <a:pt x="992" y="256"/>
                  </a:lnTo>
                  <a:lnTo>
                    <a:pt x="984" y="246"/>
                  </a:lnTo>
                  <a:lnTo>
                    <a:pt x="978" y="236"/>
                  </a:lnTo>
                  <a:lnTo>
                    <a:pt x="972" y="226"/>
                  </a:lnTo>
                  <a:lnTo>
                    <a:pt x="968" y="214"/>
                  </a:lnTo>
                  <a:lnTo>
                    <a:pt x="966" y="202"/>
                  </a:lnTo>
                  <a:lnTo>
                    <a:pt x="968" y="190"/>
                  </a:lnTo>
                  <a:lnTo>
                    <a:pt x="970" y="178"/>
                  </a:lnTo>
                  <a:lnTo>
                    <a:pt x="970" y="178"/>
                  </a:lnTo>
                  <a:lnTo>
                    <a:pt x="946" y="178"/>
                  </a:lnTo>
                  <a:lnTo>
                    <a:pt x="924" y="174"/>
                  </a:lnTo>
                  <a:lnTo>
                    <a:pt x="924" y="174"/>
                  </a:lnTo>
                  <a:lnTo>
                    <a:pt x="918" y="172"/>
                  </a:lnTo>
                  <a:lnTo>
                    <a:pt x="912" y="168"/>
                  </a:lnTo>
                  <a:lnTo>
                    <a:pt x="892" y="148"/>
                  </a:lnTo>
                  <a:lnTo>
                    <a:pt x="892" y="148"/>
                  </a:lnTo>
                  <a:lnTo>
                    <a:pt x="886" y="138"/>
                  </a:lnTo>
                  <a:lnTo>
                    <a:pt x="882" y="130"/>
                  </a:lnTo>
                  <a:lnTo>
                    <a:pt x="876" y="112"/>
                  </a:lnTo>
                  <a:lnTo>
                    <a:pt x="874" y="92"/>
                  </a:lnTo>
                  <a:lnTo>
                    <a:pt x="876" y="72"/>
                  </a:lnTo>
                  <a:lnTo>
                    <a:pt x="876" y="72"/>
                  </a:lnTo>
                  <a:lnTo>
                    <a:pt x="878" y="64"/>
                  </a:lnTo>
                  <a:lnTo>
                    <a:pt x="878" y="64"/>
                  </a:lnTo>
                  <a:lnTo>
                    <a:pt x="866" y="58"/>
                  </a:lnTo>
                  <a:lnTo>
                    <a:pt x="856" y="52"/>
                  </a:lnTo>
                  <a:lnTo>
                    <a:pt x="836" y="36"/>
                  </a:lnTo>
                  <a:lnTo>
                    <a:pt x="800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32" y="4"/>
                  </a:lnTo>
                  <a:lnTo>
                    <a:pt x="404" y="10"/>
                  </a:lnTo>
                  <a:lnTo>
                    <a:pt x="378" y="20"/>
                  </a:lnTo>
                  <a:lnTo>
                    <a:pt x="350" y="34"/>
                  </a:lnTo>
                  <a:lnTo>
                    <a:pt x="324" y="52"/>
                  </a:lnTo>
                  <a:lnTo>
                    <a:pt x="300" y="70"/>
                  </a:lnTo>
                  <a:lnTo>
                    <a:pt x="278" y="92"/>
                  </a:lnTo>
                  <a:lnTo>
                    <a:pt x="260" y="114"/>
                  </a:lnTo>
                  <a:lnTo>
                    <a:pt x="260" y="114"/>
                  </a:lnTo>
                  <a:close/>
                  <a:moveTo>
                    <a:pt x="612" y="62"/>
                  </a:moveTo>
                  <a:lnTo>
                    <a:pt x="612" y="62"/>
                  </a:lnTo>
                  <a:lnTo>
                    <a:pt x="622" y="48"/>
                  </a:lnTo>
                  <a:lnTo>
                    <a:pt x="636" y="38"/>
                  </a:lnTo>
                  <a:lnTo>
                    <a:pt x="648" y="32"/>
                  </a:lnTo>
                  <a:lnTo>
                    <a:pt x="664" y="26"/>
                  </a:lnTo>
                  <a:lnTo>
                    <a:pt x="678" y="22"/>
                  </a:lnTo>
                  <a:lnTo>
                    <a:pt x="694" y="22"/>
                  </a:lnTo>
                  <a:lnTo>
                    <a:pt x="726" y="22"/>
                  </a:lnTo>
                  <a:lnTo>
                    <a:pt x="726" y="22"/>
                  </a:lnTo>
                  <a:lnTo>
                    <a:pt x="740" y="24"/>
                  </a:lnTo>
                  <a:lnTo>
                    <a:pt x="752" y="30"/>
                  </a:lnTo>
                  <a:lnTo>
                    <a:pt x="764" y="36"/>
                  </a:lnTo>
                  <a:lnTo>
                    <a:pt x="774" y="46"/>
                  </a:lnTo>
                  <a:lnTo>
                    <a:pt x="782" y="56"/>
                  </a:lnTo>
                  <a:lnTo>
                    <a:pt x="788" y="68"/>
                  </a:lnTo>
                  <a:lnTo>
                    <a:pt x="794" y="80"/>
                  </a:lnTo>
                  <a:lnTo>
                    <a:pt x="798" y="94"/>
                  </a:lnTo>
                  <a:lnTo>
                    <a:pt x="798" y="94"/>
                  </a:lnTo>
                  <a:lnTo>
                    <a:pt x="800" y="106"/>
                  </a:lnTo>
                  <a:lnTo>
                    <a:pt x="800" y="120"/>
                  </a:lnTo>
                  <a:lnTo>
                    <a:pt x="798" y="134"/>
                  </a:lnTo>
                  <a:lnTo>
                    <a:pt x="792" y="146"/>
                  </a:lnTo>
                  <a:lnTo>
                    <a:pt x="792" y="146"/>
                  </a:lnTo>
                  <a:lnTo>
                    <a:pt x="780" y="160"/>
                  </a:lnTo>
                  <a:lnTo>
                    <a:pt x="764" y="170"/>
                  </a:lnTo>
                  <a:lnTo>
                    <a:pt x="748" y="178"/>
                  </a:lnTo>
                  <a:lnTo>
                    <a:pt x="732" y="180"/>
                  </a:lnTo>
                  <a:lnTo>
                    <a:pt x="714" y="182"/>
                  </a:lnTo>
                  <a:lnTo>
                    <a:pt x="696" y="180"/>
                  </a:lnTo>
                  <a:lnTo>
                    <a:pt x="678" y="176"/>
                  </a:lnTo>
                  <a:lnTo>
                    <a:pt x="662" y="168"/>
                  </a:lnTo>
                  <a:lnTo>
                    <a:pt x="662" y="168"/>
                  </a:lnTo>
                  <a:lnTo>
                    <a:pt x="654" y="170"/>
                  </a:lnTo>
                  <a:lnTo>
                    <a:pt x="646" y="170"/>
                  </a:lnTo>
                  <a:lnTo>
                    <a:pt x="646" y="170"/>
                  </a:lnTo>
                  <a:lnTo>
                    <a:pt x="638" y="166"/>
                  </a:lnTo>
                  <a:lnTo>
                    <a:pt x="628" y="162"/>
                  </a:lnTo>
                  <a:lnTo>
                    <a:pt x="628" y="162"/>
                  </a:lnTo>
                  <a:lnTo>
                    <a:pt x="634" y="166"/>
                  </a:lnTo>
                  <a:lnTo>
                    <a:pt x="620" y="156"/>
                  </a:lnTo>
                  <a:lnTo>
                    <a:pt x="620" y="156"/>
                  </a:lnTo>
                  <a:lnTo>
                    <a:pt x="616" y="150"/>
                  </a:lnTo>
                  <a:lnTo>
                    <a:pt x="614" y="144"/>
                  </a:lnTo>
                  <a:lnTo>
                    <a:pt x="610" y="132"/>
                  </a:lnTo>
                  <a:lnTo>
                    <a:pt x="610" y="132"/>
                  </a:lnTo>
                  <a:lnTo>
                    <a:pt x="604" y="114"/>
                  </a:lnTo>
                  <a:lnTo>
                    <a:pt x="602" y="96"/>
                  </a:lnTo>
                  <a:lnTo>
                    <a:pt x="602" y="88"/>
                  </a:lnTo>
                  <a:lnTo>
                    <a:pt x="604" y="78"/>
                  </a:lnTo>
                  <a:lnTo>
                    <a:pt x="608" y="70"/>
                  </a:lnTo>
                  <a:lnTo>
                    <a:pt x="612" y="62"/>
                  </a:lnTo>
                  <a:lnTo>
                    <a:pt x="612" y="62"/>
                  </a:lnTo>
                  <a:close/>
                </a:path>
              </a:pathLst>
            </a:custGeom>
            <a:solidFill>
              <a:srgbClr val="8f9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>
              <a:off x="7143840" y="7483320"/>
              <a:ext cx="75960" cy="56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8" h="36">
                  <a:moveTo>
                    <a:pt x="18" y="0"/>
                  </a:move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2" y="3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0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>
              <a:off x="7328160" y="6568920"/>
              <a:ext cx="139680" cy="56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8" h="36">
                  <a:moveTo>
                    <a:pt x="2" y="28"/>
                  </a:moveTo>
                  <a:lnTo>
                    <a:pt x="2" y="28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82" y="30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88" y="24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0" y="4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26" y="2"/>
                  </a:lnTo>
                  <a:lnTo>
                    <a:pt x="1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8182080" y="7651800"/>
              <a:ext cx="228600" cy="295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44" h="186">
                  <a:moveTo>
                    <a:pt x="0" y="130"/>
                  </a:moveTo>
                  <a:lnTo>
                    <a:pt x="0" y="130"/>
                  </a:lnTo>
                  <a:lnTo>
                    <a:pt x="8" y="148"/>
                  </a:lnTo>
                  <a:lnTo>
                    <a:pt x="16" y="168"/>
                  </a:lnTo>
                  <a:lnTo>
                    <a:pt x="16" y="168"/>
                  </a:lnTo>
                  <a:lnTo>
                    <a:pt x="22" y="186"/>
                  </a:lnTo>
                  <a:lnTo>
                    <a:pt x="22" y="186"/>
                  </a:lnTo>
                  <a:lnTo>
                    <a:pt x="44" y="178"/>
                  </a:lnTo>
                  <a:lnTo>
                    <a:pt x="66" y="170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14" y="154"/>
                  </a:lnTo>
                  <a:lnTo>
                    <a:pt x="124" y="152"/>
                  </a:lnTo>
                  <a:lnTo>
                    <a:pt x="144" y="148"/>
                  </a:lnTo>
                  <a:lnTo>
                    <a:pt x="144" y="148"/>
                  </a:lnTo>
                  <a:lnTo>
                    <a:pt x="108" y="7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8" y="24"/>
                  </a:lnTo>
                  <a:lnTo>
                    <a:pt x="48" y="48"/>
                  </a:lnTo>
                  <a:lnTo>
                    <a:pt x="34" y="7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6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>
              <a:off x="8321760" y="7283160"/>
              <a:ext cx="142560" cy="244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90" h="154">
                  <a:moveTo>
                    <a:pt x="0" y="150"/>
                  </a:moveTo>
                  <a:lnTo>
                    <a:pt x="0" y="150"/>
                  </a:lnTo>
                  <a:lnTo>
                    <a:pt x="12" y="152"/>
                  </a:lnTo>
                  <a:lnTo>
                    <a:pt x="22" y="154"/>
                  </a:lnTo>
                  <a:lnTo>
                    <a:pt x="32" y="152"/>
                  </a:lnTo>
                  <a:lnTo>
                    <a:pt x="42" y="150"/>
                  </a:lnTo>
                  <a:lnTo>
                    <a:pt x="56" y="144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76" y="124"/>
                  </a:lnTo>
                  <a:lnTo>
                    <a:pt x="82" y="114"/>
                  </a:lnTo>
                  <a:lnTo>
                    <a:pt x="86" y="102"/>
                  </a:lnTo>
                  <a:lnTo>
                    <a:pt x="90" y="88"/>
                  </a:lnTo>
                  <a:lnTo>
                    <a:pt x="90" y="76"/>
                  </a:lnTo>
                  <a:lnTo>
                    <a:pt x="90" y="64"/>
                  </a:lnTo>
                  <a:lnTo>
                    <a:pt x="88" y="52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78" y="30"/>
                  </a:lnTo>
                  <a:lnTo>
                    <a:pt x="70" y="22"/>
                  </a:lnTo>
                  <a:lnTo>
                    <a:pt x="62" y="16"/>
                  </a:lnTo>
                  <a:lnTo>
                    <a:pt x="52" y="10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6" y="74"/>
                  </a:lnTo>
                  <a:lnTo>
                    <a:pt x="6" y="112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7801200" y="8248680"/>
              <a:ext cx="183960" cy="158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6" h="10">
                  <a:moveTo>
                    <a:pt x="116" y="10"/>
                  </a:moveTo>
                  <a:lnTo>
                    <a:pt x="116" y="10"/>
                  </a:lnTo>
                  <a:lnTo>
                    <a:pt x="104" y="6"/>
                  </a:lnTo>
                  <a:lnTo>
                    <a:pt x="88" y="4"/>
                  </a:lnTo>
                  <a:lnTo>
                    <a:pt x="74" y="2"/>
                  </a:lnTo>
                  <a:lnTo>
                    <a:pt x="60" y="0"/>
                  </a:lnTo>
                  <a:lnTo>
                    <a:pt x="3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76" y="10"/>
                  </a:lnTo>
                  <a:lnTo>
                    <a:pt x="116" y="1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>
              <a:off x="7556760" y="8283600"/>
              <a:ext cx="634680" cy="57456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00" h="362">
                  <a:moveTo>
                    <a:pt x="400" y="322"/>
                  </a:moveTo>
                  <a:lnTo>
                    <a:pt x="400" y="322"/>
                  </a:lnTo>
                  <a:lnTo>
                    <a:pt x="392" y="314"/>
                  </a:lnTo>
                  <a:lnTo>
                    <a:pt x="386" y="302"/>
                  </a:lnTo>
                  <a:lnTo>
                    <a:pt x="386" y="302"/>
                  </a:lnTo>
                  <a:lnTo>
                    <a:pt x="386" y="302"/>
                  </a:lnTo>
                  <a:lnTo>
                    <a:pt x="386" y="302"/>
                  </a:lnTo>
                  <a:lnTo>
                    <a:pt x="372" y="302"/>
                  </a:lnTo>
                  <a:lnTo>
                    <a:pt x="360" y="300"/>
                  </a:lnTo>
                  <a:lnTo>
                    <a:pt x="346" y="298"/>
                  </a:lnTo>
                  <a:lnTo>
                    <a:pt x="332" y="294"/>
                  </a:lnTo>
                  <a:lnTo>
                    <a:pt x="332" y="294"/>
                  </a:lnTo>
                  <a:lnTo>
                    <a:pt x="322" y="288"/>
                  </a:lnTo>
                  <a:lnTo>
                    <a:pt x="312" y="280"/>
                  </a:lnTo>
                  <a:lnTo>
                    <a:pt x="302" y="270"/>
                  </a:lnTo>
                  <a:lnTo>
                    <a:pt x="294" y="260"/>
                  </a:lnTo>
                  <a:lnTo>
                    <a:pt x="286" y="250"/>
                  </a:lnTo>
                  <a:lnTo>
                    <a:pt x="280" y="238"/>
                  </a:lnTo>
                  <a:lnTo>
                    <a:pt x="276" y="226"/>
                  </a:lnTo>
                  <a:lnTo>
                    <a:pt x="274" y="214"/>
                  </a:lnTo>
                  <a:lnTo>
                    <a:pt x="274" y="214"/>
                  </a:lnTo>
                  <a:lnTo>
                    <a:pt x="260" y="202"/>
                  </a:lnTo>
                  <a:lnTo>
                    <a:pt x="254" y="196"/>
                  </a:lnTo>
                  <a:lnTo>
                    <a:pt x="248" y="188"/>
                  </a:lnTo>
                  <a:lnTo>
                    <a:pt x="248" y="188"/>
                  </a:lnTo>
                  <a:lnTo>
                    <a:pt x="240" y="172"/>
                  </a:lnTo>
                  <a:lnTo>
                    <a:pt x="236" y="156"/>
                  </a:lnTo>
                  <a:lnTo>
                    <a:pt x="236" y="148"/>
                  </a:lnTo>
                  <a:lnTo>
                    <a:pt x="238" y="140"/>
                  </a:lnTo>
                  <a:lnTo>
                    <a:pt x="240" y="132"/>
                  </a:lnTo>
                  <a:lnTo>
                    <a:pt x="244" y="124"/>
                  </a:lnTo>
                  <a:lnTo>
                    <a:pt x="244" y="124"/>
                  </a:lnTo>
                  <a:lnTo>
                    <a:pt x="258" y="104"/>
                  </a:lnTo>
                  <a:lnTo>
                    <a:pt x="266" y="94"/>
                  </a:lnTo>
                  <a:lnTo>
                    <a:pt x="276" y="86"/>
                  </a:lnTo>
                  <a:lnTo>
                    <a:pt x="276" y="86"/>
                  </a:lnTo>
                  <a:lnTo>
                    <a:pt x="274" y="74"/>
                  </a:lnTo>
                  <a:lnTo>
                    <a:pt x="272" y="62"/>
                  </a:lnTo>
                  <a:lnTo>
                    <a:pt x="272" y="52"/>
                  </a:lnTo>
                  <a:lnTo>
                    <a:pt x="274" y="40"/>
                  </a:lnTo>
                  <a:lnTo>
                    <a:pt x="274" y="40"/>
                  </a:lnTo>
                  <a:lnTo>
                    <a:pt x="268" y="40"/>
                  </a:lnTo>
                  <a:lnTo>
                    <a:pt x="268" y="40"/>
                  </a:lnTo>
                  <a:lnTo>
                    <a:pt x="228" y="40"/>
                  </a:lnTo>
                  <a:lnTo>
                    <a:pt x="188" y="40"/>
                  </a:lnTo>
                  <a:lnTo>
                    <a:pt x="150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54" y="18"/>
                  </a:lnTo>
                  <a:lnTo>
                    <a:pt x="2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08"/>
                  </a:lnTo>
                  <a:lnTo>
                    <a:pt x="20" y="162"/>
                  </a:lnTo>
                  <a:lnTo>
                    <a:pt x="26" y="218"/>
                  </a:lnTo>
                  <a:lnTo>
                    <a:pt x="26" y="218"/>
                  </a:lnTo>
                  <a:lnTo>
                    <a:pt x="28" y="234"/>
                  </a:lnTo>
                  <a:lnTo>
                    <a:pt x="32" y="250"/>
                  </a:lnTo>
                  <a:lnTo>
                    <a:pt x="40" y="282"/>
                  </a:lnTo>
                  <a:lnTo>
                    <a:pt x="40" y="282"/>
                  </a:lnTo>
                  <a:lnTo>
                    <a:pt x="40" y="280"/>
                  </a:lnTo>
                  <a:lnTo>
                    <a:pt x="40" y="280"/>
                  </a:lnTo>
                  <a:lnTo>
                    <a:pt x="44" y="298"/>
                  </a:lnTo>
                  <a:lnTo>
                    <a:pt x="46" y="306"/>
                  </a:lnTo>
                  <a:lnTo>
                    <a:pt x="52" y="312"/>
                  </a:lnTo>
                  <a:lnTo>
                    <a:pt x="52" y="312"/>
                  </a:lnTo>
                  <a:lnTo>
                    <a:pt x="64" y="322"/>
                  </a:lnTo>
                  <a:lnTo>
                    <a:pt x="76" y="328"/>
                  </a:lnTo>
                  <a:lnTo>
                    <a:pt x="90" y="336"/>
                  </a:lnTo>
                  <a:lnTo>
                    <a:pt x="104" y="340"/>
                  </a:lnTo>
                  <a:lnTo>
                    <a:pt x="134" y="348"/>
                  </a:lnTo>
                  <a:lnTo>
                    <a:pt x="162" y="354"/>
                  </a:lnTo>
                  <a:lnTo>
                    <a:pt x="162" y="354"/>
                  </a:lnTo>
                  <a:lnTo>
                    <a:pt x="186" y="360"/>
                  </a:lnTo>
                  <a:lnTo>
                    <a:pt x="210" y="362"/>
                  </a:lnTo>
                  <a:lnTo>
                    <a:pt x="234" y="362"/>
                  </a:lnTo>
                  <a:lnTo>
                    <a:pt x="256" y="360"/>
                  </a:lnTo>
                  <a:lnTo>
                    <a:pt x="256" y="360"/>
                  </a:lnTo>
                  <a:lnTo>
                    <a:pt x="280" y="358"/>
                  </a:lnTo>
                  <a:lnTo>
                    <a:pt x="306" y="358"/>
                  </a:lnTo>
                  <a:lnTo>
                    <a:pt x="306" y="358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24" y="350"/>
                  </a:lnTo>
                  <a:lnTo>
                    <a:pt x="346" y="342"/>
                  </a:lnTo>
                  <a:lnTo>
                    <a:pt x="370" y="336"/>
                  </a:lnTo>
                  <a:lnTo>
                    <a:pt x="394" y="326"/>
                  </a:lnTo>
                  <a:lnTo>
                    <a:pt x="394" y="326"/>
                  </a:lnTo>
                  <a:lnTo>
                    <a:pt x="400" y="322"/>
                  </a:lnTo>
                  <a:lnTo>
                    <a:pt x="400" y="322"/>
                  </a:lnTo>
                  <a:close/>
                </a:path>
              </a:pathLst>
            </a:custGeom>
            <a:solidFill>
              <a:srgbClr val="b65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>
              <a:off x="8261640" y="7966080"/>
              <a:ext cx="228600" cy="285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44" h="180">
                  <a:moveTo>
                    <a:pt x="8" y="28"/>
                  </a:moveTo>
                  <a:lnTo>
                    <a:pt x="8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4" y="48"/>
                  </a:lnTo>
                  <a:lnTo>
                    <a:pt x="34" y="56"/>
                  </a:lnTo>
                  <a:lnTo>
                    <a:pt x="42" y="66"/>
                  </a:lnTo>
                  <a:lnTo>
                    <a:pt x="50" y="78"/>
                  </a:lnTo>
                  <a:lnTo>
                    <a:pt x="54" y="90"/>
                  </a:lnTo>
                  <a:lnTo>
                    <a:pt x="56" y="104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6" y="120"/>
                  </a:lnTo>
                  <a:lnTo>
                    <a:pt x="78" y="12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10" y="144"/>
                  </a:lnTo>
                  <a:lnTo>
                    <a:pt x="122" y="154"/>
                  </a:lnTo>
                  <a:lnTo>
                    <a:pt x="132" y="168"/>
                  </a:lnTo>
                  <a:lnTo>
                    <a:pt x="140" y="180"/>
                  </a:lnTo>
                  <a:lnTo>
                    <a:pt x="140" y="180"/>
                  </a:lnTo>
                  <a:lnTo>
                    <a:pt x="142" y="154"/>
                  </a:lnTo>
                  <a:lnTo>
                    <a:pt x="142" y="154"/>
                  </a:lnTo>
                  <a:lnTo>
                    <a:pt x="144" y="124"/>
                  </a:lnTo>
                  <a:lnTo>
                    <a:pt x="142" y="92"/>
                  </a:lnTo>
                  <a:lnTo>
                    <a:pt x="138" y="62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2" y="10"/>
                  </a:lnTo>
                  <a:lnTo>
                    <a:pt x="52" y="16"/>
                  </a:lnTo>
                  <a:lnTo>
                    <a:pt x="30" y="22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>
              <a:off x="8017200" y="8236080"/>
              <a:ext cx="425160" cy="501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68" h="316">
                  <a:moveTo>
                    <a:pt x="182" y="316"/>
                  </a:moveTo>
                  <a:lnTo>
                    <a:pt x="182" y="316"/>
                  </a:lnTo>
                  <a:lnTo>
                    <a:pt x="212" y="294"/>
                  </a:lnTo>
                  <a:lnTo>
                    <a:pt x="212" y="294"/>
                  </a:lnTo>
                  <a:lnTo>
                    <a:pt x="224" y="282"/>
                  </a:lnTo>
                  <a:lnTo>
                    <a:pt x="236" y="270"/>
                  </a:lnTo>
                  <a:lnTo>
                    <a:pt x="244" y="256"/>
                  </a:lnTo>
                  <a:lnTo>
                    <a:pt x="250" y="240"/>
                  </a:lnTo>
                  <a:lnTo>
                    <a:pt x="250" y="240"/>
                  </a:lnTo>
                  <a:lnTo>
                    <a:pt x="260" y="210"/>
                  </a:lnTo>
                  <a:lnTo>
                    <a:pt x="264" y="196"/>
                  </a:lnTo>
                  <a:lnTo>
                    <a:pt x="266" y="180"/>
                  </a:lnTo>
                  <a:lnTo>
                    <a:pt x="266" y="180"/>
                  </a:lnTo>
                  <a:lnTo>
                    <a:pt x="268" y="130"/>
                  </a:lnTo>
                  <a:lnTo>
                    <a:pt x="266" y="104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2" y="70"/>
                  </a:lnTo>
                  <a:lnTo>
                    <a:pt x="260" y="60"/>
                  </a:lnTo>
                  <a:lnTo>
                    <a:pt x="252" y="44"/>
                  </a:lnTo>
                  <a:lnTo>
                    <a:pt x="242" y="28"/>
                  </a:lnTo>
                  <a:lnTo>
                    <a:pt x="234" y="12"/>
                  </a:lnTo>
                  <a:lnTo>
                    <a:pt x="234" y="12"/>
                  </a:lnTo>
                  <a:lnTo>
                    <a:pt x="214" y="4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66" y="14"/>
                  </a:lnTo>
                  <a:lnTo>
                    <a:pt x="150" y="24"/>
                  </a:lnTo>
                  <a:lnTo>
                    <a:pt x="134" y="34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04" y="50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84" y="60"/>
                  </a:lnTo>
                  <a:lnTo>
                    <a:pt x="66" y="66"/>
                  </a:lnTo>
                  <a:lnTo>
                    <a:pt x="50" y="72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8" y="104"/>
                  </a:lnTo>
                  <a:lnTo>
                    <a:pt x="42" y="108"/>
                  </a:lnTo>
                  <a:lnTo>
                    <a:pt x="48" y="110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70" y="112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16" y="102"/>
                  </a:lnTo>
                  <a:lnTo>
                    <a:pt x="130" y="96"/>
                  </a:lnTo>
                  <a:lnTo>
                    <a:pt x="144" y="90"/>
                  </a:lnTo>
                  <a:lnTo>
                    <a:pt x="158" y="80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8" y="64"/>
                  </a:lnTo>
                  <a:lnTo>
                    <a:pt x="188" y="64"/>
                  </a:lnTo>
                  <a:lnTo>
                    <a:pt x="198" y="66"/>
                  </a:lnTo>
                  <a:lnTo>
                    <a:pt x="206" y="72"/>
                  </a:lnTo>
                  <a:lnTo>
                    <a:pt x="206" y="72"/>
                  </a:lnTo>
                  <a:lnTo>
                    <a:pt x="212" y="82"/>
                  </a:lnTo>
                  <a:lnTo>
                    <a:pt x="212" y="92"/>
                  </a:lnTo>
                  <a:lnTo>
                    <a:pt x="210" y="100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188" y="124"/>
                  </a:lnTo>
                  <a:lnTo>
                    <a:pt x="168" y="136"/>
                  </a:lnTo>
                  <a:lnTo>
                    <a:pt x="150" y="146"/>
                  </a:lnTo>
                  <a:lnTo>
                    <a:pt x="128" y="154"/>
                  </a:lnTo>
                  <a:lnTo>
                    <a:pt x="108" y="158"/>
                  </a:lnTo>
                  <a:lnTo>
                    <a:pt x="86" y="162"/>
                  </a:lnTo>
                  <a:lnTo>
                    <a:pt x="62" y="164"/>
                  </a:lnTo>
                  <a:lnTo>
                    <a:pt x="40" y="162"/>
                  </a:lnTo>
                  <a:lnTo>
                    <a:pt x="40" y="162"/>
                  </a:lnTo>
                  <a:lnTo>
                    <a:pt x="30" y="160"/>
                  </a:lnTo>
                  <a:lnTo>
                    <a:pt x="20" y="156"/>
                  </a:lnTo>
                  <a:lnTo>
                    <a:pt x="20" y="156"/>
                  </a:lnTo>
                  <a:lnTo>
                    <a:pt x="12" y="162"/>
                  </a:lnTo>
                  <a:lnTo>
                    <a:pt x="4" y="172"/>
                  </a:lnTo>
                  <a:lnTo>
                    <a:pt x="2" y="176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8" y="196"/>
                  </a:lnTo>
                  <a:lnTo>
                    <a:pt x="16" y="202"/>
                  </a:lnTo>
                  <a:lnTo>
                    <a:pt x="24" y="206"/>
                  </a:lnTo>
                  <a:lnTo>
                    <a:pt x="32" y="208"/>
                  </a:lnTo>
                  <a:lnTo>
                    <a:pt x="48" y="208"/>
                  </a:lnTo>
                  <a:lnTo>
                    <a:pt x="66" y="206"/>
                  </a:lnTo>
                  <a:lnTo>
                    <a:pt x="66" y="206"/>
                  </a:lnTo>
                  <a:lnTo>
                    <a:pt x="94" y="202"/>
                  </a:lnTo>
                  <a:lnTo>
                    <a:pt x="122" y="196"/>
                  </a:lnTo>
                  <a:lnTo>
                    <a:pt x="150" y="190"/>
                  </a:lnTo>
                  <a:lnTo>
                    <a:pt x="164" y="186"/>
                  </a:lnTo>
                  <a:lnTo>
                    <a:pt x="176" y="182"/>
                  </a:lnTo>
                  <a:lnTo>
                    <a:pt x="176" y="182"/>
                  </a:lnTo>
                  <a:lnTo>
                    <a:pt x="186" y="178"/>
                  </a:lnTo>
                  <a:lnTo>
                    <a:pt x="196" y="176"/>
                  </a:lnTo>
                  <a:lnTo>
                    <a:pt x="204" y="180"/>
                  </a:lnTo>
                  <a:lnTo>
                    <a:pt x="212" y="188"/>
                  </a:lnTo>
                  <a:lnTo>
                    <a:pt x="212" y="188"/>
                  </a:lnTo>
                  <a:lnTo>
                    <a:pt x="216" y="196"/>
                  </a:lnTo>
                  <a:lnTo>
                    <a:pt x="218" y="206"/>
                  </a:lnTo>
                  <a:lnTo>
                    <a:pt x="214" y="216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192" y="232"/>
                  </a:lnTo>
                  <a:lnTo>
                    <a:pt x="178" y="238"/>
                  </a:lnTo>
                  <a:lnTo>
                    <a:pt x="162" y="242"/>
                  </a:lnTo>
                  <a:lnTo>
                    <a:pt x="146" y="246"/>
                  </a:lnTo>
                  <a:lnTo>
                    <a:pt x="112" y="250"/>
                  </a:lnTo>
                  <a:lnTo>
                    <a:pt x="80" y="256"/>
                  </a:lnTo>
                  <a:lnTo>
                    <a:pt x="80" y="256"/>
                  </a:lnTo>
                  <a:lnTo>
                    <a:pt x="64" y="260"/>
                  </a:lnTo>
                  <a:lnTo>
                    <a:pt x="46" y="260"/>
                  </a:lnTo>
                  <a:lnTo>
                    <a:pt x="46" y="260"/>
                  </a:lnTo>
                  <a:lnTo>
                    <a:pt x="52" y="268"/>
                  </a:lnTo>
                  <a:lnTo>
                    <a:pt x="58" y="272"/>
                  </a:lnTo>
                  <a:lnTo>
                    <a:pt x="66" y="278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88" y="280"/>
                  </a:lnTo>
                  <a:lnTo>
                    <a:pt x="100" y="278"/>
                  </a:lnTo>
                  <a:lnTo>
                    <a:pt x="126" y="274"/>
                  </a:lnTo>
                  <a:lnTo>
                    <a:pt x="150" y="266"/>
                  </a:lnTo>
                  <a:lnTo>
                    <a:pt x="174" y="256"/>
                  </a:lnTo>
                  <a:lnTo>
                    <a:pt x="174" y="256"/>
                  </a:lnTo>
                  <a:lnTo>
                    <a:pt x="184" y="254"/>
                  </a:lnTo>
                  <a:lnTo>
                    <a:pt x="194" y="258"/>
                  </a:lnTo>
                  <a:lnTo>
                    <a:pt x="202" y="262"/>
                  </a:lnTo>
                  <a:lnTo>
                    <a:pt x="208" y="272"/>
                  </a:lnTo>
                  <a:lnTo>
                    <a:pt x="208" y="272"/>
                  </a:lnTo>
                  <a:lnTo>
                    <a:pt x="210" y="282"/>
                  </a:lnTo>
                  <a:lnTo>
                    <a:pt x="208" y="292"/>
                  </a:lnTo>
                  <a:lnTo>
                    <a:pt x="202" y="300"/>
                  </a:lnTo>
                  <a:lnTo>
                    <a:pt x="194" y="304"/>
                  </a:lnTo>
                  <a:lnTo>
                    <a:pt x="194" y="304"/>
                  </a:lnTo>
                  <a:lnTo>
                    <a:pt x="184" y="308"/>
                  </a:lnTo>
                  <a:lnTo>
                    <a:pt x="184" y="308"/>
                  </a:lnTo>
                  <a:lnTo>
                    <a:pt x="182" y="312"/>
                  </a:lnTo>
                  <a:lnTo>
                    <a:pt x="182" y="312"/>
                  </a:lnTo>
                  <a:lnTo>
                    <a:pt x="184" y="310"/>
                  </a:lnTo>
                  <a:lnTo>
                    <a:pt x="184" y="310"/>
                  </a:lnTo>
                  <a:lnTo>
                    <a:pt x="182" y="316"/>
                  </a:lnTo>
                  <a:lnTo>
                    <a:pt x="182" y="316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>
              <a:off x="4311720" y="8010360"/>
              <a:ext cx="1212840" cy="29196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764" h="184">
                  <a:moveTo>
                    <a:pt x="8" y="8"/>
                  </a:moveTo>
                  <a:lnTo>
                    <a:pt x="8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34"/>
                  </a:lnTo>
                  <a:lnTo>
                    <a:pt x="14" y="5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6" y="74"/>
                  </a:lnTo>
                  <a:lnTo>
                    <a:pt x="32" y="84"/>
                  </a:lnTo>
                  <a:lnTo>
                    <a:pt x="38" y="92"/>
                  </a:lnTo>
                  <a:lnTo>
                    <a:pt x="44" y="102"/>
                  </a:lnTo>
                  <a:lnTo>
                    <a:pt x="44" y="102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8" y="112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88" y="132"/>
                  </a:lnTo>
                  <a:lnTo>
                    <a:pt x="98" y="134"/>
                  </a:lnTo>
                  <a:lnTo>
                    <a:pt x="106" y="138"/>
                  </a:lnTo>
                  <a:lnTo>
                    <a:pt x="118" y="148"/>
                  </a:lnTo>
                  <a:lnTo>
                    <a:pt x="118" y="148"/>
                  </a:lnTo>
                  <a:lnTo>
                    <a:pt x="122" y="152"/>
                  </a:lnTo>
                  <a:lnTo>
                    <a:pt x="126" y="160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36" y="178"/>
                  </a:lnTo>
                  <a:lnTo>
                    <a:pt x="14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80" y="180"/>
                  </a:lnTo>
                  <a:lnTo>
                    <a:pt x="280" y="180"/>
                  </a:lnTo>
                  <a:lnTo>
                    <a:pt x="306" y="180"/>
                  </a:lnTo>
                  <a:lnTo>
                    <a:pt x="306" y="180"/>
                  </a:lnTo>
                  <a:lnTo>
                    <a:pt x="316" y="170"/>
                  </a:lnTo>
                  <a:lnTo>
                    <a:pt x="328" y="160"/>
                  </a:lnTo>
                  <a:lnTo>
                    <a:pt x="340" y="154"/>
                  </a:lnTo>
                  <a:lnTo>
                    <a:pt x="354" y="148"/>
                  </a:lnTo>
                  <a:lnTo>
                    <a:pt x="366" y="142"/>
                  </a:lnTo>
                  <a:lnTo>
                    <a:pt x="380" y="138"/>
                  </a:lnTo>
                  <a:lnTo>
                    <a:pt x="410" y="134"/>
                  </a:lnTo>
                  <a:lnTo>
                    <a:pt x="410" y="134"/>
                  </a:lnTo>
                  <a:lnTo>
                    <a:pt x="422" y="134"/>
                  </a:lnTo>
                  <a:lnTo>
                    <a:pt x="434" y="136"/>
                  </a:lnTo>
                  <a:lnTo>
                    <a:pt x="444" y="140"/>
                  </a:lnTo>
                  <a:lnTo>
                    <a:pt x="454" y="146"/>
                  </a:lnTo>
                  <a:lnTo>
                    <a:pt x="462" y="154"/>
                  </a:lnTo>
                  <a:lnTo>
                    <a:pt x="470" y="162"/>
                  </a:lnTo>
                  <a:lnTo>
                    <a:pt x="478" y="172"/>
                  </a:lnTo>
                  <a:lnTo>
                    <a:pt x="482" y="184"/>
                  </a:lnTo>
                  <a:lnTo>
                    <a:pt x="524" y="184"/>
                  </a:lnTo>
                  <a:lnTo>
                    <a:pt x="524" y="184"/>
                  </a:lnTo>
                  <a:lnTo>
                    <a:pt x="548" y="180"/>
                  </a:lnTo>
                  <a:lnTo>
                    <a:pt x="570" y="178"/>
                  </a:lnTo>
                  <a:lnTo>
                    <a:pt x="594" y="180"/>
                  </a:lnTo>
                  <a:lnTo>
                    <a:pt x="616" y="184"/>
                  </a:lnTo>
                  <a:lnTo>
                    <a:pt x="690" y="184"/>
                  </a:lnTo>
                  <a:lnTo>
                    <a:pt x="690" y="184"/>
                  </a:lnTo>
                  <a:lnTo>
                    <a:pt x="698" y="176"/>
                  </a:lnTo>
                  <a:lnTo>
                    <a:pt x="704" y="168"/>
                  </a:lnTo>
                  <a:lnTo>
                    <a:pt x="704" y="168"/>
                  </a:lnTo>
                  <a:lnTo>
                    <a:pt x="718" y="148"/>
                  </a:lnTo>
                  <a:lnTo>
                    <a:pt x="728" y="128"/>
                  </a:lnTo>
                  <a:lnTo>
                    <a:pt x="738" y="108"/>
                  </a:lnTo>
                  <a:lnTo>
                    <a:pt x="746" y="86"/>
                  </a:lnTo>
                  <a:lnTo>
                    <a:pt x="754" y="66"/>
                  </a:lnTo>
                  <a:lnTo>
                    <a:pt x="758" y="44"/>
                  </a:lnTo>
                  <a:lnTo>
                    <a:pt x="762" y="22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32" y="22"/>
                  </a:lnTo>
                  <a:lnTo>
                    <a:pt x="696" y="42"/>
                  </a:lnTo>
                  <a:lnTo>
                    <a:pt x="658" y="60"/>
                  </a:lnTo>
                  <a:lnTo>
                    <a:pt x="618" y="76"/>
                  </a:lnTo>
                  <a:lnTo>
                    <a:pt x="618" y="76"/>
                  </a:lnTo>
                  <a:lnTo>
                    <a:pt x="582" y="86"/>
                  </a:lnTo>
                  <a:lnTo>
                    <a:pt x="544" y="96"/>
                  </a:lnTo>
                  <a:lnTo>
                    <a:pt x="506" y="102"/>
                  </a:lnTo>
                  <a:lnTo>
                    <a:pt x="466" y="108"/>
                  </a:lnTo>
                  <a:lnTo>
                    <a:pt x="428" y="110"/>
                  </a:lnTo>
                  <a:lnTo>
                    <a:pt x="388" y="112"/>
                  </a:lnTo>
                  <a:lnTo>
                    <a:pt x="348" y="110"/>
                  </a:lnTo>
                  <a:lnTo>
                    <a:pt x="308" y="106"/>
                  </a:lnTo>
                  <a:lnTo>
                    <a:pt x="268" y="102"/>
                  </a:lnTo>
                  <a:lnTo>
                    <a:pt x="228" y="94"/>
                  </a:lnTo>
                  <a:lnTo>
                    <a:pt x="188" y="84"/>
                  </a:lnTo>
                  <a:lnTo>
                    <a:pt x="150" y="74"/>
                  </a:lnTo>
                  <a:lnTo>
                    <a:pt x="112" y="60"/>
                  </a:lnTo>
                  <a:lnTo>
                    <a:pt x="76" y="44"/>
                  </a:lnTo>
                  <a:lnTo>
                    <a:pt x="42" y="2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1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>
              <a:off x="5803920" y="9023400"/>
              <a:ext cx="892080" cy="7966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562" h="502">
                  <a:moveTo>
                    <a:pt x="454" y="420"/>
                  </a:moveTo>
                  <a:lnTo>
                    <a:pt x="454" y="420"/>
                  </a:lnTo>
                  <a:lnTo>
                    <a:pt x="448" y="408"/>
                  </a:lnTo>
                  <a:lnTo>
                    <a:pt x="444" y="402"/>
                  </a:lnTo>
                  <a:lnTo>
                    <a:pt x="444" y="396"/>
                  </a:lnTo>
                  <a:lnTo>
                    <a:pt x="444" y="396"/>
                  </a:lnTo>
                  <a:lnTo>
                    <a:pt x="440" y="366"/>
                  </a:lnTo>
                  <a:lnTo>
                    <a:pt x="438" y="352"/>
                  </a:lnTo>
                  <a:lnTo>
                    <a:pt x="436" y="338"/>
                  </a:lnTo>
                  <a:lnTo>
                    <a:pt x="436" y="338"/>
                  </a:lnTo>
                  <a:lnTo>
                    <a:pt x="414" y="258"/>
                  </a:lnTo>
                  <a:lnTo>
                    <a:pt x="402" y="218"/>
                  </a:lnTo>
                  <a:lnTo>
                    <a:pt x="394" y="176"/>
                  </a:lnTo>
                  <a:lnTo>
                    <a:pt x="394" y="176"/>
                  </a:lnTo>
                  <a:lnTo>
                    <a:pt x="388" y="150"/>
                  </a:lnTo>
                  <a:lnTo>
                    <a:pt x="384" y="124"/>
                  </a:lnTo>
                  <a:lnTo>
                    <a:pt x="380" y="98"/>
                  </a:lnTo>
                  <a:lnTo>
                    <a:pt x="370" y="72"/>
                  </a:lnTo>
                  <a:lnTo>
                    <a:pt x="370" y="72"/>
                  </a:lnTo>
                  <a:lnTo>
                    <a:pt x="362" y="58"/>
                  </a:lnTo>
                  <a:lnTo>
                    <a:pt x="350" y="44"/>
                  </a:lnTo>
                  <a:lnTo>
                    <a:pt x="340" y="30"/>
                  </a:lnTo>
                  <a:lnTo>
                    <a:pt x="336" y="22"/>
                  </a:lnTo>
                  <a:lnTo>
                    <a:pt x="332" y="14"/>
                  </a:lnTo>
                  <a:lnTo>
                    <a:pt x="332" y="14"/>
                  </a:lnTo>
                  <a:lnTo>
                    <a:pt x="318" y="8"/>
                  </a:lnTo>
                  <a:lnTo>
                    <a:pt x="304" y="4"/>
                  </a:lnTo>
                  <a:lnTo>
                    <a:pt x="290" y="2"/>
                  </a:lnTo>
                  <a:lnTo>
                    <a:pt x="274" y="0"/>
                  </a:lnTo>
                  <a:lnTo>
                    <a:pt x="244" y="2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208" y="4"/>
                  </a:lnTo>
                  <a:lnTo>
                    <a:pt x="206" y="6"/>
                  </a:lnTo>
                  <a:lnTo>
                    <a:pt x="202" y="12"/>
                  </a:lnTo>
                  <a:lnTo>
                    <a:pt x="196" y="14"/>
                  </a:lnTo>
                  <a:lnTo>
                    <a:pt x="196" y="14"/>
                  </a:lnTo>
                  <a:lnTo>
                    <a:pt x="186" y="22"/>
                  </a:lnTo>
                  <a:lnTo>
                    <a:pt x="178" y="30"/>
                  </a:lnTo>
                  <a:lnTo>
                    <a:pt x="170" y="38"/>
                  </a:lnTo>
                  <a:lnTo>
                    <a:pt x="164" y="50"/>
                  </a:lnTo>
                  <a:lnTo>
                    <a:pt x="158" y="72"/>
                  </a:lnTo>
                  <a:lnTo>
                    <a:pt x="152" y="96"/>
                  </a:lnTo>
                  <a:lnTo>
                    <a:pt x="148" y="108"/>
                  </a:lnTo>
                  <a:lnTo>
                    <a:pt x="148" y="108"/>
                  </a:lnTo>
                  <a:lnTo>
                    <a:pt x="146" y="108"/>
                  </a:lnTo>
                  <a:lnTo>
                    <a:pt x="148" y="108"/>
                  </a:lnTo>
                  <a:lnTo>
                    <a:pt x="142" y="114"/>
                  </a:lnTo>
                  <a:lnTo>
                    <a:pt x="142" y="114"/>
                  </a:lnTo>
                  <a:lnTo>
                    <a:pt x="140" y="120"/>
                  </a:lnTo>
                  <a:lnTo>
                    <a:pt x="138" y="126"/>
                  </a:lnTo>
                  <a:lnTo>
                    <a:pt x="138" y="140"/>
                  </a:lnTo>
                  <a:lnTo>
                    <a:pt x="138" y="152"/>
                  </a:lnTo>
                  <a:lnTo>
                    <a:pt x="136" y="166"/>
                  </a:lnTo>
                  <a:lnTo>
                    <a:pt x="136" y="166"/>
                  </a:lnTo>
                  <a:lnTo>
                    <a:pt x="132" y="182"/>
                  </a:lnTo>
                  <a:lnTo>
                    <a:pt x="128" y="198"/>
                  </a:lnTo>
                  <a:lnTo>
                    <a:pt x="124" y="230"/>
                  </a:lnTo>
                  <a:lnTo>
                    <a:pt x="122" y="264"/>
                  </a:lnTo>
                  <a:lnTo>
                    <a:pt x="118" y="298"/>
                  </a:lnTo>
                  <a:lnTo>
                    <a:pt x="118" y="298"/>
                  </a:lnTo>
                  <a:lnTo>
                    <a:pt x="104" y="366"/>
                  </a:lnTo>
                  <a:lnTo>
                    <a:pt x="88" y="432"/>
                  </a:lnTo>
                  <a:lnTo>
                    <a:pt x="88" y="432"/>
                  </a:lnTo>
                  <a:lnTo>
                    <a:pt x="88" y="430"/>
                  </a:lnTo>
                  <a:lnTo>
                    <a:pt x="78" y="444"/>
                  </a:lnTo>
                  <a:lnTo>
                    <a:pt x="78" y="444"/>
                  </a:lnTo>
                  <a:lnTo>
                    <a:pt x="70" y="450"/>
                  </a:lnTo>
                  <a:lnTo>
                    <a:pt x="60" y="452"/>
                  </a:lnTo>
                  <a:lnTo>
                    <a:pt x="56" y="452"/>
                  </a:lnTo>
                  <a:lnTo>
                    <a:pt x="56" y="452"/>
                  </a:lnTo>
                  <a:lnTo>
                    <a:pt x="26" y="452"/>
                  </a:lnTo>
                  <a:lnTo>
                    <a:pt x="26" y="452"/>
                  </a:lnTo>
                  <a:lnTo>
                    <a:pt x="22" y="472"/>
                  </a:lnTo>
                  <a:lnTo>
                    <a:pt x="20" y="478"/>
                  </a:lnTo>
                  <a:lnTo>
                    <a:pt x="20" y="478"/>
                  </a:lnTo>
                  <a:lnTo>
                    <a:pt x="14" y="486"/>
                  </a:lnTo>
                  <a:lnTo>
                    <a:pt x="6" y="492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84" y="494"/>
                  </a:lnTo>
                  <a:lnTo>
                    <a:pt x="84" y="494"/>
                  </a:lnTo>
                  <a:lnTo>
                    <a:pt x="96" y="494"/>
                  </a:lnTo>
                  <a:lnTo>
                    <a:pt x="110" y="496"/>
                  </a:lnTo>
                  <a:lnTo>
                    <a:pt x="122" y="498"/>
                  </a:lnTo>
                  <a:lnTo>
                    <a:pt x="134" y="500"/>
                  </a:lnTo>
                  <a:lnTo>
                    <a:pt x="134" y="500"/>
                  </a:lnTo>
                  <a:lnTo>
                    <a:pt x="348" y="502"/>
                  </a:lnTo>
                  <a:lnTo>
                    <a:pt x="562" y="500"/>
                  </a:lnTo>
                  <a:lnTo>
                    <a:pt x="562" y="500"/>
                  </a:lnTo>
                  <a:lnTo>
                    <a:pt x="550" y="490"/>
                  </a:lnTo>
                  <a:lnTo>
                    <a:pt x="542" y="476"/>
                  </a:lnTo>
                  <a:lnTo>
                    <a:pt x="540" y="474"/>
                  </a:lnTo>
                  <a:lnTo>
                    <a:pt x="540" y="474"/>
                  </a:lnTo>
                  <a:lnTo>
                    <a:pt x="538" y="468"/>
                  </a:lnTo>
                  <a:lnTo>
                    <a:pt x="536" y="460"/>
                  </a:lnTo>
                  <a:lnTo>
                    <a:pt x="536" y="456"/>
                  </a:lnTo>
                  <a:lnTo>
                    <a:pt x="536" y="456"/>
                  </a:lnTo>
                  <a:lnTo>
                    <a:pt x="536" y="452"/>
                  </a:lnTo>
                  <a:lnTo>
                    <a:pt x="536" y="452"/>
                  </a:lnTo>
                  <a:lnTo>
                    <a:pt x="502" y="452"/>
                  </a:lnTo>
                  <a:lnTo>
                    <a:pt x="484" y="450"/>
                  </a:lnTo>
                  <a:lnTo>
                    <a:pt x="468" y="446"/>
                  </a:lnTo>
                  <a:lnTo>
                    <a:pt x="456" y="434"/>
                  </a:lnTo>
                  <a:lnTo>
                    <a:pt x="456" y="434"/>
                  </a:lnTo>
                  <a:lnTo>
                    <a:pt x="452" y="426"/>
                  </a:lnTo>
                  <a:lnTo>
                    <a:pt x="450" y="418"/>
                  </a:lnTo>
                  <a:lnTo>
                    <a:pt x="450" y="414"/>
                  </a:lnTo>
                  <a:lnTo>
                    <a:pt x="450" y="414"/>
                  </a:lnTo>
                  <a:lnTo>
                    <a:pt x="454" y="420"/>
                  </a:lnTo>
                  <a:lnTo>
                    <a:pt x="454" y="420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>
              <a:off x="3387600" y="7092720"/>
              <a:ext cx="581040" cy="5364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66" h="338">
                  <a:moveTo>
                    <a:pt x="80" y="6"/>
                  </a:moveTo>
                  <a:lnTo>
                    <a:pt x="78" y="6"/>
                  </a:lnTo>
                  <a:lnTo>
                    <a:pt x="78" y="12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8" y="22"/>
                  </a:lnTo>
                  <a:lnTo>
                    <a:pt x="94" y="26"/>
                  </a:lnTo>
                  <a:lnTo>
                    <a:pt x="100" y="32"/>
                  </a:lnTo>
                  <a:lnTo>
                    <a:pt x="106" y="36"/>
                  </a:lnTo>
                  <a:lnTo>
                    <a:pt x="110" y="40"/>
                  </a:lnTo>
                  <a:lnTo>
                    <a:pt x="110" y="40"/>
                  </a:lnTo>
                  <a:lnTo>
                    <a:pt x="116" y="50"/>
                  </a:lnTo>
                  <a:lnTo>
                    <a:pt x="118" y="60"/>
                  </a:lnTo>
                  <a:lnTo>
                    <a:pt x="116" y="70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08" y="78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60" y="104"/>
                  </a:lnTo>
                  <a:lnTo>
                    <a:pt x="36" y="116"/>
                  </a:lnTo>
                  <a:lnTo>
                    <a:pt x="24" y="124"/>
                  </a:lnTo>
                  <a:lnTo>
                    <a:pt x="16" y="134"/>
                  </a:lnTo>
                  <a:lnTo>
                    <a:pt x="6" y="144"/>
                  </a:lnTo>
                  <a:lnTo>
                    <a:pt x="0" y="156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20" y="168"/>
                  </a:lnTo>
                  <a:lnTo>
                    <a:pt x="38" y="178"/>
                  </a:lnTo>
                  <a:lnTo>
                    <a:pt x="58" y="182"/>
                  </a:lnTo>
                  <a:lnTo>
                    <a:pt x="78" y="184"/>
                  </a:lnTo>
                  <a:lnTo>
                    <a:pt x="78" y="184"/>
                  </a:lnTo>
                  <a:lnTo>
                    <a:pt x="78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98" y="186"/>
                  </a:lnTo>
                  <a:lnTo>
                    <a:pt x="106" y="192"/>
                  </a:lnTo>
                  <a:lnTo>
                    <a:pt x="112" y="200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2" y="216"/>
                  </a:lnTo>
                  <a:lnTo>
                    <a:pt x="110" y="222"/>
                  </a:lnTo>
                  <a:lnTo>
                    <a:pt x="108" y="226"/>
                  </a:lnTo>
                  <a:lnTo>
                    <a:pt x="104" y="232"/>
                  </a:lnTo>
                  <a:lnTo>
                    <a:pt x="82" y="244"/>
                  </a:lnTo>
                  <a:lnTo>
                    <a:pt x="82" y="244"/>
                  </a:lnTo>
                  <a:lnTo>
                    <a:pt x="70" y="254"/>
                  </a:lnTo>
                  <a:lnTo>
                    <a:pt x="60" y="266"/>
                  </a:lnTo>
                  <a:lnTo>
                    <a:pt x="56" y="274"/>
                  </a:lnTo>
                  <a:lnTo>
                    <a:pt x="56" y="280"/>
                  </a:lnTo>
                  <a:lnTo>
                    <a:pt x="56" y="286"/>
                  </a:lnTo>
                  <a:lnTo>
                    <a:pt x="60" y="294"/>
                  </a:lnTo>
                  <a:lnTo>
                    <a:pt x="60" y="294"/>
                  </a:lnTo>
                  <a:lnTo>
                    <a:pt x="68" y="300"/>
                  </a:lnTo>
                  <a:lnTo>
                    <a:pt x="76" y="306"/>
                  </a:lnTo>
                  <a:lnTo>
                    <a:pt x="86" y="310"/>
                  </a:lnTo>
                  <a:lnTo>
                    <a:pt x="96" y="312"/>
                  </a:lnTo>
                  <a:lnTo>
                    <a:pt x="106" y="312"/>
                  </a:lnTo>
                  <a:lnTo>
                    <a:pt x="116" y="310"/>
                  </a:lnTo>
                  <a:lnTo>
                    <a:pt x="126" y="306"/>
                  </a:lnTo>
                  <a:lnTo>
                    <a:pt x="134" y="298"/>
                  </a:lnTo>
                  <a:lnTo>
                    <a:pt x="144" y="294"/>
                  </a:lnTo>
                  <a:lnTo>
                    <a:pt x="144" y="294"/>
                  </a:lnTo>
                  <a:lnTo>
                    <a:pt x="152" y="290"/>
                  </a:lnTo>
                  <a:lnTo>
                    <a:pt x="162" y="290"/>
                  </a:lnTo>
                  <a:lnTo>
                    <a:pt x="172" y="294"/>
                  </a:lnTo>
                  <a:lnTo>
                    <a:pt x="178" y="302"/>
                  </a:lnTo>
                  <a:lnTo>
                    <a:pt x="178" y="302"/>
                  </a:lnTo>
                  <a:lnTo>
                    <a:pt x="182" y="310"/>
                  </a:lnTo>
                  <a:lnTo>
                    <a:pt x="184" y="314"/>
                  </a:lnTo>
                  <a:lnTo>
                    <a:pt x="184" y="314"/>
                  </a:lnTo>
                  <a:lnTo>
                    <a:pt x="184" y="322"/>
                  </a:lnTo>
                  <a:lnTo>
                    <a:pt x="182" y="330"/>
                  </a:lnTo>
                  <a:lnTo>
                    <a:pt x="180" y="338"/>
                  </a:lnTo>
                  <a:lnTo>
                    <a:pt x="180" y="338"/>
                  </a:lnTo>
                  <a:lnTo>
                    <a:pt x="182" y="330"/>
                  </a:lnTo>
                  <a:lnTo>
                    <a:pt x="182" y="330"/>
                  </a:lnTo>
                  <a:lnTo>
                    <a:pt x="194" y="330"/>
                  </a:lnTo>
                  <a:lnTo>
                    <a:pt x="204" y="326"/>
                  </a:lnTo>
                  <a:lnTo>
                    <a:pt x="214" y="322"/>
                  </a:lnTo>
                  <a:lnTo>
                    <a:pt x="224" y="316"/>
                  </a:lnTo>
                  <a:lnTo>
                    <a:pt x="234" y="308"/>
                  </a:lnTo>
                  <a:lnTo>
                    <a:pt x="242" y="300"/>
                  </a:lnTo>
                  <a:lnTo>
                    <a:pt x="248" y="292"/>
                  </a:lnTo>
                  <a:lnTo>
                    <a:pt x="254" y="282"/>
                  </a:lnTo>
                  <a:lnTo>
                    <a:pt x="254" y="282"/>
                  </a:lnTo>
                  <a:lnTo>
                    <a:pt x="246" y="264"/>
                  </a:lnTo>
                  <a:lnTo>
                    <a:pt x="240" y="244"/>
                  </a:lnTo>
                  <a:lnTo>
                    <a:pt x="238" y="224"/>
                  </a:lnTo>
                  <a:lnTo>
                    <a:pt x="236" y="204"/>
                  </a:lnTo>
                  <a:lnTo>
                    <a:pt x="238" y="184"/>
                  </a:lnTo>
                  <a:lnTo>
                    <a:pt x="242" y="166"/>
                  </a:lnTo>
                  <a:lnTo>
                    <a:pt x="250" y="146"/>
                  </a:lnTo>
                  <a:lnTo>
                    <a:pt x="258" y="130"/>
                  </a:lnTo>
                  <a:lnTo>
                    <a:pt x="258" y="130"/>
                  </a:lnTo>
                  <a:lnTo>
                    <a:pt x="268" y="118"/>
                  </a:lnTo>
                  <a:lnTo>
                    <a:pt x="280" y="106"/>
                  </a:lnTo>
                  <a:lnTo>
                    <a:pt x="290" y="98"/>
                  </a:lnTo>
                  <a:lnTo>
                    <a:pt x="304" y="90"/>
                  </a:lnTo>
                  <a:lnTo>
                    <a:pt x="318" y="84"/>
                  </a:lnTo>
                  <a:lnTo>
                    <a:pt x="332" y="82"/>
                  </a:lnTo>
                  <a:lnTo>
                    <a:pt x="348" y="80"/>
                  </a:lnTo>
                  <a:lnTo>
                    <a:pt x="364" y="80"/>
                  </a:lnTo>
                  <a:lnTo>
                    <a:pt x="364" y="80"/>
                  </a:lnTo>
                  <a:lnTo>
                    <a:pt x="366" y="66"/>
                  </a:lnTo>
                  <a:lnTo>
                    <a:pt x="366" y="66"/>
                  </a:lnTo>
                  <a:lnTo>
                    <a:pt x="344" y="52"/>
                  </a:lnTo>
                  <a:lnTo>
                    <a:pt x="320" y="42"/>
                  </a:lnTo>
                  <a:lnTo>
                    <a:pt x="296" y="32"/>
                  </a:lnTo>
                  <a:lnTo>
                    <a:pt x="272" y="24"/>
                  </a:lnTo>
                  <a:lnTo>
                    <a:pt x="248" y="18"/>
                  </a:lnTo>
                  <a:lnTo>
                    <a:pt x="222" y="12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48" y="0"/>
                  </a:lnTo>
                  <a:lnTo>
                    <a:pt x="124" y="0"/>
                  </a:lnTo>
                  <a:lnTo>
                    <a:pt x="102" y="2"/>
                  </a:lnTo>
                  <a:lnTo>
                    <a:pt x="80" y="6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>
              <a:off x="5149800" y="8575560"/>
              <a:ext cx="4114800" cy="88560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592" h="558">
                  <a:moveTo>
                    <a:pt x="1968" y="158"/>
                  </a:moveTo>
                  <a:lnTo>
                    <a:pt x="1968" y="158"/>
                  </a:lnTo>
                  <a:lnTo>
                    <a:pt x="1958" y="168"/>
                  </a:lnTo>
                  <a:lnTo>
                    <a:pt x="1958" y="168"/>
                  </a:lnTo>
                  <a:lnTo>
                    <a:pt x="1944" y="182"/>
                  </a:lnTo>
                  <a:lnTo>
                    <a:pt x="1928" y="190"/>
                  </a:lnTo>
                  <a:lnTo>
                    <a:pt x="1912" y="198"/>
                  </a:lnTo>
                  <a:lnTo>
                    <a:pt x="1894" y="204"/>
                  </a:lnTo>
                  <a:lnTo>
                    <a:pt x="1858" y="214"/>
                  </a:lnTo>
                  <a:lnTo>
                    <a:pt x="1822" y="226"/>
                  </a:lnTo>
                  <a:lnTo>
                    <a:pt x="1822" y="226"/>
                  </a:lnTo>
                  <a:lnTo>
                    <a:pt x="1798" y="226"/>
                  </a:lnTo>
                  <a:lnTo>
                    <a:pt x="1776" y="228"/>
                  </a:lnTo>
                  <a:lnTo>
                    <a:pt x="1776" y="228"/>
                  </a:lnTo>
                  <a:lnTo>
                    <a:pt x="1738" y="230"/>
                  </a:lnTo>
                  <a:lnTo>
                    <a:pt x="1700" y="226"/>
                  </a:lnTo>
                  <a:lnTo>
                    <a:pt x="1660" y="220"/>
                  </a:lnTo>
                  <a:lnTo>
                    <a:pt x="1624" y="210"/>
                  </a:lnTo>
                  <a:lnTo>
                    <a:pt x="1624" y="210"/>
                  </a:lnTo>
                  <a:lnTo>
                    <a:pt x="1596" y="202"/>
                  </a:lnTo>
                  <a:lnTo>
                    <a:pt x="1570" y="192"/>
                  </a:lnTo>
                  <a:lnTo>
                    <a:pt x="1556" y="186"/>
                  </a:lnTo>
                  <a:lnTo>
                    <a:pt x="1544" y="178"/>
                  </a:lnTo>
                  <a:lnTo>
                    <a:pt x="1534" y="170"/>
                  </a:lnTo>
                  <a:lnTo>
                    <a:pt x="1524" y="160"/>
                  </a:lnTo>
                  <a:lnTo>
                    <a:pt x="1524" y="160"/>
                  </a:lnTo>
                  <a:lnTo>
                    <a:pt x="1518" y="148"/>
                  </a:lnTo>
                  <a:lnTo>
                    <a:pt x="1512" y="136"/>
                  </a:lnTo>
                  <a:lnTo>
                    <a:pt x="1506" y="112"/>
                  </a:lnTo>
                  <a:lnTo>
                    <a:pt x="1500" y="88"/>
                  </a:lnTo>
                  <a:lnTo>
                    <a:pt x="1494" y="64"/>
                  </a:lnTo>
                  <a:lnTo>
                    <a:pt x="1494" y="64"/>
                  </a:lnTo>
                  <a:lnTo>
                    <a:pt x="1488" y="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54" y="14"/>
                  </a:lnTo>
                  <a:lnTo>
                    <a:pt x="348" y="26"/>
                  </a:lnTo>
                  <a:lnTo>
                    <a:pt x="340" y="38"/>
                  </a:lnTo>
                  <a:lnTo>
                    <a:pt x="330" y="48"/>
                  </a:lnTo>
                  <a:lnTo>
                    <a:pt x="318" y="54"/>
                  </a:lnTo>
                  <a:lnTo>
                    <a:pt x="306" y="60"/>
                  </a:lnTo>
                  <a:lnTo>
                    <a:pt x="294" y="66"/>
                  </a:lnTo>
                  <a:lnTo>
                    <a:pt x="280" y="68"/>
                  </a:lnTo>
                  <a:lnTo>
                    <a:pt x="280" y="68"/>
                  </a:lnTo>
                  <a:lnTo>
                    <a:pt x="276" y="70"/>
                  </a:lnTo>
                  <a:lnTo>
                    <a:pt x="270" y="74"/>
                  </a:lnTo>
                  <a:lnTo>
                    <a:pt x="264" y="74"/>
                  </a:lnTo>
                  <a:lnTo>
                    <a:pt x="258" y="74"/>
                  </a:lnTo>
                  <a:lnTo>
                    <a:pt x="258" y="74"/>
                  </a:lnTo>
                  <a:lnTo>
                    <a:pt x="256" y="74"/>
                  </a:lnTo>
                  <a:lnTo>
                    <a:pt x="256" y="74"/>
                  </a:lnTo>
                  <a:lnTo>
                    <a:pt x="254" y="76"/>
                  </a:lnTo>
                  <a:lnTo>
                    <a:pt x="254" y="76"/>
                  </a:lnTo>
                  <a:lnTo>
                    <a:pt x="244" y="86"/>
                  </a:lnTo>
                  <a:lnTo>
                    <a:pt x="230" y="96"/>
                  </a:lnTo>
                  <a:lnTo>
                    <a:pt x="230" y="96"/>
                  </a:lnTo>
                  <a:lnTo>
                    <a:pt x="236" y="114"/>
                  </a:lnTo>
                  <a:lnTo>
                    <a:pt x="240" y="132"/>
                  </a:lnTo>
                  <a:lnTo>
                    <a:pt x="240" y="150"/>
                  </a:lnTo>
                  <a:lnTo>
                    <a:pt x="236" y="166"/>
                  </a:lnTo>
                  <a:lnTo>
                    <a:pt x="236" y="166"/>
                  </a:lnTo>
                  <a:lnTo>
                    <a:pt x="230" y="178"/>
                  </a:lnTo>
                  <a:lnTo>
                    <a:pt x="224" y="190"/>
                  </a:lnTo>
                  <a:lnTo>
                    <a:pt x="216" y="200"/>
                  </a:lnTo>
                  <a:lnTo>
                    <a:pt x="206" y="210"/>
                  </a:lnTo>
                  <a:lnTo>
                    <a:pt x="198" y="218"/>
                  </a:lnTo>
                  <a:lnTo>
                    <a:pt x="186" y="224"/>
                  </a:lnTo>
                  <a:lnTo>
                    <a:pt x="164" y="234"/>
                  </a:lnTo>
                  <a:lnTo>
                    <a:pt x="138" y="242"/>
                  </a:lnTo>
                  <a:lnTo>
                    <a:pt x="112" y="244"/>
                  </a:lnTo>
                  <a:lnTo>
                    <a:pt x="86" y="242"/>
                  </a:lnTo>
                  <a:lnTo>
                    <a:pt x="62" y="236"/>
                  </a:lnTo>
                  <a:lnTo>
                    <a:pt x="62" y="236"/>
                  </a:lnTo>
                  <a:lnTo>
                    <a:pt x="58" y="248"/>
                  </a:lnTo>
                  <a:lnTo>
                    <a:pt x="54" y="258"/>
                  </a:lnTo>
                  <a:lnTo>
                    <a:pt x="48" y="266"/>
                  </a:lnTo>
                  <a:lnTo>
                    <a:pt x="42" y="274"/>
                  </a:lnTo>
                  <a:lnTo>
                    <a:pt x="32" y="282"/>
                  </a:lnTo>
                  <a:lnTo>
                    <a:pt x="22" y="286"/>
                  </a:lnTo>
                  <a:lnTo>
                    <a:pt x="12" y="290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6"/>
                  </a:lnTo>
                  <a:lnTo>
                    <a:pt x="530" y="306"/>
                  </a:lnTo>
                  <a:lnTo>
                    <a:pt x="530" y="306"/>
                  </a:lnTo>
                  <a:lnTo>
                    <a:pt x="538" y="294"/>
                  </a:lnTo>
                  <a:lnTo>
                    <a:pt x="546" y="282"/>
                  </a:lnTo>
                  <a:lnTo>
                    <a:pt x="554" y="270"/>
                  </a:lnTo>
                  <a:lnTo>
                    <a:pt x="566" y="260"/>
                  </a:lnTo>
                  <a:lnTo>
                    <a:pt x="576" y="252"/>
                  </a:lnTo>
                  <a:lnTo>
                    <a:pt x="588" y="246"/>
                  </a:lnTo>
                  <a:lnTo>
                    <a:pt x="602" y="240"/>
                  </a:lnTo>
                  <a:lnTo>
                    <a:pt x="616" y="236"/>
                  </a:lnTo>
                  <a:lnTo>
                    <a:pt x="616" y="236"/>
                  </a:lnTo>
                  <a:lnTo>
                    <a:pt x="654" y="230"/>
                  </a:lnTo>
                  <a:lnTo>
                    <a:pt x="672" y="230"/>
                  </a:lnTo>
                  <a:lnTo>
                    <a:pt x="692" y="230"/>
                  </a:lnTo>
                  <a:lnTo>
                    <a:pt x="710" y="232"/>
                  </a:lnTo>
                  <a:lnTo>
                    <a:pt x="728" y="236"/>
                  </a:lnTo>
                  <a:lnTo>
                    <a:pt x="746" y="240"/>
                  </a:lnTo>
                  <a:lnTo>
                    <a:pt x="762" y="248"/>
                  </a:lnTo>
                  <a:lnTo>
                    <a:pt x="762" y="248"/>
                  </a:lnTo>
                  <a:lnTo>
                    <a:pt x="776" y="262"/>
                  </a:lnTo>
                  <a:lnTo>
                    <a:pt x="790" y="276"/>
                  </a:lnTo>
                  <a:lnTo>
                    <a:pt x="802" y="290"/>
                  </a:lnTo>
                  <a:lnTo>
                    <a:pt x="812" y="306"/>
                  </a:lnTo>
                  <a:lnTo>
                    <a:pt x="2136" y="306"/>
                  </a:lnTo>
                  <a:lnTo>
                    <a:pt x="2136" y="306"/>
                  </a:lnTo>
                  <a:lnTo>
                    <a:pt x="2152" y="306"/>
                  </a:lnTo>
                  <a:lnTo>
                    <a:pt x="2168" y="310"/>
                  </a:lnTo>
                  <a:lnTo>
                    <a:pt x="2184" y="314"/>
                  </a:lnTo>
                  <a:lnTo>
                    <a:pt x="2200" y="320"/>
                  </a:lnTo>
                  <a:lnTo>
                    <a:pt x="2218" y="328"/>
                  </a:lnTo>
                  <a:lnTo>
                    <a:pt x="2234" y="338"/>
                  </a:lnTo>
                  <a:lnTo>
                    <a:pt x="2252" y="348"/>
                  </a:lnTo>
                  <a:lnTo>
                    <a:pt x="2268" y="360"/>
                  </a:lnTo>
                  <a:lnTo>
                    <a:pt x="2300" y="388"/>
                  </a:lnTo>
                  <a:lnTo>
                    <a:pt x="2328" y="420"/>
                  </a:lnTo>
                  <a:lnTo>
                    <a:pt x="2342" y="436"/>
                  </a:lnTo>
                  <a:lnTo>
                    <a:pt x="2354" y="454"/>
                  </a:lnTo>
                  <a:lnTo>
                    <a:pt x="2366" y="474"/>
                  </a:lnTo>
                  <a:lnTo>
                    <a:pt x="2376" y="494"/>
                  </a:lnTo>
                  <a:lnTo>
                    <a:pt x="2376" y="494"/>
                  </a:lnTo>
                  <a:lnTo>
                    <a:pt x="2408" y="558"/>
                  </a:lnTo>
                  <a:lnTo>
                    <a:pt x="2518" y="558"/>
                  </a:lnTo>
                  <a:lnTo>
                    <a:pt x="2518" y="558"/>
                  </a:lnTo>
                  <a:lnTo>
                    <a:pt x="2542" y="556"/>
                  </a:lnTo>
                  <a:lnTo>
                    <a:pt x="2564" y="552"/>
                  </a:lnTo>
                  <a:lnTo>
                    <a:pt x="2572" y="548"/>
                  </a:lnTo>
                  <a:lnTo>
                    <a:pt x="2580" y="542"/>
                  </a:lnTo>
                  <a:lnTo>
                    <a:pt x="2586" y="538"/>
                  </a:lnTo>
                  <a:lnTo>
                    <a:pt x="2590" y="532"/>
                  </a:lnTo>
                  <a:lnTo>
                    <a:pt x="2590" y="532"/>
                  </a:lnTo>
                  <a:lnTo>
                    <a:pt x="2592" y="526"/>
                  </a:lnTo>
                  <a:lnTo>
                    <a:pt x="2592" y="520"/>
                  </a:lnTo>
                  <a:lnTo>
                    <a:pt x="2592" y="506"/>
                  </a:lnTo>
                  <a:lnTo>
                    <a:pt x="2586" y="490"/>
                  </a:lnTo>
                  <a:lnTo>
                    <a:pt x="2578" y="474"/>
                  </a:lnTo>
                  <a:lnTo>
                    <a:pt x="2332" y="114"/>
                  </a:lnTo>
                  <a:lnTo>
                    <a:pt x="2332" y="114"/>
                  </a:lnTo>
                  <a:lnTo>
                    <a:pt x="2314" y="92"/>
                  </a:lnTo>
                  <a:lnTo>
                    <a:pt x="2292" y="70"/>
                  </a:lnTo>
                  <a:lnTo>
                    <a:pt x="2268" y="52"/>
                  </a:lnTo>
                  <a:lnTo>
                    <a:pt x="2242" y="34"/>
                  </a:lnTo>
                  <a:lnTo>
                    <a:pt x="2214" y="20"/>
                  </a:lnTo>
                  <a:lnTo>
                    <a:pt x="2188" y="10"/>
                  </a:lnTo>
                  <a:lnTo>
                    <a:pt x="2160" y="4"/>
                  </a:lnTo>
                  <a:lnTo>
                    <a:pt x="2136" y="0"/>
                  </a:lnTo>
                  <a:lnTo>
                    <a:pt x="2118" y="0"/>
                  </a:lnTo>
                  <a:lnTo>
                    <a:pt x="2118" y="0"/>
                  </a:lnTo>
                  <a:lnTo>
                    <a:pt x="2114" y="20"/>
                  </a:lnTo>
                  <a:lnTo>
                    <a:pt x="2106" y="40"/>
                  </a:lnTo>
                  <a:lnTo>
                    <a:pt x="2092" y="76"/>
                  </a:lnTo>
                  <a:lnTo>
                    <a:pt x="2092" y="76"/>
                  </a:lnTo>
                  <a:lnTo>
                    <a:pt x="2066" y="104"/>
                  </a:lnTo>
                  <a:lnTo>
                    <a:pt x="2052" y="118"/>
                  </a:lnTo>
                  <a:lnTo>
                    <a:pt x="2036" y="130"/>
                  </a:lnTo>
                  <a:lnTo>
                    <a:pt x="2022" y="142"/>
                  </a:lnTo>
                  <a:lnTo>
                    <a:pt x="2004" y="150"/>
                  </a:lnTo>
                  <a:lnTo>
                    <a:pt x="1986" y="156"/>
                  </a:lnTo>
                  <a:lnTo>
                    <a:pt x="1968" y="158"/>
                  </a:lnTo>
                  <a:lnTo>
                    <a:pt x="1968" y="158"/>
                  </a:lnTo>
                  <a:close/>
                </a:path>
              </a:pathLst>
            </a:custGeom>
            <a:solidFill>
              <a:srgbClr val="8f9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>
              <a:off x="6575400" y="9544320"/>
              <a:ext cx="91800" cy="114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8" h="72">
                  <a:moveTo>
                    <a:pt x="14" y="72"/>
                  </a:moveTo>
                  <a:lnTo>
                    <a:pt x="18" y="72"/>
                  </a:lnTo>
                  <a:lnTo>
                    <a:pt x="18" y="72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6" y="36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3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>
              <a:off x="3844800" y="7302240"/>
              <a:ext cx="123480" cy="253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78" h="160">
                  <a:moveTo>
                    <a:pt x="66" y="0"/>
                  </a:moveTo>
                  <a:lnTo>
                    <a:pt x="66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2" y="1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4" y="104"/>
                  </a:lnTo>
                  <a:lnTo>
                    <a:pt x="8" y="116"/>
                  </a:lnTo>
                  <a:lnTo>
                    <a:pt x="14" y="128"/>
                  </a:lnTo>
                  <a:lnTo>
                    <a:pt x="14" y="128"/>
                  </a:lnTo>
                  <a:lnTo>
                    <a:pt x="20" y="136"/>
                  </a:lnTo>
                  <a:lnTo>
                    <a:pt x="26" y="142"/>
                  </a:lnTo>
                  <a:lnTo>
                    <a:pt x="32" y="148"/>
                  </a:lnTo>
                  <a:lnTo>
                    <a:pt x="40" y="152"/>
                  </a:lnTo>
                  <a:lnTo>
                    <a:pt x="58" y="158"/>
                  </a:lnTo>
                  <a:lnTo>
                    <a:pt x="78" y="160"/>
                  </a:lnTo>
                  <a:lnTo>
                    <a:pt x="78" y="16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66" y="90"/>
                  </a:lnTo>
                  <a:lnTo>
                    <a:pt x="64" y="60"/>
                  </a:lnTo>
                  <a:lnTo>
                    <a:pt x="64" y="3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>
              <a:off x="5823000" y="9544320"/>
              <a:ext cx="72720" cy="114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6" h="72">
                  <a:moveTo>
                    <a:pt x="32" y="72"/>
                  </a:moveTo>
                  <a:lnTo>
                    <a:pt x="32" y="72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32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>
              <a:off x="4448160" y="8305920"/>
              <a:ext cx="1003320" cy="88560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632" h="558">
                  <a:moveTo>
                    <a:pt x="418" y="404"/>
                  </a:moveTo>
                  <a:lnTo>
                    <a:pt x="424" y="412"/>
                  </a:lnTo>
                  <a:lnTo>
                    <a:pt x="424" y="412"/>
                  </a:lnTo>
                  <a:lnTo>
                    <a:pt x="432" y="412"/>
                  </a:lnTo>
                  <a:lnTo>
                    <a:pt x="438" y="412"/>
                  </a:lnTo>
                  <a:lnTo>
                    <a:pt x="444" y="410"/>
                  </a:lnTo>
                  <a:lnTo>
                    <a:pt x="452" y="414"/>
                  </a:lnTo>
                  <a:lnTo>
                    <a:pt x="452" y="414"/>
                  </a:lnTo>
                  <a:lnTo>
                    <a:pt x="450" y="396"/>
                  </a:lnTo>
                  <a:lnTo>
                    <a:pt x="446" y="378"/>
                  </a:lnTo>
                  <a:lnTo>
                    <a:pt x="442" y="370"/>
                  </a:lnTo>
                  <a:lnTo>
                    <a:pt x="442" y="370"/>
                  </a:lnTo>
                  <a:lnTo>
                    <a:pt x="440" y="360"/>
                  </a:lnTo>
                  <a:lnTo>
                    <a:pt x="442" y="350"/>
                  </a:lnTo>
                  <a:lnTo>
                    <a:pt x="448" y="342"/>
                  </a:lnTo>
                  <a:lnTo>
                    <a:pt x="456" y="336"/>
                  </a:lnTo>
                  <a:lnTo>
                    <a:pt x="456" y="336"/>
                  </a:lnTo>
                  <a:lnTo>
                    <a:pt x="466" y="334"/>
                  </a:lnTo>
                  <a:lnTo>
                    <a:pt x="476" y="336"/>
                  </a:lnTo>
                  <a:lnTo>
                    <a:pt x="486" y="340"/>
                  </a:lnTo>
                  <a:lnTo>
                    <a:pt x="486" y="340"/>
                  </a:lnTo>
                  <a:lnTo>
                    <a:pt x="502" y="352"/>
                  </a:lnTo>
                  <a:lnTo>
                    <a:pt x="520" y="358"/>
                  </a:lnTo>
                  <a:lnTo>
                    <a:pt x="540" y="362"/>
                  </a:lnTo>
                  <a:lnTo>
                    <a:pt x="560" y="362"/>
                  </a:lnTo>
                  <a:lnTo>
                    <a:pt x="578" y="360"/>
                  </a:lnTo>
                  <a:lnTo>
                    <a:pt x="596" y="352"/>
                  </a:lnTo>
                  <a:lnTo>
                    <a:pt x="612" y="342"/>
                  </a:lnTo>
                  <a:lnTo>
                    <a:pt x="620" y="334"/>
                  </a:lnTo>
                  <a:lnTo>
                    <a:pt x="626" y="326"/>
                  </a:lnTo>
                  <a:lnTo>
                    <a:pt x="626" y="326"/>
                  </a:lnTo>
                  <a:lnTo>
                    <a:pt x="630" y="318"/>
                  </a:lnTo>
                  <a:lnTo>
                    <a:pt x="632" y="308"/>
                  </a:lnTo>
                  <a:lnTo>
                    <a:pt x="630" y="298"/>
                  </a:lnTo>
                  <a:lnTo>
                    <a:pt x="626" y="288"/>
                  </a:lnTo>
                  <a:lnTo>
                    <a:pt x="626" y="288"/>
                  </a:lnTo>
                  <a:lnTo>
                    <a:pt x="616" y="286"/>
                  </a:lnTo>
                  <a:lnTo>
                    <a:pt x="612" y="282"/>
                  </a:lnTo>
                  <a:lnTo>
                    <a:pt x="608" y="278"/>
                  </a:lnTo>
                  <a:lnTo>
                    <a:pt x="608" y="278"/>
                  </a:lnTo>
                  <a:lnTo>
                    <a:pt x="604" y="270"/>
                  </a:lnTo>
                  <a:lnTo>
                    <a:pt x="602" y="262"/>
                  </a:lnTo>
                  <a:lnTo>
                    <a:pt x="602" y="262"/>
                  </a:lnTo>
                  <a:lnTo>
                    <a:pt x="594" y="254"/>
                  </a:lnTo>
                  <a:lnTo>
                    <a:pt x="584" y="244"/>
                  </a:lnTo>
                  <a:lnTo>
                    <a:pt x="584" y="244"/>
                  </a:lnTo>
                  <a:lnTo>
                    <a:pt x="578" y="236"/>
                  </a:lnTo>
                  <a:lnTo>
                    <a:pt x="576" y="226"/>
                  </a:lnTo>
                  <a:lnTo>
                    <a:pt x="578" y="216"/>
                  </a:lnTo>
                  <a:lnTo>
                    <a:pt x="584" y="208"/>
                  </a:lnTo>
                  <a:lnTo>
                    <a:pt x="584" y="208"/>
                  </a:lnTo>
                  <a:lnTo>
                    <a:pt x="588" y="206"/>
                  </a:lnTo>
                  <a:lnTo>
                    <a:pt x="586" y="210"/>
                  </a:lnTo>
                  <a:lnTo>
                    <a:pt x="586" y="210"/>
                  </a:lnTo>
                  <a:lnTo>
                    <a:pt x="590" y="186"/>
                  </a:lnTo>
                  <a:lnTo>
                    <a:pt x="592" y="164"/>
                  </a:lnTo>
                  <a:lnTo>
                    <a:pt x="590" y="142"/>
                  </a:lnTo>
                  <a:lnTo>
                    <a:pt x="584" y="120"/>
                  </a:lnTo>
                  <a:lnTo>
                    <a:pt x="576" y="100"/>
                  </a:lnTo>
                  <a:lnTo>
                    <a:pt x="564" y="82"/>
                  </a:lnTo>
                  <a:lnTo>
                    <a:pt x="550" y="64"/>
                  </a:lnTo>
                  <a:lnTo>
                    <a:pt x="534" y="50"/>
                  </a:lnTo>
                  <a:lnTo>
                    <a:pt x="534" y="50"/>
                  </a:lnTo>
                  <a:lnTo>
                    <a:pt x="500" y="46"/>
                  </a:lnTo>
                  <a:lnTo>
                    <a:pt x="484" y="46"/>
                  </a:lnTo>
                  <a:lnTo>
                    <a:pt x="468" y="46"/>
                  </a:lnTo>
                  <a:lnTo>
                    <a:pt x="452" y="48"/>
                  </a:lnTo>
                  <a:lnTo>
                    <a:pt x="436" y="52"/>
                  </a:lnTo>
                  <a:lnTo>
                    <a:pt x="420" y="58"/>
                  </a:lnTo>
                  <a:lnTo>
                    <a:pt x="406" y="66"/>
                  </a:lnTo>
                  <a:lnTo>
                    <a:pt x="392" y="74"/>
                  </a:lnTo>
                  <a:lnTo>
                    <a:pt x="392" y="74"/>
                  </a:lnTo>
                  <a:lnTo>
                    <a:pt x="382" y="78"/>
                  </a:lnTo>
                  <a:lnTo>
                    <a:pt x="372" y="76"/>
                  </a:lnTo>
                  <a:lnTo>
                    <a:pt x="364" y="72"/>
                  </a:lnTo>
                  <a:lnTo>
                    <a:pt x="356" y="64"/>
                  </a:lnTo>
                  <a:lnTo>
                    <a:pt x="356" y="64"/>
                  </a:lnTo>
                  <a:lnTo>
                    <a:pt x="354" y="58"/>
                  </a:lnTo>
                  <a:lnTo>
                    <a:pt x="354" y="5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52" y="34"/>
                  </a:lnTo>
                  <a:lnTo>
                    <a:pt x="350" y="20"/>
                  </a:lnTo>
                  <a:lnTo>
                    <a:pt x="348" y="14"/>
                  </a:lnTo>
                  <a:lnTo>
                    <a:pt x="346" y="8"/>
                  </a:lnTo>
                  <a:lnTo>
                    <a:pt x="342" y="4"/>
                  </a:lnTo>
                  <a:lnTo>
                    <a:pt x="336" y="2"/>
                  </a:lnTo>
                  <a:lnTo>
                    <a:pt x="336" y="2"/>
                  </a:lnTo>
                  <a:lnTo>
                    <a:pt x="326" y="0"/>
                  </a:lnTo>
                  <a:lnTo>
                    <a:pt x="314" y="0"/>
                  </a:lnTo>
                  <a:lnTo>
                    <a:pt x="300" y="2"/>
                  </a:lnTo>
                  <a:lnTo>
                    <a:pt x="288" y="6"/>
                  </a:lnTo>
                  <a:lnTo>
                    <a:pt x="278" y="12"/>
                  </a:lnTo>
                  <a:lnTo>
                    <a:pt x="268" y="20"/>
                  </a:lnTo>
                  <a:lnTo>
                    <a:pt x="260" y="30"/>
                  </a:lnTo>
                  <a:lnTo>
                    <a:pt x="252" y="40"/>
                  </a:lnTo>
                  <a:lnTo>
                    <a:pt x="254" y="38"/>
                  </a:lnTo>
                  <a:lnTo>
                    <a:pt x="254" y="38"/>
                  </a:lnTo>
                  <a:lnTo>
                    <a:pt x="252" y="48"/>
                  </a:lnTo>
                  <a:lnTo>
                    <a:pt x="244" y="56"/>
                  </a:lnTo>
                  <a:lnTo>
                    <a:pt x="236" y="60"/>
                  </a:lnTo>
                  <a:lnTo>
                    <a:pt x="226" y="62"/>
                  </a:lnTo>
                  <a:lnTo>
                    <a:pt x="226" y="62"/>
                  </a:lnTo>
                  <a:lnTo>
                    <a:pt x="218" y="60"/>
                  </a:lnTo>
                  <a:lnTo>
                    <a:pt x="212" y="56"/>
                  </a:lnTo>
                  <a:lnTo>
                    <a:pt x="204" y="46"/>
                  </a:lnTo>
                  <a:lnTo>
                    <a:pt x="204" y="46"/>
                  </a:lnTo>
                  <a:lnTo>
                    <a:pt x="194" y="4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82" y="50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68" y="54"/>
                  </a:lnTo>
                  <a:lnTo>
                    <a:pt x="160" y="58"/>
                  </a:lnTo>
                  <a:lnTo>
                    <a:pt x="142" y="72"/>
                  </a:lnTo>
                  <a:lnTo>
                    <a:pt x="128" y="88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2" y="130"/>
                  </a:lnTo>
                  <a:lnTo>
                    <a:pt x="114" y="138"/>
                  </a:lnTo>
                  <a:lnTo>
                    <a:pt x="120" y="156"/>
                  </a:lnTo>
                  <a:lnTo>
                    <a:pt x="128" y="172"/>
                  </a:lnTo>
                  <a:lnTo>
                    <a:pt x="128" y="172"/>
                  </a:lnTo>
                  <a:lnTo>
                    <a:pt x="134" y="184"/>
                  </a:lnTo>
                  <a:lnTo>
                    <a:pt x="134" y="184"/>
                  </a:lnTo>
                  <a:lnTo>
                    <a:pt x="128" y="194"/>
                  </a:lnTo>
                  <a:lnTo>
                    <a:pt x="122" y="202"/>
                  </a:lnTo>
                  <a:lnTo>
                    <a:pt x="112" y="208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96" y="208"/>
                  </a:lnTo>
                  <a:lnTo>
                    <a:pt x="90" y="204"/>
                  </a:lnTo>
                  <a:lnTo>
                    <a:pt x="80" y="192"/>
                  </a:lnTo>
                  <a:lnTo>
                    <a:pt x="80" y="192"/>
                  </a:lnTo>
                  <a:lnTo>
                    <a:pt x="68" y="192"/>
                  </a:lnTo>
                  <a:lnTo>
                    <a:pt x="56" y="194"/>
                  </a:lnTo>
                  <a:lnTo>
                    <a:pt x="44" y="198"/>
                  </a:lnTo>
                  <a:lnTo>
                    <a:pt x="32" y="202"/>
                  </a:lnTo>
                  <a:lnTo>
                    <a:pt x="22" y="210"/>
                  </a:lnTo>
                  <a:lnTo>
                    <a:pt x="14" y="218"/>
                  </a:lnTo>
                  <a:lnTo>
                    <a:pt x="8" y="23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0" y="254"/>
                  </a:lnTo>
                  <a:lnTo>
                    <a:pt x="0" y="268"/>
                  </a:lnTo>
                  <a:lnTo>
                    <a:pt x="2" y="276"/>
                  </a:lnTo>
                  <a:lnTo>
                    <a:pt x="4" y="282"/>
                  </a:lnTo>
                  <a:lnTo>
                    <a:pt x="8" y="288"/>
                  </a:lnTo>
                  <a:lnTo>
                    <a:pt x="14" y="294"/>
                  </a:lnTo>
                  <a:lnTo>
                    <a:pt x="16" y="296"/>
                  </a:lnTo>
                  <a:lnTo>
                    <a:pt x="20" y="296"/>
                  </a:lnTo>
                  <a:lnTo>
                    <a:pt x="20" y="296"/>
                  </a:lnTo>
                  <a:lnTo>
                    <a:pt x="70" y="296"/>
                  </a:lnTo>
                  <a:lnTo>
                    <a:pt x="92" y="302"/>
                  </a:lnTo>
                  <a:lnTo>
                    <a:pt x="92" y="302"/>
                  </a:lnTo>
                  <a:lnTo>
                    <a:pt x="100" y="306"/>
                  </a:lnTo>
                  <a:lnTo>
                    <a:pt x="108" y="312"/>
                  </a:lnTo>
                  <a:lnTo>
                    <a:pt x="112" y="322"/>
                  </a:lnTo>
                  <a:lnTo>
                    <a:pt x="112" y="332"/>
                  </a:lnTo>
                  <a:lnTo>
                    <a:pt x="112" y="332"/>
                  </a:lnTo>
                  <a:lnTo>
                    <a:pt x="110" y="338"/>
                  </a:lnTo>
                  <a:lnTo>
                    <a:pt x="106" y="342"/>
                  </a:lnTo>
                  <a:lnTo>
                    <a:pt x="104" y="344"/>
                  </a:lnTo>
                  <a:lnTo>
                    <a:pt x="104" y="344"/>
                  </a:lnTo>
                  <a:lnTo>
                    <a:pt x="94" y="354"/>
                  </a:lnTo>
                  <a:lnTo>
                    <a:pt x="90" y="360"/>
                  </a:lnTo>
                  <a:lnTo>
                    <a:pt x="88" y="366"/>
                  </a:lnTo>
                  <a:lnTo>
                    <a:pt x="90" y="372"/>
                  </a:lnTo>
                  <a:lnTo>
                    <a:pt x="96" y="382"/>
                  </a:lnTo>
                  <a:lnTo>
                    <a:pt x="102" y="390"/>
                  </a:lnTo>
                  <a:lnTo>
                    <a:pt x="102" y="390"/>
                  </a:lnTo>
                  <a:lnTo>
                    <a:pt x="104" y="394"/>
                  </a:lnTo>
                  <a:lnTo>
                    <a:pt x="108" y="394"/>
                  </a:lnTo>
                  <a:lnTo>
                    <a:pt x="116" y="396"/>
                  </a:lnTo>
                  <a:lnTo>
                    <a:pt x="134" y="394"/>
                  </a:lnTo>
                  <a:lnTo>
                    <a:pt x="150" y="394"/>
                  </a:lnTo>
                  <a:lnTo>
                    <a:pt x="150" y="394"/>
                  </a:lnTo>
                  <a:lnTo>
                    <a:pt x="160" y="398"/>
                  </a:lnTo>
                  <a:lnTo>
                    <a:pt x="168" y="404"/>
                  </a:lnTo>
                  <a:lnTo>
                    <a:pt x="172" y="412"/>
                  </a:lnTo>
                  <a:lnTo>
                    <a:pt x="174" y="422"/>
                  </a:lnTo>
                  <a:lnTo>
                    <a:pt x="174" y="422"/>
                  </a:lnTo>
                  <a:lnTo>
                    <a:pt x="172" y="430"/>
                  </a:lnTo>
                  <a:lnTo>
                    <a:pt x="170" y="436"/>
                  </a:lnTo>
                  <a:lnTo>
                    <a:pt x="160" y="450"/>
                  </a:lnTo>
                  <a:lnTo>
                    <a:pt x="160" y="450"/>
                  </a:lnTo>
                  <a:lnTo>
                    <a:pt x="156" y="460"/>
                  </a:lnTo>
                  <a:lnTo>
                    <a:pt x="154" y="470"/>
                  </a:lnTo>
                  <a:lnTo>
                    <a:pt x="154" y="480"/>
                  </a:lnTo>
                  <a:lnTo>
                    <a:pt x="156" y="490"/>
                  </a:lnTo>
                  <a:lnTo>
                    <a:pt x="158" y="500"/>
                  </a:lnTo>
                  <a:lnTo>
                    <a:pt x="162" y="510"/>
                  </a:lnTo>
                  <a:lnTo>
                    <a:pt x="166" y="518"/>
                  </a:lnTo>
                  <a:lnTo>
                    <a:pt x="172" y="526"/>
                  </a:lnTo>
                  <a:lnTo>
                    <a:pt x="172" y="526"/>
                  </a:lnTo>
                  <a:lnTo>
                    <a:pt x="182" y="536"/>
                  </a:lnTo>
                  <a:lnTo>
                    <a:pt x="192" y="542"/>
                  </a:lnTo>
                  <a:lnTo>
                    <a:pt x="204" y="548"/>
                  </a:lnTo>
                  <a:lnTo>
                    <a:pt x="214" y="552"/>
                  </a:lnTo>
                  <a:lnTo>
                    <a:pt x="226" y="556"/>
                  </a:lnTo>
                  <a:lnTo>
                    <a:pt x="238" y="558"/>
                  </a:lnTo>
                  <a:lnTo>
                    <a:pt x="250" y="558"/>
                  </a:lnTo>
                  <a:lnTo>
                    <a:pt x="262" y="556"/>
                  </a:lnTo>
                  <a:lnTo>
                    <a:pt x="286" y="552"/>
                  </a:lnTo>
                  <a:lnTo>
                    <a:pt x="310" y="542"/>
                  </a:lnTo>
                  <a:lnTo>
                    <a:pt x="332" y="530"/>
                  </a:lnTo>
                  <a:lnTo>
                    <a:pt x="350" y="514"/>
                  </a:lnTo>
                  <a:lnTo>
                    <a:pt x="350" y="514"/>
                  </a:lnTo>
                  <a:lnTo>
                    <a:pt x="370" y="494"/>
                  </a:lnTo>
                  <a:lnTo>
                    <a:pt x="370" y="494"/>
                  </a:lnTo>
                  <a:lnTo>
                    <a:pt x="382" y="478"/>
                  </a:lnTo>
                  <a:lnTo>
                    <a:pt x="390" y="460"/>
                  </a:lnTo>
                  <a:lnTo>
                    <a:pt x="390" y="460"/>
                  </a:lnTo>
                  <a:lnTo>
                    <a:pt x="390" y="456"/>
                  </a:lnTo>
                  <a:lnTo>
                    <a:pt x="388" y="450"/>
                  </a:lnTo>
                  <a:lnTo>
                    <a:pt x="384" y="446"/>
                  </a:lnTo>
                  <a:lnTo>
                    <a:pt x="384" y="446"/>
                  </a:lnTo>
                  <a:lnTo>
                    <a:pt x="380" y="442"/>
                  </a:lnTo>
                  <a:lnTo>
                    <a:pt x="374" y="430"/>
                  </a:lnTo>
                  <a:lnTo>
                    <a:pt x="374" y="430"/>
                  </a:lnTo>
                  <a:lnTo>
                    <a:pt x="370" y="422"/>
                  </a:lnTo>
                  <a:lnTo>
                    <a:pt x="370" y="414"/>
                  </a:lnTo>
                  <a:lnTo>
                    <a:pt x="370" y="414"/>
                  </a:lnTo>
                  <a:lnTo>
                    <a:pt x="370" y="412"/>
                  </a:lnTo>
                  <a:lnTo>
                    <a:pt x="370" y="412"/>
                  </a:lnTo>
                  <a:lnTo>
                    <a:pt x="370" y="410"/>
                  </a:lnTo>
                  <a:lnTo>
                    <a:pt x="370" y="410"/>
                  </a:lnTo>
                  <a:lnTo>
                    <a:pt x="372" y="408"/>
                  </a:lnTo>
                  <a:lnTo>
                    <a:pt x="372" y="408"/>
                  </a:lnTo>
                  <a:lnTo>
                    <a:pt x="372" y="406"/>
                  </a:lnTo>
                  <a:lnTo>
                    <a:pt x="372" y="406"/>
                  </a:lnTo>
                  <a:lnTo>
                    <a:pt x="374" y="404"/>
                  </a:lnTo>
                  <a:lnTo>
                    <a:pt x="374" y="404"/>
                  </a:lnTo>
                  <a:lnTo>
                    <a:pt x="376" y="402"/>
                  </a:lnTo>
                  <a:lnTo>
                    <a:pt x="376" y="402"/>
                  </a:lnTo>
                  <a:lnTo>
                    <a:pt x="384" y="394"/>
                  </a:lnTo>
                  <a:lnTo>
                    <a:pt x="384" y="394"/>
                  </a:lnTo>
                  <a:lnTo>
                    <a:pt x="392" y="392"/>
                  </a:lnTo>
                  <a:lnTo>
                    <a:pt x="400" y="392"/>
                  </a:lnTo>
                  <a:lnTo>
                    <a:pt x="400" y="392"/>
                  </a:lnTo>
                  <a:lnTo>
                    <a:pt x="402" y="392"/>
                  </a:lnTo>
                  <a:lnTo>
                    <a:pt x="402" y="392"/>
                  </a:lnTo>
                  <a:lnTo>
                    <a:pt x="404" y="392"/>
                  </a:lnTo>
                  <a:lnTo>
                    <a:pt x="404" y="392"/>
                  </a:lnTo>
                  <a:lnTo>
                    <a:pt x="406" y="394"/>
                  </a:lnTo>
                  <a:lnTo>
                    <a:pt x="406" y="394"/>
                  </a:lnTo>
                  <a:lnTo>
                    <a:pt x="408" y="394"/>
                  </a:lnTo>
                  <a:lnTo>
                    <a:pt x="408" y="394"/>
                  </a:lnTo>
                  <a:lnTo>
                    <a:pt x="416" y="400"/>
                  </a:lnTo>
                  <a:lnTo>
                    <a:pt x="416" y="402"/>
                  </a:lnTo>
                  <a:lnTo>
                    <a:pt x="416" y="402"/>
                  </a:lnTo>
                  <a:lnTo>
                    <a:pt x="418" y="404"/>
                  </a:lnTo>
                  <a:lnTo>
                    <a:pt x="418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5"/>
            <p:cNvSpPr/>
            <p:nvPr/>
          </p:nvSpPr>
          <p:spPr>
            <a:xfrm>
              <a:off x="5692680" y="8385120"/>
              <a:ext cx="1809720" cy="10764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0" h="68">
                  <a:moveTo>
                    <a:pt x="22" y="32"/>
                  </a:moveTo>
                  <a:lnTo>
                    <a:pt x="22" y="32"/>
                  </a:lnTo>
                  <a:lnTo>
                    <a:pt x="18" y="42"/>
                  </a:lnTo>
                  <a:lnTo>
                    <a:pt x="12" y="50"/>
                  </a:lnTo>
                  <a:lnTo>
                    <a:pt x="6" y="6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40" y="68"/>
                  </a:lnTo>
                  <a:lnTo>
                    <a:pt x="1140" y="68"/>
                  </a:lnTo>
                  <a:lnTo>
                    <a:pt x="11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32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6"/>
            <p:cNvSpPr/>
            <p:nvPr/>
          </p:nvSpPr>
          <p:spPr>
            <a:xfrm>
              <a:off x="5423040" y="8083440"/>
              <a:ext cx="323640" cy="422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04" h="266">
                  <a:moveTo>
                    <a:pt x="112" y="0"/>
                  </a:moveTo>
                  <a:lnTo>
                    <a:pt x="112" y="0"/>
                  </a:lnTo>
                  <a:lnTo>
                    <a:pt x="102" y="40"/>
                  </a:lnTo>
                  <a:lnTo>
                    <a:pt x="88" y="78"/>
                  </a:lnTo>
                  <a:lnTo>
                    <a:pt x="70" y="114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38" y="164"/>
                  </a:lnTo>
                  <a:lnTo>
                    <a:pt x="26" y="178"/>
                  </a:lnTo>
                  <a:lnTo>
                    <a:pt x="14" y="19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8" y="216"/>
                  </a:lnTo>
                  <a:lnTo>
                    <a:pt x="16" y="232"/>
                  </a:lnTo>
                  <a:lnTo>
                    <a:pt x="22" y="248"/>
                  </a:lnTo>
                  <a:lnTo>
                    <a:pt x="26" y="266"/>
                  </a:lnTo>
                  <a:lnTo>
                    <a:pt x="34" y="258"/>
                  </a:lnTo>
                  <a:lnTo>
                    <a:pt x="34" y="258"/>
                  </a:lnTo>
                  <a:lnTo>
                    <a:pt x="46" y="250"/>
                  </a:lnTo>
                  <a:lnTo>
                    <a:pt x="58" y="242"/>
                  </a:lnTo>
                  <a:lnTo>
                    <a:pt x="72" y="236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106" y="228"/>
                  </a:lnTo>
                  <a:lnTo>
                    <a:pt x="124" y="232"/>
                  </a:lnTo>
                  <a:lnTo>
                    <a:pt x="124" y="232"/>
                  </a:lnTo>
                  <a:lnTo>
                    <a:pt x="138" y="208"/>
                  </a:lnTo>
                  <a:lnTo>
                    <a:pt x="150" y="186"/>
                  </a:lnTo>
                  <a:lnTo>
                    <a:pt x="160" y="164"/>
                  </a:lnTo>
                  <a:lnTo>
                    <a:pt x="170" y="140"/>
                  </a:lnTo>
                  <a:lnTo>
                    <a:pt x="186" y="92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196" y="26"/>
                  </a:lnTo>
                  <a:lnTo>
                    <a:pt x="196" y="26"/>
                  </a:lnTo>
                  <a:lnTo>
                    <a:pt x="188" y="18"/>
                  </a:lnTo>
                  <a:lnTo>
                    <a:pt x="178" y="12"/>
                  </a:lnTo>
                  <a:lnTo>
                    <a:pt x="168" y="8"/>
                  </a:lnTo>
                  <a:lnTo>
                    <a:pt x="156" y="4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7"/>
            <p:cNvSpPr/>
            <p:nvPr/>
          </p:nvSpPr>
          <p:spPr>
            <a:xfrm>
              <a:off x="5521320" y="8528040"/>
              <a:ext cx="114120" cy="79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2" h="50">
                  <a:moveTo>
                    <a:pt x="0" y="38"/>
                  </a:moveTo>
                  <a:lnTo>
                    <a:pt x="0" y="38"/>
                  </a:lnTo>
                  <a:lnTo>
                    <a:pt x="2" y="44"/>
                  </a:lnTo>
                  <a:lnTo>
                    <a:pt x="6" y="46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6" y="48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4"/>
                  </a:lnTo>
                  <a:lnTo>
                    <a:pt x="56" y="42"/>
                  </a:lnTo>
                  <a:lnTo>
                    <a:pt x="64" y="38"/>
                  </a:lnTo>
                  <a:lnTo>
                    <a:pt x="68" y="34"/>
                  </a:lnTo>
                  <a:lnTo>
                    <a:pt x="72" y="28"/>
                  </a:lnTo>
                  <a:lnTo>
                    <a:pt x="72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2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8"/>
            <p:cNvSpPr/>
            <p:nvPr/>
          </p:nvSpPr>
          <p:spPr>
            <a:xfrm>
              <a:off x="6804000" y="7988400"/>
              <a:ext cx="672840" cy="31428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24" h="198">
                  <a:moveTo>
                    <a:pt x="0" y="198"/>
                  </a:moveTo>
                  <a:lnTo>
                    <a:pt x="424" y="198"/>
                  </a:lnTo>
                  <a:lnTo>
                    <a:pt x="424" y="198"/>
                  </a:lnTo>
                  <a:lnTo>
                    <a:pt x="416" y="126"/>
                  </a:lnTo>
                  <a:lnTo>
                    <a:pt x="416" y="126"/>
                  </a:lnTo>
                  <a:lnTo>
                    <a:pt x="418" y="116"/>
                  </a:lnTo>
                  <a:lnTo>
                    <a:pt x="418" y="116"/>
                  </a:lnTo>
                  <a:lnTo>
                    <a:pt x="366" y="116"/>
                  </a:lnTo>
                  <a:lnTo>
                    <a:pt x="312" y="110"/>
                  </a:lnTo>
                  <a:lnTo>
                    <a:pt x="262" y="102"/>
                  </a:lnTo>
                  <a:lnTo>
                    <a:pt x="210" y="92"/>
                  </a:lnTo>
                  <a:lnTo>
                    <a:pt x="160" y="78"/>
                  </a:lnTo>
                  <a:lnTo>
                    <a:pt x="112" y="60"/>
                  </a:lnTo>
                  <a:lnTo>
                    <a:pt x="66" y="3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6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9"/>
            <p:cNvSpPr/>
            <p:nvPr/>
          </p:nvSpPr>
          <p:spPr>
            <a:xfrm>
              <a:off x="6505560" y="7740720"/>
              <a:ext cx="190440" cy="285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20" h="180">
                  <a:moveTo>
                    <a:pt x="36" y="0"/>
                  </a:moveTo>
                  <a:lnTo>
                    <a:pt x="36" y="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44" y="158"/>
                  </a:lnTo>
                  <a:lnTo>
                    <a:pt x="66" y="168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2" y="166"/>
                  </a:lnTo>
                  <a:lnTo>
                    <a:pt x="92" y="166"/>
                  </a:lnTo>
                  <a:lnTo>
                    <a:pt x="100" y="140"/>
                  </a:lnTo>
                  <a:lnTo>
                    <a:pt x="112" y="114"/>
                  </a:lnTo>
                  <a:lnTo>
                    <a:pt x="112" y="114"/>
                  </a:lnTo>
                  <a:lnTo>
                    <a:pt x="116" y="108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96" y="80"/>
                  </a:lnTo>
                  <a:lnTo>
                    <a:pt x="74" y="54"/>
                  </a:lnTo>
                  <a:lnTo>
                    <a:pt x="54" y="2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6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0"/>
            <p:cNvSpPr/>
            <p:nvPr/>
          </p:nvSpPr>
          <p:spPr>
            <a:xfrm>
              <a:off x="6416640" y="8039160"/>
              <a:ext cx="209520" cy="263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32" h="166">
                  <a:moveTo>
                    <a:pt x="0" y="166"/>
                  </a:moveTo>
                  <a:lnTo>
                    <a:pt x="108" y="166"/>
                  </a:lnTo>
                  <a:lnTo>
                    <a:pt x="108" y="166"/>
                  </a:lnTo>
                  <a:lnTo>
                    <a:pt x="114" y="136"/>
                  </a:lnTo>
                  <a:lnTo>
                    <a:pt x="122" y="106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10" y="34"/>
                  </a:lnTo>
                  <a:lnTo>
                    <a:pt x="88" y="2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1"/>
            <p:cNvSpPr/>
            <p:nvPr/>
          </p:nvSpPr>
          <p:spPr>
            <a:xfrm>
              <a:off x="2460600" y="7623000"/>
              <a:ext cx="282240" cy="568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8" h="36">
                  <a:moveTo>
                    <a:pt x="178" y="10"/>
                  </a:moveTo>
                  <a:lnTo>
                    <a:pt x="178" y="10"/>
                  </a:lnTo>
                  <a:lnTo>
                    <a:pt x="164" y="4"/>
                  </a:lnTo>
                  <a:lnTo>
                    <a:pt x="148" y="2"/>
                  </a:lnTo>
                  <a:lnTo>
                    <a:pt x="118" y="0"/>
                  </a:lnTo>
                  <a:lnTo>
                    <a:pt x="8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4"/>
                  </a:lnTo>
                  <a:lnTo>
                    <a:pt x="20" y="28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66" y="36"/>
                  </a:lnTo>
                  <a:lnTo>
                    <a:pt x="88" y="36"/>
                  </a:lnTo>
                  <a:lnTo>
                    <a:pt x="110" y="30"/>
                  </a:lnTo>
                  <a:lnTo>
                    <a:pt x="134" y="24"/>
                  </a:lnTo>
                  <a:lnTo>
                    <a:pt x="178" y="10"/>
                  </a:lnTo>
                  <a:lnTo>
                    <a:pt x="17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2"/>
            <p:cNvSpPr/>
            <p:nvPr/>
          </p:nvSpPr>
          <p:spPr>
            <a:xfrm>
              <a:off x="2288880" y="7985160"/>
              <a:ext cx="603000" cy="13644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80" h="86">
                  <a:moveTo>
                    <a:pt x="2" y="52"/>
                  </a:moveTo>
                  <a:lnTo>
                    <a:pt x="2" y="52"/>
                  </a:lnTo>
                  <a:lnTo>
                    <a:pt x="44" y="66"/>
                  </a:lnTo>
                  <a:lnTo>
                    <a:pt x="88" y="76"/>
                  </a:lnTo>
                  <a:lnTo>
                    <a:pt x="130" y="82"/>
                  </a:lnTo>
                  <a:lnTo>
                    <a:pt x="174" y="86"/>
                  </a:lnTo>
                  <a:lnTo>
                    <a:pt x="218" y="84"/>
                  </a:lnTo>
                  <a:lnTo>
                    <a:pt x="262" y="80"/>
                  </a:lnTo>
                  <a:lnTo>
                    <a:pt x="306" y="72"/>
                  </a:lnTo>
                  <a:lnTo>
                    <a:pt x="348" y="58"/>
                  </a:lnTo>
                  <a:lnTo>
                    <a:pt x="348" y="58"/>
                  </a:lnTo>
                  <a:lnTo>
                    <a:pt x="358" y="54"/>
                  </a:lnTo>
                  <a:lnTo>
                    <a:pt x="366" y="48"/>
                  </a:lnTo>
                  <a:lnTo>
                    <a:pt x="380" y="34"/>
                  </a:lnTo>
                  <a:lnTo>
                    <a:pt x="380" y="34"/>
                  </a:lnTo>
                  <a:lnTo>
                    <a:pt x="332" y="20"/>
                  </a:lnTo>
                  <a:lnTo>
                    <a:pt x="308" y="16"/>
                  </a:lnTo>
                  <a:lnTo>
                    <a:pt x="284" y="12"/>
                  </a:lnTo>
                  <a:lnTo>
                    <a:pt x="284" y="12"/>
                  </a:lnTo>
                  <a:lnTo>
                    <a:pt x="280" y="20"/>
                  </a:lnTo>
                  <a:lnTo>
                    <a:pt x="274" y="30"/>
                  </a:lnTo>
                  <a:lnTo>
                    <a:pt x="274" y="30"/>
                  </a:lnTo>
                  <a:lnTo>
                    <a:pt x="262" y="40"/>
                  </a:lnTo>
                  <a:lnTo>
                    <a:pt x="246" y="46"/>
                  </a:lnTo>
                  <a:lnTo>
                    <a:pt x="230" y="52"/>
                  </a:lnTo>
                  <a:lnTo>
                    <a:pt x="214" y="54"/>
                  </a:lnTo>
                  <a:lnTo>
                    <a:pt x="196" y="54"/>
                  </a:lnTo>
                  <a:lnTo>
                    <a:pt x="180" y="50"/>
                  </a:lnTo>
                  <a:lnTo>
                    <a:pt x="166" y="44"/>
                  </a:lnTo>
                  <a:lnTo>
                    <a:pt x="152" y="34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48" y="32"/>
                  </a:lnTo>
                  <a:lnTo>
                    <a:pt x="144" y="28"/>
                  </a:lnTo>
                  <a:lnTo>
                    <a:pt x="142" y="20"/>
                  </a:lnTo>
                  <a:lnTo>
                    <a:pt x="140" y="14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2" y="2"/>
                  </a:lnTo>
                  <a:lnTo>
                    <a:pt x="106" y="4"/>
                  </a:lnTo>
                  <a:lnTo>
                    <a:pt x="70" y="14"/>
                  </a:lnTo>
                  <a:lnTo>
                    <a:pt x="38" y="24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c4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3"/>
            <p:cNvSpPr/>
            <p:nvPr/>
          </p:nvSpPr>
          <p:spPr>
            <a:xfrm>
              <a:off x="2247840" y="8130960"/>
              <a:ext cx="745920" cy="8571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470" h="540">
                  <a:moveTo>
                    <a:pt x="318" y="538"/>
                  </a:moveTo>
                  <a:lnTo>
                    <a:pt x="318" y="538"/>
                  </a:lnTo>
                  <a:lnTo>
                    <a:pt x="332" y="538"/>
                  </a:lnTo>
                  <a:lnTo>
                    <a:pt x="344" y="534"/>
                  </a:lnTo>
                  <a:lnTo>
                    <a:pt x="370" y="528"/>
                  </a:lnTo>
                  <a:lnTo>
                    <a:pt x="396" y="520"/>
                  </a:lnTo>
                  <a:lnTo>
                    <a:pt x="422" y="512"/>
                  </a:lnTo>
                  <a:lnTo>
                    <a:pt x="426" y="512"/>
                  </a:lnTo>
                  <a:lnTo>
                    <a:pt x="426" y="512"/>
                  </a:lnTo>
                  <a:lnTo>
                    <a:pt x="426" y="512"/>
                  </a:lnTo>
                  <a:lnTo>
                    <a:pt x="438" y="496"/>
                  </a:lnTo>
                  <a:lnTo>
                    <a:pt x="452" y="482"/>
                  </a:lnTo>
                  <a:lnTo>
                    <a:pt x="462" y="468"/>
                  </a:lnTo>
                  <a:lnTo>
                    <a:pt x="466" y="460"/>
                  </a:lnTo>
                  <a:lnTo>
                    <a:pt x="470" y="450"/>
                  </a:lnTo>
                  <a:lnTo>
                    <a:pt x="470" y="450"/>
                  </a:lnTo>
                  <a:lnTo>
                    <a:pt x="466" y="416"/>
                  </a:lnTo>
                  <a:lnTo>
                    <a:pt x="462" y="380"/>
                  </a:lnTo>
                  <a:lnTo>
                    <a:pt x="456" y="344"/>
                  </a:lnTo>
                  <a:lnTo>
                    <a:pt x="450" y="308"/>
                  </a:lnTo>
                  <a:lnTo>
                    <a:pt x="450" y="308"/>
                  </a:lnTo>
                  <a:lnTo>
                    <a:pt x="446" y="282"/>
                  </a:lnTo>
                  <a:lnTo>
                    <a:pt x="444" y="258"/>
                  </a:lnTo>
                  <a:lnTo>
                    <a:pt x="440" y="210"/>
                  </a:lnTo>
                  <a:lnTo>
                    <a:pt x="438" y="164"/>
                  </a:lnTo>
                  <a:lnTo>
                    <a:pt x="434" y="116"/>
                  </a:lnTo>
                  <a:lnTo>
                    <a:pt x="434" y="116"/>
                  </a:lnTo>
                  <a:lnTo>
                    <a:pt x="430" y="96"/>
                  </a:lnTo>
                  <a:lnTo>
                    <a:pt x="426" y="76"/>
                  </a:lnTo>
                  <a:lnTo>
                    <a:pt x="422" y="58"/>
                  </a:lnTo>
                  <a:lnTo>
                    <a:pt x="420" y="38"/>
                  </a:lnTo>
                  <a:lnTo>
                    <a:pt x="420" y="38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06" y="8"/>
                  </a:lnTo>
                  <a:lnTo>
                    <a:pt x="392" y="14"/>
                  </a:lnTo>
                  <a:lnTo>
                    <a:pt x="392" y="14"/>
                  </a:lnTo>
                  <a:lnTo>
                    <a:pt x="364" y="24"/>
                  </a:lnTo>
                  <a:lnTo>
                    <a:pt x="334" y="32"/>
                  </a:lnTo>
                  <a:lnTo>
                    <a:pt x="304" y="38"/>
                  </a:lnTo>
                  <a:lnTo>
                    <a:pt x="274" y="42"/>
                  </a:lnTo>
                  <a:lnTo>
                    <a:pt x="242" y="44"/>
                  </a:lnTo>
                  <a:lnTo>
                    <a:pt x="212" y="46"/>
                  </a:lnTo>
                  <a:lnTo>
                    <a:pt x="182" y="44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20" y="34"/>
                  </a:lnTo>
                  <a:lnTo>
                    <a:pt x="88" y="30"/>
                  </a:lnTo>
                  <a:lnTo>
                    <a:pt x="58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2" y="58"/>
                  </a:lnTo>
                  <a:lnTo>
                    <a:pt x="18" y="98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4" y="254"/>
                  </a:lnTo>
                  <a:lnTo>
                    <a:pt x="0" y="328"/>
                  </a:lnTo>
                  <a:lnTo>
                    <a:pt x="0" y="400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2" y="482"/>
                  </a:lnTo>
                  <a:lnTo>
                    <a:pt x="4" y="488"/>
                  </a:lnTo>
                  <a:lnTo>
                    <a:pt x="4" y="488"/>
                  </a:lnTo>
                  <a:lnTo>
                    <a:pt x="18" y="498"/>
                  </a:lnTo>
                  <a:lnTo>
                    <a:pt x="32" y="508"/>
                  </a:lnTo>
                  <a:lnTo>
                    <a:pt x="32" y="508"/>
                  </a:lnTo>
                  <a:lnTo>
                    <a:pt x="38" y="512"/>
                  </a:lnTo>
                  <a:lnTo>
                    <a:pt x="44" y="514"/>
                  </a:lnTo>
                  <a:lnTo>
                    <a:pt x="56" y="516"/>
                  </a:lnTo>
                  <a:lnTo>
                    <a:pt x="68" y="516"/>
                  </a:lnTo>
                  <a:lnTo>
                    <a:pt x="80" y="520"/>
                  </a:lnTo>
                  <a:lnTo>
                    <a:pt x="80" y="520"/>
                  </a:lnTo>
                  <a:lnTo>
                    <a:pt x="96" y="528"/>
                  </a:lnTo>
                  <a:lnTo>
                    <a:pt x="112" y="532"/>
                  </a:lnTo>
                  <a:lnTo>
                    <a:pt x="128" y="536"/>
                  </a:lnTo>
                  <a:lnTo>
                    <a:pt x="146" y="538"/>
                  </a:lnTo>
                  <a:lnTo>
                    <a:pt x="146" y="538"/>
                  </a:lnTo>
                  <a:lnTo>
                    <a:pt x="188" y="540"/>
                  </a:lnTo>
                  <a:lnTo>
                    <a:pt x="232" y="540"/>
                  </a:lnTo>
                  <a:lnTo>
                    <a:pt x="318" y="538"/>
                  </a:lnTo>
                  <a:lnTo>
                    <a:pt x="318" y="538"/>
                  </a:lnTo>
                  <a:close/>
                </a:path>
              </a:pathLst>
            </a:custGeom>
            <a:solidFill>
              <a:srgbClr val="c4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4"/>
            <p:cNvSpPr/>
            <p:nvPr/>
          </p:nvSpPr>
          <p:spPr>
            <a:xfrm>
              <a:off x="2165040" y="8385120"/>
              <a:ext cx="3098880" cy="1336680"/>
            </a:xfrm>
            <a:custGeom>
              <a:avLst/>
              <a:gdLst>
                <a:gd name="textAreaLeft" fmla="*/ 0 w 3098880"/>
                <a:gd name="textAreaRight" fmla="*/ 3099240 w 309888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952" h="842">
                  <a:moveTo>
                    <a:pt x="468" y="676"/>
                  </a:moveTo>
                  <a:lnTo>
                    <a:pt x="468" y="676"/>
                  </a:lnTo>
                  <a:lnTo>
                    <a:pt x="464" y="664"/>
                  </a:lnTo>
                  <a:lnTo>
                    <a:pt x="460" y="650"/>
                  </a:lnTo>
                  <a:lnTo>
                    <a:pt x="460" y="638"/>
                  </a:lnTo>
                  <a:lnTo>
                    <a:pt x="460" y="624"/>
                  </a:lnTo>
                  <a:lnTo>
                    <a:pt x="464" y="610"/>
                  </a:lnTo>
                  <a:lnTo>
                    <a:pt x="468" y="594"/>
                  </a:lnTo>
                  <a:lnTo>
                    <a:pt x="476" y="580"/>
                  </a:lnTo>
                  <a:lnTo>
                    <a:pt x="484" y="566"/>
                  </a:lnTo>
                  <a:lnTo>
                    <a:pt x="730" y="204"/>
                  </a:lnTo>
                  <a:lnTo>
                    <a:pt x="730" y="204"/>
                  </a:lnTo>
                  <a:lnTo>
                    <a:pt x="752" y="178"/>
                  </a:lnTo>
                  <a:lnTo>
                    <a:pt x="778" y="152"/>
                  </a:lnTo>
                  <a:lnTo>
                    <a:pt x="806" y="128"/>
                  </a:lnTo>
                  <a:lnTo>
                    <a:pt x="838" y="108"/>
                  </a:lnTo>
                  <a:lnTo>
                    <a:pt x="870" y="92"/>
                  </a:lnTo>
                  <a:lnTo>
                    <a:pt x="904" y="80"/>
                  </a:lnTo>
                  <a:lnTo>
                    <a:pt x="938" y="72"/>
                  </a:lnTo>
                  <a:lnTo>
                    <a:pt x="954" y="70"/>
                  </a:lnTo>
                  <a:lnTo>
                    <a:pt x="970" y="68"/>
                  </a:lnTo>
                  <a:lnTo>
                    <a:pt x="1260" y="68"/>
                  </a:lnTo>
                  <a:lnTo>
                    <a:pt x="1260" y="68"/>
                  </a:lnTo>
                  <a:lnTo>
                    <a:pt x="1232" y="36"/>
                  </a:lnTo>
                  <a:lnTo>
                    <a:pt x="1220" y="18"/>
                  </a:lnTo>
                  <a:lnTo>
                    <a:pt x="1208" y="0"/>
                  </a:lnTo>
                  <a:lnTo>
                    <a:pt x="668" y="0"/>
                  </a:lnTo>
                  <a:lnTo>
                    <a:pt x="554" y="144"/>
                  </a:lnTo>
                  <a:lnTo>
                    <a:pt x="554" y="144"/>
                  </a:lnTo>
                  <a:lnTo>
                    <a:pt x="574" y="284"/>
                  </a:lnTo>
                  <a:lnTo>
                    <a:pt x="574" y="284"/>
                  </a:lnTo>
                  <a:lnTo>
                    <a:pt x="574" y="290"/>
                  </a:lnTo>
                  <a:lnTo>
                    <a:pt x="574" y="296"/>
                  </a:lnTo>
                  <a:lnTo>
                    <a:pt x="574" y="302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68" y="318"/>
                  </a:lnTo>
                  <a:lnTo>
                    <a:pt x="564" y="328"/>
                  </a:lnTo>
                  <a:lnTo>
                    <a:pt x="564" y="328"/>
                  </a:lnTo>
                  <a:lnTo>
                    <a:pt x="552" y="346"/>
                  </a:lnTo>
                  <a:lnTo>
                    <a:pt x="538" y="362"/>
                  </a:lnTo>
                  <a:lnTo>
                    <a:pt x="512" y="392"/>
                  </a:lnTo>
                  <a:lnTo>
                    <a:pt x="512" y="392"/>
                  </a:lnTo>
                  <a:lnTo>
                    <a:pt x="508" y="394"/>
                  </a:lnTo>
                  <a:lnTo>
                    <a:pt x="508" y="394"/>
                  </a:lnTo>
                  <a:lnTo>
                    <a:pt x="502" y="400"/>
                  </a:lnTo>
                  <a:lnTo>
                    <a:pt x="492" y="404"/>
                  </a:lnTo>
                  <a:lnTo>
                    <a:pt x="482" y="404"/>
                  </a:lnTo>
                  <a:lnTo>
                    <a:pt x="482" y="404"/>
                  </a:lnTo>
                  <a:lnTo>
                    <a:pt x="456" y="410"/>
                  </a:lnTo>
                  <a:lnTo>
                    <a:pt x="430" y="418"/>
                  </a:lnTo>
                  <a:lnTo>
                    <a:pt x="404" y="426"/>
                  </a:lnTo>
                  <a:lnTo>
                    <a:pt x="392" y="430"/>
                  </a:lnTo>
                  <a:lnTo>
                    <a:pt x="378" y="430"/>
                  </a:lnTo>
                  <a:lnTo>
                    <a:pt x="378" y="430"/>
                  </a:lnTo>
                  <a:lnTo>
                    <a:pt x="324" y="432"/>
                  </a:lnTo>
                  <a:lnTo>
                    <a:pt x="0" y="842"/>
                  </a:lnTo>
                  <a:lnTo>
                    <a:pt x="1944" y="842"/>
                  </a:lnTo>
                  <a:lnTo>
                    <a:pt x="1944" y="842"/>
                  </a:lnTo>
                  <a:lnTo>
                    <a:pt x="1946" y="824"/>
                  </a:lnTo>
                  <a:lnTo>
                    <a:pt x="1946" y="824"/>
                  </a:lnTo>
                  <a:lnTo>
                    <a:pt x="1948" y="800"/>
                  </a:lnTo>
                  <a:lnTo>
                    <a:pt x="1950" y="778"/>
                  </a:lnTo>
                  <a:lnTo>
                    <a:pt x="1952" y="730"/>
                  </a:lnTo>
                  <a:lnTo>
                    <a:pt x="586" y="730"/>
                  </a:lnTo>
                  <a:lnTo>
                    <a:pt x="586" y="730"/>
                  </a:lnTo>
                  <a:lnTo>
                    <a:pt x="566" y="730"/>
                  </a:lnTo>
                  <a:lnTo>
                    <a:pt x="546" y="726"/>
                  </a:lnTo>
                  <a:lnTo>
                    <a:pt x="530" y="722"/>
                  </a:lnTo>
                  <a:lnTo>
                    <a:pt x="514" y="716"/>
                  </a:lnTo>
                  <a:lnTo>
                    <a:pt x="500" y="708"/>
                  </a:lnTo>
                  <a:lnTo>
                    <a:pt x="488" y="700"/>
                  </a:lnTo>
                  <a:lnTo>
                    <a:pt x="476" y="688"/>
                  </a:lnTo>
                  <a:lnTo>
                    <a:pt x="468" y="676"/>
                  </a:lnTo>
                  <a:lnTo>
                    <a:pt x="468" y="676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5"/>
            <p:cNvSpPr/>
            <p:nvPr/>
          </p:nvSpPr>
          <p:spPr>
            <a:xfrm>
              <a:off x="2593800" y="7931160"/>
              <a:ext cx="69840" cy="56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2" y="34"/>
                  </a:lnTo>
                  <a:lnTo>
                    <a:pt x="24" y="36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2" y="20"/>
                  </a:lnTo>
                  <a:lnTo>
                    <a:pt x="44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6"/>
            <p:cNvSpPr/>
            <p:nvPr/>
          </p:nvSpPr>
          <p:spPr>
            <a:xfrm>
              <a:off x="3362040" y="9144000"/>
              <a:ext cx="2606760" cy="317520"/>
            </a:xfrm>
            <a:custGeom>
              <a:avLst/>
              <a:gdLst>
                <a:gd name="textAreaLeft" fmla="*/ 0 w 2606760"/>
                <a:gd name="textAreaRight" fmla="*/ 2607120 w 26067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642" h="200">
                  <a:moveTo>
                    <a:pt x="1394" y="86"/>
                  </a:moveTo>
                  <a:lnTo>
                    <a:pt x="1394" y="86"/>
                  </a:lnTo>
                  <a:lnTo>
                    <a:pt x="1396" y="86"/>
                  </a:lnTo>
                  <a:lnTo>
                    <a:pt x="1396" y="86"/>
                  </a:lnTo>
                  <a:lnTo>
                    <a:pt x="1398" y="86"/>
                  </a:lnTo>
                  <a:lnTo>
                    <a:pt x="1398" y="86"/>
                  </a:lnTo>
                  <a:lnTo>
                    <a:pt x="1398" y="86"/>
                  </a:lnTo>
                  <a:lnTo>
                    <a:pt x="1398" y="86"/>
                  </a:lnTo>
                  <a:lnTo>
                    <a:pt x="1404" y="88"/>
                  </a:lnTo>
                  <a:lnTo>
                    <a:pt x="1404" y="88"/>
                  </a:lnTo>
                  <a:lnTo>
                    <a:pt x="1420" y="88"/>
                  </a:lnTo>
                  <a:lnTo>
                    <a:pt x="1426" y="90"/>
                  </a:lnTo>
                  <a:lnTo>
                    <a:pt x="1434" y="90"/>
                  </a:lnTo>
                  <a:lnTo>
                    <a:pt x="1434" y="90"/>
                  </a:lnTo>
                  <a:lnTo>
                    <a:pt x="1454" y="96"/>
                  </a:lnTo>
                  <a:lnTo>
                    <a:pt x="1474" y="104"/>
                  </a:lnTo>
                  <a:lnTo>
                    <a:pt x="1492" y="114"/>
                  </a:lnTo>
                  <a:lnTo>
                    <a:pt x="1510" y="126"/>
                  </a:lnTo>
                  <a:lnTo>
                    <a:pt x="1510" y="126"/>
                  </a:lnTo>
                  <a:lnTo>
                    <a:pt x="1518" y="136"/>
                  </a:lnTo>
                  <a:lnTo>
                    <a:pt x="1524" y="146"/>
                  </a:lnTo>
                  <a:lnTo>
                    <a:pt x="1526" y="156"/>
                  </a:lnTo>
                  <a:lnTo>
                    <a:pt x="1528" y="168"/>
                  </a:lnTo>
                  <a:lnTo>
                    <a:pt x="1528" y="168"/>
                  </a:lnTo>
                  <a:lnTo>
                    <a:pt x="1530" y="174"/>
                  </a:lnTo>
                  <a:lnTo>
                    <a:pt x="1530" y="180"/>
                  </a:lnTo>
                  <a:lnTo>
                    <a:pt x="1530" y="180"/>
                  </a:lnTo>
                  <a:lnTo>
                    <a:pt x="1532" y="190"/>
                  </a:lnTo>
                  <a:lnTo>
                    <a:pt x="1534" y="200"/>
                  </a:lnTo>
                  <a:lnTo>
                    <a:pt x="1604" y="200"/>
                  </a:lnTo>
                  <a:lnTo>
                    <a:pt x="1604" y="200"/>
                  </a:lnTo>
                  <a:lnTo>
                    <a:pt x="1610" y="156"/>
                  </a:lnTo>
                  <a:lnTo>
                    <a:pt x="1614" y="110"/>
                  </a:lnTo>
                  <a:lnTo>
                    <a:pt x="1614" y="110"/>
                  </a:lnTo>
                  <a:lnTo>
                    <a:pt x="1618" y="94"/>
                  </a:lnTo>
                  <a:lnTo>
                    <a:pt x="1620" y="78"/>
                  </a:lnTo>
                  <a:lnTo>
                    <a:pt x="1624" y="62"/>
                  </a:lnTo>
                  <a:lnTo>
                    <a:pt x="1624" y="46"/>
                  </a:lnTo>
                  <a:lnTo>
                    <a:pt x="1624" y="46"/>
                  </a:lnTo>
                  <a:lnTo>
                    <a:pt x="1626" y="38"/>
                  </a:lnTo>
                  <a:lnTo>
                    <a:pt x="1628" y="30"/>
                  </a:lnTo>
                  <a:lnTo>
                    <a:pt x="1634" y="14"/>
                  </a:lnTo>
                  <a:lnTo>
                    <a:pt x="1638" y="8"/>
                  </a:lnTo>
                  <a:lnTo>
                    <a:pt x="1642" y="0"/>
                  </a:lnTo>
                  <a:lnTo>
                    <a:pt x="1092" y="0"/>
                  </a:lnTo>
                  <a:lnTo>
                    <a:pt x="1092" y="0"/>
                  </a:lnTo>
                  <a:lnTo>
                    <a:pt x="1080" y="14"/>
                  </a:lnTo>
                  <a:lnTo>
                    <a:pt x="1066" y="26"/>
                  </a:lnTo>
                  <a:lnTo>
                    <a:pt x="1050" y="38"/>
                  </a:lnTo>
                  <a:lnTo>
                    <a:pt x="1034" y="48"/>
                  </a:lnTo>
                  <a:lnTo>
                    <a:pt x="1018" y="58"/>
                  </a:lnTo>
                  <a:lnTo>
                    <a:pt x="1000" y="66"/>
                  </a:lnTo>
                  <a:lnTo>
                    <a:pt x="982" y="72"/>
                  </a:lnTo>
                  <a:lnTo>
                    <a:pt x="964" y="76"/>
                  </a:lnTo>
                  <a:lnTo>
                    <a:pt x="964" y="76"/>
                  </a:lnTo>
                  <a:lnTo>
                    <a:pt x="944" y="80"/>
                  </a:lnTo>
                  <a:lnTo>
                    <a:pt x="926" y="82"/>
                  </a:lnTo>
                  <a:lnTo>
                    <a:pt x="906" y="80"/>
                  </a:lnTo>
                  <a:lnTo>
                    <a:pt x="888" y="76"/>
                  </a:lnTo>
                  <a:lnTo>
                    <a:pt x="870" y="72"/>
                  </a:lnTo>
                  <a:lnTo>
                    <a:pt x="854" y="64"/>
                  </a:lnTo>
                  <a:lnTo>
                    <a:pt x="840" y="54"/>
                  </a:lnTo>
                  <a:lnTo>
                    <a:pt x="826" y="40"/>
                  </a:lnTo>
                  <a:lnTo>
                    <a:pt x="826" y="40"/>
                  </a:lnTo>
                  <a:lnTo>
                    <a:pt x="816" y="32"/>
                  </a:lnTo>
                  <a:lnTo>
                    <a:pt x="810" y="22"/>
                  </a:lnTo>
                  <a:lnTo>
                    <a:pt x="798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02" y="0"/>
                  </a:lnTo>
                  <a:lnTo>
                    <a:pt x="190" y="2"/>
                  </a:lnTo>
                  <a:lnTo>
                    <a:pt x="178" y="6"/>
                  </a:lnTo>
                  <a:lnTo>
                    <a:pt x="164" y="12"/>
                  </a:lnTo>
                  <a:lnTo>
                    <a:pt x="136" y="28"/>
                  </a:lnTo>
                  <a:lnTo>
                    <a:pt x="110" y="46"/>
                  </a:lnTo>
                  <a:lnTo>
                    <a:pt x="84" y="70"/>
                  </a:lnTo>
                  <a:lnTo>
                    <a:pt x="60" y="98"/>
                  </a:lnTo>
                  <a:lnTo>
                    <a:pt x="38" y="126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0" y="200"/>
                  </a:lnTo>
                  <a:lnTo>
                    <a:pt x="1198" y="200"/>
                  </a:lnTo>
                  <a:lnTo>
                    <a:pt x="1198" y="200"/>
                  </a:lnTo>
                  <a:lnTo>
                    <a:pt x="1198" y="188"/>
                  </a:lnTo>
                  <a:lnTo>
                    <a:pt x="1198" y="188"/>
                  </a:lnTo>
                  <a:lnTo>
                    <a:pt x="1200" y="176"/>
                  </a:lnTo>
                  <a:lnTo>
                    <a:pt x="1206" y="168"/>
                  </a:lnTo>
                  <a:lnTo>
                    <a:pt x="1206" y="168"/>
                  </a:lnTo>
                  <a:lnTo>
                    <a:pt x="1208" y="160"/>
                  </a:lnTo>
                  <a:lnTo>
                    <a:pt x="1210" y="152"/>
                  </a:lnTo>
                  <a:lnTo>
                    <a:pt x="1216" y="144"/>
                  </a:lnTo>
                  <a:lnTo>
                    <a:pt x="1220" y="138"/>
                  </a:lnTo>
                  <a:lnTo>
                    <a:pt x="1224" y="132"/>
                  </a:lnTo>
                  <a:lnTo>
                    <a:pt x="1224" y="132"/>
                  </a:lnTo>
                  <a:lnTo>
                    <a:pt x="1230" y="126"/>
                  </a:lnTo>
                  <a:lnTo>
                    <a:pt x="1238" y="120"/>
                  </a:lnTo>
                  <a:lnTo>
                    <a:pt x="1244" y="118"/>
                  </a:lnTo>
                  <a:lnTo>
                    <a:pt x="1244" y="118"/>
                  </a:lnTo>
                  <a:lnTo>
                    <a:pt x="1262" y="110"/>
                  </a:lnTo>
                  <a:lnTo>
                    <a:pt x="1280" y="102"/>
                  </a:lnTo>
                  <a:lnTo>
                    <a:pt x="1298" y="98"/>
                  </a:lnTo>
                  <a:lnTo>
                    <a:pt x="1316" y="92"/>
                  </a:lnTo>
                  <a:lnTo>
                    <a:pt x="1354" y="86"/>
                  </a:lnTo>
                  <a:lnTo>
                    <a:pt x="1394" y="86"/>
                  </a:lnTo>
                  <a:lnTo>
                    <a:pt x="1394" y="86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7"/>
            <p:cNvSpPr/>
            <p:nvPr/>
          </p:nvSpPr>
          <p:spPr>
            <a:xfrm>
              <a:off x="4010040" y="7705800"/>
              <a:ext cx="215640" cy="3841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36" h="242">
                  <a:moveTo>
                    <a:pt x="136" y="204"/>
                  </a:moveTo>
                  <a:lnTo>
                    <a:pt x="136" y="204"/>
                  </a:lnTo>
                  <a:lnTo>
                    <a:pt x="136" y="202"/>
                  </a:lnTo>
                  <a:lnTo>
                    <a:pt x="136" y="202"/>
                  </a:lnTo>
                  <a:lnTo>
                    <a:pt x="132" y="192"/>
                  </a:lnTo>
                  <a:lnTo>
                    <a:pt x="130" y="180"/>
                  </a:lnTo>
                  <a:lnTo>
                    <a:pt x="130" y="158"/>
                  </a:lnTo>
                  <a:lnTo>
                    <a:pt x="130" y="15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10" y="136"/>
                  </a:lnTo>
                  <a:lnTo>
                    <a:pt x="92" y="118"/>
                  </a:lnTo>
                  <a:lnTo>
                    <a:pt x="76" y="100"/>
                  </a:lnTo>
                  <a:lnTo>
                    <a:pt x="60" y="82"/>
                  </a:lnTo>
                  <a:lnTo>
                    <a:pt x="44" y="62"/>
                  </a:lnTo>
                  <a:lnTo>
                    <a:pt x="32" y="42"/>
                  </a:lnTo>
                  <a:lnTo>
                    <a:pt x="18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40"/>
                  </a:lnTo>
                  <a:lnTo>
                    <a:pt x="0" y="80"/>
                  </a:lnTo>
                  <a:lnTo>
                    <a:pt x="0" y="120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2" y="202"/>
                  </a:lnTo>
                  <a:lnTo>
                    <a:pt x="24" y="242"/>
                  </a:lnTo>
                  <a:lnTo>
                    <a:pt x="24" y="242"/>
                  </a:lnTo>
                  <a:lnTo>
                    <a:pt x="50" y="226"/>
                  </a:lnTo>
                  <a:lnTo>
                    <a:pt x="78" y="216"/>
                  </a:lnTo>
                  <a:lnTo>
                    <a:pt x="106" y="208"/>
                  </a:lnTo>
                  <a:lnTo>
                    <a:pt x="136" y="204"/>
                  </a:lnTo>
                  <a:lnTo>
                    <a:pt x="136" y="204"/>
                  </a:lnTo>
                  <a:close/>
                </a:path>
              </a:pathLst>
            </a:custGeom>
            <a:solidFill>
              <a:srgbClr val="f1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8"/>
            <p:cNvSpPr/>
            <p:nvPr/>
          </p:nvSpPr>
          <p:spPr>
            <a:xfrm>
              <a:off x="2555640" y="7715160"/>
              <a:ext cx="444240" cy="1490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0" h="94">
                  <a:moveTo>
                    <a:pt x="6" y="34"/>
                  </a:moveTo>
                  <a:lnTo>
                    <a:pt x="6" y="34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46" y="88"/>
                  </a:lnTo>
                  <a:lnTo>
                    <a:pt x="64" y="84"/>
                  </a:lnTo>
                  <a:lnTo>
                    <a:pt x="84" y="82"/>
                  </a:lnTo>
                  <a:lnTo>
                    <a:pt x="84" y="82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8" y="46"/>
                  </a:lnTo>
                  <a:lnTo>
                    <a:pt x="92" y="42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114" y="32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98" y="26"/>
                  </a:lnTo>
                  <a:lnTo>
                    <a:pt x="220" y="26"/>
                  </a:lnTo>
                  <a:lnTo>
                    <a:pt x="220" y="26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46" y="38"/>
                  </a:lnTo>
                  <a:lnTo>
                    <a:pt x="248" y="44"/>
                  </a:lnTo>
                  <a:lnTo>
                    <a:pt x="250" y="50"/>
                  </a:lnTo>
                  <a:lnTo>
                    <a:pt x="250" y="50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66" y="66"/>
                  </a:lnTo>
                  <a:lnTo>
                    <a:pt x="272" y="66"/>
                  </a:lnTo>
                  <a:lnTo>
                    <a:pt x="278" y="62"/>
                  </a:lnTo>
                  <a:lnTo>
                    <a:pt x="278" y="62"/>
                  </a:lnTo>
                  <a:lnTo>
                    <a:pt x="274" y="68"/>
                  </a:lnTo>
                  <a:lnTo>
                    <a:pt x="280" y="62"/>
                  </a:lnTo>
                  <a:lnTo>
                    <a:pt x="280" y="56"/>
                  </a:lnTo>
                  <a:lnTo>
                    <a:pt x="280" y="56"/>
                  </a:lnTo>
                  <a:lnTo>
                    <a:pt x="280" y="20"/>
                  </a:lnTo>
                  <a:lnTo>
                    <a:pt x="278" y="18"/>
                  </a:lnTo>
                  <a:lnTo>
                    <a:pt x="278" y="18"/>
                  </a:lnTo>
                  <a:lnTo>
                    <a:pt x="262" y="10"/>
                  </a:lnTo>
                  <a:lnTo>
                    <a:pt x="246" y="6"/>
                  </a:lnTo>
                  <a:lnTo>
                    <a:pt x="228" y="4"/>
                  </a:lnTo>
                  <a:lnTo>
                    <a:pt x="210" y="2"/>
                  </a:lnTo>
                  <a:lnTo>
                    <a:pt x="174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4" y="12"/>
                  </a:lnTo>
                  <a:lnTo>
                    <a:pt x="72" y="22"/>
                  </a:lnTo>
                  <a:lnTo>
                    <a:pt x="38" y="30"/>
                  </a:lnTo>
                  <a:lnTo>
                    <a:pt x="22" y="32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9"/>
            <p:cNvSpPr/>
            <p:nvPr/>
          </p:nvSpPr>
          <p:spPr>
            <a:xfrm>
              <a:off x="5362560" y="9363240"/>
              <a:ext cx="339480" cy="885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" h="56">
                  <a:moveTo>
                    <a:pt x="8" y="26"/>
                  </a:move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6" y="46"/>
                  </a:lnTo>
                  <a:lnTo>
                    <a:pt x="48" y="50"/>
                  </a:lnTo>
                  <a:lnTo>
                    <a:pt x="70" y="54"/>
                  </a:lnTo>
                  <a:lnTo>
                    <a:pt x="92" y="56"/>
                  </a:lnTo>
                  <a:lnTo>
                    <a:pt x="116" y="56"/>
                  </a:lnTo>
                  <a:lnTo>
                    <a:pt x="138" y="54"/>
                  </a:lnTo>
                  <a:lnTo>
                    <a:pt x="162" y="50"/>
                  </a:lnTo>
                  <a:lnTo>
                    <a:pt x="184" y="46"/>
                  </a:lnTo>
                  <a:lnTo>
                    <a:pt x="184" y="46"/>
                  </a:lnTo>
                  <a:lnTo>
                    <a:pt x="194" y="44"/>
                  </a:lnTo>
                  <a:lnTo>
                    <a:pt x="202" y="40"/>
                  </a:lnTo>
                  <a:lnTo>
                    <a:pt x="210" y="34"/>
                  </a:lnTo>
                  <a:lnTo>
                    <a:pt x="214" y="26"/>
                  </a:lnTo>
                  <a:lnTo>
                    <a:pt x="214" y="26"/>
                  </a:lnTo>
                  <a:lnTo>
                    <a:pt x="196" y="16"/>
                  </a:lnTo>
                  <a:lnTo>
                    <a:pt x="176" y="8"/>
                  </a:lnTo>
                  <a:lnTo>
                    <a:pt x="154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0" y="0"/>
                  </a:lnTo>
                  <a:lnTo>
                    <a:pt x="68" y="6"/>
                  </a:lnTo>
                  <a:lnTo>
                    <a:pt x="36" y="14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0"/>
            <p:cNvSpPr/>
            <p:nvPr/>
          </p:nvSpPr>
          <p:spPr>
            <a:xfrm>
              <a:off x="7223400" y="8385120"/>
              <a:ext cx="2857320" cy="1336680"/>
            </a:xfrm>
            <a:custGeom>
              <a:avLst/>
              <a:gdLst>
                <a:gd name="textAreaLeft" fmla="*/ 0 w 2857320"/>
                <a:gd name="textAreaRight" fmla="*/ 2857680 w 285732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800" h="842">
                  <a:moveTo>
                    <a:pt x="830" y="0"/>
                  </a:moveTo>
                  <a:lnTo>
                    <a:pt x="830" y="0"/>
                  </a:lnTo>
                  <a:lnTo>
                    <a:pt x="826" y="8"/>
                  </a:lnTo>
                  <a:lnTo>
                    <a:pt x="820" y="14"/>
                  </a:lnTo>
                  <a:lnTo>
                    <a:pt x="820" y="14"/>
                  </a:lnTo>
                  <a:lnTo>
                    <a:pt x="820" y="42"/>
                  </a:lnTo>
                  <a:lnTo>
                    <a:pt x="818" y="68"/>
                  </a:lnTo>
                  <a:lnTo>
                    <a:pt x="830" y="68"/>
                  </a:lnTo>
                  <a:lnTo>
                    <a:pt x="830" y="68"/>
                  </a:lnTo>
                  <a:lnTo>
                    <a:pt x="844" y="70"/>
                  </a:lnTo>
                  <a:lnTo>
                    <a:pt x="860" y="72"/>
                  </a:lnTo>
                  <a:lnTo>
                    <a:pt x="894" y="80"/>
                  </a:lnTo>
                  <a:lnTo>
                    <a:pt x="928" y="92"/>
                  </a:lnTo>
                  <a:lnTo>
                    <a:pt x="960" y="108"/>
                  </a:lnTo>
                  <a:lnTo>
                    <a:pt x="992" y="128"/>
                  </a:lnTo>
                  <a:lnTo>
                    <a:pt x="1020" y="152"/>
                  </a:lnTo>
                  <a:lnTo>
                    <a:pt x="1046" y="178"/>
                  </a:lnTo>
                  <a:lnTo>
                    <a:pt x="1068" y="204"/>
                  </a:lnTo>
                  <a:lnTo>
                    <a:pt x="1314" y="566"/>
                  </a:lnTo>
                  <a:lnTo>
                    <a:pt x="1314" y="566"/>
                  </a:lnTo>
                  <a:lnTo>
                    <a:pt x="1324" y="580"/>
                  </a:lnTo>
                  <a:lnTo>
                    <a:pt x="1330" y="594"/>
                  </a:lnTo>
                  <a:lnTo>
                    <a:pt x="1336" y="610"/>
                  </a:lnTo>
                  <a:lnTo>
                    <a:pt x="1338" y="624"/>
                  </a:lnTo>
                  <a:lnTo>
                    <a:pt x="1340" y="638"/>
                  </a:lnTo>
                  <a:lnTo>
                    <a:pt x="1338" y="650"/>
                  </a:lnTo>
                  <a:lnTo>
                    <a:pt x="1334" y="664"/>
                  </a:lnTo>
                  <a:lnTo>
                    <a:pt x="1330" y="676"/>
                  </a:lnTo>
                  <a:lnTo>
                    <a:pt x="1330" y="676"/>
                  </a:lnTo>
                  <a:lnTo>
                    <a:pt x="1322" y="688"/>
                  </a:lnTo>
                  <a:lnTo>
                    <a:pt x="1312" y="700"/>
                  </a:lnTo>
                  <a:lnTo>
                    <a:pt x="1300" y="708"/>
                  </a:lnTo>
                  <a:lnTo>
                    <a:pt x="1286" y="716"/>
                  </a:lnTo>
                  <a:lnTo>
                    <a:pt x="1270" y="722"/>
                  </a:lnTo>
                  <a:lnTo>
                    <a:pt x="1252" y="726"/>
                  </a:lnTo>
                  <a:lnTo>
                    <a:pt x="1232" y="730"/>
                  </a:lnTo>
                  <a:lnTo>
                    <a:pt x="1212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8" y="758"/>
                  </a:lnTo>
                  <a:lnTo>
                    <a:pt x="14" y="786"/>
                  </a:lnTo>
                  <a:lnTo>
                    <a:pt x="16" y="814"/>
                  </a:lnTo>
                  <a:lnTo>
                    <a:pt x="16" y="842"/>
                  </a:lnTo>
                  <a:lnTo>
                    <a:pt x="1800" y="842"/>
                  </a:lnTo>
                  <a:lnTo>
                    <a:pt x="1130" y="0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1"/>
            <p:cNvSpPr/>
            <p:nvPr/>
          </p:nvSpPr>
          <p:spPr>
            <a:xfrm>
              <a:off x="6480360" y="9144000"/>
              <a:ext cx="2400120" cy="3175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512" h="200">
                  <a:moveTo>
                    <a:pt x="1492" y="158"/>
                  </a:moveTo>
                  <a:lnTo>
                    <a:pt x="1492" y="158"/>
                  </a:lnTo>
                  <a:lnTo>
                    <a:pt x="1474" y="126"/>
                  </a:lnTo>
                  <a:lnTo>
                    <a:pt x="1452" y="98"/>
                  </a:lnTo>
                  <a:lnTo>
                    <a:pt x="1428" y="70"/>
                  </a:lnTo>
                  <a:lnTo>
                    <a:pt x="1402" y="46"/>
                  </a:lnTo>
                  <a:lnTo>
                    <a:pt x="1376" y="28"/>
                  </a:lnTo>
                  <a:lnTo>
                    <a:pt x="1348" y="12"/>
                  </a:lnTo>
                  <a:lnTo>
                    <a:pt x="1336" y="6"/>
                  </a:lnTo>
                  <a:lnTo>
                    <a:pt x="1322" y="2"/>
                  </a:lnTo>
                  <a:lnTo>
                    <a:pt x="1310" y="0"/>
                  </a:lnTo>
                  <a:lnTo>
                    <a:pt x="129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20" y="106"/>
                  </a:lnTo>
                  <a:lnTo>
                    <a:pt x="28" y="138"/>
                  </a:lnTo>
                  <a:lnTo>
                    <a:pt x="46" y="200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8" y="188"/>
                  </a:lnTo>
                  <a:lnTo>
                    <a:pt x="118" y="188"/>
                  </a:lnTo>
                  <a:lnTo>
                    <a:pt x="120" y="176"/>
                  </a:lnTo>
                  <a:lnTo>
                    <a:pt x="126" y="168"/>
                  </a:lnTo>
                  <a:lnTo>
                    <a:pt x="126" y="168"/>
                  </a:lnTo>
                  <a:lnTo>
                    <a:pt x="128" y="160"/>
                  </a:lnTo>
                  <a:lnTo>
                    <a:pt x="130" y="152"/>
                  </a:lnTo>
                  <a:lnTo>
                    <a:pt x="134" y="144"/>
                  </a:lnTo>
                  <a:lnTo>
                    <a:pt x="140" y="138"/>
                  </a:lnTo>
                  <a:lnTo>
                    <a:pt x="144" y="132"/>
                  </a:lnTo>
                  <a:lnTo>
                    <a:pt x="144" y="132"/>
                  </a:lnTo>
                  <a:lnTo>
                    <a:pt x="150" y="126"/>
                  </a:lnTo>
                  <a:lnTo>
                    <a:pt x="156" y="120"/>
                  </a:lnTo>
                  <a:lnTo>
                    <a:pt x="164" y="118"/>
                  </a:lnTo>
                  <a:lnTo>
                    <a:pt x="164" y="118"/>
                  </a:lnTo>
                  <a:lnTo>
                    <a:pt x="180" y="110"/>
                  </a:lnTo>
                  <a:lnTo>
                    <a:pt x="198" y="102"/>
                  </a:lnTo>
                  <a:lnTo>
                    <a:pt x="218" y="98"/>
                  </a:lnTo>
                  <a:lnTo>
                    <a:pt x="236" y="92"/>
                  </a:lnTo>
                  <a:lnTo>
                    <a:pt x="274" y="86"/>
                  </a:lnTo>
                  <a:lnTo>
                    <a:pt x="312" y="86"/>
                  </a:lnTo>
                  <a:lnTo>
                    <a:pt x="312" y="86"/>
                  </a:lnTo>
                  <a:lnTo>
                    <a:pt x="316" y="86"/>
                  </a:lnTo>
                  <a:lnTo>
                    <a:pt x="316" y="86"/>
                  </a:lnTo>
                  <a:lnTo>
                    <a:pt x="316" y="86"/>
                  </a:lnTo>
                  <a:lnTo>
                    <a:pt x="316" y="86"/>
                  </a:lnTo>
                  <a:lnTo>
                    <a:pt x="318" y="86"/>
                  </a:lnTo>
                  <a:lnTo>
                    <a:pt x="318" y="86"/>
                  </a:lnTo>
                  <a:lnTo>
                    <a:pt x="324" y="88"/>
                  </a:lnTo>
                  <a:lnTo>
                    <a:pt x="324" y="88"/>
                  </a:lnTo>
                  <a:lnTo>
                    <a:pt x="338" y="88"/>
                  </a:lnTo>
                  <a:lnTo>
                    <a:pt x="346" y="90"/>
                  </a:lnTo>
                  <a:lnTo>
                    <a:pt x="354" y="90"/>
                  </a:lnTo>
                  <a:lnTo>
                    <a:pt x="354" y="90"/>
                  </a:lnTo>
                  <a:lnTo>
                    <a:pt x="374" y="96"/>
                  </a:lnTo>
                  <a:lnTo>
                    <a:pt x="394" y="104"/>
                  </a:lnTo>
                  <a:lnTo>
                    <a:pt x="412" y="114"/>
                  </a:lnTo>
                  <a:lnTo>
                    <a:pt x="430" y="126"/>
                  </a:lnTo>
                  <a:lnTo>
                    <a:pt x="430" y="126"/>
                  </a:lnTo>
                  <a:lnTo>
                    <a:pt x="438" y="136"/>
                  </a:lnTo>
                  <a:lnTo>
                    <a:pt x="444" y="146"/>
                  </a:lnTo>
                  <a:lnTo>
                    <a:pt x="446" y="156"/>
                  </a:lnTo>
                  <a:lnTo>
                    <a:pt x="446" y="168"/>
                  </a:lnTo>
                  <a:lnTo>
                    <a:pt x="446" y="168"/>
                  </a:lnTo>
                  <a:lnTo>
                    <a:pt x="448" y="174"/>
                  </a:lnTo>
                  <a:lnTo>
                    <a:pt x="450" y="180"/>
                  </a:lnTo>
                  <a:lnTo>
                    <a:pt x="450" y="180"/>
                  </a:lnTo>
                  <a:lnTo>
                    <a:pt x="450" y="190"/>
                  </a:lnTo>
                  <a:lnTo>
                    <a:pt x="454" y="200"/>
                  </a:lnTo>
                  <a:lnTo>
                    <a:pt x="1512" y="200"/>
                  </a:lnTo>
                  <a:lnTo>
                    <a:pt x="1512" y="200"/>
                  </a:lnTo>
                  <a:lnTo>
                    <a:pt x="1492" y="158"/>
                  </a:lnTo>
                  <a:lnTo>
                    <a:pt x="1492" y="158"/>
                  </a:lnTo>
                  <a:close/>
                </a:path>
              </a:pathLst>
            </a:custGeom>
            <a:solidFill>
              <a:srgbClr val="c6c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2"/>
            <p:cNvSpPr/>
            <p:nvPr/>
          </p:nvSpPr>
          <p:spPr>
            <a:xfrm>
              <a:off x="6765840" y="9363240"/>
              <a:ext cx="339480" cy="885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" h="56">
                  <a:moveTo>
                    <a:pt x="184" y="46"/>
                  </a:moveTo>
                  <a:lnTo>
                    <a:pt x="184" y="46"/>
                  </a:lnTo>
                  <a:lnTo>
                    <a:pt x="194" y="44"/>
                  </a:lnTo>
                  <a:lnTo>
                    <a:pt x="202" y="40"/>
                  </a:lnTo>
                  <a:lnTo>
                    <a:pt x="210" y="34"/>
                  </a:lnTo>
                  <a:lnTo>
                    <a:pt x="214" y="26"/>
                  </a:lnTo>
                  <a:lnTo>
                    <a:pt x="214" y="26"/>
                  </a:lnTo>
                  <a:lnTo>
                    <a:pt x="194" y="16"/>
                  </a:lnTo>
                  <a:lnTo>
                    <a:pt x="174" y="8"/>
                  </a:lnTo>
                  <a:lnTo>
                    <a:pt x="154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0" y="0"/>
                  </a:lnTo>
                  <a:lnTo>
                    <a:pt x="68" y="6"/>
                  </a:lnTo>
                  <a:lnTo>
                    <a:pt x="36" y="14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6" y="46"/>
                  </a:lnTo>
                  <a:lnTo>
                    <a:pt x="48" y="50"/>
                  </a:lnTo>
                  <a:lnTo>
                    <a:pt x="70" y="54"/>
                  </a:lnTo>
                  <a:lnTo>
                    <a:pt x="92" y="56"/>
                  </a:lnTo>
                  <a:lnTo>
                    <a:pt x="116" y="56"/>
                  </a:lnTo>
                  <a:lnTo>
                    <a:pt x="138" y="54"/>
                  </a:lnTo>
                  <a:lnTo>
                    <a:pt x="162" y="50"/>
                  </a:lnTo>
                  <a:lnTo>
                    <a:pt x="184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3"/>
            <p:cNvSpPr/>
            <p:nvPr/>
          </p:nvSpPr>
          <p:spPr>
            <a:xfrm>
              <a:off x="5334120" y="9496440"/>
              <a:ext cx="428400" cy="2854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70" h="180">
                  <a:moveTo>
                    <a:pt x="184" y="178"/>
                  </a:moveTo>
                  <a:lnTo>
                    <a:pt x="184" y="178"/>
                  </a:lnTo>
                  <a:lnTo>
                    <a:pt x="204" y="170"/>
                  </a:lnTo>
                  <a:lnTo>
                    <a:pt x="228" y="164"/>
                  </a:lnTo>
                  <a:lnTo>
                    <a:pt x="250" y="16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12"/>
                  </a:lnTo>
                  <a:lnTo>
                    <a:pt x="264" y="76"/>
                  </a:lnTo>
                  <a:lnTo>
                    <a:pt x="256" y="38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6" y="10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154" y="22"/>
                  </a:lnTo>
                  <a:lnTo>
                    <a:pt x="130" y="22"/>
                  </a:lnTo>
                  <a:lnTo>
                    <a:pt x="104" y="24"/>
                  </a:lnTo>
                  <a:lnTo>
                    <a:pt x="80" y="22"/>
                  </a:lnTo>
                  <a:lnTo>
                    <a:pt x="54" y="18"/>
                  </a:lnTo>
                  <a:lnTo>
                    <a:pt x="32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78"/>
                  </a:lnTo>
                  <a:lnTo>
                    <a:pt x="0" y="154"/>
                  </a:lnTo>
                  <a:lnTo>
                    <a:pt x="10" y="164"/>
                  </a:lnTo>
                  <a:lnTo>
                    <a:pt x="10" y="164"/>
                  </a:lnTo>
                  <a:lnTo>
                    <a:pt x="30" y="172"/>
                  </a:lnTo>
                  <a:lnTo>
                    <a:pt x="52" y="176"/>
                  </a:lnTo>
                  <a:lnTo>
                    <a:pt x="72" y="178"/>
                  </a:lnTo>
                  <a:lnTo>
                    <a:pt x="94" y="180"/>
                  </a:lnTo>
                  <a:lnTo>
                    <a:pt x="140" y="178"/>
                  </a:lnTo>
                  <a:lnTo>
                    <a:pt x="184" y="178"/>
                  </a:lnTo>
                  <a:lnTo>
                    <a:pt x="184" y="178"/>
                  </a:lnTo>
                  <a:close/>
                </a:path>
              </a:pathLst>
            </a:custGeom>
            <a:solidFill>
              <a:srgbClr val="8f9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4"/>
            <p:cNvSpPr/>
            <p:nvPr/>
          </p:nvSpPr>
          <p:spPr>
            <a:xfrm>
              <a:off x="6737400" y="9496440"/>
              <a:ext cx="428400" cy="2854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70" h="180">
                  <a:moveTo>
                    <a:pt x="204" y="16"/>
                  </a:moveTo>
                  <a:lnTo>
                    <a:pt x="204" y="16"/>
                  </a:lnTo>
                  <a:lnTo>
                    <a:pt x="154" y="22"/>
                  </a:lnTo>
                  <a:lnTo>
                    <a:pt x="128" y="22"/>
                  </a:lnTo>
                  <a:lnTo>
                    <a:pt x="104" y="24"/>
                  </a:lnTo>
                  <a:lnTo>
                    <a:pt x="78" y="22"/>
                  </a:lnTo>
                  <a:lnTo>
                    <a:pt x="54" y="18"/>
                  </a:lnTo>
                  <a:lnTo>
                    <a:pt x="30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78"/>
                  </a:lnTo>
                  <a:lnTo>
                    <a:pt x="0" y="154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30" y="172"/>
                  </a:lnTo>
                  <a:lnTo>
                    <a:pt x="50" y="176"/>
                  </a:lnTo>
                  <a:lnTo>
                    <a:pt x="72" y="178"/>
                  </a:lnTo>
                  <a:lnTo>
                    <a:pt x="94" y="180"/>
                  </a:lnTo>
                  <a:lnTo>
                    <a:pt x="138" y="178"/>
                  </a:lnTo>
                  <a:lnTo>
                    <a:pt x="182" y="178"/>
                  </a:lnTo>
                  <a:lnTo>
                    <a:pt x="182" y="178"/>
                  </a:lnTo>
                  <a:lnTo>
                    <a:pt x="204" y="170"/>
                  </a:lnTo>
                  <a:lnTo>
                    <a:pt x="226" y="164"/>
                  </a:lnTo>
                  <a:lnTo>
                    <a:pt x="248" y="16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8" y="112"/>
                  </a:lnTo>
                  <a:lnTo>
                    <a:pt x="264" y="76"/>
                  </a:lnTo>
                  <a:lnTo>
                    <a:pt x="256" y="38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4" y="10"/>
                  </a:lnTo>
                  <a:lnTo>
                    <a:pt x="204" y="16"/>
                  </a:lnTo>
                  <a:lnTo>
                    <a:pt x="204" y="16"/>
                  </a:lnTo>
                  <a:close/>
                </a:path>
              </a:pathLst>
            </a:custGeom>
            <a:solidFill>
              <a:srgbClr val="8f9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5"/>
            <p:cNvSpPr/>
            <p:nvPr/>
          </p:nvSpPr>
          <p:spPr>
            <a:xfrm>
              <a:off x="4029120" y="6721200"/>
              <a:ext cx="1708200" cy="1380960"/>
            </a:xfrm>
            <a:custGeom>
              <a:avLst/>
              <a:gdLst>
                <a:gd name="textAreaLeft" fmla="*/ 0 w 1708200"/>
                <a:gd name="textAreaRight" fmla="*/ 1708560 w 170820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1076" h="870">
                  <a:moveTo>
                    <a:pt x="212" y="776"/>
                  </a:moveTo>
                  <a:lnTo>
                    <a:pt x="212" y="776"/>
                  </a:lnTo>
                  <a:lnTo>
                    <a:pt x="244" y="794"/>
                  </a:lnTo>
                  <a:lnTo>
                    <a:pt x="276" y="810"/>
                  </a:lnTo>
                  <a:lnTo>
                    <a:pt x="310" y="824"/>
                  </a:lnTo>
                  <a:lnTo>
                    <a:pt x="344" y="836"/>
                  </a:lnTo>
                  <a:lnTo>
                    <a:pt x="380" y="846"/>
                  </a:lnTo>
                  <a:lnTo>
                    <a:pt x="416" y="854"/>
                  </a:lnTo>
                  <a:lnTo>
                    <a:pt x="454" y="862"/>
                  </a:lnTo>
                  <a:lnTo>
                    <a:pt x="490" y="866"/>
                  </a:lnTo>
                  <a:lnTo>
                    <a:pt x="528" y="870"/>
                  </a:lnTo>
                  <a:lnTo>
                    <a:pt x="566" y="870"/>
                  </a:lnTo>
                  <a:lnTo>
                    <a:pt x="602" y="870"/>
                  </a:lnTo>
                  <a:lnTo>
                    <a:pt x="640" y="868"/>
                  </a:lnTo>
                  <a:lnTo>
                    <a:pt x="676" y="864"/>
                  </a:lnTo>
                  <a:lnTo>
                    <a:pt x="712" y="856"/>
                  </a:lnTo>
                  <a:lnTo>
                    <a:pt x="746" y="848"/>
                  </a:lnTo>
                  <a:lnTo>
                    <a:pt x="778" y="838"/>
                  </a:lnTo>
                  <a:lnTo>
                    <a:pt x="778" y="838"/>
                  </a:lnTo>
                  <a:lnTo>
                    <a:pt x="816" y="824"/>
                  </a:lnTo>
                  <a:lnTo>
                    <a:pt x="852" y="806"/>
                  </a:lnTo>
                  <a:lnTo>
                    <a:pt x="886" y="788"/>
                  </a:lnTo>
                  <a:lnTo>
                    <a:pt x="916" y="768"/>
                  </a:lnTo>
                  <a:lnTo>
                    <a:pt x="942" y="744"/>
                  </a:lnTo>
                  <a:lnTo>
                    <a:pt x="968" y="720"/>
                  </a:lnTo>
                  <a:lnTo>
                    <a:pt x="990" y="694"/>
                  </a:lnTo>
                  <a:lnTo>
                    <a:pt x="1010" y="664"/>
                  </a:lnTo>
                  <a:lnTo>
                    <a:pt x="1010" y="664"/>
                  </a:lnTo>
                  <a:lnTo>
                    <a:pt x="1026" y="638"/>
                  </a:lnTo>
                  <a:lnTo>
                    <a:pt x="1038" y="610"/>
                  </a:lnTo>
                  <a:lnTo>
                    <a:pt x="1050" y="582"/>
                  </a:lnTo>
                  <a:lnTo>
                    <a:pt x="1060" y="552"/>
                  </a:lnTo>
                  <a:lnTo>
                    <a:pt x="1068" y="524"/>
                  </a:lnTo>
                  <a:lnTo>
                    <a:pt x="1072" y="496"/>
                  </a:lnTo>
                  <a:lnTo>
                    <a:pt x="1076" y="468"/>
                  </a:lnTo>
                  <a:lnTo>
                    <a:pt x="1076" y="438"/>
                  </a:lnTo>
                  <a:lnTo>
                    <a:pt x="1076" y="438"/>
                  </a:lnTo>
                  <a:lnTo>
                    <a:pt x="1074" y="400"/>
                  </a:lnTo>
                  <a:lnTo>
                    <a:pt x="1068" y="362"/>
                  </a:lnTo>
                  <a:lnTo>
                    <a:pt x="1060" y="324"/>
                  </a:lnTo>
                  <a:lnTo>
                    <a:pt x="1046" y="288"/>
                  </a:lnTo>
                  <a:lnTo>
                    <a:pt x="1030" y="250"/>
                  </a:lnTo>
                  <a:lnTo>
                    <a:pt x="1008" y="216"/>
                  </a:lnTo>
                  <a:lnTo>
                    <a:pt x="984" y="180"/>
                  </a:lnTo>
                  <a:lnTo>
                    <a:pt x="956" y="148"/>
                  </a:lnTo>
                  <a:lnTo>
                    <a:pt x="956" y="148"/>
                  </a:lnTo>
                  <a:lnTo>
                    <a:pt x="936" y="128"/>
                  </a:lnTo>
                  <a:lnTo>
                    <a:pt x="916" y="110"/>
                  </a:lnTo>
                  <a:lnTo>
                    <a:pt x="894" y="92"/>
                  </a:lnTo>
                  <a:lnTo>
                    <a:pt x="870" y="78"/>
                  </a:lnTo>
                  <a:lnTo>
                    <a:pt x="844" y="64"/>
                  </a:lnTo>
                  <a:lnTo>
                    <a:pt x="816" y="50"/>
                  </a:lnTo>
                  <a:lnTo>
                    <a:pt x="788" y="40"/>
                  </a:lnTo>
                  <a:lnTo>
                    <a:pt x="758" y="30"/>
                  </a:lnTo>
                  <a:lnTo>
                    <a:pt x="726" y="22"/>
                  </a:lnTo>
                  <a:lnTo>
                    <a:pt x="694" y="14"/>
                  </a:lnTo>
                  <a:lnTo>
                    <a:pt x="658" y="10"/>
                  </a:lnTo>
                  <a:lnTo>
                    <a:pt x="622" y="4"/>
                  </a:lnTo>
                  <a:lnTo>
                    <a:pt x="584" y="2"/>
                  </a:lnTo>
                  <a:lnTo>
                    <a:pt x="546" y="0"/>
                  </a:lnTo>
                  <a:lnTo>
                    <a:pt x="506" y="2"/>
                  </a:lnTo>
                  <a:lnTo>
                    <a:pt x="464" y="2"/>
                  </a:lnTo>
                  <a:lnTo>
                    <a:pt x="464" y="2"/>
                  </a:lnTo>
                  <a:lnTo>
                    <a:pt x="426" y="6"/>
                  </a:lnTo>
                  <a:lnTo>
                    <a:pt x="390" y="10"/>
                  </a:lnTo>
                  <a:lnTo>
                    <a:pt x="354" y="18"/>
                  </a:lnTo>
                  <a:lnTo>
                    <a:pt x="320" y="28"/>
                  </a:lnTo>
                  <a:lnTo>
                    <a:pt x="286" y="38"/>
                  </a:lnTo>
                  <a:lnTo>
                    <a:pt x="254" y="50"/>
                  </a:lnTo>
                  <a:lnTo>
                    <a:pt x="224" y="66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200" y="90"/>
                  </a:lnTo>
                  <a:lnTo>
                    <a:pt x="202" y="100"/>
                  </a:lnTo>
                  <a:lnTo>
                    <a:pt x="202" y="100"/>
                  </a:lnTo>
                  <a:lnTo>
                    <a:pt x="202" y="110"/>
                  </a:lnTo>
                  <a:lnTo>
                    <a:pt x="204" y="116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14" y="130"/>
                  </a:lnTo>
                  <a:lnTo>
                    <a:pt x="214" y="130"/>
                  </a:lnTo>
                  <a:lnTo>
                    <a:pt x="230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58" y="130"/>
                  </a:lnTo>
                  <a:lnTo>
                    <a:pt x="270" y="134"/>
                  </a:lnTo>
                  <a:lnTo>
                    <a:pt x="280" y="140"/>
                  </a:lnTo>
                  <a:lnTo>
                    <a:pt x="288" y="148"/>
                  </a:lnTo>
                  <a:lnTo>
                    <a:pt x="294" y="158"/>
                  </a:lnTo>
                  <a:lnTo>
                    <a:pt x="300" y="168"/>
                  </a:lnTo>
                  <a:lnTo>
                    <a:pt x="302" y="180"/>
                  </a:lnTo>
                  <a:lnTo>
                    <a:pt x="304" y="192"/>
                  </a:lnTo>
                  <a:lnTo>
                    <a:pt x="304" y="192"/>
                  </a:lnTo>
                  <a:lnTo>
                    <a:pt x="304" y="202"/>
                  </a:lnTo>
                  <a:lnTo>
                    <a:pt x="304" y="202"/>
                  </a:lnTo>
                  <a:lnTo>
                    <a:pt x="300" y="214"/>
                  </a:lnTo>
                  <a:lnTo>
                    <a:pt x="294" y="226"/>
                  </a:lnTo>
                  <a:lnTo>
                    <a:pt x="288" y="236"/>
                  </a:lnTo>
                  <a:lnTo>
                    <a:pt x="278" y="244"/>
                  </a:lnTo>
                  <a:lnTo>
                    <a:pt x="278" y="244"/>
                  </a:lnTo>
                  <a:lnTo>
                    <a:pt x="266" y="252"/>
                  </a:lnTo>
                  <a:lnTo>
                    <a:pt x="254" y="256"/>
                  </a:lnTo>
                  <a:lnTo>
                    <a:pt x="242" y="258"/>
                  </a:lnTo>
                  <a:lnTo>
                    <a:pt x="228" y="258"/>
                  </a:lnTo>
                  <a:lnTo>
                    <a:pt x="228" y="258"/>
                  </a:lnTo>
                  <a:lnTo>
                    <a:pt x="216" y="254"/>
                  </a:lnTo>
                  <a:lnTo>
                    <a:pt x="204" y="248"/>
                  </a:lnTo>
                  <a:lnTo>
                    <a:pt x="194" y="242"/>
                  </a:lnTo>
                  <a:lnTo>
                    <a:pt x="184" y="232"/>
                  </a:lnTo>
                  <a:lnTo>
                    <a:pt x="178" y="222"/>
                  </a:lnTo>
                  <a:lnTo>
                    <a:pt x="174" y="210"/>
                  </a:lnTo>
                  <a:lnTo>
                    <a:pt x="172" y="196"/>
                  </a:lnTo>
                  <a:lnTo>
                    <a:pt x="172" y="182"/>
                  </a:lnTo>
                  <a:lnTo>
                    <a:pt x="172" y="182"/>
                  </a:lnTo>
                  <a:lnTo>
                    <a:pt x="176" y="168"/>
                  </a:lnTo>
                  <a:lnTo>
                    <a:pt x="176" y="168"/>
                  </a:lnTo>
                  <a:lnTo>
                    <a:pt x="160" y="140"/>
                  </a:lnTo>
                  <a:lnTo>
                    <a:pt x="154" y="126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32" y="126"/>
                  </a:lnTo>
                  <a:lnTo>
                    <a:pt x="114" y="142"/>
                  </a:lnTo>
                  <a:lnTo>
                    <a:pt x="96" y="160"/>
                  </a:lnTo>
                  <a:lnTo>
                    <a:pt x="82" y="176"/>
                  </a:lnTo>
                  <a:lnTo>
                    <a:pt x="82" y="176"/>
                  </a:lnTo>
                  <a:lnTo>
                    <a:pt x="58" y="208"/>
                  </a:lnTo>
                  <a:lnTo>
                    <a:pt x="38" y="242"/>
                  </a:lnTo>
                  <a:lnTo>
                    <a:pt x="24" y="278"/>
                  </a:lnTo>
                  <a:lnTo>
                    <a:pt x="12" y="316"/>
                  </a:lnTo>
                  <a:lnTo>
                    <a:pt x="4" y="354"/>
                  </a:lnTo>
                  <a:lnTo>
                    <a:pt x="0" y="396"/>
                  </a:lnTo>
                  <a:lnTo>
                    <a:pt x="2" y="438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12" y="510"/>
                  </a:lnTo>
                  <a:lnTo>
                    <a:pt x="18" y="536"/>
                  </a:lnTo>
                  <a:lnTo>
                    <a:pt x="26" y="562"/>
                  </a:lnTo>
                  <a:lnTo>
                    <a:pt x="36" y="586"/>
                  </a:lnTo>
                  <a:lnTo>
                    <a:pt x="48" y="608"/>
                  </a:lnTo>
                  <a:lnTo>
                    <a:pt x="60" y="630"/>
                  </a:lnTo>
                  <a:lnTo>
                    <a:pt x="74" y="650"/>
                  </a:lnTo>
                  <a:lnTo>
                    <a:pt x="88" y="668"/>
                  </a:lnTo>
                  <a:lnTo>
                    <a:pt x="102" y="686"/>
                  </a:lnTo>
                  <a:lnTo>
                    <a:pt x="118" y="702"/>
                  </a:lnTo>
                  <a:lnTo>
                    <a:pt x="150" y="732"/>
                  </a:lnTo>
                  <a:lnTo>
                    <a:pt x="182" y="756"/>
                  </a:lnTo>
                  <a:lnTo>
                    <a:pt x="212" y="776"/>
                  </a:lnTo>
                  <a:lnTo>
                    <a:pt x="212" y="776"/>
                  </a:lnTo>
                  <a:close/>
                  <a:moveTo>
                    <a:pt x="786" y="78"/>
                  </a:moveTo>
                  <a:lnTo>
                    <a:pt x="786" y="78"/>
                  </a:lnTo>
                  <a:lnTo>
                    <a:pt x="796" y="74"/>
                  </a:lnTo>
                  <a:lnTo>
                    <a:pt x="806" y="74"/>
                  </a:lnTo>
                  <a:lnTo>
                    <a:pt x="814" y="78"/>
                  </a:lnTo>
                  <a:lnTo>
                    <a:pt x="822" y="86"/>
                  </a:lnTo>
                  <a:lnTo>
                    <a:pt x="822" y="86"/>
                  </a:lnTo>
                  <a:lnTo>
                    <a:pt x="838" y="108"/>
                  </a:lnTo>
                  <a:lnTo>
                    <a:pt x="844" y="120"/>
                  </a:lnTo>
                  <a:lnTo>
                    <a:pt x="850" y="134"/>
                  </a:lnTo>
                  <a:lnTo>
                    <a:pt x="850" y="134"/>
                  </a:lnTo>
                  <a:lnTo>
                    <a:pt x="850" y="136"/>
                  </a:lnTo>
                  <a:lnTo>
                    <a:pt x="850" y="136"/>
                  </a:lnTo>
                  <a:lnTo>
                    <a:pt x="862" y="140"/>
                  </a:lnTo>
                  <a:lnTo>
                    <a:pt x="874" y="146"/>
                  </a:lnTo>
                  <a:lnTo>
                    <a:pt x="884" y="152"/>
                  </a:lnTo>
                  <a:lnTo>
                    <a:pt x="894" y="162"/>
                  </a:lnTo>
                  <a:lnTo>
                    <a:pt x="894" y="162"/>
                  </a:lnTo>
                  <a:lnTo>
                    <a:pt x="900" y="172"/>
                  </a:lnTo>
                  <a:lnTo>
                    <a:pt x="904" y="182"/>
                  </a:lnTo>
                  <a:lnTo>
                    <a:pt x="906" y="192"/>
                  </a:lnTo>
                  <a:lnTo>
                    <a:pt x="908" y="202"/>
                  </a:lnTo>
                  <a:lnTo>
                    <a:pt x="908" y="202"/>
                  </a:lnTo>
                  <a:lnTo>
                    <a:pt x="906" y="212"/>
                  </a:lnTo>
                  <a:lnTo>
                    <a:pt x="906" y="212"/>
                  </a:lnTo>
                  <a:lnTo>
                    <a:pt x="904" y="224"/>
                  </a:lnTo>
                  <a:lnTo>
                    <a:pt x="898" y="236"/>
                  </a:lnTo>
                  <a:lnTo>
                    <a:pt x="890" y="246"/>
                  </a:lnTo>
                  <a:lnTo>
                    <a:pt x="880" y="256"/>
                  </a:lnTo>
                  <a:lnTo>
                    <a:pt x="870" y="262"/>
                  </a:lnTo>
                  <a:lnTo>
                    <a:pt x="858" y="266"/>
                  </a:lnTo>
                  <a:lnTo>
                    <a:pt x="846" y="268"/>
                  </a:lnTo>
                  <a:lnTo>
                    <a:pt x="832" y="268"/>
                  </a:lnTo>
                  <a:lnTo>
                    <a:pt x="832" y="268"/>
                  </a:lnTo>
                  <a:lnTo>
                    <a:pt x="818" y="264"/>
                  </a:lnTo>
                  <a:lnTo>
                    <a:pt x="806" y="260"/>
                  </a:lnTo>
                  <a:lnTo>
                    <a:pt x="796" y="252"/>
                  </a:lnTo>
                  <a:lnTo>
                    <a:pt x="788" y="242"/>
                  </a:lnTo>
                  <a:lnTo>
                    <a:pt x="782" y="232"/>
                  </a:lnTo>
                  <a:lnTo>
                    <a:pt x="776" y="220"/>
                  </a:lnTo>
                  <a:lnTo>
                    <a:pt x="774" y="206"/>
                  </a:lnTo>
                  <a:lnTo>
                    <a:pt x="776" y="194"/>
                  </a:lnTo>
                  <a:lnTo>
                    <a:pt x="776" y="194"/>
                  </a:lnTo>
                  <a:lnTo>
                    <a:pt x="778" y="180"/>
                  </a:lnTo>
                  <a:lnTo>
                    <a:pt x="784" y="170"/>
                  </a:lnTo>
                  <a:lnTo>
                    <a:pt x="790" y="160"/>
                  </a:lnTo>
                  <a:lnTo>
                    <a:pt x="800" y="150"/>
                  </a:lnTo>
                  <a:lnTo>
                    <a:pt x="800" y="150"/>
                  </a:lnTo>
                  <a:lnTo>
                    <a:pt x="796" y="140"/>
                  </a:lnTo>
                  <a:lnTo>
                    <a:pt x="790" y="132"/>
                  </a:lnTo>
                  <a:lnTo>
                    <a:pt x="778" y="114"/>
                  </a:lnTo>
                  <a:lnTo>
                    <a:pt x="778" y="114"/>
                  </a:lnTo>
                  <a:lnTo>
                    <a:pt x="774" y="104"/>
                  </a:lnTo>
                  <a:lnTo>
                    <a:pt x="774" y="94"/>
                  </a:lnTo>
                  <a:lnTo>
                    <a:pt x="778" y="84"/>
                  </a:lnTo>
                  <a:lnTo>
                    <a:pt x="786" y="78"/>
                  </a:lnTo>
                  <a:lnTo>
                    <a:pt x="786" y="78"/>
                  </a:lnTo>
                  <a:close/>
                  <a:moveTo>
                    <a:pt x="488" y="138"/>
                  </a:moveTo>
                  <a:lnTo>
                    <a:pt x="488" y="138"/>
                  </a:lnTo>
                  <a:lnTo>
                    <a:pt x="504" y="132"/>
                  </a:lnTo>
                  <a:lnTo>
                    <a:pt x="524" y="128"/>
                  </a:lnTo>
                  <a:lnTo>
                    <a:pt x="542" y="126"/>
                  </a:lnTo>
                  <a:lnTo>
                    <a:pt x="564" y="128"/>
                  </a:lnTo>
                  <a:lnTo>
                    <a:pt x="582" y="132"/>
                  </a:lnTo>
                  <a:lnTo>
                    <a:pt x="602" y="140"/>
                  </a:lnTo>
                  <a:lnTo>
                    <a:pt x="618" y="150"/>
                  </a:lnTo>
                  <a:lnTo>
                    <a:pt x="624" y="156"/>
                  </a:lnTo>
                  <a:lnTo>
                    <a:pt x="630" y="162"/>
                  </a:lnTo>
                  <a:lnTo>
                    <a:pt x="630" y="162"/>
                  </a:lnTo>
                  <a:lnTo>
                    <a:pt x="638" y="174"/>
                  </a:lnTo>
                  <a:lnTo>
                    <a:pt x="642" y="184"/>
                  </a:lnTo>
                  <a:lnTo>
                    <a:pt x="644" y="194"/>
                  </a:lnTo>
                  <a:lnTo>
                    <a:pt x="646" y="202"/>
                  </a:lnTo>
                  <a:lnTo>
                    <a:pt x="644" y="216"/>
                  </a:lnTo>
                  <a:lnTo>
                    <a:pt x="640" y="228"/>
                  </a:lnTo>
                  <a:lnTo>
                    <a:pt x="640" y="228"/>
                  </a:lnTo>
                  <a:lnTo>
                    <a:pt x="632" y="238"/>
                  </a:lnTo>
                  <a:lnTo>
                    <a:pt x="622" y="248"/>
                  </a:lnTo>
                  <a:lnTo>
                    <a:pt x="610" y="256"/>
                  </a:lnTo>
                  <a:lnTo>
                    <a:pt x="598" y="260"/>
                  </a:lnTo>
                  <a:lnTo>
                    <a:pt x="584" y="266"/>
                  </a:lnTo>
                  <a:lnTo>
                    <a:pt x="570" y="268"/>
                  </a:lnTo>
                  <a:lnTo>
                    <a:pt x="554" y="270"/>
                  </a:lnTo>
                  <a:lnTo>
                    <a:pt x="540" y="270"/>
                  </a:lnTo>
                  <a:lnTo>
                    <a:pt x="540" y="270"/>
                  </a:lnTo>
                  <a:lnTo>
                    <a:pt x="526" y="268"/>
                  </a:lnTo>
                  <a:lnTo>
                    <a:pt x="512" y="266"/>
                  </a:lnTo>
                  <a:lnTo>
                    <a:pt x="500" y="262"/>
                  </a:lnTo>
                  <a:lnTo>
                    <a:pt x="488" y="256"/>
                  </a:lnTo>
                  <a:lnTo>
                    <a:pt x="480" y="250"/>
                  </a:lnTo>
                  <a:lnTo>
                    <a:pt x="472" y="242"/>
                  </a:lnTo>
                  <a:lnTo>
                    <a:pt x="464" y="234"/>
                  </a:lnTo>
                  <a:lnTo>
                    <a:pt x="460" y="226"/>
                  </a:lnTo>
                  <a:lnTo>
                    <a:pt x="458" y="220"/>
                  </a:lnTo>
                  <a:lnTo>
                    <a:pt x="458" y="220"/>
                  </a:lnTo>
                  <a:lnTo>
                    <a:pt x="458" y="220"/>
                  </a:lnTo>
                  <a:lnTo>
                    <a:pt x="458" y="220"/>
                  </a:lnTo>
                  <a:lnTo>
                    <a:pt x="454" y="208"/>
                  </a:lnTo>
                  <a:lnTo>
                    <a:pt x="452" y="196"/>
                  </a:lnTo>
                  <a:lnTo>
                    <a:pt x="454" y="184"/>
                  </a:lnTo>
                  <a:lnTo>
                    <a:pt x="456" y="174"/>
                  </a:lnTo>
                  <a:lnTo>
                    <a:pt x="462" y="162"/>
                  </a:lnTo>
                  <a:lnTo>
                    <a:pt x="468" y="154"/>
                  </a:lnTo>
                  <a:lnTo>
                    <a:pt x="478" y="146"/>
                  </a:lnTo>
                  <a:lnTo>
                    <a:pt x="488" y="138"/>
                  </a:lnTo>
                  <a:lnTo>
                    <a:pt x="488" y="138"/>
                  </a:lnTo>
                  <a:close/>
                  <a:moveTo>
                    <a:pt x="266" y="350"/>
                  </a:moveTo>
                  <a:lnTo>
                    <a:pt x="266" y="350"/>
                  </a:lnTo>
                  <a:lnTo>
                    <a:pt x="276" y="340"/>
                  </a:lnTo>
                  <a:lnTo>
                    <a:pt x="288" y="326"/>
                  </a:lnTo>
                  <a:lnTo>
                    <a:pt x="298" y="312"/>
                  </a:lnTo>
                  <a:lnTo>
                    <a:pt x="306" y="300"/>
                  </a:lnTo>
                  <a:lnTo>
                    <a:pt x="306" y="300"/>
                  </a:lnTo>
                  <a:lnTo>
                    <a:pt x="310" y="294"/>
                  </a:lnTo>
                  <a:lnTo>
                    <a:pt x="314" y="288"/>
                  </a:lnTo>
                  <a:lnTo>
                    <a:pt x="320" y="284"/>
                  </a:lnTo>
                  <a:lnTo>
                    <a:pt x="328" y="284"/>
                  </a:lnTo>
                  <a:lnTo>
                    <a:pt x="328" y="284"/>
                  </a:lnTo>
                  <a:lnTo>
                    <a:pt x="334" y="284"/>
                  </a:lnTo>
                  <a:lnTo>
                    <a:pt x="342" y="286"/>
                  </a:lnTo>
                  <a:lnTo>
                    <a:pt x="348" y="290"/>
                  </a:lnTo>
                  <a:lnTo>
                    <a:pt x="352" y="296"/>
                  </a:lnTo>
                  <a:lnTo>
                    <a:pt x="352" y="296"/>
                  </a:lnTo>
                  <a:lnTo>
                    <a:pt x="362" y="312"/>
                  </a:lnTo>
                  <a:lnTo>
                    <a:pt x="376" y="326"/>
                  </a:lnTo>
                  <a:lnTo>
                    <a:pt x="390" y="342"/>
                  </a:lnTo>
                  <a:lnTo>
                    <a:pt x="406" y="354"/>
                  </a:lnTo>
                  <a:lnTo>
                    <a:pt x="422" y="368"/>
                  </a:lnTo>
                  <a:lnTo>
                    <a:pt x="440" y="380"/>
                  </a:lnTo>
                  <a:lnTo>
                    <a:pt x="460" y="390"/>
                  </a:lnTo>
                  <a:lnTo>
                    <a:pt x="482" y="400"/>
                  </a:lnTo>
                  <a:lnTo>
                    <a:pt x="482" y="400"/>
                  </a:lnTo>
                  <a:lnTo>
                    <a:pt x="500" y="406"/>
                  </a:lnTo>
                  <a:lnTo>
                    <a:pt x="520" y="410"/>
                  </a:lnTo>
                  <a:lnTo>
                    <a:pt x="540" y="412"/>
                  </a:lnTo>
                  <a:lnTo>
                    <a:pt x="562" y="410"/>
                  </a:lnTo>
                  <a:lnTo>
                    <a:pt x="584" y="408"/>
                  </a:lnTo>
                  <a:lnTo>
                    <a:pt x="608" y="404"/>
                  </a:lnTo>
                  <a:lnTo>
                    <a:pt x="630" y="398"/>
                  </a:lnTo>
                  <a:lnTo>
                    <a:pt x="650" y="388"/>
                  </a:lnTo>
                  <a:lnTo>
                    <a:pt x="650" y="388"/>
                  </a:lnTo>
                  <a:lnTo>
                    <a:pt x="666" y="382"/>
                  </a:lnTo>
                  <a:lnTo>
                    <a:pt x="680" y="374"/>
                  </a:lnTo>
                  <a:lnTo>
                    <a:pt x="692" y="364"/>
                  </a:lnTo>
                  <a:lnTo>
                    <a:pt x="702" y="354"/>
                  </a:lnTo>
                  <a:lnTo>
                    <a:pt x="712" y="344"/>
                  </a:lnTo>
                  <a:lnTo>
                    <a:pt x="720" y="334"/>
                  </a:lnTo>
                  <a:lnTo>
                    <a:pt x="726" y="322"/>
                  </a:lnTo>
                  <a:lnTo>
                    <a:pt x="732" y="310"/>
                  </a:lnTo>
                  <a:lnTo>
                    <a:pt x="732" y="310"/>
                  </a:lnTo>
                  <a:lnTo>
                    <a:pt x="734" y="304"/>
                  </a:lnTo>
                  <a:lnTo>
                    <a:pt x="740" y="298"/>
                  </a:lnTo>
                  <a:lnTo>
                    <a:pt x="746" y="294"/>
                  </a:lnTo>
                  <a:lnTo>
                    <a:pt x="752" y="292"/>
                  </a:lnTo>
                  <a:lnTo>
                    <a:pt x="752" y="292"/>
                  </a:lnTo>
                  <a:lnTo>
                    <a:pt x="760" y="292"/>
                  </a:lnTo>
                  <a:lnTo>
                    <a:pt x="766" y="294"/>
                  </a:lnTo>
                  <a:lnTo>
                    <a:pt x="772" y="298"/>
                  </a:lnTo>
                  <a:lnTo>
                    <a:pt x="778" y="302"/>
                  </a:lnTo>
                  <a:lnTo>
                    <a:pt x="788" y="318"/>
                  </a:lnTo>
                  <a:lnTo>
                    <a:pt x="788" y="318"/>
                  </a:lnTo>
                  <a:lnTo>
                    <a:pt x="802" y="338"/>
                  </a:lnTo>
                  <a:lnTo>
                    <a:pt x="816" y="354"/>
                  </a:lnTo>
                  <a:lnTo>
                    <a:pt x="816" y="354"/>
                  </a:lnTo>
                  <a:lnTo>
                    <a:pt x="822" y="364"/>
                  </a:lnTo>
                  <a:lnTo>
                    <a:pt x="822" y="374"/>
                  </a:lnTo>
                  <a:lnTo>
                    <a:pt x="820" y="384"/>
                  </a:lnTo>
                  <a:lnTo>
                    <a:pt x="814" y="392"/>
                  </a:lnTo>
                  <a:lnTo>
                    <a:pt x="814" y="392"/>
                  </a:lnTo>
                  <a:lnTo>
                    <a:pt x="806" y="396"/>
                  </a:lnTo>
                  <a:lnTo>
                    <a:pt x="796" y="398"/>
                  </a:lnTo>
                  <a:lnTo>
                    <a:pt x="786" y="396"/>
                  </a:lnTo>
                  <a:lnTo>
                    <a:pt x="778" y="390"/>
                  </a:lnTo>
                  <a:lnTo>
                    <a:pt x="778" y="390"/>
                  </a:lnTo>
                  <a:lnTo>
                    <a:pt x="760" y="366"/>
                  </a:lnTo>
                  <a:lnTo>
                    <a:pt x="760" y="366"/>
                  </a:lnTo>
                  <a:lnTo>
                    <a:pt x="742" y="388"/>
                  </a:lnTo>
                  <a:lnTo>
                    <a:pt x="722" y="406"/>
                  </a:lnTo>
                  <a:lnTo>
                    <a:pt x="700" y="422"/>
                  </a:lnTo>
                  <a:lnTo>
                    <a:pt x="672" y="436"/>
                  </a:lnTo>
                  <a:lnTo>
                    <a:pt x="672" y="436"/>
                  </a:lnTo>
                  <a:lnTo>
                    <a:pt x="646" y="446"/>
                  </a:lnTo>
                  <a:lnTo>
                    <a:pt x="618" y="454"/>
                  </a:lnTo>
                  <a:lnTo>
                    <a:pt x="590" y="460"/>
                  </a:lnTo>
                  <a:lnTo>
                    <a:pt x="564" y="462"/>
                  </a:lnTo>
                  <a:lnTo>
                    <a:pt x="536" y="464"/>
                  </a:lnTo>
                  <a:lnTo>
                    <a:pt x="510" y="460"/>
                  </a:lnTo>
                  <a:lnTo>
                    <a:pt x="484" y="456"/>
                  </a:lnTo>
                  <a:lnTo>
                    <a:pt x="462" y="448"/>
                  </a:lnTo>
                  <a:lnTo>
                    <a:pt x="462" y="448"/>
                  </a:lnTo>
                  <a:lnTo>
                    <a:pt x="424" y="428"/>
                  </a:lnTo>
                  <a:lnTo>
                    <a:pt x="388" y="408"/>
                  </a:lnTo>
                  <a:lnTo>
                    <a:pt x="372" y="394"/>
                  </a:lnTo>
                  <a:lnTo>
                    <a:pt x="358" y="382"/>
                  </a:lnTo>
                  <a:lnTo>
                    <a:pt x="344" y="368"/>
                  </a:lnTo>
                  <a:lnTo>
                    <a:pt x="332" y="354"/>
                  </a:lnTo>
                  <a:lnTo>
                    <a:pt x="332" y="354"/>
                  </a:lnTo>
                  <a:lnTo>
                    <a:pt x="314" y="376"/>
                  </a:lnTo>
                  <a:lnTo>
                    <a:pt x="296" y="392"/>
                  </a:lnTo>
                  <a:lnTo>
                    <a:pt x="296" y="392"/>
                  </a:lnTo>
                  <a:lnTo>
                    <a:pt x="286" y="396"/>
                  </a:lnTo>
                  <a:lnTo>
                    <a:pt x="276" y="396"/>
                  </a:lnTo>
                  <a:lnTo>
                    <a:pt x="268" y="392"/>
                  </a:lnTo>
                  <a:lnTo>
                    <a:pt x="260" y="386"/>
                  </a:lnTo>
                  <a:lnTo>
                    <a:pt x="260" y="386"/>
                  </a:lnTo>
                  <a:lnTo>
                    <a:pt x="256" y="376"/>
                  </a:lnTo>
                  <a:lnTo>
                    <a:pt x="254" y="366"/>
                  </a:lnTo>
                  <a:lnTo>
                    <a:pt x="258" y="356"/>
                  </a:lnTo>
                  <a:lnTo>
                    <a:pt x="266" y="350"/>
                  </a:lnTo>
                  <a:lnTo>
                    <a:pt x="266" y="35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6"/>
            <p:cNvSpPr/>
            <p:nvPr/>
          </p:nvSpPr>
          <p:spPr>
            <a:xfrm>
              <a:off x="5359320" y="9839520"/>
              <a:ext cx="1752480" cy="1746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4" h="110">
                  <a:moveTo>
                    <a:pt x="1068" y="10"/>
                  </a:moveTo>
                  <a:lnTo>
                    <a:pt x="1068" y="10"/>
                  </a:lnTo>
                  <a:lnTo>
                    <a:pt x="1048" y="14"/>
                  </a:lnTo>
                  <a:lnTo>
                    <a:pt x="1028" y="16"/>
                  </a:lnTo>
                  <a:lnTo>
                    <a:pt x="1028" y="16"/>
                  </a:lnTo>
                  <a:lnTo>
                    <a:pt x="1022" y="24"/>
                  </a:lnTo>
                  <a:lnTo>
                    <a:pt x="1012" y="28"/>
                  </a:lnTo>
                  <a:lnTo>
                    <a:pt x="1012" y="28"/>
                  </a:lnTo>
                  <a:lnTo>
                    <a:pt x="980" y="34"/>
                  </a:lnTo>
                  <a:lnTo>
                    <a:pt x="948" y="38"/>
                  </a:lnTo>
                  <a:lnTo>
                    <a:pt x="948" y="38"/>
                  </a:lnTo>
                  <a:lnTo>
                    <a:pt x="814" y="40"/>
                  </a:lnTo>
                  <a:lnTo>
                    <a:pt x="680" y="40"/>
                  </a:lnTo>
                  <a:lnTo>
                    <a:pt x="546" y="40"/>
                  </a:lnTo>
                  <a:lnTo>
                    <a:pt x="410" y="36"/>
                  </a:lnTo>
                  <a:lnTo>
                    <a:pt x="410" y="36"/>
                  </a:lnTo>
                  <a:lnTo>
                    <a:pt x="344" y="34"/>
                  </a:lnTo>
                  <a:lnTo>
                    <a:pt x="278" y="32"/>
                  </a:lnTo>
                  <a:lnTo>
                    <a:pt x="212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0" y="28"/>
                  </a:lnTo>
                  <a:lnTo>
                    <a:pt x="134" y="26"/>
                  </a:lnTo>
                  <a:lnTo>
                    <a:pt x="128" y="22"/>
                  </a:lnTo>
                  <a:lnTo>
                    <a:pt x="124" y="16"/>
                  </a:lnTo>
                  <a:lnTo>
                    <a:pt x="124" y="16"/>
                  </a:lnTo>
                  <a:lnTo>
                    <a:pt x="84" y="1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2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4" y="58"/>
                  </a:lnTo>
                  <a:lnTo>
                    <a:pt x="32" y="64"/>
                  </a:lnTo>
                  <a:lnTo>
                    <a:pt x="42" y="68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158" y="82"/>
                  </a:lnTo>
                  <a:lnTo>
                    <a:pt x="264" y="92"/>
                  </a:lnTo>
                  <a:lnTo>
                    <a:pt x="264" y="92"/>
                  </a:lnTo>
                  <a:lnTo>
                    <a:pt x="312" y="94"/>
                  </a:lnTo>
                  <a:lnTo>
                    <a:pt x="362" y="98"/>
                  </a:lnTo>
                  <a:lnTo>
                    <a:pt x="410" y="100"/>
                  </a:lnTo>
                  <a:lnTo>
                    <a:pt x="434" y="104"/>
                  </a:lnTo>
                  <a:lnTo>
                    <a:pt x="458" y="108"/>
                  </a:lnTo>
                  <a:lnTo>
                    <a:pt x="458" y="108"/>
                  </a:lnTo>
                  <a:lnTo>
                    <a:pt x="564" y="108"/>
                  </a:lnTo>
                  <a:lnTo>
                    <a:pt x="670" y="110"/>
                  </a:lnTo>
                  <a:lnTo>
                    <a:pt x="778" y="108"/>
                  </a:lnTo>
                  <a:lnTo>
                    <a:pt x="830" y="106"/>
                  </a:lnTo>
                  <a:lnTo>
                    <a:pt x="884" y="102"/>
                  </a:lnTo>
                  <a:lnTo>
                    <a:pt x="884" y="102"/>
                  </a:lnTo>
                  <a:lnTo>
                    <a:pt x="918" y="98"/>
                  </a:lnTo>
                  <a:lnTo>
                    <a:pt x="952" y="92"/>
                  </a:lnTo>
                  <a:lnTo>
                    <a:pt x="984" y="84"/>
                  </a:lnTo>
                  <a:lnTo>
                    <a:pt x="1020" y="78"/>
                  </a:lnTo>
                  <a:lnTo>
                    <a:pt x="1020" y="78"/>
                  </a:lnTo>
                  <a:lnTo>
                    <a:pt x="1036" y="74"/>
                  </a:lnTo>
                  <a:lnTo>
                    <a:pt x="1054" y="66"/>
                  </a:lnTo>
                  <a:lnTo>
                    <a:pt x="1070" y="60"/>
                  </a:lnTo>
                  <a:lnTo>
                    <a:pt x="1086" y="54"/>
                  </a:lnTo>
                  <a:lnTo>
                    <a:pt x="1090" y="52"/>
                  </a:lnTo>
                  <a:lnTo>
                    <a:pt x="1090" y="52"/>
                  </a:lnTo>
                  <a:lnTo>
                    <a:pt x="1096" y="48"/>
                  </a:lnTo>
                  <a:lnTo>
                    <a:pt x="1100" y="42"/>
                  </a:lnTo>
                  <a:lnTo>
                    <a:pt x="1102" y="36"/>
                  </a:lnTo>
                  <a:lnTo>
                    <a:pt x="1104" y="30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104" y="0"/>
                  </a:lnTo>
                  <a:lnTo>
                    <a:pt x="1068" y="10"/>
                  </a:lnTo>
                  <a:lnTo>
                    <a:pt x="1068" y="10"/>
                  </a:lnTo>
                  <a:close/>
                </a:path>
              </a:pathLst>
            </a:custGeom>
            <a:solidFill>
              <a:srgbClr val="8f9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4940280" y="6591240"/>
              <a:ext cx="549000" cy="20628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46" h="130">
                  <a:moveTo>
                    <a:pt x="346" y="130"/>
                  </a:moveTo>
                  <a:lnTo>
                    <a:pt x="346" y="130"/>
                  </a:lnTo>
                  <a:lnTo>
                    <a:pt x="346" y="130"/>
                  </a:lnTo>
                  <a:lnTo>
                    <a:pt x="344" y="128"/>
                  </a:lnTo>
                  <a:lnTo>
                    <a:pt x="344" y="128"/>
                  </a:lnTo>
                  <a:lnTo>
                    <a:pt x="292" y="88"/>
                  </a:lnTo>
                  <a:lnTo>
                    <a:pt x="266" y="66"/>
                  </a:lnTo>
                  <a:lnTo>
                    <a:pt x="242" y="44"/>
                  </a:lnTo>
                  <a:lnTo>
                    <a:pt x="242" y="44"/>
                  </a:lnTo>
                  <a:lnTo>
                    <a:pt x="202" y="34"/>
                  </a:lnTo>
                  <a:lnTo>
                    <a:pt x="182" y="28"/>
                  </a:lnTo>
                  <a:lnTo>
                    <a:pt x="164" y="18"/>
                  </a:lnTo>
                  <a:lnTo>
                    <a:pt x="164" y="18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38" y="12"/>
                  </a:lnTo>
                  <a:lnTo>
                    <a:pt x="106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6"/>
                  </a:lnTo>
                  <a:lnTo>
                    <a:pt x="20" y="10"/>
                  </a:lnTo>
                  <a:lnTo>
                    <a:pt x="1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54" y="36"/>
                  </a:lnTo>
                  <a:lnTo>
                    <a:pt x="102" y="42"/>
                  </a:lnTo>
                  <a:lnTo>
                    <a:pt x="150" y="50"/>
                  </a:lnTo>
                  <a:lnTo>
                    <a:pt x="194" y="60"/>
                  </a:lnTo>
                  <a:lnTo>
                    <a:pt x="236" y="74"/>
                  </a:lnTo>
                  <a:lnTo>
                    <a:pt x="276" y="90"/>
                  </a:lnTo>
                  <a:lnTo>
                    <a:pt x="312" y="110"/>
                  </a:lnTo>
                  <a:lnTo>
                    <a:pt x="346" y="130"/>
                  </a:lnTo>
                  <a:lnTo>
                    <a:pt x="346" y="130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8"/>
            <p:cNvSpPr/>
            <p:nvPr/>
          </p:nvSpPr>
          <p:spPr>
            <a:xfrm>
              <a:off x="6543720" y="6708600"/>
              <a:ext cx="1708200" cy="1380960"/>
            </a:xfrm>
            <a:custGeom>
              <a:avLst/>
              <a:gdLst>
                <a:gd name="textAreaLeft" fmla="*/ 0 w 1708200"/>
                <a:gd name="textAreaRight" fmla="*/ 1708560 w 170820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1076" h="870">
                  <a:moveTo>
                    <a:pt x="212" y="776"/>
                  </a:moveTo>
                  <a:lnTo>
                    <a:pt x="212" y="776"/>
                  </a:lnTo>
                  <a:lnTo>
                    <a:pt x="254" y="798"/>
                  </a:lnTo>
                  <a:lnTo>
                    <a:pt x="298" y="818"/>
                  </a:lnTo>
                  <a:lnTo>
                    <a:pt x="346" y="836"/>
                  </a:lnTo>
                  <a:lnTo>
                    <a:pt x="394" y="848"/>
                  </a:lnTo>
                  <a:lnTo>
                    <a:pt x="444" y="858"/>
                  </a:lnTo>
                  <a:lnTo>
                    <a:pt x="494" y="866"/>
                  </a:lnTo>
                  <a:lnTo>
                    <a:pt x="546" y="870"/>
                  </a:lnTo>
                  <a:lnTo>
                    <a:pt x="596" y="870"/>
                  </a:lnTo>
                  <a:lnTo>
                    <a:pt x="596" y="870"/>
                  </a:lnTo>
                  <a:lnTo>
                    <a:pt x="606" y="856"/>
                  </a:lnTo>
                  <a:lnTo>
                    <a:pt x="616" y="842"/>
                  </a:lnTo>
                  <a:lnTo>
                    <a:pt x="628" y="830"/>
                  </a:lnTo>
                  <a:lnTo>
                    <a:pt x="640" y="820"/>
                  </a:lnTo>
                  <a:lnTo>
                    <a:pt x="640" y="820"/>
                  </a:lnTo>
                  <a:lnTo>
                    <a:pt x="648" y="812"/>
                  </a:lnTo>
                  <a:lnTo>
                    <a:pt x="656" y="808"/>
                  </a:lnTo>
                  <a:lnTo>
                    <a:pt x="658" y="808"/>
                  </a:lnTo>
                  <a:lnTo>
                    <a:pt x="658" y="808"/>
                  </a:lnTo>
                  <a:lnTo>
                    <a:pt x="666" y="806"/>
                  </a:lnTo>
                  <a:lnTo>
                    <a:pt x="666" y="806"/>
                  </a:lnTo>
                  <a:lnTo>
                    <a:pt x="674" y="798"/>
                  </a:lnTo>
                  <a:lnTo>
                    <a:pt x="684" y="792"/>
                  </a:lnTo>
                  <a:lnTo>
                    <a:pt x="708" y="786"/>
                  </a:lnTo>
                  <a:lnTo>
                    <a:pt x="708" y="786"/>
                  </a:lnTo>
                  <a:lnTo>
                    <a:pt x="728" y="780"/>
                  </a:lnTo>
                  <a:lnTo>
                    <a:pt x="748" y="776"/>
                  </a:lnTo>
                  <a:lnTo>
                    <a:pt x="790" y="772"/>
                  </a:lnTo>
                  <a:lnTo>
                    <a:pt x="790" y="772"/>
                  </a:lnTo>
                  <a:lnTo>
                    <a:pt x="848" y="772"/>
                  </a:lnTo>
                  <a:lnTo>
                    <a:pt x="876" y="772"/>
                  </a:lnTo>
                  <a:lnTo>
                    <a:pt x="904" y="774"/>
                  </a:lnTo>
                  <a:lnTo>
                    <a:pt x="904" y="774"/>
                  </a:lnTo>
                  <a:lnTo>
                    <a:pt x="934" y="750"/>
                  </a:lnTo>
                  <a:lnTo>
                    <a:pt x="962" y="724"/>
                  </a:lnTo>
                  <a:lnTo>
                    <a:pt x="988" y="696"/>
                  </a:lnTo>
                  <a:lnTo>
                    <a:pt x="1008" y="664"/>
                  </a:lnTo>
                  <a:lnTo>
                    <a:pt x="1008" y="664"/>
                  </a:lnTo>
                  <a:lnTo>
                    <a:pt x="1024" y="636"/>
                  </a:lnTo>
                  <a:lnTo>
                    <a:pt x="1038" y="608"/>
                  </a:lnTo>
                  <a:lnTo>
                    <a:pt x="1050" y="580"/>
                  </a:lnTo>
                  <a:lnTo>
                    <a:pt x="1060" y="552"/>
                  </a:lnTo>
                  <a:lnTo>
                    <a:pt x="1066" y="524"/>
                  </a:lnTo>
                  <a:lnTo>
                    <a:pt x="1072" y="496"/>
                  </a:lnTo>
                  <a:lnTo>
                    <a:pt x="1074" y="466"/>
                  </a:lnTo>
                  <a:lnTo>
                    <a:pt x="1076" y="438"/>
                  </a:lnTo>
                  <a:lnTo>
                    <a:pt x="1076" y="438"/>
                  </a:lnTo>
                  <a:lnTo>
                    <a:pt x="1074" y="400"/>
                  </a:lnTo>
                  <a:lnTo>
                    <a:pt x="1068" y="362"/>
                  </a:lnTo>
                  <a:lnTo>
                    <a:pt x="1058" y="324"/>
                  </a:lnTo>
                  <a:lnTo>
                    <a:pt x="1046" y="286"/>
                  </a:lnTo>
                  <a:lnTo>
                    <a:pt x="1028" y="250"/>
                  </a:lnTo>
                  <a:lnTo>
                    <a:pt x="1008" y="214"/>
                  </a:lnTo>
                  <a:lnTo>
                    <a:pt x="984" y="180"/>
                  </a:lnTo>
                  <a:lnTo>
                    <a:pt x="956" y="146"/>
                  </a:lnTo>
                  <a:lnTo>
                    <a:pt x="956" y="146"/>
                  </a:lnTo>
                  <a:lnTo>
                    <a:pt x="940" y="130"/>
                  </a:lnTo>
                  <a:lnTo>
                    <a:pt x="922" y="114"/>
                  </a:lnTo>
                  <a:lnTo>
                    <a:pt x="904" y="100"/>
                  </a:lnTo>
                  <a:lnTo>
                    <a:pt x="884" y="86"/>
                  </a:lnTo>
                  <a:lnTo>
                    <a:pt x="864" y="74"/>
                  </a:lnTo>
                  <a:lnTo>
                    <a:pt x="842" y="62"/>
                  </a:lnTo>
                  <a:lnTo>
                    <a:pt x="818" y="52"/>
                  </a:lnTo>
                  <a:lnTo>
                    <a:pt x="796" y="42"/>
                  </a:lnTo>
                  <a:lnTo>
                    <a:pt x="770" y="34"/>
                  </a:lnTo>
                  <a:lnTo>
                    <a:pt x="744" y="26"/>
                  </a:lnTo>
                  <a:lnTo>
                    <a:pt x="718" y="20"/>
                  </a:lnTo>
                  <a:lnTo>
                    <a:pt x="688" y="14"/>
                  </a:lnTo>
                  <a:lnTo>
                    <a:pt x="630" y="6"/>
                  </a:lnTo>
                  <a:lnTo>
                    <a:pt x="566" y="0"/>
                  </a:lnTo>
                  <a:lnTo>
                    <a:pt x="566" y="0"/>
                  </a:lnTo>
                  <a:lnTo>
                    <a:pt x="548" y="4"/>
                  </a:lnTo>
                  <a:lnTo>
                    <a:pt x="530" y="4"/>
                  </a:lnTo>
                  <a:lnTo>
                    <a:pt x="530" y="4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462" y="2"/>
                  </a:lnTo>
                  <a:lnTo>
                    <a:pt x="462" y="2"/>
                  </a:lnTo>
                  <a:lnTo>
                    <a:pt x="434" y="4"/>
                  </a:lnTo>
                  <a:lnTo>
                    <a:pt x="404" y="8"/>
                  </a:lnTo>
                  <a:lnTo>
                    <a:pt x="376" y="12"/>
                  </a:lnTo>
                  <a:lnTo>
                    <a:pt x="348" y="18"/>
                  </a:lnTo>
                  <a:lnTo>
                    <a:pt x="320" y="26"/>
                  </a:lnTo>
                  <a:lnTo>
                    <a:pt x="294" y="34"/>
                  </a:lnTo>
                  <a:lnTo>
                    <a:pt x="268" y="44"/>
                  </a:lnTo>
                  <a:lnTo>
                    <a:pt x="244" y="54"/>
                  </a:lnTo>
                  <a:lnTo>
                    <a:pt x="220" y="66"/>
                  </a:lnTo>
                  <a:lnTo>
                    <a:pt x="196" y="80"/>
                  </a:lnTo>
                  <a:lnTo>
                    <a:pt x="174" y="92"/>
                  </a:lnTo>
                  <a:lnTo>
                    <a:pt x="152" y="108"/>
                  </a:lnTo>
                  <a:lnTo>
                    <a:pt x="134" y="124"/>
                  </a:lnTo>
                  <a:lnTo>
                    <a:pt x="114" y="140"/>
                  </a:lnTo>
                  <a:lnTo>
                    <a:pt x="96" y="158"/>
                  </a:lnTo>
                  <a:lnTo>
                    <a:pt x="80" y="176"/>
                  </a:lnTo>
                  <a:lnTo>
                    <a:pt x="80" y="176"/>
                  </a:lnTo>
                  <a:lnTo>
                    <a:pt x="58" y="208"/>
                  </a:lnTo>
                  <a:lnTo>
                    <a:pt x="38" y="242"/>
                  </a:lnTo>
                  <a:lnTo>
                    <a:pt x="22" y="278"/>
                  </a:lnTo>
                  <a:lnTo>
                    <a:pt x="10" y="314"/>
                  </a:lnTo>
                  <a:lnTo>
                    <a:pt x="4" y="354"/>
                  </a:lnTo>
                  <a:lnTo>
                    <a:pt x="0" y="394"/>
                  </a:lnTo>
                  <a:lnTo>
                    <a:pt x="0" y="436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10" y="508"/>
                  </a:lnTo>
                  <a:lnTo>
                    <a:pt x="18" y="536"/>
                  </a:lnTo>
                  <a:lnTo>
                    <a:pt x="26" y="560"/>
                  </a:lnTo>
                  <a:lnTo>
                    <a:pt x="36" y="584"/>
                  </a:lnTo>
                  <a:lnTo>
                    <a:pt x="48" y="608"/>
                  </a:lnTo>
                  <a:lnTo>
                    <a:pt x="60" y="628"/>
                  </a:lnTo>
                  <a:lnTo>
                    <a:pt x="72" y="648"/>
                  </a:lnTo>
                  <a:lnTo>
                    <a:pt x="86" y="668"/>
                  </a:lnTo>
                  <a:lnTo>
                    <a:pt x="102" y="684"/>
                  </a:lnTo>
                  <a:lnTo>
                    <a:pt x="116" y="702"/>
                  </a:lnTo>
                  <a:lnTo>
                    <a:pt x="148" y="730"/>
                  </a:lnTo>
                  <a:lnTo>
                    <a:pt x="180" y="756"/>
                  </a:lnTo>
                  <a:lnTo>
                    <a:pt x="212" y="776"/>
                  </a:lnTo>
                  <a:lnTo>
                    <a:pt x="212" y="776"/>
                  </a:lnTo>
                  <a:close/>
                  <a:moveTo>
                    <a:pt x="174" y="290"/>
                  </a:moveTo>
                  <a:lnTo>
                    <a:pt x="174" y="290"/>
                  </a:lnTo>
                  <a:lnTo>
                    <a:pt x="184" y="256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206" y="208"/>
                  </a:lnTo>
                  <a:lnTo>
                    <a:pt x="216" y="192"/>
                  </a:lnTo>
                  <a:lnTo>
                    <a:pt x="236" y="160"/>
                  </a:lnTo>
                  <a:lnTo>
                    <a:pt x="244" y="146"/>
                  </a:lnTo>
                  <a:lnTo>
                    <a:pt x="256" y="130"/>
                  </a:lnTo>
                  <a:lnTo>
                    <a:pt x="268" y="116"/>
                  </a:lnTo>
                  <a:lnTo>
                    <a:pt x="280" y="104"/>
                  </a:lnTo>
                  <a:lnTo>
                    <a:pt x="280" y="104"/>
                  </a:lnTo>
                  <a:lnTo>
                    <a:pt x="290" y="100"/>
                  </a:lnTo>
                  <a:lnTo>
                    <a:pt x="290" y="100"/>
                  </a:lnTo>
                  <a:lnTo>
                    <a:pt x="294" y="96"/>
                  </a:lnTo>
                  <a:lnTo>
                    <a:pt x="300" y="92"/>
                  </a:lnTo>
                  <a:lnTo>
                    <a:pt x="300" y="92"/>
                  </a:lnTo>
                  <a:lnTo>
                    <a:pt x="330" y="80"/>
                  </a:lnTo>
                  <a:lnTo>
                    <a:pt x="360" y="68"/>
                  </a:lnTo>
                  <a:lnTo>
                    <a:pt x="392" y="58"/>
                  </a:lnTo>
                  <a:lnTo>
                    <a:pt x="424" y="50"/>
                  </a:lnTo>
                  <a:lnTo>
                    <a:pt x="456" y="46"/>
                  </a:lnTo>
                  <a:lnTo>
                    <a:pt x="488" y="42"/>
                  </a:lnTo>
                  <a:lnTo>
                    <a:pt x="522" y="40"/>
                  </a:lnTo>
                  <a:lnTo>
                    <a:pt x="554" y="40"/>
                  </a:lnTo>
                  <a:lnTo>
                    <a:pt x="586" y="42"/>
                  </a:lnTo>
                  <a:lnTo>
                    <a:pt x="620" y="44"/>
                  </a:lnTo>
                  <a:lnTo>
                    <a:pt x="652" y="50"/>
                  </a:lnTo>
                  <a:lnTo>
                    <a:pt x="684" y="58"/>
                  </a:lnTo>
                  <a:lnTo>
                    <a:pt x="714" y="68"/>
                  </a:lnTo>
                  <a:lnTo>
                    <a:pt x="744" y="78"/>
                  </a:lnTo>
                  <a:lnTo>
                    <a:pt x="774" y="92"/>
                  </a:lnTo>
                  <a:lnTo>
                    <a:pt x="804" y="108"/>
                  </a:lnTo>
                  <a:lnTo>
                    <a:pt x="804" y="108"/>
                  </a:lnTo>
                  <a:lnTo>
                    <a:pt x="810" y="112"/>
                  </a:lnTo>
                  <a:lnTo>
                    <a:pt x="812" y="118"/>
                  </a:lnTo>
                  <a:lnTo>
                    <a:pt x="812" y="118"/>
                  </a:lnTo>
                  <a:lnTo>
                    <a:pt x="824" y="124"/>
                  </a:lnTo>
                  <a:lnTo>
                    <a:pt x="834" y="132"/>
                  </a:lnTo>
                  <a:lnTo>
                    <a:pt x="834" y="132"/>
                  </a:lnTo>
                  <a:lnTo>
                    <a:pt x="866" y="178"/>
                  </a:lnTo>
                  <a:lnTo>
                    <a:pt x="880" y="202"/>
                  </a:lnTo>
                  <a:lnTo>
                    <a:pt x="894" y="224"/>
                  </a:lnTo>
                  <a:lnTo>
                    <a:pt x="906" y="250"/>
                  </a:lnTo>
                  <a:lnTo>
                    <a:pt x="916" y="274"/>
                  </a:lnTo>
                  <a:lnTo>
                    <a:pt x="924" y="300"/>
                  </a:lnTo>
                  <a:lnTo>
                    <a:pt x="930" y="328"/>
                  </a:lnTo>
                  <a:lnTo>
                    <a:pt x="930" y="328"/>
                  </a:lnTo>
                  <a:lnTo>
                    <a:pt x="934" y="364"/>
                  </a:lnTo>
                  <a:lnTo>
                    <a:pt x="936" y="384"/>
                  </a:lnTo>
                  <a:lnTo>
                    <a:pt x="936" y="402"/>
                  </a:lnTo>
                  <a:lnTo>
                    <a:pt x="936" y="420"/>
                  </a:lnTo>
                  <a:lnTo>
                    <a:pt x="934" y="438"/>
                  </a:lnTo>
                  <a:lnTo>
                    <a:pt x="928" y="456"/>
                  </a:lnTo>
                  <a:lnTo>
                    <a:pt x="922" y="472"/>
                  </a:lnTo>
                  <a:lnTo>
                    <a:pt x="922" y="472"/>
                  </a:lnTo>
                  <a:lnTo>
                    <a:pt x="920" y="478"/>
                  </a:lnTo>
                  <a:lnTo>
                    <a:pt x="916" y="482"/>
                  </a:lnTo>
                  <a:lnTo>
                    <a:pt x="916" y="482"/>
                  </a:lnTo>
                  <a:lnTo>
                    <a:pt x="914" y="482"/>
                  </a:lnTo>
                  <a:lnTo>
                    <a:pt x="914" y="482"/>
                  </a:lnTo>
                  <a:lnTo>
                    <a:pt x="914" y="482"/>
                  </a:lnTo>
                  <a:lnTo>
                    <a:pt x="914" y="482"/>
                  </a:lnTo>
                  <a:lnTo>
                    <a:pt x="910" y="484"/>
                  </a:lnTo>
                  <a:lnTo>
                    <a:pt x="910" y="484"/>
                  </a:lnTo>
                  <a:lnTo>
                    <a:pt x="900" y="500"/>
                  </a:lnTo>
                  <a:lnTo>
                    <a:pt x="888" y="514"/>
                  </a:lnTo>
                  <a:lnTo>
                    <a:pt x="876" y="526"/>
                  </a:lnTo>
                  <a:lnTo>
                    <a:pt x="860" y="538"/>
                  </a:lnTo>
                  <a:lnTo>
                    <a:pt x="860" y="538"/>
                  </a:lnTo>
                  <a:lnTo>
                    <a:pt x="818" y="568"/>
                  </a:lnTo>
                  <a:lnTo>
                    <a:pt x="796" y="580"/>
                  </a:lnTo>
                  <a:lnTo>
                    <a:pt x="772" y="590"/>
                  </a:lnTo>
                  <a:lnTo>
                    <a:pt x="772" y="590"/>
                  </a:lnTo>
                  <a:lnTo>
                    <a:pt x="716" y="606"/>
                  </a:lnTo>
                  <a:lnTo>
                    <a:pt x="660" y="622"/>
                  </a:lnTo>
                  <a:lnTo>
                    <a:pt x="660" y="622"/>
                  </a:lnTo>
                  <a:lnTo>
                    <a:pt x="640" y="626"/>
                  </a:lnTo>
                  <a:lnTo>
                    <a:pt x="622" y="628"/>
                  </a:lnTo>
                  <a:lnTo>
                    <a:pt x="582" y="630"/>
                  </a:lnTo>
                  <a:lnTo>
                    <a:pt x="506" y="628"/>
                  </a:lnTo>
                  <a:lnTo>
                    <a:pt x="506" y="628"/>
                  </a:lnTo>
                  <a:lnTo>
                    <a:pt x="462" y="626"/>
                  </a:lnTo>
                  <a:lnTo>
                    <a:pt x="416" y="620"/>
                  </a:lnTo>
                  <a:lnTo>
                    <a:pt x="372" y="612"/>
                  </a:lnTo>
                  <a:lnTo>
                    <a:pt x="352" y="604"/>
                  </a:lnTo>
                  <a:lnTo>
                    <a:pt x="330" y="598"/>
                  </a:lnTo>
                  <a:lnTo>
                    <a:pt x="310" y="588"/>
                  </a:lnTo>
                  <a:lnTo>
                    <a:pt x="290" y="578"/>
                  </a:lnTo>
                  <a:lnTo>
                    <a:pt x="270" y="568"/>
                  </a:lnTo>
                  <a:lnTo>
                    <a:pt x="252" y="556"/>
                  </a:lnTo>
                  <a:lnTo>
                    <a:pt x="236" y="542"/>
                  </a:lnTo>
                  <a:lnTo>
                    <a:pt x="220" y="526"/>
                  </a:lnTo>
                  <a:lnTo>
                    <a:pt x="206" y="508"/>
                  </a:lnTo>
                  <a:lnTo>
                    <a:pt x="192" y="490"/>
                  </a:lnTo>
                  <a:lnTo>
                    <a:pt x="192" y="490"/>
                  </a:lnTo>
                  <a:lnTo>
                    <a:pt x="188" y="482"/>
                  </a:lnTo>
                  <a:lnTo>
                    <a:pt x="186" y="474"/>
                  </a:lnTo>
                  <a:lnTo>
                    <a:pt x="186" y="474"/>
                  </a:lnTo>
                  <a:lnTo>
                    <a:pt x="182" y="470"/>
                  </a:lnTo>
                  <a:lnTo>
                    <a:pt x="180" y="464"/>
                  </a:lnTo>
                  <a:lnTo>
                    <a:pt x="180" y="464"/>
                  </a:lnTo>
                  <a:lnTo>
                    <a:pt x="170" y="444"/>
                  </a:lnTo>
                  <a:lnTo>
                    <a:pt x="164" y="422"/>
                  </a:lnTo>
                  <a:lnTo>
                    <a:pt x="160" y="400"/>
                  </a:lnTo>
                  <a:lnTo>
                    <a:pt x="160" y="378"/>
                  </a:lnTo>
                  <a:lnTo>
                    <a:pt x="160" y="356"/>
                  </a:lnTo>
                  <a:lnTo>
                    <a:pt x="164" y="334"/>
                  </a:lnTo>
                  <a:lnTo>
                    <a:pt x="168" y="312"/>
                  </a:lnTo>
                  <a:lnTo>
                    <a:pt x="174" y="290"/>
                  </a:lnTo>
                  <a:lnTo>
                    <a:pt x="174" y="29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9"/>
            <p:cNvSpPr/>
            <p:nvPr/>
          </p:nvSpPr>
          <p:spPr>
            <a:xfrm>
              <a:off x="5784840" y="7067520"/>
              <a:ext cx="564840" cy="60948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56" h="384">
                  <a:moveTo>
                    <a:pt x="144" y="162"/>
                  </a:moveTo>
                  <a:lnTo>
                    <a:pt x="144" y="162"/>
                  </a:lnTo>
                  <a:lnTo>
                    <a:pt x="152" y="180"/>
                  </a:lnTo>
                  <a:lnTo>
                    <a:pt x="156" y="200"/>
                  </a:lnTo>
                  <a:lnTo>
                    <a:pt x="158" y="222"/>
                  </a:lnTo>
                  <a:lnTo>
                    <a:pt x="156" y="242"/>
                  </a:lnTo>
                  <a:lnTo>
                    <a:pt x="150" y="262"/>
                  </a:lnTo>
                  <a:lnTo>
                    <a:pt x="142" y="282"/>
                  </a:lnTo>
                  <a:lnTo>
                    <a:pt x="132" y="300"/>
                  </a:lnTo>
                  <a:lnTo>
                    <a:pt x="118" y="316"/>
                  </a:lnTo>
                  <a:lnTo>
                    <a:pt x="118" y="316"/>
                  </a:lnTo>
                  <a:lnTo>
                    <a:pt x="108" y="324"/>
                  </a:lnTo>
                  <a:lnTo>
                    <a:pt x="98" y="332"/>
                  </a:lnTo>
                  <a:lnTo>
                    <a:pt x="86" y="340"/>
                  </a:lnTo>
                  <a:lnTo>
                    <a:pt x="74" y="344"/>
                  </a:lnTo>
                  <a:lnTo>
                    <a:pt x="74" y="344"/>
                  </a:lnTo>
                  <a:lnTo>
                    <a:pt x="94" y="356"/>
                  </a:lnTo>
                  <a:lnTo>
                    <a:pt x="116" y="364"/>
                  </a:lnTo>
                  <a:lnTo>
                    <a:pt x="138" y="372"/>
                  </a:lnTo>
                  <a:lnTo>
                    <a:pt x="160" y="378"/>
                  </a:lnTo>
                  <a:lnTo>
                    <a:pt x="184" y="382"/>
                  </a:lnTo>
                  <a:lnTo>
                    <a:pt x="208" y="384"/>
                  </a:lnTo>
                  <a:lnTo>
                    <a:pt x="230" y="384"/>
                  </a:lnTo>
                  <a:lnTo>
                    <a:pt x="254" y="380"/>
                  </a:lnTo>
                  <a:lnTo>
                    <a:pt x="254" y="380"/>
                  </a:lnTo>
                  <a:lnTo>
                    <a:pt x="254" y="370"/>
                  </a:lnTo>
                  <a:lnTo>
                    <a:pt x="252" y="364"/>
                  </a:lnTo>
                  <a:lnTo>
                    <a:pt x="250" y="360"/>
                  </a:lnTo>
                  <a:lnTo>
                    <a:pt x="250" y="360"/>
                  </a:lnTo>
                  <a:lnTo>
                    <a:pt x="242" y="354"/>
                  </a:lnTo>
                  <a:lnTo>
                    <a:pt x="238" y="346"/>
                  </a:lnTo>
                  <a:lnTo>
                    <a:pt x="236" y="338"/>
                  </a:lnTo>
                  <a:lnTo>
                    <a:pt x="236" y="328"/>
                  </a:lnTo>
                  <a:lnTo>
                    <a:pt x="236" y="328"/>
                  </a:lnTo>
                  <a:lnTo>
                    <a:pt x="240" y="322"/>
                  </a:lnTo>
                  <a:lnTo>
                    <a:pt x="246" y="316"/>
                  </a:lnTo>
                  <a:lnTo>
                    <a:pt x="250" y="314"/>
                  </a:lnTo>
                  <a:lnTo>
                    <a:pt x="258" y="312"/>
                  </a:lnTo>
                  <a:lnTo>
                    <a:pt x="266" y="310"/>
                  </a:lnTo>
                  <a:lnTo>
                    <a:pt x="266" y="310"/>
                  </a:lnTo>
                  <a:lnTo>
                    <a:pt x="276" y="308"/>
                  </a:lnTo>
                  <a:lnTo>
                    <a:pt x="284" y="304"/>
                  </a:lnTo>
                  <a:lnTo>
                    <a:pt x="302" y="294"/>
                  </a:lnTo>
                  <a:lnTo>
                    <a:pt x="302" y="294"/>
                  </a:lnTo>
                  <a:lnTo>
                    <a:pt x="298" y="284"/>
                  </a:lnTo>
                  <a:lnTo>
                    <a:pt x="294" y="274"/>
                  </a:lnTo>
                  <a:lnTo>
                    <a:pt x="282" y="256"/>
                  </a:lnTo>
                  <a:lnTo>
                    <a:pt x="280" y="254"/>
                  </a:lnTo>
                  <a:lnTo>
                    <a:pt x="280" y="254"/>
                  </a:lnTo>
                  <a:lnTo>
                    <a:pt x="272" y="246"/>
                  </a:lnTo>
                  <a:lnTo>
                    <a:pt x="270" y="238"/>
                  </a:lnTo>
                  <a:lnTo>
                    <a:pt x="270" y="228"/>
                  </a:lnTo>
                  <a:lnTo>
                    <a:pt x="274" y="218"/>
                  </a:lnTo>
                  <a:lnTo>
                    <a:pt x="276" y="214"/>
                  </a:lnTo>
                  <a:lnTo>
                    <a:pt x="276" y="214"/>
                  </a:lnTo>
                  <a:lnTo>
                    <a:pt x="284" y="208"/>
                  </a:lnTo>
                  <a:lnTo>
                    <a:pt x="292" y="204"/>
                  </a:lnTo>
                  <a:lnTo>
                    <a:pt x="302" y="202"/>
                  </a:lnTo>
                  <a:lnTo>
                    <a:pt x="302" y="202"/>
                  </a:lnTo>
                  <a:lnTo>
                    <a:pt x="316" y="198"/>
                  </a:lnTo>
                  <a:lnTo>
                    <a:pt x="330" y="192"/>
                  </a:lnTo>
                  <a:lnTo>
                    <a:pt x="344" y="186"/>
                  </a:lnTo>
                  <a:lnTo>
                    <a:pt x="356" y="176"/>
                  </a:lnTo>
                  <a:lnTo>
                    <a:pt x="356" y="176"/>
                  </a:lnTo>
                  <a:lnTo>
                    <a:pt x="356" y="166"/>
                  </a:lnTo>
                  <a:lnTo>
                    <a:pt x="356" y="154"/>
                  </a:lnTo>
                  <a:lnTo>
                    <a:pt x="354" y="144"/>
                  </a:lnTo>
                  <a:lnTo>
                    <a:pt x="350" y="134"/>
                  </a:lnTo>
                  <a:lnTo>
                    <a:pt x="344" y="124"/>
                  </a:lnTo>
                  <a:lnTo>
                    <a:pt x="338" y="118"/>
                  </a:lnTo>
                  <a:lnTo>
                    <a:pt x="328" y="112"/>
                  </a:lnTo>
                  <a:lnTo>
                    <a:pt x="316" y="110"/>
                  </a:lnTo>
                  <a:lnTo>
                    <a:pt x="302" y="102"/>
                  </a:lnTo>
                  <a:lnTo>
                    <a:pt x="302" y="102"/>
                  </a:lnTo>
                  <a:lnTo>
                    <a:pt x="296" y="96"/>
                  </a:lnTo>
                  <a:lnTo>
                    <a:pt x="292" y="86"/>
                  </a:lnTo>
                  <a:lnTo>
                    <a:pt x="292" y="76"/>
                  </a:lnTo>
                  <a:lnTo>
                    <a:pt x="296" y="66"/>
                  </a:lnTo>
                  <a:lnTo>
                    <a:pt x="296" y="66"/>
                  </a:lnTo>
                  <a:lnTo>
                    <a:pt x="298" y="64"/>
                  </a:lnTo>
                  <a:lnTo>
                    <a:pt x="302" y="62"/>
                  </a:lnTo>
                  <a:lnTo>
                    <a:pt x="302" y="62"/>
                  </a:lnTo>
                  <a:lnTo>
                    <a:pt x="316" y="42"/>
                  </a:lnTo>
                  <a:lnTo>
                    <a:pt x="322" y="30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10" y="10"/>
                  </a:lnTo>
                  <a:lnTo>
                    <a:pt x="294" y="6"/>
                  </a:lnTo>
                  <a:lnTo>
                    <a:pt x="278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28" y="2"/>
                  </a:lnTo>
                  <a:lnTo>
                    <a:pt x="192" y="4"/>
                  </a:lnTo>
                  <a:lnTo>
                    <a:pt x="156" y="8"/>
                  </a:lnTo>
                  <a:lnTo>
                    <a:pt x="122" y="16"/>
                  </a:lnTo>
                  <a:lnTo>
                    <a:pt x="88" y="28"/>
                  </a:lnTo>
                  <a:lnTo>
                    <a:pt x="56" y="42"/>
                  </a:lnTo>
                  <a:lnTo>
                    <a:pt x="42" y="52"/>
                  </a:lnTo>
                  <a:lnTo>
                    <a:pt x="26" y="62"/>
                  </a:lnTo>
                  <a:lnTo>
                    <a:pt x="14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0" y="92"/>
                  </a:lnTo>
                  <a:lnTo>
                    <a:pt x="36" y="92"/>
                  </a:lnTo>
                  <a:lnTo>
                    <a:pt x="64" y="98"/>
                  </a:lnTo>
                  <a:lnTo>
                    <a:pt x="86" y="106"/>
                  </a:lnTo>
                  <a:lnTo>
                    <a:pt x="104" y="116"/>
                  </a:lnTo>
                  <a:lnTo>
                    <a:pt x="120" y="128"/>
                  </a:lnTo>
                  <a:lnTo>
                    <a:pt x="132" y="140"/>
                  </a:lnTo>
                  <a:lnTo>
                    <a:pt x="140" y="152"/>
                  </a:lnTo>
                  <a:lnTo>
                    <a:pt x="144" y="162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0"/>
            <p:cNvSpPr/>
            <p:nvPr/>
          </p:nvSpPr>
          <p:spPr>
            <a:xfrm>
              <a:off x="6346800" y="7305480"/>
              <a:ext cx="136440" cy="241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86" h="152">
                  <a:moveTo>
                    <a:pt x="2" y="90"/>
                  </a:moveTo>
                  <a:lnTo>
                    <a:pt x="2" y="90"/>
                  </a:lnTo>
                  <a:lnTo>
                    <a:pt x="6" y="106"/>
                  </a:lnTo>
                  <a:lnTo>
                    <a:pt x="12" y="120"/>
                  </a:lnTo>
                  <a:lnTo>
                    <a:pt x="18" y="134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42" y="150"/>
                  </a:lnTo>
                  <a:lnTo>
                    <a:pt x="56" y="152"/>
                  </a:lnTo>
                  <a:lnTo>
                    <a:pt x="86" y="152"/>
                  </a:lnTo>
                  <a:lnTo>
                    <a:pt x="86" y="15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74" y="84"/>
                  </a:lnTo>
                  <a:lnTo>
                    <a:pt x="72" y="54"/>
                  </a:lnTo>
                  <a:lnTo>
                    <a:pt x="72" y="2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2" y="36"/>
                  </a:lnTo>
                  <a:lnTo>
                    <a:pt x="48" y="46"/>
                  </a:lnTo>
                  <a:lnTo>
                    <a:pt x="42" y="56"/>
                  </a:lnTo>
                  <a:lnTo>
                    <a:pt x="36" y="64"/>
                  </a:lnTo>
                  <a:lnTo>
                    <a:pt x="28" y="72"/>
                  </a:lnTo>
                  <a:lnTo>
                    <a:pt x="20" y="7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1"/>
            <p:cNvSpPr/>
            <p:nvPr/>
          </p:nvSpPr>
          <p:spPr>
            <a:xfrm>
              <a:off x="5807160" y="7296120"/>
              <a:ext cx="145800" cy="2444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92" h="154">
                  <a:moveTo>
                    <a:pt x="68" y="136"/>
                  </a:moveTo>
                  <a:lnTo>
                    <a:pt x="68" y="136"/>
                  </a:lnTo>
                  <a:lnTo>
                    <a:pt x="76" y="126"/>
                  </a:lnTo>
                  <a:lnTo>
                    <a:pt x="82" y="114"/>
                  </a:lnTo>
                  <a:lnTo>
                    <a:pt x="88" y="102"/>
                  </a:lnTo>
                  <a:lnTo>
                    <a:pt x="90" y="90"/>
                  </a:lnTo>
                  <a:lnTo>
                    <a:pt x="92" y="76"/>
                  </a:lnTo>
                  <a:lnTo>
                    <a:pt x="92" y="64"/>
                  </a:lnTo>
                  <a:lnTo>
                    <a:pt x="88" y="52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78" y="30"/>
                  </a:lnTo>
                  <a:lnTo>
                    <a:pt x="72" y="22"/>
                  </a:lnTo>
                  <a:lnTo>
                    <a:pt x="62" y="16"/>
                  </a:lnTo>
                  <a:lnTo>
                    <a:pt x="52" y="10"/>
                  </a:lnTo>
                  <a:lnTo>
                    <a:pt x="42" y="6"/>
                  </a:lnTo>
                  <a:lnTo>
                    <a:pt x="30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38"/>
                  </a:lnTo>
                  <a:lnTo>
                    <a:pt x="8" y="76"/>
                  </a:lnTo>
                  <a:lnTo>
                    <a:pt x="6" y="114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12" y="154"/>
                  </a:lnTo>
                  <a:lnTo>
                    <a:pt x="24" y="154"/>
                  </a:lnTo>
                  <a:lnTo>
                    <a:pt x="34" y="154"/>
                  </a:lnTo>
                  <a:lnTo>
                    <a:pt x="42" y="152"/>
                  </a:lnTo>
                  <a:lnTo>
                    <a:pt x="56" y="144"/>
                  </a:lnTo>
                  <a:lnTo>
                    <a:pt x="68" y="136"/>
                  </a:lnTo>
                  <a:lnTo>
                    <a:pt x="68" y="136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2"/>
            <p:cNvSpPr/>
            <p:nvPr/>
          </p:nvSpPr>
          <p:spPr>
            <a:xfrm>
              <a:off x="6880320" y="6854760"/>
              <a:ext cx="1066680" cy="5461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672" h="344">
                  <a:moveTo>
                    <a:pt x="76" y="256"/>
                  </a:moveTo>
                  <a:lnTo>
                    <a:pt x="76" y="256"/>
                  </a:lnTo>
                  <a:lnTo>
                    <a:pt x="98" y="252"/>
                  </a:lnTo>
                  <a:lnTo>
                    <a:pt x="120" y="248"/>
                  </a:lnTo>
                  <a:lnTo>
                    <a:pt x="164" y="246"/>
                  </a:lnTo>
                  <a:lnTo>
                    <a:pt x="208" y="246"/>
                  </a:lnTo>
                  <a:lnTo>
                    <a:pt x="252" y="246"/>
                  </a:lnTo>
                  <a:lnTo>
                    <a:pt x="252" y="246"/>
                  </a:lnTo>
                  <a:lnTo>
                    <a:pt x="262" y="234"/>
                  </a:lnTo>
                  <a:lnTo>
                    <a:pt x="276" y="224"/>
                  </a:lnTo>
                  <a:lnTo>
                    <a:pt x="276" y="224"/>
                  </a:lnTo>
                  <a:lnTo>
                    <a:pt x="290" y="218"/>
                  </a:lnTo>
                  <a:lnTo>
                    <a:pt x="306" y="214"/>
                  </a:lnTo>
                  <a:lnTo>
                    <a:pt x="324" y="212"/>
                  </a:lnTo>
                  <a:lnTo>
                    <a:pt x="340" y="214"/>
                  </a:lnTo>
                  <a:lnTo>
                    <a:pt x="356" y="220"/>
                  </a:lnTo>
                  <a:lnTo>
                    <a:pt x="370" y="228"/>
                  </a:lnTo>
                  <a:lnTo>
                    <a:pt x="384" y="238"/>
                  </a:lnTo>
                  <a:lnTo>
                    <a:pt x="394" y="252"/>
                  </a:lnTo>
                  <a:lnTo>
                    <a:pt x="394" y="252"/>
                  </a:lnTo>
                  <a:lnTo>
                    <a:pt x="396" y="254"/>
                  </a:lnTo>
                  <a:lnTo>
                    <a:pt x="396" y="254"/>
                  </a:lnTo>
                  <a:lnTo>
                    <a:pt x="428" y="254"/>
                  </a:lnTo>
                  <a:lnTo>
                    <a:pt x="460" y="258"/>
                  </a:lnTo>
                  <a:lnTo>
                    <a:pt x="492" y="264"/>
                  </a:lnTo>
                  <a:lnTo>
                    <a:pt x="522" y="272"/>
                  </a:lnTo>
                  <a:lnTo>
                    <a:pt x="554" y="280"/>
                  </a:lnTo>
                  <a:lnTo>
                    <a:pt x="584" y="292"/>
                  </a:lnTo>
                  <a:lnTo>
                    <a:pt x="614" y="304"/>
                  </a:lnTo>
                  <a:lnTo>
                    <a:pt x="642" y="318"/>
                  </a:lnTo>
                  <a:lnTo>
                    <a:pt x="642" y="318"/>
                  </a:lnTo>
                  <a:lnTo>
                    <a:pt x="650" y="322"/>
                  </a:lnTo>
                  <a:lnTo>
                    <a:pt x="656" y="328"/>
                  </a:lnTo>
                  <a:lnTo>
                    <a:pt x="668" y="344"/>
                  </a:lnTo>
                  <a:lnTo>
                    <a:pt x="668" y="344"/>
                  </a:lnTo>
                  <a:lnTo>
                    <a:pt x="670" y="330"/>
                  </a:lnTo>
                  <a:lnTo>
                    <a:pt x="672" y="314"/>
                  </a:lnTo>
                  <a:lnTo>
                    <a:pt x="672" y="284"/>
                  </a:lnTo>
                  <a:lnTo>
                    <a:pt x="668" y="252"/>
                  </a:lnTo>
                  <a:lnTo>
                    <a:pt x="662" y="222"/>
                  </a:lnTo>
                  <a:lnTo>
                    <a:pt x="662" y="222"/>
                  </a:lnTo>
                  <a:lnTo>
                    <a:pt x="652" y="198"/>
                  </a:lnTo>
                  <a:lnTo>
                    <a:pt x="642" y="174"/>
                  </a:lnTo>
                  <a:lnTo>
                    <a:pt x="618" y="128"/>
                  </a:lnTo>
                  <a:lnTo>
                    <a:pt x="618" y="128"/>
                  </a:lnTo>
                  <a:lnTo>
                    <a:pt x="604" y="104"/>
                  </a:lnTo>
                  <a:lnTo>
                    <a:pt x="590" y="82"/>
                  </a:lnTo>
                  <a:lnTo>
                    <a:pt x="590" y="82"/>
                  </a:lnTo>
                  <a:lnTo>
                    <a:pt x="586" y="78"/>
                  </a:lnTo>
                  <a:lnTo>
                    <a:pt x="580" y="74"/>
                  </a:lnTo>
                  <a:lnTo>
                    <a:pt x="580" y="74"/>
                  </a:lnTo>
                  <a:lnTo>
                    <a:pt x="574" y="72"/>
                  </a:lnTo>
                  <a:lnTo>
                    <a:pt x="566" y="68"/>
                  </a:lnTo>
                  <a:lnTo>
                    <a:pt x="562" y="64"/>
                  </a:lnTo>
                  <a:lnTo>
                    <a:pt x="558" y="56"/>
                  </a:lnTo>
                  <a:lnTo>
                    <a:pt x="558" y="56"/>
                  </a:lnTo>
                  <a:lnTo>
                    <a:pt x="532" y="44"/>
                  </a:lnTo>
                  <a:lnTo>
                    <a:pt x="504" y="32"/>
                  </a:lnTo>
                  <a:lnTo>
                    <a:pt x="478" y="22"/>
                  </a:lnTo>
                  <a:lnTo>
                    <a:pt x="450" y="14"/>
                  </a:lnTo>
                  <a:lnTo>
                    <a:pt x="420" y="8"/>
                  </a:lnTo>
                  <a:lnTo>
                    <a:pt x="392" y="4"/>
                  </a:lnTo>
                  <a:lnTo>
                    <a:pt x="362" y="0"/>
                  </a:lnTo>
                  <a:lnTo>
                    <a:pt x="332" y="0"/>
                  </a:lnTo>
                  <a:lnTo>
                    <a:pt x="304" y="0"/>
                  </a:lnTo>
                  <a:lnTo>
                    <a:pt x="274" y="2"/>
                  </a:lnTo>
                  <a:lnTo>
                    <a:pt x="246" y="6"/>
                  </a:lnTo>
                  <a:lnTo>
                    <a:pt x="216" y="12"/>
                  </a:lnTo>
                  <a:lnTo>
                    <a:pt x="188" y="18"/>
                  </a:lnTo>
                  <a:lnTo>
                    <a:pt x="160" y="28"/>
                  </a:lnTo>
                  <a:lnTo>
                    <a:pt x="132" y="38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80" y="78"/>
                  </a:lnTo>
                  <a:lnTo>
                    <a:pt x="62" y="104"/>
                  </a:lnTo>
                  <a:lnTo>
                    <a:pt x="46" y="132"/>
                  </a:lnTo>
                  <a:lnTo>
                    <a:pt x="30" y="160"/>
                  </a:lnTo>
                  <a:lnTo>
                    <a:pt x="18" y="190"/>
                  </a:lnTo>
                  <a:lnTo>
                    <a:pt x="10" y="220"/>
                  </a:lnTo>
                  <a:lnTo>
                    <a:pt x="4" y="250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0" y="270"/>
                  </a:lnTo>
                  <a:lnTo>
                    <a:pt x="40" y="264"/>
                  </a:lnTo>
                  <a:lnTo>
                    <a:pt x="60" y="258"/>
                  </a:lnTo>
                  <a:lnTo>
                    <a:pt x="82" y="256"/>
                  </a:lnTo>
                  <a:lnTo>
                    <a:pt x="82" y="256"/>
                  </a:lnTo>
                  <a:lnTo>
                    <a:pt x="76" y="256"/>
                  </a:lnTo>
                  <a:lnTo>
                    <a:pt x="76" y="256"/>
                  </a:lnTo>
                  <a:close/>
                  <a:moveTo>
                    <a:pt x="390" y="164"/>
                  </a:moveTo>
                  <a:lnTo>
                    <a:pt x="390" y="164"/>
                  </a:lnTo>
                  <a:lnTo>
                    <a:pt x="392" y="154"/>
                  </a:lnTo>
                  <a:lnTo>
                    <a:pt x="394" y="146"/>
                  </a:lnTo>
                  <a:lnTo>
                    <a:pt x="404" y="132"/>
                  </a:lnTo>
                  <a:lnTo>
                    <a:pt x="414" y="122"/>
                  </a:lnTo>
                  <a:lnTo>
                    <a:pt x="428" y="112"/>
                  </a:lnTo>
                  <a:lnTo>
                    <a:pt x="444" y="106"/>
                  </a:lnTo>
                  <a:lnTo>
                    <a:pt x="460" y="102"/>
                  </a:lnTo>
                  <a:lnTo>
                    <a:pt x="478" y="100"/>
                  </a:lnTo>
                  <a:lnTo>
                    <a:pt x="494" y="102"/>
                  </a:lnTo>
                  <a:lnTo>
                    <a:pt x="494" y="102"/>
                  </a:lnTo>
                  <a:lnTo>
                    <a:pt x="508" y="106"/>
                  </a:lnTo>
                  <a:lnTo>
                    <a:pt x="522" y="112"/>
                  </a:lnTo>
                  <a:lnTo>
                    <a:pt x="532" y="122"/>
                  </a:lnTo>
                  <a:lnTo>
                    <a:pt x="538" y="134"/>
                  </a:lnTo>
                  <a:lnTo>
                    <a:pt x="544" y="148"/>
                  </a:lnTo>
                  <a:lnTo>
                    <a:pt x="548" y="164"/>
                  </a:lnTo>
                  <a:lnTo>
                    <a:pt x="550" y="178"/>
                  </a:lnTo>
                  <a:lnTo>
                    <a:pt x="552" y="192"/>
                  </a:lnTo>
                  <a:lnTo>
                    <a:pt x="546" y="210"/>
                  </a:lnTo>
                  <a:lnTo>
                    <a:pt x="546" y="210"/>
                  </a:lnTo>
                  <a:lnTo>
                    <a:pt x="542" y="216"/>
                  </a:lnTo>
                  <a:lnTo>
                    <a:pt x="538" y="220"/>
                  </a:lnTo>
                  <a:lnTo>
                    <a:pt x="532" y="224"/>
                  </a:lnTo>
                  <a:lnTo>
                    <a:pt x="532" y="224"/>
                  </a:lnTo>
                  <a:lnTo>
                    <a:pt x="520" y="232"/>
                  </a:lnTo>
                  <a:lnTo>
                    <a:pt x="504" y="238"/>
                  </a:lnTo>
                  <a:lnTo>
                    <a:pt x="490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74" y="242"/>
                  </a:lnTo>
                  <a:lnTo>
                    <a:pt x="474" y="242"/>
                  </a:lnTo>
                  <a:lnTo>
                    <a:pt x="478" y="242"/>
                  </a:lnTo>
                  <a:lnTo>
                    <a:pt x="478" y="242"/>
                  </a:lnTo>
                  <a:lnTo>
                    <a:pt x="466" y="242"/>
                  </a:lnTo>
                  <a:lnTo>
                    <a:pt x="466" y="242"/>
                  </a:lnTo>
                  <a:lnTo>
                    <a:pt x="464" y="244"/>
                  </a:lnTo>
                  <a:lnTo>
                    <a:pt x="464" y="244"/>
                  </a:lnTo>
                  <a:lnTo>
                    <a:pt x="448" y="244"/>
                  </a:lnTo>
                  <a:lnTo>
                    <a:pt x="432" y="240"/>
                  </a:lnTo>
                  <a:lnTo>
                    <a:pt x="420" y="232"/>
                  </a:lnTo>
                  <a:lnTo>
                    <a:pt x="408" y="222"/>
                  </a:lnTo>
                  <a:lnTo>
                    <a:pt x="400" y="210"/>
                  </a:lnTo>
                  <a:lnTo>
                    <a:pt x="394" y="194"/>
                  </a:lnTo>
                  <a:lnTo>
                    <a:pt x="390" y="180"/>
                  </a:lnTo>
                  <a:lnTo>
                    <a:pt x="390" y="164"/>
                  </a:lnTo>
                  <a:lnTo>
                    <a:pt x="390" y="164"/>
                  </a:lnTo>
                  <a:close/>
                </a:path>
              </a:pathLst>
            </a:custGeom>
            <a:solidFill>
              <a:srgbClr val="eb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3"/>
            <p:cNvSpPr/>
            <p:nvPr/>
          </p:nvSpPr>
          <p:spPr>
            <a:xfrm>
              <a:off x="7581960" y="709596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2" y="40"/>
                  </a:move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0" y="38"/>
                  </a:lnTo>
                  <a:lnTo>
                    <a:pt x="40" y="36"/>
                  </a:lnTo>
                  <a:lnTo>
                    <a:pt x="48" y="36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4" y="16"/>
                  </a:lnTo>
                  <a:lnTo>
                    <a:pt x="52" y="8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38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4"/>
            <p:cNvSpPr/>
            <p:nvPr/>
          </p:nvSpPr>
          <p:spPr>
            <a:xfrm>
              <a:off x="5607000" y="7696080"/>
              <a:ext cx="171360" cy="342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8" h="216">
                  <a:moveTo>
                    <a:pt x="60" y="78"/>
                  </a:moveTo>
                  <a:lnTo>
                    <a:pt x="60" y="78"/>
                  </a:lnTo>
                  <a:lnTo>
                    <a:pt x="46" y="98"/>
                  </a:lnTo>
                  <a:lnTo>
                    <a:pt x="32" y="118"/>
                  </a:lnTo>
                  <a:lnTo>
                    <a:pt x="16" y="136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6" y="194"/>
                  </a:lnTo>
                  <a:lnTo>
                    <a:pt x="50" y="198"/>
                  </a:lnTo>
                  <a:lnTo>
                    <a:pt x="74" y="206"/>
                  </a:lnTo>
                  <a:lnTo>
                    <a:pt x="96" y="216"/>
                  </a:lnTo>
                  <a:lnTo>
                    <a:pt x="96" y="216"/>
                  </a:lnTo>
                  <a:lnTo>
                    <a:pt x="102" y="204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108" y="152"/>
                  </a:lnTo>
                  <a:lnTo>
                    <a:pt x="108" y="114"/>
                  </a:lnTo>
                  <a:lnTo>
                    <a:pt x="108" y="76"/>
                  </a:lnTo>
                  <a:lnTo>
                    <a:pt x="106" y="38"/>
                  </a:lnTo>
                  <a:lnTo>
                    <a:pt x="106" y="38"/>
                  </a:lnTo>
                  <a:lnTo>
                    <a:pt x="102" y="18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2" y="40"/>
                  </a:lnTo>
                  <a:lnTo>
                    <a:pt x="60" y="78"/>
                  </a:lnTo>
                  <a:lnTo>
                    <a:pt x="60" y="78"/>
                  </a:lnTo>
                  <a:close/>
                </a:path>
              </a:pathLst>
            </a:custGeom>
            <a:solidFill>
              <a:srgbClr val="f1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5"/>
            <p:cNvSpPr/>
            <p:nvPr/>
          </p:nvSpPr>
          <p:spPr>
            <a:xfrm>
              <a:off x="4302000" y="6600600"/>
              <a:ext cx="555480" cy="17460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50" h="110">
                  <a:moveTo>
                    <a:pt x="350" y="26"/>
                  </a:moveTo>
                  <a:lnTo>
                    <a:pt x="350" y="26"/>
                  </a:lnTo>
                  <a:lnTo>
                    <a:pt x="350" y="2"/>
                  </a:lnTo>
                  <a:lnTo>
                    <a:pt x="350" y="2"/>
                  </a:lnTo>
                  <a:lnTo>
                    <a:pt x="328" y="0"/>
                  </a:lnTo>
                  <a:lnTo>
                    <a:pt x="304" y="0"/>
                  </a:lnTo>
                  <a:lnTo>
                    <a:pt x="258" y="2"/>
                  </a:lnTo>
                  <a:lnTo>
                    <a:pt x="212" y="8"/>
                  </a:lnTo>
                  <a:lnTo>
                    <a:pt x="168" y="14"/>
                  </a:lnTo>
                  <a:lnTo>
                    <a:pt x="168" y="14"/>
                  </a:lnTo>
                  <a:lnTo>
                    <a:pt x="136" y="28"/>
                  </a:lnTo>
                  <a:lnTo>
                    <a:pt x="106" y="44"/>
                  </a:lnTo>
                  <a:lnTo>
                    <a:pt x="76" y="58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2" y="92"/>
                  </a:lnTo>
                  <a:lnTo>
                    <a:pt x="64" y="78"/>
                  </a:lnTo>
                  <a:lnTo>
                    <a:pt x="100" y="64"/>
                  </a:lnTo>
                  <a:lnTo>
                    <a:pt x="134" y="52"/>
                  </a:lnTo>
                  <a:lnTo>
                    <a:pt x="172" y="42"/>
                  </a:lnTo>
                  <a:lnTo>
                    <a:pt x="210" y="36"/>
                  </a:lnTo>
                  <a:lnTo>
                    <a:pt x="248" y="30"/>
                  </a:lnTo>
                  <a:lnTo>
                    <a:pt x="288" y="26"/>
                  </a:lnTo>
                  <a:lnTo>
                    <a:pt x="288" y="26"/>
                  </a:lnTo>
                  <a:lnTo>
                    <a:pt x="350" y="26"/>
                  </a:lnTo>
                  <a:lnTo>
                    <a:pt x="350" y="26"/>
                  </a:lnTo>
                  <a:close/>
                </a:path>
              </a:pathLst>
            </a:custGeom>
            <a:solidFill>
              <a:srgbClr val="95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6"/>
            <p:cNvSpPr/>
            <p:nvPr/>
          </p:nvSpPr>
          <p:spPr>
            <a:xfrm>
              <a:off x="6896160" y="7277040"/>
              <a:ext cx="993600" cy="3492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26" h="220">
                  <a:moveTo>
                    <a:pt x="606" y="94"/>
                  </a:moveTo>
                  <a:lnTo>
                    <a:pt x="606" y="94"/>
                  </a:lnTo>
                  <a:lnTo>
                    <a:pt x="560" y="76"/>
                  </a:lnTo>
                  <a:lnTo>
                    <a:pt x="510" y="60"/>
                  </a:lnTo>
                  <a:lnTo>
                    <a:pt x="486" y="52"/>
                  </a:lnTo>
                  <a:lnTo>
                    <a:pt x="462" y="46"/>
                  </a:lnTo>
                  <a:lnTo>
                    <a:pt x="436" y="42"/>
                  </a:lnTo>
                  <a:lnTo>
                    <a:pt x="410" y="40"/>
                  </a:lnTo>
                  <a:lnTo>
                    <a:pt x="410" y="40"/>
                  </a:lnTo>
                  <a:lnTo>
                    <a:pt x="424" y="48"/>
                  </a:lnTo>
                  <a:lnTo>
                    <a:pt x="438" y="58"/>
                  </a:lnTo>
                  <a:lnTo>
                    <a:pt x="438" y="58"/>
                  </a:lnTo>
                  <a:lnTo>
                    <a:pt x="444" y="66"/>
                  </a:lnTo>
                  <a:lnTo>
                    <a:pt x="450" y="74"/>
                  </a:lnTo>
                  <a:lnTo>
                    <a:pt x="450" y="74"/>
                  </a:lnTo>
                  <a:lnTo>
                    <a:pt x="462" y="72"/>
                  </a:lnTo>
                  <a:lnTo>
                    <a:pt x="474" y="72"/>
                  </a:lnTo>
                  <a:lnTo>
                    <a:pt x="486" y="74"/>
                  </a:lnTo>
                  <a:lnTo>
                    <a:pt x="496" y="76"/>
                  </a:lnTo>
                  <a:lnTo>
                    <a:pt x="508" y="82"/>
                  </a:lnTo>
                  <a:lnTo>
                    <a:pt x="518" y="86"/>
                  </a:lnTo>
                  <a:lnTo>
                    <a:pt x="528" y="94"/>
                  </a:lnTo>
                  <a:lnTo>
                    <a:pt x="538" y="102"/>
                  </a:lnTo>
                  <a:lnTo>
                    <a:pt x="538" y="102"/>
                  </a:lnTo>
                  <a:lnTo>
                    <a:pt x="544" y="114"/>
                  </a:lnTo>
                  <a:lnTo>
                    <a:pt x="550" y="126"/>
                  </a:lnTo>
                  <a:lnTo>
                    <a:pt x="550" y="138"/>
                  </a:lnTo>
                  <a:lnTo>
                    <a:pt x="548" y="152"/>
                  </a:lnTo>
                  <a:lnTo>
                    <a:pt x="548" y="152"/>
                  </a:lnTo>
                  <a:lnTo>
                    <a:pt x="544" y="160"/>
                  </a:lnTo>
                  <a:lnTo>
                    <a:pt x="536" y="166"/>
                  </a:lnTo>
                  <a:lnTo>
                    <a:pt x="526" y="170"/>
                  </a:lnTo>
                  <a:lnTo>
                    <a:pt x="516" y="168"/>
                  </a:lnTo>
                  <a:lnTo>
                    <a:pt x="516" y="168"/>
                  </a:lnTo>
                  <a:lnTo>
                    <a:pt x="506" y="164"/>
                  </a:lnTo>
                  <a:lnTo>
                    <a:pt x="500" y="156"/>
                  </a:lnTo>
                  <a:lnTo>
                    <a:pt x="498" y="148"/>
                  </a:lnTo>
                  <a:lnTo>
                    <a:pt x="498" y="138"/>
                  </a:lnTo>
                  <a:lnTo>
                    <a:pt x="498" y="138"/>
                  </a:lnTo>
                  <a:lnTo>
                    <a:pt x="498" y="138"/>
                  </a:lnTo>
                  <a:lnTo>
                    <a:pt x="498" y="138"/>
                  </a:lnTo>
                  <a:lnTo>
                    <a:pt x="490" y="130"/>
                  </a:lnTo>
                  <a:lnTo>
                    <a:pt x="478" y="124"/>
                  </a:lnTo>
                  <a:lnTo>
                    <a:pt x="478" y="124"/>
                  </a:lnTo>
                  <a:lnTo>
                    <a:pt x="470" y="124"/>
                  </a:lnTo>
                  <a:lnTo>
                    <a:pt x="458" y="128"/>
                  </a:lnTo>
                  <a:lnTo>
                    <a:pt x="458" y="128"/>
                  </a:lnTo>
                  <a:lnTo>
                    <a:pt x="456" y="136"/>
                  </a:lnTo>
                  <a:lnTo>
                    <a:pt x="452" y="146"/>
                  </a:lnTo>
                  <a:lnTo>
                    <a:pt x="448" y="152"/>
                  </a:lnTo>
                  <a:lnTo>
                    <a:pt x="440" y="160"/>
                  </a:lnTo>
                  <a:lnTo>
                    <a:pt x="440" y="160"/>
                  </a:lnTo>
                  <a:lnTo>
                    <a:pt x="432" y="166"/>
                  </a:lnTo>
                  <a:lnTo>
                    <a:pt x="422" y="168"/>
                  </a:lnTo>
                  <a:lnTo>
                    <a:pt x="412" y="166"/>
                  </a:lnTo>
                  <a:lnTo>
                    <a:pt x="404" y="160"/>
                  </a:lnTo>
                  <a:lnTo>
                    <a:pt x="404" y="160"/>
                  </a:lnTo>
                  <a:lnTo>
                    <a:pt x="398" y="150"/>
                  </a:lnTo>
                  <a:lnTo>
                    <a:pt x="396" y="142"/>
                  </a:lnTo>
                  <a:lnTo>
                    <a:pt x="398" y="132"/>
                  </a:lnTo>
                  <a:lnTo>
                    <a:pt x="404" y="122"/>
                  </a:lnTo>
                  <a:lnTo>
                    <a:pt x="404" y="122"/>
                  </a:lnTo>
                  <a:lnTo>
                    <a:pt x="404" y="124"/>
                  </a:lnTo>
                  <a:lnTo>
                    <a:pt x="404" y="124"/>
                  </a:lnTo>
                  <a:lnTo>
                    <a:pt x="408" y="120"/>
                  </a:lnTo>
                  <a:lnTo>
                    <a:pt x="408" y="116"/>
                  </a:lnTo>
                  <a:lnTo>
                    <a:pt x="408" y="108"/>
                  </a:lnTo>
                  <a:lnTo>
                    <a:pt x="408" y="108"/>
                  </a:lnTo>
                  <a:lnTo>
                    <a:pt x="406" y="100"/>
                  </a:lnTo>
                  <a:lnTo>
                    <a:pt x="402" y="94"/>
                  </a:lnTo>
                  <a:lnTo>
                    <a:pt x="396" y="90"/>
                  </a:lnTo>
                  <a:lnTo>
                    <a:pt x="388" y="86"/>
                  </a:lnTo>
                  <a:lnTo>
                    <a:pt x="388" y="86"/>
                  </a:lnTo>
                  <a:lnTo>
                    <a:pt x="382" y="86"/>
                  </a:lnTo>
                  <a:lnTo>
                    <a:pt x="378" y="86"/>
                  </a:lnTo>
                  <a:lnTo>
                    <a:pt x="368" y="88"/>
                  </a:lnTo>
                  <a:lnTo>
                    <a:pt x="358" y="94"/>
                  </a:lnTo>
                  <a:lnTo>
                    <a:pt x="348" y="102"/>
                  </a:lnTo>
                  <a:lnTo>
                    <a:pt x="348" y="102"/>
                  </a:lnTo>
                  <a:lnTo>
                    <a:pt x="350" y="110"/>
                  </a:lnTo>
                  <a:lnTo>
                    <a:pt x="352" y="118"/>
                  </a:lnTo>
                  <a:lnTo>
                    <a:pt x="352" y="118"/>
                  </a:lnTo>
                  <a:lnTo>
                    <a:pt x="352" y="130"/>
                  </a:lnTo>
                  <a:lnTo>
                    <a:pt x="350" y="138"/>
                  </a:lnTo>
                  <a:lnTo>
                    <a:pt x="344" y="146"/>
                  </a:lnTo>
                  <a:lnTo>
                    <a:pt x="336" y="152"/>
                  </a:lnTo>
                  <a:lnTo>
                    <a:pt x="336" y="152"/>
                  </a:lnTo>
                  <a:lnTo>
                    <a:pt x="324" y="154"/>
                  </a:lnTo>
                  <a:lnTo>
                    <a:pt x="316" y="150"/>
                  </a:lnTo>
                  <a:lnTo>
                    <a:pt x="308" y="144"/>
                  </a:lnTo>
                  <a:lnTo>
                    <a:pt x="302" y="136"/>
                  </a:lnTo>
                  <a:lnTo>
                    <a:pt x="302" y="136"/>
                  </a:lnTo>
                  <a:lnTo>
                    <a:pt x="298" y="124"/>
                  </a:lnTo>
                  <a:lnTo>
                    <a:pt x="296" y="114"/>
                  </a:lnTo>
                  <a:lnTo>
                    <a:pt x="298" y="104"/>
                  </a:lnTo>
                  <a:lnTo>
                    <a:pt x="300" y="94"/>
                  </a:lnTo>
                  <a:lnTo>
                    <a:pt x="302" y="84"/>
                  </a:lnTo>
                  <a:lnTo>
                    <a:pt x="308" y="74"/>
                  </a:lnTo>
                  <a:lnTo>
                    <a:pt x="314" y="64"/>
                  </a:lnTo>
                  <a:lnTo>
                    <a:pt x="322" y="56"/>
                  </a:lnTo>
                  <a:lnTo>
                    <a:pt x="322" y="56"/>
                  </a:lnTo>
                  <a:lnTo>
                    <a:pt x="324" y="52"/>
                  </a:lnTo>
                  <a:lnTo>
                    <a:pt x="330" y="46"/>
                  </a:lnTo>
                  <a:lnTo>
                    <a:pt x="330" y="46"/>
                  </a:lnTo>
                  <a:lnTo>
                    <a:pt x="338" y="42"/>
                  </a:lnTo>
                  <a:lnTo>
                    <a:pt x="344" y="34"/>
                  </a:lnTo>
                  <a:lnTo>
                    <a:pt x="344" y="24"/>
                  </a:lnTo>
                  <a:lnTo>
                    <a:pt x="342" y="16"/>
                  </a:lnTo>
                  <a:lnTo>
                    <a:pt x="342" y="16"/>
                  </a:lnTo>
                  <a:lnTo>
                    <a:pt x="338" y="10"/>
                  </a:lnTo>
                  <a:lnTo>
                    <a:pt x="332" y="6"/>
                  </a:lnTo>
                  <a:lnTo>
                    <a:pt x="326" y="2"/>
                  </a:lnTo>
                  <a:lnTo>
                    <a:pt x="320" y="2"/>
                  </a:lnTo>
                  <a:lnTo>
                    <a:pt x="306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0" y="4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4" y="20"/>
                  </a:lnTo>
                  <a:lnTo>
                    <a:pt x="286" y="32"/>
                  </a:lnTo>
                  <a:lnTo>
                    <a:pt x="292" y="42"/>
                  </a:lnTo>
                  <a:lnTo>
                    <a:pt x="292" y="42"/>
                  </a:lnTo>
                  <a:lnTo>
                    <a:pt x="296" y="52"/>
                  </a:lnTo>
                  <a:lnTo>
                    <a:pt x="298" y="62"/>
                  </a:lnTo>
                  <a:lnTo>
                    <a:pt x="294" y="70"/>
                  </a:lnTo>
                  <a:lnTo>
                    <a:pt x="286" y="78"/>
                  </a:lnTo>
                  <a:lnTo>
                    <a:pt x="286" y="78"/>
                  </a:lnTo>
                  <a:lnTo>
                    <a:pt x="278" y="84"/>
                  </a:lnTo>
                  <a:lnTo>
                    <a:pt x="268" y="84"/>
                  </a:lnTo>
                  <a:lnTo>
                    <a:pt x="258" y="80"/>
                  </a:lnTo>
                  <a:lnTo>
                    <a:pt x="250" y="74"/>
                  </a:lnTo>
                  <a:lnTo>
                    <a:pt x="250" y="74"/>
                  </a:lnTo>
                  <a:lnTo>
                    <a:pt x="244" y="64"/>
                  </a:lnTo>
                  <a:lnTo>
                    <a:pt x="238" y="54"/>
                  </a:lnTo>
                  <a:lnTo>
                    <a:pt x="236" y="44"/>
                  </a:lnTo>
                  <a:lnTo>
                    <a:pt x="232" y="32"/>
                  </a:lnTo>
                  <a:lnTo>
                    <a:pt x="232" y="32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4" y="34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86" y="38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54" y="44"/>
                  </a:lnTo>
                  <a:lnTo>
                    <a:pt x="34" y="52"/>
                  </a:lnTo>
                  <a:lnTo>
                    <a:pt x="16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2" y="114"/>
                  </a:lnTo>
                  <a:lnTo>
                    <a:pt x="34" y="128"/>
                  </a:lnTo>
                  <a:lnTo>
                    <a:pt x="46" y="142"/>
                  </a:lnTo>
                  <a:lnTo>
                    <a:pt x="60" y="154"/>
                  </a:lnTo>
                  <a:lnTo>
                    <a:pt x="74" y="164"/>
                  </a:lnTo>
                  <a:lnTo>
                    <a:pt x="90" y="174"/>
                  </a:lnTo>
                  <a:lnTo>
                    <a:pt x="122" y="190"/>
                  </a:lnTo>
                  <a:lnTo>
                    <a:pt x="122" y="190"/>
                  </a:lnTo>
                  <a:lnTo>
                    <a:pt x="114" y="180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06" y="156"/>
                  </a:lnTo>
                  <a:lnTo>
                    <a:pt x="104" y="142"/>
                  </a:lnTo>
                  <a:lnTo>
                    <a:pt x="104" y="128"/>
                  </a:lnTo>
                  <a:lnTo>
                    <a:pt x="108" y="122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18" y="106"/>
                  </a:lnTo>
                  <a:lnTo>
                    <a:pt x="126" y="98"/>
                  </a:lnTo>
                  <a:lnTo>
                    <a:pt x="134" y="92"/>
                  </a:lnTo>
                  <a:lnTo>
                    <a:pt x="144" y="86"/>
                  </a:lnTo>
                  <a:lnTo>
                    <a:pt x="154" y="82"/>
                  </a:lnTo>
                  <a:lnTo>
                    <a:pt x="166" y="78"/>
                  </a:lnTo>
                  <a:lnTo>
                    <a:pt x="178" y="78"/>
                  </a:lnTo>
                  <a:lnTo>
                    <a:pt x="188" y="78"/>
                  </a:lnTo>
                  <a:lnTo>
                    <a:pt x="188" y="78"/>
                  </a:lnTo>
                  <a:lnTo>
                    <a:pt x="204" y="82"/>
                  </a:lnTo>
                  <a:lnTo>
                    <a:pt x="218" y="88"/>
                  </a:lnTo>
                  <a:lnTo>
                    <a:pt x="230" y="96"/>
                  </a:lnTo>
                  <a:lnTo>
                    <a:pt x="240" y="108"/>
                  </a:lnTo>
                  <a:lnTo>
                    <a:pt x="248" y="120"/>
                  </a:lnTo>
                  <a:lnTo>
                    <a:pt x="254" y="134"/>
                  </a:lnTo>
                  <a:lnTo>
                    <a:pt x="256" y="148"/>
                  </a:lnTo>
                  <a:lnTo>
                    <a:pt x="256" y="164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8"/>
                  </a:lnTo>
                  <a:lnTo>
                    <a:pt x="244" y="190"/>
                  </a:lnTo>
                  <a:lnTo>
                    <a:pt x="234" y="200"/>
                  </a:lnTo>
                  <a:lnTo>
                    <a:pt x="222" y="210"/>
                  </a:lnTo>
                  <a:lnTo>
                    <a:pt x="222" y="210"/>
                  </a:lnTo>
                  <a:lnTo>
                    <a:pt x="210" y="212"/>
                  </a:lnTo>
                  <a:lnTo>
                    <a:pt x="210" y="212"/>
                  </a:lnTo>
                  <a:lnTo>
                    <a:pt x="256" y="218"/>
                  </a:lnTo>
                  <a:lnTo>
                    <a:pt x="304" y="220"/>
                  </a:lnTo>
                  <a:lnTo>
                    <a:pt x="350" y="220"/>
                  </a:lnTo>
                  <a:lnTo>
                    <a:pt x="394" y="218"/>
                  </a:lnTo>
                  <a:lnTo>
                    <a:pt x="394" y="218"/>
                  </a:lnTo>
                  <a:lnTo>
                    <a:pt x="412" y="216"/>
                  </a:lnTo>
                  <a:lnTo>
                    <a:pt x="432" y="212"/>
                  </a:lnTo>
                  <a:lnTo>
                    <a:pt x="470" y="204"/>
                  </a:lnTo>
                  <a:lnTo>
                    <a:pt x="506" y="192"/>
                  </a:lnTo>
                  <a:lnTo>
                    <a:pt x="544" y="178"/>
                  </a:lnTo>
                  <a:lnTo>
                    <a:pt x="544" y="178"/>
                  </a:lnTo>
                  <a:lnTo>
                    <a:pt x="560" y="170"/>
                  </a:lnTo>
                  <a:lnTo>
                    <a:pt x="578" y="160"/>
                  </a:lnTo>
                  <a:lnTo>
                    <a:pt x="610" y="138"/>
                  </a:lnTo>
                  <a:lnTo>
                    <a:pt x="610" y="138"/>
                  </a:lnTo>
                  <a:lnTo>
                    <a:pt x="618" y="130"/>
                  </a:lnTo>
                  <a:lnTo>
                    <a:pt x="626" y="122"/>
                  </a:lnTo>
                  <a:lnTo>
                    <a:pt x="626" y="122"/>
                  </a:lnTo>
                  <a:lnTo>
                    <a:pt x="626" y="122"/>
                  </a:lnTo>
                  <a:lnTo>
                    <a:pt x="626" y="122"/>
                  </a:lnTo>
                  <a:lnTo>
                    <a:pt x="620" y="116"/>
                  </a:lnTo>
                  <a:lnTo>
                    <a:pt x="616" y="110"/>
                  </a:lnTo>
                  <a:lnTo>
                    <a:pt x="606" y="94"/>
                  </a:lnTo>
                  <a:lnTo>
                    <a:pt x="606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7"/>
            <p:cNvSpPr/>
            <p:nvPr/>
          </p:nvSpPr>
          <p:spPr>
            <a:xfrm>
              <a:off x="4829040" y="7003800"/>
              <a:ext cx="142560" cy="63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0" h="40">
                  <a:moveTo>
                    <a:pt x="4" y="28"/>
                  </a:moveTo>
                  <a:lnTo>
                    <a:pt x="4" y="28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30" y="38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64" y="38"/>
                  </a:lnTo>
                  <a:lnTo>
                    <a:pt x="78" y="34"/>
                  </a:lnTo>
                  <a:lnTo>
                    <a:pt x="86" y="28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88" y="22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0" y="10"/>
                  </a:lnTo>
                  <a:lnTo>
                    <a:pt x="70" y="6"/>
                  </a:lnTo>
                  <a:lnTo>
                    <a:pt x="62" y="4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グループ化 94"/>
          <p:cNvGrpSpPr/>
          <p:nvPr/>
        </p:nvGrpSpPr>
        <p:grpSpPr>
          <a:xfrm>
            <a:off x="35017200" y="1123920"/>
            <a:ext cx="4645080" cy="7054920"/>
            <a:chOff x="35017200" y="1123920"/>
            <a:chExt cx="4645080" cy="7054920"/>
          </a:xfrm>
        </p:grpSpPr>
        <p:sp>
          <p:nvSpPr>
            <p:cNvPr id="130" name="Freeform 5"/>
            <p:cNvSpPr/>
            <p:nvPr/>
          </p:nvSpPr>
          <p:spPr>
            <a:xfrm>
              <a:off x="37325520" y="5641920"/>
              <a:ext cx="2286000" cy="24829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2482920"/>
                <a:gd name="textAreaBottom" fmla="*/ 2483280 h 2482920"/>
              </a:gdLst>
              <a:ahLst/>
              <a:rect l="textAreaLeft" t="textAreaTop" r="textAreaRight" b="textAreaBottom"/>
              <a:pathLst>
                <a:path w="1440" h="1564">
                  <a:moveTo>
                    <a:pt x="1262" y="976"/>
                  </a:moveTo>
                  <a:lnTo>
                    <a:pt x="728" y="0"/>
                  </a:lnTo>
                  <a:lnTo>
                    <a:pt x="0" y="398"/>
                  </a:lnTo>
                  <a:lnTo>
                    <a:pt x="536" y="1374"/>
                  </a:lnTo>
                  <a:lnTo>
                    <a:pt x="432" y="1430"/>
                  </a:lnTo>
                  <a:lnTo>
                    <a:pt x="506" y="1564"/>
                  </a:lnTo>
                  <a:lnTo>
                    <a:pt x="610" y="1508"/>
                  </a:lnTo>
                  <a:lnTo>
                    <a:pt x="1336" y="1108"/>
                  </a:lnTo>
                  <a:lnTo>
                    <a:pt x="1440" y="1052"/>
                  </a:lnTo>
                  <a:lnTo>
                    <a:pt x="1366" y="918"/>
                  </a:lnTo>
                  <a:lnTo>
                    <a:pt x="1262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274760" y="5587920"/>
              <a:ext cx="2387520" cy="25909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2590920"/>
                <a:gd name="textAreaBottom" fmla="*/ 2590920 h 2590920"/>
              </a:gdLst>
              <a:ahLst/>
              <a:rect l="textAreaLeft" t="textAreaTop" r="textAreaRight" b="textAreaBottom"/>
              <a:pathLst>
                <a:path w="1504" h="1632">
                  <a:moveTo>
                    <a:pt x="16" y="402"/>
                  </a:moveTo>
                  <a:lnTo>
                    <a:pt x="16" y="402"/>
                  </a:lnTo>
                  <a:lnTo>
                    <a:pt x="12" y="406"/>
                  </a:lnTo>
                  <a:lnTo>
                    <a:pt x="6" y="410"/>
                  </a:lnTo>
                  <a:lnTo>
                    <a:pt x="4" y="416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522" y="1394"/>
                  </a:lnTo>
                  <a:lnTo>
                    <a:pt x="522" y="1394"/>
                  </a:lnTo>
                  <a:lnTo>
                    <a:pt x="448" y="1434"/>
                  </a:lnTo>
                  <a:lnTo>
                    <a:pt x="448" y="1434"/>
                  </a:lnTo>
                  <a:lnTo>
                    <a:pt x="442" y="1438"/>
                  </a:lnTo>
                  <a:lnTo>
                    <a:pt x="438" y="1444"/>
                  </a:lnTo>
                  <a:lnTo>
                    <a:pt x="434" y="1448"/>
                  </a:lnTo>
                  <a:lnTo>
                    <a:pt x="432" y="1454"/>
                  </a:lnTo>
                  <a:lnTo>
                    <a:pt x="430" y="1460"/>
                  </a:lnTo>
                  <a:lnTo>
                    <a:pt x="430" y="1468"/>
                  </a:lnTo>
                  <a:lnTo>
                    <a:pt x="432" y="1474"/>
                  </a:lnTo>
                  <a:lnTo>
                    <a:pt x="434" y="1480"/>
                  </a:lnTo>
                  <a:lnTo>
                    <a:pt x="508" y="1614"/>
                  </a:lnTo>
                  <a:lnTo>
                    <a:pt x="508" y="1614"/>
                  </a:lnTo>
                  <a:lnTo>
                    <a:pt x="512" y="1620"/>
                  </a:lnTo>
                  <a:lnTo>
                    <a:pt x="516" y="1624"/>
                  </a:lnTo>
                  <a:lnTo>
                    <a:pt x="522" y="1628"/>
                  </a:lnTo>
                  <a:lnTo>
                    <a:pt x="528" y="1630"/>
                  </a:lnTo>
                  <a:lnTo>
                    <a:pt x="534" y="1632"/>
                  </a:lnTo>
                  <a:lnTo>
                    <a:pt x="542" y="1632"/>
                  </a:lnTo>
                  <a:lnTo>
                    <a:pt x="548" y="1630"/>
                  </a:lnTo>
                  <a:lnTo>
                    <a:pt x="554" y="1628"/>
                  </a:lnTo>
                  <a:lnTo>
                    <a:pt x="1488" y="1116"/>
                  </a:lnTo>
                  <a:lnTo>
                    <a:pt x="1488" y="1116"/>
                  </a:lnTo>
                  <a:lnTo>
                    <a:pt x="1492" y="1112"/>
                  </a:lnTo>
                  <a:lnTo>
                    <a:pt x="1498" y="1108"/>
                  </a:lnTo>
                  <a:lnTo>
                    <a:pt x="1502" y="1102"/>
                  </a:lnTo>
                  <a:lnTo>
                    <a:pt x="1504" y="1096"/>
                  </a:lnTo>
                  <a:lnTo>
                    <a:pt x="1504" y="1090"/>
                  </a:lnTo>
                  <a:lnTo>
                    <a:pt x="1504" y="1082"/>
                  </a:lnTo>
                  <a:lnTo>
                    <a:pt x="1504" y="1076"/>
                  </a:lnTo>
                  <a:lnTo>
                    <a:pt x="1500" y="1070"/>
                  </a:lnTo>
                  <a:lnTo>
                    <a:pt x="1428" y="936"/>
                  </a:lnTo>
                  <a:lnTo>
                    <a:pt x="1428" y="936"/>
                  </a:lnTo>
                  <a:lnTo>
                    <a:pt x="1424" y="930"/>
                  </a:lnTo>
                  <a:lnTo>
                    <a:pt x="1418" y="926"/>
                  </a:lnTo>
                  <a:lnTo>
                    <a:pt x="1414" y="922"/>
                  </a:lnTo>
                  <a:lnTo>
                    <a:pt x="1408" y="920"/>
                  </a:lnTo>
                  <a:lnTo>
                    <a:pt x="1400" y="918"/>
                  </a:lnTo>
                  <a:lnTo>
                    <a:pt x="1394" y="918"/>
                  </a:lnTo>
                  <a:lnTo>
                    <a:pt x="1388" y="920"/>
                  </a:lnTo>
                  <a:lnTo>
                    <a:pt x="1382" y="922"/>
                  </a:lnTo>
                  <a:lnTo>
                    <a:pt x="1382" y="922"/>
                  </a:lnTo>
                  <a:lnTo>
                    <a:pt x="1308" y="964"/>
                  </a:lnTo>
                  <a:lnTo>
                    <a:pt x="1308" y="964"/>
                  </a:lnTo>
                  <a:lnTo>
                    <a:pt x="790" y="18"/>
                  </a:lnTo>
                  <a:lnTo>
                    <a:pt x="790" y="18"/>
                  </a:lnTo>
                  <a:lnTo>
                    <a:pt x="786" y="12"/>
                  </a:lnTo>
                  <a:lnTo>
                    <a:pt x="780" y="6"/>
                  </a:lnTo>
                  <a:lnTo>
                    <a:pt x="776" y="4"/>
                  </a:lnTo>
                  <a:lnTo>
                    <a:pt x="770" y="2"/>
                  </a:lnTo>
                  <a:lnTo>
                    <a:pt x="762" y="0"/>
                  </a:lnTo>
                  <a:lnTo>
                    <a:pt x="756" y="0"/>
                  </a:lnTo>
                  <a:lnTo>
                    <a:pt x="750" y="2"/>
                  </a:lnTo>
                  <a:lnTo>
                    <a:pt x="744" y="4"/>
                  </a:lnTo>
                  <a:lnTo>
                    <a:pt x="16" y="402"/>
                  </a:lnTo>
                  <a:close/>
                  <a:moveTo>
                    <a:pt x="746" y="78"/>
                  </a:moveTo>
                  <a:lnTo>
                    <a:pt x="746" y="78"/>
                  </a:lnTo>
                  <a:lnTo>
                    <a:pt x="1266" y="1026"/>
                  </a:lnTo>
                  <a:lnTo>
                    <a:pt x="1266" y="1026"/>
                  </a:lnTo>
                  <a:lnTo>
                    <a:pt x="1268" y="1030"/>
                  </a:lnTo>
                  <a:lnTo>
                    <a:pt x="1274" y="1036"/>
                  </a:lnTo>
                  <a:lnTo>
                    <a:pt x="1280" y="1038"/>
                  </a:lnTo>
                  <a:lnTo>
                    <a:pt x="1286" y="1042"/>
                  </a:lnTo>
                  <a:lnTo>
                    <a:pt x="1292" y="1042"/>
                  </a:lnTo>
                  <a:lnTo>
                    <a:pt x="1298" y="1042"/>
                  </a:lnTo>
                  <a:lnTo>
                    <a:pt x="1304" y="1042"/>
                  </a:lnTo>
                  <a:lnTo>
                    <a:pt x="1310" y="1038"/>
                  </a:lnTo>
                  <a:lnTo>
                    <a:pt x="1310" y="1038"/>
                  </a:lnTo>
                  <a:lnTo>
                    <a:pt x="1384" y="998"/>
                  </a:lnTo>
                  <a:lnTo>
                    <a:pt x="1384" y="998"/>
                  </a:lnTo>
                  <a:lnTo>
                    <a:pt x="1426" y="1072"/>
                  </a:lnTo>
                  <a:lnTo>
                    <a:pt x="1426" y="1072"/>
                  </a:lnTo>
                  <a:lnTo>
                    <a:pt x="552" y="1552"/>
                  </a:lnTo>
                  <a:lnTo>
                    <a:pt x="552" y="1552"/>
                  </a:lnTo>
                  <a:lnTo>
                    <a:pt x="510" y="1478"/>
                  </a:lnTo>
                  <a:lnTo>
                    <a:pt x="510" y="1478"/>
                  </a:lnTo>
                  <a:lnTo>
                    <a:pt x="584" y="1436"/>
                  </a:lnTo>
                  <a:lnTo>
                    <a:pt x="584" y="1436"/>
                  </a:lnTo>
                  <a:lnTo>
                    <a:pt x="590" y="1432"/>
                  </a:lnTo>
                  <a:lnTo>
                    <a:pt x="594" y="1428"/>
                  </a:lnTo>
                  <a:lnTo>
                    <a:pt x="598" y="1422"/>
                  </a:lnTo>
                  <a:lnTo>
                    <a:pt x="600" y="1416"/>
                  </a:lnTo>
                  <a:lnTo>
                    <a:pt x="602" y="1410"/>
                  </a:lnTo>
                  <a:lnTo>
                    <a:pt x="602" y="1404"/>
                  </a:lnTo>
                  <a:lnTo>
                    <a:pt x="600" y="1398"/>
                  </a:lnTo>
                  <a:lnTo>
                    <a:pt x="598" y="1392"/>
                  </a:lnTo>
                  <a:lnTo>
                    <a:pt x="598" y="1392"/>
                  </a:lnTo>
                  <a:lnTo>
                    <a:pt x="78" y="444"/>
                  </a:lnTo>
                  <a:lnTo>
                    <a:pt x="78" y="444"/>
                  </a:lnTo>
                  <a:lnTo>
                    <a:pt x="746" y="78"/>
                  </a:lnTo>
                  <a:lnTo>
                    <a:pt x="746" y="78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35820360" y="2501640"/>
              <a:ext cx="3178440" cy="4613400"/>
            </a:xfrm>
            <a:custGeom>
              <a:avLst/>
              <a:gdLst>
                <a:gd name="textAreaLeft" fmla="*/ 0 w 3178440"/>
                <a:gd name="textAreaRight" fmla="*/ 3178800 w 3178440"/>
                <a:gd name="textAreaTop" fmla="*/ 0 h 4613400"/>
                <a:gd name="textAreaBottom" fmla="*/ 4613760 h 4613400"/>
              </a:gdLst>
              <a:ahLst/>
              <a:rect l="textAreaLeft" t="textAreaTop" r="textAreaRight" b="textAreaBottom"/>
              <a:pathLst>
                <a:path w="2002" h="2906">
                  <a:moveTo>
                    <a:pt x="508" y="508"/>
                  </a:moveTo>
                  <a:lnTo>
                    <a:pt x="230" y="0"/>
                  </a:lnTo>
                  <a:lnTo>
                    <a:pt x="54" y="96"/>
                  </a:lnTo>
                  <a:lnTo>
                    <a:pt x="332" y="604"/>
                  </a:lnTo>
                  <a:lnTo>
                    <a:pt x="0" y="786"/>
                  </a:lnTo>
                  <a:lnTo>
                    <a:pt x="1162" y="2906"/>
                  </a:lnTo>
                  <a:lnTo>
                    <a:pt x="2002" y="2446"/>
                  </a:lnTo>
                  <a:lnTo>
                    <a:pt x="840" y="326"/>
                  </a:lnTo>
                  <a:lnTo>
                    <a:pt x="508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35769600" y="2447640"/>
              <a:ext cx="3279960" cy="47214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4721400"/>
                <a:gd name="textAreaBottom" fmla="*/ 4721760 h 4721400"/>
              </a:gdLst>
              <a:ahLst/>
              <a:rect l="textAreaLeft" t="textAreaTop" r="textAreaRight" b="textAreaBottom"/>
              <a:pathLst>
                <a:path w="2066" h="2974">
                  <a:moveTo>
                    <a:pt x="70" y="102"/>
                  </a:moveTo>
                  <a:lnTo>
                    <a:pt x="70" y="102"/>
                  </a:lnTo>
                  <a:lnTo>
                    <a:pt x="64" y="106"/>
                  </a:lnTo>
                  <a:lnTo>
                    <a:pt x="60" y="110"/>
                  </a:lnTo>
                  <a:lnTo>
                    <a:pt x="56" y="116"/>
                  </a:lnTo>
                  <a:lnTo>
                    <a:pt x="54" y="122"/>
                  </a:lnTo>
                  <a:lnTo>
                    <a:pt x="52" y="128"/>
                  </a:lnTo>
                  <a:lnTo>
                    <a:pt x="52" y="134"/>
                  </a:lnTo>
                  <a:lnTo>
                    <a:pt x="54" y="14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318" y="626"/>
                  </a:lnTo>
                  <a:lnTo>
                    <a:pt x="318" y="626"/>
                  </a:lnTo>
                  <a:lnTo>
                    <a:pt x="16" y="790"/>
                  </a:lnTo>
                  <a:lnTo>
                    <a:pt x="16" y="790"/>
                  </a:lnTo>
                  <a:lnTo>
                    <a:pt x="10" y="794"/>
                  </a:lnTo>
                  <a:lnTo>
                    <a:pt x="6" y="800"/>
                  </a:lnTo>
                  <a:lnTo>
                    <a:pt x="2" y="804"/>
                  </a:lnTo>
                  <a:lnTo>
                    <a:pt x="0" y="810"/>
                  </a:lnTo>
                  <a:lnTo>
                    <a:pt x="0" y="818"/>
                  </a:lnTo>
                  <a:lnTo>
                    <a:pt x="0" y="824"/>
                  </a:lnTo>
                  <a:lnTo>
                    <a:pt x="0" y="830"/>
                  </a:lnTo>
                  <a:lnTo>
                    <a:pt x="4" y="836"/>
                  </a:lnTo>
                  <a:lnTo>
                    <a:pt x="1164" y="2956"/>
                  </a:lnTo>
                  <a:lnTo>
                    <a:pt x="1164" y="2956"/>
                  </a:lnTo>
                  <a:lnTo>
                    <a:pt x="1168" y="2962"/>
                  </a:lnTo>
                  <a:lnTo>
                    <a:pt x="1174" y="2966"/>
                  </a:lnTo>
                  <a:lnTo>
                    <a:pt x="1180" y="2970"/>
                  </a:lnTo>
                  <a:lnTo>
                    <a:pt x="1186" y="2972"/>
                  </a:lnTo>
                  <a:lnTo>
                    <a:pt x="1192" y="2974"/>
                  </a:lnTo>
                  <a:lnTo>
                    <a:pt x="1198" y="2974"/>
                  </a:lnTo>
                  <a:lnTo>
                    <a:pt x="1204" y="2972"/>
                  </a:lnTo>
                  <a:lnTo>
                    <a:pt x="1210" y="2970"/>
                  </a:lnTo>
                  <a:lnTo>
                    <a:pt x="2050" y="2510"/>
                  </a:lnTo>
                  <a:lnTo>
                    <a:pt x="2050" y="2510"/>
                  </a:lnTo>
                  <a:lnTo>
                    <a:pt x="2056" y="2506"/>
                  </a:lnTo>
                  <a:lnTo>
                    <a:pt x="2060" y="2502"/>
                  </a:lnTo>
                  <a:lnTo>
                    <a:pt x="2064" y="2496"/>
                  </a:lnTo>
                  <a:lnTo>
                    <a:pt x="2066" y="2490"/>
                  </a:lnTo>
                  <a:lnTo>
                    <a:pt x="2066" y="2484"/>
                  </a:lnTo>
                  <a:lnTo>
                    <a:pt x="2066" y="2476"/>
                  </a:lnTo>
                  <a:lnTo>
                    <a:pt x="2066" y="2470"/>
                  </a:lnTo>
                  <a:lnTo>
                    <a:pt x="2062" y="2464"/>
                  </a:lnTo>
                  <a:lnTo>
                    <a:pt x="902" y="344"/>
                  </a:lnTo>
                  <a:lnTo>
                    <a:pt x="902" y="344"/>
                  </a:lnTo>
                  <a:lnTo>
                    <a:pt x="898" y="338"/>
                  </a:lnTo>
                  <a:lnTo>
                    <a:pt x="892" y="334"/>
                  </a:lnTo>
                  <a:lnTo>
                    <a:pt x="888" y="330"/>
                  </a:lnTo>
                  <a:lnTo>
                    <a:pt x="882" y="328"/>
                  </a:lnTo>
                  <a:lnTo>
                    <a:pt x="874" y="326"/>
                  </a:lnTo>
                  <a:lnTo>
                    <a:pt x="868" y="326"/>
                  </a:lnTo>
                  <a:lnTo>
                    <a:pt x="862" y="328"/>
                  </a:lnTo>
                  <a:lnTo>
                    <a:pt x="856" y="330"/>
                  </a:lnTo>
                  <a:lnTo>
                    <a:pt x="856" y="330"/>
                  </a:lnTo>
                  <a:lnTo>
                    <a:pt x="554" y="496"/>
                  </a:lnTo>
                  <a:lnTo>
                    <a:pt x="554" y="496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288" y="12"/>
                  </a:lnTo>
                  <a:lnTo>
                    <a:pt x="282" y="8"/>
                  </a:lnTo>
                  <a:lnTo>
                    <a:pt x="278" y="4"/>
                  </a:lnTo>
                  <a:lnTo>
                    <a:pt x="272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2" y="2"/>
                  </a:lnTo>
                  <a:lnTo>
                    <a:pt x="246" y="4"/>
                  </a:lnTo>
                  <a:lnTo>
                    <a:pt x="70" y="102"/>
                  </a:lnTo>
                  <a:close/>
                  <a:moveTo>
                    <a:pt x="248" y="80"/>
                  </a:moveTo>
                  <a:lnTo>
                    <a:pt x="248" y="80"/>
                  </a:lnTo>
                  <a:lnTo>
                    <a:pt x="512" y="558"/>
                  </a:lnTo>
                  <a:lnTo>
                    <a:pt x="512" y="558"/>
                  </a:lnTo>
                  <a:lnTo>
                    <a:pt x="514" y="564"/>
                  </a:lnTo>
                  <a:lnTo>
                    <a:pt x="520" y="568"/>
                  </a:lnTo>
                  <a:lnTo>
                    <a:pt x="526" y="572"/>
                  </a:lnTo>
                  <a:lnTo>
                    <a:pt x="532" y="574"/>
                  </a:lnTo>
                  <a:lnTo>
                    <a:pt x="538" y="576"/>
                  </a:lnTo>
                  <a:lnTo>
                    <a:pt x="544" y="576"/>
                  </a:lnTo>
                  <a:lnTo>
                    <a:pt x="550" y="574"/>
                  </a:lnTo>
                  <a:lnTo>
                    <a:pt x="556" y="572"/>
                  </a:lnTo>
                  <a:lnTo>
                    <a:pt x="556" y="572"/>
                  </a:lnTo>
                  <a:lnTo>
                    <a:pt x="858" y="406"/>
                  </a:lnTo>
                  <a:lnTo>
                    <a:pt x="858" y="406"/>
                  </a:lnTo>
                  <a:lnTo>
                    <a:pt x="1988" y="2466"/>
                  </a:lnTo>
                  <a:lnTo>
                    <a:pt x="1988" y="2466"/>
                  </a:lnTo>
                  <a:lnTo>
                    <a:pt x="1208" y="2894"/>
                  </a:lnTo>
                  <a:lnTo>
                    <a:pt x="1208" y="2894"/>
                  </a:lnTo>
                  <a:lnTo>
                    <a:pt x="78" y="834"/>
                  </a:lnTo>
                  <a:lnTo>
                    <a:pt x="78" y="834"/>
                  </a:lnTo>
                  <a:lnTo>
                    <a:pt x="380" y="668"/>
                  </a:lnTo>
                  <a:lnTo>
                    <a:pt x="380" y="668"/>
                  </a:lnTo>
                  <a:lnTo>
                    <a:pt x="386" y="664"/>
                  </a:lnTo>
                  <a:lnTo>
                    <a:pt x="390" y="660"/>
                  </a:lnTo>
                  <a:lnTo>
                    <a:pt x="394" y="654"/>
                  </a:lnTo>
                  <a:lnTo>
                    <a:pt x="396" y="648"/>
                  </a:lnTo>
                  <a:lnTo>
                    <a:pt x="398" y="642"/>
                  </a:lnTo>
                  <a:lnTo>
                    <a:pt x="398" y="636"/>
                  </a:lnTo>
                  <a:lnTo>
                    <a:pt x="396" y="628"/>
                  </a:lnTo>
                  <a:lnTo>
                    <a:pt x="394" y="622"/>
                  </a:lnTo>
                  <a:lnTo>
                    <a:pt x="394" y="622"/>
                  </a:lnTo>
                  <a:lnTo>
                    <a:pt x="132" y="144"/>
                  </a:lnTo>
                  <a:lnTo>
                    <a:pt x="132" y="144"/>
                  </a:lnTo>
                  <a:lnTo>
                    <a:pt x="248" y="80"/>
                  </a:lnTo>
                  <a:lnTo>
                    <a:pt x="248" y="8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37341360" y="6035760"/>
              <a:ext cx="1844640" cy="118404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1162" h="746">
                  <a:moveTo>
                    <a:pt x="1162" y="154"/>
                  </a:moveTo>
                  <a:lnTo>
                    <a:pt x="86" y="746"/>
                  </a:lnTo>
                  <a:lnTo>
                    <a:pt x="0" y="592"/>
                  </a:lnTo>
                  <a:lnTo>
                    <a:pt x="1078" y="0"/>
                  </a:lnTo>
                  <a:lnTo>
                    <a:pt x="116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37287360" y="5981760"/>
              <a:ext cx="1952640" cy="128880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1288800"/>
                <a:gd name="textAreaBottom" fmla="*/ 1289160 h 1288800"/>
              </a:gdLst>
              <a:ahLst/>
              <a:rect l="textAreaLeft" t="textAreaTop" r="textAreaRight" b="textAreaBottom"/>
              <a:pathLst>
                <a:path w="1230" h="812">
                  <a:moveTo>
                    <a:pt x="18" y="596"/>
                  </a:moveTo>
                  <a:lnTo>
                    <a:pt x="18" y="596"/>
                  </a:lnTo>
                  <a:lnTo>
                    <a:pt x="12" y="600"/>
                  </a:lnTo>
                  <a:lnTo>
                    <a:pt x="8" y="604"/>
                  </a:lnTo>
                  <a:lnTo>
                    <a:pt x="4" y="610"/>
                  </a:lnTo>
                  <a:lnTo>
                    <a:pt x="2" y="616"/>
                  </a:lnTo>
                  <a:lnTo>
                    <a:pt x="0" y="622"/>
                  </a:lnTo>
                  <a:lnTo>
                    <a:pt x="0" y="628"/>
                  </a:lnTo>
                  <a:lnTo>
                    <a:pt x="2" y="634"/>
                  </a:lnTo>
                  <a:lnTo>
                    <a:pt x="4" y="642"/>
                  </a:lnTo>
                  <a:lnTo>
                    <a:pt x="90" y="796"/>
                  </a:lnTo>
                  <a:lnTo>
                    <a:pt x="90" y="796"/>
                  </a:lnTo>
                  <a:lnTo>
                    <a:pt x="94" y="802"/>
                  </a:lnTo>
                  <a:lnTo>
                    <a:pt x="98" y="806"/>
                  </a:lnTo>
                  <a:lnTo>
                    <a:pt x="104" y="810"/>
                  </a:lnTo>
                  <a:lnTo>
                    <a:pt x="110" y="812"/>
                  </a:lnTo>
                  <a:lnTo>
                    <a:pt x="116" y="812"/>
                  </a:lnTo>
                  <a:lnTo>
                    <a:pt x="122" y="812"/>
                  </a:lnTo>
                  <a:lnTo>
                    <a:pt x="128" y="812"/>
                  </a:lnTo>
                  <a:lnTo>
                    <a:pt x="136" y="808"/>
                  </a:lnTo>
                  <a:lnTo>
                    <a:pt x="1214" y="218"/>
                  </a:lnTo>
                  <a:lnTo>
                    <a:pt x="1214" y="218"/>
                  </a:lnTo>
                  <a:lnTo>
                    <a:pt x="1218" y="214"/>
                  </a:lnTo>
                  <a:lnTo>
                    <a:pt x="1224" y="210"/>
                  </a:lnTo>
                  <a:lnTo>
                    <a:pt x="1226" y="204"/>
                  </a:lnTo>
                  <a:lnTo>
                    <a:pt x="1230" y="198"/>
                  </a:lnTo>
                  <a:lnTo>
                    <a:pt x="1230" y="192"/>
                  </a:lnTo>
                  <a:lnTo>
                    <a:pt x="1230" y="186"/>
                  </a:lnTo>
                  <a:lnTo>
                    <a:pt x="1228" y="178"/>
                  </a:lnTo>
                  <a:lnTo>
                    <a:pt x="1226" y="172"/>
                  </a:lnTo>
                  <a:lnTo>
                    <a:pt x="1142" y="18"/>
                  </a:lnTo>
                  <a:lnTo>
                    <a:pt x="1142" y="18"/>
                  </a:lnTo>
                  <a:lnTo>
                    <a:pt x="1138" y="12"/>
                  </a:lnTo>
                  <a:lnTo>
                    <a:pt x="1134" y="8"/>
                  </a:lnTo>
                  <a:lnTo>
                    <a:pt x="1128" y="4"/>
                  </a:lnTo>
                  <a:lnTo>
                    <a:pt x="1122" y="2"/>
                  </a:lnTo>
                  <a:lnTo>
                    <a:pt x="1116" y="0"/>
                  </a:lnTo>
                  <a:lnTo>
                    <a:pt x="1108" y="0"/>
                  </a:lnTo>
                  <a:lnTo>
                    <a:pt x="1102" y="2"/>
                  </a:lnTo>
                  <a:lnTo>
                    <a:pt x="1096" y="4"/>
                  </a:lnTo>
                  <a:lnTo>
                    <a:pt x="18" y="596"/>
                  </a:lnTo>
                  <a:close/>
                  <a:moveTo>
                    <a:pt x="1098" y="80"/>
                  </a:moveTo>
                  <a:lnTo>
                    <a:pt x="1098" y="80"/>
                  </a:lnTo>
                  <a:lnTo>
                    <a:pt x="1152" y="176"/>
                  </a:lnTo>
                  <a:lnTo>
                    <a:pt x="1152" y="176"/>
                  </a:lnTo>
                  <a:lnTo>
                    <a:pt x="132" y="734"/>
                  </a:lnTo>
                  <a:lnTo>
                    <a:pt x="132" y="734"/>
                  </a:lnTo>
                  <a:lnTo>
                    <a:pt x="80" y="638"/>
                  </a:lnTo>
                  <a:lnTo>
                    <a:pt x="80" y="638"/>
                  </a:lnTo>
                  <a:lnTo>
                    <a:pt x="1098" y="80"/>
                  </a:lnTo>
                  <a:lnTo>
                    <a:pt x="1098" y="8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36430200" y="3921120"/>
              <a:ext cx="2168640" cy="2692440"/>
            </a:xfrm>
            <a:custGeom>
              <a:avLst/>
              <a:gdLst>
                <a:gd name="textAreaLeft" fmla="*/ 0 w 2168640"/>
                <a:gd name="textAreaRight" fmla="*/ 2169000 w 2168640"/>
                <a:gd name="textAreaTop" fmla="*/ 0 h 2692440"/>
                <a:gd name="textAreaBottom" fmla="*/ 2692440 h 2692440"/>
              </a:gdLst>
              <a:ahLst/>
              <a:rect l="textAreaLeft" t="textAreaTop" r="textAreaRight" b="textAreaBottom"/>
              <a:pathLst>
                <a:path w="1366" h="1696">
                  <a:moveTo>
                    <a:pt x="1366" y="1354"/>
                  </a:moveTo>
                  <a:lnTo>
                    <a:pt x="742" y="1696"/>
                  </a:lnTo>
                  <a:lnTo>
                    <a:pt x="0" y="342"/>
                  </a:lnTo>
                  <a:lnTo>
                    <a:pt x="624" y="0"/>
                  </a:lnTo>
                  <a:lnTo>
                    <a:pt x="1366" y="1354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36448920" y="3952800"/>
              <a:ext cx="1041480" cy="615960"/>
            </a:xfrm>
            <a:custGeom>
              <a:avLst/>
              <a:gdLst>
                <a:gd name="textAreaLeft" fmla="*/ 0 w 1041480"/>
                <a:gd name="textAreaRight" fmla="*/ 1041480 w 10414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56" h="388">
                  <a:moveTo>
                    <a:pt x="4" y="340"/>
                  </a:moveTo>
                  <a:lnTo>
                    <a:pt x="4" y="340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58"/>
                  </a:lnTo>
                  <a:lnTo>
                    <a:pt x="2" y="366"/>
                  </a:lnTo>
                  <a:lnTo>
                    <a:pt x="4" y="372"/>
                  </a:lnTo>
                  <a:lnTo>
                    <a:pt x="8" y="376"/>
                  </a:lnTo>
                  <a:lnTo>
                    <a:pt x="12" y="382"/>
                  </a:lnTo>
                  <a:lnTo>
                    <a:pt x="18" y="384"/>
                  </a:lnTo>
                  <a:lnTo>
                    <a:pt x="18" y="384"/>
                  </a:lnTo>
                  <a:lnTo>
                    <a:pt x="24" y="388"/>
                  </a:lnTo>
                  <a:lnTo>
                    <a:pt x="30" y="388"/>
                  </a:lnTo>
                  <a:lnTo>
                    <a:pt x="36" y="388"/>
                  </a:lnTo>
                  <a:lnTo>
                    <a:pt x="42" y="388"/>
                  </a:lnTo>
                  <a:lnTo>
                    <a:pt x="48" y="384"/>
                  </a:lnTo>
                  <a:lnTo>
                    <a:pt x="54" y="382"/>
                  </a:lnTo>
                  <a:lnTo>
                    <a:pt x="58" y="376"/>
                  </a:lnTo>
                  <a:lnTo>
                    <a:pt x="62" y="370"/>
                  </a:lnTo>
                  <a:lnTo>
                    <a:pt x="62" y="370"/>
                  </a:lnTo>
                  <a:lnTo>
                    <a:pt x="70" y="360"/>
                  </a:lnTo>
                  <a:lnTo>
                    <a:pt x="92" y="330"/>
                  </a:lnTo>
                  <a:lnTo>
                    <a:pt x="108" y="310"/>
                  </a:lnTo>
                  <a:lnTo>
                    <a:pt x="130" y="286"/>
                  </a:lnTo>
                  <a:lnTo>
                    <a:pt x="156" y="262"/>
                  </a:lnTo>
                  <a:lnTo>
                    <a:pt x="186" y="236"/>
                  </a:lnTo>
                  <a:lnTo>
                    <a:pt x="222" y="210"/>
                  </a:lnTo>
                  <a:lnTo>
                    <a:pt x="262" y="184"/>
                  </a:lnTo>
                  <a:lnTo>
                    <a:pt x="308" y="158"/>
                  </a:lnTo>
                  <a:lnTo>
                    <a:pt x="360" y="134"/>
                  </a:lnTo>
                  <a:lnTo>
                    <a:pt x="416" y="112"/>
                  </a:lnTo>
                  <a:lnTo>
                    <a:pt x="448" y="102"/>
                  </a:lnTo>
                  <a:lnTo>
                    <a:pt x="480" y="94"/>
                  </a:lnTo>
                  <a:lnTo>
                    <a:pt x="514" y="86"/>
                  </a:lnTo>
                  <a:lnTo>
                    <a:pt x="550" y="78"/>
                  </a:lnTo>
                  <a:lnTo>
                    <a:pt x="588" y="72"/>
                  </a:lnTo>
                  <a:lnTo>
                    <a:pt x="626" y="66"/>
                  </a:lnTo>
                  <a:lnTo>
                    <a:pt x="626" y="66"/>
                  </a:lnTo>
                  <a:lnTo>
                    <a:pt x="632" y="64"/>
                  </a:lnTo>
                  <a:lnTo>
                    <a:pt x="638" y="62"/>
                  </a:lnTo>
                  <a:lnTo>
                    <a:pt x="644" y="58"/>
                  </a:lnTo>
                  <a:lnTo>
                    <a:pt x="648" y="54"/>
                  </a:lnTo>
                  <a:lnTo>
                    <a:pt x="652" y="48"/>
                  </a:lnTo>
                  <a:lnTo>
                    <a:pt x="654" y="42"/>
                  </a:lnTo>
                  <a:lnTo>
                    <a:pt x="656" y="36"/>
                  </a:lnTo>
                  <a:lnTo>
                    <a:pt x="656" y="28"/>
                  </a:lnTo>
                  <a:lnTo>
                    <a:pt x="656" y="28"/>
                  </a:lnTo>
                  <a:lnTo>
                    <a:pt x="654" y="22"/>
                  </a:lnTo>
                  <a:lnTo>
                    <a:pt x="652" y="16"/>
                  </a:lnTo>
                  <a:lnTo>
                    <a:pt x="648" y="10"/>
                  </a:lnTo>
                  <a:lnTo>
                    <a:pt x="642" y="6"/>
                  </a:lnTo>
                  <a:lnTo>
                    <a:pt x="638" y="2"/>
                  </a:lnTo>
                  <a:lnTo>
                    <a:pt x="632" y="0"/>
                  </a:lnTo>
                  <a:lnTo>
                    <a:pt x="624" y="0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576" y="6"/>
                  </a:lnTo>
                  <a:lnTo>
                    <a:pt x="536" y="12"/>
                  </a:lnTo>
                  <a:lnTo>
                    <a:pt x="496" y="20"/>
                  </a:lnTo>
                  <a:lnTo>
                    <a:pt x="460" y="30"/>
                  </a:lnTo>
                  <a:lnTo>
                    <a:pt x="424" y="40"/>
                  </a:lnTo>
                  <a:lnTo>
                    <a:pt x="390" y="50"/>
                  </a:lnTo>
                  <a:lnTo>
                    <a:pt x="358" y="62"/>
                  </a:lnTo>
                  <a:lnTo>
                    <a:pt x="328" y="74"/>
                  </a:lnTo>
                  <a:lnTo>
                    <a:pt x="272" y="100"/>
                  </a:lnTo>
                  <a:lnTo>
                    <a:pt x="222" y="128"/>
                  </a:lnTo>
                  <a:lnTo>
                    <a:pt x="178" y="158"/>
                  </a:lnTo>
                  <a:lnTo>
                    <a:pt x="140" y="186"/>
                  </a:lnTo>
                  <a:lnTo>
                    <a:pt x="106" y="214"/>
                  </a:lnTo>
                  <a:lnTo>
                    <a:pt x="78" y="242"/>
                  </a:lnTo>
                  <a:lnTo>
                    <a:pt x="56" y="266"/>
                  </a:lnTo>
                  <a:lnTo>
                    <a:pt x="38" y="290"/>
                  </a:lnTo>
                  <a:lnTo>
                    <a:pt x="12" y="324"/>
                  </a:lnTo>
                  <a:lnTo>
                    <a:pt x="4" y="340"/>
                  </a:lnTo>
                  <a:lnTo>
                    <a:pt x="4" y="340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37201680" y="4273560"/>
              <a:ext cx="384120" cy="19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2" h="126">
                  <a:moveTo>
                    <a:pt x="6" y="72"/>
                  </a:moveTo>
                  <a:lnTo>
                    <a:pt x="6" y="72"/>
                  </a:lnTo>
                  <a:lnTo>
                    <a:pt x="4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50" y="122"/>
                  </a:lnTo>
                  <a:lnTo>
                    <a:pt x="56" y="118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68" y="104"/>
                  </a:lnTo>
                  <a:lnTo>
                    <a:pt x="80" y="96"/>
                  </a:lnTo>
                  <a:lnTo>
                    <a:pt x="94" y="88"/>
                  </a:lnTo>
                  <a:lnTo>
                    <a:pt x="114" y="78"/>
                  </a:lnTo>
                  <a:lnTo>
                    <a:pt x="140" y="72"/>
                  </a:lnTo>
                  <a:lnTo>
                    <a:pt x="170" y="68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6" y="62"/>
                  </a:lnTo>
                  <a:lnTo>
                    <a:pt x="232" y="58"/>
                  </a:lnTo>
                  <a:lnTo>
                    <a:pt x="236" y="54"/>
                  </a:lnTo>
                  <a:lnTo>
                    <a:pt x="240" y="48"/>
                  </a:lnTo>
                  <a:lnTo>
                    <a:pt x="242" y="42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28"/>
                  </a:lnTo>
                  <a:lnTo>
                    <a:pt x="240" y="22"/>
                  </a:lnTo>
                  <a:lnTo>
                    <a:pt x="238" y="16"/>
                  </a:lnTo>
                  <a:lnTo>
                    <a:pt x="234" y="10"/>
                  </a:lnTo>
                  <a:lnTo>
                    <a:pt x="230" y="6"/>
                  </a:lnTo>
                  <a:lnTo>
                    <a:pt x="224" y="4"/>
                  </a:lnTo>
                  <a:lnTo>
                    <a:pt x="218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62" y="0"/>
                  </a:lnTo>
                  <a:lnTo>
                    <a:pt x="140" y="4"/>
                  </a:lnTo>
                  <a:lnTo>
                    <a:pt x="120" y="8"/>
                  </a:lnTo>
                  <a:lnTo>
                    <a:pt x="100" y="12"/>
                  </a:lnTo>
                  <a:lnTo>
                    <a:pt x="84" y="18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20" y="5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37328760" y="4502160"/>
              <a:ext cx="384120" cy="19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2" h="126">
                  <a:moveTo>
                    <a:pt x="6" y="72"/>
                  </a:moveTo>
                  <a:lnTo>
                    <a:pt x="6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8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22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4" y="124"/>
                  </a:lnTo>
                  <a:lnTo>
                    <a:pt x="50" y="122"/>
                  </a:lnTo>
                  <a:lnTo>
                    <a:pt x="54" y="118"/>
                  </a:lnTo>
                  <a:lnTo>
                    <a:pt x="60" y="114"/>
                  </a:lnTo>
                  <a:lnTo>
                    <a:pt x="60" y="114"/>
                  </a:lnTo>
                  <a:lnTo>
                    <a:pt x="68" y="106"/>
                  </a:lnTo>
                  <a:lnTo>
                    <a:pt x="80" y="98"/>
                  </a:lnTo>
                  <a:lnTo>
                    <a:pt x="94" y="88"/>
                  </a:lnTo>
                  <a:lnTo>
                    <a:pt x="114" y="80"/>
                  </a:lnTo>
                  <a:lnTo>
                    <a:pt x="140" y="72"/>
                  </a:lnTo>
                  <a:lnTo>
                    <a:pt x="170" y="68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14" y="68"/>
                  </a:lnTo>
                  <a:lnTo>
                    <a:pt x="220" y="66"/>
                  </a:lnTo>
                  <a:lnTo>
                    <a:pt x="226" y="64"/>
                  </a:lnTo>
                  <a:lnTo>
                    <a:pt x="230" y="60"/>
                  </a:lnTo>
                  <a:lnTo>
                    <a:pt x="236" y="54"/>
                  </a:lnTo>
                  <a:lnTo>
                    <a:pt x="238" y="50"/>
                  </a:lnTo>
                  <a:lnTo>
                    <a:pt x="240" y="42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30"/>
                  </a:lnTo>
                  <a:lnTo>
                    <a:pt x="240" y="24"/>
                  </a:lnTo>
                  <a:lnTo>
                    <a:pt x="238" y="18"/>
                  </a:lnTo>
                  <a:lnTo>
                    <a:pt x="234" y="12"/>
                  </a:lnTo>
                  <a:lnTo>
                    <a:pt x="228" y="8"/>
                  </a:lnTo>
                  <a:lnTo>
                    <a:pt x="224" y="4"/>
                  </a:lnTo>
                  <a:lnTo>
                    <a:pt x="216" y="2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184" y="0"/>
                  </a:lnTo>
                  <a:lnTo>
                    <a:pt x="160" y="2"/>
                  </a:lnTo>
                  <a:lnTo>
                    <a:pt x="138" y="4"/>
                  </a:lnTo>
                  <a:lnTo>
                    <a:pt x="118" y="8"/>
                  </a:lnTo>
                  <a:lnTo>
                    <a:pt x="100" y="14"/>
                  </a:lnTo>
                  <a:lnTo>
                    <a:pt x="84" y="20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20" y="60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37455480" y="4734000"/>
              <a:ext cx="384120" cy="19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2" h="126">
                  <a:moveTo>
                    <a:pt x="6" y="72"/>
                  </a:moveTo>
                  <a:lnTo>
                    <a:pt x="6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4"/>
                  </a:lnTo>
                  <a:lnTo>
                    <a:pt x="48" y="122"/>
                  </a:lnTo>
                  <a:lnTo>
                    <a:pt x="54" y="118"/>
                  </a:lnTo>
                  <a:lnTo>
                    <a:pt x="58" y="112"/>
                  </a:lnTo>
                  <a:lnTo>
                    <a:pt x="58" y="112"/>
                  </a:lnTo>
                  <a:lnTo>
                    <a:pt x="68" y="104"/>
                  </a:lnTo>
                  <a:lnTo>
                    <a:pt x="78" y="96"/>
                  </a:lnTo>
                  <a:lnTo>
                    <a:pt x="94" y="88"/>
                  </a:lnTo>
                  <a:lnTo>
                    <a:pt x="114" y="78"/>
                  </a:lnTo>
                  <a:lnTo>
                    <a:pt x="140" y="72"/>
                  </a:lnTo>
                  <a:lnTo>
                    <a:pt x="170" y="68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14" y="66"/>
                  </a:lnTo>
                  <a:lnTo>
                    <a:pt x="220" y="66"/>
                  </a:lnTo>
                  <a:lnTo>
                    <a:pt x="226" y="62"/>
                  </a:lnTo>
                  <a:lnTo>
                    <a:pt x="230" y="58"/>
                  </a:lnTo>
                  <a:lnTo>
                    <a:pt x="234" y="54"/>
                  </a:lnTo>
                  <a:lnTo>
                    <a:pt x="238" y="48"/>
                  </a:lnTo>
                  <a:lnTo>
                    <a:pt x="240" y="42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28"/>
                  </a:lnTo>
                  <a:lnTo>
                    <a:pt x="240" y="22"/>
                  </a:lnTo>
                  <a:lnTo>
                    <a:pt x="236" y="16"/>
                  </a:lnTo>
                  <a:lnTo>
                    <a:pt x="232" y="12"/>
                  </a:lnTo>
                  <a:lnTo>
                    <a:pt x="228" y="6"/>
                  </a:lnTo>
                  <a:lnTo>
                    <a:pt x="222" y="4"/>
                  </a:lnTo>
                  <a:lnTo>
                    <a:pt x="216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60" y="2"/>
                  </a:lnTo>
                  <a:lnTo>
                    <a:pt x="138" y="4"/>
                  </a:lnTo>
                  <a:lnTo>
                    <a:pt x="118" y="8"/>
                  </a:lnTo>
                  <a:lnTo>
                    <a:pt x="100" y="12"/>
                  </a:lnTo>
                  <a:lnTo>
                    <a:pt x="84" y="18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18" y="5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7579320" y="4962600"/>
              <a:ext cx="387360" cy="1998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4" h="126">
                  <a:moveTo>
                    <a:pt x="8" y="72"/>
                  </a:moveTo>
                  <a:lnTo>
                    <a:pt x="8" y="72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8" y="114"/>
                  </a:lnTo>
                  <a:lnTo>
                    <a:pt x="14" y="120"/>
                  </a:lnTo>
                  <a:lnTo>
                    <a:pt x="14" y="120"/>
                  </a:lnTo>
                  <a:lnTo>
                    <a:pt x="20" y="124"/>
                  </a:lnTo>
                  <a:lnTo>
                    <a:pt x="26" y="126"/>
                  </a:lnTo>
                  <a:lnTo>
                    <a:pt x="32" y="126"/>
                  </a:lnTo>
                  <a:lnTo>
                    <a:pt x="38" y="126"/>
                  </a:lnTo>
                  <a:lnTo>
                    <a:pt x="44" y="124"/>
                  </a:lnTo>
                  <a:lnTo>
                    <a:pt x="50" y="122"/>
                  </a:lnTo>
                  <a:lnTo>
                    <a:pt x="56" y="118"/>
                  </a:lnTo>
                  <a:lnTo>
                    <a:pt x="60" y="114"/>
                  </a:lnTo>
                  <a:lnTo>
                    <a:pt x="60" y="114"/>
                  </a:lnTo>
                  <a:lnTo>
                    <a:pt x="70" y="106"/>
                  </a:lnTo>
                  <a:lnTo>
                    <a:pt x="80" y="98"/>
                  </a:lnTo>
                  <a:lnTo>
                    <a:pt x="96" y="88"/>
                  </a:lnTo>
                  <a:lnTo>
                    <a:pt x="116" y="80"/>
                  </a:lnTo>
                  <a:lnTo>
                    <a:pt x="140" y="72"/>
                  </a:lnTo>
                  <a:lnTo>
                    <a:pt x="172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14" y="68"/>
                  </a:lnTo>
                  <a:lnTo>
                    <a:pt x="222" y="66"/>
                  </a:lnTo>
                  <a:lnTo>
                    <a:pt x="226" y="64"/>
                  </a:lnTo>
                  <a:lnTo>
                    <a:pt x="232" y="60"/>
                  </a:lnTo>
                  <a:lnTo>
                    <a:pt x="236" y="54"/>
                  </a:lnTo>
                  <a:lnTo>
                    <a:pt x="240" y="50"/>
                  </a:lnTo>
                  <a:lnTo>
                    <a:pt x="242" y="44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42" y="30"/>
                  </a:lnTo>
                  <a:lnTo>
                    <a:pt x="242" y="24"/>
                  </a:lnTo>
                  <a:lnTo>
                    <a:pt x="238" y="18"/>
                  </a:lnTo>
                  <a:lnTo>
                    <a:pt x="234" y="12"/>
                  </a:lnTo>
                  <a:lnTo>
                    <a:pt x="230" y="8"/>
                  </a:lnTo>
                  <a:lnTo>
                    <a:pt x="224" y="4"/>
                  </a:lnTo>
                  <a:lnTo>
                    <a:pt x="218" y="2"/>
                  </a:lnTo>
                  <a:lnTo>
                    <a:pt x="212" y="2"/>
                  </a:lnTo>
                  <a:lnTo>
                    <a:pt x="212" y="2"/>
                  </a:lnTo>
                  <a:lnTo>
                    <a:pt x="186" y="0"/>
                  </a:lnTo>
                  <a:lnTo>
                    <a:pt x="162" y="2"/>
                  </a:lnTo>
                  <a:lnTo>
                    <a:pt x="140" y="4"/>
                  </a:lnTo>
                  <a:lnTo>
                    <a:pt x="120" y="8"/>
                  </a:lnTo>
                  <a:lnTo>
                    <a:pt x="102" y="14"/>
                  </a:lnTo>
                  <a:lnTo>
                    <a:pt x="84" y="20"/>
                  </a:lnTo>
                  <a:lnTo>
                    <a:pt x="56" y="34"/>
                  </a:lnTo>
                  <a:lnTo>
                    <a:pt x="36" y="46"/>
                  </a:lnTo>
                  <a:lnTo>
                    <a:pt x="20" y="60"/>
                  </a:lnTo>
                  <a:lnTo>
                    <a:pt x="8" y="72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37706400" y="5194440"/>
              <a:ext cx="384120" cy="19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2" h="126">
                  <a:moveTo>
                    <a:pt x="6" y="72"/>
                  </a:moveTo>
                  <a:lnTo>
                    <a:pt x="6" y="72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4"/>
                  </a:lnTo>
                  <a:lnTo>
                    <a:pt x="32" y="126"/>
                  </a:lnTo>
                  <a:lnTo>
                    <a:pt x="38" y="126"/>
                  </a:lnTo>
                  <a:lnTo>
                    <a:pt x="44" y="124"/>
                  </a:lnTo>
                  <a:lnTo>
                    <a:pt x="50" y="122"/>
                  </a:lnTo>
                  <a:lnTo>
                    <a:pt x="56" y="118"/>
                  </a:lnTo>
                  <a:lnTo>
                    <a:pt x="60" y="114"/>
                  </a:lnTo>
                  <a:lnTo>
                    <a:pt x="60" y="114"/>
                  </a:lnTo>
                  <a:lnTo>
                    <a:pt x="68" y="104"/>
                  </a:lnTo>
                  <a:lnTo>
                    <a:pt x="80" y="96"/>
                  </a:lnTo>
                  <a:lnTo>
                    <a:pt x="94" y="88"/>
                  </a:lnTo>
                  <a:lnTo>
                    <a:pt x="116" y="78"/>
                  </a:lnTo>
                  <a:lnTo>
                    <a:pt x="140" y="72"/>
                  </a:lnTo>
                  <a:lnTo>
                    <a:pt x="172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14" y="68"/>
                  </a:lnTo>
                  <a:lnTo>
                    <a:pt x="220" y="66"/>
                  </a:lnTo>
                  <a:lnTo>
                    <a:pt x="226" y="62"/>
                  </a:lnTo>
                  <a:lnTo>
                    <a:pt x="232" y="58"/>
                  </a:lnTo>
                  <a:lnTo>
                    <a:pt x="236" y="54"/>
                  </a:lnTo>
                  <a:lnTo>
                    <a:pt x="240" y="48"/>
                  </a:lnTo>
                  <a:lnTo>
                    <a:pt x="242" y="42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28"/>
                  </a:lnTo>
                  <a:lnTo>
                    <a:pt x="240" y="22"/>
                  </a:lnTo>
                  <a:lnTo>
                    <a:pt x="238" y="16"/>
                  </a:lnTo>
                  <a:lnTo>
                    <a:pt x="234" y="12"/>
                  </a:lnTo>
                  <a:lnTo>
                    <a:pt x="230" y="8"/>
                  </a:lnTo>
                  <a:lnTo>
                    <a:pt x="224" y="4"/>
                  </a:lnTo>
                  <a:lnTo>
                    <a:pt x="218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6" y="0"/>
                  </a:lnTo>
                  <a:lnTo>
                    <a:pt x="162" y="2"/>
                  </a:lnTo>
                  <a:lnTo>
                    <a:pt x="140" y="4"/>
                  </a:lnTo>
                  <a:lnTo>
                    <a:pt x="120" y="8"/>
                  </a:lnTo>
                  <a:lnTo>
                    <a:pt x="100" y="14"/>
                  </a:lnTo>
                  <a:lnTo>
                    <a:pt x="84" y="20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20" y="5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37833480" y="5426280"/>
              <a:ext cx="384120" cy="196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42" h="124">
                  <a:moveTo>
                    <a:pt x="6" y="72"/>
                  </a:moveTo>
                  <a:lnTo>
                    <a:pt x="6" y="72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4"/>
                  </a:lnTo>
                  <a:lnTo>
                    <a:pt x="30" y="124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50" y="120"/>
                  </a:lnTo>
                  <a:lnTo>
                    <a:pt x="54" y="118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68" y="104"/>
                  </a:lnTo>
                  <a:lnTo>
                    <a:pt x="80" y="96"/>
                  </a:lnTo>
                  <a:lnTo>
                    <a:pt x="94" y="86"/>
                  </a:lnTo>
                  <a:lnTo>
                    <a:pt x="114" y="78"/>
                  </a:lnTo>
                  <a:lnTo>
                    <a:pt x="140" y="72"/>
                  </a:lnTo>
                  <a:lnTo>
                    <a:pt x="170" y="66"/>
                  </a:lnTo>
                  <a:lnTo>
                    <a:pt x="206" y="66"/>
                  </a:lnTo>
                  <a:lnTo>
                    <a:pt x="206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6" y="62"/>
                  </a:lnTo>
                  <a:lnTo>
                    <a:pt x="232" y="58"/>
                  </a:lnTo>
                  <a:lnTo>
                    <a:pt x="236" y="54"/>
                  </a:lnTo>
                  <a:lnTo>
                    <a:pt x="238" y="48"/>
                  </a:lnTo>
                  <a:lnTo>
                    <a:pt x="242" y="42"/>
                  </a:lnTo>
                  <a:lnTo>
                    <a:pt x="242" y="34"/>
                  </a:lnTo>
                  <a:lnTo>
                    <a:pt x="242" y="34"/>
                  </a:lnTo>
                  <a:lnTo>
                    <a:pt x="242" y="28"/>
                  </a:lnTo>
                  <a:lnTo>
                    <a:pt x="240" y="22"/>
                  </a:lnTo>
                  <a:lnTo>
                    <a:pt x="238" y="16"/>
                  </a:lnTo>
                  <a:lnTo>
                    <a:pt x="234" y="10"/>
                  </a:lnTo>
                  <a:lnTo>
                    <a:pt x="228" y="6"/>
                  </a:lnTo>
                  <a:lnTo>
                    <a:pt x="224" y="2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60" y="0"/>
                  </a:lnTo>
                  <a:lnTo>
                    <a:pt x="138" y="4"/>
                  </a:lnTo>
                  <a:lnTo>
                    <a:pt x="118" y="8"/>
                  </a:lnTo>
                  <a:lnTo>
                    <a:pt x="100" y="12"/>
                  </a:lnTo>
                  <a:lnTo>
                    <a:pt x="84" y="18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20" y="5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37960560" y="5654880"/>
              <a:ext cx="384120" cy="199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42" h="126">
                  <a:moveTo>
                    <a:pt x="6" y="72"/>
                  </a:moveTo>
                  <a:lnTo>
                    <a:pt x="6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4" y="108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4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4"/>
                  </a:lnTo>
                  <a:lnTo>
                    <a:pt x="48" y="122"/>
                  </a:lnTo>
                  <a:lnTo>
                    <a:pt x="54" y="118"/>
                  </a:lnTo>
                  <a:lnTo>
                    <a:pt x="58" y="114"/>
                  </a:lnTo>
                  <a:lnTo>
                    <a:pt x="58" y="114"/>
                  </a:lnTo>
                  <a:lnTo>
                    <a:pt x="68" y="104"/>
                  </a:lnTo>
                  <a:lnTo>
                    <a:pt x="78" y="96"/>
                  </a:lnTo>
                  <a:lnTo>
                    <a:pt x="94" y="88"/>
                  </a:lnTo>
                  <a:lnTo>
                    <a:pt x="114" y="80"/>
                  </a:lnTo>
                  <a:lnTo>
                    <a:pt x="140" y="72"/>
                  </a:lnTo>
                  <a:lnTo>
                    <a:pt x="170" y="68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14" y="68"/>
                  </a:lnTo>
                  <a:lnTo>
                    <a:pt x="220" y="66"/>
                  </a:lnTo>
                  <a:lnTo>
                    <a:pt x="226" y="62"/>
                  </a:lnTo>
                  <a:lnTo>
                    <a:pt x="230" y="60"/>
                  </a:lnTo>
                  <a:lnTo>
                    <a:pt x="234" y="54"/>
                  </a:lnTo>
                  <a:lnTo>
                    <a:pt x="238" y="48"/>
                  </a:lnTo>
                  <a:lnTo>
                    <a:pt x="240" y="42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30"/>
                  </a:lnTo>
                  <a:lnTo>
                    <a:pt x="240" y="22"/>
                  </a:lnTo>
                  <a:lnTo>
                    <a:pt x="236" y="16"/>
                  </a:lnTo>
                  <a:lnTo>
                    <a:pt x="234" y="12"/>
                  </a:lnTo>
                  <a:lnTo>
                    <a:pt x="228" y="8"/>
                  </a:lnTo>
                  <a:lnTo>
                    <a:pt x="222" y="4"/>
                  </a:lnTo>
                  <a:lnTo>
                    <a:pt x="216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60" y="2"/>
                  </a:lnTo>
                  <a:lnTo>
                    <a:pt x="138" y="4"/>
                  </a:lnTo>
                  <a:lnTo>
                    <a:pt x="118" y="8"/>
                  </a:lnTo>
                  <a:lnTo>
                    <a:pt x="100" y="14"/>
                  </a:lnTo>
                  <a:lnTo>
                    <a:pt x="84" y="20"/>
                  </a:lnTo>
                  <a:lnTo>
                    <a:pt x="56" y="32"/>
                  </a:lnTo>
                  <a:lnTo>
                    <a:pt x="34" y="46"/>
                  </a:lnTo>
                  <a:lnTo>
                    <a:pt x="18" y="5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38084400" y="5886360"/>
              <a:ext cx="387360" cy="1965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44" h="124">
                  <a:moveTo>
                    <a:pt x="8" y="72"/>
                  </a:moveTo>
                  <a:lnTo>
                    <a:pt x="8" y="72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4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20" y="122"/>
                  </a:lnTo>
                  <a:lnTo>
                    <a:pt x="26" y="124"/>
                  </a:lnTo>
                  <a:lnTo>
                    <a:pt x="32" y="124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50" y="120"/>
                  </a:lnTo>
                  <a:lnTo>
                    <a:pt x="56" y="118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70" y="104"/>
                  </a:lnTo>
                  <a:lnTo>
                    <a:pt x="80" y="96"/>
                  </a:lnTo>
                  <a:lnTo>
                    <a:pt x="96" y="86"/>
                  </a:lnTo>
                  <a:lnTo>
                    <a:pt x="116" y="78"/>
                  </a:lnTo>
                  <a:lnTo>
                    <a:pt x="140" y="72"/>
                  </a:lnTo>
                  <a:lnTo>
                    <a:pt x="172" y="68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214" y="66"/>
                  </a:lnTo>
                  <a:lnTo>
                    <a:pt x="222" y="64"/>
                  </a:lnTo>
                  <a:lnTo>
                    <a:pt x="226" y="62"/>
                  </a:lnTo>
                  <a:lnTo>
                    <a:pt x="232" y="58"/>
                  </a:lnTo>
                  <a:lnTo>
                    <a:pt x="236" y="54"/>
                  </a:lnTo>
                  <a:lnTo>
                    <a:pt x="240" y="48"/>
                  </a:lnTo>
                  <a:lnTo>
                    <a:pt x="242" y="42"/>
                  </a:lnTo>
                  <a:lnTo>
                    <a:pt x="244" y="34"/>
                  </a:lnTo>
                  <a:lnTo>
                    <a:pt x="244" y="34"/>
                  </a:lnTo>
                  <a:lnTo>
                    <a:pt x="242" y="28"/>
                  </a:lnTo>
                  <a:lnTo>
                    <a:pt x="242" y="22"/>
                  </a:lnTo>
                  <a:lnTo>
                    <a:pt x="238" y="16"/>
                  </a:lnTo>
                  <a:lnTo>
                    <a:pt x="234" y="10"/>
                  </a:lnTo>
                  <a:lnTo>
                    <a:pt x="230" y="6"/>
                  </a:lnTo>
                  <a:lnTo>
                    <a:pt x="224" y="2"/>
                  </a:lnTo>
                  <a:lnTo>
                    <a:pt x="218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186" y="0"/>
                  </a:lnTo>
                  <a:lnTo>
                    <a:pt x="162" y="0"/>
                  </a:lnTo>
                  <a:lnTo>
                    <a:pt x="140" y="4"/>
                  </a:lnTo>
                  <a:lnTo>
                    <a:pt x="120" y="8"/>
                  </a:lnTo>
                  <a:lnTo>
                    <a:pt x="102" y="12"/>
                  </a:lnTo>
                  <a:lnTo>
                    <a:pt x="84" y="18"/>
                  </a:lnTo>
                  <a:lnTo>
                    <a:pt x="56" y="32"/>
                  </a:lnTo>
                  <a:lnTo>
                    <a:pt x="36" y="46"/>
                  </a:lnTo>
                  <a:lnTo>
                    <a:pt x="20" y="58"/>
                  </a:lnTo>
                  <a:lnTo>
                    <a:pt x="8" y="72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35070840" y="1174680"/>
              <a:ext cx="806400" cy="10285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08" h="648">
                  <a:moveTo>
                    <a:pt x="488" y="648"/>
                  </a:moveTo>
                  <a:lnTo>
                    <a:pt x="488" y="648"/>
                  </a:lnTo>
                  <a:lnTo>
                    <a:pt x="470" y="624"/>
                  </a:lnTo>
                  <a:lnTo>
                    <a:pt x="446" y="598"/>
                  </a:lnTo>
                  <a:lnTo>
                    <a:pt x="414" y="566"/>
                  </a:lnTo>
                  <a:lnTo>
                    <a:pt x="370" y="530"/>
                  </a:lnTo>
                  <a:lnTo>
                    <a:pt x="346" y="510"/>
                  </a:lnTo>
                  <a:lnTo>
                    <a:pt x="318" y="490"/>
                  </a:lnTo>
                  <a:lnTo>
                    <a:pt x="286" y="470"/>
                  </a:lnTo>
                  <a:lnTo>
                    <a:pt x="252" y="452"/>
                  </a:lnTo>
                  <a:lnTo>
                    <a:pt x="216" y="434"/>
                  </a:lnTo>
                  <a:lnTo>
                    <a:pt x="178" y="416"/>
                  </a:lnTo>
                  <a:lnTo>
                    <a:pt x="178" y="416"/>
                  </a:lnTo>
                  <a:lnTo>
                    <a:pt x="158" y="406"/>
                  </a:lnTo>
                  <a:lnTo>
                    <a:pt x="140" y="396"/>
                  </a:lnTo>
                  <a:lnTo>
                    <a:pt x="122" y="384"/>
                  </a:lnTo>
                  <a:lnTo>
                    <a:pt x="106" y="374"/>
                  </a:lnTo>
                  <a:lnTo>
                    <a:pt x="90" y="360"/>
                  </a:lnTo>
                  <a:lnTo>
                    <a:pt x="76" y="348"/>
                  </a:lnTo>
                  <a:lnTo>
                    <a:pt x="64" y="334"/>
                  </a:lnTo>
                  <a:lnTo>
                    <a:pt x="52" y="320"/>
                  </a:lnTo>
                  <a:lnTo>
                    <a:pt x="40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6" y="258"/>
                  </a:lnTo>
                  <a:lnTo>
                    <a:pt x="10" y="242"/>
                  </a:lnTo>
                  <a:lnTo>
                    <a:pt x="6" y="226"/>
                  </a:lnTo>
                  <a:lnTo>
                    <a:pt x="2" y="210"/>
                  </a:lnTo>
                  <a:lnTo>
                    <a:pt x="0" y="194"/>
                  </a:lnTo>
                  <a:lnTo>
                    <a:pt x="0" y="178"/>
                  </a:lnTo>
                  <a:lnTo>
                    <a:pt x="0" y="162"/>
                  </a:lnTo>
                  <a:lnTo>
                    <a:pt x="2" y="148"/>
                  </a:lnTo>
                  <a:lnTo>
                    <a:pt x="6" y="132"/>
                  </a:lnTo>
                  <a:lnTo>
                    <a:pt x="10" y="118"/>
                  </a:lnTo>
                  <a:lnTo>
                    <a:pt x="16" y="104"/>
                  </a:lnTo>
                  <a:lnTo>
                    <a:pt x="24" y="90"/>
                  </a:lnTo>
                  <a:lnTo>
                    <a:pt x="32" y="78"/>
                  </a:lnTo>
                  <a:lnTo>
                    <a:pt x="42" y="66"/>
                  </a:lnTo>
                  <a:lnTo>
                    <a:pt x="54" y="54"/>
                  </a:lnTo>
                  <a:lnTo>
                    <a:pt x="66" y="44"/>
                  </a:lnTo>
                  <a:lnTo>
                    <a:pt x="80" y="34"/>
                  </a:lnTo>
                  <a:lnTo>
                    <a:pt x="96" y="26"/>
                  </a:lnTo>
                  <a:lnTo>
                    <a:pt x="114" y="18"/>
                  </a:lnTo>
                  <a:lnTo>
                    <a:pt x="132" y="12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74" y="4"/>
                  </a:lnTo>
                  <a:lnTo>
                    <a:pt x="194" y="2"/>
                  </a:lnTo>
                  <a:lnTo>
                    <a:pt x="212" y="0"/>
                  </a:lnTo>
                  <a:lnTo>
                    <a:pt x="230" y="2"/>
                  </a:lnTo>
                  <a:lnTo>
                    <a:pt x="248" y="4"/>
                  </a:lnTo>
                  <a:lnTo>
                    <a:pt x="264" y="6"/>
                  </a:lnTo>
                  <a:lnTo>
                    <a:pt x="282" y="10"/>
                  </a:lnTo>
                  <a:lnTo>
                    <a:pt x="296" y="14"/>
                  </a:lnTo>
                  <a:lnTo>
                    <a:pt x="326" y="28"/>
                  </a:lnTo>
                  <a:lnTo>
                    <a:pt x="352" y="46"/>
                  </a:lnTo>
                  <a:lnTo>
                    <a:pt x="376" y="66"/>
                  </a:lnTo>
                  <a:lnTo>
                    <a:pt x="398" y="88"/>
                  </a:lnTo>
                  <a:lnTo>
                    <a:pt x="418" y="114"/>
                  </a:lnTo>
                  <a:lnTo>
                    <a:pt x="434" y="142"/>
                  </a:lnTo>
                  <a:lnTo>
                    <a:pt x="450" y="172"/>
                  </a:lnTo>
                  <a:lnTo>
                    <a:pt x="462" y="204"/>
                  </a:lnTo>
                  <a:lnTo>
                    <a:pt x="474" y="236"/>
                  </a:lnTo>
                  <a:lnTo>
                    <a:pt x="484" y="270"/>
                  </a:lnTo>
                  <a:lnTo>
                    <a:pt x="492" y="302"/>
                  </a:lnTo>
                  <a:lnTo>
                    <a:pt x="498" y="336"/>
                  </a:lnTo>
                  <a:lnTo>
                    <a:pt x="498" y="336"/>
                  </a:lnTo>
                  <a:lnTo>
                    <a:pt x="502" y="368"/>
                  </a:lnTo>
                  <a:lnTo>
                    <a:pt x="506" y="400"/>
                  </a:lnTo>
                  <a:lnTo>
                    <a:pt x="508" y="458"/>
                  </a:lnTo>
                  <a:lnTo>
                    <a:pt x="508" y="512"/>
                  </a:lnTo>
                  <a:lnTo>
                    <a:pt x="504" y="558"/>
                  </a:lnTo>
                  <a:lnTo>
                    <a:pt x="498" y="594"/>
                  </a:lnTo>
                  <a:lnTo>
                    <a:pt x="492" y="624"/>
                  </a:lnTo>
                  <a:lnTo>
                    <a:pt x="488" y="648"/>
                  </a:lnTo>
                  <a:lnTo>
                    <a:pt x="488" y="648"/>
                  </a:lnTo>
                  <a:close/>
                </a:path>
              </a:pathLst>
            </a:custGeom>
            <a:solidFill>
              <a:srgbClr val="fff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5017200" y="1123920"/>
              <a:ext cx="914400" cy="12031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203120"/>
                <a:gd name="textAreaBottom" fmla="*/ 1203480 h 1203120"/>
              </a:gdLst>
              <a:ahLst/>
              <a:rect l="textAreaLeft" t="textAreaTop" r="textAreaRight" b="textAreaBottom"/>
              <a:pathLst>
                <a:path w="576" h="758">
                  <a:moveTo>
                    <a:pt x="2" y="188"/>
                  </a:move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4"/>
                  </a:lnTo>
                  <a:lnTo>
                    <a:pt x="10" y="274"/>
                  </a:lnTo>
                  <a:lnTo>
                    <a:pt x="16" y="296"/>
                  </a:lnTo>
                  <a:lnTo>
                    <a:pt x="24" y="316"/>
                  </a:lnTo>
                  <a:lnTo>
                    <a:pt x="36" y="336"/>
                  </a:lnTo>
                  <a:lnTo>
                    <a:pt x="48" y="356"/>
                  </a:lnTo>
                  <a:lnTo>
                    <a:pt x="62" y="376"/>
                  </a:lnTo>
                  <a:lnTo>
                    <a:pt x="76" y="394"/>
                  </a:lnTo>
                  <a:lnTo>
                    <a:pt x="94" y="410"/>
                  </a:lnTo>
                  <a:lnTo>
                    <a:pt x="112" y="426"/>
                  </a:lnTo>
                  <a:lnTo>
                    <a:pt x="132" y="442"/>
                  </a:lnTo>
                  <a:lnTo>
                    <a:pt x="152" y="454"/>
                  </a:lnTo>
                  <a:lnTo>
                    <a:pt x="176" y="468"/>
                  </a:lnTo>
                  <a:lnTo>
                    <a:pt x="198" y="478"/>
                  </a:lnTo>
                  <a:lnTo>
                    <a:pt x="198" y="478"/>
                  </a:lnTo>
                  <a:lnTo>
                    <a:pt x="236" y="494"/>
                  </a:lnTo>
                  <a:lnTo>
                    <a:pt x="270" y="512"/>
                  </a:lnTo>
                  <a:lnTo>
                    <a:pt x="300" y="530"/>
                  </a:lnTo>
                  <a:lnTo>
                    <a:pt x="330" y="548"/>
                  </a:lnTo>
                  <a:lnTo>
                    <a:pt x="356" y="568"/>
                  </a:lnTo>
                  <a:lnTo>
                    <a:pt x="380" y="586"/>
                  </a:lnTo>
                  <a:lnTo>
                    <a:pt x="422" y="620"/>
                  </a:lnTo>
                  <a:lnTo>
                    <a:pt x="454" y="650"/>
                  </a:lnTo>
                  <a:lnTo>
                    <a:pt x="476" y="676"/>
                  </a:lnTo>
                  <a:lnTo>
                    <a:pt x="494" y="698"/>
                  </a:lnTo>
                  <a:lnTo>
                    <a:pt x="532" y="758"/>
                  </a:lnTo>
                  <a:lnTo>
                    <a:pt x="554" y="690"/>
                  </a:lnTo>
                  <a:lnTo>
                    <a:pt x="554" y="690"/>
                  </a:lnTo>
                  <a:lnTo>
                    <a:pt x="560" y="660"/>
                  </a:lnTo>
                  <a:lnTo>
                    <a:pt x="566" y="630"/>
                  </a:lnTo>
                  <a:lnTo>
                    <a:pt x="572" y="592"/>
                  </a:lnTo>
                  <a:lnTo>
                    <a:pt x="576" y="544"/>
                  </a:lnTo>
                  <a:lnTo>
                    <a:pt x="576" y="488"/>
                  </a:lnTo>
                  <a:lnTo>
                    <a:pt x="574" y="428"/>
                  </a:lnTo>
                  <a:lnTo>
                    <a:pt x="570" y="396"/>
                  </a:lnTo>
                  <a:lnTo>
                    <a:pt x="566" y="362"/>
                  </a:lnTo>
                  <a:lnTo>
                    <a:pt x="566" y="362"/>
                  </a:lnTo>
                  <a:lnTo>
                    <a:pt x="558" y="320"/>
                  </a:lnTo>
                  <a:lnTo>
                    <a:pt x="546" y="278"/>
                  </a:lnTo>
                  <a:lnTo>
                    <a:pt x="532" y="234"/>
                  </a:lnTo>
                  <a:lnTo>
                    <a:pt x="514" y="190"/>
                  </a:lnTo>
                  <a:lnTo>
                    <a:pt x="504" y="170"/>
                  </a:lnTo>
                  <a:lnTo>
                    <a:pt x="492" y="148"/>
                  </a:lnTo>
                  <a:lnTo>
                    <a:pt x="480" y="128"/>
                  </a:lnTo>
                  <a:lnTo>
                    <a:pt x="466" y="110"/>
                  </a:lnTo>
                  <a:lnTo>
                    <a:pt x="452" y="92"/>
                  </a:lnTo>
                  <a:lnTo>
                    <a:pt x="434" y="74"/>
                  </a:lnTo>
                  <a:lnTo>
                    <a:pt x="418" y="58"/>
                  </a:lnTo>
                  <a:lnTo>
                    <a:pt x="398" y="44"/>
                  </a:lnTo>
                  <a:lnTo>
                    <a:pt x="398" y="44"/>
                  </a:lnTo>
                  <a:lnTo>
                    <a:pt x="374" y="30"/>
                  </a:lnTo>
                  <a:lnTo>
                    <a:pt x="350" y="18"/>
                  </a:lnTo>
                  <a:lnTo>
                    <a:pt x="324" y="10"/>
                  </a:lnTo>
                  <a:lnTo>
                    <a:pt x="298" y="4"/>
                  </a:lnTo>
                  <a:lnTo>
                    <a:pt x="270" y="0"/>
                  </a:lnTo>
                  <a:lnTo>
                    <a:pt x="240" y="0"/>
                  </a:lnTo>
                  <a:lnTo>
                    <a:pt x="210" y="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2" y="12"/>
                  </a:lnTo>
                  <a:lnTo>
                    <a:pt x="144" y="16"/>
                  </a:lnTo>
                  <a:lnTo>
                    <a:pt x="126" y="24"/>
                  </a:lnTo>
                  <a:lnTo>
                    <a:pt x="110" y="30"/>
                  </a:lnTo>
                  <a:lnTo>
                    <a:pt x="96" y="40"/>
                  </a:lnTo>
                  <a:lnTo>
                    <a:pt x="80" y="48"/>
                  </a:lnTo>
                  <a:lnTo>
                    <a:pt x="68" y="60"/>
                  </a:lnTo>
                  <a:lnTo>
                    <a:pt x="56" y="70"/>
                  </a:lnTo>
                  <a:lnTo>
                    <a:pt x="44" y="82"/>
                  </a:lnTo>
                  <a:lnTo>
                    <a:pt x="34" y="96"/>
                  </a:lnTo>
                  <a:lnTo>
                    <a:pt x="26" y="110"/>
                  </a:lnTo>
                  <a:lnTo>
                    <a:pt x="18" y="124"/>
                  </a:lnTo>
                  <a:lnTo>
                    <a:pt x="12" y="138"/>
                  </a:lnTo>
                  <a:lnTo>
                    <a:pt x="8" y="154"/>
                  </a:lnTo>
                  <a:lnTo>
                    <a:pt x="4" y="170"/>
                  </a:lnTo>
                  <a:lnTo>
                    <a:pt x="2" y="188"/>
                  </a:lnTo>
                  <a:lnTo>
                    <a:pt x="2" y="188"/>
                  </a:lnTo>
                  <a:close/>
                  <a:moveTo>
                    <a:pt x="224" y="416"/>
                  </a:moveTo>
                  <a:lnTo>
                    <a:pt x="224" y="416"/>
                  </a:lnTo>
                  <a:lnTo>
                    <a:pt x="202" y="406"/>
                  </a:lnTo>
                  <a:lnTo>
                    <a:pt x="180" y="392"/>
                  </a:lnTo>
                  <a:lnTo>
                    <a:pt x="160" y="380"/>
                  </a:lnTo>
                  <a:lnTo>
                    <a:pt x="144" y="366"/>
                  </a:lnTo>
                  <a:lnTo>
                    <a:pt x="128" y="350"/>
                  </a:lnTo>
                  <a:lnTo>
                    <a:pt x="114" y="334"/>
                  </a:lnTo>
                  <a:lnTo>
                    <a:pt x="102" y="318"/>
                  </a:lnTo>
                  <a:lnTo>
                    <a:pt x="92" y="302"/>
                  </a:lnTo>
                  <a:lnTo>
                    <a:pt x="92" y="302"/>
                  </a:lnTo>
                  <a:lnTo>
                    <a:pt x="80" y="274"/>
                  </a:lnTo>
                  <a:lnTo>
                    <a:pt x="72" y="246"/>
                  </a:lnTo>
                  <a:lnTo>
                    <a:pt x="68" y="220"/>
                  </a:lnTo>
                  <a:lnTo>
                    <a:pt x="68" y="194"/>
                  </a:lnTo>
                  <a:lnTo>
                    <a:pt x="68" y="194"/>
                  </a:lnTo>
                  <a:lnTo>
                    <a:pt x="72" y="172"/>
                  </a:lnTo>
                  <a:lnTo>
                    <a:pt x="80" y="150"/>
                  </a:lnTo>
                  <a:lnTo>
                    <a:pt x="92" y="132"/>
                  </a:lnTo>
                  <a:lnTo>
                    <a:pt x="106" y="116"/>
                  </a:lnTo>
                  <a:lnTo>
                    <a:pt x="122" y="102"/>
                  </a:lnTo>
                  <a:lnTo>
                    <a:pt x="144" y="90"/>
                  </a:lnTo>
                  <a:lnTo>
                    <a:pt x="168" y="80"/>
                  </a:lnTo>
                  <a:lnTo>
                    <a:pt x="194" y="72"/>
                  </a:lnTo>
                  <a:lnTo>
                    <a:pt x="194" y="72"/>
                  </a:lnTo>
                  <a:lnTo>
                    <a:pt x="218" y="68"/>
                  </a:lnTo>
                  <a:lnTo>
                    <a:pt x="240" y="66"/>
                  </a:lnTo>
                  <a:lnTo>
                    <a:pt x="262" y="68"/>
                  </a:lnTo>
                  <a:lnTo>
                    <a:pt x="284" y="70"/>
                  </a:lnTo>
                  <a:lnTo>
                    <a:pt x="304" y="74"/>
                  </a:lnTo>
                  <a:lnTo>
                    <a:pt x="324" y="80"/>
                  </a:lnTo>
                  <a:lnTo>
                    <a:pt x="342" y="88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84" y="118"/>
                  </a:lnTo>
                  <a:lnTo>
                    <a:pt x="406" y="142"/>
                  </a:lnTo>
                  <a:lnTo>
                    <a:pt x="424" y="166"/>
                  </a:lnTo>
                  <a:lnTo>
                    <a:pt x="440" y="192"/>
                  </a:lnTo>
                  <a:lnTo>
                    <a:pt x="440" y="192"/>
                  </a:lnTo>
                  <a:lnTo>
                    <a:pt x="452" y="216"/>
                  </a:lnTo>
                  <a:lnTo>
                    <a:pt x="462" y="240"/>
                  </a:lnTo>
                  <a:lnTo>
                    <a:pt x="472" y="264"/>
                  </a:lnTo>
                  <a:lnTo>
                    <a:pt x="480" y="288"/>
                  </a:lnTo>
                  <a:lnTo>
                    <a:pt x="492" y="334"/>
                  </a:lnTo>
                  <a:lnTo>
                    <a:pt x="498" y="372"/>
                  </a:lnTo>
                  <a:lnTo>
                    <a:pt x="498" y="372"/>
                  </a:lnTo>
                  <a:lnTo>
                    <a:pt x="504" y="408"/>
                  </a:lnTo>
                  <a:lnTo>
                    <a:pt x="508" y="442"/>
                  </a:lnTo>
                  <a:lnTo>
                    <a:pt x="508" y="474"/>
                  </a:lnTo>
                  <a:lnTo>
                    <a:pt x="510" y="504"/>
                  </a:lnTo>
                  <a:lnTo>
                    <a:pt x="506" y="558"/>
                  </a:lnTo>
                  <a:lnTo>
                    <a:pt x="502" y="604"/>
                  </a:lnTo>
                  <a:lnTo>
                    <a:pt x="502" y="604"/>
                  </a:lnTo>
                  <a:lnTo>
                    <a:pt x="482" y="584"/>
                  </a:lnTo>
                  <a:lnTo>
                    <a:pt x="456" y="562"/>
                  </a:lnTo>
                  <a:lnTo>
                    <a:pt x="428" y="538"/>
                  </a:lnTo>
                  <a:lnTo>
                    <a:pt x="396" y="512"/>
                  </a:lnTo>
                  <a:lnTo>
                    <a:pt x="360" y="488"/>
                  </a:lnTo>
                  <a:lnTo>
                    <a:pt x="320" y="464"/>
                  </a:lnTo>
                  <a:lnTo>
                    <a:pt x="274" y="440"/>
                  </a:lnTo>
                  <a:lnTo>
                    <a:pt x="224" y="416"/>
                  </a:lnTo>
                  <a:lnTo>
                    <a:pt x="224" y="416"/>
                  </a:lnTo>
                  <a:close/>
                </a:path>
              </a:pathLst>
            </a:cu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グループ化 398"/>
          <p:cNvGrpSpPr/>
          <p:nvPr/>
        </p:nvGrpSpPr>
        <p:grpSpPr>
          <a:xfrm>
            <a:off x="9455040" y="7264440"/>
            <a:ext cx="13674960" cy="1717560"/>
            <a:chOff x="9455040" y="7264440"/>
            <a:chExt cx="13674960" cy="1717560"/>
          </a:xfrm>
        </p:grpSpPr>
        <p:sp>
          <p:nvSpPr>
            <p:cNvPr id="149" name="Freeform 25"/>
            <p:cNvSpPr/>
            <p:nvPr/>
          </p:nvSpPr>
          <p:spPr>
            <a:xfrm>
              <a:off x="9455040" y="7264440"/>
              <a:ext cx="13560840" cy="1590840"/>
            </a:xfrm>
            <a:custGeom>
              <a:avLst/>
              <a:gdLst>
                <a:gd name="textAreaLeft" fmla="*/ 0 w 13560840"/>
                <a:gd name="textAreaRight" fmla="*/ 13561200 w 13560840"/>
                <a:gd name="textAreaTop" fmla="*/ 0 h 1590840"/>
                <a:gd name="textAreaBottom" fmla="*/ 1591200 h 1590840"/>
              </a:gdLst>
              <a:ahLst/>
              <a:rect l="textAreaLeft" t="textAreaTop" r="textAreaRight" b="textAreaBottom"/>
              <a:pathLst>
                <a:path w="8542" h="1002">
                  <a:moveTo>
                    <a:pt x="8542" y="500"/>
                  </a:moveTo>
                  <a:lnTo>
                    <a:pt x="8542" y="500"/>
                  </a:lnTo>
                  <a:lnTo>
                    <a:pt x="8540" y="526"/>
                  </a:lnTo>
                  <a:lnTo>
                    <a:pt x="8538" y="552"/>
                  </a:lnTo>
                  <a:lnTo>
                    <a:pt x="8534" y="576"/>
                  </a:lnTo>
                  <a:lnTo>
                    <a:pt x="8528" y="602"/>
                  </a:lnTo>
                  <a:lnTo>
                    <a:pt x="8520" y="626"/>
                  </a:lnTo>
                  <a:lnTo>
                    <a:pt x="8512" y="650"/>
                  </a:lnTo>
                  <a:lnTo>
                    <a:pt x="8500" y="672"/>
                  </a:lnTo>
                  <a:lnTo>
                    <a:pt x="8488" y="696"/>
                  </a:lnTo>
                  <a:lnTo>
                    <a:pt x="8474" y="718"/>
                  </a:lnTo>
                  <a:lnTo>
                    <a:pt x="8460" y="740"/>
                  </a:lnTo>
                  <a:lnTo>
                    <a:pt x="8444" y="760"/>
                  </a:lnTo>
                  <a:lnTo>
                    <a:pt x="8426" y="780"/>
                  </a:lnTo>
                  <a:lnTo>
                    <a:pt x="8406" y="800"/>
                  </a:lnTo>
                  <a:lnTo>
                    <a:pt x="8386" y="820"/>
                  </a:lnTo>
                  <a:lnTo>
                    <a:pt x="8366" y="838"/>
                  </a:lnTo>
                  <a:lnTo>
                    <a:pt x="8342" y="854"/>
                  </a:lnTo>
                  <a:lnTo>
                    <a:pt x="8320" y="872"/>
                  </a:lnTo>
                  <a:lnTo>
                    <a:pt x="8294" y="888"/>
                  </a:lnTo>
                  <a:lnTo>
                    <a:pt x="8270" y="902"/>
                  </a:lnTo>
                  <a:lnTo>
                    <a:pt x="8242" y="916"/>
                  </a:lnTo>
                  <a:lnTo>
                    <a:pt x="8216" y="930"/>
                  </a:lnTo>
                  <a:lnTo>
                    <a:pt x="8186" y="942"/>
                  </a:lnTo>
                  <a:lnTo>
                    <a:pt x="8158" y="952"/>
                  </a:lnTo>
                  <a:lnTo>
                    <a:pt x="8128" y="962"/>
                  </a:lnTo>
                  <a:lnTo>
                    <a:pt x="8098" y="972"/>
                  </a:lnTo>
                  <a:lnTo>
                    <a:pt x="8066" y="980"/>
                  </a:lnTo>
                  <a:lnTo>
                    <a:pt x="8034" y="986"/>
                  </a:lnTo>
                  <a:lnTo>
                    <a:pt x="8000" y="992"/>
                  </a:lnTo>
                  <a:lnTo>
                    <a:pt x="7968" y="996"/>
                  </a:lnTo>
                  <a:lnTo>
                    <a:pt x="7934" y="1000"/>
                  </a:lnTo>
                  <a:lnTo>
                    <a:pt x="7900" y="1002"/>
                  </a:lnTo>
                  <a:lnTo>
                    <a:pt x="7866" y="1002"/>
                  </a:lnTo>
                  <a:lnTo>
                    <a:pt x="676" y="1002"/>
                  </a:lnTo>
                  <a:lnTo>
                    <a:pt x="676" y="1002"/>
                  </a:lnTo>
                  <a:lnTo>
                    <a:pt x="642" y="1002"/>
                  </a:lnTo>
                  <a:lnTo>
                    <a:pt x="608" y="1000"/>
                  </a:lnTo>
                  <a:lnTo>
                    <a:pt x="574" y="996"/>
                  </a:lnTo>
                  <a:lnTo>
                    <a:pt x="540" y="992"/>
                  </a:lnTo>
                  <a:lnTo>
                    <a:pt x="508" y="986"/>
                  </a:lnTo>
                  <a:lnTo>
                    <a:pt x="476" y="980"/>
                  </a:lnTo>
                  <a:lnTo>
                    <a:pt x="444" y="972"/>
                  </a:lnTo>
                  <a:lnTo>
                    <a:pt x="414" y="962"/>
                  </a:lnTo>
                  <a:lnTo>
                    <a:pt x="384" y="952"/>
                  </a:lnTo>
                  <a:lnTo>
                    <a:pt x="354" y="942"/>
                  </a:lnTo>
                  <a:lnTo>
                    <a:pt x="326" y="930"/>
                  </a:lnTo>
                  <a:lnTo>
                    <a:pt x="298" y="916"/>
                  </a:lnTo>
                  <a:lnTo>
                    <a:pt x="272" y="902"/>
                  </a:lnTo>
                  <a:lnTo>
                    <a:pt x="246" y="888"/>
                  </a:lnTo>
                  <a:lnTo>
                    <a:pt x="222" y="872"/>
                  </a:lnTo>
                  <a:lnTo>
                    <a:pt x="198" y="854"/>
                  </a:lnTo>
                  <a:lnTo>
                    <a:pt x="176" y="838"/>
                  </a:lnTo>
                  <a:lnTo>
                    <a:pt x="154" y="820"/>
                  </a:lnTo>
                  <a:lnTo>
                    <a:pt x="134" y="800"/>
                  </a:lnTo>
                  <a:lnTo>
                    <a:pt x="116" y="780"/>
                  </a:lnTo>
                  <a:lnTo>
                    <a:pt x="98" y="760"/>
                  </a:lnTo>
                  <a:lnTo>
                    <a:pt x="82" y="740"/>
                  </a:lnTo>
                  <a:lnTo>
                    <a:pt x="66" y="718"/>
                  </a:lnTo>
                  <a:lnTo>
                    <a:pt x="52" y="696"/>
                  </a:lnTo>
                  <a:lnTo>
                    <a:pt x="40" y="672"/>
                  </a:lnTo>
                  <a:lnTo>
                    <a:pt x="30" y="650"/>
                  </a:lnTo>
                  <a:lnTo>
                    <a:pt x="20" y="626"/>
                  </a:lnTo>
                  <a:lnTo>
                    <a:pt x="14" y="602"/>
                  </a:lnTo>
                  <a:lnTo>
                    <a:pt x="8" y="576"/>
                  </a:lnTo>
                  <a:lnTo>
                    <a:pt x="2" y="552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0" y="500"/>
                  </a:lnTo>
                  <a:lnTo>
                    <a:pt x="0" y="476"/>
                  </a:lnTo>
                  <a:lnTo>
                    <a:pt x="2" y="450"/>
                  </a:lnTo>
                  <a:lnTo>
                    <a:pt x="8" y="424"/>
                  </a:lnTo>
                  <a:lnTo>
                    <a:pt x="14" y="400"/>
                  </a:lnTo>
                  <a:lnTo>
                    <a:pt x="20" y="376"/>
                  </a:lnTo>
                  <a:lnTo>
                    <a:pt x="30" y="352"/>
                  </a:lnTo>
                  <a:lnTo>
                    <a:pt x="40" y="328"/>
                  </a:lnTo>
                  <a:lnTo>
                    <a:pt x="52" y="306"/>
                  </a:lnTo>
                  <a:lnTo>
                    <a:pt x="66" y="284"/>
                  </a:lnTo>
                  <a:lnTo>
                    <a:pt x="82" y="262"/>
                  </a:lnTo>
                  <a:lnTo>
                    <a:pt x="98" y="242"/>
                  </a:lnTo>
                  <a:lnTo>
                    <a:pt x="116" y="222"/>
                  </a:lnTo>
                  <a:lnTo>
                    <a:pt x="134" y="202"/>
                  </a:lnTo>
                  <a:lnTo>
                    <a:pt x="154" y="182"/>
                  </a:lnTo>
                  <a:lnTo>
                    <a:pt x="176" y="164"/>
                  </a:lnTo>
                  <a:lnTo>
                    <a:pt x="198" y="146"/>
                  </a:lnTo>
                  <a:lnTo>
                    <a:pt x="222" y="130"/>
                  </a:lnTo>
                  <a:lnTo>
                    <a:pt x="246" y="114"/>
                  </a:lnTo>
                  <a:lnTo>
                    <a:pt x="272" y="100"/>
                  </a:lnTo>
                  <a:lnTo>
                    <a:pt x="298" y="86"/>
                  </a:lnTo>
                  <a:lnTo>
                    <a:pt x="326" y="72"/>
                  </a:lnTo>
                  <a:lnTo>
                    <a:pt x="354" y="60"/>
                  </a:lnTo>
                  <a:lnTo>
                    <a:pt x="384" y="50"/>
                  </a:lnTo>
                  <a:lnTo>
                    <a:pt x="414" y="40"/>
                  </a:lnTo>
                  <a:lnTo>
                    <a:pt x="444" y="30"/>
                  </a:lnTo>
                  <a:lnTo>
                    <a:pt x="476" y="22"/>
                  </a:lnTo>
                  <a:lnTo>
                    <a:pt x="508" y="16"/>
                  </a:lnTo>
                  <a:lnTo>
                    <a:pt x="540" y="10"/>
                  </a:lnTo>
                  <a:lnTo>
                    <a:pt x="574" y="6"/>
                  </a:lnTo>
                  <a:lnTo>
                    <a:pt x="608" y="2"/>
                  </a:lnTo>
                  <a:lnTo>
                    <a:pt x="642" y="0"/>
                  </a:lnTo>
                  <a:lnTo>
                    <a:pt x="676" y="0"/>
                  </a:lnTo>
                  <a:lnTo>
                    <a:pt x="7866" y="0"/>
                  </a:lnTo>
                  <a:lnTo>
                    <a:pt x="7866" y="0"/>
                  </a:lnTo>
                  <a:lnTo>
                    <a:pt x="7900" y="0"/>
                  </a:lnTo>
                  <a:lnTo>
                    <a:pt x="7934" y="2"/>
                  </a:lnTo>
                  <a:lnTo>
                    <a:pt x="7968" y="6"/>
                  </a:lnTo>
                  <a:lnTo>
                    <a:pt x="8000" y="10"/>
                  </a:lnTo>
                  <a:lnTo>
                    <a:pt x="8034" y="16"/>
                  </a:lnTo>
                  <a:lnTo>
                    <a:pt x="8066" y="22"/>
                  </a:lnTo>
                  <a:lnTo>
                    <a:pt x="8098" y="30"/>
                  </a:lnTo>
                  <a:lnTo>
                    <a:pt x="8128" y="40"/>
                  </a:lnTo>
                  <a:lnTo>
                    <a:pt x="8158" y="50"/>
                  </a:lnTo>
                  <a:lnTo>
                    <a:pt x="8186" y="60"/>
                  </a:lnTo>
                  <a:lnTo>
                    <a:pt x="8216" y="72"/>
                  </a:lnTo>
                  <a:lnTo>
                    <a:pt x="8242" y="86"/>
                  </a:lnTo>
                  <a:lnTo>
                    <a:pt x="8270" y="100"/>
                  </a:lnTo>
                  <a:lnTo>
                    <a:pt x="8294" y="114"/>
                  </a:lnTo>
                  <a:lnTo>
                    <a:pt x="8320" y="130"/>
                  </a:lnTo>
                  <a:lnTo>
                    <a:pt x="8342" y="146"/>
                  </a:lnTo>
                  <a:lnTo>
                    <a:pt x="8366" y="164"/>
                  </a:lnTo>
                  <a:lnTo>
                    <a:pt x="8386" y="182"/>
                  </a:lnTo>
                  <a:lnTo>
                    <a:pt x="8406" y="202"/>
                  </a:lnTo>
                  <a:lnTo>
                    <a:pt x="8426" y="222"/>
                  </a:lnTo>
                  <a:lnTo>
                    <a:pt x="8444" y="242"/>
                  </a:lnTo>
                  <a:lnTo>
                    <a:pt x="8460" y="262"/>
                  </a:lnTo>
                  <a:lnTo>
                    <a:pt x="8474" y="284"/>
                  </a:lnTo>
                  <a:lnTo>
                    <a:pt x="8488" y="306"/>
                  </a:lnTo>
                  <a:lnTo>
                    <a:pt x="8500" y="328"/>
                  </a:lnTo>
                  <a:lnTo>
                    <a:pt x="8512" y="352"/>
                  </a:lnTo>
                  <a:lnTo>
                    <a:pt x="8520" y="376"/>
                  </a:lnTo>
                  <a:lnTo>
                    <a:pt x="8528" y="400"/>
                  </a:lnTo>
                  <a:lnTo>
                    <a:pt x="8534" y="424"/>
                  </a:lnTo>
                  <a:lnTo>
                    <a:pt x="8538" y="450"/>
                  </a:lnTo>
                  <a:lnTo>
                    <a:pt x="8540" y="476"/>
                  </a:lnTo>
                  <a:lnTo>
                    <a:pt x="8542" y="500"/>
                  </a:lnTo>
                  <a:lnTo>
                    <a:pt x="8542" y="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9569160" y="7391160"/>
              <a:ext cx="13560840" cy="1590840"/>
            </a:xfrm>
            <a:custGeom>
              <a:avLst/>
              <a:gdLst>
                <a:gd name="textAreaLeft" fmla="*/ 0 w 13560840"/>
                <a:gd name="textAreaRight" fmla="*/ 13561200 w 13560840"/>
                <a:gd name="textAreaTop" fmla="*/ 0 h 1590840"/>
                <a:gd name="textAreaBottom" fmla="*/ 1591200 h 1590840"/>
              </a:gdLst>
              <a:ahLst/>
              <a:rect l="textAreaLeft" t="textAreaTop" r="textAreaRight" b="textAreaBottom"/>
              <a:pathLst>
                <a:path w="8542" h="1002">
                  <a:moveTo>
                    <a:pt x="8542" y="500"/>
                  </a:moveTo>
                  <a:lnTo>
                    <a:pt x="8542" y="500"/>
                  </a:lnTo>
                  <a:lnTo>
                    <a:pt x="8542" y="526"/>
                  </a:lnTo>
                  <a:lnTo>
                    <a:pt x="8538" y="552"/>
                  </a:lnTo>
                  <a:lnTo>
                    <a:pt x="8534" y="576"/>
                  </a:lnTo>
                  <a:lnTo>
                    <a:pt x="8528" y="600"/>
                  </a:lnTo>
                  <a:lnTo>
                    <a:pt x="8520" y="624"/>
                  </a:lnTo>
                  <a:lnTo>
                    <a:pt x="8512" y="648"/>
                  </a:lnTo>
                  <a:lnTo>
                    <a:pt x="8500" y="672"/>
                  </a:lnTo>
                  <a:lnTo>
                    <a:pt x="8488" y="694"/>
                  </a:lnTo>
                  <a:lnTo>
                    <a:pt x="8476" y="716"/>
                  </a:lnTo>
                  <a:lnTo>
                    <a:pt x="8460" y="738"/>
                  </a:lnTo>
                  <a:lnTo>
                    <a:pt x="8444" y="760"/>
                  </a:lnTo>
                  <a:lnTo>
                    <a:pt x="8426" y="780"/>
                  </a:lnTo>
                  <a:lnTo>
                    <a:pt x="8408" y="800"/>
                  </a:lnTo>
                  <a:lnTo>
                    <a:pt x="8388" y="818"/>
                  </a:lnTo>
                  <a:lnTo>
                    <a:pt x="8366" y="836"/>
                  </a:lnTo>
                  <a:lnTo>
                    <a:pt x="8344" y="854"/>
                  </a:lnTo>
                  <a:lnTo>
                    <a:pt x="8320" y="870"/>
                  </a:lnTo>
                  <a:lnTo>
                    <a:pt x="8296" y="886"/>
                  </a:lnTo>
                  <a:lnTo>
                    <a:pt x="8270" y="902"/>
                  </a:lnTo>
                  <a:lnTo>
                    <a:pt x="8244" y="916"/>
                  </a:lnTo>
                  <a:lnTo>
                    <a:pt x="8216" y="928"/>
                  </a:lnTo>
                  <a:lnTo>
                    <a:pt x="8188" y="940"/>
                  </a:lnTo>
                  <a:lnTo>
                    <a:pt x="8158" y="952"/>
                  </a:lnTo>
                  <a:lnTo>
                    <a:pt x="8128" y="962"/>
                  </a:lnTo>
                  <a:lnTo>
                    <a:pt x="8098" y="970"/>
                  </a:lnTo>
                  <a:lnTo>
                    <a:pt x="8066" y="978"/>
                  </a:lnTo>
                  <a:lnTo>
                    <a:pt x="8034" y="986"/>
                  </a:lnTo>
                  <a:lnTo>
                    <a:pt x="8002" y="990"/>
                  </a:lnTo>
                  <a:lnTo>
                    <a:pt x="7968" y="996"/>
                  </a:lnTo>
                  <a:lnTo>
                    <a:pt x="7934" y="998"/>
                  </a:lnTo>
                  <a:lnTo>
                    <a:pt x="7900" y="1000"/>
                  </a:lnTo>
                  <a:lnTo>
                    <a:pt x="7866" y="1002"/>
                  </a:lnTo>
                  <a:lnTo>
                    <a:pt x="676" y="1002"/>
                  </a:lnTo>
                  <a:lnTo>
                    <a:pt x="676" y="1002"/>
                  </a:lnTo>
                  <a:lnTo>
                    <a:pt x="642" y="1000"/>
                  </a:lnTo>
                  <a:lnTo>
                    <a:pt x="608" y="998"/>
                  </a:lnTo>
                  <a:lnTo>
                    <a:pt x="574" y="996"/>
                  </a:lnTo>
                  <a:lnTo>
                    <a:pt x="540" y="990"/>
                  </a:lnTo>
                  <a:lnTo>
                    <a:pt x="508" y="986"/>
                  </a:lnTo>
                  <a:lnTo>
                    <a:pt x="476" y="978"/>
                  </a:lnTo>
                  <a:lnTo>
                    <a:pt x="444" y="970"/>
                  </a:lnTo>
                  <a:lnTo>
                    <a:pt x="414" y="962"/>
                  </a:lnTo>
                  <a:lnTo>
                    <a:pt x="384" y="952"/>
                  </a:lnTo>
                  <a:lnTo>
                    <a:pt x="354" y="940"/>
                  </a:lnTo>
                  <a:lnTo>
                    <a:pt x="326" y="928"/>
                  </a:lnTo>
                  <a:lnTo>
                    <a:pt x="298" y="916"/>
                  </a:lnTo>
                  <a:lnTo>
                    <a:pt x="272" y="902"/>
                  </a:lnTo>
                  <a:lnTo>
                    <a:pt x="246" y="886"/>
                  </a:lnTo>
                  <a:lnTo>
                    <a:pt x="222" y="870"/>
                  </a:lnTo>
                  <a:lnTo>
                    <a:pt x="198" y="854"/>
                  </a:lnTo>
                  <a:lnTo>
                    <a:pt x="176" y="836"/>
                  </a:lnTo>
                  <a:lnTo>
                    <a:pt x="156" y="818"/>
                  </a:lnTo>
                  <a:lnTo>
                    <a:pt x="134" y="800"/>
                  </a:lnTo>
                  <a:lnTo>
                    <a:pt x="116" y="780"/>
                  </a:lnTo>
                  <a:lnTo>
                    <a:pt x="98" y="760"/>
                  </a:lnTo>
                  <a:lnTo>
                    <a:pt x="82" y="738"/>
                  </a:lnTo>
                  <a:lnTo>
                    <a:pt x="66" y="716"/>
                  </a:lnTo>
                  <a:lnTo>
                    <a:pt x="54" y="694"/>
                  </a:lnTo>
                  <a:lnTo>
                    <a:pt x="42" y="672"/>
                  </a:lnTo>
                  <a:lnTo>
                    <a:pt x="30" y="648"/>
                  </a:lnTo>
                  <a:lnTo>
                    <a:pt x="22" y="624"/>
                  </a:lnTo>
                  <a:lnTo>
                    <a:pt x="14" y="600"/>
                  </a:lnTo>
                  <a:lnTo>
                    <a:pt x="8" y="576"/>
                  </a:lnTo>
                  <a:lnTo>
                    <a:pt x="4" y="552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0" y="500"/>
                  </a:lnTo>
                  <a:lnTo>
                    <a:pt x="0" y="474"/>
                  </a:lnTo>
                  <a:lnTo>
                    <a:pt x="4" y="450"/>
                  </a:lnTo>
                  <a:lnTo>
                    <a:pt x="8" y="424"/>
                  </a:lnTo>
                  <a:lnTo>
                    <a:pt x="14" y="400"/>
                  </a:lnTo>
                  <a:lnTo>
                    <a:pt x="22" y="376"/>
                  </a:lnTo>
                  <a:lnTo>
                    <a:pt x="30" y="352"/>
                  </a:lnTo>
                  <a:lnTo>
                    <a:pt x="42" y="328"/>
                  </a:lnTo>
                  <a:lnTo>
                    <a:pt x="54" y="306"/>
                  </a:lnTo>
                  <a:lnTo>
                    <a:pt x="66" y="284"/>
                  </a:lnTo>
                  <a:lnTo>
                    <a:pt x="82" y="262"/>
                  </a:lnTo>
                  <a:lnTo>
                    <a:pt x="98" y="240"/>
                  </a:lnTo>
                  <a:lnTo>
                    <a:pt x="116" y="220"/>
                  </a:lnTo>
                  <a:lnTo>
                    <a:pt x="134" y="200"/>
                  </a:lnTo>
                  <a:lnTo>
                    <a:pt x="156" y="182"/>
                  </a:lnTo>
                  <a:lnTo>
                    <a:pt x="176" y="164"/>
                  </a:lnTo>
                  <a:lnTo>
                    <a:pt x="198" y="146"/>
                  </a:lnTo>
                  <a:lnTo>
                    <a:pt x="222" y="130"/>
                  </a:lnTo>
                  <a:lnTo>
                    <a:pt x="246" y="114"/>
                  </a:lnTo>
                  <a:lnTo>
                    <a:pt x="272" y="98"/>
                  </a:lnTo>
                  <a:lnTo>
                    <a:pt x="298" y="84"/>
                  </a:lnTo>
                  <a:lnTo>
                    <a:pt x="326" y="72"/>
                  </a:lnTo>
                  <a:lnTo>
                    <a:pt x="354" y="60"/>
                  </a:lnTo>
                  <a:lnTo>
                    <a:pt x="384" y="48"/>
                  </a:lnTo>
                  <a:lnTo>
                    <a:pt x="414" y="38"/>
                  </a:lnTo>
                  <a:lnTo>
                    <a:pt x="444" y="30"/>
                  </a:lnTo>
                  <a:lnTo>
                    <a:pt x="476" y="22"/>
                  </a:lnTo>
                  <a:lnTo>
                    <a:pt x="508" y="14"/>
                  </a:lnTo>
                  <a:lnTo>
                    <a:pt x="540" y="10"/>
                  </a:lnTo>
                  <a:lnTo>
                    <a:pt x="574" y="4"/>
                  </a:lnTo>
                  <a:lnTo>
                    <a:pt x="608" y="2"/>
                  </a:lnTo>
                  <a:lnTo>
                    <a:pt x="642" y="0"/>
                  </a:lnTo>
                  <a:lnTo>
                    <a:pt x="676" y="0"/>
                  </a:lnTo>
                  <a:lnTo>
                    <a:pt x="7866" y="0"/>
                  </a:lnTo>
                  <a:lnTo>
                    <a:pt x="7866" y="0"/>
                  </a:lnTo>
                  <a:lnTo>
                    <a:pt x="7900" y="0"/>
                  </a:lnTo>
                  <a:lnTo>
                    <a:pt x="7934" y="2"/>
                  </a:lnTo>
                  <a:lnTo>
                    <a:pt x="7968" y="4"/>
                  </a:lnTo>
                  <a:lnTo>
                    <a:pt x="8002" y="10"/>
                  </a:lnTo>
                  <a:lnTo>
                    <a:pt x="8034" y="14"/>
                  </a:lnTo>
                  <a:lnTo>
                    <a:pt x="8066" y="22"/>
                  </a:lnTo>
                  <a:lnTo>
                    <a:pt x="8098" y="30"/>
                  </a:lnTo>
                  <a:lnTo>
                    <a:pt x="8128" y="38"/>
                  </a:lnTo>
                  <a:lnTo>
                    <a:pt x="8158" y="48"/>
                  </a:lnTo>
                  <a:lnTo>
                    <a:pt x="8188" y="60"/>
                  </a:lnTo>
                  <a:lnTo>
                    <a:pt x="8216" y="72"/>
                  </a:lnTo>
                  <a:lnTo>
                    <a:pt x="8244" y="84"/>
                  </a:lnTo>
                  <a:lnTo>
                    <a:pt x="8270" y="98"/>
                  </a:lnTo>
                  <a:lnTo>
                    <a:pt x="8296" y="114"/>
                  </a:lnTo>
                  <a:lnTo>
                    <a:pt x="8320" y="130"/>
                  </a:lnTo>
                  <a:lnTo>
                    <a:pt x="8344" y="146"/>
                  </a:lnTo>
                  <a:lnTo>
                    <a:pt x="8366" y="164"/>
                  </a:lnTo>
                  <a:lnTo>
                    <a:pt x="8388" y="182"/>
                  </a:lnTo>
                  <a:lnTo>
                    <a:pt x="8408" y="200"/>
                  </a:lnTo>
                  <a:lnTo>
                    <a:pt x="8426" y="220"/>
                  </a:lnTo>
                  <a:lnTo>
                    <a:pt x="8444" y="240"/>
                  </a:lnTo>
                  <a:lnTo>
                    <a:pt x="8460" y="262"/>
                  </a:lnTo>
                  <a:lnTo>
                    <a:pt x="8476" y="284"/>
                  </a:lnTo>
                  <a:lnTo>
                    <a:pt x="8488" y="306"/>
                  </a:lnTo>
                  <a:lnTo>
                    <a:pt x="8500" y="328"/>
                  </a:lnTo>
                  <a:lnTo>
                    <a:pt x="8512" y="352"/>
                  </a:lnTo>
                  <a:lnTo>
                    <a:pt x="8520" y="376"/>
                  </a:lnTo>
                  <a:lnTo>
                    <a:pt x="8528" y="400"/>
                  </a:lnTo>
                  <a:lnTo>
                    <a:pt x="8534" y="424"/>
                  </a:lnTo>
                  <a:lnTo>
                    <a:pt x="8538" y="450"/>
                  </a:lnTo>
                  <a:lnTo>
                    <a:pt x="8542" y="474"/>
                  </a:lnTo>
                  <a:lnTo>
                    <a:pt x="8542" y="500"/>
                  </a:lnTo>
                  <a:lnTo>
                    <a:pt x="8542" y="50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9569160" y="7391160"/>
              <a:ext cx="13446360" cy="1463760"/>
            </a:xfrm>
            <a:custGeom>
              <a:avLst/>
              <a:gdLst>
                <a:gd name="textAreaLeft" fmla="*/ 0 w 13446360"/>
                <a:gd name="textAreaRight" fmla="*/ 13446720 w 1344636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8470" h="922">
                  <a:moveTo>
                    <a:pt x="7794" y="922"/>
                  </a:moveTo>
                  <a:lnTo>
                    <a:pt x="7794" y="922"/>
                  </a:lnTo>
                  <a:lnTo>
                    <a:pt x="7828" y="922"/>
                  </a:lnTo>
                  <a:lnTo>
                    <a:pt x="7862" y="920"/>
                  </a:lnTo>
                  <a:lnTo>
                    <a:pt x="7896" y="916"/>
                  </a:lnTo>
                  <a:lnTo>
                    <a:pt x="7928" y="912"/>
                  </a:lnTo>
                  <a:lnTo>
                    <a:pt x="7962" y="906"/>
                  </a:lnTo>
                  <a:lnTo>
                    <a:pt x="7994" y="900"/>
                  </a:lnTo>
                  <a:lnTo>
                    <a:pt x="8026" y="892"/>
                  </a:lnTo>
                  <a:lnTo>
                    <a:pt x="8056" y="882"/>
                  </a:lnTo>
                  <a:lnTo>
                    <a:pt x="8086" y="872"/>
                  </a:lnTo>
                  <a:lnTo>
                    <a:pt x="8114" y="862"/>
                  </a:lnTo>
                  <a:lnTo>
                    <a:pt x="8144" y="850"/>
                  </a:lnTo>
                  <a:lnTo>
                    <a:pt x="8170" y="836"/>
                  </a:lnTo>
                  <a:lnTo>
                    <a:pt x="8198" y="822"/>
                  </a:lnTo>
                  <a:lnTo>
                    <a:pt x="8222" y="808"/>
                  </a:lnTo>
                  <a:lnTo>
                    <a:pt x="8248" y="792"/>
                  </a:lnTo>
                  <a:lnTo>
                    <a:pt x="8270" y="774"/>
                  </a:lnTo>
                  <a:lnTo>
                    <a:pt x="8294" y="758"/>
                  </a:lnTo>
                  <a:lnTo>
                    <a:pt x="8314" y="740"/>
                  </a:lnTo>
                  <a:lnTo>
                    <a:pt x="8334" y="720"/>
                  </a:lnTo>
                  <a:lnTo>
                    <a:pt x="8354" y="700"/>
                  </a:lnTo>
                  <a:lnTo>
                    <a:pt x="8372" y="680"/>
                  </a:lnTo>
                  <a:lnTo>
                    <a:pt x="8388" y="660"/>
                  </a:lnTo>
                  <a:lnTo>
                    <a:pt x="8402" y="638"/>
                  </a:lnTo>
                  <a:lnTo>
                    <a:pt x="8416" y="616"/>
                  </a:lnTo>
                  <a:lnTo>
                    <a:pt x="8428" y="592"/>
                  </a:lnTo>
                  <a:lnTo>
                    <a:pt x="8440" y="570"/>
                  </a:lnTo>
                  <a:lnTo>
                    <a:pt x="8448" y="546"/>
                  </a:lnTo>
                  <a:lnTo>
                    <a:pt x="8456" y="522"/>
                  </a:lnTo>
                  <a:lnTo>
                    <a:pt x="8462" y="496"/>
                  </a:lnTo>
                  <a:lnTo>
                    <a:pt x="8466" y="472"/>
                  </a:lnTo>
                  <a:lnTo>
                    <a:pt x="8468" y="446"/>
                  </a:lnTo>
                  <a:lnTo>
                    <a:pt x="8470" y="420"/>
                  </a:lnTo>
                  <a:lnTo>
                    <a:pt x="8470" y="420"/>
                  </a:lnTo>
                  <a:lnTo>
                    <a:pt x="8468" y="388"/>
                  </a:lnTo>
                  <a:lnTo>
                    <a:pt x="8464" y="358"/>
                  </a:lnTo>
                  <a:lnTo>
                    <a:pt x="8458" y="326"/>
                  </a:lnTo>
                  <a:lnTo>
                    <a:pt x="8448" y="296"/>
                  </a:lnTo>
                  <a:lnTo>
                    <a:pt x="8436" y="266"/>
                  </a:lnTo>
                  <a:lnTo>
                    <a:pt x="8422" y="238"/>
                  </a:lnTo>
                  <a:lnTo>
                    <a:pt x="8406" y="210"/>
                  </a:lnTo>
                  <a:lnTo>
                    <a:pt x="8388" y="182"/>
                  </a:lnTo>
                  <a:lnTo>
                    <a:pt x="8388" y="182"/>
                  </a:lnTo>
                  <a:lnTo>
                    <a:pt x="8364" y="162"/>
                  </a:lnTo>
                  <a:lnTo>
                    <a:pt x="8338" y="142"/>
                  </a:lnTo>
                  <a:lnTo>
                    <a:pt x="8310" y="124"/>
                  </a:lnTo>
                  <a:lnTo>
                    <a:pt x="8282" y="106"/>
                  </a:lnTo>
                  <a:lnTo>
                    <a:pt x="8254" y="90"/>
                  </a:lnTo>
                  <a:lnTo>
                    <a:pt x="8222" y="76"/>
                  </a:lnTo>
                  <a:lnTo>
                    <a:pt x="8192" y="62"/>
                  </a:lnTo>
                  <a:lnTo>
                    <a:pt x="8158" y="48"/>
                  </a:lnTo>
                  <a:lnTo>
                    <a:pt x="8124" y="38"/>
                  </a:lnTo>
                  <a:lnTo>
                    <a:pt x="8090" y="28"/>
                  </a:lnTo>
                  <a:lnTo>
                    <a:pt x="8054" y="18"/>
                  </a:lnTo>
                  <a:lnTo>
                    <a:pt x="8018" y="12"/>
                  </a:lnTo>
                  <a:lnTo>
                    <a:pt x="7980" y="6"/>
                  </a:lnTo>
                  <a:lnTo>
                    <a:pt x="7944" y="2"/>
                  </a:lnTo>
                  <a:lnTo>
                    <a:pt x="7904" y="0"/>
                  </a:lnTo>
                  <a:lnTo>
                    <a:pt x="7866" y="0"/>
                  </a:lnTo>
                  <a:lnTo>
                    <a:pt x="676" y="0"/>
                  </a:lnTo>
                  <a:lnTo>
                    <a:pt x="676" y="0"/>
                  </a:lnTo>
                  <a:lnTo>
                    <a:pt x="642" y="0"/>
                  </a:lnTo>
                  <a:lnTo>
                    <a:pt x="608" y="2"/>
                  </a:lnTo>
                  <a:lnTo>
                    <a:pt x="574" y="4"/>
                  </a:lnTo>
                  <a:lnTo>
                    <a:pt x="540" y="10"/>
                  </a:lnTo>
                  <a:lnTo>
                    <a:pt x="508" y="14"/>
                  </a:lnTo>
                  <a:lnTo>
                    <a:pt x="476" y="22"/>
                  </a:lnTo>
                  <a:lnTo>
                    <a:pt x="444" y="30"/>
                  </a:lnTo>
                  <a:lnTo>
                    <a:pt x="414" y="38"/>
                  </a:lnTo>
                  <a:lnTo>
                    <a:pt x="384" y="48"/>
                  </a:lnTo>
                  <a:lnTo>
                    <a:pt x="354" y="60"/>
                  </a:lnTo>
                  <a:lnTo>
                    <a:pt x="326" y="72"/>
                  </a:lnTo>
                  <a:lnTo>
                    <a:pt x="298" y="84"/>
                  </a:lnTo>
                  <a:lnTo>
                    <a:pt x="272" y="98"/>
                  </a:lnTo>
                  <a:lnTo>
                    <a:pt x="246" y="114"/>
                  </a:lnTo>
                  <a:lnTo>
                    <a:pt x="222" y="130"/>
                  </a:lnTo>
                  <a:lnTo>
                    <a:pt x="198" y="146"/>
                  </a:lnTo>
                  <a:lnTo>
                    <a:pt x="176" y="164"/>
                  </a:lnTo>
                  <a:lnTo>
                    <a:pt x="156" y="182"/>
                  </a:lnTo>
                  <a:lnTo>
                    <a:pt x="134" y="200"/>
                  </a:lnTo>
                  <a:lnTo>
                    <a:pt x="116" y="220"/>
                  </a:lnTo>
                  <a:lnTo>
                    <a:pt x="98" y="240"/>
                  </a:lnTo>
                  <a:lnTo>
                    <a:pt x="82" y="262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2" y="328"/>
                  </a:lnTo>
                  <a:lnTo>
                    <a:pt x="30" y="352"/>
                  </a:lnTo>
                  <a:lnTo>
                    <a:pt x="22" y="376"/>
                  </a:lnTo>
                  <a:lnTo>
                    <a:pt x="14" y="400"/>
                  </a:lnTo>
                  <a:lnTo>
                    <a:pt x="8" y="424"/>
                  </a:lnTo>
                  <a:lnTo>
                    <a:pt x="4" y="450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00"/>
                  </a:lnTo>
                  <a:lnTo>
                    <a:pt x="2" y="532"/>
                  </a:lnTo>
                  <a:lnTo>
                    <a:pt x="6" y="564"/>
                  </a:lnTo>
                  <a:lnTo>
                    <a:pt x="12" y="594"/>
                  </a:lnTo>
                  <a:lnTo>
                    <a:pt x="22" y="626"/>
                  </a:lnTo>
                  <a:lnTo>
                    <a:pt x="34" y="656"/>
                  </a:lnTo>
                  <a:lnTo>
                    <a:pt x="48" y="684"/>
                  </a:lnTo>
                  <a:lnTo>
                    <a:pt x="64" y="712"/>
                  </a:lnTo>
                  <a:lnTo>
                    <a:pt x="82" y="740"/>
                  </a:lnTo>
                  <a:lnTo>
                    <a:pt x="82" y="740"/>
                  </a:lnTo>
                  <a:lnTo>
                    <a:pt x="106" y="760"/>
                  </a:lnTo>
                  <a:lnTo>
                    <a:pt x="132" y="780"/>
                  </a:lnTo>
                  <a:lnTo>
                    <a:pt x="158" y="798"/>
                  </a:lnTo>
                  <a:lnTo>
                    <a:pt x="188" y="814"/>
                  </a:lnTo>
                  <a:lnTo>
                    <a:pt x="216" y="830"/>
                  </a:lnTo>
                  <a:lnTo>
                    <a:pt x="248" y="846"/>
                  </a:lnTo>
                  <a:lnTo>
                    <a:pt x="278" y="860"/>
                  </a:lnTo>
                  <a:lnTo>
                    <a:pt x="312" y="872"/>
                  </a:lnTo>
                  <a:lnTo>
                    <a:pt x="346" y="884"/>
                  </a:lnTo>
                  <a:lnTo>
                    <a:pt x="380" y="894"/>
                  </a:lnTo>
                  <a:lnTo>
                    <a:pt x="416" y="902"/>
                  </a:lnTo>
                  <a:lnTo>
                    <a:pt x="452" y="910"/>
                  </a:lnTo>
                  <a:lnTo>
                    <a:pt x="488" y="914"/>
                  </a:lnTo>
                  <a:lnTo>
                    <a:pt x="526" y="918"/>
                  </a:lnTo>
                  <a:lnTo>
                    <a:pt x="564" y="922"/>
                  </a:lnTo>
                  <a:lnTo>
                    <a:pt x="604" y="922"/>
                  </a:lnTo>
                  <a:lnTo>
                    <a:pt x="7794" y="92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グループ化 116"/>
          <p:cNvGrpSpPr/>
          <p:nvPr/>
        </p:nvGrpSpPr>
        <p:grpSpPr>
          <a:xfrm>
            <a:off x="10688760" y="7545240"/>
            <a:ext cx="11329920" cy="971640"/>
            <a:chOff x="10688760" y="7545240"/>
            <a:chExt cx="11329920" cy="971640"/>
          </a:xfrm>
        </p:grpSpPr>
        <p:sp>
          <p:nvSpPr>
            <p:cNvPr id="153" name="Freeform 6"/>
            <p:cNvSpPr/>
            <p:nvPr/>
          </p:nvSpPr>
          <p:spPr>
            <a:xfrm>
              <a:off x="10688760" y="7586280"/>
              <a:ext cx="930240" cy="917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586" h="578">
                  <a:moveTo>
                    <a:pt x="512" y="0"/>
                  </a:moveTo>
                  <a:lnTo>
                    <a:pt x="512" y="0"/>
                  </a:lnTo>
                  <a:lnTo>
                    <a:pt x="520" y="2"/>
                  </a:lnTo>
                  <a:lnTo>
                    <a:pt x="528" y="4"/>
                  </a:lnTo>
                  <a:lnTo>
                    <a:pt x="536" y="8"/>
                  </a:lnTo>
                  <a:lnTo>
                    <a:pt x="542" y="14"/>
                  </a:lnTo>
                  <a:lnTo>
                    <a:pt x="542" y="14"/>
                  </a:lnTo>
                  <a:lnTo>
                    <a:pt x="548" y="20"/>
                  </a:lnTo>
                  <a:lnTo>
                    <a:pt x="552" y="28"/>
                  </a:lnTo>
                  <a:lnTo>
                    <a:pt x="554" y="36"/>
                  </a:lnTo>
                  <a:lnTo>
                    <a:pt x="554" y="46"/>
                  </a:lnTo>
                  <a:lnTo>
                    <a:pt x="554" y="46"/>
                  </a:lnTo>
                  <a:lnTo>
                    <a:pt x="552" y="60"/>
                  </a:lnTo>
                  <a:lnTo>
                    <a:pt x="550" y="66"/>
                  </a:lnTo>
                  <a:lnTo>
                    <a:pt x="546" y="72"/>
                  </a:lnTo>
                  <a:lnTo>
                    <a:pt x="542" y="78"/>
                  </a:lnTo>
                  <a:lnTo>
                    <a:pt x="536" y="82"/>
                  </a:lnTo>
                  <a:lnTo>
                    <a:pt x="522" y="88"/>
                  </a:lnTo>
                  <a:lnTo>
                    <a:pt x="522" y="88"/>
                  </a:lnTo>
                  <a:lnTo>
                    <a:pt x="440" y="102"/>
                  </a:lnTo>
                  <a:lnTo>
                    <a:pt x="348" y="114"/>
                  </a:lnTo>
                  <a:lnTo>
                    <a:pt x="348" y="114"/>
                  </a:lnTo>
                  <a:lnTo>
                    <a:pt x="366" y="182"/>
                  </a:lnTo>
                  <a:lnTo>
                    <a:pt x="530" y="182"/>
                  </a:lnTo>
                  <a:lnTo>
                    <a:pt x="530" y="182"/>
                  </a:lnTo>
                  <a:lnTo>
                    <a:pt x="540" y="182"/>
                  </a:lnTo>
                  <a:lnTo>
                    <a:pt x="550" y="184"/>
                  </a:lnTo>
                  <a:lnTo>
                    <a:pt x="556" y="188"/>
                  </a:lnTo>
                  <a:lnTo>
                    <a:pt x="562" y="192"/>
                  </a:lnTo>
                  <a:lnTo>
                    <a:pt x="562" y="192"/>
                  </a:lnTo>
                  <a:lnTo>
                    <a:pt x="566" y="196"/>
                  </a:lnTo>
                  <a:lnTo>
                    <a:pt x="570" y="202"/>
                  </a:lnTo>
                  <a:lnTo>
                    <a:pt x="570" y="212"/>
                  </a:lnTo>
                  <a:lnTo>
                    <a:pt x="572" y="222"/>
                  </a:lnTo>
                  <a:lnTo>
                    <a:pt x="572" y="222"/>
                  </a:lnTo>
                  <a:lnTo>
                    <a:pt x="570" y="238"/>
                  </a:lnTo>
                  <a:lnTo>
                    <a:pt x="568" y="246"/>
                  </a:lnTo>
                  <a:lnTo>
                    <a:pt x="564" y="250"/>
                  </a:lnTo>
                  <a:lnTo>
                    <a:pt x="564" y="250"/>
                  </a:lnTo>
                  <a:lnTo>
                    <a:pt x="558" y="256"/>
                  </a:lnTo>
                  <a:lnTo>
                    <a:pt x="550" y="260"/>
                  </a:lnTo>
                  <a:lnTo>
                    <a:pt x="540" y="264"/>
                  </a:lnTo>
                  <a:lnTo>
                    <a:pt x="530" y="264"/>
                  </a:lnTo>
                  <a:lnTo>
                    <a:pt x="382" y="264"/>
                  </a:lnTo>
                  <a:lnTo>
                    <a:pt x="382" y="264"/>
                  </a:lnTo>
                  <a:lnTo>
                    <a:pt x="388" y="318"/>
                  </a:lnTo>
                  <a:lnTo>
                    <a:pt x="542" y="318"/>
                  </a:lnTo>
                  <a:lnTo>
                    <a:pt x="542" y="318"/>
                  </a:lnTo>
                  <a:lnTo>
                    <a:pt x="554" y="320"/>
                  </a:lnTo>
                  <a:lnTo>
                    <a:pt x="562" y="322"/>
                  </a:lnTo>
                  <a:lnTo>
                    <a:pt x="570" y="324"/>
                  </a:lnTo>
                  <a:lnTo>
                    <a:pt x="578" y="328"/>
                  </a:lnTo>
                  <a:lnTo>
                    <a:pt x="578" y="328"/>
                  </a:lnTo>
                  <a:lnTo>
                    <a:pt x="582" y="332"/>
                  </a:lnTo>
                  <a:lnTo>
                    <a:pt x="584" y="340"/>
                  </a:lnTo>
                  <a:lnTo>
                    <a:pt x="586" y="350"/>
                  </a:lnTo>
                  <a:lnTo>
                    <a:pt x="586" y="360"/>
                  </a:lnTo>
                  <a:lnTo>
                    <a:pt x="586" y="360"/>
                  </a:lnTo>
                  <a:lnTo>
                    <a:pt x="584" y="378"/>
                  </a:lnTo>
                  <a:lnTo>
                    <a:pt x="582" y="386"/>
                  </a:lnTo>
                  <a:lnTo>
                    <a:pt x="578" y="392"/>
                  </a:lnTo>
                  <a:lnTo>
                    <a:pt x="578" y="392"/>
                  </a:lnTo>
                  <a:lnTo>
                    <a:pt x="572" y="398"/>
                  </a:lnTo>
                  <a:lnTo>
                    <a:pt x="564" y="402"/>
                  </a:lnTo>
                  <a:lnTo>
                    <a:pt x="554" y="404"/>
                  </a:lnTo>
                  <a:lnTo>
                    <a:pt x="542" y="406"/>
                  </a:lnTo>
                  <a:lnTo>
                    <a:pt x="392" y="406"/>
                  </a:lnTo>
                  <a:lnTo>
                    <a:pt x="392" y="406"/>
                  </a:lnTo>
                  <a:lnTo>
                    <a:pt x="390" y="450"/>
                  </a:lnTo>
                  <a:lnTo>
                    <a:pt x="382" y="488"/>
                  </a:lnTo>
                  <a:lnTo>
                    <a:pt x="378" y="504"/>
                  </a:lnTo>
                  <a:lnTo>
                    <a:pt x="374" y="518"/>
                  </a:lnTo>
                  <a:lnTo>
                    <a:pt x="368" y="528"/>
                  </a:lnTo>
                  <a:lnTo>
                    <a:pt x="360" y="538"/>
                  </a:lnTo>
                  <a:lnTo>
                    <a:pt x="360" y="538"/>
                  </a:lnTo>
                  <a:lnTo>
                    <a:pt x="352" y="548"/>
                  </a:lnTo>
                  <a:lnTo>
                    <a:pt x="342" y="556"/>
                  </a:lnTo>
                  <a:lnTo>
                    <a:pt x="330" y="562"/>
                  </a:lnTo>
                  <a:lnTo>
                    <a:pt x="318" y="568"/>
                  </a:lnTo>
                  <a:lnTo>
                    <a:pt x="304" y="572"/>
                  </a:lnTo>
                  <a:lnTo>
                    <a:pt x="288" y="574"/>
                  </a:lnTo>
                  <a:lnTo>
                    <a:pt x="274" y="576"/>
                  </a:lnTo>
                  <a:lnTo>
                    <a:pt x="256" y="578"/>
                  </a:lnTo>
                  <a:lnTo>
                    <a:pt x="256" y="578"/>
                  </a:lnTo>
                  <a:lnTo>
                    <a:pt x="212" y="574"/>
                  </a:lnTo>
                  <a:lnTo>
                    <a:pt x="174" y="570"/>
                  </a:lnTo>
                  <a:lnTo>
                    <a:pt x="140" y="560"/>
                  </a:lnTo>
                  <a:lnTo>
                    <a:pt x="114" y="550"/>
                  </a:lnTo>
                  <a:lnTo>
                    <a:pt x="114" y="550"/>
                  </a:lnTo>
                  <a:lnTo>
                    <a:pt x="104" y="542"/>
                  </a:lnTo>
                  <a:lnTo>
                    <a:pt x="96" y="534"/>
                  </a:lnTo>
                  <a:lnTo>
                    <a:pt x="92" y="522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0" y="500"/>
                  </a:lnTo>
                  <a:lnTo>
                    <a:pt x="92" y="490"/>
                  </a:lnTo>
                  <a:lnTo>
                    <a:pt x="96" y="482"/>
                  </a:lnTo>
                  <a:lnTo>
                    <a:pt x="100" y="474"/>
                  </a:lnTo>
                  <a:lnTo>
                    <a:pt x="100" y="474"/>
                  </a:lnTo>
                  <a:lnTo>
                    <a:pt x="104" y="468"/>
                  </a:lnTo>
                  <a:lnTo>
                    <a:pt x="110" y="464"/>
                  </a:lnTo>
                  <a:lnTo>
                    <a:pt x="118" y="462"/>
                  </a:lnTo>
                  <a:lnTo>
                    <a:pt x="124" y="460"/>
                  </a:lnTo>
                  <a:lnTo>
                    <a:pt x="124" y="460"/>
                  </a:lnTo>
                  <a:lnTo>
                    <a:pt x="146" y="462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218" y="480"/>
                  </a:lnTo>
                  <a:lnTo>
                    <a:pt x="248" y="482"/>
                  </a:lnTo>
                  <a:lnTo>
                    <a:pt x="248" y="482"/>
                  </a:lnTo>
                  <a:lnTo>
                    <a:pt x="262" y="482"/>
                  </a:lnTo>
                  <a:lnTo>
                    <a:pt x="274" y="478"/>
                  </a:lnTo>
                  <a:lnTo>
                    <a:pt x="282" y="472"/>
                  </a:lnTo>
                  <a:lnTo>
                    <a:pt x="288" y="462"/>
                  </a:lnTo>
                  <a:lnTo>
                    <a:pt x="288" y="462"/>
                  </a:lnTo>
                  <a:lnTo>
                    <a:pt x="290" y="456"/>
                  </a:lnTo>
                  <a:lnTo>
                    <a:pt x="290" y="444"/>
                  </a:lnTo>
                  <a:lnTo>
                    <a:pt x="292" y="406"/>
                  </a:lnTo>
                  <a:lnTo>
                    <a:pt x="44" y="406"/>
                  </a:lnTo>
                  <a:lnTo>
                    <a:pt x="44" y="406"/>
                  </a:lnTo>
                  <a:lnTo>
                    <a:pt x="34" y="404"/>
                  </a:lnTo>
                  <a:lnTo>
                    <a:pt x="26" y="402"/>
                  </a:lnTo>
                  <a:lnTo>
                    <a:pt x="18" y="400"/>
                  </a:lnTo>
                  <a:lnTo>
                    <a:pt x="10" y="396"/>
                  </a:lnTo>
                  <a:lnTo>
                    <a:pt x="10" y="396"/>
                  </a:lnTo>
                  <a:lnTo>
                    <a:pt x="6" y="390"/>
                  </a:lnTo>
                  <a:lnTo>
                    <a:pt x="2" y="382"/>
                  </a:lnTo>
                  <a:lnTo>
                    <a:pt x="0" y="372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2" y="340"/>
                  </a:lnTo>
                  <a:lnTo>
                    <a:pt x="6" y="334"/>
                  </a:lnTo>
                  <a:lnTo>
                    <a:pt x="10" y="328"/>
                  </a:lnTo>
                  <a:lnTo>
                    <a:pt x="10" y="328"/>
                  </a:lnTo>
                  <a:lnTo>
                    <a:pt x="16" y="324"/>
                  </a:lnTo>
                  <a:lnTo>
                    <a:pt x="24" y="322"/>
                  </a:lnTo>
                  <a:lnTo>
                    <a:pt x="34" y="320"/>
                  </a:lnTo>
                  <a:lnTo>
                    <a:pt x="44" y="318"/>
                  </a:lnTo>
                  <a:lnTo>
                    <a:pt x="290" y="318"/>
                  </a:lnTo>
                  <a:lnTo>
                    <a:pt x="290" y="318"/>
                  </a:lnTo>
                  <a:lnTo>
                    <a:pt x="284" y="264"/>
                  </a:lnTo>
                  <a:lnTo>
                    <a:pt x="56" y="264"/>
                  </a:lnTo>
                  <a:lnTo>
                    <a:pt x="56" y="264"/>
                  </a:lnTo>
                  <a:lnTo>
                    <a:pt x="48" y="264"/>
                  </a:lnTo>
                  <a:lnTo>
                    <a:pt x="38" y="262"/>
                  </a:lnTo>
                  <a:lnTo>
                    <a:pt x="32" y="258"/>
                  </a:lnTo>
                  <a:lnTo>
                    <a:pt x="26" y="254"/>
                  </a:lnTo>
                  <a:lnTo>
                    <a:pt x="26" y="254"/>
                  </a:lnTo>
                  <a:lnTo>
                    <a:pt x="20" y="248"/>
                  </a:lnTo>
                  <a:lnTo>
                    <a:pt x="18" y="242"/>
                  </a:lnTo>
                  <a:lnTo>
                    <a:pt x="16" y="232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6" y="212"/>
                  </a:lnTo>
                  <a:lnTo>
                    <a:pt x="18" y="202"/>
                  </a:lnTo>
                  <a:lnTo>
                    <a:pt x="20" y="196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30" y="188"/>
                  </a:lnTo>
                  <a:lnTo>
                    <a:pt x="38" y="184"/>
                  </a:lnTo>
                  <a:lnTo>
                    <a:pt x="46" y="182"/>
                  </a:lnTo>
                  <a:lnTo>
                    <a:pt x="56" y="182"/>
                  </a:lnTo>
                  <a:lnTo>
                    <a:pt x="268" y="182"/>
                  </a:lnTo>
                  <a:lnTo>
                    <a:pt x="268" y="182"/>
                  </a:lnTo>
                  <a:lnTo>
                    <a:pt x="254" y="124"/>
                  </a:lnTo>
                  <a:lnTo>
                    <a:pt x="254" y="124"/>
                  </a:lnTo>
                  <a:lnTo>
                    <a:pt x="150" y="132"/>
                  </a:lnTo>
                  <a:lnTo>
                    <a:pt x="70" y="134"/>
                  </a:lnTo>
                  <a:lnTo>
                    <a:pt x="70" y="134"/>
                  </a:lnTo>
                  <a:lnTo>
                    <a:pt x="60" y="134"/>
                  </a:lnTo>
                  <a:lnTo>
                    <a:pt x="50" y="132"/>
                  </a:lnTo>
                  <a:lnTo>
                    <a:pt x="42" y="128"/>
                  </a:lnTo>
                  <a:lnTo>
                    <a:pt x="36" y="122"/>
                  </a:lnTo>
                  <a:lnTo>
                    <a:pt x="32" y="114"/>
                  </a:lnTo>
                  <a:lnTo>
                    <a:pt x="28" y="106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74"/>
                  </a:lnTo>
                  <a:lnTo>
                    <a:pt x="28" y="68"/>
                  </a:lnTo>
                  <a:lnTo>
                    <a:pt x="32" y="62"/>
                  </a:lnTo>
                  <a:lnTo>
                    <a:pt x="36" y="56"/>
                  </a:lnTo>
                  <a:lnTo>
                    <a:pt x="42" y="52"/>
                  </a:lnTo>
                  <a:lnTo>
                    <a:pt x="50" y="48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182" y="40"/>
                  </a:lnTo>
                  <a:lnTo>
                    <a:pt x="288" y="30"/>
                  </a:lnTo>
                  <a:lnTo>
                    <a:pt x="390" y="18"/>
                  </a:lnTo>
                  <a:lnTo>
                    <a:pt x="484" y="2"/>
                  </a:lnTo>
                  <a:lnTo>
                    <a:pt x="484" y="2"/>
                  </a:lnTo>
                  <a:lnTo>
                    <a:pt x="512" y="0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11701440" y="7583040"/>
              <a:ext cx="933120" cy="92088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588" h="580">
                  <a:moveTo>
                    <a:pt x="90" y="332"/>
                  </a:moveTo>
                  <a:lnTo>
                    <a:pt x="90" y="332"/>
                  </a:lnTo>
                  <a:lnTo>
                    <a:pt x="108" y="334"/>
                  </a:lnTo>
                  <a:lnTo>
                    <a:pt x="124" y="340"/>
                  </a:lnTo>
                  <a:lnTo>
                    <a:pt x="124" y="340"/>
                  </a:lnTo>
                  <a:lnTo>
                    <a:pt x="132" y="346"/>
                  </a:lnTo>
                  <a:lnTo>
                    <a:pt x="138" y="354"/>
                  </a:lnTo>
                  <a:lnTo>
                    <a:pt x="142" y="364"/>
                  </a:lnTo>
                  <a:lnTo>
                    <a:pt x="142" y="374"/>
                  </a:lnTo>
                  <a:lnTo>
                    <a:pt x="142" y="374"/>
                  </a:lnTo>
                  <a:lnTo>
                    <a:pt x="140" y="390"/>
                  </a:lnTo>
                  <a:lnTo>
                    <a:pt x="136" y="404"/>
                  </a:lnTo>
                  <a:lnTo>
                    <a:pt x="136" y="404"/>
                  </a:lnTo>
                  <a:lnTo>
                    <a:pt x="110" y="494"/>
                  </a:lnTo>
                  <a:lnTo>
                    <a:pt x="110" y="494"/>
                  </a:lnTo>
                  <a:lnTo>
                    <a:pt x="100" y="524"/>
                  </a:lnTo>
                  <a:lnTo>
                    <a:pt x="92" y="544"/>
                  </a:lnTo>
                  <a:lnTo>
                    <a:pt x="92" y="544"/>
                  </a:lnTo>
                  <a:lnTo>
                    <a:pt x="86" y="558"/>
                  </a:lnTo>
                  <a:lnTo>
                    <a:pt x="82" y="564"/>
                  </a:lnTo>
                  <a:lnTo>
                    <a:pt x="76" y="570"/>
                  </a:lnTo>
                  <a:lnTo>
                    <a:pt x="70" y="574"/>
                  </a:lnTo>
                  <a:lnTo>
                    <a:pt x="64" y="576"/>
                  </a:lnTo>
                  <a:lnTo>
                    <a:pt x="48" y="580"/>
                  </a:lnTo>
                  <a:lnTo>
                    <a:pt x="48" y="580"/>
                  </a:lnTo>
                  <a:lnTo>
                    <a:pt x="38" y="578"/>
                  </a:lnTo>
                  <a:lnTo>
                    <a:pt x="30" y="574"/>
                  </a:lnTo>
                  <a:lnTo>
                    <a:pt x="22" y="570"/>
                  </a:lnTo>
                  <a:lnTo>
                    <a:pt x="14" y="564"/>
                  </a:lnTo>
                  <a:lnTo>
                    <a:pt x="14" y="564"/>
                  </a:lnTo>
                  <a:lnTo>
                    <a:pt x="8" y="558"/>
                  </a:lnTo>
                  <a:lnTo>
                    <a:pt x="4" y="550"/>
                  </a:lnTo>
                  <a:lnTo>
                    <a:pt x="2" y="540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16" y="482"/>
                  </a:lnTo>
                  <a:lnTo>
                    <a:pt x="46" y="396"/>
                  </a:lnTo>
                  <a:lnTo>
                    <a:pt x="46" y="396"/>
                  </a:lnTo>
                  <a:lnTo>
                    <a:pt x="58" y="362"/>
                  </a:lnTo>
                  <a:lnTo>
                    <a:pt x="58" y="362"/>
                  </a:lnTo>
                  <a:lnTo>
                    <a:pt x="64" y="350"/>
                  </a:lnTo>
                  <a:lnTo>
                    <a:pt x="70" y="340"/>
                  </a:lnTo>
                  <a:lnTo>
                    <a:pt x="80" y="334"/>
                  </a:lnTo>
                  <a:lnTo>
                    <a:pt x="90" y="332"/>
                  </a:lnTo>
                  <a:lnTo>
                    <a:pt x="90" y="332"/>
                  </a:lnTo>
                  <a:close/>
                  <a:moveTo>
                    <a:pt x="66" y="166"/>
                  </a:moveTo>
                  <a:lnTo>
                    <a:pt x="66" y="166"/>
                  </a:lnTo>
                  <a:lnTo>
                    <a:pt x="74" y="168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100" y="18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34" y="226"/>
                  </a:lnTo>
                  <a:lnTo>
                    <a:pt x="146" y="246"/>
                  </a:lnTo>
                  <a:lnTo>
                    <a:pt x="154" y="262"/>
                  </a:lnTo>
                  <a:lnTo>
                    <a:pt x="158" y="274"/>
                  </a:lnTo>
                  <a:lnTo>
                    <a:pt x="158" y="274"/>
                  </a:lnTo>
                  <a:lnTo>
                    <a:pt x="162" y="264"/>
                  </a:lnTo>
                  <a:lnTo>
                    <a:pt x="168" y="256"/>
                  </a:lnTo>
                  <a:lnTo>
                    <a:pt x="168" y="256"/>
                  </a:lnTo>
                  <a:lnTo>
                    <a:pt x="174" y="252"/>
                  </a:lnTo>
                  <a:lnTo>
                    <a:pt x="182" y="248"/>
                  </a:lnTo>
                  <a:lnTo>
                    <a:pt x="190" y="246"/>
                  </a:lnTo>
                  <a:lnTo>
                    <a:pt x="202" y="246"/>
                  </a:lnTo>
                  <a:lnTo>
                    <a:pt x="342" y="246"/>
                  </a:lnTo>
                  <a:lnTo>
                    <a:pt x="342" y="174"/>
                  </a:lnTo>
                  <a:lnTo>
                    <a:pt x="254" y="174"/>
                  </a:lnTo>
                  <a:lnTo>
                    <a:pt x="254" y="174"/>
                  </a:lnTo>
                  <a:lnTo>
                    <a:pt x="236" y="206"/>
                  </a:lnTo>
                  <a:lnTo>
                    <a:pt x="236" y="206"/>
                  </a:lnTo>
                  <a:lnTo>
                    <a:pt x="232" y="216"/>
                  </a:lnTo>
                  <a:lnTo>
                    <a:pt x="224" y="222"/>
                  </a:lnTo>
                  <a:lnTo>
                    <a:pt x="212" y="224"/>
                  </a:lnTo>
                  <a:lnTo>
                    <a:pt x="196" y="226"/>
                  </a:lnTo>
                  <a:lnTo>
                    <a:pt x="196" y="226"/>
                  </a:lnTo>
                  <a:lnTo>
                    <a:pt x="190" y="226"/>
                  </a:lnTo>
                  <a:lnTo>
                    <a:pt x="182" y="222"/>
                  </a:lnTo>
                  <a:lnTo>
                    <a:pt x="174" y="218"/>
                  </a:lnTo>
                  <a:lnTo>
                    <a:pt x="166" y="212"/>
                  </a:lnTo>
                  <a:lnTo>
                    <a:pt x="166" y="212"/>
                  </a:lnTo>
                  <a:lnTo>
                    <a:pt x="162" y="208"/>
                  </a:lnTo>
                  <a:lnTo>
                    <a:pt x="158" y="200"/>
                  </a:lnTo>
                  <a:lnTo>
                    <a:pt x="156" y="194"/>
                  </a:lnTo>
                  <a:lnTo>
                    <a:pt x="154" y="184"/>
                  </a:lnTo>
                  <a:lnTo>
                    <a:pt x="154" y="184"/>
                  </a:lnTo>
                  <a:lnTo>
                    <a:pt x="158" y="172"/>
                  </a:lnTo>
                  <a:lnTo>
                    <a:pt x="164" y="160"/>
                  </a:lnTo>
                  <a:lnTo>
                    <a:pt x="164" y="160"/>
                  </a:lnTo>
                  <a:lnTo>
                    <a:pt x="180" y="132"/>
                  </a:lnTo>
                  <a:lnTo>
                    <a:pt x="192" y="104"/>
                  </a:lnTo>
                  <a:lnTo>
                    <a:pt x="206" y="72"/>
                  </a:lnTo>
                  <a:lnTo>
                    <a:pt x="216" y="40"/>
                  </a:lnTo>
                  <a:lnTo>
                    <a:pt x="216" y="40"/>
                  </a:lnTo>
                  <a:lnTo>
                    <a:pt x="222" y="28"/>
                  </a:lnTo>
                  <a:lnTo>
                    <a:pt x="228" y="22"/>
                  </a:lnTo>
                  <a:lnTo>
                    <a:pt x="238" y="16"/>
                  </a:lnTo>
                  <a:lnTo>
                    <a:pt x="252" y="14"/>
                  </a:lnTo>
                  <a:lnTo>
                    <a:pt x="252" y="14"/>
                  </a:lnTo>
                  <a:lnTo>
                    <a:pt x="260" y="16"/>
                  </a:lnTo>
                  <a:lnTo>
                    <a:pt x="270" y="18"/>
                  </a:lnTo>
                  <a:lnTo>
                    <a:pt x="278" y="20"/>
                  </a:lnTo>
                  <a:lnTo>
                    <a:pt x="284" y="26"/>
                  </a:lnTo>
                  <a:lnTo>
                    <a:pt x="284" y="26"/>
                  </a:lnTo>
                  <a:lnTo>
                    <a:pt x="290" y="30"/>
                  </a:lnTo>
                  <a:lnTo>
                    <a:pt x="296" y="36"/>
                  </a:lnTo>
                  <a:lnTo>
                    <a:pt x="298" y="44"/>
                  </a:lnTo>
                  <a:lnTo>
                    <a:pt x="298" y="54"/>
                  </a:lnTo>
                  <a:lnTo>
                    <a:pt x="298" y="54"/>
                  </a:lnTo>
                  <a:lnTo>
                    <a:pt x="296" y="68"/>
                  </a:lnTo>
                  <a:lnTo>
                    <a:pt x="292" y="84"/>
                  </a:lnTo>
                  <a:lnTo>
                    <a:pt x="342" y="84"/>
                  </a:lnTo>
                  <a:lnTo>
                    <a:pt x="342" y="48"/>
                  </a:lnTo>
                  <a:lnTo>
                    <a:pt x="342" y="48"/>
                  </a:lnTo>
                  <a:lnTo>
                    <a:pt x="342" y="36"/>
                  </a:lnTo>
                  <a:lnTo>
                    <a:pt x="344" y="26"/>
                  </a:lnTo>
                  <a:lnTo>
                    <a:pt x="348" y="18"/>
                  </a:lnTo>
                  <a:lnTo>
                    <a:pt x="352" y="12"/>
                  </a:lnTo>
                  <a:lnTo>
                    <a:pt x="352" y="12"/>
                  </a:lnTo>
                  <a:lnTo>
                    <a:pt x="358" y="6"/>
                  </a:lnTo>
                  <a:lnTo>
                    <a:pt x="366" y="2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2" y="2"/>
                  </a:lnTo>
                  <a:lnTo>
                    <a:pt x="420" y="6"/>
                  </a:lnTo>
                  <a:lnTo>
                    <a:pt x="426" y="12"/>
                  </a:lnTo>
                  <a:lnTo>
                    <a:pt x="426" y="12"/>
                  </a:lnTo>
                  <a:lnTo>
                    <a:pt x="432" y="18"/>
                  </a:lnTo>
                  <a:lnTo>
                    <a:pt x="436" y="26"/>
                  </a:lnTo>
                  <a:lnTo>
                    <a:pt x="438" y="36"/>
                  </a:lnTo>
                  <a:lnTo>
                    <a:pt x="438" y="48"/>
                  </a:lnTo>
                  <a:lnTo>
                    <a:pt x="438" y="84"/>
                  </a:lnTo>
                  <a:lnTo>
                    <a:pt x="528" y="84"/>
                  </a:lnTo>
                  <a:lnTo>
                    <a:pt x="528" y="84"/>
                  </a:lnTo>
                  <a:lnTo>
                    <a:pt x="540" y="84"/>
                  </a:lnTo>
                  <a:lnTo>
                    <a:pt x="548" y="86"/>
                  </a:lnTo>
                  <a:lnTo>
                    <a:pt x="556" y="90"/>
                  </a:lnTo>
                  <a:lnTo>
                    <a:pt x="560" y="94"/>
                  </a:lnTo>
                  <a:lnTo>
                    <a:pt x="560" y="94"/>
                  </a:lnTo>
                  <a:lnTo>
                    <a:pt x="564" y="100"/>
                  </a:lnTo>
                  <a:lnTo>
                    <a:pt x="568" y="108"/>
                  </a:lnTo>
                  <a:lnTo>
                    <a:pt x="570" y="118"/>
                  </a:lnTo>
                  <a:lnTo>
                    <a:pt x="570" y="130"/>
                  </a:lnTo>
                  <a:lnTo>
                    <a:pt x="570" y="130"/>
                  </a:lnTo>
                  <a:lnTo>
                    <a:pt x="568" y="148"/>
                  </a:lnTo>
                  <a:lnTo>
                    <a:pt x="566" y="156"/>
                  </a:lnTo>
                  <a:lnTo>
                    <a:pt x="562" y="162"/>
                  </a:lnTo>
                  <a:lnTo>
                    <a:pt x="562" y="162"/>
                  </a:lnTo>
                  <a:lnTo>
                    <a:pt x="556" y="168"/>
                  </a:lnTo>
                  <a:lnTo>
                    <a:pt x="548" y="170"/>
                  </a:lnTo>
                  <a:lnTo>
                    <a:pt x="540" y="174"/>
                  </a:lnTo>
                  <a:lnTo>
                    <a:pt x="528" y="174"/>
                  </a:lnTo>
                  <a:lnTo>
                    <a:pt x="438" y="174"/>
                  </a:lnTo>
                  <a:lnTo>
                    <a:pt x="438" y="246"/>
                  </a:lnTo>
                  <a:lnTo>
                    <a:pt x="542" y="246"/>
                  </a:lnTo>
                  <a:lnTo>
                    <a:pt x="542" y="246"/>
                  </a:lnTo>
                  <a:lnTo>
                    <a:pt x="554" y="246"/>
                  </a:lnTo>
                  <a:lnTo>
                    <a:pt x="564" y="248"/>
                  </a:lnTo>
                  <a:lnTo>
                    <a:pt x="572" y="252"/>
                  </a:lnTo>
                  <a:lnTo>
                    <a:pt x="578" y="256"/>
                  </a:lnTo>
                  <a:lnTo>
                    <a:pt x="578" y="256"/>
                  </a:lnTo>
                  <a:lnTo>
                    <a:pt x="582" y="262"/>
                  </a:lnTo>
                  <a:lnTo>
                    <a:pt x="584" y="270"/>
                  </a:lnTo>
                  <a:lnTo>
                    <a:pt x="586" y="280"/>
                  </a:lnTo>
                  <a:lnTo>
                    <a:pt x="588" y="290"/>
                  </a:lnTo>
                  <a:lnTo>
                    <a:pt x="588" y="290"/>
                  </a:lnTo>
                  <a:lnTo>
                    <a:pt x="586" y="308"/>
                  </a:lnTo>
                  <a:lnTo>
                    <a:pt x="582" y="316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72" y="328"/>
                  </a:lnTo>
                  <a:lnTo>
                    <a:pt x="564" y="332"/>
                  </a:lnTo>
                  <a:lnTo>
                    <a:pt x="554" y="334"/>
                  </a:lnTo>
                  <a:lnTo>
                    <a:pt x="542" y="336"/>
                  </a:lnTo>
                  <a:lnTo>
                    <a:pt x="468" y="336"/>
                  </a:lnTo>
                  <a:lnTo>
                    <a:pt x="468" y="458"/>
                  </a:lnTo>
                  <a:lnTo>
                    <a:pt x="468" y="458"/>
                  </a:lnTo>
                  <a:lnTo>
                    <a:pt x="468" y="464"/>
                  </a:lnTo>
                  <a:lnTo>
                    <a:pt x="472" y="470"/>
                  </a:lnTo>
                  <a:lnTo>
                    <a:pt x="478" y="474"/>
                  </a:lnTo>
                  <a:lnTo>
                    <a:pt x="486" y="474"/>
                  </a:lnTo>
                  <a:lnTo>
                    <a:pt x="492" y="474"/>
                  </a:lnTo>
                  <a:lnTo>
                    <a:pt x="492" y="474"/>
                  </a:lnTo>
                  <a:lnTo>
                    <a:pt x="496" y="472"/>
                  </a:lnTo>
                  <a:lnTo>
                    <a:pt x="502" y="466"/>
                  </a:lnTo>
                  <a:lnTo>
                    <a:pt x="502" y="466"/>
                  </a:lnTo>
                  <a:lnTo>
                    <a:pt x="506" y="458"/>
                  </a:lnTo>
                  <a:lnTo>
                    <a:pt x="508" y="448"/>
                  </a:lnTo>
                  <a:lnTo>
                    <a:pt x="510" y="416"/>
                  </a:lnTo>
                  <a:lnTo>
                    <a:pt x="510" y="416"/>
                  </a:lnTo>
                  <a:lnTo>
                    <a:pt x="514" y="404"/>
                  </a:lnTo>
                  <a:lnTo>
                    <a:pt x="520" y="396"/>
                  </a:lnTo>
                  <a:lnTo>
                    <a:pt x="520" y="396"/>
                  </a:lnTo>
                  <a:lnTo>
                    <a:pt x="528" y="392"/>
                  </a:lnTo>
                  <a:lnTo>
                    <a:pt x="540" y="390"/>
                  </a:lnTo>
                  <a:lnTo>
                    <a:pt x="540" y="390"/>
                  </a:lnTo>
                  <a:lnTo>
                    <a:pt x="548" y="390"/>
                  </a:lnTo>
                  <a:lnTo>
                    <a:pt x="556" y="392"/>
                  </a:lnTo>
                  <a:lnTo>
                    <a:pt x="564" y="396"/>
                  </a:lnTo>
                  <a:lnTo>
                    <a:pt x="570" y="400"/>
                  </a:lnTo>
                  <a:lnTo>
                    <a:pt x="570" y="400"/>
                  </a:lnTo>
                  <a:lnTo>
                    <a:pt x="576" y="406"/>
                  </a:lnTo>
                  <a:lnTo>
                    <a:pt x="580" y="412"/>
                  </a:lnTo>
                  <a:lnTo>
                    <a:pt x="584" y="422"/>
                  </a:lnTo>
                  <a:lnTo>
                    <a:pt x="584" y="432"/>
                  </a:lnTo>
                  <a:lnTo>
                    <a:pt x="584" y="432"/>
                  </a:lnTo>
                  <a:lnTo>
                    <a:pt x="584" y="462"/>
                  </a:lnTo>
                  <a:lnTo>
                    <a:pt x="582" y="486"/>
                  </a:lnTo>
                  <a:lnTo>
                    <a:pt x="578" y="506"/>
                  </a:lnTo>
                  <a:lnTo>
                    <a:pt x="572" y="524"/>
                  </a:lnTo>
                  <a:lnTo>
                    <a:pt x="572" y="524"/>
                  </a:lnTo>
                  <a:lnTo>
                    <a:pt x="562" y="542"/>
                  </a:lnTo>
                  <a:lnTo>
                    <a:pt x="550" y="554"/>
                  </a:lnTo>
                  <a:lnTo>
                    <a:pt x="542" y="560"/>
                  </a:lnTo>
                  <a:lnTo>
                    <a:pt x="536" y="562"/>
                  </a:lnTo>
                  <a:lnTo>
                    <a:pt x="528" y="566"/>
                  </a:lnTo>
                  <a:lnTo>
                    <a:pt x="520" y="566"/>
                  </a:lnTo>
                  <a:lnTo>
                    <a:pt x="448" y="566"/>
                  </a:lnTo>
                  <a:lnTo>
                    <a:pt x="448" y="566"/>
                  </a:lnTo>
                  <a:lnTo>
                    <a:pt x="430" y="566"/>
                  </a:lnTo>
                  <a:lnTo>
                    <a:pt x="416" y="562"/>
                  </a:lnTo>
                  <a:lnTo>
                    <a:pt x="402" y="556"/>
                  </a:lnTo>
                  <a:lnTo>
                    <a:pt x="392" y="548"/>
                  </a:lnTo>
                  <a:lnTo>
                    <a:pt x="384" y="538"/>
                  </a:lnTo>
                  <a:lnTo>
                    <a:pt x="378" y="524"/>
                  </a:lnTo>
                  <a:lnTo>
                    <a:pt x="374" y="510"/>
                  </a:lnTo>
                  <a:lnTo>
                    <a:pt x="374" y="492"/>
                  </a:lnTo>
                  <a:lnTo>
                    <a:pt x="374" y="336"/>
                  </a:lnTo>
                  <a:lnTo>
                    <a:pt x="338" y="336"/>
                  </a:lnTo>
                  <a:lnTo>
                    <a:pt x="338" y="336"/>
                  </a:lnTo>
                  <a:lnTo>
                    <a:pt x="334" y="366"/>
                  </a:lnTo>
                  <a:lnTo>
                    <a:pt x="328" y="396"/>
                  </a:lnTo>
                  <a:lnTo>
                    <a:pt x="320" y="424"/>
                  </a:lnTo>
                  <a:lnTo>
                    <a:pt x="310" y="452"/>
                  </a:lnTo>
                  <a:lnTo>
                    <a:pt x="310" y="452"/>
                  </a:lnTo>
                  <a:lnTo>
                    <a:pt x="302" y="470"/>
                  </a:lnTo>
                  <a:lnTo>
                    <a:pt x="292" y="486"/>
                  </a:lnTo>
                  <a:lnTo>
                    <a:pt x="282" y="502"/>
                  </a:lnTo>
                  <a:lnTo>
                    <a:pt x="270" y="516"/>
                  </a:lnTo>
                  <a:lnTo>
                    <a:pt x="260" y="530"/>
                  </a:lnTo>
                  <a:lnTo>
                    <a:pt x="246" y="544"/>
                  </a:lnTo>
                  <a:lnTo>
                    <a:pt x="232" y="556"/>
                  </a:lnTo>
                  <a:lnTo>
                    <a:pt x="218" y="566"/>
                  </a:lnTo>
                  <a:lnTo>
                    <a:pt x="218" y="566"/>
                  </a:lnTo>
                  <a:lnTo>
                    <a:pt x="212" y="570"/>
                  </a:lnTo>
                  <a:lnTo>
                    <a:pt x="206" y="574"/>
                  </a:lnTo>
                  <a:lnTo>
                    <a:pt x="198" y="576"/>
                  </a:lnTo>
                  <a:lnTo>
                    <a:pt x="190" y="576"/>
                  </a:lnTo>
                  <a:lnTo>
                    <a:pt x="190" y="576"/>
                  </a:lnTo>
                  <a:lnTo>
                    <a:pt x="176" y="576"/>
                  </a:lnTo>
                  <a:lnTo>
                    <a:pt x="166" y="574"/>
                  </a:lnTo>
                  <a:lnTo>
                    <a:pt x="156" y="568"/>
                  </a:lnTo>
                  <a:lnTo>
                    <a:pt x="150" y="562"/>
                  </a:lnTo>
                  <a:lnTo>
                    <a:pt x="150" y="562"/>
                  </a:lnTo>
                  <a:lnTo>
                    <a:pt x="144" y="554"/>
                  </a:lnTo>
                  <a:lnTo>
                    <a:pt x="138" y="548"/>
                  </a:lnTo>
                  <a:lnTo>
                    <a:pt x="136" y="540"/>
                  </a:lnTo>
                  <a:lnTo>
                    <a:pt x="134" y="532"/>
                  </a:lnTo>
                  <a:lnTo>
                    <a:pt x="134" y="532"/>
                  </a:lnTo>
                  <a:lnTo>
                    <a:pt x="136" y="522"/>
                  </a:lnTo>
                  <a:lnTo>
                    <a:pt x="138" y="512"/>
                  </a:lnTo>
                  <a:lnTo>
                    <a:pt x="144" y="504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74" y="478"/>
                  </a:lnTo>
                  <a:lnTo>
                    <a:pt x="194" y="456"/>
                  </a:lnTo>
                  <a:lnTo>
                    <a:pt x="212" y="434"/>
                  </a:lnTo>
                  <a:lnTo>
                    <a:pt x="226" y="410"/>
                  </a:lnTo>
                  <a:lnTo>
                    <a:pt x="226" y="410"/>
                  </a:lnTo>
                  <a:lnTo>
                    <a:pt x="232" y="394"/>
                  </a:lnTo>
                  <a:lnTo>
                    <a:pt x="238" y="378"/>
                  </a:lnTo>
                  <a:lnTo>
                    <a:pt x="242" y="358"/>
                  </a:lnTo>
                  <a:lnTo>
                    <a:pt x="244" y="336"/>
                  </a:lnTo>
                  <a:lnTo>
                    <a:pt x="202" y="336"/>
                  </a:lnTo>
                  <a:lnTo>
                    <a:pt x="202" y="336"/>
                  </a:lnTo>
                  <a:lnTo>
                    <a:pt x="192" y="334"/>
                  </a:lnTo>
                  <a:lnTo>
                    <a:pt x="182" y="332"/>
                  </a:lnTo>
                  <a:lnTo>
                    <a:pt x="174" y="330"/>
                  </a:lnTo>
                  <a:lnTo>
                    <a:pt x="168" y="326"/>
                  </a:lnTo>
                  <a:lnTo>
                    <a:pt x="168" y="326"/>
                  </a:lnTo>
                  <a:lnTo>
                    <a:pt x="164" y="320"/>
                  </a:lnTo>
                  <a:lnTo>
                    <a:pt x="160" y="314"/>
                  </a:lnTo>
                  <a:lnTo>
                    <a:pt x="158" y="298"/>
                  </a:lnTo>
                  <a:lnTo>
                    <a:pt x="158" y="298"/>
                  </a:lnTo>
                  <a:lnTo>
                    <a:pt x="152" y="306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38" y="318"/>
                  </a:lnTo>
                  <a:lnTo>
                    <a:pt x="130" y="322"/>
                  </a:lnTo>
                  <a:lnTo>
                    <a:pt x="118" y="324"/>
                  </a:lnTo>
                  <a:lnTo>
                    <a:pt x="106" y="326"/>
                  </a:lnTo>
                  <a:lnTo>
                    <a:pt x="106" y="326"/>
                  </a:lnTo>
                  <a:lnTo>
                    <a:pt x="94" y="324"/>
                  </a:lnTo>
                  <a:lnTo>
                    <a:pt x="84" y="320"/>
                  </a:lnTo>
                  <a:lnTo>
                    <a:pt x="76" y="312"/>
                  </a:lnTo>
                  <a:lnTo>
                    <a:pt x="70" y="300"/>
                  </a:lnTo>
                  <a:lnTo>
                    <a:pt x="70" y="300"/>
                  </a:lnTo>
                  <a:lnTo>
                    <a:pt x="44" y="262"/>
                  </a:lnTo>
                  <a:lnTo>
                    <a:pt x="20" y="226"/>
                  </a:lnTo>
                  <a:lnTo>
                    <a:pt x="20" y="226"/>
                  </a:lnTo>
                  <a:lnTo>
                    <a:pt x="12" y="218"/>
                  </a:lnTo>
                  <a:lnTo>
                    <a:pt x="10" y="208"/>
                  </a:lnTo>
                  <a:lnTo>
                    <a:pt x="10" y="208"/>
                  </a:lnTo>
                  <a:lnTo>
                    <a:pt x="12" y="198"/>
                  </a:lnTo>
                  <a:lnTo>
                    <a:pt x="16" y="190"/>
                  </a:lnTo>
                  <a:lnTo>
                    <a:pt x="22" y="182"/>
                  </a:lnTo>
                  <a:lnTo>
                    <a:pt x="30" y="174"/>
                  </a:lnTo>
                  <a:lnTo>
                    <a:pt x="30" y="174"/>
                  </a:lnTo>
                  <a:lnTo>
                    <a:pt x="48" y="168"/>
                  </a:lnTo>
                  <a:lnTo>
                    <a:pt x="66" y="166"/>
                  </a:lnTo>
                  <a:lnTo>
                    <a:pt x="66" y="166"/>
                  </a:lnTo>
                  <a:close/>
                  <a:moveTo>
                    <a:pt x="76" y="8"/>
                  </a:moveTo>
                  <a:lnTo>
                    <a:pt x="76" y="8"/>
                  </a:lnTo>
                  <a:lnTo>
                    <a:pt x="86" y="1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110" y="28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44" y="68"/>
                  </a:lnTo>
                  <a:lnTo>
                    <a:pt x="158" y="88"/>
                  </a:lnTo>
                  <a:lnTo>
                    <a:pt x="164" y="106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6" y="128"/>
                  </a:lnTo>
                  <a:lnTo>
                    <a:pt x="164" y="136"/>
                  </a:lnTo>
                  <a:lnTo>
                    <a:pt x="160" y="142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46" y="152"/>
                  </a:lnTo>
                  <a:lnTo>
                    <a:pt x="138" y="156"/>
                  </a:lnTo>
                  <a:lnTo>
                    <a:pt x="128" y="158"/>
                  </a:lnTo>
                  <a:lnTo>
                    <a:pt x="114" y="160"/>
                  </a:lnTo>
                  <a:lnTo>
                    <a:pt x="114" y="160"/>
                  </a:lnTo>
                  <a:lnTo>
                    <a:pt x="104" y="158"/>
                  </a:lnTo>
                  <a:lnTo>
                    <a:pt x="96" y="154"/>
                  </a:lnTo>
                  <a:lnTo>
                    <a:pt x="88" y="146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54" y="100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8" y="12"/>
                  </a:lnTo>
                  <a:lnTo>
                    <a:pt x="56" y="10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12771360" y="7710120"/>
              <a:ext cx="809640" cy="7369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510" h="464">
                  <a:moveTo>
                    <a:pt x="284" y="300"/>
                  </a:moveTo>
                  <a:lnTo>
                    <a:pt x="284" y="300"/>
                  </a:lnTo>
                  <a:lnTo>
                    <a:pt x="282" y="312"/>
                  </a:lnTo>
                  <a:lnTo>
                    <a:pt x="280" y="324"/>
                  </a:lnTo>
                  <a:lnTo>
                    <a:pt x="276" y="336"/>
                  </a:lnTo>
                  <a:lnTo>
                    <a:pt x="272" y="350"/>
                  </a:lnTo>
                  <a:lnTo>
                    <a:pt x="256" y="376"/>
                  </a:lnTo>
                  <a:lnTo>
                    <a:pt x="234" y="406"/>
                  </a:lnTo>
                  <a:lnTo>
                    <a:pt x="234" y="406"/>
                  </a:lnTo>
                  <a:lnTo>
                    <a:pt x="220" y="420"/>
                  </a:lnTo>
                  <a:lnTo>
                    <a:pt x="208" y="432"/>
                  </a:lnTo>
                  <a:lnTo>
                    <a:pt x="196" y="442"/>
                  </a:lnTo>
                  <a:lnTo>
                    <a:pt x="182" y="450"/>
                  </a:lnTo>
                  <a:lnTo>
                    <a:pt x="170" y="456"/>
                  </a:lnTo>
                  <a:lnTo>
                    <a:pt x="158" y="462"/>
                  </a:lnTo>
                  <a:lnTo>
                    <a:pt x="146" y="464"/>
                  </a:lnTo>
                  <a:lnTo>
                    <a:pt x="132" y="464"/>
                  </a:lnTo>
                  <a:lnTo>
                    <a:pt x="132" y="464"/>
                  </a:lnTo>
                  <a:lnTo>
                    <a:pt x="118" y="464"/>
                  </a:lnTo>
                  <a:lnTo>
                    <a:pt x="104" y="460"/>
                  </a:lnTo>
                  <a:lnTo>
                    <a:pt x="90" y="456"/>
                  </a:lnTo>
                  <a:lnTo>
                    <a:pt x="78" y="448"/>
                  </a:lnTo>
                  <a:lnTo>
                    <a:pt x="66" y="440"/>
                  </a:lnTo>
                  <a:lnTo>
                    <a:pt x="56" y="428"/>
                  </a:lnTo>
                  <a:lnTo>
                    <a:pt x="46" y="416"/>
                  </a:lnTo>
                  <a:lnTo>
                    <a:pt x="36" y="400"/>
                  </a:lnTo>
                  <a:lnTo>
                    <a:pt x="36" y="400"/>
                  </a:lnTo>
                  <a:lnTo>
                    <a:pt x="26" y="370"/>
                  </a:lnTo>
                  <a:lnTo>
                    <a:pt x="16" y="334"/>
                  </a:lnTo>
                  <a:lnTo>
                    <a:pt x="8" y="29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2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2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8" y="6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100" y="18"/>
                  </a:lnTo>
                  <a:lnTo>
                    <a:pt x="104" y="26"/>
                  </a:lnTo>
                  <a:lnTo>
                    <a:pt x="106" y="3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2" y="242"/>
                  </a:lnTo>
                  <a:lnTo>
                    <a:pt x="104" y="268"/>
                  </a:lnTo>
                  <a:lnTo>
                    <a:pt x="108" y="292"/>
                  </a:lnTo>
                  <a:lnTo>
                    <a:pt x="112" y="314"/>
                  </a:lnTo>
                  <a:lnTo>
                    <a:pt x="112" y="314"/>
                  </a:lnTo>
                  <a:lnTo>
                    <a:pt x="118" y="334"/>
                  </a:lnTo>
                  <a:lnTo>
                    <a:pt x="124" y="350"/>
                  </a:lnTo>
                  <a:lnTo>
                    <a:pt x="132" y="358"/>
                  </a:lnTo>
                  <a:lnTo>
                    <a:pt x="136" y="360"/>
                  </a:lnTo>
                  <a:lnTo>
                    <a:pt x="140" y="362"/>
                  </a:lnTo>
                  <a:lnTo>
                    <a:pt x="140" y="362"/>
                  </a:lnTo>
                  <a:lnTo>
                    <a:pt x="146" y="360"/>
                  </a:lnTo>
                  <a:lnTo>
                    <a:pt x="152" y="358"/>
                  </a:lnTo>
                  <a:lnTo>
                    <a:pt x="158" y="352"/>
                  </a:lnTo>
                  <a:lnTo>
                    <a:pt x="166" y="344"/>
                  </a:lnTo>
                  <a:lnTo>
                    <a:pt x="180" y="324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204" y="282"/>
                  </a:lnTo>
                  <a:lnTo>
                    <a:pt x="214" y="270"/>
                  </a:lnTo>
                  <a:lnTo>
                    <a:pt x="224" y="264"/>
                  </a:lnTo>
                  <a:lnTo>
                    <a:pt x="236" y="262"/>
                  </a:lnTo>
                  <a:lnTo>
                    <a:pt x="236" y="262"/>
                  </a:lnTo>
                  <a:lnTo>
                    <a:pt x="246" y="264"/>
                  </a:lnTo>
                  <a:lnTo>
                    <a:pt x="256" y="264"/>
                  </a:lnTo>
                  <a:lnTo>
                    <a:pt x="264" y="268"/>
                  </a:lnTo>
                  <a:lnTo>
                    <a:pt x="272" y="272"/>
                  </a:lnTo>
                  <a:lnTo>
                    <a:pt x="276" y="278"/>
                  </a:lnTo>
                  <a:lnTo>
                    <a:pt x="280" y="284"/>
                  </a:lnTo>
                  <a:lnTo>
                    <a:pt x="282" y="292"/>
                  </a:lnTo>
                  <a:lnTo>
                    <a:pt x="284" y="300"/>
                  </a:lnTo>
                  <a:lnTo>
                    <a:pt x="284" y="300"/>
                  </a:lnTo>
                  <a:close/>
                  <a:moveTo>
                    <a:pt x="510" y="346"/>
                  </a:moveTo>
                  <a:lnTo>
                    <a:pt x="510" y="346"/>
                  </a:lnTo>
                  <a:lnTo>
                    <a:pt x="510" y="356"/>
                  </a:lnTo>
                  <a:lnTo>
                    <a:pt x="506" y="366"/>
                  </a:lnTo>
                  <a:lnTo>
                    <a:pt x="502" y="374"/>
                  </a:lnTo>
                  <a:lnTo>
                    <a:pt x="496" y="380"/>
                  </a:lnTo>
                  <a:lnTo>
                    <a:pt x="496" y="380"/>
                  </a:lnTo>
                  <a:lnTo>
                    <a:pt x="488" y="386"/>
                  </a:lnTo>
                  <a:lnTo>
                    <a:pt x="480" y="390"/>
                  </a:lnTo>
                  <a:lnTo>
                    <a:pt x="472" y="394"/>
                  </a:lnTo>
                  <a:lnTo>
                    <a:pt x="464" y="394"/>
                  </a:lnTo>
                  <a:lnTo>
                    <a:pt x="464" y="394"/>
                  </a:lnTo>
                  <a:lnTo>
                    <a:pt x="454" y="394"/>
                  </a:lnTo>
                  <a:lnTo>
                    <a:pt x="446" y="392"/>
                  </a:lnTo>
                  <a:lnTo>
                    <a:pt x="438" y="388"/>
                  </a:lnTo>
                  <a:lnTo>
                    <a:pt x="430" y="382"/>
                  </a:lnTo>
                  <a:lnTo>
                    <a:pt x="430" y="382"/>
                  </a:lnTo>
                  <a:lnTo>
                    <a:pt x="424" y="376"/>
                  </a:lnTo>
                  <a:lnTo>
                    <a:pt x="420" y="368"/>
                  </a:lnTo>
                  <a:lnTo>
                    <a:pt x="418" y="360"/>
                  </a:lnTo>
                  <a:lnTo>
                    <a:pt x="416" y="350"/>
                  </a:lnTo>
                  <a:lnTo>
                    <a:pt x="416" y="350"/>
                  </a:lnTo>
                  <a:lnTo>
                    <a:pt x="414" y="324"/>
                  </a:lnTo>
                  <a:lnTo>
                    <a:pt x="408" y="294"/>
                  </a:lnTo>
                  <a:lnTo>
                    <a:pt x="400" y="256"/>
                  </a:lnTo>
                  <a:lnTo>
                    <a:pt x="390" y="212"/>
                  </a:lnTo>
                  <a:lnTo>
                    <a:pt x="390" y="212"/>
                  </a:lnTo>
                  <a:lnTo>
                    <a:pt x="368" y="134"/>
                  </a:lnTo>
                  <a:lnTo>
                    <a:pt x="358" y="104"/>
                  </a:lnTo>
                  <a:lnTo>
                    <a:pt x="350" y="80"/>
                  </a:lnTo>
                  <a:lnTo>
                    <a:pt x="350" y="80"/>
                  </a:lnTo>
                  <a:lnTo>
                    <a:pt x="346" y="68"/>
                  </a:lnTo>
                  <a:lnTo>
                    <a:pt x="344" y="60"/>
                  </a:lnTo>
                  <a:lnTo>
                    <a:pt x="344" y="60"/>
                  </a:lnTo>
                  <a:lnTo>
                    <a:pt x="346" y="50"/>
                  </a:lnTo>
                  <a:lnTo>
                    <a:pt x="348" y="42"/>
                  </a:lnTo>
                  <a:lnTo>
                    <a:pt x="352" y="34"/>
                  </a:lnTo>
                  <a:lnTo>
                    <a:pt x="360" y="28"/>
                  </a:lnTo>
                  <a:lnTo>
                    <a:pt x="360" y="28"/>
                  </a:lnTo>
                  <a:lnTo>
                    <a:pt x="368" y="22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94" y="14"/>
                  </a:lnTo>
                  <a:lnTo>
                    <a:pt x="394" y="14"/>
                  </a:lnTo>
                  <a:lnTo>
                    <a:pt x="408" y="16"/>
                  </a:lnTo>
                  <a:lnTo>
                    <a:pt x="418" y="22"/>
                  </a:lnTo>
                  <a:lnTo>
                    <a:pt x="428" y="30"/>
                  </a:lnTo>
                  <a:lnTo>
                    <a:pt x="436" y="42"/>
                  </a:lnTo>
                  <a:lnTo>
                    <a:pt x="436" y="42"/>
                  </a:lnTo>
                  <a:lnTo>
                    <a:pt x="446" y="70"/>
                  </a:lnTo>
                  <a:lnTo>
                    <a:pt x="458" y="106"/>
                  </a:lnTo>
                  <a:lnTo>
                    <a:pt x="470" y="146"/>
                  </a:lnTo>
                  <a:lnTo>
                    <a:pt x="482" y="192"/>
                  </a:lnTo>
                  <a:lnTo>
                    <a:pt x="482" y="192"/>
                  </a:lnTo>
                  <a:lnTo>
                    <a:pt x="492" y="240"/>
                  </a:lnTo>
                  <a:lnTo>
                    <a:pt x="502" y="282"/>
                  </a:lnTo>
                  <a:lnTo>
                    <a:pt x="506" y="316"/>
                  </a:lnTo>
                  <a:lnTo>
                    <a:pt x="510" y="346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14193720" y="7624440"/>
              <a:ext cx="653760" cy="86076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412" h="542">
                  <a:moveTo>
                    <a:pt x="412" y="290"/>
                  </a:moveTo>
                  <a:lnTo>
                    <a:pt x="412" y="290"/>
                  </a:lnTo>
                  <a:lnTo>
                    <a:pt x="410" y="326"/>
                  </a:lnTo>
                  <a:lnTo>
                    <a:pt x="406" y="360"/>
                  </a:lnTo>
                  <a:lnTo>
                    <a:pt x="398" y="390"/>
                  </a:lnTo>
                  <a:lnTo>
                    <a:pt x="388" y="418"/>
                  </a:lnTo>
                  <a:lnTo>
                    <a:pt x="374" y="442"/>
                  </a:lnTo>
                  <a:lnTo>
                    <a:pt x="358" y="464"/>
                  </a:lnTo>
                  <a:lnTo>
                    <a:pt x="340" y="482"/>
                  </a:lnTo>
                  <a:lnTo>
                    <a:pt x="318" y="498"/>
                  </a:lnTo>
                  <a:lnTo>
                    <a:pt x="318" y="498"/>
                  </a:lnTo>
                  <a:lnTo>
                    <a:pt x="298" y="508"/>
                  </a:lnTo>
                  <a:lnTo>
                    <a:pt x="278" y="516"/>
                  </a:lnTo>
                  <a:lnTo>
                    <a:pt x="258" y="524"/>
                  </a:lnTo>
                  <a:lnTo>
                    <a:pt x="236" y="530"/>
                  </a:lnTo>
                  <a:lnTo>
                    <a:pt x="236" y="530"/>
                  </a:lnTo>
                  <a:lnTo>
                    <a:pt x="214" y="536"/>
                  </a:lnTo>
                  <a:lnTo>
                    <a:pt x="192" y="540"/>
                  </a:lnTo>
                  <a:lnTo>
                    <a:pt x="172" y="542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42" y="542"/>
                  </a:lnTo>
                  <a:lnTo>
                    <a:pt x="130" y="538"/>
                  </a:lnTo>
                  <a:lnTo>
                    <a:pt x="120" y="534"/>
                  </a:lnTo>
                  <a:lnTo>
                    <a:pt x="112" y="528"/>
                  </a:lnTo>
                  <a:lnTo>
                    <a:pt x="112" y="528"/>
                  </a:lnTo>
                  <a:lnTo>
                    <a:pt x="104" y="520"/>
                  </a:lnTo>
                  <a:lnTo>
                    <a:pt x="100" y="510"/>
                  </a:lnTo>
                  <a:lnTo>
                    <a:pt x="98" y="502"/>
                  </a:lnTo>
                  <a:lnTo>
                    <a:pt x="96" y="490"/>
                  </a:lnTo>
                  <a:lnTo>
                    <a:pt x="96" y="490"/>
                  </a:lnTo>
                  <a:lnTo>
                    <a:pt x="98" y="486"/>
                  </a:lnTo>
                  <a:lnTo>
                    <a:pt x="100" y="480"/>
                  </a:lnTo>
                  <a:lnTo>
                    <a:pt x="108" y="470"/>
                  </a:lnTo>
                  <a:lnTo>
                    <a:pt x="108" y="470"/>
                  </a:lnTo>
                  <a:lnTo>
                    <a:pt x="114" y="464"/>
                  </a:lnTo>
                  <a:lnTo>
                    <a:pt x="120" y="462"/>
                  </a:lnTo>
                  <a:lnTo>
                    <a:pt x="128" y="460"/>
                  </a:lnTo>
                  <a:lnTo>
                    <a:pt x="136" y="460"/>
                  </a:lnTo>
                  <a:lnTo>
                    <a:pt x="136" y="460"/>
                  </a:lnTo>
                  <a:lnTo>
                    <a:pt x="174" y="456"/>
                  </a:lnTo>
                  <a:lnTo>
                    <a:pt x="190" y="454"/>
                  </a:lnTo>
                  <a:lnTo>
                    <a:pt x="206" y="450"/>
                  </a:lnTo>
                  <a:lnTo>
                    <a:pt x="222" y="446"/>
                  </a:lnTo>
                  <a:lnTo>
                    <a:pt x="236" y="440"/>
                  </a:lnTo>
                  <a:lnTo>
                    <a:pt x="250" y="432"/>
                  </a:lnTo>
                  <a:lnTo>
                    <a:pt x="262" y="424"/>
                  </a:lnTo>
                  <a:lnTo>
                    <a:pt x="262" y="424"/>
                  </a:lnTo>
                  <a:lnTo>
                    <a:pt x="274" y="414"/>
                  </a:lnTo>
                  <a:lnTo>
                    <a:pt x="286" y="400"/>
                  </a:lnTo>
                  <a:lnTo>
                    <a:pt x="296" y="386"/>
                  </a:lnTo>
                  <a:lnTo>
                    <a:pt x="304" y="370"/>
                  </a:lnTo>
                  <a:lnTo>
                    <a:pt x="310" y="354"/>
                  </a:lnTo>
                  <a:lnTo>
                    <a:pt x="314" y="334"/>
                  </a:lnTo>
                  <a:lnTo>
                    <a:pt x="316" y="314"/>
                  </a:lnTo>
                  <a:lnTo>
                    <a:pt x="318" y="292"/>
                  </a:lnTo>
                  <a:lnTo>
                    <a:pt x="318" y="292"/>
                  </a:lnTo>
                  <a:lnTo>
                    <a:pt x="316" y="280"/>
                  </a:lnTo>
                  <a:lnTo>
                    <a:pt x="312" y="266"/>
                  </a:lnTo>
                  <a:lnTo>
                    <a:pt x="304" y="256"/>
                  </a:lnTo>
                  <a:lnTo>
                    <a:pt x="294" y="248"/>
                  </a:lnTo>
                  <a:lnTo>
                    <a:pt x="294" y="248"/>
                  </a:lnTo>
                  <a:lnTo>
                    <a:pt x="282" y="240"/>
                  </a:lnTo>
                  <a:lnTo>
                    <a:pt x="272" y="236"/>
                  </a:lnTo>
                  <a:lnTo>
                    <a:pt x="262" y="234"/>
                  </a:lnTo>
                  <a:lnTo>
                    <a:pt x="250" y="232"/>
                  </a:lnTo>
                  <a:lnTo>
                    <a:pt x="250" y="232"/>
                  </a:lnTo>
                  <a:lnTo>
                    <a:pt x="220" y="234"/>
                  </a:lnTo>
                  <a:lnTo>
                    <a:pt x="192" y="236"/>
                  </a:lnTo>
                  <a:lnTo>
                    <a:pt x="164" y="240"/>
                  </a:lnTo>
                  <a:lnTo>
                    <a:pt x="138" y="246"/>
                  </a:lnTo>
                  <a:lnTo>
                    <a:pt x="138" y="246"/>
                  </a:lnTo>
                  <a:lnTo>
                    <a:pt x="90" y="262"/>
                  </a:lnTo>
                  <a:lnTo>
                    <a:pt x="90" y="262"/>
                  </a:lnTo>
                  <a:lnTo>
                    <a:pt x="62" y="268"/>
                  </a:lnTo>
                  <a:lnTo>
                    <a:pt x="42" y="270"/>
                  </a:lnTo>
                  <a:lnTo>
                    <a:pt x="42" y="270"/>
                  </a:lnTo>
                  <a:lnTo>
                    <a:pt x="34" y="270"/>
                  </a:lnTo>
                  <a:lnTo>
                    <a:pt x="26" y="268"/>
                  </a:lnTo>
                  <a:lnTo>
                    <a:pt x="18" y="264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6" y="254"/>
                  </a:lnTo>
                  <a:lnTo>
                    <a:pt x="2" y="246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2" y="216"/>
                  </a:lnTo>
                  <a:lnTo>
                    <a:pt x="8" y="206"/>
                  </a:lnTo>
                  <a:lnTo>
                    <a:pt x="16" y="196"/>
                  </a:lnTo>
                  <a:lnTo>
                    <a:pt x="30" y="190"/>
                  </a:lnTo>
                  <a:lnTo>
                    <a:pt x="30" y="190"/>
                  </a:lnTo>
                  <a:lnTo>
                    <a:pt x="56" y="182"/>
                  </a:lnTo>
                  <a:lnTo>
                    <a:pt x="84" y="174"/>
                  </a:lnTo>
                  <a:lnTo>
                    <a:pt x="112" y="168"/>
                  </a:lnTo>
                  <a:lnTo>
                    <a:pt x="140" y="162"/>
                  </a:lnTo>
                  <a:lnTo>
                    <a:pt x="170" y="158"/>
                  </a:lnTo>
                  <a:lnTo>
                    <a:pt x="200" y="156"/>
                  </a:lnTo>
                  <a:lnTo>
                    <a:pt x="264" y="154"/>
                  </a:lnTo>
                  <a:lnTo>
                    <a:pt x="264" y="154"/>
                  </a:lnTo>
                  <a:lnTo>
                    <a:pt x="294" y="156"/>
                  </a:lnTo>
                  <a:lnTo>
                    <a:pt x="308" y="158"/>
                  </a:lnTo>
                  <a:lnTo>
                    <a:pt x="322" y="162"/>
                  </a:lnTo>
                  <a:lnTo>
                    <a:pt x="336" y="166"/>
                  </a:lnTo>
                  <a:lnTo>
                    <a:pt x="348" y="172"/>
                  </a:lnTo>
                  <a:lnTo>
                    <a:pt x="358" y="180"/>
                  </a:lnTo>
                  <a:lnTo>
                    <a:pt x="370" y="188"/>
                  </a:lnTo>
                  <a:lnTo>
                    <a:pt x="370" y="188"/>
                  </a:lnTo>
                  <a:lnTo>
                    <a:pt x="380" y="198"/>
                  </a:lnTo>
                  <a:lnTo>
                    <a:pt x="388" y="208"/>
                  </a:lnTo>
                  <a:lnTo>
                    <a:pt x="394" y="220"/>
                  </a:lnTo>
                  <a:lnTo>
                    <a:pt x="400" y="232"/>
                  </a:lnTo>
                  <a:lnTo>
                    <a:pt x="406" y="246"/>
                  </a:lnTo>
                  <a:lnTo>
                    <a:pt x="408" y="260"/>
                  </a:lnTo>
                  <a:lnTo>
                    <a:pt x="410" y="274"/>
                  </a:lnTo>
                  <a:lnTo>
                    <a:pt x="412" y="290"/>
                  </a:lnTo>
                  <a:lnTo>
                    <a:pt x="412" y="290"/>
                  </a:lnTo>
                  <a:close/>
                  <a:moveTo>
                    <a:pt x="342" y="62"/>
                  </a:moveTo>
                  <a:lnTo>
                    <a:pt x="342" y="62"/>
                  </a:lnTo>
                  <a:lnTo>
                    <a:pt x="342" y="70"/>
                  </a:lnTo>
                  <a:lnTo>
                    <a:pt x="340" y="78"/>
                  </a:lnTo>
                  <a:lnTo>
                    <a:pt x="334" y="86"/>
                  </a:lnTo>
                  <a:lnTo>
                    <a:pt x="328" y="94"/>
                  </a:lnTo>
                  <a:lnTo>
                    <a:pt x="328" y="94"/>
                  </a:lnTo>
                  <a:lnTo>
                    <a:pt x="322" y="100"/>
                  </a:lnTo>
                  <a:lnTo>
                    <a:pt x="312" y="104"/>
                  </a:lnTo>
                  <a:lnTo>
                    <a:pt x="304" y="106"/>
                  </a:lnTo>
                  <a:lnTo>
                    <a:pt x="292" y="108"/>
                  </a:lnTo>
                  <a:lnTo>
                    <a:pt x="292" y="108"/>
                  </a:lnTo>
                  <a:lnTo>
                    <a:pt x="260" y="104"/>
                  </a:lnTo>
                  <a:lnTo>
                    <a:pt x="260" y="104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46" y="90"/>
                  </a:lnTo>
                  <a:lnTo>
                    <a:pt x="128" y="86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02" y="74"/>
                  </a:lnTo>
                  <a:lnTo>
                    <a:pt x="92" y="66"/>
                  </a:lnTo>
                  <a:lnTo>
                    <a:pt x="86" y="5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6" y="3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104" y="8"/>
                  </a:lnTo>
                  <a:lnTo>
                    <a:pt x="112" y="2"/>
                  </a:lnTo>
                  <a:lnTo>
                    <a:pt x="12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60" y="2"/>
                  </a:lnTo>
                  <a:lnTo>
                    <a:pt x="218" y="10"/>
                  </a:lnTo>
                  <a:lnTo>
                    <a:pt x="270" y="18"/>
                  </a:lnTo>
                  <a:lnTo>
                    <a:pt x="270" y="18"/>
                  </a:lnTo>
                  <a:lnTo>
                    <a:pt x="304" y="22"/>
                  </a:lnTo>
                  <a:lnTo>
                    <a:pt x="304" y="22"/>
                  </a:lnTo>
                  <a:lnTo>
                    <a:pt x="312" y="22"/>
                  </a:lnTo>
                  <a:lnTo>
                    <a:pt x="318" y="26"/>
                  </a:lnTo>
                  <a:lnTo>
                    <a:pt x="324" y="30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40" y="48"/>
                  </a:lnTo>
                  <a:lnTo>
                    <a:pt x="342" y="56"/>
                  </a:lnTo>
                  <a:lnTo>
                    <a:pt x="342" y="62"/>
                  </a:lnTo>
                  <a:lnTo>
                    <a:pt x="342" y="62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15105240" y="7545240"/>
              <a:ext cx="923760" cy="8956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895680"/>
                <a:gd name="textAreaBottom" fmla="*/ 896040 h 895680"/>
              </a:gdLst>
              <a:ahLst/>
              <a:rect l="textAreaLeft" t="textAreaTop" r="textAreaRight" b="textAreaBottom"/>
              <a:pathLst>
                <a:path w="582" h="564">
                  <a:moveTo>
                    <a:pt x="366" y="310"/>
                  </a:moveTo>
                  <a:lnTo>
                    <a:pt x="366" y="310"/>
                  </a:lnTo>
                  <a:lnTo>
                    <a:pt x="364" y="370"/>
                  </a:lnTo>
                  <a:lnTo>
                    <a:pt x="360" y="422"/>
                  </a:lnTo>
                  <a:lnTo>
                    <a:pt x="354" y="444"/>
                  </a:lnTo>
                  <a:lnTo>
                    <a:pt x="350" y="466"/>
                  </a:lnTo>
                  <a:lnTo>
                    <a:pt x="344" y="484"/>
                  </a:lnTo>
                  <a:lnTo>
                    <a:pt x="336" y="502"/>
                  </a:lnTo>
                  <a:lnTo>
                    <a:pt x="328" y="516"/>
                  </a:lnTo>
                  <a:lnTo>
                    <a:pt x="320" y="530"/>
                  </a:lnTo>
                  <a:lnTo>
                    <a:pt x="310" y="540"/>
                  </a:lnTo>
                  <a:lnTo>
                    <a:pt x="300" y="550"/>
                  </a:lnTo>
                  <a:lnTo>
                    <a:pt x="288" y="556"/>
                  </a:lnTo>
                  <a:lnTo>
                    <a:pt x="274" y="560"/>
                  </a:lnTo>
                  <a:lnTo>
                    <a:pt x="262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28" y="564"/>
                  </a:lnTo>
                  <a:lnTo>
                    <a:pt x="210" y="560"/>
                  </a:lnTo>
                  <a:lnTo>
                    <a:pt x="192" y="556"/>
                  </a:lnTo>
                  <a:lnTo>
                    <a:pt x="174" y="548"/>
                  </a:lnTo>
                  <a:lnTo>
                    <a:pt x="174" y="548"/>
                  </a:lnTo>
                  <a:lnTo>
                    <a:pt x="156" y="538"/>
                  </a:lnTo>
                  <a:lnTo>
                    <a:pt x="144" y="526"/>
                  </a:lnTo>
                  <a:lnTo>
                    <a:pt x="140" y="520"/>
                  </a:lnTo>
                  <a:lnTo>
                    <a:pt x="136" y="512"/>
                  </a:lnTo>
                  <a:lnTo>
                    <a:pt x="134" y="504"/>
                  </a:lnTo>
                  <a:lnTo>
                    <a:pt x="134" y="496"/>
                  </a:lnTo>
                  <a:lnTo>
                    <a:pt x="134" y="496"/>
                  </a:lnTo>
                  <a:lnTo>
                    <a:pt x="134" y="488"/>
                  </a:lnTo>
                  <a:lnTo>
                    <a:pt x="136" y="480"/>
                  </a:lnTo>
                  <a:lnTo>
                    <a:pt x="140" y="474"/>
                  </a:lnTo>
                  <a:lnTo>
                    <a:pt x="144" y="468"/>
                  </a:lnTo>
                  <a:lnTo>
                    <a:pt x="148" y="464"/>
                  </a:lnTo>
                  <a:lnTo>
                    <a:pt x="154" y="462"/>
                  </a:lnTo>
                  <a:lnTo>
                    <a:pt x="162" y="460"/>
                  </a:lnTo>
                  <a:lnTo>
                    <a:pt x="170" y="458"/>
                  </a:lnTo>
                  <a:lnTo>
                    <a:pt x="170" y="458"/>
                  </a:lnTo>
                  <a:lnTo>
                    <a:pt x="184" y="460"/>
                  </a:lnTo>
                  <a:lnTo>
                    <a:pt x="200" y="466"/>
                  </a:lnTo>
                  <a:lnTo>
                    <a:pt x="200" y="466"/>
                  </a:lnTo>
                  <a:lnTo>
                    <a:pt x="218" y="470"/>
                  </a:lnTo>
                  <a:lnTo>
                    <a:pt x="230" y="472"/>
                  </a:lnTo>
                  <a:lnTo>
                    <a:pt x="230" y="472"/>
                  </a:lnTo>
                  <a:lnTo>
                    <a:pt x="236" y="472"/>
                  </a:lnTo>
                  <a:lnTo>
                    <a:pt x="244" y="468"/>
                  </a:lnTo>
                  <a:lnTo>
                    <a:pt x="250" y="464"/>
                  </a:lnTo>
                  <a:lnTo>
                    <a:pt x="254" y="456"/>
                  </a:lnTo>
                  <a:lnTo>
                    <a:pt x="260" y="446"/>
                  </a:lnTo>
                  <a:lnTo>
                    <a:pt x="264" y="434"/>
                  </a:lnTo>
                  <a:lnTo>
                    <a:pt x="270" y="404"/>
                  </a:lnTo>
                  <a:lnTo>
                    <a:pt x="270" y="404"/>
                  </a:lnTo>
                  <a:lnTo>
                    <a:pt x="272" y="366"/>
                  </a:lnTo>
                  <a:lnTo>
                    <a:pt x="274" y="306"/>
                  </a:lnTo>
                  <a:lnTo>
                    <a:pt x="274" y="306"/>
                  </a:lnTo>
                  <a:lnTo>
                    <a:pt x="272" y="294"/>
                  </a:lnTo>
                  <a:lnTo>
                    <a:pt x="270" y="282"/>
                  </a:lnTo>
                  <a:lnTo>
                    <a:pt x="266" y="272"/>
                  </a:lnTo>
                  <a:lnTo>
                    <a:pt x="260" y="264"/>
                  </a:lnTo>
                  <a:lnTo>
                    <a:pt x="254" y="258"/>
                  </a:lnTo>
                  <a:lnTo>
                    <a:pt x="246" y="254"/>
                  </a:lnTo>
                  <a:lnTo>
                    <a:pt x="236" y="252"/>
                  </a:lnTo>
                  <a:lnTo>
                    <a:pt x="224" y="250"/>
                  </a:lnTo>
                  <a:lnTo>
                    <a:pt x="224" y="250"/>
                  </a:lnTo>
                  <a:lnTo>
                    <a:pt x="196" y="252"/>
                  </a:lnTo>
                  <a:lnTo>
                    <a:pt x="196" y="252"/>
                  </a:lnTo>
                  <a:lnTo>
                    <a:pt x="174" y="328"/>
                  </a:lnTo>
                  <a:lnTo>
                    <a:pt x="148" y="400"/>
                  </a:lnTo>
                  <a:lnTo>
                    <a:pt x="120" y="464"/>
                  </a:lnTo>
                  <a:lnTo>
                    <a:pt x="92" y="522"/>
                  </a:lnTo>
                  <a:lnTo>
                    <a:pt x="92" y="522"/>
                  </a:lnTo>
                  <a:lnTo>
                    <a:pt x="80" y="538"/>
                  </a:lnTo>
                  <a:lnTo>
                    <a:pt x="70" y="550"/>
                  </a:lnTo>
                  <a:lnTo>
                    <a:pt x="60" y="556"/>
                  </a:lnTo>
                  <a:lnTo>
                    <a:pt x="50" y="560"/>
                  </a:lnTo>
                  <a:lnTo>
                    <a:pt x="50" y="560"/>
                  </a:lnTo>
                  <a:lnTo>
                    <a:pt x="40" y="558"/>
                  </a:lnTo>
                  <a:lnTo>
                    <a:pt x="32" y="556"/>
                  </a:lnTo>
                  <a:lnTo>
                    <a:pt x="24" y="552"/>
                  </a:lnTo>
                  <a:lnTo>
                    <a:pt x="16" y="548"/>
                  </a:lnTo>
                  <a:lnTo>
                    <a:pt x="16" y="548"/>
                  </a:lnTo>
                  <a:lnTo>
                    <a:pt x="10" y="542"/>
                  </a:lnTo>
                  <a:lnTo>
                    <a:pt x="6" y="536"/>
                  </a:lnTo>
                  <a:lnTo>
                    <a:pt x="4" y="528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6" y="502"/>
                  </a:lnTo>
                  <a:lnTo>
                    <a:pt x="12" y="486"/>
                  </a:lnTo>
                  <a:lnTo>
                    <a:pt x="12" y="486"/>
                  </a:lnTo>
                  <a:lnTo>
                    <a:pt x="36" y="438"/>
                  </a:lnTo>
                  <a:lnTo>
                    <a:pt x="60" y="384"/>
                  </a:lnTo>
                  <a:lnTo>
                    <a:pt x="82" y="326"/>
                  </a:lnTo>
                  <a:lnTo>
                    <a:pt x="104" y="264"/>
                  </a:lnTo>
                  <a:lnTo>
                    <a:pt x="104" y="264"/>
                  </a:lnTo>
                  <a:lnTo>
                    <a:pt x="64" y="270"/>
                  </a:lnTo>
                  <a:lnTo>
                    <a:pt x="40" y="272"/>
                  </a:lnTo>
                  <a:lnTo>
                    <a:pt x="40" y="272"/>
                  </a:lnTo>
                  <a:lnTo>
                    <a:pt x="28" y="272"/>
                  </a:lnTo>
                  <a:lnTo>
                    <a:pt x="20" y="268"/>
                  </a:lnTo>
                  <a:lnTo>
                    <a:pt x="20" y="268"/>
                  </a:lnTo>
                  <a:lnTo>
                    <a:pt x="10" y="262"/>
                  </a:lnTo>
                  <a:lnTo>
                    <a:pt x="4" y="252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16"/>
                  </a:lnTo>
                  <a:lnTo>
                    <a:pt x="2" y="210"/>
                  </a:lnTo>
                  <a:lnTo>
                    <a:pt x="6" y="204"/>
                  </a:lnTo>
                  <a:lnTo>
                    <a:pt x="10" y="198"/>
                  </a:lnTo>
                  <a:lnTo>
                    <a:pt x="16" y="194"/>
                  </a:lnTo>
                  <a:lnTo>
                    <a:pt x="22" y="190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122" y="176"/>
                  </a:lnTo>
                  <a:lnTo>
                    <a:pt x="122" y="176"/>
                  </a:lnTo>
                  <a:lnTo>
                    <a:pt x="134" y="128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88"/>
                  </a:lnTo>
                  <a:lnTo>
                    <a:pt x="144" y="80"/>
                  </a:lnTo>
                  <a:lnTo>
                    <a:pt x="150" y="72"/>
                  </a:lnTo>
                  <a:lnTo>
                    <a:pt x="154" y="64"/>
                  </a:lnTo>
                  <a:lnTo>
                    <a:pt x="162" y="60"/>
                  </a:lnTo>
                  <a:lnTo>
                    <a:pt x="170" y="56"/>
                  </a:lnTo>
                  <a:lnTo>
                    <a:pt x="178" y="54"/>
                  </a:lnTo>
                  <a:lnTo>
                    <a:pt x="190" y="52"/>
                  </a:lnTo>
                  <a:lnTo>
                    <a:pt x="190" y="52"/>
                  </a:lnTo>
                  <a:lnTo>
                    <a:pt x="198" y="54"/>
                  </a:lnTo>
                  <a:lnTo>
                    <a:pt x="206" y="56"/>
                  </a:lnTo>
                  <a:lnTo>
                    <a:pt x="212" y="60"/>
                  </a:lnTo>
                  <a:lnTo>
                    <a:pt x="220" y="64"/>
                  </a:lnTo>
                  <a:lnTo>
                    <a:pt x="220" y="64"/>
                  </a:lnTo>
                  <a:lnTo>
                    <a:pt x="226" y="70"/>
                  </a:lnTo>
                  <a:lnTo>
                    <a:pt x="228" y="76"/>
                  </a:lnTo>
                  <a:lnTo>
                    <a:pt x="232" y="84"/>
                  </a:lnTo>
                  <a:lnTo>
                    <a:pt x="232" y="92"/>
                  </a:lnTo>
                  <a:lnTo>
                    <a:pt x="232" y="92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18" y="168"/>
                  </a:lnTo>
                  <a:lnTo>
                    <a:pt x="252" y="166"/>
                  </a:lnTo>
                  <a:lnTo>
                    <a:pt x="252" y="166"/>
                  </a:lnTo>
                  <a:lnTo>
                    <a:pt x="266" y="164"/>
                  </a:lnTo>
                  <a:lnTo>
                    <a:pt x="266" y="164"/>
                  </a:lnTo>
                  <a:lnTo>
                    <a:pt x="286" y="166"/>
                  </a:lnTo>
                  <a:lnTo>
                    <a:pt x="302" y="172"/>
                  </a:lnTo>
                  <a:lnTo>
                    <a:pt x="318" y="180"/>
                  </a:lnTo>
                  <a:lnTo>
                    <a:pt x="332" y="192"/>
                  </a:lnTo>
                  <a:lnTo>
                    <a:pt x="332" y="192"/>
                  </a:lnTo>
                  <a:lnTo>
                    <a:pt x="340" y="202"/>
                  </a:lnTo>
                  <a:lnTo>
                    <a:pt x="346" y="214"/>
                  </a:lnTo>
                  <a:lnTo>
                    <a:pt x="352" y="226"/>
                  </a:lnTo>
                  <a:lnTo>
                    <a:pt x="358" y="240"/>
                  </a:lnTo>
                  <a:lnTo>
                    <a:pt x="362" y="256"/>
                  </a:lnTo>
                  <a:lnTo>
                    <a:pt x="364" y="272"/>
                  </a:lnTo>
                  <a:lnTo>
                    <a:pt x="366" y="310"/>
                  </a:lnTo>
                  <a:lnTo>
                    <a:pt x="366" y="310"/>
                  </a:lnTo>
                  <a:close/>
                  <a:moveTo>
                    <a:pt x="522" y="354"/>
                  </a:moveTo>
                  <a:lnTo>
                    <a:pt x="522" y="354"/>
                  </a:lnTo>
                  <a:lnTo>
                    <a:pt x="520" y="364"/>
                  </a:lnTo>
                  <a:lnTo>
                    <a:pt x="518" y="372"/>
                  </a:lnTo>
                  <a:lnTo>
                    <a:pt x="514" y="380"/>
                  </a:lnTo>
                  <a:lnTo>
                    <a:pt x="508" y="386"/>
                  </a:lnTo>
                  <a:lnTo>
                    <a:pt x="508" y="386"/>
                  </a:lnTo>
                  <a:lnTo>
                    <a:pt x="500" y="392"/>
                  </a:lnTo>
                  <a:lnTo>
                    <a:pt x="492" y="396"/>
                  </a:lnTo>
                  <a:lnTo>
                    <a:pt x="482" y="398"/>
                  </a:lnTo>
                  <a:lnTo>
                    <a:pt x="472" y="398"/>
                  </a:lnTo>
                  <a:lnTo>
                    <a:pt x="472" y="398"/>
                  </a:lnTo>
                  <a:lnTo>
                    <a:pt x="460" y="396"/>
                  </a:lnTo>
                  <a:lnTo>
                    <a:pt x="450" y="392"/>
                  </a:lnTo>
                  <a:lnTo>
                    <a:pt x="442" y="384"/>
                  </a:lnTo>
                  <a:lnTo>
                    <a:pt x="436" y="372"/>
                  </a:lnTo>
                  <a:lnTo>
                    <a:pt x="436" y="372"/>
                  </a:lnTo>
                  <a:lnTo>
                    <a:pt x="422" y="334"/>
                  </a:lnTo>
                  <a:lnTo>
                    <a:pt x="404" y="278"/>
                  </a:lnTo>
                  <a:lnTo>
                    <a:pt x="404" y="278"/>
                  </a:lnTo>
                  <a:lnTo>
                    <a:pt x="390" y="228"/>
                  </a:lnTo>
                  <a:lnTo>
                    <a:pt x="380" y="200"/>
                  </a:lnTo>
                  <a:lnTo>
                    <a:pt x="380" y="200"/>
                  </a:lnTo>
                  <a:lnTo>
                    <a:pt x="368" y="168"/>
                  </a:lnTo>
                  <a:lnTo>
                    <a:pt x="368" y="168"/>
                  </a:lnTo>
                  <a:lnTo>
                    <a:pt x="362" y="150"/>
                  </a:lnTo>
                  <a:lnTo>
                    <a:pt x="358" y="136"/>
                  </a:lnTo>
                  <a:lnTo>
                    <a:pt x="358" y="136"/>
                  </a:lnTo>
                  <a:lnTo>
                    <a:pt x="360" y="130"/>
                  </a:lnTo>
                  <a:lnTo>
                    <a:pt x="362" y="124"/>
                  </a:lnTo>
                  <a:lnTo>
                    <a:pt x="368" y="118"/>
                  </a:lnTo>
                  <a:lnTo>
                    <a:pt x="374" y="114"/>
                  </a:lnTo>
                  <a:lnTo>
                    <a:pt x="374" y="114"/>
                  </a:lnTo>
                  <a:lnTo>
                    <a:pt x="382" y="108"/>
                  </a:lnTo>
                  <a:lnTo>
                    <a:pt x="390" y="106"/>
                  </a:lnTo>
                  <a:lnTo>
                    <a:pt x="400" y="104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18" y="104"/>
                  </a:lnTo>
                  <a:lnTo>
                    <a:pt x="426" y="108"/>
                  </a:lnTo>
                  <a:lnTo>
                    <a:pt x="434" y="112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50" y="136"/>
                  </a:lnTo>
                  <a:lnTo>
                    <a:pt x="460" y="156"/>
                  </a:lnTo>
                  <a:lnTo>
                    <a:pt x="480" y="204"/>
                  </a:lnTo>
                  <a:lnTo>
                    <a:pt x="500" y="266"/>
                  </a:lnTo>
                  <a:lnTo>
                    <a:pt x="520" y="342"/>
                  </a:lnTo>
                  <a:lnTo>
                    <a:pt x="520" y="342"/>
                  </a:lnTo>
                  <a:lnTo>
                    <a:pt x="522" y="354"/>
                  </a:lnTo>
                  <a:lnTo>
                    <a:pt x="522" y="354"/>
                  </a:lnTo>
                  <a:close/>
                  <a:moveTo>
                    <a:pt x="500" y="96"/>
                  </a:moveTo>
                  <a:lnTo>
                    <a:pt x="500" y="96"/>
                  </a:lnTo>
                  <a:lnTo>
                    <a:pt x="498" y="106"/>
                  </a:lnTo>
                  <a:lnTo>
                    <a:pt x="492" y="112"/>
                  </a:lnTo>
                  <a:lnTo>
                    <a:pt x="492" y="112"/>
                  </a:lnTo>
                  <a:lnTo>
                    <a:pt x="484" y="118"/>
                  </a:lnTo>
                  <a:lnTo>
                    <a:pt x="474" y="120"/>
                  </a:lnTo>
                  <a:lnTo>
                    <a:pt x="474" y="120"/>
                  </a:lnTo>
                  <a:lnTo>
                    <a:pt x="466" y="118"/>
                  </a:lnTo>
                  <a:lnTo>
                    <a:pt x="460" y="116"/>
                  </a:lnTo>
                  <a:lnTo>
                    <a:pt x="454" y="112"/>
                  </a:lnTo>
                  <a:lnTo>
                    <a:pt x="450" y="106"/>
                  </a:lnTo>
                  <a:lnTo>
                    <a:pt x="450" y="106"/>
                  </a:lnTo>
                  <a:lnTo>
                    <a:pt x="422" y="62"/>
                  </a:lnTo>
                  <a:lnTo>
                    <a:pt x="422" y="62"/>
                  </a:lnTo>
                  <a:lnTo>
                    <a:pt x="414" y="46"/>
                  </a:lnTo>
                  <a:lnTo>
                    <a:pt x="412" y="34"/>
                  </a:lnTo>
                  <a:lnTo>
                    <a:pt x="412" y="34"/>
                  </a:lnTo>
                  <a:lnTo>
                    <a:pt x="412" y="24"/>
                  </a:lnTo>
                  <a:lnTo>
                    <a:pt x="418" y="16"/>
                  </a:lnTo>
                  <a:lnTo>
                    <a:pt x="426" y="12"/>
                  </a:lnTo>
                  <a:lnTo>
                    <a:pt x="440" y="10"/>
                  </a:lnTo>
                  <a:lnTo>
                    <a:pt x="440" y="10"/>
                  </a:lnTo>
                  <a:lnTo>
                    <a:pt x="446" y="12"/>
                  </a:lnTo>
                  <a:lnTo>
                    <a:pt x="452" y="14"/>
                  </a:lnTo>
                  <a:lnTo>
                    <a:pt x="458" y="18"/>
                  </a:lnTo>
                  <a:lnTo>
                    <a:pt x="464" y="24"/>
                  </a:lnTo>
                  <a:lnTo>
                    <a:pt x="464" y="24"/>
                  </a:lnTo>
                  <a:lnTo>
                    <a:pt x="482" y="48"/>
                  </a:lnTo>
                  <a:lnTo>
                    <a:pt x="496" y="74"/>
                  </a:lnTo>
                  <a:lnTo>
                    <a:pt x="496" y="74"/>
                  </a:lnTo>
                  <a:lnTo>
                    <a:pt x="498" y="84"/>
                  </a:lnTo>
                  <a:lnTo>
                    <a:pt x="500" y="96"/>
                  </a:lnTo>
                  <a:lnTo>
                    <a:pt x="500" y="96"/>
                  </a:lnTo>
                  <a:close/>
                  <a:moveTo>
                    <a:pt x="582" y="88"/>
                  </a:moveTo>
                  <a:lnTo>
                    <a:pt x="582" y="88"/>
                  </a:lnTo>
                  <a:lnTo>
                    <a:pt x="580" y="98"/>
                  </a:lnTo>
                  <a:lnTo>
                    <a:pt x="576" y="104"/>
                  </a:lnTo>
                  <a:lnTo>
                    <a:pt x="568" y="108"/>
                  </a:lnTo>
                  <a:lnTo>
                    <a:pt x="556" y="110"/>
                  </a:lnTo>
                  <a:lnTo>
                    <a:pt x="556" y="110"/>
                  </a:lnTo>
                  <a:lnTo>
                    <a:pt x="550" y="110"/>
                  </a:lnTo>
                  <a:lnTo>
                    <a:pt x="542" y="106"/>
                  </a:lnTo>
                  <a:lnTo>
                    <a:pt x="538" y="102"/>
                  </a:lnTo>
                  <a:lnTo>
                    <a:pt x="532" y="96"/>
                  </a:lnTo>
                  <a:lnTo>
                    <a:pt x="532" y="96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496" y="36"/>
                  </a:lnTo>
                  <a:lnTo>
                    <a:pt x="494" y="30"/>
                  </a:lnTo>
                  <a:lnTo>
                    <a:pt x="492" y="24"/>
                  </a:lnTo>
                  <a:lnTo>
                    <a:pt x="492" y="24"/>
                  </a:lnTo>
                  <a:lnTo>
                    <a:pt x="494" y="14"/>
                  </a:lnTo>
                  <a:lnTo>
                    <a:pt x="500" y="6"/>
                  </a:lnTo>
                  <a:lnTo>
                    <a:pt x="508" y="2"/>
                  </a:lnTo>
                  <a:lnTo>
                    <a:pt x="522" y="0"/>
                  </a:lnTo>
                  <a:lnTo>
                    <a:pt x="522" y="0"/>
                  </a:lnTo>
                  <a:lnTo>
                    <a:pt x="528" y="2"/>
                  </a:lnTo>
                  <a:lnTo>
                    <a:pt x="534" y="4"/>
                  </a:lnTo>
                  <a:lnTo>
                    <a:pt x="540" y="8"/>
                  </a:lnTo>
                  <a:lnTo>
                    <a:pt x="546" y="14"/>
                  </a:lnTo>
                  <a:lnTo>
                    <a:pt x="546" y="14"/>
                  </a:lnTo>
                  <a:lnTo>
                    <a:pt x="564" y="38"/>
                  </a:lnTo>
                  <a:lnTo>
                    <a:pt x="578" y="64"/>
                  </a:lnTo>
                  <a:lnTo>
                    <a:pt x="578" y="64"/>
                  </a:lnTo>
                  <a:lnTo>
                    <a:pt x="582" y="74"/>
                  </a:lnTo>
                  <a:lnTo>
                    <a:pt x="582" y="88"/>
                  </a:lnTo>
                  <a:lnTo>
                    <a:pt x="582" y="8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16137000" y="7710120"/>
              <a:ext cx="811080" cy="73692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511" h="464">
                  <a:moveTo>
                    <a:pt x="285" y="300"/>
                  </a:moveTo>
                  <a:lnTo>
                    <a:pt x="285" y="300"/>
                  </a:lnTo>
                  <a:lnTo>
                    <a:pt x="285" y="312"/>
                  </a:lnTo>
                  <a:lnTo>
                    <a:pt x="281" y="324"/>
                  </a:lnTo>
                  <a:lnTo>
                    <a:pt x="277" y="336"/>
                  </a:lnTo>
                  <a:lnTo>
                    <a:pt x="273" y="350"/>
                  </a:lnTo>
                  <a:lnTo>
                    <a:pt x="257" y="376"/>
                  </a:lnTo>
                  <a:lnTo>
                    <a:pt x="235" y="406"/>
                  </a:lnTo>
                  <a:lnTo>
                    <a:pt x="235" y="406"/>
                  </a:lnTo>
                  <a:lnTo>
                    <a:pt x="223" y="420"/>
                  </a:lnTo>
                  <a:lnTo>
                    <a:pt x="209" y="432"/>
                  </a:lnTo>
                  <a:lnTo>
                    <a:pt x="197" y="442"/>
                  </a:lnTo>
                  <a:lnTo>
                    <a:pt x="183" y="450"/>
                  </a:lnTo>
                  <a:lnTo>
                    <a:pt x="171" y="456"/>
                  </a:lnTo>
                  <a:lnTo>
                    <a:pt x="159" y="462"/>
                  </a:lnTo>
                  <a:lnTo>
                    <a:pt x="147" y="464"/>
                  </a:lnTo>
                  <a:lnTo>
                    <a:pt x="135" y="464"/>
                  </a:lnTo>
                  <a:lnTo>
                    <a:pt x="135" y="464"/>
                  </a:lnTo>
                  <a:lnTo>
                    <a:pt x="119" y="464"/>
                  </a:lnTo>
                  <a:lnTo>
                    <a:pt x="105" y="460"/>
                  </a:lnTo>
                  <a:lnTo>
                    <a:pt x="91" y="456"/>
                  </a:lnTo>
                  <a:lnTo>
                    <a:pt x="79" y="448"/>
                  </a:lnTo>
                  <a:lnTo>
                    <a:pt x="67" y="440"/>
                  </a:lnTo>
                  <a:lnTo>
                    <a:pt x="57" y="428"/>
                  </a:lnTo>
                  <a:lnTo>
                    <a:pt x="47" y="416"/>
                  </a:lnTo>
                  <a:lnTo>
                    <a:pt x="38" y="400"/>
                  </a:lnTo>
                  <a:lnTo>
                    <a:pt x="38" y="400"/>
                  </a:lnTo>
                  <a:lnTo>
                    <a:pt x="26" y="370"/>
                  </a:lnTo>
                  <a:lnTo>
                    <a:pt x="16" y="334"/>
                  </a:lnTo>
                  <a:lnTo>
                    <a:pt x="8" y="290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2" y="20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0" y="34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2" y="6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9" y="6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101" y="18"/>
                  </a:lnTo>
                  <a:lnTo>
                    <a:pt x="105" y="26"/>
                  </a:lnTo>
                  <a:lnTo>
                    <a:pt x="107" y="34"/>
                  </a:lnTo>
                  <a:lnTo>
                    <a:pt x="107" y="44"/>
                  </a:lnTo>
                  <a:lnTo>
                    <a:pt x="107" y="44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3" y="212"/>
                  </a:lnTo>
                  <a:lnTo>
                    <a:pt x="103" y="212"/>
                  </a:lnTo>
                  <a:lnTo>
                    <a:pt x="105" y="242"/>
                  </a:lnTo>
                  <a:lnTo>
                    <a:pt x="107" y="268"/>
                  </a:lnTo>
                  <a:lnTo>
                    <a:pt x="109" y="292"/>
                  </a:lnTo>
                  <a:lnTo>
                    <a:pt x="113" y="314"/>
                  </a:lnTo>
                  <a:lnTo>
                    <a:pt x="113" y="314"/>
                  </a:lnTo>
                  <a:lnTo>
                    <a:pt x="119" y="334"/>
                  </a:lnTo>
                  <a:lnTo>
                    <a:pt x="125" y="350"/>
                  </a:lnTo>
                  <a:lnTo>
                    <a:pt x="133" y="358"/>
                  </a:lnTo>
                  <a:lnTo>
                    <a:pt x="137" y="360"/>
                  </a:lnTo>
                  <a:lnTo>
                    <a:pt x="141" y="362"/>
                  </a:lnTo>
                  <a:lnTo>
                    <a:pt x="141" y="362"/>
                  </a:lnTo>
                  <a:lnTo>
                    <a:pt x="147" y="360"/>
                  </a:lnTo>
                  <a:lnTo>
                    <a:pt x="153" y="358"/>
                  </a:lnTo>
                  <a:lnTo>
                    <a:pt x="161" y="352"/>
                  </a:lnTo>
                  <a:lnTo>
                    <a:pt x="167" y="344"/>
                  </a:lnTo>
                  <a:lnTo>
                    <a:pt x="181" y="324"/>
                  </a:lnTo>
                  <a:lnTo>
                    <a:pt x="197" y="296"/>
                  </a:lnTo>
                  <a:lnTo>
                    <a:pt x="197" y="296"/>
                  </a:lnTo>
                  <a:lnTo>
                    <a:pt x="205" y="282"/>
                  </a:lnTo>
                  <a:lnTo>
                    <a:pt x="215" y="270"/>
                  </a:lnTo>
                  <a:lnTo>
                    <a:pt x="225" y="264"/>
                  </a:lnTo>
                  <a:lnTo>
                    <a:pt x="237" y="262"/>
                  </a:lnTo>
                  <a:lnTo>
                    <a:pt x="237" y="262"/>
                  </a:lnTo>
                  <a:lnTo>
                    <a:pt x="247" y="264"/>
                  </a:lnTo>
                  <a:lnTo>
                    <a:pt x="257" y="264"/>
                  </a:lnTo>
                  <a:lnTo>
                    <a:pt x="267" y="268"/>
                  </a:lnTo>
                  <a:lnTo>
                    <a:pt x="273" y="272"/>
                  </a:lnTo>
                  <a:lnTo>
                    <a:pt x="279" y="278"/>
                  </a:lnTo>
                  <a:lnTo>
                    <a:pt x="281" y="284"/>
                  </a:lnTo>
                  <a:lnTo>
                    <a:pt x="285" y="292"/>
                  </a:lnTo>
                  <a:lnTo>
                    <a:pt x="285" y="300"/>
                  </a:lnTo>
                  <a:lnTo>
                    <a:pt x="285" y="300"/>
                  </a:lnTo>
                  <a:close/>
                  <a:moveTo>
                    <a:pt x="511" y="346"/>
                  </a:moveTo>
                  <a:lnTo>
                    <a:pt x="511" y="346"/>
                  </a:lnTo>
                  <a:lnTo>
                    <a:pt x="511" y="356"/>
                  </a:lnTo>
                  <a:lnTo>
                    <a:pt x="509" y="366"/>
                  </a:lnTo>
                  <a:lnTo>
                    <a:pt x="503" y="374"/>
                  </a:lnTo>
                  <a:lnTo>
                    <a:pt x="497" y="380"/>
                  </a:lnTo>
                  <a:lnTo>
                    <a:pt x="497" y="380"/>
                  </a:lnTo>
                  <a:lnTo>
                    <a:pt x="491" y="386"/>
                  </a:lnTo>
                  <a:lnTo>
                    <a:pt x="483" y="390"/>
                  </a:lnTo>
                  <a:lnTo>
                    <a:pt x="473" y="394"/>
                  </a:lnTo>
                  <a:lnTo>
                    <a:pt x="465" y="394"/>
                  </a:lnTo>
                  <a:lnTo>
                    <a:pt x="465" y="394"/>
                  </a:lnTo>
                  <a:lnTo>
                    <a:pt x="455" y="394"/>
                  </a:lnTo>
                  <a:lnTo>
                    <a:pt x="447" y="392"/>
                  </a:lnTo>
                  <a:lnTo>
                    <a:pt x="439" y="388"/>
                  </a:lnTo>
                  <a:lnTo>
                    <a:pt x="431" y="382"/>
                  </a:lnTo>
                  <a:lnTo>
                    <a:pt x="431" y="382"/>
                  </a:lnTo>
                  <a:lnTo>
                    <a:pt x="425" y="376"/>
                  </a:lnTo>
                  <a:lnTo>
                    <a:pt x="421" y="368"/>
                  </a:lnTo>
                  <a:lnTo>
                    <a:pt x="419" y="360"/>
                  </a:lnTo>
                  <a:lnTo>
                    <a:pt x="417" y="350"/>
                  </a:lnTo>
                  <a:lnTo>
                    <a:pt x="417" y="350"/>
                  </a:lnTo>
                  <a:lnTo>
                    <a:pt x="415" y="324"/>
                  </a:lnTo>
                  <a:lnTo>
                    <a:pt x="409" y="294"/>
                  </a:lnTo>
                  <a:lnTo>
                    <a:pt x="403" y="256"/>
                  </a:lnTo>
                  <a:lnTo>
                    <a:pt x="391" y="212"/>
                  </a:lnTo>
                  <a:lnTo>
                    <a:pt x="391" y="212"/>
                  </a:lnTo>
                  <a:lnTo>
                    <a:pt x="371" y="134"/>
                  </a:lnTo>
                  <a:lnTo>
                    <a:pt x="359" y="104"/>
                  </a:lnTo>
                  <a:lnTo>
                    <a:pt x="351" y="80"/>
                  </a:lnTo>
                  <a:lnTo>
                    <a:pt x="351" y="80"/>
                  </a:lnTo>
                  <a:lnTo>
                    <a:pt x="347" y="68"/>
                  </a:lnTo>
                  <a:lnTo>
                    <a:pt x="345" y="60"/>
                  </a:lnTo>
                  <a:lnTo>
                    <a:pt x="345" y="60"/>
                  </a:lnTo>
                  <a:lnTo>
                    <a:pt x="347" y="50"/>
                  </a:lnTo>
                  <a:lnTo>
                    <a:pt x="349" y="42"/>
                  </a:lnTo>
                  <a:lnTo>
                    <a:pt x="353" y="34"/>
                  </a:lnTo>
                  <a:lnTo>
                    <a:pt x="361" y="28"/>
                  </a:lnTo>
                  <a:lnTo>
                    <a:pt x="361" y="28"/>
                  </a:lnTo>
                  <a:lnTo>
                    <a:pt x="369" y="22"/>
                  </a:lnTo>
                  <a:lnTo>
                    <a:pt x="377" y="18"/>
                  </a:lnTo>
                  <a:lnTo>
                    <a:pt x="385" y="16"/>
                  </a:lnTo>
                  <a:lnTo>
                    <a:pt x="395" y="14"/>
                  </a:lnTo>
                  <a:lnTo>
                    <a:pt x="395" y="14"/>
                  </a:lnTo>
                  <a:lnTo>
                    <a:pt x="409" y="16"/>
                  </a:lnTo>
                  <a:lnTo>
                    <a:pt x="419" y="22"/>
                  </a:lnTo>
                  <a:lnTo>
                    <a:pt x="429" y="30"/>
                  </a:lnTo>
                  <a:lnTo>
                    <a:pt x="437" y="42"/>
                  </a:lnTo>
                  <a:lnTo>
                    <a:pt x="437" y="42"/>
                  </a:lnTo>
                  <a:lnTo>
                    <a:pt x="447" y="70"/>
                  </a:lnTo>
                  <a:lnTo>
                    <a:pt x="459" y="106"/>
                  </a:lnTo>
                  <a:lnTo>
                    <a:pt x="471" y="146"/>
                  </a:lnTo>
                  <a:lnTo>
                    <a:pt x="483" y="192"/>
                  </a:lnTo>
                  <a:lnTo>
                    <a:pt x="483" y="192"/>
                  </a:lnTo>
                  <a:lnTo>
                    <a:pt x="495" y="240"/>
                  </a:lnTo>
                  <a:lnTo>
                    <a:pt x="503" y="282"/>
                  </a:lnTo>
                  <a:lnTo>
                    <a:pt x="509" y="316"/>
                  </a:lnTo>
                  <a:lnTo>
                    <a:pt x="511" y="346"/>
                  </a:lnTo>
                  <a:lnTo>
                    <a:pt x="511" y="346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7125920" y="7545240"/>
              <a:ext cx="923760" cy="8956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895680"/>
                <a:gd name="textAreaBottom" fmla="*/ 896040 h 895680"/>
              </a:gdLst>
              <a:ahLst/>
              <a:rect l="textAreaLeft" t="textAreaTop" r="textAreaRight" b="textAreaBottom"/>
              <a:pathLst>
                <a:path w="582" h="564">
                  <a:moveTo>
                    <a:pt x="366" y="310"/>
                  </a:moveTo>
                  <a:lnTo>
                    <a:pt x="366" y="310"/>
                  </a:lnTo>
                  <a:lnTo>
                    <a:pt x="364" y="370"/>
                  </a:lnTo>
                  <a:lnTo>
                    <a:pt x="360" y="422"/>
                  </a:lnTo>
                  <a:lnTo>
                    <a:pt x="356" y="444"/>
                  </a:lnTo>
                  <a:lnTo>
                    <a:pt x="350" y="466"/>
                  </a:lnTo>
                  <a:lnTo>
                    <a:pt x="344" y="484"/>
                  </a:lnTo>
                  <a:lnTo>
                    <a:pt x="336" y="502"/>
                  </a:lnTo>
                  <a:lnTo>
                    <a:pt x="328" y="516"/>
                  </a:lnTo>
                  <a:lnTo>
                    <a:pt x="320" y="530"/>
                  </a:lnTo>
                  <a:lnTo>
                    <a:pt x="310" y="540"/>
                  </a:lnTo>
                  <a:lnTo>
                    <a:pt x="300" y="550"/>
                  </a:lnTo>
                  <a:lnTo>
                    <a:pt x="288" y="556"/>
                  </a:lnTo>
                  <a:lnTo>
                    <a:pt x="276" y="560"/>
                  </a:lnTo>
                  <a:lnTo>
                    <a:pt x="262" y="564"/>
                  </a:lnTo>
                  <a:lnTo>
                    <a:pt x="248" y="564"/>
                  </a:lnTo>
                  <a:lnTo>
                    <a:pt x="248" y="564"/>
                  </a:lnTo>
                  <a:lnTo>
                    <a:pt x="228" y="564"/>
                  </a:lnTo>
                  <a:lnTo>
                    <a:pt x="210" y="560"/>
                  </a:lnTo>
                  <a:lnTo>
                    <a:pt x="192" y="556"/>
                  </a:lnTo>
                  <a:lnTo>
                    <a:pt x="174" y="548"/>
                  </a:lnTo>
                  <a:lnTo>
                    <a:pt x="174" y="548"/>
                  </a:lnTo>
                  <a:lnTo>
                    <a:pt x="158" y="538"/>
                  </a:lnTo>
                  <a:lnTo>
                    <a:pt x="144" y="526"/>
                  </a:lnTo>
                  <a:lnTo>
                    <a:pt x="140" y="520"/>
                  </a:lnTo>
                  <a:lnTo>
                    <a:pt x="138" y="512"/>
                  </a:lnTo>
                  <a:lnTo>
                    <a:pt x="136" y="504"/>
                  </a:lnTo>
                  <a:lnTo>
                    <a:pt x="134" y="496"/>
                  </a:lnTo>
                  <a:lnTo>
                    <a:pt x="134" y="496"/>
                  </a:lnTo>
                  <a:lnTo>
                    <a:pt x="136" y="488"/>
                  </a:lnTo>
                  <a:lnTo>
                    <a:pt x="136" y="480"/>
                  </a:lnTo>
                  <a:lnTo>
                    <a:pt x="140" y="474"/>
                  </a:lnTo>
                  <a:lnTo>
                    <a:pt x="144" y="468"/>
                  </a:lnTo>
                  <a:lnTo>
                    <a:pt x="148" y="464"/>
                  </a:lnTo>
                  <a:lnTo>
                    <a:pt x="156" y="462"/>
                  </a:lnTo>
                  <a:lnTo>
                    <a:pt x="162" y="460"/>
                  </a:lnTo>
                  <a:lnTo>
                    <a:pt x="170" y="458"/>
                  </a:lnTo>
                  <a:lnTo>
                    <a:pt x="170" y="458"/>
                  </a:lnTo>
                  <a:lnTo>
                    <a:pt x="184" y="460"/>
                  </a:lnTo>
                  <a:lnTo>
                    <a:pt x="200" y="466"/>
                  </a:lnTo>
                  <a:lnTo>
                    <a:pt x="200" y="466"/>
                  </a:lnTo>
                  <a:lnTo>
                    <a:pt x="218" y="470"/>
                  </a:lnTo>
                  <a:lnTo>
                    <a:pt x="230" y="472"/>
                  </a:lnTo>
                  <a:lnTo>
                    <a:pt x="230" y="472"/>
                  </a:lnTo>
                  <a:lnTo>
                    <a:pt x="236" y="472"/>
                  </a:lnTo>
                  <a:lnTo>
                    <a:pt x="244" y="468"/>
                  </a:lnTo>
                  <a:lnTo>
                    <a:pt x="250" y="464"/>
                  </a:lnTo>
                  <a:lnTo>
                    <a:pt x="256" y="456"/>
                  </a:lnTo>
                  <a:lnTo>
                    <a:pt x="260" y="446"/>
                  </a:lnTo>
                  <a:lnTo>
                    <a:pt x="264" y="434"/>
                  </a:lnTo>
                  <a:lnTo>
                    <a:pt x="270" y="404"/>
                  </a:lnTo>
                  <a:lnTo>
                    <a:pt x="270" y="404"/>
                  </a:lnTo>
                  <a:lnTo>
                    <a:pt x="272" y="366"/>
                  </a:lnTo>
                  <a:lnTo>
                    <a:pt x="274" y="306"/>
                  </a:lnTo>
                  <a:lnTo>
                    <a:pt x="274" y="306"/>
                  </a:lnTo>
                  <a:lnTo>
                    <a:pt x="272" y="294"/>
                  </a:lnTo>
                  <a:lnTo>
                    <a:pt x="270" y="282"/>
                  </a:lnTo>
                  <a:lnTo>
                    <a:pt x="266" y="272"/>
                  </a:lnTo>
                  <a:lnTo>
                    <a:pt x="262" y="264"/>
                  </a:lnTo>
                  <a:lnTo>
                    <a:pt x="254" y="258"/>
                  </a:lnTo>
                  <a:lnTo>
                    <a:pt x="246" y="254"/>
                  </a:lnTo>
                  <a:lnTo>
                    <a:pt x="236" y="252"/>
                  </a:lnTo>
                  <a:lnTo>
                    <a:pt x="224" y="250"/>
                  </a:lnTo>
                  <a:lnTo>
                    <a:pt x="224" y="250"/>
                  </a:lnTo>
                  <a:lnTo>
                    <a:pt x="196" y="252"/>
                  </a:lnTo>
                  <a:lnTo>
                    <a:pt x="196" y="252"/>
                  </a:lnTo>
                  <a:lnTo>
                    <a:pt x="174" y="328"/>
                  </a:lnTo>
                  <a:lnTo>
                    <a:pt x="148" y="400"/>
                  </a:lnTo>
                  <a:lnTo>
                    <a:pt x="122" y="464"/>
                  </a:lnTo>
                  <a:lnTo>
                    <a:pt x="92" y="522"/>
                  </a:lnTo>
                  <a:lnTo>
                    <a:pt x="92" y="522"/>
                  </a:lnTo>
                  <a:lnTo>
                    <a:pt x="82" y="538"/>
                  </a:lnTo>
                  <a:lnTo>
                    <a:pt x="70" y="550"/>
                  </a:lnTo>
                  <a:lnTo>
                    <a:pt x="60" y="556"/>
                  </a:lnTo>
                  <a:lnTo>
                    <a:pt x="50" y="560"/>
                  </a:lnTo>
                  <a:lnTo>
                    <a:pt x="50" y="560"/>
                  </a:lnTo>
                  <a:lnTo>
                    <a:pt x="40" y="558"/>
                  </a:lnTo>
                  <a:lnTo>
                    <a:pt x="32" y="556"/>
                  </a:lnTo>
                  <a:lnTo>
                    <a:pt x="24" y="552"/>
                  </a:lnTo>
                  <a:lnTo>
                    <a:pt x="16" y="548"/>
                  </a:lnTo>
                  <a:lnTo>
                    <a:pt x="16" y="548"/>
                  </a:lnTo>
                  <a:lnTo>
                    <a:pt x="12" y="542"/>
                  </a:lnTo>
                  <a:lnTo>
                    <a:pt x="6" y="536"/>
                  </a:lnTo>
                  <a:lnTo>
                    <a:pt x="4" y="528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6" y="502"/>
                  </a:lnTo>
                  <a:lnTo>
                    <a:pt x="12" y="486"/>
                  </a:lnTo>
                  <a:lnTo>
                    <a:pt x="12" y="486"/>
                  </a:lnTo>
                  <a:lnTo>
                    <a:pt x="36" y="438"/>
                  </a:lnTo>
                  <a:lnTo>
                    <a:pt x="60" y="384"/>
                  </a:lnTo>
                  <a:lnTo>
                    <a:pt x="84" y="326"/>
                  </a:lnTo>
                  <a:lnTo>
                    <a:pt x="104" y="264"/>
                  </a:lnTo>
                  <a:lnTo>
                    <a:pt x="104" y="264"/>
                  </a:lnTo>
                  <a:lnTo>
                    <a:pt x="64" y="270"/>
                  </a:lnTo>
                  <a:lnTo>
                    <a:pt x="40" y="272"/>
                  </a:lnTo>
                  <a:lnTo>
                    <a:pt x="40" y="272"/>
                  </a:lnTo>
                  <a:lnTo>
                    <a:pt x="28" y="272"/>
                  </a:lnTo>
                  <a:lnTo>
                    <a:pt x="20" y="268"/>
                  </a:lnTo>
                  <a:lnTo>
                    <a:pt x="20" y="268"/>
                  </a:lnTo>
                  <a:lnTo>
                    <a:pt x="10" y="262"/>
                  </a:lnTo>
                  <a:lnTo>
                    <a:pt x="4" y="252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16"/>
                  </a:lnTo>
                  <a:lnTo>
                    <a:pt x="2" y="210"/>
                  </a:lnTo>
                  <a:lnTo>
                    <a:pt x="6" y="204"/>
                  </a:lnTo>
                  <a:lnTo>
                    <a:pt x="10" y="198"/>
                  </a:lnTo>
                  <a:lnTo>
                    <a:pt x="16" y="194"/>
                  </a:lnTo>
                  <a:lnTo>
                    <a:pt x="22" y="190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34" y="128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88"/>
                  </a:lnTo>
                  <a:lnTo>
                    <a:pt x="146" y="80"/>
                  </a:lnTo>
                  <a:lnTo>
                    <a:pt x="150" y="72"/>
                  </a:lnTo>
                  <a:lnTo>
                    <a:pt x="156" y="64"/>
                  </a:lnTo>
                  <a:lnTo>
                    <a:pt x="162" y="60"/>
                  </a:lnTo>
                  <a:lnTo>
                    <a:pt x="170" y="56"/>
                  </a:lnTo>
                  <a:lnTo>
                    <a:pt x="180" y="54"/>
                  </a:lnTo>
                  <a:lnTo>
                    <a:pt x="190" y="52"/>
                  </a:lnTo>
                  <a:lnTo>
                    <a:pt x="190" y="52"/>
                  </a:lnTo>
                  <a:lnTo>
                    <a:pt x="198" y="54"/>
                  </a:lnTo>
                  <a:lnTo>
                    <a:pt x="206" y="56"/>
                  </a:lnTo>
                  <a:lnTo>
                    <a:pt x="214" y="60"/>
                  </a:lnTo>
                  <a:lnTo>
                    <a:pt x="220" y="64"/>
                  </a:lnTo>
                  <a:lnTo>
                    <a:pt x="220" y="64"/>
                  </a:lnTo>
                  <a:lnTo>
                    <a:pt x="226" y="70"/>
                  </a:lnTo>
                  <a:lnTo>
                    <a:pt x="230" y="76"/>
                  </a:lnTo>
                  <a:lnTo>
                    <a:pt x="232" y="84"/>
                  </a:lnTo>
                  <a:lnTo>
                    <a:pt x="232" y="92"/>
                  </a:lnTo>
                  <a:lnTo>
                    <a:pt x="232" y="92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18" y="168"/>
                  </a:lnTo>
                  <a:lnTo>
                    <a:pt x="252" y="166"/>
                  </a:lnTo>
                  <a:lnTo>
                    <a:pt x="252" y="166"/>
                  </a:lnTo>
                  <a:lnTo>
                    <a:pt x="266" y="164"/>
                  </a:lnTo>
                  <a:lnTo>
                    <a:pt x="266" y="164"/>
                  </a:lnTo>
                  <a:lnTo>
                    <a:pt x="286" y="166"/>
                  </a:lnTo>
                  <a:lnTo>
                    <a:pt x="302" y="172"/>
                  </a:lnTo>
                  <a:lnTo>
                    <a:pt x="318" y="180"/>
                  </a:lnTo>
                  <a:lnTo>
                    <a:pt x="332" y="192"/>
                  </a:lnTo>
                  <a:lnTo>
                    <a:pt x="332" y="192"/>
                  </a:lnTo>
                  <a:lnTo>
                    <a:pt x="340" y="202"/>
                  </a:lnTo>
                  <a:lnTo>
                    <a:pt x="348" y="214"/>
                  </a:lnTo>
                  <a:lnTo>
                    <a:pt x="354" y="226"/>
                  </a:lnTo>
                  <a:lnTo>
                    <a:pt x="358" y="240"/>
                  </a:lnTo>
                  <a:lnTo>
                    <a:pt x="362" y="256"/>
                  </a:lnTo>
                  <a:lnTo>
                    <a:pt x="364" y="272"/>
                  </a:lnTo>
                  <a:lnTo>
                    <a:pt x="366" y="310"/>
                  </a:lnTo>
                  <a:lnTo>
                    <a:pt x="366" y="310"/>
                  </a:lnTo>
                  <a:close/>
                  <a:moveTo>
                    <a:pt x="522" y="354"/>
                  </a:moveTo>
                  <a:lnTo>
                    <a:pt x="522" y="354"/>
                  </a:lnTo>
                  <a:lnTo>
                    <a:pt x="522" y="364"/>
                  </a:lnTo>
                  <a:lnTo>
                    <a:pt x="518" y="372"/>
                  </a:lnTo>
                  <a:lnTo>
                    <a:pt x="514" y="380"/>
                  </a:lnTo>
                  <a:lnTo>
                    <a:pt x="508" y="386"/>
                  </a:lnTo>
                  <a:lnTo>
                    <a:pt x="508" y="386"/>
                  </a:lnTo>
                  <a:lnTo>
                    <a:pt x="500" y="392"/>
                  </a:lnTo>
                  <a:lnTo>
                    <a:pt x="492" y="396"/>
                  </a:lnTo>
                  <a:lnTo>
                    <a:pt x="482" y="398"/>
                  </a:lnTo>
                  <a:lnTo>
                    <a:pt x="472" y="398"/>
                  </a:lnTo>
                  <a:lnTo>
                    <a:pt x="472" y="398"/>
                  </a:lnTo>
                  <a:lnTo>
                    <a:pt x="460" y="396"/>
                  </a:lnTo>
                  <a:lnTo>
                    <a:pt x="450" y="392"/>
                  </a:lnTo>
                  <a:lnTo>
                    <a:pt x="442" y="384"/>
                  </a:lnTo>
                  <a:lnTo>
                    <a:pt x="436" y="372"/>
                  </a:lnTo>
                  <a:lnTo>
                    <a:pt x="436" y="372"/>
                  </a:lnTo>
                  <a:lnTo>
                    <a:pt x="422" y="334"/>
                  </a:lnTo>
                  <a:lnTo>
                    <a:pt x="404" y="278"/>
                  </a:lnTo>
                  <a:lnTo>
                    <a:pt x="404" y="278"/>
                  </a:lnTo>
                  <a:lnTo>
                    <a:pt x="390" y="228"/>
                  </a:lnTo>
                  <a:lnTo>
                    <a:pt x="380" y="200"/>
                  </a:lnTo>
                  <a:lnTo>
                    <a:pt x="380" y="200"/>
                  </a:lnTo>
                  <a:lnTo>
                    <a:pt x="368" y="168"/>
                  </a:lnTo>
                  <a:lnTo>
                    <a:pt x="368" y="168"/>
                  </a:lnTo>
                  <a:lnTo>
                    <a:pt x="362" y="150"/>
                  </a:lnTo>
                  <a:lnTo>
                    <a:pt x="360" y="136"/>
                  </a:lnTo>
                  <a:lnTo>
                    <a:pt x="360" y="136"/>
                  </a:lnTo>
                  <a:lnTo>
                    <a:pt x="360" y="130"/>
                  </a:lnTo>
                  <a:lnTo>
                    <a:pt x="362" y="124"/>
                  </a:lnTo>
                  <a:lnTo>
                    <a:pt x="368" y="118"/>
                  </a:lnTo>
                  <a:lnTo>
                    <a:pt x="374" y="114"/>
                  </a:lnTo>
                  <a:lnTo>
                    <a:pt x="374" y="114"/>
                  </a:lnTo>
                  <a:lnTo>
                    <a:pt x="382" y="108"/>
                  </a:lnTo>
                  <a:lnTo>
                    <a:pt x="390" y="106"/>
                  </a:lnTo>
                  <a:lnTo>
                    <a:pt x="400" y="104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20" y="104"/>
                  </a:lnTo>
                  <a:lnTo>
                    <a:pt x="428" y="108"/>
                  </a:lnTo>
                  <a:lnTo>
                    <a:pt x="434" y="112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50" y="136"/>
                  </a:lnTo>
                  <a:lnTo>
                    <a:pt x="460" y="156"/>
                  </a:lnTo>
                  <a:lnTo>
                    <a:pt x="480" y="204"/>
                  </a:lnTo>
                  <a:lnTo>
                    <a:pt x="500" y="266"/>
                  </a:lnTo>
                  <a:lnTo>
                    <a:pt x="520" y="342"/>
                  </a:lnTo>
                  <a:lnTo>
                    <a:pt x="520" y="342"/>
                  </a:lnTo>
                  <a:lnTo>
                    <a:pt x="522" y="354"/>
                  </a:lnTo>
                  <a:lnTo>
                    <a:pt x="522" y="354"/>
                  </a:lnTo>
                  <a:close/>
                  <a:moveTo>
                    <a:pt x="500" y="96"/>
                  </a:moveTo>
                  <a:lnTo>
                    <a:pt x="500" y="96"/>
                  </a:lnTo>
                  <a:lnTo>
                    <a:pt x="498" y="106"/>
                  </a:lnTo>
                  <a:lnTo>
                    <a:pt x="492" y="112"/>
                  </a:lnTo>
                  <a:lnTo>
                    <a:pt x="492" y="112"/>
                  </a:lnTo>
                  <a:lnTo>
                    <a:pt x="484" y="118"/>
                  </a:lnTo>
                  <a:lnTo>
                    <a:pt x="474" y="120"/>
                  </a:lnTo>
                  <a:lnTo>
                    <a:pt x="474" y="120"/>
                  </a:lnTo>
                  <a:lnTo>
                    <a:pt x="468" y="118"/>
                  </a:lnTo>
                  <a:lnTo>
                    <a:pt x="460" y="116"/>
                  </a:lnTo>
                  <a:lnTo>
                    <a:pt x="456" y="112"/>
                  </a:lnTo>
                  <a:lnTo>
                    <a:pt x="450" y="106"/>
                  </a:lnTo>
                  <a:lnTo>
                    <a:pt x="450" y="106"/>
                  </a:lnTo>
                  <a:lnTo>
                    <a:pt x="422" y="62"/>
                  </a:lnTo>
                  <a:lnTo>
                    <a:pt x="422" y="62"/>
                  </a:lnTo>
                  <a:lnTo>
                    <a:pt x="414" y="46"/>
                  </a:lnTo>
                  <a:lnTo>
                    <a:pt x="412" y="34"/>
                  </a:lnTo>
                  <a:lnTo>
                    <a:pt x="412" y="34"/>
                  </a:lnTo>
                  <a:lnTo>
                    <a:pt x="414" y="24"/>
                  </a:lnTo>
                  <a:lnTo>
                    <a:pt x="418" y="16"/>
                  </a:lnTo>
                  <a:lnTo>
                    <a:pt x="428" y="12"/>
                  </a:lnTo>
                  <a:lnTo>
                    <a:pt x="440" y="10"/>
                  </a:lnTo>
                  <a:lnTo>
                    <a:pt x="440" y="10"/>
                  </a:lnTo>
                  <a:lnTo>
                    <a:pt x="446" y="12"/>
                  </a:lnTo>
                  <a:lnTo>
                    <a:pt x="452" y="14"/>
                  </a:lnTo>
                  <a:lnTo>
                    <a:pt x="458" y="18"/>
                  </a:lnTo>
                  <a:lnTo>
                    <a:pt x="464" y="24"/>
                  </a:lnTo>
                  <a:lnTo>
                    <a:pt x="464" y="24"/>
                  </a:lnTo>
                  <a:lnTo>
                    <a:pt x="482" y="48"/>
                  </a:lnTo>
                  <a:lnTo>
                    <a:pt x="496" y="74"/>
                  </a:lnTo>
                  <a:lnTo>
                    <a:pt x="496" y="74"/>
                  </a:lnTo>
                  <a:lnTo>
                    <a:pt x="500" y="84"/>
                  </a:lnTo>
                  <a:lnTo>
                    <a:pt x="500" y="96"/>
                  </a:lnTo>
                  <a:lnTo>
                    <a:pt x="500" y="96"/>
                  </a:lnTo>
                  <a:close/>
                  <a:moveTo>
                    <a:pt x="582" y="88"/>
                  </a:moveTo>
                  <a:lnTo>
                    <a:pt x="582" y="88"/>
                  </a:lnTo>
                  <a:lnTo>
                    <a:pt x="580" y="98"/>
                  </a:lnTo>
                  <a:lnTo>
                    <a:pt x="576" y="104"/>
                  </a:lnTo>
                  <a:lnTo>
                    <a:pt x="568" y="108"/>
                  </a:lnTo>
                  <a:lnTo>
                    <a:pt x="558" y="110"/>
                  </a:lnTo>
                  <a:lnTo>
                    <a:pt x="558" y="110"/>
                  </a:lnTo>
                  <a:lnTo>
                    <a:pt x="550" y="110"/>
                  </a:lnTo>
                  <a:lnTo>
                    <a:pt x="544" y="106"/>
                  </a:lnTo>
                  <a:lnTo>
                    <a:pt x="538" y="102"/>
                  </a:lnTo>
                  <a:lnTo>
                    <a:pt x="532" y="96"/>
                  </a:lnTo>
                  <a:lnTo>
                    <a:pt x="532" y="96"/>
                  </a:lnTo>
                  <a:lnTo>
                    <a:pt x="504" y="52"/>
                  </a:lnTo>
                  <a:lnTo>
                    <a:pt x="504" y="52"/>
                  </a:lnTo>
                  <a:lnTo>
                    <a:pt x="496" y="36"/>
                  </a:lnTo>
                  <a:lnTo>
                    <a:pt x="494" y="30"/>
                  </a:lnTo>
                  <a:lnTo>
                    <a:pt x="492" y="24"/>
                  </a:lnTo>
                  <a:lnTo>
                    <a:pt x="492" y="24"/>
                  </a:lnTo>
                  <a:lnTo>
                    <a:pt x="494" y="14"/>
                  </a:lnTo>
                  <a:lnTo>
                    <a:pt x="500" y="6"/>
                  </a:lnTo>
                  <a:lnTo>
                    <a:pt x="510" y="2"/>
                  </a:lnTo>
                  <a:lnTo>
                    <a:pt x="522" y="0"/>
                  </a:lnTo>
                  <a:lnTo>
                    <a:pt x="522" y="0"/>
                  </a:lnTo>
                  <a:lnTo>
                    <a:pt x="528" y="2"/>
                  </a:lnTo>
                  <a:lnTo>
                    <a:pt x="534" y="4"/>
                  </a:lnTo>
                  <a:lnTo>
                    <a:pt x="540" y="8"/>
                  </a:lnTo>
                  <a:lnTo>
                    <a:pt x="546" y="14"/>
                  </a:lnTo>
                  <a:lnTo>
                    <a:pt x="546" y="14"/>
                  </a:lnTo>
                  <a:lnTo>
                    <a:pt x="564" y="38"/>
                  </a:lnTo>
                  <a:lnTo>
                    <a:pt x="578" y="64"/>
                  </a:lnTo>
                  <a:lnTo>
                    <a:pt x="578" y="64"/>
                  </a:lnTo>
                  <a:lnTo>
                    <a:pt x="582" y="74"/>
                  </a:lnTo>
                  <a:lnTo>
                    <a:pt x="582" y="88"/>
                  </a:lnTo>
                  <a:lnTo>
                    <a:pt x="582" y="8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8088200" y="7583040"/>
              <a:ext cx="949320" cy="8956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895680"/>
                <a:gd name="textAreaBottom" fmla="*/ 896040 h 895680"/>
              </a:gdLst>
              <a:ahLst/>
              <a:rect l="textAreaLeft" t="textAreaTop" r="textAreaRight" b="textAreaBottom"/>
              <a:pathLst>
                <a:path w="598" h="564">
                  <a:moveTo>
                    <a:pt x="48" y="40"/>
                  </a:moveTo>
                  <a:lnTo>
                    <a:pt x="80" y="40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82" y="24"/>
                  </a:lnTo>
                  <a:lnTo>
                    <a:pt x="88" y="16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8" y="4"/>
                  </a:lnTo>
                  <a:lnTo>
                    <a:pt x="106" y="2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46" y="2"/>
                  </a:lnTo>
                  <a:lnTo>
                    <a:pt x="154" y="4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166" y="16"/>
                  </a:lnTo>
                  <a:lnTo>
                    <a:pt x="170" y="22"/>
                  </a:lnTo>
                  <a:lnTo>
                    <a:pt x="172" y="30"/>
                  </a:lnTo>
                  <a:lnTo>
                    <a:pt x="174" y="40"/>
                  </a:lnTo>
                  <a:lnTo>
                    <a:pt x="422" y="40"/>
                  </a:lnTo>
                  <a:lnTo>
                    <a:pt x="422" y="40"/>
                  </a:lnTo>
                  <a:lnTo>
                    <a:pt x="424" y="32"/>
                  </a:lnTo>
                  <a:lnTo>
                    <a:pt x="426" y="24"/>
                  </a:lnTo>
                  <a:lnTo>
                    <a:pt x="430" y="16"/>
                  </a:lnTo>
                  <a:lnTo>
                    <a:pt x="436" y="8"/>
                  </a:lnTo>
                  <a:lnTo>
                    <a:pt x="436" y="8"/>
                  </a:lnTo>
                  <a:lnTo>
                    <a:pt x="442" y="4"/>
                  </a:lnTo>
                  <a:lnTo>
                    <a:pt x="450" y="2"/>
                  </a:lnTo>
                  <a:lnTo>
                    <a:pt x="458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80" y="0"/>
                  </a:lnTo>
                  <a:lnTo>
                    <a:pt x="490" y="2"/>
                  </a:lnTo>
                  <a:lnTo>
                    <a:pt x="498" y="4"/>
                  </a:lnTo>
                  <a:lnTo>
                    <a:pt x="504" y="10"/>
                  </a:lnTo>
                  <a:lnTo>
                    <a:pt x="504" y="10"/>
                  </a:lnTo>
                  <a:lnTo>
                    <a:pt x="510" y="16"/>
                  </a:lnTo>
                  <a:lnTo>
                    <a:pt x="514" y="22"/>
                  </a:lnTo>
                  <a:lnTo>
                    <a:pt x="516" y="30"/>
                  </a:lnTo>
                  <a:lnTo>
                    <a:pt x="516" y="40"/>
                  </a:lnTo>
                  <a:lnTo>
                    <a:pt x="548" y="40"/>
                  </a:lnTo>
                  <a:lnTo>
                    <a:pt x="548" y="40"/>
                  </a:lnTo>
                  <a:lnTo>
                    <a:pt x="564" y="42"/>
                  </a:lnTo>
                  <a:lnTo>
                    <a:pt x="570" y="44"/>
                  </a:lnTo>
                  <a:lnTo>
                    <a:pt x="574" y="46"/>
                  </a:lnTo>
                  <a:lnTo>
                    <a:pt x="574" y="46"/>
                  </a:lnTo>
                  <a:lnTo>
                    <a:pt x="578" y="50"/>
                  </a:lnTo>
                  <a:lnTo>
                    <a:pt x="580" y="56"/>
                  </a:lnTo>
                  <a:lnTo>
                    <a:pt x="582" y="72"/>
                  </a:lnTo>
                  <a:lnTo>
                    <a:pt x="582" y="72"/>
                  </a:lnTo>
                  <a:lnTo>
                    <a:pt x="580" y="84"/>
                  </a:lnTo>
                  <a:lnTo>
                    <a:pt x="576" y="94"/>
                  </a:lnTo>
                  <a:lnTo>
                    <a:pt x="576" y="94"/>
                  </a:lnTo>
                  <a:lnTo>
                    <a:pt x="570" y="98"/>
                  </a:lnTo>
                  <a:lnTo>
                    <a:pt x="564" y="102"/>
                  </a:lnTo>
                  <a:lnTo>
                    <a:pt x="558" y="104"/>
                  </a:lnTo>
                  <a:lnTo>
                    <a:pt x="548" y="104"/>
                  </a:lnTo>
                  <a:lnTo>
                    <a:pt x="516" y="104"/>
                  </a:lnTo>
                  <a:lnTo>
                    <a:pt x="516" y="280"/>
                  </a:lnTo>
                  <a:lnTo>
                    <a:pt x="554" y="280"/>
                  </a:lnTo>
                  <a:lnTo>
                    <a:pt x="554" y="280"/>
                  </a:lnTo>
                  <a:lnTo>
                    <a:pt x="570" y="282"/>
                  </a:lnTo>
                  <a:lnTo>
                    <a:pt x="576" y="284"/>
                  </a:lnTo>
                  <a:lnTo>
                    <a:pt x="582" y="288"/>
                  </a:lnTo>
                  <a:lnTo>
                    <a:pt x="582" y="288"/>
                  </a:lnTo>
                  <a:lnTo>
                    <a:pt x="584" y="292"/>
                  </a:lnTo>
                  <a:lnTo>
                    <a:pt x="588" y="298"/>
                  </a:lnTo>
                  <a:lnTo>
                    <a:pt x="590" y="314"/>
                  </a:lnTo>
                  <a:lnTo>
                    <a:pt x="590" y="314"/>
                  </a:lnTo>
                  <a:lnTo>
                    <a:pt x="588" y="328"/>
                  </a:lnTo>
                  <a:lnTo>
                    <a:pt x="582" y="336"/>
                  </a:lnTo>
                  <a:lnTo>
                    <a:pt x="582" y="336"/>
                  </a:lnTo>
                  <a:lnTo>
                    <a:pt x="578" y="342"/>
                  </a:lnTo>
                  <a:lnTo>
                    <a:pt x="570" y="344"/>
                  </a:lnTo>
                  <a:lnTo>
                    <a:pt x="564" y="346"/>
                  </a:lnTo>
                  <a:lnTo>
                    <a:pt x="554" y="348"/>
                  </a:lnTo>
                  <a:lnTo>
                    <a:pt x="474" y="348"/>
                  </a:lnTo>
                  <a:lnTo>
                    <a:pt x="474" y="348"/>
                  </a:lnTo>
                  <a:lnTo>
                    <a:pt x="494" y="360"/>
                  </a:lnTo>
                  <a:lnTo>
                    <a:pt x="518" y="374"/>
                  </a:lnTo>
                  <a:lnTo>
                    <a:pt x="544" y="386"/>
                  </a:lnTo>
                  <a:lnTo>
                    <a:pt x="574" y="398"/>
                  </a:lnTo>
                  <a:lnTo>
                    <a:pt x="574" y="398"/>
                  </a:lnTo>
                  <a:lnTo>
                    <a:pt x="584" y="406"/>
                  </a:lnTo>
                  <a:lnTo>
                    <a:pt x="592" y="416"/>
                  </a:lnTo>
                  <a:lnTo>
                    <a:pt x="598" y="426"/>
                  </a:lnTo>
                  <a:lnTo>
                    <a:pt x="598" y="438"/>
                  </a:lnTo>
                  <a:lnTo>
                    <a:pt x="598" y="438"/>
                  </a:lnTo>
                  <a:lnTo>
                    <a:pt x="596" y="446"/>
                  </a:lnTo>
                  <a:lnTo>
                    <a:pt x="594" y="454"/>
                  </a:lnTo>
                  <a:lnTo>
                    <a:pt x="590" y="460"/>
                  </a:lnTo>
                  <a:lnTo>
                    <a:pt x="584" y="468"/>
                  </a:lnTo>
                  <a:lnTo>
                    <a:pt x="584" y="468"/>
                  </a:lnTo>
                  <a:lnTo>
                    <a:pt x="578" y="474"/>
                  </a:lnTo>
                  <a:lnTo>
                    <a:pt x="570" y="478"/>
                  </a:lnTo>
                  <a:lnTo>
                    <a:pt x="560" y="480"/>
                  </a:lnTo>
                  <a:lnTo>
                    <a:pt x="548" y="482"/>
                  </a:lnTo>
                  <a:lnTo>
                    <a:pt x="548" y="482"/>
                  </a:lnTo>
                  <a:lnTo>
                    <a:pt x="534" y="480"/>
                  </a:lnTo>
                  <a:lnTo>
                    <a:pt x="518" y="476"/>
                  </a:lnTo>
                  <a:lnTo>
                    <a:pt x="518" y="476"/>
                  </a:lnTo>
                  <a:lnTo>
                    <a:pt x="492" y="462"/>
                  </a:lnTo>
                  <a:lnTo>
                    <a:pt x="466" y="446"/>
                  </a:lnTo>
                  <a:lnTo>
                    <a:pt x="466" y="446"/>
                  </a:lnTo>
                  <a:lnTo>
                    <a:pt x="466" y="448"/>
                  </a:lnTo>
                  <a:lnTo>
                    <a:pt x="466" y="448"/>
                  </a:lnTo>
                  <a:lnTo>
                    <a:pt x="462" y="452"/>
                  </a:lnTo>
                  <a:lnTo>
                    <a:pt x="456" y="454"/>
                  </a:lnTo>
                  <a:lnTo>
                    <a:pt x="450" y="456"/>
                  </a:lnTo>
                  <a:lnTo>
                    <a:pt x="442" y="458"/>
                  </a:lnTo>
                  <a:lnTo>
                    <a:pt x="348" y="458"/>
                  </a:lnTo>
                  <a:lnTo>
                    <a:pt x="348" y="498"/>
                  </a:lnTo>
                  <a:lnTo>
                    <a:pt x="542" y="498"/>
                  </a:lnTo>
                  <a:lnTo>
                    <a:pt x="542" y="498"/>
                  </a:lnTo>
                  <a:lnTo>
                    <a:pt x="558" y="498"/>
                  </a:lnTo>
                  <a:lnTo>
                    <a:pt x="564" y="502"/>
                  </a:lnTo>
                  <a:lnTo>
                    <a:pt x="568" y="504"/>
                  </a:lnTo>
                  <a:lnTo>
                    <a:pt x="568" y="504"/>
                  </a:lnTo>
                  <a:lnTo>
                    <a:pt x="572" y="508"/>
                  </a:lnTo>
                  <a:lnTo>
                    <a:pt x="574" y="514"/>
                  </a:lnTo>
                  <a:lnTo>
                    <a:pt x="576" y="530"/>
                  </a:lnTo>
                  <a:lnTo>
                    <a:pt x="576" y="530"/>
                  </a:lnTo>
                  <a:lnTo>
                    <a:pt x="574" y="544"/>
                  </a:lnTo>
                  <a:lnTo>
                    <a:pt x="570" y="554"/>
                  </a:lnTo>
                  <a:lnTo>
                    <a:pt x="570" y="554"/>
                  </a:lnTo>
                  <a:lnTo>
                    <a:pt x="564" y="558"/>
                  </a:lnTo>
                  <a:lnTo>
                    <a:pt x="558" y="562"/>
                  </a:lnTo>
                  <a:lnTo>
                    <a:pt x="550" y="564"/>
                  </a:lnTo>
                  <a:lnTo>
                    <a:pt x="542" y="564"/>
                  </a:lnTo>
                  <a:lnTo>
                    <a:pt x="54" y="564"/>
                  </a:lnTo>
                  <a:lnTo>
                    <a:pt x="54" y="564"/>
                  </a:lnTo>
                  <a:lnTo>
                    <a:pt x="40" y="562"/>
                  </a:lnTo>
                  <a:lnTo>
                    <a:pt x="32" y="560"/>
                  </a:lnTo>
                  <a:lnTo>
                    <a:pt x="28" y="556"/>
                  </a:lnTo>
                  <a:lnTo>
                    <a:pt x="28" y="556"/>
                  </a:lnTo>
                  <a:lnTo>
                    <a:pt x="24" y="552"/>
                  </a:lnTo>
                  <a:lnTo>
                    <a:pt x="22" y="546"/>
                  </a:lnTo>
                  <a:lnTo>
                    <a:pt x="20" y="538"/>
                  </a:lnTo>
                  <a:lnTo>
                    <a:pt x="20" y="530"/>
                  </a:lnTo>
                  <a:lnTo>
                    <a:pt x="20" y="530"/>
                  </a:lnTo>
                  <a:lnTo>
                    <a:pt x="20" y="520"/>
                  </a:lnTo>
                  <a:lnTo>
                    <a:pt x="22" y="514"/>
                  </a:lnTo>
                  <a:lnTo>
                    <a:pt x="24" y="508"/>
                  </a:lnTo>
                  <a:lnTo>
                    <a:pt x="28" y="504"/>
                  </a:lnTo>
                  <a:lnTo>
                    <a:pt x="28" y="504"/>
                  </a:lnTo>
                  <a:lnTo>
                    <a:pt x="32" y="502"/>
                  </a:lnTo>
                  <a:lnTo>
                    <a:pt x="38" y="498"/>
                  </a:lnTo>
                  <a:lnTo>
                    <a:pt x="54" y="498"/>
                  </a:lnTo>
                  <a:lnTo>
                    <a:pt x="254" y="498"/>
                  </a:lnTo>
                  <a:lnTo>
                    <a:pt x="254" y="458"/>
                  </a:lnTo>
                  <a:lnTo>
                    <a:pt x="148" y="458"/>
                  </a:lnTo>
                  <a:lnTo>
                    <a:pt x="148" y="458"/>
                  </a:lnTo>
                  <a:lnTo>
                    <a:pt x="138" y="456"/>
                  </a:lnTo>
                  <a:lnTo>
                    <a:pt x="130" y="450"/>
                  </a:lnTo>
                  <a:lnTo>
                    <a:pt x="130" y="450"/>
                  </a:lnTo>
                  <a:lnTo>
                    <a:pt x="124" y="444"/>
                  </a:lnTo>
                  <a:lnTo>
                    <a:pt x="124" y="444"/>
                  </a:lnTo>
                  <a:lnTo>
                    <a:pt x="94" y="462"/>
                  </a:lnTo>
                  <a:lnTo>
                    <a:pt x="64" y="478"/>
                  </a:lnTo>
                  <a:lnTo>
                    <a:pt x="64" y="478"/>
                  </a:lnTo>
                  <a:lnTo>
                    <a:pt x="56" y="480"/>
                  </a:lnTo>
                  <a:lnTo>
                    <a:pt x="48" y="482"/>
                  </a:lnTo>
                  <a:lnTo>
                    <a:pt x="48" y="482"/>
                  </a:lnTo>
                  <a:lnTo>
                    <a:pt x="36" y="480"/>
                  </a:lnTo>
                  <a:lnTo>
                    <a:pt x="28" y="478"/>
                  </a:lnTo>
                  <a:lnTo>
                    <a:pt x="20" y="474"/>
                  </a:lnTo>
                  <a:lnTo>
                    <a:pt x="12" y="468"/>
                  </a:lnTo>
                  <a:lnTo>
                    <a:pt x="12" y="468"/>
                  </a:lnTo>
                  <a:lnTo>
                    <a:pt x="8" y="460"/>
                  </a:lnTo>
                  <a:lnTo>
                    <a:pt x="4" y="452"/>
                  </a:lnTo>
                  <a:lnTo>
                    <a:pt x="0" y="444"/>
                  </a:lnTo>
                  <a:lnTo>
                    <a:pt x="0" y="434"/>
                  </a:lnTo>
                  <a:lnTo>
                    <a:pt x="0" y="434"/>
                  </a:lnTo>
                  <a:lnTo>
                    <a:pt x="0" y="426"/>
                  </a:lnTo>
                  <a:lnTo>
                    <a:pt x="4" y="420"/>
                  </a:lnTo>
                  <a:lnTo>
                    <a:pt x="8" y="414"/>
                  </a:lnTo>
                  <a:lnTo>
                    <a:pt x="18" y="410"/>
                  </a:lnTo>
                  <a:lnTo>
                    <a:pt x="18" y="410"/>
                  </a:lnTo>
                  <a:lnTo>
                    <a:pt x="80" y="376"/>
                  </a:lnTo>
                  <a:lnTo>
                    <a:pt x="128" y="348"/>
                  </a:lnTo>
                  <a:lnTo>
                    <a:pt x="42" y="348"/>
                  </a:lnTo>
                  <a:lnTo>
                    <a:pt x="42" y="348"/>
                  </a:lnTo>
                  <a:lnTo>
                    <a:pt x="26" y="346"/>
                  </a:lnTo>
                  <a:lnTo>
                    <a:pt x="20" y="344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2" y="336"/>
                  </a:lnTo>
                  <a:lnTo>
                    <a:pt x="10" y="330"/>
                  </a:lnTo>
                  <a:lnTo>
                    <a:pt x="8" y="322"/>
                  </a:lnTo>
                  <a:lnTo>
                    <a:pt x="6" y="314"/>
                  </a:lnTo>
                  <a:lnTo>
                    <a:pt x="6" y="314"/>
                  </a:lnTo>
                  <a:lnTo>
                    <a:pt x="8" y="304"/>
                  </a:lnTo>
                  <a:lnTo>
                    <a:pt x="10" y="298"/>
                  </a:lnTo>
                  <a:lnTo>
                    <a:pt x="12" y="292"/>
                  </a:lnTo>
                  <a:lnTo>
                    <a:pt x="16" y="288"/>
                  </a:lnTo>
                  <a:lnTo>
                    <a:pt x="16" y="288"/>
                  </a:lnTo>
                  <a:lnTo>
                    <a:pt x="20" y="284"/>
                  </a:lnTo>
                  <a:lnTo>
                    <a:pt x="26" y="282"/>
                  </a:lnTo>
                  <a:lnTo>
                    <a:pt x="42" y="280"/>
                  </a:lnTo>
                  <a:lnTo>
                    <a:pt x="80" y="280"/>
                  </a:lnTo>
                  <a:lnTo>
                    <a:pt x="80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32" y="102"/>
                  </a:lnTo>
                  <a:lnTo>
                    <a:pt x="28" y="100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18" y="92"/>
                  </a:lnTo>
                  <a:lnTo>
                    <a:pt x="16" y="88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56"/>
                  </a:lnTo>
                  <a:lnTo>
                    <a:pt x="1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32" y="42"/>
                  </a:lnTo>
                  <a:lnTo>
                    <a:pt x="48" y="40"/>
                  </a:lnTo>
                  <a:lnTo>
                    <a:pt x="48" y="40"/>
                  </a:lnTo>
                  <a:close/>
                  <a:moveTo>
                    <a:pt x="174" y="132"/>
                  </a:moveTo>
                  <a:lnTo>
                    <a:pt x="422" y="132"/>
                  </a:lnTo>
                  <a:lnTo>
                    <a:pt x="422" y="104"/>
                  </a:lnTo>
                  <a:lnTo>
                    <a:pt x="174" y="104"/>
                  </a:lnTo>
                  <a:lnTo>
                    <a:pt x="174" y="132"/>
                  </a:lnTo>
                  <a:close/>
                  <a:moveTo>
                    <a:pt x="174" y="204"/>
                  </a:moveTo>
                  <a:lnTo>
                    <a:pt x="422" y="204"/>
                  </a:lnTo>
                  <a:lnTo>
                    <a:pt x="422" y="182"/>
                  </a:lnTo>
                  <a:lnTo>
                    <a:pt x="174" y="182"/>
                  </a:lnTo>
                  <a:lnTo>
                    <a:pt x="174" y="204"/>
                  </a:lnTo>
                  <a:close/>
                  <a:moveTo>
                    <a:pt x="174" y="280"/>
                  </a:moveTo>
                  <a:lnTo>
                    <a:pt x="422" y="280"/>
                  </a:lnTo>
                  <a:lnTo>
                    <a:pt x="422" y="254"/>
                  </a:lnTo>
                  <a:lnTo>
                    <a:pt x="174" y="254"/>
                  </a:lnTo>
                  <a:lnTo>
                    <a:pt x="174" y="280"/>
                  </a:lnTo>
                  <a:close/>
                  <a:moveTo>
                    <a:pt x="180" y="398"/>
                  </a:moveTo>
                  <a:lnTo>
                    <a:pt x="254" y="398"/>
                  </a:lnTo>
                  <a:lnTo>
                    <a:pt x="254" y="398"/>
                  </a:lnTo>
                  <a:lnTo>
                    <a:pt x="256" y="390"/>
                  </a:lnTo>
                  <a:lnTo>
                    <a:pt x="258" y="384"/>
                  </a:lnTo>
                  <a:lnTo>
                    <a:pt x="266" y="372"/>
                  </a:lnTo>
                  <a:lnTo>
                    <a:pt x="266" y="372"/>
                  </a:lnTo>
                  <a:lnTo>
                    <a:pt x="272" y="368"/>
                  </a:lnTo>
                  <a:lnTo>
                    <a:pt x="280" y="366"/>
                  </a:lnTo>
                  <a:lnTo>
                    <a:pt x="290" y="364"/>
                  </a:lnTo>
                  <a:lnTo>
                    <a:pt x="300" y="362"/>
                  </a:lnTo>
                  <a:lnTo>
                    <a:pt x="300" y="362"/>
                  </a:lnTo>
                  <a:lnTo>
                    <a:pt x="312" y="364"/>
                  </a:lnTo>
                  <a:lnTo>
                    <a:pt x="322" y="366"/>
                  </a:lnTo>
                  <a:lnTo>
                    <a:pt x="328" y="368"/>
                  </a:lnTo>
                  <a:lnTo>
                    <a:pt x="334" y="372"/>
                  </a:lnTo>
                  <a:lnTo>
                    <a:pt x="334" y="372"/>
                  </a:lnTo>
                  <a:lnTo>
                    <a:pt x="340" y="378"/>
                  </a:lnTo>
                  <a:lnTo>
                    <a:pt x="344" y="384"/>
                  </a:lnTo>
                  <a:lnTo>
                    <a:pt x="346" y="390"/>
                  </a:lnTo>
                  <a:lnTo>
                    <a:pt x="348" y="398"/>
                  </a:lnTo>
                  <a:lnTo>
                    <a:pt x="410" y="398"/>
                  </a:lnTo>
                  <a:lnTo>
                    <a:pt x="410" y="398"/>
                  </a:lnTo>
                  <a:lnTo>
                    <a:pt x="390" y="374"/>
                  </a:lnTo>
                  <a:lnTo>
                    <a:pt x="370" y="348"/>
                  </a:lnTo>
                  <a:lnTo>
                    <a:pt x="220" y="348"/>
                  </a:lnTo>
                  <a:lnTo>
                    <a:pt x="220" y="348"/>
                  </a:lnTo>
                  <a:lnTo>
                    <a:pt x="218" y="352"/>
                  </a:lnTo>
                  <a:lnTo>
                    <a:pt x="216" y="356"/>
                  </a:lnTo>
                  <a:lnTo>
                    <a:pt x="216" y="356"/>
                  </a:lnTo>
                  <a:lnTo>
                    <a:pt x="212" y="364"/>
                  </a:lnTo>
                  <a:lnTo>
                    <a:pt x="204" y="374"/>
                  </a:lnTo>
                  <a:lnTo>
                    <a:pt x="180" y="398"/>
                  </a:lnTo>
                  <a:lnTo>
                    <a:pt x="180" y="39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9097640" y="7576920"/>
              <a:ext cx="955440" cy="93996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602" h="592">
                  <a:moveTo>
                    <a:pt x="54" y="88"/>
                  </a:moveTo>
                  <a:lnTo>
                    <a:pt x="250" y="88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52" y="38"/>
                  </a:lnTo>
                  <a:lnTo>
                    <a:pt x="254" y="28"/>
                  </a:lnTo>
                  <a:lnTo>
                    <a:pt x="258" y="20"/>
                  </a:lnTo>
                  <a:lnTo>
                    <a:pt x="266" y="12"/>
                  </a:lnTo>
                  <a:lnTo>
                    <a:pt x="266" y="12"/>
                  </a:lnTo>
                  <a:lnTo>
                    <a:pt x="272" y="6"/>
                  </a:lnTo>
                  <a:lnTo>
                    <a:pt x="280" y="2"/>
                  </a:lnTo>
                  <a:lnTo>
                    <a:pt x="290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12" y="0"/>
                  </a:lnTo>
                  <a:lnTo>
                    <a:pt x="322" y="2"/>
                  </a:lnTo>
                  <a:lnTo>
                    <a:pt x="330" y="6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42" y="20"/>
                  </a:lnTo>
                  <a:lnTo>
                    <a:pt x="348" y="28"/>
                  </a:lnTo>
                  <a:lnTo>
                    <a:pt x="350" y="38"/>
                  </a:lnTo>
                  <a:lnTo>
                    <a:pt x="350" y="48"/>
                  </a:lnTo>
                  <a:lnTo>
                    <a:pt x="350" y="88"/>
                  </a:lnTo>
                  <a:lnTo>
                    <a:pt x="542" y="88"/>
                  </a:lnTo>
                  <a:lnTo>
                    <a:pt x="542" y="88"/>
                  </a:lnTo>
                  <a:lnTo>
                    <a:pt x="554" y="88"/>
                  </a:lnTo>
                  <a:lnTo>
                    <a:pt x="562" y="90"/>
                  </a:lnTo>
                  <a:lnTo>
                    <a:pt x="570" y="94"/>
                  </a:lnTo>
                  <a:lnTo>
                    <a:pt x="578" y="98"/>
                  </a:lnTo>
                  <a:lnTo>
                    <a:pt x="578" y="98"/>
                  </a:lnTo>
                  <a:lnTo>
                    <a:pt x="582" y="104"/>
                  </a:lnTo>
                  <a:lnTo>
                    <a:pt x="584" y="112"/>
                  </a:lnTo>
                  <a:lnTo>
                    <a:pt x="586" y="122"/>
                  </a:lnTo>
                  <a:lnTo>
                    <a:pt x="586" y="134"/>
                  </a:lnTo>
                  <a:lnTo>
                    <a:pt x="586" y="134"/>
                  </a:lnTo>
                  <a:lnTo>
                    <a:pt x="584" y="152"/>
                  </a:lnTo>
                  <a:lnTo>
                    <a:pt x="582" y="158"/>
                  </a:lnTo>
                  <a:lnTo>
                    <a:pt x="578" y="164"/>
                  </a:lnTo>
                  <a:lnTo>
                    <a:pt x="578" y="164"/>
                  </a:lnTo>
                  <a:lnTo>
                    <a:pt x="572" y="170"/>
                  </a:lnTo>
                  <a:lnTo>
                    <a:pt x="564" y="174"/>
                  </a:lnTo>
                  <a:lnTo>
                    <a:pt x="554" y="178"/>
                  </a:lnTo>
                  <a:lnTo>
                    <a:pt x="542" y="178"/>
                  </a:lnTo>
                  <a:lnTo>
                    <a:pt x="442" y="178"/>
                  </a:lnTo>
                  <a:lnTo>
                    <a:pt x="442" y="178"/>
                  </a:lnTo>
                  <a:lnTo>
                    <a:pt x="458" y="222"/>
                  </a:lnTo>
                  <a:lnTo>
                    <a:pt x="472" y="260"/>
                  </a:lnTo>
                  <a:lnTo>
                    <a:pt x="486" y="292"/>
                  </a:lnTo>
                  <a:lnTo>
                    <a:pt x="500" y="322"/>
                  </a:lnTo>
                  <a:lnTo>
                    <a:pt x="500" y="322"/>
                  </a:lnTo>
                  <a:lnTo>
                    <a:pt x="516" y="348"/>
                  </a:lnTo>
                  <a:lnTo>
                    <a:pt x="534" y="376"/>
                  </a:lnTo>
                  <a:lnTo>
                    <a:pt x="558" y="406"/>
                  </a:lnTo>
                  <a:lnTo>
                    <a:pt x="586" y="436"/>
                  </a:lnTo>
                  <a:lnTo>
                    <a:pt x="586" y="436"/>
                  </a:lnTo>
                  <a:lnTo>
                    <a:pt x="594" y="442"/>
                  </a:lnTo>
                  <a:lnTo>
                    <a:pt x="598" y="450"/>
                  </a:lnTo>
                  <a:lnTo>
                    <a:pt x="600" y="458"/>
                  </a:lnTo>
                  <a:lnTo>
                    <a:pt x="602" y="468"/>
                  </a:lnTo>
                  <a:lnTo>
                    <a:pt x="602" y="468"/>
                  </a:lnTo>
                  <a:lnTo>
                    <a:pt x="600" y="476"/>
                  </a:lnTo>
                  <a:lnTo>
                    <a:pt x="598" y="482"/>
                  </a:lnTo>
                  <a:lnTo>
                    <a:pt x="594" y="488"/>
                  </a:lnTo>
                  <a:lnTo>
                    <a:pt x="590" y="494"/>
                  </a:lnTo>
                  <a:lnTo>
                    <a:pt x="590" y="494"/>
                  </a:lnTo>
                  <a:lnTo>
                    <a:pt x="582" y="502"/>
                  </a:lnTo>
                  <a:lnTo>
                    <a:pt x="572" y="506"/>
                  </a:lnTo>
                  <a:lnTo>
                    <a:pt x="562" y="510"/>
                  </a:lnTo>
                  <a:lnTo>
                    <a:pt x="550" y="512"/>
                  </a:lnTo>
                  <a:lnTo>
                    <a:pt x="550" y="512"/>
                  </a:lnTo>
                  <a:lnTo>
                    <a:pt x="540" y="510"/>
                  </a:lnTo>
                  <a:lnTo>
                    <a:pt x="530" y="508"/>
                  </a:lnTo>
                  <a:lnTo>
                    <a:pt x="522" y="504"/>
                  </a:lnTo>
                  <a:lnTo>
                    <a:pt x="514" y="498"/>
                  </a:lnTo>
                  <a:lnTo>
                    <a:pt x="514" y="498"/>
                  </a:lnTo>
                  <a:lnTo>
                    <a:pt x="486" y="466"/>
                  </a:lnTo>
                  <a:lnTo>
                    <a:pt x="458" y="430"/>
                  </a:lnTo>
                  <a:lnTo>
                    <a:pt x="434" y="390"/>
                  </a:lnTo>
                  <a:lnTo>
                    <a:pt x="412" y="346"/>
                  </a:lnTo>
                  <a:lnTo>
                    <a:pt x="412" y="346"/>
                  </a:lnTo>
                  <a:lnTo>
                    <a:pt x="398" y="314"/>
                  </a:lnTo>
                  <a:lnTo>
                    <a:pt x="384" y="280"/>
                  </a:lnTo>
                  <a:lnTo>
                    <a:pt x="372" y="244"/>
                  </a:lnTo>
                  <a:lnTo>
                    <a:pt x="362" y="204"/>
                  </a:lnTo>
                  <a:lnTo>
                    <a:pt x="362" y="204"/>
                  </a:lnTo>
                  <a:lnTo>
                    <a:pt x="358" y="178"/>
                  </a:lnTo>
                  <a:lnTo>
                    <a:pt x="350" y="178"/>
                  </a:lnTo>
                  <a:lnTo>
                    <a:pt x="350" y="400"/>
                  </a:lnTo>
                  <a:lnTo>
                    <a:pt x="400" y="400"/>
                  </a:lnTo>
                  <a:lnTo>
                    <a:pt x="400" y="400"/>
                  </a:lnTo>
                  <a:lnTo>
                    <a:pt x="410" y="400"/>
                  </a:lnTo>
                  <a:lnTo>
                    <a:pt x="418" y="402"/>
                  </a:lnTo>
                  <a:lnTo>
                    <a:pt x="426" y="404"/>
                  </a:lnTo>
                  <a:lnTo>
                    <a:pt x="432" y="408"/>
                  </a:lnTo>
                  <a:lnTo>
                    <a:pt x="432" y="408"/>
                  </a:lnTo>
                  <a:lnTo>
                    <a:pt x="436" y="412"/>
                  </a:lnTo>
                  <a:lnTo>
                    <a:pt x="440" y="420"/>
                  </a:lnTo>
                  <a:lnTo>
                    <a:pt x="442" y="430"/>
                  </a:lnTo>
                  <a:lnTo>
                    <a:pt x="442" y="442"/>
                  </a:lnTo>
                  <a:lnTo>
                    <a:pt x="442" y="442"/>
                  </a:lnTo>
                  <a:lnTo>
                    <a:pt x="440" y="460"/>
                  </a:lnTo>
                  <a:lnTo>
                    <a:pt x="438" y="468"/>
                  </a:lnTo>
                  <a:lnTo>
                    <a:pt x="436" y="472"/>
                  </a:lnTo>
                  <a:lnTo>
                    <a:pt x="436" y="472"/>
                  </a:lnTo>
                  <a:lnTo>
                    <a:pt x="430" y="478"/>
                  </a:lnTo>
                  <a:lnTo>
                    <a:pt x="422" y="482"/>
                  </a:lnTo>
                  <a:lnTo>
                    <a:pt x="412" y="484"/>
                  </a:lnTo>
                  <a:lnTo>
                    <a:pt x="400" y="486"/>
                  </a:lnTo>
                  <a:lnTo>
                    <a:pt x="350" y="486"/>
                  </a:lnTo>
                  <a:lnTo>
                    <a:pt x="350" y="544"/>
                  </a:lnTo>
                  <a:lnTo>
                    <a:pt x="350" y="544"/>
                  </a:lnTo>
                  <a:lnTo>
                    <a:pt x="350" y="552"/>
                  </a:lnTo>
                  <a:lnTo>
                    <a:pt x="348" y="562"/>
                  </a:lnTo>
                  <a:lnTo>
                    <a:pt x="346" y="568"/>
                  </a:lnTo>
                  <a:lnTo>
                    <a:pt x="342" y="576"/>
                  </a:lnTo>
                  <a:lnTo>
                    <a:pt x="342" y="576"/>
                  </a:lnTo>
                  <a:lnTo>
                    <a:pt x="334" y="584"/>
                  </a:lnTo>
                  <a:lnTo>
                    <a:pt x="324" y="588"/>
                  </a:lnTo>
                  <a:lnTo>
                    <a:pt x="314" y="592"/>
                  </a:lnTo>
                  <a:lnTo>
                    <a:pt x="302" y="592"/>
                  </a:lnTo>
                  <a:lnTo>
                    <a:pt x="302" y="592"/>
                  </a:lnTo>
                  <a:lnTo>
                    <a:pt x="290" y="592"/>
                  </a:lnTo>
                  <a:lnTo>
                    <a:pt x="278" y="588"/>
                  </a:lnTo>
                  <a:lnTo>
                    <a:pt x="270" y="584"/>
                  </a:lnTo>
                  <a:lnTo>
                    <a:pt x="262" y="576"/>
                  </a:lnTo>
                  <a:lnTo>
                    <a:pt x="262" y="576"/>
                  </a:lnTo>
                  <a:lnTo>
                    <a:pt x="258" y="570"/>
                  </a:lnTo>
                  <a:lnTo>
                    <a:pt x="254" y="562"/>
                  </a:lnTo>
                  <a:lnTo>
                    <a:pt x="252" y="552"/>
                  </a:lnTo>
                  <a:lnTo>
                    <a:pt x="250" y="544"/>
                  </a:lnTo>
                  <a:lnTo>
                    <a:pt x="250" y="486"/>
                  </a:lnTo>
                  <a:lnTo>
                    <a:pt x="196" y="486"/>
                  </a:lnTo>
                  <a:lnTo>
                    <a:pt x="196" y="486"/>
                  </a:lnTo>
                  <a:lnTo>
                    <a:pt x="188" y="486"/>
                  </a:lnTo>
                  <a:lnTo>
                    <a:pt x="180" y="484"/>
                  </a:lnTo>
                  <a:lnTo>
                    <a:pt x="172" y="480"/>
                  </a:lnTo>
                  <a:lnTo>
                    <a:pt x="166" y="476"/>
                  </a:lnTo>
                  <a:lnTo>
                    <a:pt x="166" y="476"/>
                  </a:lnTo>
                  <a:lnTo>
                    <a:pt x="160" y="470"/>
                  </a:lnTo>
                  <a:lnTo>
                    <a:pt x="158" y="462"/>
                  </a:lnTo>
                  <a:lnTo>
                    <a:pt x="154" y="452"/>
                  </a:lnTo>
                  <a:lnTo>
                    <a:pt x="154" y="442"/>
                  </a:lnTo>
                  <a:lnTo>
                    <a:pt x="154" y="442"/>
                  </a:lnTo>
                  <a:lnTo>
                    <a:pt x="154" y="430"/>
                  </a:lnTo>
                  <a:lnTo>
                    <a:pt x="158" y="420"/>
                  </a:lnTo>
                  <a:lnTo>
                    <a:pt x="160" y="412"/>
                  </a:lnTo>
                  <a:lnTo>
                    <a:pt x="166" y="406"/>
                  </a:lnTo>
                  <a:lnTo>
                    <a:pt x="166" y="406"/>
                  </a:lnTo>
                  <a:lnTo>
                    <a:pt x="172" y="404"/>
                  </a:lnTo>
                  <a:lnTo>
                    <a:pt x="178" y="402"/>
                  </a:lnTo>
                  <a:lnTo>
                    <a:pt x="196" y="400"/>
                  </a:lnTo>
                  <a:lnTo>
                    <a:pt x="250" y="400"/>
                  </a:lnTo>
                  <a:lnTo>
                    <a:pt x="250" y="178"/>
                  </a:lnTo>
                  <a:lnTo>
                    <a:pt x="246" y="178"/>
                  </a:lnTo>
                  <a:lnTo>
                    <a:pt x="246" y="178"/>
                  </a:lnTo>
                  <a:lnTo>
                    <a:pt x="236" y="212"/>
                  </a:lnTo>
                  <a:lnTo>
                    <a:pt x="224" y="250"/>
                  </a:lnTo>
                  <a:lnTo>
                    <a:pt x="210" y="290"/>
                  </a:lnTo>
                  <a:lnTo>
                    <a:pt x="190" y="334"/>
                  </a:lnTo>
                  <a:lnTo>
                    <a:pt x="190" y="334"/>
                  </a:lnTo>
                  <a:lnTo>
                    <a:pt x="168" y="382"/>
                  </a:lnTo>
                  <a:lnTo>
                    <a:pt x="144" y="424"/>
                  </a:lnTo>
                  <a:lnTo>
                    <a:pt x="118" y="462"/>
                  </a:lnTo>
                  <a:lnTo>
                    <a:pt x="92" y="496"/>
                  </a:lnTo>
                  <a:lnTo>
                    <a:pt x="92" y="496"/>
                  </a:lnTo>
                  <a:lnTo>
                    <a:pt x="84" y="504"/>
                  </a:lnTo>
                  <a:lnTo>
                    <a:pt x="74" y="508"/>
                  </a:lnTo>
                  <a:lnTo>
                    <a:pt x="62" y="512"/>
                  </a:lnTo>
                  <a:lnTo>
                    <a:pt x="50" y="514"/>
                  </a:lnTo>
                  <a:lnTo>
                    <a:pt x="50" y="514"/>
                  </a:lnTo>
                  <a:lnTo>
                    <a:pt x="42" y="512"/>
                  </a:lnTo>
                  <a:lnTo>
                    <a:pt x="32" y="510"/>
                  </a:lnTo>
                  <a:lnTo>
                    <a:pt x="24" y="506"/>
                  </a:lnTo>
                  <a:lnTo>
                    <a:pt x="14" y="500"/>
                  </a:lnTo>
                  <a:lnTo>
                    <a:pt x="14" y="500"/>
                  </a:lnTo>
                  <a:lnTo>
                    <a:pt x="8" y="492"/>
                  </a:lnTo>
                  <a:lnTo>
                    <a:pt x="4" y="486"/>
                  </a:lnTo>
                  <a:lnTo>
                    <a:pt x="2" y="478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62"/>
                  </a:lnTo>
                  <a:lnTo>
                    <a:pt x="2" y="454"/>
                  </a:lnTo>
                  <a:lnTo>
                    <a:pt x="6" y="446"/>
                  </a:lnTo>
                  <a:lnTo>
                    <a:pt x="10" y="442"/>
                  </a:lnTo>
                  <a:lnTo>
                    <a:pt x="10" y="442"/>
                  </a:lnTo>
                  <a:lnTo>
                    <a:pt x="36" y="408"/>
                  </a:lnTo>
                  <a:lnTo>
                    <a:pt x="60" y="376"/>
                  </a:lnTo>
                  <a:lnTo>
                    <a:pt x="82" y="344"/>
                  </a:lnTo>
                  <a:lnTo>
                    <a:pt x="98" y="312"/>
                  </a:lnTo>
                  <a:lnTo>
                    <a:pt x="98" y="312"/>
                  </a:lnTo>
                  <a:lnTo>
                    <a:pt x="114" y="278"/>
                  </a:lnTo>
                  <a:lnTo>
                    <a:pt x="128" y="244"/>
                  </a:lnTo>
                  <a:lnTo>
                    <a:pt x="140" y="210"/>
                  </a:lnTo>
                  <a:lnTo>
                    <a:pt x="150" y="178"/>
                  </a:lnTo>
                  <a:lnTo>
                    <a:pt x="54" y="178"/>
                  </a:lnTo>
                  <a:lnTo>
                    <a:pt x="54" y="178"/>
                  </a:lnTo>
                  <a:lnTo>
                    <a:pt x="44" y="178"/>
                  </a:lnTo>
                  <a:lnTo>
                    <a:pt x="36" y="176"/>
                  </a:lnTo>
                  <a:lnTo>
                    <a:pt x="28" y="172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16" y="162"/>
                  </a:lnTo>
                  <a:lnTo>
                    <a:pt x="12" y="154"/>
                  </a:lnTo>
                  <a:lnTo>
                    <a:pt x="10" y="144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0" y="122"/>
                  </a:lnTo>
                  <a:lnTo>
                    <a:pt x="12" y="112"/>
                  </a:lnTo>
                  <a:lnTo>
                    <a:pt x="16" y="104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26" y="94"/>
                  </a:lnTo>
                  <a:lnTo>
                    <a:pt x="34" y="90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20142360" y="7665840"/>
              <a:ext cx="869760" cy="768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548" h="484">
                  <a:moveTo>
                    <a:pt x="544" y="42"/>
                  </a:moveTo>
                  <a:lnTo>
                    <a:pt x="544" y="42"/>
                  </a:lnTo>
                  <a:lnTo>
                    <a:pt x="544" y="52"/>
                  </a:lnTo>
                  <a:lnTo>
                    <a:pt x="542" y="60"/>
                  </a:lnTo>
                  <a:lnTo>
                    <a:pt x="540" y="68"/>
                  </a:lnTo>
                  <a:lnTo>
                    <a:pt x="534" y="74"/>
                  </a:lnTo>
                  <a:lnTo>
                    <a:pt x="528" y="80"/>
                  </a:lnTo>
                  <a:lnTo>
                    <a:pt x="518" y="84"/>
                  </a:lnTo>
                  <a:lnTo>
                    <a:pt x="508" y="88"/>
                  </a:lnTo>
                  <a:lnTo>
                    <a:pt x="498" y="90"/>
                  </a:lnTo>
                  <a:lnTo>
                    <a:pt x="498" y="90"/>
                  </a:lnTo>
                  <a:lnTo>
                    <a:pt x="432" y="102"/>
                  </a:lnTo>
                  <a:lnTo>
                    <a:pt x="432" y="102"/>
                  </a:lnTo>
                  <a:lnTo>
                    <a:pt x="412" y="110"/>
                  </a:lnTo>
                  <a:lnTo>
                    <a:pt x="394" y="118"/>
                  </a:lnTo>
                  <a:lnTo>
                    <a:pt x="376" y="126"/>
                  </a:lnTo>
                  <a:lnTo>
                    <a:pt x="362" y="138"/>
                  </a:lnTo>
                  <a:lnTo>
                    <a:pt x="362" y="138"/>
                  </a:lnTo>
                  <a:lnTo>
                    <a:pt x="340" y="154"/>
                  </a:lnTo>
                  <a:lnTo>
                    <a:pt x="324" y="174"/>
                  </a:lnTo>
                  <a:lnTo>
                    <a:pt x="308" y="194"/>
                  </a:lnTo>
                  <a:lnTo>
                    <a:pt x="296" y="214"/>
                  </a:lnTo>
                  <a:lnTo>
                    <a:pt x="286" y="236"/>
                  </a:lnTo>
                  <a:lnTo>
                    <a:pt x="280" y="258"/>
                  </a:lnTo>
                  <a:lnTo>
                    <a:pt x="276" y="280"/>
                  </a:lnTo>
                  <a:lnTo>
                    <a:pt x="274" y="304"/>
                  </a:lnTo>
                  <a:lnTo>
                    <a:pt x="274" y="304"/>
                  </a:lnTo>
                  <a:lnTo>
                    <a:pt x="276" y="324"/>
                  </a:lnTo>
                  <a:lnTo>
                    <a:pt x="282" y="340"/>
                  </a:lnTo>
                  <a:lnTo>
                    <a:pt x="290" y="354"/>
                  </a:lnTo>
                  <a:lnTo>
                    <a:pt x="304" y="366"/>
                  </a:lnTo>
                  <a:lnTo>
                    <a:pt x="304" y="366"/>
                  </a:lnTo>
                  <a:lnTo>
                    <a:pt x="314" y="372"/>
                  </a:lnTo>
                  <a:lnTo>
                    <a:pt x="326" y="378"/>
                  </a:lnTo>
                  <a:lnTo>
                    <a:pt x="340" y="382"/>
                  </a:lnTo>
                  <a:lnTo>
                    <a:pt x="356" y="386"/>
                  </a:lnTo>
                  <a:lnTo>
                    <a:pt x="392" y="390"/>
                  </a:lnTo>
                  <a:lnTo>
                    <a:pt x="438" y="392"/>
                  </a:lnTo>
                  <a:lnTo>
                    <a:pt x="438" y="392"/>
                  </a:lnTo>
                  <a:lnTo>
                    <a:pt x="448" y="392"/>
                  </a:lnTo>
                  <a:lnTo>
                    <a:pt x="458" y="394"/>
                  </a:lnTo>
                  <a:lnTo>
                    <a:pt x="466" y="398"/>
                  </a:lnTo>
                  <a:lnTo>
                    <a:pt x="472" y="404"/>
                  </a:lnTo>
                  <a:lnTo>
                    <a:pt x="476" y="410"/>
                  </a:lnTo>
                  <a:lnTo>
                    <a:pt x="480" y="418"/>
                  </a:lnTo>
                  <a:lnTo>
                    <a:pt x="482" y="428"/>
                  </a:lnTo>
                  <a:lnTo>
                    <a:pt x="484" y="438"/>
                  </a:lnTo>
                  <a:lnTo>
                    <a:pt x="484" y="438"/>
                  </a:lnTo>
                  <a:lnTo>
                    <a:pt x="482" y="446"/>
                  </a:lnTo>
                  <a:lnTo>
                    <a:pt x="480" y="456"/>
                  </a:lnTo>
                  <a:lnTo>
                    <a:pt x="476" y="462"/>
                  </a:lnTo>
                  <a:lnTo>
                    <a:pt x="472" y="470"/>
                  </a:lnTo>
                  <a:lnTo>
                    <a:pt x="472" y="470"/>
                  </a:lnTo>
                  <a:lnTo>
                    <a:pt x="464" y="476"/>
                  </a:lnTo>
                  <a:lnTo>
                    <a:pt x="456" y="480"/>
                  </a:lnTo>
                  <a:lnTo>
                    <a:pt x="448" y="482"/>
                  </a:lnTo>
                  <a:lnTo>
                    <a:pt x="438" y="484"/>
                  </a:lnTo>
                  <a:lnTo>
                    <a:pt x="438" y="484"/>
                  </a:lnTo>
                  <a:lnTo>
                    <a:pt x="406" y="482"/>
                  </a:lnTo>
                  <a:lnTo>
                    <a:pt x="378" y="480"/>
                  </a:lnTo>
                  <a:lnTo>
                    <a:pt x="350" y="476"/>
                  </a:lnTo>
                  <a:lnTo>
                    <a:pt x="326" y="472"/>
                  </a:lnTo>
                  <a:lnTo>
                    <a:pt x="302" y="466"/>
                  </a:lnTo>
                  <a:lnTo>
                    <a:pt x="282" y="458"/>
                  </a:lnTo>
                  <a:lnTo>
                    <a:pt x="262" y="450"/>
                  </a:lnTo>
                  <a:lnTo>
                    <a:pt x="246" y="438"/>
                  </a:lnTo>
                  <a:lnTo>
                    <a:pt x="230" y="426"/>
                  </a:lnTo>
                  <a:lnTo>
                    <a:pt x="218" y="414"/>
                  </a:lnTo>
                  <a:lnTo>
                    <a:pt x="206" y="398"/>
                  </a:lnTo>
                  <a:lnTo>
                    <a:pt x="198" y="382"/>
                  </a:lnTo>
                  <a:lnTo>
                    <a:pt x="190" y="366"/>
                  </a:lnTo>
                  <a:lnTo>
                    <a:pt x="186" y="346"/>
                  </a:lnTo>
                  <a:lnTo>
                    <a:pt x="182" y="326"/>
                  </a:lnTo>
                  <a:lnTo>
                    <a:pt x="182" y="304"/>
                  </a:lnTo>
                  <a:lnTo>
                    <a:pt x="182" y="304"/>
                  </a:lnTo>
                  <a:lnTo>
                    <a:pt x="184" y="278"/>
                  </a:lnTo>
                  <a:lnTo>
                    <a:pt x="188" y="254"/>
                  </a:lnTo>
                  <a:lnTo>
                    <a:pt x="196" y="228"/>
                  </a:lnTo>
                  <a:lnTo>
                    <a:pt x="206" y="204"/>
                  </a:lnTo>
                  <a:lnTo>
                    <a:pt x="220" y="180"/>
                  </a:lnTo>
                  <a:lnTo>
                    <a:pt x="236" y="156"/>
                  </a:lnTo>
                  <a:lnTo>
                    <a:pt x="256" y="132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168" y="122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2" y="138"/>
                  </a:lnTo>
                  <a:lnTo>
                    <a:pt x="30" y="136"/>
                  </a:lnTo>
                  <a:lnTo>
                    <a:pt x="22" y="132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8" y="118"/>
                  </a:lnTo>
                  <a:lnTo>
                    <a:pt x="2" y="10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4" y="64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190" y="26"/>
                  </a:lnTo>
                  <a:lnTo>
                    <a:pt x="318" y="12"/>
                  </a:lnTo>
                  <a:lnTo>
                    <a:pt x="420" y="2"/>
                  </a:lnTo>
                  <a:lnTo>
                    <a:pt x="462" y="0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508" y="0"/>
                  </a:lnTo>
                  <a:lnTo>
                    <a:pt x="518" y="2"/>
                  </a:lnTo>
                  <a:lnTo>
                    <a:pt x="526" y="6"/>
                  </a:lnTo>
                  <a:lnTo>
                    <a:pt x="532" y="12"/>
                  </a:lnTo>
                  <a:lnTo>
                    <a:pt x="532" y="12"/>
                  </a:lnTo>
                  <a:lnTo>
                    <a:pt x="538" y="18"/>
                  </a:lnTo>
                  <a:lnTo>
                    <a:pt x="540" y="26"/>
                  </a:lnTo>
                  <a:lnTo>
                    <a:pt x="544" y="34"/>
                  </a:lnTo>
                  <a:lnTo>
                    <a:pt x="544" y="42"/>
                  </a:lnTo>
                  <a:lnTo>
                    <a:pt x="544" y="42"/>
                  </a:lnTo>
                  <a:close/>
                  <a:moveTo>
                    <a:pt x="472" y="250"/>
                  </a:moveTo>
                  <a:lnTo>
                    <a:pt x="472" y="250"/>
                  </a:lnTo>
                  <a:lnTo>
                    <a:pt x="470" y="258"/>
                  </a:lnTo>
                  <a:lnTo>
                    <a:pt x="464" y="266"/>
                  </a:lnTo>
                  <a:lnTo>
                    <a:pt x="464" y="266"/>
                  </a:lnTo>
                  <a:lnTo>
                    <a:pt x="454" y="270"/>
                  </a:lnTo>
                  <a:lnTo>
                    <a:pt x="446" y="272"/>
                  </a:lnTo>
                  <a:lnTo>
                    <a:pt x="446" y="272"/>
                  </a:lnTo>
                  <a:lnTo>
                    <a:pt x="438" y="270"/>
                  </a:lnTo>
                  <a:lnTo>
                    <a:pt x="432" y="268"/>
                  </a:lnTo>
                  <a:lnTo>
                    <a:pt x="426" y="264"/>
                  </a:lnTo>
                  <a:lnTo>
                    <a:pt x="422" y="258"/>
                  </a:lnTo>
                  <a:lnTo>
                    <a:pt x="422" y="258"/>
                  </a:lnTo>
                  <a:lnTo>
                    <a:pt x="394" y="214"/>
                  </a:lnTo>
                  <a:lnTo>
                    <a:pt x="394" y="214"/>
                  </a:lnTo>
                  <a:lnTo>
                    <a:pt x="386" y="198"/>
                  </a:lnTo>
                  <a:lnTo>
                    <a:pt x="382" y="186"/>
                  </a:lnTo>
                  <a:lnTo>
                    <a:pt x="382" y="186"/>
                  </a:lnTo>
                  <a:lnTo>
                    <a:pt x="384" y="176"/>
                  </a:lnTo>
                  <a:lnTo>
                    <a:pt x="390" y="168"/>
                  </a:lnTo>
                  <a:lnTo>
                    <a:pt x="398" y="164"/>
                  </a:lnTo>
                  <a:lnTo>
                    <a:pt x="412" y="162"/>
                  </a:lnTo>
                  <a:lnTo>
                    <a:pt x="412" y="162"/>
                  </a:lnTo>
                  <a:lnTo>
                    <a:pt x="418" y="164"/>
                  </a:lnTo>
                  <a:lnTo>
                    <a:pt x="424" y="166"/>
                  </a:lnTo>
                  <a:lnTo>
                    <a:pt x="430" y="170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52" y="200"/>
                  </a:lnTo>
                  <a:lnTo>
                    <a:pt x="466" y="226"/>
                  </a:lnTo>
                  <a:lnTo>
                    <a:pt x="466" y="226"/>
                  </a:lnTo>
                  <a:lnTo>
                    <a:pt x="470" y="236"/>
                  </a:lnTo>
                  <a:lnTo>
                    <a:pt x="472" y="250"/>
                  </a:lnTo>
                  <a:lnTo>
                    <a:pt x="472" y="250"/>
                  </a:lnTo>
                  <a:close/>
                  <a:moveTo>
                    <a:pt x="548" y="228"/>
                  </a:moveTo>
                  <a:lnTo>
                    <a:pt x="548" y="228"/>
                  </a:lnTo>
                  <a:lnTo>
                    <a:pt x="546" y="236"/>
                  </a:lnTo>
                  <a:lnTo>
                    <a:pt x="542" y="244"/>
                  </a:lnTo>
                  <a:lnTo>
                    <a:pt x="534" y="248"/>
                  </a:lnTo>
                  <a:lnTo>
                    <a:pt x="522" y="250"/>
                  </a:lnTo>
                  <a:lnTo>
                    <a:pt x="522" y="250"/>
                  </a:lnTo>
                  <a:lnTo>
                    <a:pt x="516" y="248"/>
                  </a:lnTo>
                  <a:lnTo>
                    <a:pt x="508" y="246"/>
                  </a:lnTo>
                  <a:lnTo>
                    <a:pt x="504" y="242"/>
                  </a:lnTo>
                  <a:lnTo>
                    <a:pt x="498" y="236"/>
                  </a:lnTo>
                  <a:lnTo>
                    <a:pt x="498" y="236"/>
                  </a:lnTo>
                  <a:lnTo>
                    <a:pt x="470" y="192"/>
                  </a:lnTo>
                  <a:lnTo>
                    <a:pt x="470" y="192"/>
                  </a:lnTo>
                  <a:lnTo>
                    <a:pt x="462" y="176"/>
                  </a:lnTo>
                  <a:lnTo>
                    <a:pt x="460" y="164"/>
                  </a:lnTo>
                  <a:lnTo>
                    <a:pt x="460" y="164"/>
                  </a:lnTo>
                  <a:lnTo>
                    <a:pt x="460" y="154"/>
                  </a:lnTo>
                  <a:lnTo>
                    <a:pt x="466" y="146"/>
                  </a:lnTo>
                  <a:lnTo>
                    <a:pt x="474" y="142"/>
                  </a:lnTo>
                  <a:lnTo>
                    <a:pt x="488" y="142"/>
                  </a:lnTo>
                  <a:lnTo>
                    <a:pt x="488" y="142"/>
                  </a:lnTo>
                  <a:lnTo>
                    <a:pt x="494" y="142"/>
                  </a:lnTo>
                  <a:lnTo>
                    <a:pt x="500" y="144"/>
                  </a:lnTo>
                  <a:lnTo>
                    <a:pt x="506" y="148"/>
                  </a:lnTo>
                  <a:lnTo>
                    <a:pt x="512" y="154"/>
                  </a:lnTo>
                  <a:lnTo>
                    <a:pt x="512" y="154"/>
                  </a:lnTo>
                  <a:lnTo>
                    <a:pt x="530" y="178"/>
                  </a:lnTo>
                  <a:lnTo>
                    <a:pt x="544" y="204"/>
                  </a:lnTo>
                  <a:lnTo>
                    <a:pt x="544" y="204"/>
                  </a:lnTo>
                  <a:lnTo>
                    <a:pt x="546" y="214"/>
                  </a:lnTo>
                  <a:lnTo>
                    <a:pt x="548" y="228"/>
                  </a:lnTo>
                  <a:lnTo>
                    <a:pt x="548" y="228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21164760" y="7602120"/>
              <a:ext cx="853920" cy="88272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38" h="556">
                  <a:moveTo>
                    <a:pt x="538" y="122"/>
                  </a:moveTo>
                  <a:lnTo>
                    <a:pt x="538" y="122"/>
                  </a:lnTo>
                  <a:lnTo>
                    <a:pt x="536" y="130"/>
                  </a:lnTo>
                  <a:lnTo>
                    <a:pt x="534" y="138"/>
                  </a:lnTo>
                  <a:lnTo>
                    <a:pt x="530" y="144"/>
                  </a:lnTo>
                  <a:lnTo>
                    <a:pt x="526" y="148"/>
                  </a:lnTo>
                  <a:lnTo>
                    <a:pt x="520" y="152"/>
                  </a:lnTo>
                  <a:lnTo>
                    <a:pt x="512" y="154"/>
                  </a:lnTo>
                  <a:lnTo>
                    <a:pt x="504" y="156"/>
                  </a:lnTo>
                  <a:lnTo>
                    <a:pt x="492" y="156"/>
                  </a:lnTo>
                  <a:lnTo>
                    <a:pt x="492" y="156"/>
                  </a:lnTo>
                  <a:lnTo>
                    <a:pt x="436" y="154"/>
                  </a:lnTo>
                  <a:lnTo>
                    <a:pt x="370" y="152"/>
                  </a:lnTo>
                  <a:lnTo>
                    <a:pt x="370" y="152"/>
                  </a:lnTo>
                  <a:lnTo>
                    <a:pt x="366" y="262"/>
                  </a:lnTo>
                  <a:lnTo>
                    <a:pt x="366" y="262"/>
                  </a:lnTo>
                  <a:lnTo>
                    <a:pt x="376" y="278"/>
                  </a:lnTo>
                  <a:lnTo>
                    <a:pt x="382" y="296"/>
                  </a:lnTo>
                  <a:lnTo>
                    <a:pt x="386" y="316"/>
                  </a:lnTo>
                  <a:lnTo>
                    <a:pt x="388" y="334"/>
                  </a:lnTo>
                  <a:lnTo>
                    <a:pt x="388" y="334"/>
                  </a:lnTo>
                  <a:lnTo>
                    <a:pt x="386" y="356"/>
                  </a:lnTo>
                  <a:lnTo>
                    <a:pt x="382" y="376"/>
                  </a:lnTo>
                  <a:lnTo>
                    <a:pt x="376" y="396"/>
                  </a:lnTo>
                  <a:lnTo>
                    <a:pt x="370" y="414"/>
                  </a:lnTo>
                  <a:lnTo>
                    <a:pt x="360" y="434"/>
                  </a:lnTo>
                  <a:lnTo>
                    <a:pt x="346" y="452"/>
                  </a:lnTo>
                  <a:lnTo>
                    <a:pt x="332" y="470"/>
                  </a:lnTo>
                  <a:lnTo>
                    <a:pt x="316" y="488"/>
                  </a:lnTo>
                  <a:lnTo>
                    <a:pt x="316" y="488"/>
                  </a:lnTo>
                  <a:lnTo>
                    <a:pt x="298" y="504"/>
                  </a:lnTo>
                  <a:lnTo>
                    <a:pt x="280" y="518"/>
                  </a:lnTo>
                  <a:lnTo>
                    <a:pt x="262" y="528"/>
                  </a:lnTo>
                  <a:lnTo>
                    <a:pt x="246" y="538"/>
                  </a:lnTo>
                  <a:lnTo>
                    <a:pt x="228" y="546"/>
                  </a:lnTo>
                  <a:lnTo>
                    <a:pt x="210" y="550"/>
                  </a:lnTo>
                  <a:lnTo>
                    <a:pt x="192" y="554"/>
                  </a:lnTo>
                  <a:lnTo>
                    <a:pt x="176" y="556"/>
                  </a:lnTo>
                  <a:lnTo>
                    <a:pt x="176" y="556"/>
                  </a:lnTo>
                  <a:lnTo>
                    <a:pt x="166" y="554"/>
                  </a:lnTo>
                  <a:lnTo>
                    <a:pt x="160" y="552"/>
                  </a:lnTo>
                  <a:lnTo>
                    <a:pt x="152" y="548"/>
                  </a:lnTo>
                  <a:lnTo>
                    <a:pt x="146" y="542"/>
                  </a:lnTo>
                  <a:lnTo>
                    <a:pt x="146" y="542"/>
                  </a:lnTo>
                  <a:lnTo>
                    <a:pt x="140" y="536"/>
                  </a:lnTo>
                  <a:lnTo>
                    <a:pt x="136" y="530"/>
                  </a:lnTo>
                  <a:lnTo>
                    <a:pt x="134" y="522"/>
                  </a:lnTo>
                  <a:lnTo>
                    <a:pt x="134" y="512"/>
                  </a:lnTo>
                  <a:lnTo>
                    <a:pt x="134" y="512"/>
                  </a:lnTo>
                  <a:lnTo>
                    <a:pt x="136" y="502"/>
                  </a:lnTo>
                  <a:lnTo>
                    <a:pt x="142" y="492"/>
                  </a:lnTo>
                  <a:lnTo>
                    <a:pt x="154" y="482"/>
                  </a:lnTo>
                  <a:lnTo>
                    <a:pt x="170" y="474"/>
                  </a:lnTo>
                  <a:lnTo>
                    <a:pt x="170" y="474"/>
                  </a:lnTo>
                  <a:lnTo>
                    <a:pt x="212" y="452"/>
                  </a:lnTo>
                  <a:lnTo>
                    <a:pt x="212" y="452"/>
                  </a:lnTo>
                  <a:lnTo>
                    <a:pt x="232" y="438"/>
                  </a:lnTo>
                  <a:lnTo>
                    <a:pt x="252" y="422"/>
                  </a:lnTo>
                  <a:lnTo>
                    <a:pt x="252" y="422"/>
                  </a:lnTo>
                  <a:lnTo>
                    <a:pt x="218" y="418"/>
                  </a:lnTo>
                  <a:lnTo>
                    <a:pt x="202" y="416"/>
                  </a:lnTo>
                  <a:lnTo>
                    <a:pt x="186" y="410"/>
                  </a:lnTo>
                  <a:lnTo>
                    <a:pt x="172" y="406"/>
                  </a:lnTo>
                  <a:lnTo>
                    <a:pt x="160" y="398"/>
                  </a:lnTo>
                  <a:lnTo>
                    <a:pt x="148" y="392"/>
                  </a:lnTo>
                  <a:lnTo>
                    <a:pt x="138" y="384"/>
                  </a:lnTo>
                  <a:lnTo>
                    <a:pt x="138" y="384"/>
                  </a:lnTo>
                  <a:lnTo>
                    <a:pt x="122" y="368"/>
                  </a:lnTo>
                  <a:lnTo>
                    <a:pt x="118" y="358"/>
                  </a:lnTo>
                  <a:lnTo>
                    <a:pt x="112" y="350"/>
                  </a:lnTo>
                  <a:lnTo>
                    <a:pt x="106" y="330"/>
                  </a:lnTo>
                  <a:lnTo>
                    <a:pt x="104" y="306"/>
                  </a:lnTo>
                  <a:lnTo>
                    <a:pt x="104" y="306"/>
                  </a:lnTo>
                  <a:lnTo>
                    <a:pt x="104" y="294"/>
                  </a:lnTo>
                  <a:lnTo>
                    <a:pt x="106" y="282"/>
                  </a:lnTo>
                  <a:lnTo>
                    <a:pt x="110" y="270"/>
                  </a:lnTo>
                  <a:lnTo>
                    <a:pt x="114" y="260"/>
                  </a:lnTo>
                  <a:lnTo>
                    <a:pt x="120" y="248"/>
                  </a:lnTo>
                  <a:lnTo>
                    <a:pt x="128" y="240"/>
                  </a:lnTo>
                  <a:lnTo>
                    <a:pt x="138" y="230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64" y="212"/>
                  </a:lnTo>
                  <a:lnTo>
                    <a:pt x="184" y="206"/>
                  </a:lnTo>
                  <a:lnTo>
                    <a:pt x="208" y="202"/>
                  </a:lnTo>
                  <a:lnTo>
                    <a:pt x="236" y="200"/>
                  </a:lnTo>
                  <a:lnTo>
                    <a:pt x="236" y="200"/>
                  </a:lnTo>
                  <a:lnTo>
                    <a:pt x="274" y="202"/>
                  </a:lnTo>
                  <a:lnTo>
                    <a:pt x="274" y="152"/>
                  </a:lnTo>
                  <a:lnTo>
                    <a:pt x="274" y="152"/>
                  </a:lnTo>
                  <a:lnTo>
                    <a:pt x="224" y="154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42" y="164"/>
                  </a:lnTo>
                  <a:lnTo>
                    <a:pt x="42" y="164"/>
                  </a:lnTo>
                  <a:lnTo>
                    <a:pt x="32" y="164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6" y="150"/>
                  </a:lnTo>
                  <a:lnTo>
                    <a:pt x="2" y="144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4" y="106"/>
                  </a:lnTo>
                  <a:lnTo>
                    <a:pt x="8" y="102"/>
                  </a:lnTo>
                  <a:lnTo>
                    <a:pt x="12" y="96"/>
                  </a:lnTo>
                  <a:lnTo>
                    <a:pt x="18" y="92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68" y="82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268" y="76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70" y="34"/>
                  </a:lnTo>
                  <a:lnTo>
                    <a:pt x="272" y="26"/>
                  </a:lnTo>
                  <a:lnTo>
                    <a:pt x="276" y="20"/>
                  </a:lnTo>
                  <a:lnTo>
                    <a:pt x="284" y="14"/>
                  </a:lnTo>
                  <a:lnTo>
                    <a:pt x="284" y="14"/>
                  </a:lnTo>
                  <a:lnTo>
                    <a:pt x="292" y="8"/>
                  </a:lnTo>
                  <a:lnTo>
                    <a:pt x="300" y="4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40" y="4"/>
                  </a:lnTo>
                  <a:lnTo>
                    <a:pt x="350" y="10"/>
                  </a:lnTo>
                  <a:lnTo>
                    <a:pt x="356" y="18"/>
                  </a:lnTo>
                  <a:lnTo>
                    <a:pt x="362" y="28"/>
                  </a:lnTo>
                  <a:lnTo>
                    <a:pt x="366" y="40"/>
                  </a:lnTo>
                  <a:lnTo>
                    <a:pt x="368" y="56"/>
                  </a:lnTo>
                  <a:lnTo>
                    <a:pt x="370" y="72"/>
                  </a:lnTo>
                  <a:lnTo>
                    <a:pt x="370" y="72"/>
                  </a:lnTo>
                  <a:lnTo>
                    <a:pt x="458" y="72"/>
                  </a:lnTo>
                  <a:lnTo>
                    <a:pt x="500" y="74"/>
                  </a:lnTo>
                  <a:lnTo>
                    <a:pt x="500" y="74"/>
                  </a:lnTo>
                  <a:lnTo>
                    <a:pt x="508" y="76"/>
                  </a:lnTo>
                  <a:lnTo>
                    <a:pt x="516" y="78"/>
                  </a:lnTo>
                  <a:lnTo>
                    <a:pt x="522" y="84"/>
                  </a:lnTo>
                  <a:lnTo>
                    <a:pt x="528" y="90"/>
                  </a:lnTo>
                  <a:lnTo>
                    <a:pt x="528" y="90"/>
                  </a:lnTo>
                  <a:lnTo>
                    <a:pt x="532" y="96"/>
                  </a:lnTo>
                  <a:lnTo>
                    <a:pt x="534" y="104"/>
                  </a:lnTo>
                  <a:lnTo>
                    <a:pt x="536" y="112"/>
                  </a:lnTo>
                  <a:lnTo>
                    <a:pt x="538" y="122"/>
                  </a:lnTo>
                  <a:lnTo>
                    <a:pt x="538" y="122"/>
                  </a:lnTo>
                  <a:close/>
                  <a:moveTo>
                    <a:pt x="278" y="302"/>
                  </a:moveTo>
                  <a:lnTo>
                    <a:pt x="278" y="302"/>
                  </a:lnTo>
                  <a:lnTo>
                    <a:pt x="276" y="294"/>
                  </a:lnTo>
                  <a:lnTo>
                    <a:pt x="274" y="286"/>
                  </a:lnTo>
                  <a:lnTo>
                    <a:pt x="270" y="280"/>
                  </a:lnTo>
                  <a:lnTo>
                    <a:pt x="264" y="274"/>
                  </a:lnTo>
                  <a:lnTo>
                    <a:pt x="264" y="274"/>
                  </a:lnTo>
                  <a:lnTo>
                    <a:pt x="258" y="270"/>
                  </a:lnTo>
                  <a:lnTo>
                    <a:pt x="250" y="266"/>
                  </a:lnTo>
                  <a:lnTo>
                    <a:pt x="242" y="264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26" y="264"/>
                  </a:lnTo>
                  <a:lnTo>
                    <a:pt x="220" y="266"/>
                  </a:lnTo>
                  <a:lnTo>
                    <a:pt x="208" y="274"/>
                  </a:lnTo>
                  <a:lnTo>
                    <a:pt x="208" y="274"/>
                  </a:lnTo>
                  <a:lnTo>
                    <a:pt x="202" y="282"/>
                  </a:lnTo>
                  <a:lnTo>
                    <a:pt x="196" y="288"/>
                  </a:lnTo>
                  <a:lnTo>
                    <a:pt x="194" y="298"/>
                  </a:lnTo>
                  <a:lnTo>
                    <a:pt x="194" y="306"/>
                  </a:lnTo>
                  <a:lnTo>
                    <a:pt x="194" y="306"/>
                  </a:lnTo>
                  <a:lnTo>
                    <a:pt x="194" y="316"/>
                  </a:lnTo>
                  <a:lnTo>
                    <a:pt x="196" y="324"/>
                  </a:lnTo>
                  <a:lnTo>
                    <a:pt x="200" y="330"/>
                  </a:lnTo>
                  <a:lnTo>
                    <a:pt x="206" y="334"/>
                  </a:lnTo>
                  <a:lnTo>
                    <a:pt x="206" y="334"/>
                  </a:lnTo>
                  <a:lnTo>
                    <a:pt x="214" y="340"/>
                  </a:lnTo>
                  <a:lnTo>
                    <a:pt x="220" y="342"/>
                  </a:lnTo>
                  <a:lnTo>
                    <a:pt x="230" y="344"/>
                  </a:lnTo>
                  <a:lnTo>
                    <a:pt x="238" y="344"/>
                  </a:lnTo>
                  <a:lnTo>
                    <a:pt x="238" y="344"/>
                  </a:lnTo>
                  <a:lnTo>
                    <a:pt x="248" y="344"/>
                  </a:lnTo>
                  <a:lnTo>
                    <a:pt x="256" y="342"/>
                  </a:lnTo>
                  <a:lnTo>
                    <a:pt x="262" y="338"/>
                  </a:lnTo>
                  <a:lnTo>
                    <a:pt x="268" y="334"/>
                  </a:lnTo>
                  <a:lnTo>
                    <a:pt x="272" y="328"/>
                  </a:lnTo>
                  <a:lnTo>
                    <a:pt x="274" y="320"/>
                  </a:lnTo>
                  <a:lnTo>
                    <a:pt x="276" y="312"/>
                  </a:lnTo>
                  <a:lnTo>
                    <a:pt x="278" y="302"/>
                  </a:lnTo>
                  <a:lnTo>
                    <a:pt x="278" y="302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13803480" y="7897680"/>
              <a:ext cx="269640" cy="2728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0" h="172">
                  <a:moveTo>
                    <a:pt x="0" y="86"/>
                  </a:moveTo>
                  <a:lnTo>
                    <a:pt x="0" y="86"/>
                  </a:lnTo>
                  <a:lnTo>
                    <a:pt x="2" y="68"/>
                  </a:lnTo>
                  <a:lnTo>
                    <a:pt x="8" y="52"/>
                  </a:lnTo>
                  <a:lnTo>
                    <a:pt x="16" y="38"/>
                  </a:lnTo>
                  <a:lnTo>
                    <a:pt x="26" y="24"/>
                  </a:lnTo>
                  <a:lnTo>
                    <a:pt x="38" y="14"/>
                  </a:lnTo>
                  <a:lnTo>
                    <a:pt x="52" y="6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34" y="14"/>
                  </a:lnTo>
                  <a:lnTo>
                    <a:pt x="146" y="24"/>
                  </a:lnTo>
                  <a:lnTo>
                    <a:pt x="156" y="38"/>
                  </a:lnTo>
                  <a:lnTo>
                    <a:pt x="164" y="52"/>
                  </a:lnTo>
                  <a:lnTo>
                    <a:pt x="168" y="6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68" y="104"/>
                  </a:lnTo>
                  <a:lnTo>
                    <a:pt x="164" y="120"/>
                  </a:lnTo>
                  <a:lnTo>
                    <a:pt x="156" y="134"/>
                  </a:lnTo>
                  <a:lnTo>
                    <a:pt x="146" y="146"/>
                  </a:lnTo>
                  <a:lnTo>
                    <a:pt x="134" y="158"/>
                  </a:lnTo>
                  <a:lnTo>
                    <a:pt x="118" y="164"/>
                  </a:lnTo>
                  <a:lnTo>
                    <a:pt x="102" y="170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68" y="170"/>
                  </a:lnTo>
                  <a:lnTo>
                    <a:pt x="52" y="164"/>
                  </a:lnTo>
                  <a:lnTo>
                    <a:pt x="38" y="158"/>
                  </a:lnTo>
                  <a:lnTo>
                    <a:pt x="26" y="146"/>
                  </a:lnTo>
                  <a:lnTo>
                    <a:pt x="14" y="134"/>
                  </a:lnTo>
                  <a:lnTo>
                    <a:pt x="8" y="120"/>
                  </a:lnTo>
                  <a:lnTo>
                    <a:pt x="2" y="104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グループ化 129"/>
          <p:cNvGrpSpPr/>
          <p:nvPr/>
        </p:nvGrpSpPr>
        <p:grpSpPr>
          <a:xfrm>
            <a:off x="36160200" y="936720"/>
            <a:ext cx="6270480" cy="9020160"/>
            <a:chOff x="36160200" y="936720"/>
            <a:chExt cx="6270480" cy="9020160"/>
          </a:xfrm>
        </p:grpSpPr>
        <p:sp>
          <p:nvSpPr>
            <p:cNvPr id="166" name="Freeform 23"/>
            <p:cNvSpPr/>
            <p:nvPr/>
          </p:nvSpPr>
          <p:spPr>
            <a:xfrm>
              <a:off x="37985760" y="4927680"/>
              <a:ext cx="4359240" cy="5029200"/>
            </a:xfrm>
            <a:custGeom>
              <a:avLst/>
              <a:gdLst>
                <a:gd name="textAreaLeft" fmla="*/ 0 w 4359240"/>
                <a:gd name="textAreaRight" fmla="*/ 4359600 w 43592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2746" h="3168">
                  <a:moveTo>
                    <a:pt x="894" y="2702"/>
                  </a:moveTo>
                  <a:lnTo>
                    <a:pt x="894" y="2702"/>
                  </a:lnTo>
                  <a:lnTo>
                    <a:pt x="930" y="2744"/>
                  </a:lnTo>
                  <a:lnTo>
                    <a:pt x="970" y="2792"/>
                  </a:lnTo>
                  <a:lnTo>
                    <a:pt x="1016" y="2852"/>
                  </a:lnTo>
                  <a:lnTo>
                    <a:pt x="1042" y="2888"/>
                  </a:lnTo>
                  <a:lnTo>
                    <a:pt x="1066" y="2924"/>
                  </a:lnTo>
                  <a:lnTo>
                    <a:pt x="1088" y="2962"/>
                  </a:lnTo>
                  <a:lnTo>
                    <a:pt x="1112" y="3002"/>
                  </a:lnTo>
                  <a:lnTo>
                    <a:pt x="1132" y="3044"/>
                  </a:lnTo>
                  <a:lnTo>
                    <a:pt x="1148" y="3086"/>
                  </a:lnTo>
                  <a:lnTo>
                    <a:pt x="1164" y="3126"/>
                  </a:lnTo>
                  <a:lnTo>
                    <a:pt x="1174" y="3168"/>
                  </a:lnTo>
                  <a:lnTo>
                    <a:pt x="1466" y="3168"/>
                  </a:lnTo>
                  <a:lnTo>
                    <a:pt x="1466" y="3168"/>
                  </a:lnTo>
                  <a:lnTo>
                    <a:pt x="1478" y="3128"/>
                  </a:lnTo>
                  <a:lnTo>
                    <a:pt x="1490" y="3090"/>
                  </a:lnTo>
                  <a:lnTo>
                    <a:pt x="1502" y="3058"/>
                  </a:lnTo>
                  <a:lnTo>
                    <a:pt x="1514" y="3030"/>
                  </a:lnTo>
                  <a:lnTo>
                    <a:pt x="1526" y="3006"/>
                  </a:lnTo>
                  <a:lnTo>
                    <a:pt x="1540" y="2988"/>
                  </a:lnTo>
                  <a:lnTo>
                    <a:pt x="1552" y="2976"/>
                  </a:lnTo>
                  <a:lnTo>
                    <a:pt x="1558" y="2972"/>
                  </a:lnTo>
                  <a:lnTo>
                    <a:pt x="1566" y="2970"/>
                  </a:lnTo>
                  <a:lnTo>
                    <a:pt x="1566" y="2970"/>
                  </a:lnTo>
                  <a:lnTo>
                    <a:pt x="1572" y="2968"/>
                  </a:lnTo>
                  <a:lnTo>
                    <a:pt x="1580" y="2970"/>
                  </a:lnTo>
                  <a:lnTo>
                    <a:pt x="1588" y="2972"/>
                  </a:lnTo>
                  <a:lnTo>
                    <a:pt x="1594" y="2978"/>
                  </a:lnTo>
                  <a:lnTo>
                    <a:pt x="1602" y="2984"/>
                  </a:lnTo>
                  <a:lnTo>
                    <a:pt x="1610" y="2994"/>
                  </a:lnTo>
                  <a:lnTo>
                    <a:pt x="1624" y="3016"/>
                  </a:lnTo>
                  <a:lnTo>
                    <a:pt x="1638" y="3046"/>
                  </a:lnTo>
                  <a:lnTo>
                    <a:pt x="1652" y="3080"/>
                  </a:lnTo>
                  <a:lnTo>
                    <a:pt x="1666" y="3122"/>
                  </a:lnTo>
                  <a:lnTo>
                    <a:pt x="1680" y="3168"/>
                  </a:lnTo>
                  <a:lnTo>
                    <a:pt x="2224" y="3168"/>
                  </a:lnTo>
                  <a:lnTo>
                    <a:pt x="2224" y="3168"/>
                  </a:lnTo>
                  <a:lnTo>
                    <a:pt x="2188" y="2986"/>
                  </a:lnTo>
                  <a:lnTo>
                    <a:pt x="2150" y="2818"/>
                  </a:lnTo>
                  <a:lnTo>
                    <a:pt x="2118" y="2686"/>
                  </a:lnTo>
                  <a:lnTo>
                    <a:pt x="2104" y="2640"/>
                  </a:lnTo>
                  <a:lnTo>
                    <a:pt x="2094" y="2610"/>
                  </a:lnTo>
                  <a:lnTo>
                    <a:pt x="2094" y="2610"/>
                  </a:lnTo>
                  <a:lnTo>
                    <a:pt x="2088" y="2588"/>
                  </a:lnTo>
                  <a:lnTo>
                    <a:pt x="2082" y="2568"/>
                  </a:lnTo>
                  <a:lnTo>
                    <a:pt x="2078" y="2552"/>
                  </a:lnTo>
                  <a:lnTo>
                    <a:pt x="2078" y="2536"/>
                  </a:lnTo>
                  <a:lnTo>
                    <a:pt x="2078" y="2536"/>
                  </a:lnTo>
                  <a:lnTo>
                    <a:pt x="2080" y="2520"/>
                  </a:lnTo>
                  <a:lnTo>
                    <a:pt x="2084" y="2506"/>
                  </a:lnTo>
                  <a:lnTo>
                    <a:pt x="2088" y="2496"/>
                  </a:lnTo>
                  <a:lnTo>
                    <a:pt x="2094" y="2488"/>
                  </a:lnTo>
                  <a:lnTo>
                    <a:pt x="2094" y="2488"/>
                  </a:lnTo>
                  <a:lnTo>
                    <a:pt x="2110" y="2296"/>
                  </a:lnTo>
                  <a:lnTo>
                    <a:pt x="2110" y="2296"/>
                  </a:lnTo>
                  <a:lnTo>
                    <a:pt x="2112" y="2290"/>
                  </a:lnTo>
                  <a:lnTo>
                    <a:pt x="2114" y="2284"/>
                  </a:lnTo>
                  <a:lnTo>
                    <a:pt x="2114" y="2284"/>
                  </a:lnTo>
                  <a:lnTo>
                    <a:pt x="2122" y="2270"/>
                  </a:lnTo>
                  <a:lnTo>
                    <a:pt x="2142" y="2228"/>
                  </a:lnTo>
                  <a:lnTo>
                    <a:pt x="2156" y="2200"/>
                  </a:lnTo>
                  <a:lnTo>
                    <a:pt x="2168" y="2168"/>
                  </a:lnTo>
                  <a:lnTo>
                    <a:pt x="2182" y="2130"/>
                  </a:lnTo>
                  <a:lnTo>
                    <a:pt x="2194" y="2090"/>
                  </a:lnTo>
                  <a:lnTo>
                    <a:pt x="2194" y="2090"/>
                  </a:lnTo>
                  <a:lnTo>
                    <a:pt x="2200" y="2066"/>
                  </a:lnTo>
                  <a:lnTo>
                    <a:pt x="2204" y="2040"/>
                  </a:lnTo>
                  <a:lnTo>
                    <a:pt x="2210" y="1978"/>
                  </a:lnTo>
                  <a:lnTo>
                    <a:pt x="2214" y="1912"/>
                  </a:lnTo>
                  <a:lnTo>
                    <a:pt x="2214" y="1844"/>
                  </a:lnTo>
                  <a:lnTo>
                    <a:pt x="2214" y="1844"/>
                  </a:lnTo>
                  <a:lnTo>
                    <a:pt x="2212" y="1728"/>
                  </a:lnTo>
                  <a:lnTo>
                    <a:pt x="2210" y="1678"/>
                  </a:lnTo>
                  <a:lnTo>
                    <a:pt x="2210" y="1678"/>
                  </a:lnTo>
                  <a:lnTo>
                    <a:pt x="2210" y="1676"/>
                  </a:lnTo>
                  <a:lnTo>
                    <a:pt x="2210" y="1676"/>
                  </a:lnTo>
                  <a:lnTo>
                    <a:pt x="2212" y="1666"/>
                  </a:lnTo>
                  <a:lnTo>
                    <a:pt x="2218" y="1658"/>
                  </a:lnTo>
                  <a:lnTo>
                    <a:pt x="2218" y="1658"/>
                  </a:lnTo>
                  <a:lnTo>
                    <a:pt x="2228" y="1652"/>
                  </a:lnTo>
                  <a:lnTo>
                    <a:pt x="2238" y="1650"/>
                  </a:lnTo>
                  <a:lnTo>
                    <a:pt x="2238" y="1650"/>
                  </a:lnTo>
                  <a:lnTo>
                    <a:pt x="2294" y="1652"/>
                  </a:lnTo>
                  <a:lnTo>
                    <a:pt x="2348" y="1652"/>
                  </a:lnTo>
                  <a:lnTo>
                    <a:pt x="2396" y="1652"/>
                  </a:lnTo>
                  <a:lnTo>
                    <a:pt x="2442" y="1650"/>
                  </a:lnTo>
                  <a:lnTo>
                    <a:pt x="2524" y="1644"/>
                  </a:lnTo>
                  <a:lnTo>
                    <a:pt x="2592" y="1634"/>
                  </a:lnTo>
                  <a:lnTo>
                    <a:pt x="2648" y="1622"/>
                  </a:lnTo>
                  <a:lnTo>
                    <a:pt x="2692" y="1612"/>
                  </a:lnTo>
                  <a:lnTo>
                    <a:pt x="2726" y="1602"/>
                  </a:lnTo>
                  <a:lnTo>
                    <a:pt x="2746" y="1592"/>
                  </a:lnTo>
                  <a:lnTo>
                    <a:pt x="2746" y="1592"/>
                  </a:lnTo>
                  <a:lnTo>
                    <a:pt x="2732" y="1358"/>
                  </a:lnTo>
                  <a:lnTo>
                    <a:pt x="2732" y="1358"/>
                  </a:lnTo>
                  <a:lnTo>
                    <a:pt x="2730" y="1338"/>
                  </a:lnTo>
                  <a:lnTo>
                    <a:pt x="2728" y="1316"/>
                  </a:lnTo>
                  <a:lnTo>
                    <a:pt x="2716" y="1262"/>
                  </a:lnTo>
                  <a:lnTo>
                    <a:pt x="2698" y="1196"/>
                  </a:lnTo>
                  <a:lnTo>
                    <a:pt x="2676" y="1124"/>
                  </a:lnTo>
                  <a:lnTo>
                    <a:pt x="2648" y="1046"/>
                  </a:lnTo>
                  <a:lnTo>
                    <a:pt x="2618" y="964"/>
                  </a:lnTo>
                  <a:lnTo>
                    <a:pt x="2586" y="878"/>
                  </a:lnTo>
                  <a:lnTo>
                    <a:pt x="2550" y="794"/>
                  </a:lnTo>
                  <a:lnTo>
                    <a:pt x="2514" y="710"/>
                  </a:lnTo>
                  <a:lnTo>
                    <a:pt x="2480" y="630"/>
                  </a:lnTo>
                  <a:lnTo>
                    <a:pt x="2446" y="556"/>
                  </a:lnTo>
                  <a:lnTo>
                    <a:pt x="2414" y="490"/>
                  </a:lnTo>
                  <a:lnTo>
                    <a:pt x="2384" y="432"/>
                  </a:lnTo>
                  <a:lnTo>
                    <a:pt x="2360" y="388"/>
                  </a:lnTo>
                  <a:lnTo>
                    <a:pt x="2340" y="356"/>
                  </a:lnTo>
                  <a:lnTo>
                    <a:pt x="2332" y="346"/>
                  </a:lnTo>
                  <a:lnTo>
                    <a:pt x="2326" y="340"/>
                  </a:lnTo>
                  <a:lnTo>
                    <a:pt x="2326" y="340"/>
                  </a:lnTo>
                  <a:lnTo>
                    <a:pt x="2304" y="330"/>
                  </a:lnTo>
                  <a:lnTo>
                    <a:pt x="2282" y="322"/>
                  </a:lnTo>
                  <a:lnTo>
                    <a:pt x="2260" y="316"/>
                  </a:lnTo>
                  <a:lnTo>
                    <a:pt x="2242" y="314"/>
                  </a:lnTo>
                  <a:lnTo>
                    <a:pt x="2214" y="310"/>
                  </a:lnTo>
                  <a:lnTo>
                    <a:pt x="2204" y="308"/>
                  </a:lnTo>
                  <a:lnTo>
                    <a:pt x="2204" y="308"/>
                  </a:lnTo>
                  <a:lnTo>
                    <a:pt x="2196" y="308"/>
                  </a:lnTo>
                  <a:lnTo>
                    <a:pt x="2196" y="308"/>
                  </a:lnTo>
                  <a:lnTo>
                    <a:pt x="2128" y="284"/>
                  </a:lnTo>
                  <a:lnTo>
                    <a:pt x="2074" y="262"/>
                  </a:lnTo>
                  <a:lnTo>
                    <a:pt x="2012" y="236"/>
                  </a:lnTo>
                  <a:lnTo>
                    <a:pt x="1980" y="220"/>
                  </a:lnTo>
                  <a:lnTo>
                    <a:pt x="1950" y="204"/>
                  </a:lnTo>
                  <a:lnTo>
                    <a:pt x="1920" y="186"/>
                  </a:lnTo>
                  <a:lnTo>
                    <a:pt x="1894" y="168"/>
                  </a:lnTo>
                  <a:lnTo>
                    <a:pt x="1870" y="150"/>
                  </a:lnTo>
                  <a:lnTo>
                    <a:pt x="1850" y="130"/>
                  </a:lnTo>
                  <a:lnTo>
                    <a:pt x="1836" y="110"/>
                  </a:lnTo>
                  <a:lnTo>
                    <a:pt x="1830" y="100"/>
                  </a:lnTo>
                  <a:lnTo>
                    <a:pt x="1826" y="90"/>
                  </a:lnTo>
                  <a:lnTo>
                    <a:pt x="1826" y="90"/>
                  </a:lnTo>
                  <a:lnTo>
                    <a:pt x="1820" y="76"/>
                  </a:lnTo>
                  <a:lnTo>
                    <a:pt x="1812" y="66"/>
                  </a:lnTo>
                  <a:lnTo>
                    <a:pt x="1804" y="56"/>
                  </a:lnTo>
                  <a:lnTo>
                    <a:pt x="1794" y="50"/>
                  </a:lnTo>
                  <a:lnTo>
                    <a:pt x="1794" y="50"/>
                  </a:lnTo>
                  <a:lnTo>
                    <a:pt x="1782" y="46"/>
                  </a:lnTo>
                  <a:lnTo>
                    <a:pt x="1770" y="44"/>
                  </a:lnTo>
                  <a:lnTo>
                    <a:pt x="1758" y="44"/>
                  </a:lnTo>
                  <a:lnTo>
                    <a:pt x="1746" y="46"/>
                  </a:lnTo>
                  <a:lnTo>
                    <a:pt x="1724" y="50"/>
                  </a:lnTo>
                  <a:lnTo>
                    <a:pt x="1710" y="54"/>
                  </a:lnTo>
                  <a:lnTo>
                    <a:pt x="1710" y="54"/>
                  </a:lnTo>
                  <a:lnTo>
                    <a:pt x="1700" y="56"/>
                  </a:lnTo>
                  <a:lnTo>
                    <a:pt x="1692" y="56"/>
                  </a:lnTo>
                  <a:lnTo>
                    <a:pt x="1684" y="52"/>
                  </a:lnTo>
                  <a:lnTo>
                    <a:pt x="1676" y="44"/>
                  </a:lnTo>
                  <a:lnTo>
                    <a:pt x="1676" y="44"/>
                  </a:lnTo>
                  <a:lnTo>
                    <a:pt x="1670" y="34"/>
                  </a:lnTo>
                  <a:lnTo>
                    <a:pt x="1660" y="24"/>
                  </a:lnTo>
                  <a:lnTo>
                    <a:pt x="1650" y="16"/>
                  </a:lnTo>
                  <a:lnTo>
                    <a:pt x="1640" y="10"/>
                  </a:lnTo>
                  <a:lnTo>
                    <a:pt x="1628" y="6"/>
                  </a:lnTo>
                  <a:lnTo>
                    <a:pt x="1616" y="4"/>
                  </a:lnTo>
                  <a:lnTo>
                    <a:pt x="1594" y="0"/>
                  </a:lnTo>
                  <a:lnTo>
                    <a:pt x="1574" y="0"/>
                  </a:lnTo>
                  <a:lnTo>
                    <a:pt x="1556" y="2"/>
                  </a:lnTo>
                  <a:lnTo>
                    <a:pt x="1536" y="6"/>
                  </a:lnTo>
                  <a:lnTo>
                    <a:pt x="662" y="158"/>
                  </a:lnTo>
                  <a:lnTo>
                    <a:pt x="662" y="158"/>
                  </a:lnTo>
                  <a:lnTo>
                    <a:pt x="656" y="158"/>
                  </a:lnTo>
                  <a:lnTo>
                    <a:pt x="656" y="158"/>
                  </a:lnTo>
                  <a:lnTo>
                    <a:pt x="634" y="156"/>
                  </a:lnTo>
                  <a:lnTo>
                    <a:pt x="616" y="158"/>
                  </a:lnTo>
                  <a:lnTo>
                    <a:pt x="594" y="160"/>
                  </a:lnTo>
                  <a:lnTo>
                    <a:pt x="570" y="168"/>
                  </a:lnTo>
                  <a:lnTo>
                    <a:pt x="558" y="174"/>
                  </a:lnTo>
                  <a:lnTo>
                    <a:pt x="548" y="180"/>
                  </a:lnTo>
                  <a:lnTo>
                    <a:pt x="538" y="188"/>
                  </a:lnTo>
                  <a:lnTo>
                    <a:pt x="528" y="198"/>
                  </a:lnTo>
                  <a:lnTo>
                    <a:pt x="522" y="210"/>
                  </a:lnTo>
                  <a:lnTo>
                    <a:pt x="516" y="224"/>
                  </a:lnTo>
                  <a:lnTo>
                    <a:pt x="516" y="224"/>
                  </a:lnTo>
                  <a:lnTo>
                    <a:pt x="512" y="232"/>
                  </a:lnTo>
                  <a:lnTo>
                    <a:pt x="506" y="236"/>
                  </a:lnTo>
                  <a:lnTo>
                    <a:pt x="498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76" y="242"/>
                  </a:lnTo>
                  <a:lnTo>
                    <a:pt x="462" y="244"/>
                  </a:lnTo>
                  <a:lnTo>
                    <a:pt x="444" y="248"/>
                  </a:lnTo>
                  <a:lnTo>
                    <a:pt x="426" y="256"/>
                  </a:lnTo>
                  <a:lnTo>
                    <a:pt x="408" y="264"/>
                  </a:lnTo>
                  <a:lnTo>
                    <a:pt x="400" y="270"/>
                  </a:lnTo>
                  <a:lnTo>
                    <a:pt x="392" y="278"/>
                  </a:lnTo>
                  <a:lnTo>
                    <a:pt x="384" y="286"/>
                  </a:lnTo>
                  <a:lnTo>
                    <a:pt x="380" y="294"/>
                  </a:lnTo>
                  <a:lnTo>
                    <a:pt x="380" y="294"/>
                  </a:lnTo>
                  <a:lnTo>
                    <a:pt x="364" y="320"/>
                  </a:lnTo>
                  <a:lnTo>
                    <a:pt x="340" y="354"/>
                  </a:lnTo>
                  <a:lnTo>
                    <a:pt x="272" y="436"/>
                  </a:lnTo>
                  <a:lnTo>
                    <a:pt x="272" y="436"/>
                  </a:lnTo>
                  <a:lnTo>
                    <a:pt x="220" y="498"/>
                  </a:lnTo>
                  <a:lnTo>
                    <a:pt x="168" y="564"/>
                  </a:lnTo>
                  <a:lnTo>
                    <a:pt x="142" y="598"/>
                  </a:lnTo>
                  <a:lnTo>
                    <a:pt x="118" y="632"/>
                  </a:lnTo>
                  <a:lnTo>
                    <a:pt x="96" y="666"/>
                  </a:lnTo>
                  <a:lnTo>
                    <a:pt x="76" y="698"/>
                  </a:lnTo>
                  <a:lnTo>
                    <a:pt x="76" y="698"/>
                  </a:lnTo>
                  <a:lnTo>
                    <a:pt x="68" y="718"/>
                  </a:lnTo>
                  <a:lnTo>
                    <a:pt x="58" y="740"/>
                  </a:lnTo>
                  <a:lnTo>
                    <a:pt x="50" y="764"/>
                  </a:lnTo>
                  <a:lnTo>
                    <a:pt x="44" y="792"/>
                  </a:lnTo>
                  <a:lnTo>
                    <a:pt x="30" y="852"/>
                  </a:lnTo>
                  <a:lnTo>
                    <a:pt x="20" y="920"/>
                  </a:lnTo>
                  <a:lnTo>
                    <a:pt x="12" y="990"/>
                  </a:lnTo>
                  <a:lnTo>
                    <a:pt x="6" y="1064"/>
                  </a:lnTo>
                  <a:lnTo>
                    <a:pt x="2" y="1138"/>
                  </a:lnTo>
                  <a:lnTo>
                    <a:pt x="0" y="1208"/>
                  </a:lnTo>
                  <a:lnTo>
                    <a:pt x="0" y="1208"/>
                  </a:lnTo>
                  <a:lnTo>
                    <a:pt x="2" y="1288"/>
                  </a:lnTo>
                  <a:lnTo>
                    <a:pt x="8" y="1356"/>
                  </a:lnTo>
                  <a:lnTo>
                    <a:pt x="12" y="1386"/>
                  </a:lnTo>
                  <a:lnTo>
                    <a:pt x="16" y="1410"/>
                  </a:lnTo>
                  <a:lnTo>
                    <a:pt x="20" y="1432"/>
                  </a:lnTo>
                  <a:lnTo>
                    <a:pt x="26" y="1446"/>
                  </a:lnTo>
                  <a:lnTo>
                    <a:pt x="26" y="1446"/>
                  </a:lnTo>
                  <a:lnTo>
                    <a:pt x="36" y="1462"/>
                  </a:lnTo>
                  <a:lnTo>
                    <a:pt x="46" y="1476"/>
                  </a:lnTo>
                  <a:lnTo>
                    <a:pt x="60" y="1492"/>
                  </a:lnTo>
                  <a:lnTo>
                    <a:pt x="74" y="1506"/>
                  </a:lnTo>
                  <a:lnTo>
                    <a:pt x="110" y="1538"/>
                  </a:lnTo>
                  <a:lnTo>
                    <a:pt x="148" y="1566"/>
                  </a:lnTo>
                  <a:lnTo>
                    <a:pt x="188" y="1594"/>
                  </a:lnTo>
                  <a:lnTo>
                    <a:pt x="224" y="1618"/>
                  </a:lnTo>
                  <a:lnTo>
                    <a:pt x="284" y="1654"/>
                  </a:lnTo>
                  <a:lnTo>
                    <a:pt x="284" y="1654"/>
                  </a:lnTo>
                  <a:lnTo>
                    <a:pt x="292" y="1660"/>
                  </a:lnTo>
                  <a:lnTo>
                    <a:pt x="296" y="1668"/>
                  </a:lnTo>
                  <a:lnTo>
                    <a:pt x="296" y="1668"/>
                  </a:lnTo>
                  <a:lnTo>
                    <a:pt x="304" y="1692"/>
                  </a:lnTo>
                  <a:lnTo>
                    <a:pt x="320" y="1746"/>
                  </a:lnTo>
                  <a:lnTo>
                    <a:pt x="328" y="1784"/>
                  </a:lnTo>
                  <a:lnTo>
                    <a:pt x="334" y="1824"/>
                  </a:lnTo>
                  <a:lnTo>
                    <a:pt x="340" y="1866"/>
                  </a:lnTo>
                  <a:lnTo>
                    <a:pt x="342" y="1910"/>
                  </a:lnTo>
                  <a:lnTo>
                    <a:pt x="342" y="1910"/>
                  </a:lnTo>
                  <a:lnTo>
                    <a:pt x="340" y="1934"/>
                  </a:lnTo>
                  <a:lnTo>
                    <a:pt x="338" y="1958"/>
                  </a:lnTo>
                  <a:lnTo>
                    <a:pt x="336" y="1980"/>
                  </a:lnTo>
                  <a:lnTo>
                    <a:pt x="330" y="2002"/>
                  </a:lnTo>
                  <a:lnTo>
                    <a:pt x="330" y="2002"/>
                  </a:lnTo>
                  <a:lnTo>
                    <a:pt x="328" y="2014"/>
                  </a:lnTo>
                  <a:lnTo>
                    <a:pt x="328" y="2026"/>
                  </a:lnTo>
                  <a:lnTo>
                    <a:pt x="328" y="2026"/>
                  </a:lnTo>
                  <a:lnTo>
                    <a:pt x="330" y="2042"/>
                  </a:lnTo>
                  <a:lnTo>
                    <a:pt x="332" y="2060"/>
                  </a:lnTo>
                  <a:lnTo>
                    <a:pt x="338" y="2076"/>
                  </a:lnTo>
                  <a:lnTo>
                    <a:pt x="346" y="2094"/>
                  </a:lnTo>
                  <a:lnTo>
                    <a:pt x="356" y="2110"/>
                  </a:lnTo>
                  <a:lnTo>
                    <a:pt x="366" y="2126"/>
                  </a:lnTo>
                  <a:lnTo>
                    <a:pt x="390" y="2156"/>
                  </a:lnTo>
                  <a:lnTo>
                    <a:pt x="416" y="2184"/>
                  </a:lnTo>
                  <a:lnTo>
                    <a:pt x="444" y="2208"/>
                  </a:lnTo>
                  <a:lnTo>
                    <a:pt x="468" y="2228"/>
                  </a:lnTo>
                  <a:lnTo>
                    <a:pt x="488" y="2242"/>
                  </a:lnTo>
                  <a:lnTo>
                    <a:pt x="488" y="2242"/>
                  </a:lnTo>
                  <a:lnTo>
                    <a:pt x="496" y="2250"/>
                  </a:lnTo>
                  <a:lnTo>
                    <a:pt x="500" y="2260"/>
                  </a:lnTo>
                  <a:lnTo>
                    <a:pt x="532" y="2444"/>
                  </a:lnTo>
                  <a:lnTo>
                    <a:pt x="532" y="2444"/>
                  </a:lnTo>
                  <a:lnTo>
                    <a:pt x="534" y="2450"/>
                  </a:lnTo>
                  <a:lnTo>
                    <a:pt x="534" y="2450"/>
                  </a:lnTo>
                  <a:lnTo>
                    <a:pt x="532" y="2456"/>
                  </a:lnTo>
                  <a:lnTo>
                    <a:pt x="530" y="2464"/>
                  </a:lnTo>
                  <a:lnTo>
                    <a:pt x="530" y="2464"/>
                  </a:lnTo>
                  <a:lnTo>
                    <a:pt x="518" y="2482"/>
                  </a:lnTo>
                  <a:lnTo>
                    <a:pt x="508" y="2502"/>
                  </a:lnTo>
                  <a:lnTo>
                    <a:pt x="498" y="2530"/>
                  </a:lnTo>
                  <a:lnTo>
                    <a:pt x="486" y="2564"/>
                  </a:lnTo>
                  <a:lnTo>
                    <a:pt x="476" y="2604"/>
                  </a:lnTo>
                  <a:lnTo>
                    <a:pt x="468" y="2650"/>
                  </a:lnTo>
                  <a:lnTo>
                    <a:pt x="466" y="2676"/>
                  </a:lnTo>
                  <a:lnTo>
                    <a:pt x="466" y="2702"/>
                  </a:lnTo>
                  <a:lnTo>
                    <a:pt x="466" y="2702"/>
                  </a:lnTo>
                  <a:lnTo>
                    <a:pt x="464" y="2744"/>
                  </a:lnTo>
                  <a:lnTo>
                    <a:pt x="460" y="2814"/>
                  </a:lnTo>
                  <a:lnTo>
                    <a:pt x="444" y="3022"/>
                  </a:lnTo>
                  <a:lnTo>
                    <a:pt x="444" y="3022"/>
                  </a:lnTo>
                  <a:lnTo>
                    <a:pt x="432" y="3168"/>
                  </a:lnTo>
                  <a:lnTo>
                    <a:pt x="1034" y="3168"/>
                  </a:lnTo>
                  <a:lnTo>
                    <a:pt x="1034" y="3168"/>
                  </a:lnTo>
                  <a:lnTo>
                    <a:pt x="1028" y="3102"/>
                  </a:lnTo>
                  <a:lnTo>
                    <a:pt x="1020" y="3036"/>
                  </a:lnTo>
                  <a:lnTo>
                    <a:pt x="1010" y="2972"/>
                  </a:lnTo>
                  <a:lnTo>
                    <a:pt x="996" y="2912"/>
                  </a:lnTo>
                  <a:lnTo>
                    <a:pt x="986" y="2882"/>
                  </a:lnTo>
                  <a:lnTo>
                    <a:pt x="976" y="2852"/>
                  </a:lnTo>
                  <a:lnTo>
                    <a:pt x="966" y="2824"/>
                  </a:lnTo>
                  <a:lnTo>
                    <a:pt x="954" y="2798"/>
                  </a:lnTo>
                  <a:lnTo>
                    <a:pt x="940" y="2772"/>
                  </a:lnTo>
                  <a:lnTo>
                    <a:pt x="926" y="2746"/>
                  </a:lnTo>
                  <a:lnTo>
                    <a:pt x="910" y="2724"/>
                  </a:lnTo>
                  <a:lnTo>
                    <a:pt x="894" y="2702"/>
                  </a:lnTo>
                  <a:lnTo>
                    <a:pt x="894" y="27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4"/>
            <p:cNvSpPr/>
            <p:nvPr/>
          </p:nvSpPr>
          <p:spPr>
            <a:xfrm>
              <a:off x="37903320" y="4845240"/>
              <a:ext cx="4527360" cy="5111640"/>
            </a:xfrm>
            <a:custGeom>
              <a:avLst/>
              <a:gdLst>
                <a:gd name="textAreaLeft" fmla="*/ 0 w 4527360"/>
                <a:gd name="textAreaRight" fmla="*/ 4527720 w 4527360"/>
                <a:gd name="textAreaTop" fmla="*/ 0 h 5111640"/>
                <a:gd name="textAreaBottom" fmla="*/ 5111640 h 5111640"/>
              </a:gdLst>
              <a:ahLst/>
              <a:rect l="textAreaLeft" t="textAreaTop" r="textAreaRight" b="textAreaBottom"/>
              <a:pathLst>
                <a:path w="2852" h="3220">
                  <a:moveTo>
                    <a:pt x="492" y="2754"/>
                  </a:moveTo>
                  <a:lnTo>
                    <a:pt x="492" y="2754"/>
                  </a:lnTo>
                  <a:lnTo>
                    <a:pt x="492" y="2726"/>
                  </a:lnTo>
                  <a:lnTo>
                    <a:pt x="494" y="2698"/>
                  </a:lnTo>
                  <a:lnTo>
                    <a:pt x="498" y="2674"/>
                  </a:lnTo>
                  <a:lnTo>
                    <a:pt x="502" y="2650"/>
                  </a:lnTo>
                  <a:lnTo>
                    <a:pt x="514" y="2608"/>
                  </a:lnTo>
                  <a:lnTo>
                    <a:pt x="526" y="2570"/>
                  </a:lnTo>
                  <a:lnTo>
                    <a:pt x="538" y="2542"/>
                  </a:lnTo>
                  <a:lnTo>
                    <a:pt x="548" y="2520"/>
                  </a:lnTo>
                  <a:lnTo>
                    <a:pt x="560" y="2502"/>
                  </a:lnTo>
                  <a:lnTo>
                    <a:pt x="526" y="2316"/>
                  </a:lnTo>
                  <a:lnTo>
                    <a:pt x="526" y="2316"/>
                  </a:lnTo>
                  <a:lnTo>
                    <a:pt x="494" y="2294"/>
                  </a:lnTo>
                  <a:lnTo>
                    <a:pt x="464" y="2266"/>
                  </a:lnTo>
                  <a:lnTo>
                    <a:pt x="428" y="2232"/>
                  </a:lnTo>
                  <a:lnTo>
                    <a:pt x="412" y="2212"/>
                  </a:lnTo>
                  <a:lnTo>
                    <a:pt x="396" y="2192"/>
                  </a:lnTo>
                  <a:lnTo>
                    <a:pt x="382" y="2170"/>
                  </a:lnTo>
                  <a:lnTo>
                    <a:pt x="370" y="2146"/>
                  </a:lnTo>
                  <a:lnTo>
                    <a:pt x="360" y="2122"/>
                  </a:lnTo>
                  <a:lnTo>
                    <a:pt x="356" y="2098"/>
                  </a:lnTo>
                  <a:lnTo>
                    <a:pt x="354" y="2072"/>
                  </a:lnTo>
                  <a:lnTo>
                    <a:pt x="354" y="2060"/>
                  </a:lnTo>
                  <a:lnTo>
                    <a:pt x="358" y="2048"/>
                  </a:lnTo>
                  <a:lnTo>
                    <a:pt x="358" y="2048"/>
                  </a:lnTo>
                  <a:lnTo>
                    <a:pt x="362" y="2022"/>
                  </a:lnTo>
                  <a:lnTo>
                    <a:pt x="366" y="1996"/>
                  </a:lnTo>
                  <a:lnTo>
                    <a:pt x="366" y="1968"/>
                  </a:lnTo>
                  <a:lnTo>
                    <a:pt x="366" y="1942"/>
                  </a:lnTo>
                  <a:lnTo>
                    <a:pt x="364" y="1914"/>
                  </a:lnTo>
                  <a:lnTo>
                    <a:pt x="362" y="1888"/>
                  </a:lnTo>
                  <a:lnTo>
                    <a:pt x="354" y="1838"/>
                  </a:lnTo>
                  <a:lnTo>
                    <a:pt x="344" y="1794"/>
                  </a:lnTo>
                  <a:lnTo>
                    <a:pt x="334" y="1760"/>
                  </a:lnTo>
                  <a:lnTo>
                    <a:pt x="324" y="1728"/>
                  </a:lnTo>
                  <a:lnTo>
                    <a:pt x="324" y="1728"/>
                  </a:lnTo>
                  <a:lnTo>
                    <a:pt x="290" y="1708"/>
                  </a:lnTo>
                  <a:lnTo>
                    <a:pt x="252" y="1686"/>
                  </a:lnTo>
                  <a:lnTo>
                    <a:pt x="208" y="1658"/>
                  </a:lnTo>
                  <a:lnTo>
                    <a:pt x="162" y="1624"/>
                  </a:lnTo>
                  <a:lnTo>
                    <a:pt x="140" y="1606"/>
                  </a:lnTo>
                  <a:lnTo>
                    <a:pt x="118" y="1586"/>
                  </a:lnTo>
                  <a:lnTo>
                    <a:pt x="98" y="1568"/>
                  </a:lnTo>
                  <a:lnTo>
                    <a:pt x="82" y="1548"/>
                  </a:lnTo>
                  <a:lnTo>
                    <a:pt x="66" y="1530"/>
                  </a:lnTo>
                  <a:lnTo>
                    <a:pt x="56" y="1510"/>
                  </a:lnTo>
                  <a:lnTo>
                    <a:pt x="56" y="1510"/>
                  </a:lnTo>
                  <a:lnTo>
                    <a:pt x="46" y="1486"/>
                  </a:lnTo>
                  <a:lnTo>
                    <a:pt x="40" y="1454"/>
                  </a:lnTo>
                  <a:lnTo>
                    <a:pt x="34" y="1414"/>
                  </a:lnTo>
                  <a:lnTo>
                    <a:pt x="30" y="1368"/>
                  </a:lnTo>
                  <a:lnTo>
                    <a:pt x="28" y="1316"/>
                  </a:lnTo>
                  <a:lnTo>
                    <a:pt x="26" y="1262"/>
                  </a:lnTo>
                  <a:lnTo>
                    <a:pt x="28" y="1204"/>
                  </a:lnTo>
                  <a:lnTo>
                    <a:pt x="30" y="1142"/>
                  </a:lnTo>
                  <a:lnTo>
                    <a:pt x="34" y="1082"/>
                  </a:lnTo>
                  <a:lnTo>
                    <a:pt x="40" y="1022"/>
                  </a:lnTo>
                  <a:lnTo>
                    <a:pt x="46" y="964"/>
                  </a:lnTo>
                  <a:lnTo>
                    <a:pt x="56" y="908"/>
                  </a:lnTo>
                  <a:lnTo>
                    <a:pt x="66" y="856"/>
                  </a:lnTo>
                  <a:lnTo>
                    <a:pt x="78" y="810"/>
                  </a:lnTo>
                  <a:lnTo>
                    <a:pt x="90" y="770"/>
                  </a:lnTo>
                  <a:lnTo>
                    <a:pt x="98" y="752"/>
                  </a:lnTo>
                  <a:lnTo>
                    <a:pt x="106" y="738"/>
                  </a:lnTo>
                  <a:lnTo>
                    <a:pt x="106" y="738"/>
                  </a:lnTo>
                  <a:lnTo>
                    <a:pt x="122" y="710"/>
                  </a:lnTo>
                  <a:lnTo>
                    <a:pt x="142" y="680"/>
                  </a:lnTo>
                  <a:lnTo>
                    <a:pt x="184" y="620"/>
                  </a:lnTo>
                  <a:lnTo>
                    <a:pt x="230" y="562"/>
                  </a:lnTo>
                  <a:lnTo>
                    <a:pt x="276" y="504"/>
                  </a:lnTo>
                  <a:lnTo>
                    <a:pt x="358" y="404"/>
                  </a:lnTo>
                  <a:lnTo>
                    <a:pt x="388" y="366"/>
                  </a:lnTo>
                  <a:lnTo>
                    <a:pt x="400" y="348"/>
                  </a:lnTo>
                  <a:lnTo>
                    <a:pt x="408" y="334"/>
                  </a:lnTo>
                  <a:lnTo>
                    <a:pt x="408" y="334"/>
                  </a:lnTo>
                  <a:lnTo>
                    <a:pt x="414" y="322"/>
                  </a:lnTo>
                  <a:lnTo>
                    <a:pt x="424" y="312"/>
                  </a:lnTo>
                  <a:lnTo>
                    <a:pt x="432" y="304"/>
                  </a:lnTo>
                  <a:lnTo>
                    <a:pt x="444" y="296"/>
                  </a:lnTo>
                  <a:lnTo>
                    <a:pt x="466" y="284"/>
                  </a:lnTo>
                  <a:lnTo>
                    <a:pt x="488" y="276"/>
                  </a:lnTo>
                  <a:lnTo>
                    <a:pt x="508" y="272"/>
                  </a:lnTo>
                  <a:lnTo>
                    <a:pt x="526" y="268"/>
                  </a:lnTo>
                  <a:lnTo>
                    <a:pt x="542" y="268"/>
                  </a:lnTo>
                  <a:lnTo>
                    <a:pt x="542" y="268"/>
                  </a:lnTo>
                  <a:lnTo>
                    <a:pt x="550" y="250"/>
                  </a:lnTo>
                  <a:lnTo>
                    <a:pt x="560" y="234"/>
                  </a:lnTo>
                  <a:lnTo>
                    <a:pt x="570" y="222"/>
                  </a:lnTo>
                  <a:lnTo>
                    <a:pt x="582" y="212"/>
                  </a:lnTo>
                  <a:lnTo>
                    <a:pt x="596" y="204"/>
                  </a:lnTo>
                  <a:lnTo>
                    <a:pt x="610" y="196"/>
                  </a:lnTo>
                  <a:lnTo>
                    <a:pt x="624" y="192"/>
                  </a:lnTo>
                  <a:lnTo>
                    <a:pt x="638" y="188"/>
                  </a:lnTo>
                  <a:lnTo>
                    <a:pt x="666" y="184"/>
                  </a:lnTo>
                  <a:lnTo>
                    <a:pt x="688" y="182"/>
                  </a:lnTo>
                  <a:lnTo>
                    <a:pt x="710" y="184"/>
                  </a:lnTo>
                  <a:lnTo>
                    <a:pt x="1584" y="32"/>
                  </a:lnTo>
                  <a:lnTo>
                    <a:pt x="1584" y="32"/>
                  </a:lnTo>
                  <a:lnTo>
                    <a:pt x="1602" y="28"/>
                  </a:lnTo>
                  <a:lnTo>
                    <a:pt x="1624" y="26"/>
                  </a:lnTo>
                  <a:lnTo>
                    <a:pt x="1648" y="26"/>
                  </a:lnTo>
                  <a:lnTo>
                    <a:pt x="1662" y="28"/>
                  </a:lnTo>
                  <a:lnTo>
                    <a:pt x="1676" y="30"/>
                  </a:lnTo>
                  <a:lnTo>
                    <a:pt x="1690" y="34"/>
                  </a:lnTo>
                  <a:lnTo>
                    <a:pt x="1704" y="40"/>
                  </a:lnTo>
                  <a:lnTo>
                    <a:pt x="1718" y="46"/>
                  </a:lnTo>
                  <a:lnTo>
                    <a:pt x="1730" y="56"/>
                  </a:lnTo>
                  <a:lnTo>
                    <a:pt x="1742" y="68"/>
                  </a:lnTo>
                  <a:lnTo>
                    <a:pt x="1752" y="82"/>
                  </a:lnTo>
                  <a:lnTo>
                    <a:pt x="1752" y="82"/>
                  </a:lnTo>
                  <a:lnTo>
                    <a:pt x="1770" y="76"/>
                  </a:lnTo>
                  <a:lnTo>
                    <a:pt x="1790" y="72"/>
                  </a:lnTo>
                  <a:lnTo>
                    <a:pt x="1814" y="70"/>
                  </a:lnTo>
                  <a:lnTo>
                    <a:pt x="1828" y="70"/>
                  </a:lnTo>
                  <a:lnTo>
                    <a:pt x="1840" y="72"/>
                  </a:lnTo>
                  <a:lnTo>
                    <a:pt x="1852" y="76"/>
                  </a:lnTo>
                  <a:lnTo>
                    <a:pt x="1864" y="82"/>
                  </a:lnTo>
                  <a:lnTo>
                    <a:pt x="1876" y="92"/>
                  </a:lnTo>
                  <a:lnTo>
                    <a:pt x="1886" y="102"/>
                  </a:lnTo>
                  <a:lnTo>
                    <a:pt x="1896" y="116"/>
                  </a:lnTo>
                  <a:lnTo>
                    <a:pt x="1902" y="134"/>
                  </a:lnTo>
                  <a:lnTo>
                    <a:pt x="1902" y="134"/>
                  </a:lnTo>
                  <a:lnTo>
                    <a:pt x="1906" y="142"/>
                  </a:lnTo>
                  <a:lnTo>
                    <a:pt x="1912" y="152"/>
                  </a:lnTo>
                  <a:lnTo>
                    <a:pt x="1928" y="170"/>
                  </a:lnTo>
                  <a:lnTo>
                    <a:pt x="1948" y="190"/>
                  </a:lnTo>
                  <a:lnTo>
                    <a:pt x="1972" y="208"/>
                  </a:lnTo>
                  <a:lnTo>
                    <a:pt x="2000" y="224"/>
                  </a:lnTo>
                  <a:lnTo>
                    <a:pt x="2030" y="242"/>
                  </a:lnTo>
                  <a:lnTo>
                    <a:pt x="2060" y="256"/>
                  </a:lnTo>
                  <a:lnTo>
                    <a:pt x="2092" y="272"/>
                  </a:lnTo>
                  <a:lnTo>
                    <a:pt x="2152" y="298"/>
                  </a:lnTo>
                  <a:lnTo>
                    <a:pt x="2204" y="318"/>
                  </a:lnTo>
                  <a:lnTo>
                    <a:pt x="2256" y="334"/>
                  </a:lnTo>
                  <a:lnTo>
                    <a:pt x="2256" y="334"/>
                  </a:lnTo>
                  <a:lnTo>
                    <a:pt x="2266" y="336"/>
                  </a:lnTo>
                  <a:lnTo>
                    <a:pt x="2298" y="338"/>
                  </a:lnTo>
                  <a:lnTo>
                    <a:pt x="2318" y="342"/>
                  </a:lnTo>
                  <a:lnTo>
                    <a:pt x="2340" y="348"/>
                  </a:lnTo>
                  <a:lnTo>
                    <a:pt x="2364" y="358"/>
                  </a:lnTo>
                  <a:lnTo>
                    <a:pt x="2390" y="368"/>
                  </a:lnTo>
                  <a:lnTo>
                    <a:pt x="2390" y="368"/>
                  </a:lnTo>
                  <a:lnTo>
                    <a:pt x="2396" y="374"/>
                  </a:lnTo>
                  <a:lnTo>
                    <a:pt x="2406" y="384"/>
                  </a:lnTo>
                  <a:lnTo>
                    <a:pt x="2428" y="416"/>
                  </a:lnTo>
                  <a:lnTo>
                    <a:pt x="2454" y="460"/>
                  </a:lnTo>
                  <a:lnTo>
                    <a:pt x="2484" y="520"/>
                  </a:lnTo>
                  <a:lnTo>
                    <a:pt x="2516" y="588"/>
                  </a:lnTo>
                  <a:lnTo>
                    <a:pt x="2552" y="664"/>
                  </a:lnTo>
                  <a:lnTo>
                    <a:pt x="2588" y="746"/>
                  </a:lnTo>
                  <a:lnTo>
                    <a:pt x="2624" y="832"/>
                  </a:lnTo>
                  <a:lnTo>
                    <a:pt x="2660" y="920"/>
                  </a:lnTo>
                  <a:lnTo>
                    <a:pt x="2694" y="1008"/>
                  </a:lnTo>
                  <a:lnTo>
                    <a:pt x="2726" y="1092"/>
                  </a:lnTo>
                  <a:lnTo>
                    <a:pt x="2754" y="1174"/>
                  </a:lnTo>
                  <a:lnTo>
                    <a:pt x="2776" y="1248"/>
                  </a:lnTo>
                  <a:lnTo>
                    <a:pt x="2794" y="1314"/>
                  </a:lnTo>
                  <a:lnTo>
                    <a:pt x="2806" y="1368"/>
                  </a:lnTo>
                  <a:lnTo>
                    <a:pt x="2808" y="1390"/>
                  </a:lnTo>
                  <a:lnTo>
                    <a:pt x="2810" y="1410"/>
                  </a:lnTo>
                  <a:lnTo>
                    <a:pt x="2826" y="1662"/>
                  </a:lnTo>
                  <a:lnTo>
                    <a:pt x="2826" y="1662"/>
                  </a:lnTo>
                  <a:lnTo>
                    <a:pt x="2820" y="1666"/>
                  </a:lnTo>
                  <a:lnTo>
                    <a:pt x="2796" y="1674"/>
                  </a:lnTo>
                  <a:lnTo>
                    <a:pt x="2758" y="1688"/>
                  </a:lnTo>
                  <a:lnTo>
                    <a:pt x="2702" y="1702"/>
                  </a:lnTo>
                  <a:lnTo>
                    <a:pt x="2668" y="1708"/>
                  </a:lnTo>
                  <a:lnTo>
                    <a:pt x="2628" y="1714"/>
                  </a:lnTo>
                  <a:lnTo>
                    <a:pt x="2584" y="1720"/>
                  </a:lnTo>
                  <a:lnTo>
                    <a:pt x="2536" y="1726"/>
                  </a:lnTo>
                  <a:lnTo>
                    <a:pt x="2482" y="1728"/>
                  </a:lnTo>
                  <a:lnTo>
                    <a:pt x="2422" y="1730"/>
                  </a:lnTo>
                  <a:lnTo>
                    <a:pt x="2358" y="1730"/>
                  </a:lnTo>
                  <a:lnTo>
                    <a:pt x="2288" y="1728"/>
                  </a:lnTo>
                  <a:lnTo>
                    <a:pt x="2288" y="1728"/>
                  </a:lnTo>
                  <a:lnTo>
                    <a:pt x="2292" y="1778"/>
                  </a:lnTo>
                  <a:lnTo>
                    <a:pt x="2292" y="1830"/>
                  </a:lnTo>
                  <a:lnTo>
                    <a:pt x="2294" y="1894"/>
                  </a:lnTo>
                  <a:lnTo>
                    <a:pt x="2292" y="1964"/>
                  </a:lnTo>
                  <a:lnTo>
                    <a:pt x="2288" y="2034"/>
                  </a:lnTo>
                  <a:lnTo>
                    <a:pt x="2282" y="2096"/>
                  </a:lnTo>
                  <a:lnTo>
                    <a:pt x="2278" y="2124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58" y="2190"/>
                  </a:lnTo>
                  <a:lnTo>
                    <a:pt x="2244" y="2230"/>
                  </a:lnTo>
                  <a:lnTo>
                    <a:pt x="2230" y="2264"/>
                  </a:lnTo>
                  <a:lnTo>
                    <a:pt x="2218" y="2294"/>
                  </a:lnTo>
                  <a:lnTo>
                    <a:pt x="2196" y="2336"/>
                  </a:lnTo>
                  <a:lnTo>
                    <a:pt x="2188" y="2350"/>
                  </a:lnTo>
                  <a:lnTo>
                    <a:pt x="2172" y="2552"/>
                  </a:lnTo>
                  <a:lnTo>
                    <a:pt x="2172" y="2552"/>
                  </a:lnTo>
                  <a:lnTo>
                    <a:pt x="2166" y="2556"/>
                  </a:lnTo>
                  <a:lnTo>
                    <a:pt x="2162" y="2562"/>
                  </a:lnTo>
                  <a:lnTo>
                    <a:pt x="2158" y="2570"/>
                  </a:lnTo>
                  <a:lnTo>
                    <a:pt x="2156" y="2584"/>
                  </a:lnTo>
                  <a:lnTo>
                    <a:pt x="2158" y="2602"/>
                  </a:lnTo>
                  <a:lnTo>
                    <a:pt x="2162" y="2624"/>
                  </a:lnTo>
                  <a:lnTo>
                    <a:pt x="2172" y="2652"/>
                  </a:lnTo>
                  <a:lnTo>
                    <a:pt x="2172" y="2652"/>
                  </a:lnTo>
                  <a:lnTo>
                    <a:pt x="2182" y="2682"/>
                  </a:lnTo>
                  <a:lnTo>
                    <a:pt x="2194" y="2730"/>
                  </a:lnTo>
                  <a:lnTo>
                    <a:pt x="2228" y="2866"/>
                  </a:lnTo>
                  <a:lnTo>
                    <a:pt x="2266" y="3036"/>
                  </a:lnTo>
                  <a:lnTo>
                    <a:pt x="2304" y="3220"/>
                  </a:lnTo>
                  <a:lnTo>
                    <a:pt x="2330" y="3220"/>
                  </a:lnTo>
                  <a:lnTo>
                    <a:pt x="2330" y="3220"/>
                  </a:lnTo>
                  <a:lnTo>
                    <a:pt x="2292" y="3036"/>
                  </a:lnTo>
                  <a:lnTo>
                    <a:pt x="2254" y="2862"/>
                  </a:lnTo>
                  <a:lnTo>
                    <a:pt x="2220" y="2724"/>
                  </a:lnTo>
                  <a:lnTo>
                    <a:pt x="2206" y="2674"/>
                  </a:lnTo>
                  <a:lnTo>
                    <a:pt x="2196" y="2642"/>
                  </a:lnTo>
                  <a:lnTo>
                    <a:pt x="2196" y="2642"/>
                  </a:lnTo>
                  <a:lnTo>
                    <a:pt x="2190" y="2624"/>
                  </a:lnTo>
                  <a:lnTo>
                    <a:pt x="2186" y="2610"/>
                  </a:lnTo>
                  <a:lnTo>
                    <a:pt x="2184" y="2598"/>
                  </a:lnTo>
                  <a:lnTo>
                    <a:pt x="2182" y="2590"/>
                  </a:lnTo>
                  <a:lnTo>
                    <a:pt x="2182" y="2590"/>
                  </a:lnTo>
                  <a:lnTo>
                    <a:pt x="2184" y="2576"/>
                  </a:lnTo>
                  <a:lnTo>
                    <a:pt x="2186" y="2574"/>
                  </a:lnTo>
                  <a:lnTo>
                    <a:pt x="2186" y="2574"/>
                  </a:lnTo>
                  <a:lnTo>
                    <a:pt x="2194" y="2564"/>
                  </a:lnTo>
                  <a:lnTo>
                    <a:pt x="2196" y="2558"/>
                  </a:lnTo>
                  <a:lnTo>
                    <a:pt x="2198" y="2554"/>
                  </a:lnTo>
                  <a:lnTo>
                    <a:pt x="2198" y="2554"/>
                  </a:lnTo>
                  <a:lnTo>
                    <a:pt x="2214" y="2358"/>
                  </a:lnTo>
                  <a:lnTo>
                    <a:pt x="2214" y="2358"/>
                  </a:lnTo>
                  <a:lnTo>
                    <a:pt x="2226" y="2336"/>
                  </a:lnTo>
                  <a:lnTo>
                    <a:pt x="2248" y="2292"/>
                  </a:lnTo>
                  <a:lnTo>
                    <a:pt x="2260" y="2264"/>
                  </a:lnTo>
                  <a:lnTo>
                    <a:pt x="2272" y="2232"/>
                  </a:lnTo>
                  <a:lnTo>
                    <a:pt x="2286" y="2196"/>
                  </a:lnTo>
                  <a:lnTo>
                    <a:pt x="2298" y="2156"/>
                  </a:lnTo>
                  <a:lnTo>
                    <a:pt x="2298" y="2156"/>
                  </a:lnTo>
                  <a:lnTo>
                    <a:pt x="2304" y="2130"/>
                  </a:lnTo>
                  <a:lnTo>
                    <a:pt x="2308" y="2102"/>
                  </a:lnTo>
                  <a:lnTo>
                    <a:pt x="2312" y="2070"/>
                  </a:lnTo>
                  <a:lnTo>
                    <a:pt x="2316" y="2036"/>
                  </a:lnTo>
                  <a:lnTo>
                    <a:pt x="2318" y="1966"/>
                  </a:lnTo>
                  <a:lnTo>
                    <a:pt x="2320" y="1894"/>
                  </a:lnTo>
                  <a:lnTo>
                    <a:pt x="2320" y="1894"/>
                  </a:lnTo>
                  <a:lnTo>
                    <a:pt x="2318" y="1814"/>
                  </a:lnTo>
                  <a:lnTo>
                    <a:pt x="2316" y="1756"/>
                  </a:lnTo>
                  <a:lnTo>
                    <a:pt x="2316" y="1756"/>
                  </a:lnTo>
                  <a:lnTo>
                    <a:pt x="2382" y="1756"/>
                  </a:lnTo>
                  <a:lnTo>
                    <a:pt x="2444" y="1756"/>
                  </a:lnTo>
                  <a:lnTo>
                    <a:pt x="2500" y="1754"/>
                  </a:lnTo>
                  <a:lnTo>
                    <a:pt x="2552" y="1750"/>
                  </a:lnTo>
                  <a:lnTo>
                    <a:pt x="2600" y="1744"/>
                  </a:lnTo>
                  <a:lnTo>
                    <a:pt x="2642" y="1740"/>
                  </a:lnTo>
                  <a:lnTo>
                    <a:pt x="2680" y="1732"/>
                  </a:lnTo>
                  <a:lnTo>
                    <a:pt x="2714" y="1726"/>
                  </a:lnTo>
                  <a:lnTo>
                    <a:pt x="2768" y="1712"/>
                  </a:lnTo>
                  <a:lnTo>
                    <a:pt x="2806" y="1698"/>
                  </a:lnTo>
                  <a:lnTo>
                    <a:pt x="2830" y="1688"/>
                  </a:lnTo>
                  <a:lnTo>
                    <a:pt x="2840" y="1684"/>
                  </a:lnTo>
                  <a:lnTo>
                    <a:pt x="2840" y="1684"/>
                  </a:lnTo>
                  <a:lnTo>
                    <a:pt x="2844" y="1680"/>
                  </a:lnTo>
                  <a:lnTo>
                    <a:pt x="2850" y="1674"/>
                  </a:lnTo>
                  <a:lnTo>
                    <a:pt x="2852" y="1668"/>
                  </a:lnTo>
                  <a:lnTo>
                    <a:pt x="2852" y="1662"/>
                  </a:lnTo>
                  <a:lnTo>
                    <a:pt x="2852" y="1662"/>
                  </a:lnTo>
                  <a:lnTo>
                    <a:pt x="2836" y="1408"/>
                  </a:lnTo>
                  <a:lnTo>
                    <a:pt x="2836" y="1408"/>
                  </a:lnTo>
                  <a:lnTo>
                    <a:pt x="2834" y="1390"/>
                  </a:lnTo>
                  <a:lnTo>
                    <a:pt x="2832" y="1368"/>
                  </a:lnTo>
                  <a:lnTo>
                    <a:pt x="2820" y="1314"/>
                  </a:lnTo>
                  <a:lnTo>
                    <a:pt x="2804" y="1250"/>
                  </a:lnTo>
                  <a:lnTo>
                    <a:pt x="2780" y="1176"/>
                  </a:lnTo>
                  <a:lnTo>
                    <a:pt x="2754" y="1094"/>
                  </a:lnTo>
                  <a:lnTo>
                    <a:pt x="2722" y="1008"/>
                  </a:lnTo>
                  <a:lnTo>
                    <a:pt x="2688" y="918"/>
                  </a:lnTo>
                  <a:lnTo>
                    <a:pt x="2652" y="828"/>
                  </a:lnTo>
                  <a:lnTo>
                    <a:pt x="2616" y="740"/>
                  </a:lnTo>
                  <a:lnTo>
                    <a:pt x="2578" y="656"/>
                  </a:lnTo>
                  <a:lnTo>
                    <a:pt x="2542" y="576"/>
                  </a:lnTo>
                  <a:lnTo>
                    <a:pt x="2506" y="506"/>
                  </a:lnTo>
                  <a:lnTo>
                    <a:pt x="2474" y="444"/>
                  </a:lnTo>
                  <a:lnTo>
                    <a:pt x="2446" y="396"/>
                  </a:lnTo>
                  <a:lnTo>
                    <a:pt x="2432" y="378"/>
                  </a:lnTo>
                  <a:lnTo>
                    <a:pt x="2422" y="362"/>
                  </a:lnTo>
                  <a:lnTo>
                    <a:pt x="2410" y="352"/>
                  </a:lnTo>
                  <a:lnTo>
                    <a:pt x="2402" y="344"/>
                  </a:lnTo>
                  <a:lnTo>
                    <a:pt x="2402" y="344"/>
                  </a:lnTo>
                  <a:lnTo>
                    <a:pt x="2378" y="334"/>
                  </a:lnTo>
                  <a:lnTo>
                    <a:pt x="2354" y="326"/>
                  </a:lnTo>
                  <a:lnTo>
                    <a:pt x="2332" y="318"/>
                  </a:lnTo>
                  <a:lnTo>
                    <a:pt x="2312" y="314"/>
                  </a:lnTo>
                  <a:lnTo>
                    <a:pt x="2278" y="310"/>
                  </a:lnTo>
                  <a:lnTo>
                    <a:pt x="2260" y="308"/>
                  </a:lnTo>
                  <a:lnTo>
                    <a:pt x="2260" y="308"/>
                  </a:lnTo>
                  <a:lnTo>
                    <a:pt x="2212" y="292"/>
                  </a:lnTo>
                  <a:lnTo>
                    <a:pt x="2162" y="272"/>
                  </a:lnTo>
                  <a:lnTo>
                    <a:pt x="2108" y="250"/>
                  </a:lnTo>
                  <a:lnTo>
                    <a:pt x="2058" y="226"/>
                  </a:lnTo>
                  <a:lnTo>
                    <a:pt x="2010" y="200"/>
                  </a:lnTo>
                  <a:lnTo>
                    <a:pt x="1990" y="188"/>
                  </a:lnTo>
                  <a:lnTo>
                    <a:pt x="1972" y="176"/>
                  </a:lnTo>
                  <a:lnTo>
                    <a:pt x="1956" y="162"/>
                  </a:lnTo>
                  <a:lnTo>
                    <a:pt x="1944" y="150"/>
                  </a:lnTo>
                  <a:lnTo>
                    <a:pt x="1934" y="136"/>
                  </a:lnTo>
                  <a:lnTo>
                    <a:pt x="1928" y="124"/>
                  </a:lnTo>
                  <a:lnTo>
                    <a:pt x="1928" y="124"/>
                  </a:lnTo>
                  <a:lnTo>
                    <a:pt x="1918" y="102"/>
                  </a:lnTo>
                  <a:lnTo>
                    <a:pt x="1912" y="92"/>
                  </a:lnTo>
                  <a:lnTo>
                    <a:pt x="1904" y="82"/>
                  </a:lnTo>
                  <a:lnTo>
                    <a:pt x="1896" y="74"/>
                  </a:lnTo>
                  <a:lnTo>
                    <a:pt x="1888" y="66"/>
                  </a:lnTo>
                  <a:lnTo>
                    <a:pt x="1878" y="60"/>
                  </a:lnTo>
                  <a:lnTo>
                    <a:pt x="1868" y="54"/>
                  </a:lnTo>
                  <a:lnTo>
                    <a:pt x="1868" y="54"/>
                  </a:lnTo>
                  <a:lnTo>
                    <a:pt x="1852" y="48"/>
                  </a:lnTo>
                  <a:lnTo>
                    <a:pt x="1836" y="46"/>
                  </a:lnTo>
                  <a:lnTo>
                    <a:pt x="1822" y="44"/>
                  </a:lnTo>
                  <a:lnTo>
                    <a:pt x="1808" y="44"/>
                  </a:lnTo>
                  <a:lnTo>
                    <a:pt x="1780" y="48"/>
                  </a:lnTo>
                  <a:lnTo>
                    <a:pt x="1760" y="52"/>
                  </a:lnTo>
                  <a:lnTo>
                    <a:pt x="1760" y="52"/>
                  </a:lnTo>
                  <a:lnTo>
                    <a:pt x="1748" y="40"/>
                  </a:lnTo>
                  <a:lnTo>
                    <a:pt x="1734" y="28"/>
                  </a:lnTo>
                  <a:lnTo>
                    <a:pt x="1720" y="20"/>
                  </a:lnTo>
                  <a:lnTo>
                    <a:pt x="1704" y="12"/>
                  </a:lnTo>
                  <a:lnTo>
                    <a:pt x="1690" y="8"/>
                  </a:lnTo>
                  <a:lnTo>
                    <a:pt x="1674" y="4"/>
                  </a:lnTo>
                  <a:lnTo>
                    <a:pt x="1646" y="0"/>
                  </a:lnTo>
                  <a:lnTo>
                    <a:pt x="1620" y="0"/>
                  </a:lnTo>
                  <a:lnTo>
                    <a:pt x="1598" y="2"/>
                  </a:lnTo>
                  <a:lnTo>
                    <a:pt x="1576" y="8"/>
                  </a:lnTo>
                  <a:lnTo>
                    <a:pt x="1576" y="8"/>
                  </a:lnTo>
                  <a:lnTo>
                    <a:pt x="708" y="158"/>
                  </a:lnTo>
                  <a:lnTo>
                    <a:pt x="708" y="158"/>
                  </a:lnTo>
                  <a:lnTo>
                    <a:pt x="688" y="156"/>
                  </a:lnTo>
                  <a:lnTo>
                    <a:pt x="664" y="158"/>
                  </a:lnTo>
                  <a:lnTo>
                    <a:pt x="638" y="162"/>
                  </a:lnTo>
                  <a:lnTo>
                    <a:pt x="614" y="170"/>
                  </a:lnTo>
                  <a:lnTo>
                    <a:pt x="588" y="180"/>
                  </a:lnTo>
                  <a:lnTo>
                    <a:pt x="576" y="188"/>
                  </a:lnTo>
                  <a:lnTo>
                    <a:pt x="564" y="196"/>
                  </a:lnTo>
                  <a:lnTo>
                    <a:pt x="554" y="206"/>
                  </a:lnTo>
                  <a:lnTo>
                    <a:pt x="544" y="216"/>
                  </a:lnTo>
                  <a:lnTo>
                    <a:pt x="536" y="228"/>
                  </a:lnTo>
                  <a:lnTo>
                    <a:pt x="528" y="242"/>
                  </a:lnTo>
                  <a:lnTo>
                    <a:pt x="528" y="242"/>
                  </a:lnTo>
                  <a:lnTo>
                    <a:pt x="496" y="246"/>
                  </a:lnTo>
                  <a:lnTo>
                    <a:pt x="478" y="252"/>
                  </a:lnTo>
                  <a:lnTo>
                    <a:pt x="456" y="258"/>
                  </a:lnTo>
                  <a:lnTo>
                    <a:pt x="436" y="268"/>
                  </a:lnTo>
                  <a:lnTo>
                    <a:pt x="416" y="282"/>
                  </a:lnTo>
                  <a:lnTo>
                    <a:pt x="408" y="290"/>
                  </a:lnTo>
                  <a:lnTo>
                    <a:pt x="398" y="300"/>
                  </a:lnTo>
                  <a:lnTo>
                    <a:pt x="392" y="312"/>
                  </a:lnTo>
                  <a:lnTo>
                    <a:pt x="384" y="322"/>
                  </a:lnTo>
                  <a:lnTo>
                    <a:pt x="384" y="322"/>
                  </a:lnTo>
                  <a:lnTo>
                    <a:pt x="370" y="346"/>
                  </a:lnTo>
                  <a:lnTo>
                    <a:pt x="346" y="376"/>
                  </a:lnTo>
                  <a:lnTo>
                    <a:pt x="284" y="454"/>
                  </a:lnTo>
                  <a:lnTo>
                    <a:pt x="284" y="454"/>
                  </a:lnTo>
                  <a:lnTo>
                    <a:pt x="230" y="518"/>
                  </a:lnTo>
                  <a:lnTo>
                    <a:pt x="176" y="586"/>
                  </a:lnTo>
                  <a:lnTo>
                    <a:pt x="150" y="622"/>
                  </a:lnTo>
                  <a:lnTo>
                    <a:pt x="126" y="656"/>
                  </a:lnTo>
                  <a:lnTo>
                    <a:pt x="102" y="690"/>
                  </a:lnTo>
                  <a:lnTo>
                    <a:pt x="82" y="724"/>
                  </a:lnTo>
                  <a:lnTo>
                    <a:pt x="82" y="724"/>
                  </a:lnTo>
                  <a:lnTo>
                    <a:pt x="72" y="744"/>
                  </a:lnTo>
                  <a:lnTo>
                    <a:pt x="64" y="768"/>
                  </a:lnTo>
                  <a:lnTo>
                    <a:pt x="56" y="794"/>
                  </a:lnTo>
                  <a:lnTo>
                    <a:pt x="48" y="822"/>
                  </a:lnTo>
                  <a:lnTo>
                    <a:pt x="32" y="886"/>
                  </a:lnTo>
                  <a:lnTo>
                    <a:pt x="22" y="956"/>
                  </a:lnTo>
                  <a:lnTo>
                    <a:pt x="12" y="1030"/>
                  </a:lnTo>
                  <a:lnTo>
                    <a:pt x="6" y="1108"/>
                  </a:lnTo>
                  <a:lnTo>
                    <a:pt x="2" y="1186"/>
                  </a:lnTo>
                  <a:lnTo>
                    <a:pt x="0" y="1262"/>
                  </a:lnTo>
                  <a:lnTo>
                    <a:pt x="0" y="1262"/>
                  </a:lnTo>
                  <a:lnTo>
                    <a:pt x="2" y="1346"/>
                  </a:lnTo>
                  <a:lnTo>
                    <a:pt x="4" y="1384"/>
                  </a:lnTo>
                  <a:lnTo>
                    <a:pt x="8" y="1420"/>
                  </a:lnTo>
                  <a:lnTo>
                    <a:pt x="12" y="1452"/>
                  </a:lnTo>
                  <a:lnTo>
                    <a:pt x="18" y="1480"/>
                  </a:lnTo>
                  <a:lnTo>
                    <a:pt x="24" y="1504"/>
                  </a:lnTo>
                  <a:lnTo>
                    <a:pt x="32" y="1522"/>
                  </a:lnTo>
                  <a:lnTo>
                    <a:pt x="32" y="1522"/>
                  </a:lnTo>
                  <a:lnTo>
                    <a:pt x="42" y="1540"/>
                  </a:lnTo>
                  <a:lnTo>
                    <a:pt x="56" y="1558"/>
                  </a:lnTo>
                  <a:lnTo>
                    <a:pt x="72" y="1576"/>
                  </a:lnTo>
                  <a:lnTo>
                    <a:pt x="88" y="1594"/>
                  </a:lnTo>
                  <a:lnTo>
                    <a:pt x="128" y="1630"/>
                  </a:lnTo>
                  <a:lnTo>
                    <a:pt x="170" y="1662"/>
                  </a:lnTo>
                  <a:lnTo>
                    <a:pt x="212" y="1692"/>
                  </a:lnTo>
                  <a:lnTo>
                    <a:pt x="250" y="1716"/>
                  </a:lnTo>
                  <a:lnTo>
                    <a:pt x="302" y="1746"/>
                  </a:lnTo>
                  <a:lnTo>
                    <a:pt x="302" y="1746"/>
                  </a:lnTo>
                  <a:lnTo>
                    <a:pt x="312" y="1776"/>
                  </a:lnTo>
                  <a:lnTo>
                    <a:pt x="324" y="1826"/>
                  </a:lnTo>
                  <a:lnTo>
                    <a:pt x="330" y="1858"/>
                  </a:lnTo>
                  <a:lnTo>
                    <a:pt x="336" y="1892"/>
                  </a:lnTo>
                  <a:lnTo>
                    <a:pt x="340" y="1926"/>
                  </a:lnTo>
                  <a:lnTo>
                    <a:pt x="340" y="1962"/>
                  </a:lnTo>
                  <a:lnTo>
                    <a:pt x="340" y="1962"/>
                  </a:lnTo>
                  <a:lnTo>
                    <a:pt x="338" y="2004"/>
                  </a:lnTo>
                  <a:lnTo>
                    <a:pt x="336" y="2022"/>
                  </a:lnTo>
                  <a:lnTo>
                    <a:pt x="332" y="2042"/>
                  </a:lnTo>
                  <a:lnTo>
                    <a:pt x="332" y="2042"/>
                  </a:lnTo>
                  <a:lnTo>
                    <a:pt x="328" y="2060"/>
                  </a:lnTo>
                  <a:lnTo>
                    <a:pt x="328" y="2078"/>
                  </a:lnTo>
                  <a:lnTo>
                    <a:pt x="328" y="2078"/>
                  </a:lnTo>
                  <a:lnTo>
                    <a:pt x="328" y="2100"/>
                  </a:lnTo>
                  <a:lnTo>
                    <a:pt x="334" y="2122"/>
                  </a:lnTo>
                  <a:lnTo>
                    <a:pt x="340" y="2144"/>
                  </a:lnTo>
                  <a:lnTo>
                    <a:pt x="350" y="2166"/>
                  </a:lnTo>
                  <a:lnTo>
                    <a:pt x="360" y="2186"/>
                  </a:lnTo>
                  <a:lnTo>
                    <a:pt x="372" y="2204"/>
                  </a:lnTo>
                  <a:lnTo>
                    <a:pt x="386" y="2222"/>
                  </a:lnTo>
                  <a:lnTo>
                    <a:pt x="400" y="2240"/>
                  </a:lnTo>
                  <a:lnTo>
                    <a:pt x="430" y="2272"/>
                  </a:lnTo>
                  <a:lnTo>
                    <a:pt x="458" y="2298"/>
                  </a:lnTo>
                  <a:lnTo>
                    <a:pt x="484" y="2318"/>
                  </a:lnTo>
                  <a:lnTo>
                    <a:pt x="502" y="2332"/>
                  </a:lnTo>
                  <a:lnTo>
                    <a:pt x="502" y="2332"/>
                  </a:lnTo>
                  <a:lnTo>
                    <a:pt x="532" y="2496"/>
                  </a:lnTo>
                  <a:lnTo>
                    <a:pt x="532" y="2496"/>
                  </a:lnTo>
                  <a:lnTo>
                    <a:pt x="516" y="2528"/>
                  </a:lnTo>
                  <a:lnTo>
                    <a:pt x="504" y="2552"/>
                  </a:lnTo>
                  <a:lnTo>
                    <a:pt x="494" y="2582"/>
                  </a:lnTo>
                  <a:lnTo>
                    <a:pt x="482" y="2618"/>
                  </a:lnTo>
                  <a:lnTo>
                    <a:pt x="474" y="2658"/>
                  </a:lnTo>
                  <a:lnTo>
                    <a:pt x="468" y="2704"/>
                  </a:lnTo>
                  <a:lnTo>
                    <a:pt x="466" y="2754"/>
                  </a:lnTo>
                  <a:lnTo>
                    <a:pt x="466" y="2754"/>
                  </a:lnTo>
                  <a:lnTo>
                    <a:pt x="464" y="2794"/>
                  </a:lnTo>
                  <a:lnTo>
                    <a:pt x="460" y="2864"/>
                  </a:lnTo>
                  <a:lnTo>
                    <a:pt x="444" y="3070"/>
                  </a:lnTo>
                  <a:lnTo>
                    <a:pt x="444" y="3070"/>
                  </a:lnTo>
                  <a:lnTo>
                    <a:pt x="432" y="3220"/>
                  </a:lnTo>
                  <a:lnTo>
                    <a:pt x="458" y="3220"/>
                  </a:lnTo>
                  <a:lnTo>
                    <a:pt x="458" y="3220"/>
                  </a:lnTo>
                  <a:lnTo>
                    <a:pt x="482" y="2914"/>
                  </a:lnTo>
                  <a:lnTo>
                    <a:pt x="490" y="2812"/>
                  </a:lnTo>
                  <a:lnTo>
                    <a:pt x="492" y="2754"/>
                  </a:lnTo>
                  <a:lnTo>
                    <a:pt x="492" y="2754"/>
                  </a:lnTo>
                  <a:close/>
                  <a:moveTo>
                    <a:pt x="714" y="158"/>
                  </a:moveTo>
                  <a:lnTo>
                    <a:pt x="714" y="158"/>
                  </a:lnTo>
                  <a:lnTo>
                    <a:pt x="710" y="158"/>
                  </a:lnTo>
                  <a:lnTo>
                    <a:pt x="710" y="158"/>
                  </a:lnTo>
                  <a:lnTo>
                    <a:pt x="714" y="158"/>
                  </a:lnTo>
                  <a:lnTo>
                    <a:pt x="714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5"/>
            <p:cNvSpPr/>
            <p:nvPr/>
          </p:nvSpPr>
          <p:spPr>
            <a:xfrm>
              <a:off x="39030480" y="50958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6"/>
            <p:cNvSpPr/>
            <p:nvPr/>
          </p:nvSpPr>
          <p:spPr>
            <a:xfrm>
              <a:off x="37944360" y="4886280"/>
              <a:ext cx="4444920" cy="5070600"/>
            </a:xfrm>
            <a:custGeom>
              <a:avLst/>
              <a:gdLst>
                <a:gd name="textAreaLeft" fmla="*/ 0 w 4444920"/>
                <a:gd name="textAreaRight" fmla="*/ 4445280 w 4444920"/>
                <a:gd name="textAreaTop" fmla="*/ 0 h 5070600"/>
                <a:gd name="textAreaBottom" fmla="*/ 5070960 h 5070600"/>
              </a:gdLst>
              <a:ahLst/>
              <a:rect l="textAreaLeft" t="textAreaTop" r="textAreaRight" b="textAreaBottom"/>
              <a:pathLst>
                <a:path w="2800" h="3194">
                  <a:moveTo>
                    <a:pt x="470" y="3048"/>
                  </a:moveTo>
                  <a:lnTo>
                    <a:pt x="470" y="3048"/>
                  </a:lnTo>
                  <a:lnTo>
                    <a:pt x="486" y="2840"/>
                  </a:lnTo>
                  <a:lnTo>
                    <a:pt x="490" y="2770"/>
                  </a:lnTo>
                  <a:lnTo>
                    <a:pt x="492" y="2728"/>
                  </a:lnTo>
                  <a:lnTo>
                    <a:pt x="492" y="2728"/>
                  </a:lnTo>
                  <a:lnTo>
                    <a:pt x="492" y="2702"/>
                  </a:lnTo>
                  <a:lnTo>
                    <a:pt x="494" y="2676"/>
                  </a:lnTo>
                  <a:lnTo>
                    <a:pt x="502" y="2630"/>
                  </a:lnTo>
                  <a:lnTo>
                    <a:pt x="512" y="2590"/>
                  </a:lnTo>
                  <a:lnTo>
                    <a:pt x="524" y="2556"/>
                  </a:lnTo>
                  <a:lnTo>
                    <a:pt x="534" y="2528"/>
                  </a:lnTo>
                  <a:lnTo>
                    <a:pt x="544" y="2508"/>
                  </a:lnTo>
                  <a:lnTo>
                    <a:pt x="556" y="2490"/>
                  </a:lnTo>
                  <a:lnTo>
                    <a:pt x="556" y="2490"/>
                  </a:lnTo>
                  <a:lnTo>
                    <a:pt x="558" y="2482"/>
                  </a:lnTo>
                  <a:lnTo>
                    <a:pt x="560" y="2476"/>
                  </a:lnTo>
                  <a:lnTo>
                    <a:pt x="560" y="2476"/>
                  </a:lnTo>
                  <a:lnTo>
                    <a:pt x="558" y="2470"/>
                  </a:lnTo>
                  <a:lnTo>
                    <a:pt x="526" y="2286"/>
                  </a:lnTo>
                  <a:lnTo>
                    <a:pt x="526" y="2286"/>
                  </a:lnTo>
                  <a:lnTo>
                    <a:pt x="522" y="2276"/>
                  </a:lnTo>
                  <a:lnTo>
                    <a:pt x="514" y="2268"/>
                  </a:lnTo>
                  <a:lnTo>
                    <a:pt x="514" y="2268"/>
                  </a:lnTo>
                  <a:lnTo>
                    <a:pt x="494" y="2254"/>
                  </a:lnTo>
                  <a:lnTo>
                    <a:pt x="470" y="2234"/>
                  </a:lnTo>
                  <a:lnTo>
                    <a:pt x="442" y="2210"/>
                  </a:lnTo>
                  <a:lnTo>
                    <a:pt x="416" y="2182"/>
                  </a:lnTo>
                  <a:lnTo>
                    <a:pt x="392" y="2152"/>
                  </a:lnTo>
                  <a:lnTo>
                    <a:pt x="382" y="2136"/>
                  </a:lnTo>
                  <a:lnTo>
                    <a:pt x="372" y="2120"/>
                  </a:lnTo>
                  <a:lnTo>
                    <a:pt x="364" y="2102"/>
                  </a:lnTo>
                  <a:lnTo>
                    <a:pt x="358" y="2086"/>
                  </a:lnTo>
                  <a:lnTo>
                    <a:pt x="356" y="2068"/>
                  </a:lnTo>
                  <a:lnTo>
                    <a:pt x="354" y="2052"/>
                  </a:lnTo>
                  <a:lnTo>
                    <a:pt x="354" y="2052"/>
                  </a:lnTo>
                  <a:lnTo>
                    <a:pt x="354" y="2040"/>
                  </a:lnTo>
                  <a:lnTo>
                    <a:pt x="356" y="2028"/>
                  </a:lnTo>
                  <a:lnTo>
                    <a:pt x="356" y="2028"/>
                  </a:lnTo>
                  <a:lnTo>
                    <a:pt x="362" y="2006"/>
                  </a:lnTo>
                  <a:lnTo>
                    <a:pt x="364" y="1984"/>
                  </a:lnTo>
                  <a:lnTo>
                    <a:pt x="366" y="1960"/>
                  </a:lnTo>
                  <a:lnTo>
                    <a:pt x="368" y="1936"/>
                  </a:lnTo>
                  <a:lnTo>
                    <a:pt x="368" y="1936"/>
                  </a:lnTo>
                  <a:lnTo>
                    <a:pt x="366" y="1892"/>
                  </a:lnTo>
                  <a:lnTo>
                    <a:pt x="360" y="1850"/>
                  </a:lnTo>
                  <a:lnTo>
                    <a:pt x="354" y="1810"/>
                  </a:lnTo>
                  <a:lnTo>
                    <a:pt x="346" y="1772"/>
                  </a:lnTo>
                  <a:lnTo>
                    <a:pt x="330" y="1718"/>
                  </a:lnTo>
                  <a:lnTo>
                    <a:pt x="322" y="1694"/>
                  </a:lnTo>
                  <a:lnTo>
                    <a:pt x="322" y="1694"/>
                  </a:lnTo>
                  <a:lnTo>
                    <a:pt x="318" y="1686"/>
                  </a:lnTo>
                  <a:lnTo>
                    <a:pt x="310" y="1680"/>
                  </a:lnTo>
                  <a:lnTo>
                    <a:pt x="310" y="1680"/>
                  </a:lnTo>
                  <a:lnTo>
                    <a:pt x="250" y="1644"/>
                  </a:lnTo>
                  <a:lnTo>
                    <a:pt x="214" y="1620"/>
                  </a:lnTo>
                  <a:lnTo>
                    <a:pt x="174" y="1592"/>
                  </a:lnTo>
                  <a:lnTo>
                    <a:pt x="136" y="1564"/>
                  </a:lnTo>
                  <a:lnTo>
                    <a:pt x="100" y="1532"/>
                  </a:lnTo>
                  <a:lnTo>
                    <a:pt x="86" y="1518"/>
                  </a:lnTo>
                  <a:lnTo>
                    <a:pt x="72" y="1502"/>
                  </a:lnTo>
                  <a:lnTo>
                    <a:pt x="62" y="1488"/>
                  </a:lnTo>
                  <a:lnTo>
                    <a:pt x="52" y="1472"/>
                  </a:lnTo>
                  <a:lnTo>
                    <a:pt x="52" y="1472"/>
                  </a:lnTo>
                  <a:lnTo>
                    <a:pt x="46" y="1458"/>
                  </a:lnTo>
                  <a:lnTo>
                    <a:pt x="42" y="1436"/>
                  </a:lnTo>
                  <a:lnTo>
                    <a:pt x="38" y="1412"/>
                  </a:lnTo>
                  <a:lnTo>
                    <a:pt x="34" y="1382"/>
                  </a:lnTo>
                  <a:lnTo>
                    <a:pt x="28" y="1314"/>
                  </a:lnTo>
                  <a:lnTo>
                    <a:pt x="26" y="1234"/>
                  </a:lnTo>
                  <a:lnTo>
                    <a:pt x="26" y="1234"/>
                  </a:lnTo>
                  <a:lnTo>
                    <a:pt x="28" y="1164"/>
                  </a:lnTo>
                  <a:lnTo>
                    <a:pt x="32" y="1090"/>
                  </a:lnTo>
                  <a:lnTo>
                    <a:pt x="38" y="1016"/>
                  </a:lnTo>
                  <a:lnTo>
                    <a:pt x="46" y="946"/>
                  </a:lnTo>
                  <a:lnTo>
                    <a:pt x="56" y="878"/>
                  </a:lnTo>
                  <a:lnTo>
                    <a:pt x="70" y="818"/>
                  </a:lnTo>
                  <a:lnTo>
                    <a:pt x="76" y="790"/>
                  </a:lnTo>
                  <a:lnTo>
                    <a:pt x="84" y="766"/>
                  </a:lnTo>
                  <a:lnTo>
                    <a:pt x="94" y="744"/>
                  </a:lnTo>
                  <a:lnTo>
                    <a:pt x="102" y="724"/>
                  </a:lnTo>
                  <a:lnTo>
                    <a:pt x="102" y="724"/>
                  </a:lnTo>
                  <a:lnTo>
                    <a:pt x="122" y="692"/>
                  </a:lnTo>
                  <a:lnTo>
                    <a:pt x="144" y="658"/>
                  </a:lnTo>
                  <a:lnTo>
                    <a:pt x="168" y="624"/>
                  </a:lnTo>
                  <a:lnTo>
                    <a:pt x="194" y="590"/>
                  </a:lnTo>
                  <a:lnTo>
                    <a:pt x="246" y="524"/>
                  </a:lnTo>
                  <a:lnTo>
                    <a:pt x="298" y="462"/>
                  </a:lnTo>
                  <a:lnTo>
                    <a:pt x="298" y="462"/>
                  </a:lnTo>
                  <a:lnTo>
                    <a:pt x="366" y="380"/>
                  </a:lnTo>
                  <a:lnTo>
                    <a:pt x="390" y="346"/>
                  </a:lnTo>
                  <a:lnTo>
                    <a:pt x="406" y="320"/>
                  </a:lnTo>
                  <a:lnTo>
                    <a:pt x="406" y="320"/>
                  </a:lnTo>
                  <a:lnTo>
                    <a:pt x="410" y="312"/>
                  </a:lnTo>
                  <a:lnTo>
                    <a:pt x="418" y="304"/>
                  </a:lnTo>
                  <a:lnTo>
                    <a:pt x="426" y="296"/>
                  </a:lnTo>
                  <a:lnTo>
                    <a:pt x="434" y="290"/>
                  </a:lnTo>
                  <a:lnTo>
                    <a:pt x="452" y="282"/>
                  </a:lnTo>
                  <a:lnTo>
                    <a:pt x="470" y="274"/>
                  </a:lnTo>
                  <a:lnTo>
                    <a:pt x="488" y="270"/>
                  </a:lnTo>
                  <a:lnTo>
                    <a:pt x="502" y="268"/>
                  </a:lnTo>
                  <a:lnTo>
                    <a:pt x="516" y="268"/>
                  </a:lnTo>
                  <a:lnTo>
                    <a:pt x="516" y="268"/>
                  </a:lnTo>
                  <a:lnTo>
                    <a:pt x="524" y="266"/>
                  </a:lnTo>
                  <a:lnTo>
                    <a:pt x="532" y="262"/>
                  </a:lnTo>
                  <a:lnTo>
                    <a:pt x="538" y="258"/>
                  </a:lnTo>
                  <a:lnTo>
                    <a:pt x="542" y="250"/>
                  </a:lnTo>
                  <a:lnTo>
                    <a:pt x="542" y="250"/>
                  </a:lnTo>
                  <a:lnTo>
                    <a:pt x="548" y="236"/>
                  </a:lnTo>
                  <a:lnTo>
                    <a:pt x="554" y="224"/>
                  </a:lnTo>
                  <a:lnTo>
                    <a:pt x="564" y="214"/>
                  </a:lnTo>
                  <a:lnTo>
                    <a:pt x="574" y="206"/>
                  </a:lnTo>
                  <a:lnTo>
                    <a:pt x="584" y="200"/>
                  </a:lnTo>
                  <a:lnTo>
                    <a:pt x="596" y="194"/>
                  </a:lnTo>
                  <a:lnTo>
                    <a:pt x="620" y="186"/>
                  </a:lnTo>
                  <a:lnTo>
                    <a:pt x="642" y="184"/>
                  </a:lnTo>
                  <a:lnTo>
                    <a:pt x="660" y="182"/>
                  </a:lnTo>
                  <a:lnTo>
                    <a:pt x="682" y="184"/>
                  </a:lnTo>
                  <a:lnTo>
                    <a:pt x="682" y="184"/>
                  </a:lnTo>
                  <a:lnTo>
                    <a:pt x="688" y="184"/>
                  </a:lnTo>
                  <a:lnTo>
                    <a:pt x="1562" y="32"/>
                  </a:lnTo>
                  <a:lnTo>
                    <a:pt x="1562" y="32"/>
                  </a:lnTo>
                  <a:lnTo>
                    <a:pt x="1582" y="28"/>
                  </a:lnTo>
                  <a:lnTo>
                    <a:pt x="1600" y="26"/>
                  </a:lnTo>
                  <a:lnTo>
                    <a:pt x="1620" y="26"/>
                  </a:lnTo>
                  <a:lnTo>
                    <a:pt x="1642" y="30"/>
                  </a:lnTo>
                  <a:lnTo>
                    <a:pt x="1654" y="32"/>
                  </a:lnTo>
                  <a:lnTo>
                    <a:pt x="1666" y="36"/>
                  </a:lnTo>
                  <a:lnTo>
                    <a:pt x="1676" y="42"/>
                  </a:lnTo>
                  <a:lnTo>
                    <a:pt x="1686" y="50"/>
                  </a:lnTo>
                  <a:lnTo>
                    <a:pt x="1696" y="60"/>
                  </a:lnTo>
                  <a:lnTo>
                    <a:pt x="1702" y="70"/>
                  </a:lnTo>
                  <a:lnTo>
                    <a:pt x="1702" y="70"/>
                  </a:lnTo>
                  <a:lnTo>
                    <a:pt x="1710" y="78"/>
                  </a:lnTo>
                  <a:lnTo>
                    <a:pt x="1718" y="82"/>
                  </a:lnTo>
                  <a:lnTo>
                    <a:pt x="1726" y="82"/>
                  </a:lnTo>
                  <a:lnTo>
                    <a:pt x="1736" y="80"/>
                  </a:lnTo>
                  <a:lnTo>
                    <a:pt x="1736" y="80"/>
                  </a:lnTo>
                  <a:lnTo>
                    <a:pt x="1750" y="76"/>
                  </a:lnTo>
                  <a:lnTo>
                    <a:pt x="1772" y="72"/>
                  </a:lnTo>
                  <a:lnTo>
                    <a:pt x="1784" y="70"/>
                  </a:lnTo>
                  <a:lnTo>
                    <a:pt x="1796" y="70"/>
                  </a:lnTo>
                  <a:lnTo>
                    <a:pt x="1808" y="72"/>
                  </a:lnTo>
                  <a:lnTo>
                    <a:pt x="1820" y="76"/>
                  </a:lnTo>
                  <a:lnTo>
                    <a:pt x="1820" y="76"/>
                  </a:lnTo>
                  <a:lnTo>
                    <a:pt x="1830" y="82"/>
                  </a:lnTo>
                  <a:lnTo>
                    <a:pt x="1838" y="92"/>
                  </a:lnTo>
                  <a:lnTo>
                    <a:pt x="1846" y="10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1856" y="126"/>
                  </a:lnTo>
                  <a:lnTo>
                    <a:pt x="1862" y="136"/>
                  </a:lnTo>
                  <a:lnTo>
                    <a:pt x="1876" y="156"/>
                  </a:lnTo>
                  <a:lnTo>
                    <a:pt x="1896" y="176"/>
                  </a:lnTo>
                  <a:lnTo>
                    <a:pt x="1920" y="194"/>
                  </a:lnTo>
                  <a:lnTo>
                    <a:pt x="1946" y="212"/>
                  </a:lnTo>
                  <a:lnTo>
                    <a:pt x="1976" y="230"/>
                  </a:lnTo>
                  <a:lnTo>
                    <a:pt x="2006" y="246"/>
                  </a:lnTo>
                  <a:lnTo>
                    <a:pt x="2038" y="262"/>
                  </a:lnTo>
                  <a:lnTo>
                    <a:pt x="2100" y="288"/>
                  </a:lnTo>
                  <a:lnTo>
                    <a:pt x="2154" y="310"/>
                  </a:lnTo>
                  <a:lnTo>
                    <a:pt x="2222" y="334"/>
                  </a:lnTo>
                  <a:lnTo>
                    <a:pt x="2222" y="334"/>
                  </a:lnTo>
                  <a:lnTo>
                    <a:pt x="2230" y="334"/>
                  </a:lnTo>
                  <a:lnTo>
                    <a:pt x="2230" y="334"/>
                  </a:lnTo>
                  <a:lnTo>
                    <a:pt x="2240" y="336"/>
                  </a:lnTo>
                  <a:lnTo>
                    <a:pt x="2268" y="340"/>
                  </a:lnTo>
                  <a:lnTo>
                    <a:pt x="2286" y="342"/>
                  </a:lnTo>
                  <a:lnTo>
                    <a:pt x="2308" y="348"/>
                  </a:lnTo>
                  <a:lnTo>
                    <a:pt x="2330" y="356"/>
                  </a:lnTo>
                  <a:lnTo>
                    <a:pt x="2352" y="366"/>
                  </a:lnTo>
                  <a:lnTo>
                    <a:pt x="2352" y="366"/>
                  </a:lnTo>
                  <a:lnTo>
                    <a:pt x="2358" y="372"/>
                  </a:lnTo>
                  <a:lnTo>
                    <a:pt x="2366" y="382"/>
                  </a:lnTo>
                  <a:lnTo>
                    <a:pt x="2386" y="414"/>
                  </a:lnTo>
                  <a:lnTo>
                    <a:pt x="2410" y="458"/>
                  </a:lnTo>
                  <a:lnTo>
                    <a:pt x="2440" y="516"/>
                  </a:lnTo>
                  <a:lnTo>
                    <a:pt x="2472" y="582"/>
                  </a:lnTo>
                  <a:lnTo>
                    <a:pt x="2506" y="656"/>
                  </a:lnTo>
                  <a:lnTo>
                    <a:pt x="2540" y="736"/>
                  </a:lnTo>
                  <a:lnTo>
                    <a:pt x="2576" y="820"/>
                  </a:lnTo>
                  <a:lnTo>
                    <a:pt x="2612" y="904"/>
                  </a:lnTo>
                  <a:lnTo>
                    <a:pt x="2644" y="990"/>
                  </a:lnTo>
                  <a:lnTo>
                    <a:pt x="2674" y="1072"/>
                  </a:lnTo>
                  <a:lnTo>
                    <a:pt x="2702" y="1150"/>
                  </a:lnTo>
                  <a:lnTo>
                    <a:pt x="2724" y="1222"/>
                  </a:lnTo>
                  <a:lnTo>
                    <a:pt x="2742" y="1288"/>
                  </a:lnTo>
                  <a:lnTo>
                    <a:pt x="2754" y="1342"/>
                  </a:lnTo>
                  <a:lnTo>
                    <a:pt x="2756" y="1364"/>
                  </a:lnTo>
                  <a:lnTo>
                    <a:pt x="2758" y="1384"/>
                  </a:lnTo>
                  <a:lnTo>
                    <a:pt x="2758" y="1384"/>
                  </a:lnTo>
                  <a:lnTo>
                    <a:pt x="2772" y="1618"/>
                  </a:lnTo>
                  <a:lnTo>
                    <a:pt x="2772" y="1618"/>
                  </a:lnTo>
                  <a:lnTo>
                    <a:pt x="2752" y="1628"/>
                  </a:lnTo>
                  <a:lnTo>
                    <a:pt x="2718" y="1638"/>
                  </a:lnTo>
                  <a:lnTo>
                    <a:pt x="2674" y="1648"/>
                  </a:lnTo>
                  <a:lnTo>
                    <a:pt x="2618" y="1660"/>
                  </a:lnTo>
                  <a:lnTo>
                    <a:pt x="2550" y="1670"/>
                  </a:lnTo>
                  <a:lnTo>
                    <a:pt x="2468" y="1676"/>
                  </a:lnTo>
                  <a:lnTo>
                    <a:pt x="2422" y="1678"/>
                  </a:lnTo>
                  <a:lnTo>
                    <a:pt x="2374" y="1678"/>
                  </a:lnTo>
                  <a:lnTo>
                    <a:pt x="2320" y="1678"/>
                  </a:lnTo>
                  <a:lnTo>
                    <a:pt x="2264" y="1676"/>
                  </a:lnTo>
                  <a:lnTo>
                    <a:pt x="2264" y="1676"/>
                  </a:lnTo>
                  <a:lnTo>
                    <a:pt x="2254" y="1678"/>
                  </a:lnTo>
                  <a:lnTo>
                    <a:pt x="2244" y="1684"/>
                  </a:lnTo>
                  <a:lnTo>
                    <a:pt x="2244" y="1684"/>
                  </a:lnTo>
                  <a:lnTo>
                    <a:pt x="2238" y="1692"/>
                  </a:lnTo>
                  <a:lnTo>
                    <a:pt x="2236" y="1702"/>
                  </a:lnTo>
                  <a:lnTo>
                    <a:pt x="2236" y="1702"/>
                  </a:lnTo>
                  <a:lnTo>
                    <a:pt x="2236" y="1704"/>
                  </a:lnTo>
                  <a:lnTo>
                    <a:pt x="2236" y="1704"/>
                  </a:lnTo>
                  <a:lnTo>
                    <a:pt x="2238" y="1754"/>
                  </a:lnTo>
                  <a:lnTo>
                    <a:pt x="2240" y="1870"/>
                  </a:lnTo>
                  <a:lnTo>
                    <a:pt x="2240" y="1870"/>
                  </a:lnTo>
                  <a:lnTo>
                    <a:pt x="2240" y="1938"/>
                  </a:lnTo>
                  <a:lnTo>
                    <a:pt x="2236" y="2004"/>
                  </a:lnTo>
                  <a:lnTo>
                    <a:pt x="2230" y="2066"/>
                  </a:lnTo>
                  <a:lnTo>
                    <a:pt x="2226" y="2092"/>
                  </a:lnTo>
                  <a:lnTo>
                    <a:pt x="2220" y="2116"/>
                  </a:lnTo>
                  <a:lnTo>
                    <a:pt x="2220" y="2116"/>
                  </a:lnTo>
                  <a:lnTo>
                    <a:pt x="2208" y="2156"/>
                  </a:lnTo>
                  <a:lnTo>
                    <a:pt x="2194" y="2194"/>
                  </a:lnTo>
                  <a:lnTo>
                    <a:pt x="2182" y="2226"/>
                  </a:lnTo>
                  <a:lnTo>
                    <a:pt x="2168" y="2254"/>
                  </a:lnTo>
                  <a:lnTo>
                    <a:pt x="2148" y="2296"/>
                  </a:lnTo>
                  <a:lnTo>
                    <a:pt x="2140" y="2310"/>
                  </a:lnTo>
                  <a:lnTo>
                    <a:pt x="2140" y="2310"/>
                  </a:lnTo>
                  <a:lnTo>
                    <a:pt x="2138" y="2316"/>
                  </a:lnTo>
                  <a:lnTo>
                    <a:pt x="2136" y="2322"/>
                  </a:lnTo>
                  <a:lnTo>
                    <a:pt x="2136" y="2322"/>
                  </a:lnTo>
                  <a:lnTo>
                    <a:pt x="2120" y="2514"/>
                  </a:lnTo>
                  <a:lnTo>
                    <a:pt x="2120" y="2514"/>
                  </a:lnTo>
                  <a:lnTo>
                    <a:pt x="2114" y="2522"/>
                  </a:lnTo>
                  <a:lnTo>
                    <a:pt x="2110" y="2532"/>
                  </a:lnTo>
                  <a:lnTo>
                    <a:pt x="2106" y="2546"/>
                  </a:lnTo>
                  <a:lnTo>
                    <a:pt x="2104" y="2562"/>
                  </a:lnTo>
                  <a:lnTo>
                    <a:pt x="2104" y="2562"/>
                  </a:lnTo>
                  <a:lnTo>
                    <a:pt x="2104" y="2578"/>
                  </a:lnTo>
                  <a:lnTo>
                    <a:pt x="2108" y="2594"/>
                  </a:lnTo>
                  <a:lnTo>
                    <a:pt x="2114" y="2614"/>
                  </a:lnTo>
                  <a:lnTo>
                    <a:pt x="2120" y="2636"/>
                  </a:lnTo>
                  <a:lnTo>
                    <a:pt x="2120" y="2636"/>
                  </a:lnTo>
                  <a:lnTo>
                    <a:pt x="2130" y="2666"/>
                  </a:lnTo>
                  <a:lnTo>
                    <a:pt x="2144" y="2712"/>
                  </a:lnTo>
                  <a:lnTo>
                    <a:pt x="2176" y="2844"/>
                  </a:lnTo>
                  <a:lnTo>
                    <a:pt x="2214" y="3012"/>
                  </a:lnTo>
                  <a:lnTo>
                    <a:pt x="2250" y="3194"/>
                  </a:lnTo>
                  <a:lnTo>
                    <a:pt x="2278" y="3194"/>
                  </a:lnTo>
                  <a:lnTo>
                    <a:pt x="2278" y="3194"/>
                  </a:lnTo>
                  <a:lnTo>
                    <a:pt x="2240" y="3010"/>
                  </a:lnTo>
                  <a:lnTo>
                    <a:pt x="2202" y="2840"/>
                  </a:lnTo>
                  <a:lnTo>
                    <a:pt x="2168" y="2704"/>
                  </a:lnTo>
                  <a:lnTo>
                    <a:pt x="2156" y="2656"/>
                  </a:lnTo>
                  <a:lnTo>
                    <a:pt x="2146" y="2626"/>
                  </a:lnTo>
                  <a:lnTo>
                    <a:pt x="2146" y="2626"/>
                  </a:lnTo>
                  <a:lnTo>
                    <a:pt x="2136" y="2598"/>
                  </a:lnTo>
                  <a:lnTo>
                    <a:pt x="2132" y="2576"/>
                  </a:lnTo>
                  <a:lnTo>
                    <a:pt x="2130" y="2558"/>
                  </a:lnTo>
                  <a:lnTo>
                    <a:pt x="2132" y="2544"/>
                  </a:lnTo>
                  <a:lnTo>
                    <a:pt x="2136" y="2536"/>
                  </a:lnTo>
                  <a:lnTo>
                    <a:pt x="2140" y="2530"/>
                  </a:lnTo>
                  <a:lnTo>
                    <a:pt x="2146" y="2526"/>
                  </a:lnTo>
                  <a:lnTo>
                    <a:pt x="2162" y="2324"/>
                  </a:lnTo>
                  <a:lnTo>
                    <a:pt x="2162" y="2324"/>
                  </a:lnTo>
                  <a:lnTo>
                    <a:pt x="2170" y="2310"/>
                  </a:lnTo>
                  <a:lnTo>
                    <a:pt x="2192" y="2268"/>
                  </a:lnTo>
                  <a:lnTo>
                    <a:pt x="2204" y="2238"/>
                  </a:lnTo>
                  <a:lnTo>
                    <a:pt x="2218" y="2204"/>
                  </a:lnTo>
                  <a:lnTo>
                    <a:pt x="2232" y="2164"/>
                  </a:lnTo>
                  <a:lnTo>
                    <a:pt x="2246" y="2122"/>
                  </a:lnTo>
                  <a:lnTo>
                    <a:pt x="2246" y="2122"/>
                  </a:lnTo>
                  <a:lnTo>
                    <a:pt x="2252" y="2098"/>
                  </a:lnTo>
                  <a:lnTo>
                    <a:pt x="2256" y="2070"/>
                  </a:lnTo>
                  <a:lnTo>
                    <a:pt x="2262" y="2008"/>
                  </a:lnTo>
                  <a:lnTo>
                    <a:pt x="2266" y="1938"/>
                  </a:lnTo>
                  <a:lnTo>
                    <a:pt x="2268" y="1868"/>
                  </a:lnTo>
                  <a:lnTo>
                    <a:pt x="2266" y="1804"/>
                  </a:lnTo>
                  <a:lnTo>
                    <a:pt x="2266" y="1752"/>
                  </a:lnTo>
                  <a:lnTo>
                    <a:pt x="2262" y="1702"/>
                  </a:lnTo>
                  <a:lnTo>
                    <a:pt x="2262" y="1702"/>
                  </a:lnTo>
                  <a:lnTo>
                    <a:pt x="2332" y="1704"/>
                  </a:lnTo>
                  <a:lnTo>
                    <a:pt x="2396" y="1704"/>
                  </a:lnTo>
                  <a:lnTo>
                    <a:pt x="2456" y="1702"/>
                  </a:lnTo>
                  <a:lnTo>
                    <a:pt x="2510" y="1700"/>
                  </a:lnTo>
                  <a:lnTo>
                    <a:pt x="2558" y="1694"/>
                  </a:lnTo>
                  <a:lnTo>
                    <a:pt x="2602" y="1688"/>
                  </a:lnTo>
                  <a:lnTo>
                    <a:pt x="2642" y="1682"/>
                  </a:lnTo>
                  <a:lnTo>
                    <a:pt x="2676" y="1676"/>
                  </a:lnTo>
                  <a:lnTo>
                    <a:pt x="2732" y="1662"/>
                  </a:lnTo>
                  <a:lnTo>
                    <a:pt x="2770" y="1648"/>
                  </a:lnTo>
                  <a:lnTo>
                    <a:pt x="2794" y="1640"/>
                  </a:lnTo>
                  <a:lnTo>
                    <a:pt x="2800" y="1636"/>
                  </a:lnTo>
                  <a:lnTo>
                    <a:pt x="2784" y="1384"/>
                  </a:lnTo>
                  <a:lnTo>
                    <a:pt x="2784" y="1384"/>
                  </a:lnTo>
                  <a:lnTo>
                    <a:pt x="2782" y="1364"/>
                  </a:lnTo>
                  <a:lnTo>
                    <a:pt x="2780" y="1342"/>
                  </a:lnTo>
                  <a:lnTo>
                    <a:pt x="2768" y="1288"/>
                  </a:lnTo>
                  <a:lnTo>
                    <a:pt x="2750" y="1222"/>
                  </a:lnTo>
                  <a:lnTo>
                    <a:pt x="2728" y="1148"/>
                  </a:lnTo>
                  <a:lnTo>
                    <a:pt x="2700" y="1066"/>
                  </a:lnTo>
                  <a:lnTo>
                    <a:pt x="2668" y="982"/>
                  </a:lnTo>
                  <a:lnTo>
                    <a:pt x="2634" y="894"/>
                  </a:lnTo>
                  <a:lnTo>
                    <a:pt x="2598" y="806"/>
                  </a:lnTo>
                  <a:lnTo>
                    <a:pt x="2562" y="720"/>
                  </a:lnTo>
                  <a:lnTo>
                    <a:pt x="2526" y="638"/>
                  </a:lnTo>
                  <a:lnTo>
                    <a:pt x="2490" y="562"/>
                  </a:lnTo>
                  <a:lnTo>
                    <a:pt x="2458" y="494"/>
                  </a:lnTo>
                  <a:lnTo>
                    <a:pt x="2428" y="434"/>
                  </a:lnTo>
                  <a:lnTo>
                    <a:pt x="2402" y="390"/>
                  </a:lnTo>
                  <a:lnTo>
                    <a:pt x="2380" y="358"/>
                  </a:lnTo>
                  <a:lnTo>
                    <a:pt x="2370" y="348"/>
                  </a:lnTo>
                  <a:lnTo>
                    <a:pt x="2364" y="342"/>
                  </a:lnTo>
                  <a:lnTo>
                    <a:pt x="2364" y="342"/>
                  </a:lnTo>
                  <a:lnTo>
                    <a:pt x="2338" y="332"/>
                  </a:lnTo>
                  <a:lnTo>
                    <a:pt x="2314" y="322"/>
                  </a:lnTo>
                  <a:lnTo>
                    <a:pt x="2292" y="316"/>
                  </a:lnTo>
                  <a:lnTo>
                    <a:pt x="2272" y="312"/>
                  </a:lnTo>
                  <a:lnTo>
                    <a:pt x="2240" y="310"/>
                  </a:lnTo>
                  <a:lnTo>
                    <a:pt x="2230" y="308"/>
                  </a:lnTo>
                  <a:lnTo>
                    <a:pt x="2230" y="308"/>
                  </a:lnTo>
                  <a:lnTo>
                    <a:pt x="2178" y="292"/>
                  </a:lnTo>
                  <a:lnTo>
                    <a:pt x="2126" y="272"/>
                  </a:lnTo>
                  <a:lnTo>
                    <a:pt x="2066" y="246"/>
                  </a:lnTo>
                  <a:lnTo>
                    <a:pt x="2034" y="230"/>
                  </a:lnTo>
                  <a:lnTo>
                    <a:pt x="2004" y="216"/>
                  </a:lnTo>
                  <a:lnTo>
                    <a:pt x="1974" y="198"/>
                  </a:lnTo>
                  <a:lnTo>
                    <a:pt x="1946" y="182"/>
                  </a:lnTo>
                  <a:lnTo>
                    <a:pt x="1922" y="164"/>
                  </a:lnTo>
                  <a:lnTo>
                    <a:pt x="1902" y="144"/>
                  </a:lnTo>
                  <a:lnTo>
                    <a:pt x="1886" y="126"/>
                  </a:lnTo>
                  <a:lnTo>
                    <a:pt x="1880" y="116"/>
                  </a:lnTo>
                  <a:lnTo>
                    <a:pt x="1876" y="108"/>
                  </a:lnTo>
                  <a:lnTo>
                    <a:pt x="1876" y="108"/>
                  </a:lnTo>
                  <a:lnTo>
                    <a:pt x="1870" y="90"/>
                  </a:lnTo>
                  <a:lnTo>
                    <a:pt x="1860" y="76"/>
                  </a:lnTo>
                  <a:lnTo>
                    <a:pt x="1850" y="66"/>
                  </a:lnTo>
                  <a:lnTo>
                    <a:pt x="1838" y="56"/>
                  </a:lnTo>
                  <a:lnTo>
                    <a:pt x="1826" y="50"/>
                  </a:lnTo>
                  <a:lnTo>
                    <a:pt x="1814" y="46"/>
                  </a:lnTo>
                  <a:lnTo>
                    <a:pt x="1802" y="44"/>
                  </a:lnTo>
                  <a:lnTo>
                    <a:pt x="1788" y="44"/>
                  </a:lnTo>
                  <a:lnTo>
                    <a:pt x="1764" y="46"/>
                  </a:lnTo>
                  <a:lnTo>
                    <a:pt x="1744" y="50"/>
                  </a:lnTo>
                  <a:lnTo>
                    <a:pt x="1726" y="56"/>
                  </a:lnTo>
                  <a:lnTo>
                    <a:pt x="1726" y="56"/>
                  </a:lnTo>
                  <a:lnTo>
                    <a:pt x="1716" y="42"/>
                  </a:lnTo>
                  <a:lnTo>
                    <a:pt x="1704" y="30"/>
                  </a:lnTo>
                  <a:lnTo>
                    <a:pt x="1692" y="20"/>
                  </a:lnTo>
                  <a:lnTo>
                    <a:pt x="1678" y="14"/>
                  </a:lnTo>
                  <a:lnTo>
                    <a:pt x="1664" y="8"/>
                  </a:lnTo>
                  <a:lnTo>
                    <a:pt x="1650" y="4"/>
                  </a:lnTo>
                  <a:lnTo>
                    <a:pt x="1636" y="2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76" y="2"/>
                  </a:lnTo>
                  <a:lnTo>
                    <a:pt x="1558" y="6"/>
                  </a:lnTo>
                  <a:lnTo>
                    <a:pt x="684" y="158"/>
                  </a:lnTo>
                  <a:lnTo>
                    <a:pt x="684" y="158"/>
                  </a:lnTo>
                  <a:lnTo>
                    <a:pt x="662" y="156"/>
                  </a:lnTo>
                  <a:lnTo>
                    <a:pt x="640" y="158"/>
                  </a:lnTo>
                  <a:lnTo>
                    <a:pt x="612" y="162"/>
                  </a:lnTo>
                  <a:lnTo>
                    <a:pt x="598" y="166"/>
                  </a:lnTo>
                  <a:lnTo>
                    <a:pt x="584" y="170"/>
                  </a:lnTo>
                  <a:lnTo>
                    <a:pt x="570" y="178"/>
                  </a:lnTo>
                  <a:lnTo>
                    <a:pt x="556" y="186"/>
                  </a:lnTo>
                  <a:lnTo>
                    <a:pt x="544" y="196"/>
                  </a:lnTo>
                  <a:lnTo>
                    <a:pt x="534" y="208"/>
                  </a:lnTo>
                  <a:lnTo>
                    <a:pt x="524" y="224"/>
                  </a:lnTo>
                  <a:lnTo>
                    <a:pt x="516" y="242"/>
                  </a:lnTo>
                  <a:lnTo>
                    <a:pt x="516" y="242"/>
                  </a:lnTo>
                  <a:lnTo>
                    <a:pt x="500" y="242"/>
                  </a:lnTo>
                  <a:lnTo>
                    <a:pt x="482" y="246"/>
                  </a:lnTo>
                  <a:lnTo>
                    <a:pt x="462" y="250"/>
                  </a:lnTo>
                  <a:lnTo>
                    <a:pt x="440" y="258"/>
                  </a:lnTo>
                  <a:lnTo>
                    <a:pt x="418" y="270"/>
                  </a:lnTo>
                  <a:lnTo>
                    <a:pt x="406" y="278"/>
                  </a:lnTo>
                  <a:lnTo>
                    <a:pt x="398" y="286"/>
                  </a:lnTo>
                  <a:lnTo>
                    <a:pt x="388" y="296"/>
                  </a:lnTo>
                  <a:lnTo>
                    <a:pt x="382" y="308"/>
                  </a:lnTo>
                  <a:lnTo>
                    <a:pt x="382" y="308"/>
                  </a:lnTo>
                  <a:lnTo>
                    <a:pt x="374" y="322"/>
                  </a:lnTo>
                  <a:lnTo>
                    <a:pt x="362" y="340"/>
                  </a:lnTo>
                  <a:lnTo>
                    <a:pt x="332" y="378"/>
                  </a:lnTo>
                  <a:lnTo>
                    <a:pt x="250" y="478"/>
                  </a:lnTo>
                  <a:lnTo>
                    <a:pt x="204" y="536"/>
                  </a:lnTo>
                  <a:lnTo>
                    <a:pt x="158" y="594"/>
                  </a:lnTo>
                  <a:lnTo>
                    <a:pt x="116" y="654"/>
                  </a:lnTo>
                  <a:lnTo>
                    <a:pt x="96" y="684"/>
                  </a:lnTo>
                  <a:lnTo>
                    <a:pt x="80" y="712"/>
                  </a:lnTo>
                  <a:lnTo>
                    <a:pt x="80" y="712"/>
                  </a:lnTo>
                  <a:lnTo>
                    <a:pt x="72" y="726"/>
                  </a:lnTo>
                  <a:lnTo>
                    <a:pt x="64" y="744"/>
                  </a:lnTo>
                  <a:lnTo>
                    <a:pt x="52" y="784"/>
                  </a:lnTo>
                  <a:lnTo>
                    <a:pt x="40" y="830"/>
                  </a:lnTo>
                  <a:lnTo>
                    <a:pt x="30" y="882"/>
                  </a:lnTo>
                  <a:lnTo>
                    <a:pt x="20" y="938"/>
                  </a:lnTo>
                  <a:lnTo>
                    <a:pt x="14" y="996"/>
                  </a:lnTo>
                  <a:lnTo>
                    <a:pt x="8" y="1056"/>
                  </a:lnTo>
                  <a:lnTo>
                    <a:pt x="4" y="1116"/>
                  </a:lnTo>
                  <a:lnTo>
                    <a:pt x="2" y="1178"/>
                  </a:lnTo>
                  <a:lnTo>
                    <a:pt x="0" y="1236"/>
                  </a:lnTo>
                  <a:lnTo>
                    <a:pt x="2" y="1290"/>
                  </a:lnTo>
                  <a:lnTo>
                    <a:pt x="4" y="1342"/>
                  </a:lnTo>
                  <a:lnTo>
                    <a:pt x="8" y="1388"/>
                  </a:lnTo>
                  <a:lnTo>
                    <a:pt x="14" y="1428"/>
                  </a:lnTo>
                  <a:lnTo>
                    <a:pt x="20" y="1460"/>
                  </a:lnTo>
                  <a:lnTo>
                    <a:pt x="30" y="1484"/>
                  </a:lnTo>
                  <a:lnTo>
                    <a:pt x="30" y="1484"/>
                  </a:lnTo>
                  <a:lnTo>
                    <a:pt x="40" y="1504"/>
                  </a:lnTo>
                  <a:lnTo>
                    <a:pt x="56" y="1522"/>
                  </a:lnTo>
                  <a:lnTo>
                    <a:pt x="72" y="1542"/>
                  </a:lnTo>
                  <a:lnTo>
                    <a:pt x="92" y="1560"/>
                  </a:lnTo>
                  <a:lnTo>
                    <a:pt x="114" y="1580"/>
                  </a:lnTo>
                  <a:lnTo>
                    <a:pt x="136" y="1598"/>
                  </a:lnTo>
                  <a:lnTo>
                    <a:pt x="182" y="1632"/>
                  </a:lnTo>
                  <a:lnTo>
                    <a:pt x="226" y="1660"/>
                  </a:lnTo>
                  <a:lnTo>
                    <a:pt x="264" y="1682"/>
                  </a:lnTo>
                  <a:lnTo>
                    <a:pt x="298" y="1702"/>
                  </a:lnTo>
                  <a:lnTo>
                    <a:pt x="298" y="1702"/>
                  </a:lnTo>
                  <a:lnTo>
                    <a:pt x="308" y="1734"/>
                  </a:lnTo>
                  <a:lnTo>
                    <a:pt x="318" y="1768"/>
                  </a:lnTo>
                  <a:lnTo>
                    <a:pt x="328" y="1812"/>
                  </a:lnTo>
                  <a:lnTo>
                    <a:pt x="336" y="1862"/>
                  </a:lnTo>
                  <a:lnTo>
                    <a:pt x="338" y="1888"/>
                  </a:lnTo>
                  <a:lnTo>
                    <a:pt x="340" y="1916"/>
                  </a:lnTo>
                  <a:lnTo>
                    <a:pt x="340" y="1942"/>
                  </a:lnTo>
                  <a:lnTo>
                    <a:pt x="340" y="1970"/>
                  </a:lnTo>
                  <a:lnTo>
                    <a:pt x="336" y="1996"/>
                  </a:lnTo>
                  <a:lnTo>
                    <a:pt x="332" y="2022"/>
                  </a:lnTo>
                  <a:lnTo>
                    <a:pt x="332" y="2022"/>
                  </a:lnTo>
                  <a:lnTo>
                    <a:pt x="328" y="2034"/>
                  </a:lnTo>
                  <a:lnTo>
                    <a:pt x="328" y="2046"/>
                  </a:lnTo>
                  <a:lnTo>
                    <a:pt x="330" y="2072"/>
                  </a:lnTo>
                  <a:lnTo>
                    <a:pt x="334" y="2096"/>
                  </a:lnTo>
                  <a:lnTo>
                    <a:pt x="344" y="2120"/>
                  </a:lnTo>
                  <a:lnTo>
                    <a:pt x="356" y="2144"/>
                  </a:lnTo>
                  <a:lnTo>
                    <a:pt x="370" y="2166"/>
                  </a:lnTo>
                  <a:lnTo>
                    <a:pt x="386" y="2186"/>
                  </a:lnTo>
                  <a:lnTo>
                    <a:pt x="402" y="2206"/>
                  </a:lnTo>
                  <a:lnTo>
                    <a:pt x="438" y="2240"/>
                  </a:lnTo>
                  <a:lnTo>
                    <a:pt x="468" y="2268"/>
                  </a:lnTo>
                  <a:lnTo>
                    <a:pt x="500" y="2290"/>
                  </a:lnTo>
                  <a:lnTo>
                    <a:pt x="534" y="2476"/>
                  </a:lnTo>
                  <a:lnTo>
                    <a:pt x="534" y="2476"/>
                  </a:lnTo>
                  <a:lnTo>
                    <a:pt x="522" y="2494"/>
                  </a:lnTo>
                  <a:lnTo>
                    <a:pt x="512" y="2516"/>
                  </a:lnTo>
                  <a:lnTo>
                    <a:pt x="500" y="2544"/>
                  </a:lnTo>
                  <a:lnTo>
                    <a:pt x="488" y="2582"/>
                  </a:lnTo>
                  <a:lnTo>
                    <a:pt x="476" y="2624"/>
                  </a:lnTo>
                  <a:lnTo>
                    <a:pt x="472" y="2648"/>
                  </a:lnTo>
                  <a:lnTo>
                    <a:pt x="468" y="2672"/>
                  </a:lnTo>
                  <a:lnTo>
                    <a:pt x="466" y="2700"/>
                  </a:lnTo>
                  <a:lnTo>
                    <a:pt x="466" y="2728"/>
                  </a:lnTo>
                  <a:lnTo>
                    <a:pt x="466" y="2728"/>
                  </a:lnTo>
                  <a:lnTo>
                    <a:pt x="464" y="2786"/>
                  </a:lnTo>
                  <a:lnTo>
                    <a:pt x="456" y="2888"/>
                  </a:lnTo>
                  <a:lnTo>
                    <a:pt x="432" y="3194"/>
                  </a:lnTo>
                  <a:lnTo>
                    <a:pt x="458" y="3194"/>
                  </a:lnTo>
                  <a:lnTo>
                    <a:pt x="458" y="3194"/>
                  </a:lnTo>
                  <a:lnTo>
                    <a:pt x="470" y="3048"/>
                  </a:lnTo>
                  <a:lnTo>
                    <a:pt x="470" y="30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7"/>
            <p:cNvSpPr/>
            <p:nvPr/>
          </p:nvSpPr>
          <p:spPr>
            <a:xfrm>
              <a:off x="40313160" y="9639720"/>
              <a:ext cx="339480" cy="317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4" h="200">
                  <a:moveTo>
                    <a:pt x="100" y="2"/>
                  </a:moveTo>
                  <a:lnTo>
                    <a:pt x="100" y="2"/>
                  </a:lnTo>
                  <a:lnTo>
                    <a:pt x="92" y="4"/>
                  </a:lnTo>
                  <a:lnTo>
                    <a:pt x="86" y="8"/>
                  </a:lnTo>
                  <a:lnTo>
                    <a:pt x="74" y="20"/>
                  </a:lnTo>
                  <a:lnTo>
                    <a:pt x="60" y="38"/>
                  </a:lnTo>
                  <a:lnTo>
                    <a:pt x="48" y="62"/>
                  </a:lnTo>
                  <a:lnTo>
                    <a:pt x="36" y="90"/>
                  </a:lnTo>
                  <a:lnTo>
                    <a:pt x="24" y="122"/>
                  </a:lnTo>
                  <a:lnTo>
                    <a:pt x="12" y="160"/>
                  </a:lnTo>
                  <a:lnTo>
                    <a:pt x="0" y="200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0" y="154"/>
                  </a:lnTo>
                  <a:lnTo>
                    <a:pt x="186" y="112"/>
                  </a:lnTo>
                  <a:lnTo>
                    <a:pt x="172" y="78"/>
                  </a:lnTo>
                  <a:lnTo>
                    <a:pt x="158" y="48"/>
                  </a:lnTo>
                  <a:lnTo>
                    <a:pt x="144" y="26"/>
                  </a:lnTo>
                  <a:lnTo>
                    <a:pt x="136" y="16"/>
                  </a:lnTo>
                  <a:lnTo>
                    <a:pt x="128" y="10"/>
                  </a:lnTo>
                  <a:lnTo>
                    <a:pt x="122" y="4"/>
                  </a:lnTo>
                  <a:lnTo>
                    <a:pt x="114" y="2"/>
                  </a:lnTo>
                  <a:lnTo>
                    <a:pt x="106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ec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8"/>
            <p:cNvSpPr/>
            <p:nvPr/>
          </p:nvSpPr>
          <p:spPr>
            <a:xfrm>
              <a:off x="39404880" y="9217080"/>
              <a:ext cx="444240" cy="739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280" h="466">
                  <a:moveTo>
                    <a:pt x="140" y="466"/>
                  </a:moveTo>
                  <a:lnTo>
                    <a:pt x="280" y="466"/>
                  </a:lnTo>
                  <a:lnTo>
                    <a:pt x="280" y="466"/>
                  </a:lnTo>
                  <a:lnTo>
                    <a:pt x="270" y="424"/>
                  </a:lnTo>
                  <a:lnTo>
                    <a:pt x="254" y="384"/>
                  </a:lnTo>
                  <a:lnTo>
                    <a:pt x="238" y="342"/>
                  </a:lnTo>
                  <a:lnTo>
                    <a:pt x="218" y="300"/>
                  </a:lnTo>
                  <a:lnTo>
                    <a:pt x="194" y="260"/>
                  </a:lnTo>
                  <a:lnTo>
                    <a:pt x="172" y="222"/>
                  </a:lnTo>
                  <a:lnTo>
                    <a:pt x="148" y="186"/>
                  </a:lnTo>
                  <a:lnTo>
                    <a:pt x="122" y="150"/>
                  </a:lnTo>
                  <a:lnTo>
                    <a:pt x="76" y="90"/>
                  </a:lnTo>
                  <a:lnTo>
                    <a:pt x="36" y="4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2"/>
                  </a:lnTo>
                  <a:lnTo>
                    <a:pt x="32" y="44"/>
                  </a:lnTo>
                  <a:lnTo>
                    <a:pt x="46" y="70"/>
                  </a:lnTo>
                  <a:lnTo>
                    <a:pt x="60" y="96"/>
                  </a:lnTo>
                  <a:lnTo>
                    <a:pt x="72" y="122"/>
                  </a:lnTo>
                  <a:lnTo>
                    <a:pt x="82" y="150"/>
                  </a:lnTo>
                  <a:lnTo>
                    <a:pt x="92" y="180"/>
                  </a:lnTo>
                  <a:lnTo>
                    <a:pt x="102" y="210"/>
                  </a:lnTo>
                  <a:lnTo>
                    <a:pt x="116" y="270"/>
                  </a:lnTo>
                  <a:lnTo>
                    <a:pt x="126" y="334"/>
                  </a:lnTo>
                  <a:lnTo>
                    <a:pt x="134" y="400"/>
                  </a:lnTo>
                  <a:lnTo>
                    <a:pt x="140" y="466"/>
                  </a:lnTo>
                  <a:lnTo>
                    <a:pt x="140" y="466"/>
                  </a:lnTo>
                  <a:close/>
                </a:path>
              </a:pathLst>
            </a:custGeom>
            <a:solidFill>
              <a:srgbClr val="ec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9"/>
            <p:cNvSpPr/>
            <p:nvPr/>
          </p:nvSpPr>
          <p:spPr>
            <a:xfrm>
              <a:off x="39563640" y="5137200"/>
              <a:ext cx="1127160" cy="168588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710" h="1062">
                  <a:moveTo>
                    <a:pt x="538" y="0"/>
                  </a:moveTo>
                  <a:lnTo>
                    <a:pt x="538" y="0"/>
                  </a:lnTo>
                  <a:lnTo>
                    <a:pt x="556" y="14"/>
                  </a:lnTo>
                  <a:lnTo>
                    <a:pt x="600" y="50"/>
                  </a:lnTo>
                  <a:lnTo>
                    <a:pt x="626" y="74"/>
                  </a:lnTo>
                  <a:lnTo>
                    <a:pt x="650" y="98"/>
                  </a:lnTo>
                  <a:lnTo>
                    <a:pt x="672" y="124"/>
                  </a:lnTo>
                  <a:lnTo>
                    <a:pt x="682" y="138"/>
                  </a:lnTo>
                  <a:lnTo>
                    <a:pt x="688" y="150"/>
                  </a:lnTo>
                  <a:lnTo>
                    <a:pt x="688" y="150"/>
                  </a:lnTo>
                  <a:lnTo>
                    <a:pt x="694" y="168"/>
                  </a:lnTo>
                  <a:lnTo>
                    <a:pt x="700" y="196"/>
                  </a:lnTo>
                  <a:lnTo>
                    <a:pt x="702" y="230"/>
                  </a:lnTo>
                  <a:lnTo>
                    <a:pt x="706" y="270"/>
                  </a:lnTo>
                  <a:lnTo>
                    <a:pt x="708" y="366"/>
                  </a:lnTo>
                  <a:lnTo>
                    <a:pt x="710" y="470"/>
                  </a:lnTo>
                  <a:lnTo>
                    <a:pt x="708" y="656"/>
                  </a:lnTo>
                  <a:lnTo>
                    <a:pt x="706" y="738"/>
                  </a:lnTo>
                  <a:lnTo>
                    <a:pt x="470" y="704"/>
                  </a:lnTo>
                  <a:lnTo>
                    <a:pt x="572" y="906"/>
                  </a:lnTo>
                  <a:lnTo>
                    <a:pt x="572" y="906"/>
                  </a:lnTo>
                  <a:lnTo>
                    <a:pt x="542" y="934"/>
                  </a:lnTo>
                  <a:lnTo>
                    <a:pt x="510" y="964"/>
                  </a:lnTo>
                  <a:lnTo>
                    <a:pt x="470" y="994"/>
                  </a:lnTo>
                  <a:lnTo>
                    <a:pt x="428" y="1024"/>
                  </a:lnTo>
                  <a:lnTo>
                    <a:pt x="408" y="1038"/>
                  </a:lnTo>
                  <a:lnTo>
                    <a:pt x="386" y="1048"/>
                  </a:lnTo>
                  <a:lnTo>
                    <a:pt x="368" y="1056"/>
                  </a:lnTo>
                  <a:lnTo>
                    <a:pt x="350" y="1060"/>
                  </a:lnTo>
                  <a:lnTo>
                    <a:pt x="334" y="1062"/>
                  </a:lnTo>
                  <a:lnTo>
                    <a:pt x="326" y="1060"/>
                  </a:lnTo>
                  <a:lnTo>
                    <a:pt x="320" y="1058"/>
                  </a:lnTo>
                  <a:lnTo>
                    <a:pt x="320" y="1058"/>
                  </a:lnTo>
                  <a:lnTo>
                    <a:pt x="304" y="1048"/>
                  </a:lnTo>
                  <a:lnTo>
                    <a:pt x="286" y="1032"/>
                  </a:lnTo>
                  <a:lnTo>
                    <a:pt x="264" y="1010"/>
                  </a:lnTo>
                  <a:lnTo>
                    <a:pt x="242" y="982"/>
                  </a:lnTo>
                  <a:lnTo>
                    <a:pt x="188" y="918"/>
                  </a:lnTo>
                  <a:lnTo>
                    <a:pt x="134" y="844"/>
                  </a:lnTo>
                  <a:lnTo>
                    <a:pt x="84" y="768"/>
                  </a:lnTo>
                  <a:lnTo>
                    <a:pt x="40" y="698"/>
                  </a:lnTo>
                  <a:lnTo>
                    <a:pt x="24" y="668"/>
                  </a:lnTo>
                  <a:lnTo>
                    <a:pt x="12" y="642"/>
                  </a:lnTo>
                  <a:lnTo>
                    <a:pt x="2" y="620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0" y="598"/>
                  </a:lnTo>
                  <a:lnTo>
                    <a:pt x="4" y="588"/>
                  </a:lnTo>
                  <a:lnTo>
                    <a:pt x="12" y="568"/>
                  </a:lnTo>
                  <a:lnTo>
                    <a:pt x="26" y="544"/>
                  </a:lnTo>
                  <a:lnTo>
                    <a:pt x="44" y="516"/>
                  </a:lnTo>
                  <a:lnTo>
                    <a:pt x="90" y="452"/>
                  </a:lnTo>
                  <a:lnTo>
                    <a:pt x="142" y="386"/>
                  </a:lnTo>
                  <a:lnTo>
                    <a:pt x="196" y="322"/>
                  </a:lnTo>
                  <a:lnTo>
                    <a:pt x="240" y="268"/>
                  </a:lnTo>
                  <a:lnTo>
                    <a:pt x="286" y="218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ec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"/>
            <p:cNvSpPr/>
            <p:nvPr/>
          </p:nvSpPr>
          <p:spPr>
            <a:xfrm>
              <a:off x="38684160" y="5295960"/>
              <a:ext cx="1533240" cy="3209760"/>
            </a:xfrm>
            <a:custGeom>
              <a:avLst/>
              <a:gdLst>
                <a:gd name="textAreaLeft" fmla="*/ 0 w 1533240"/>
                <a:gd name="textAreaRight" fmla="*/ 1533600 w 15332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966" h="2022">
                  <a:moveTo>
                    <a:pt x="202" y="0"/>
                  </a:moveTo>
                  <a:lnTo>
                    <a:pt x="202" y="0"/>
                  </a:lnTo>
                  <a:lnTo>
                    <a:pt x="182" y="22"/>
                  </a:lnTo>
                  <a:lnTo>
                    <a:pt x="140" y="76"/>
                  </a:lnTo>
                  <a:lnTo>
                    <a:pt x="116" y="108"/>
                  </a:lnTo>
                  <a:lnTo>
                    <a:pt x="96" y="142"/>
                  </a:lnTo>
                  <a:lnTo>
                    <a:pt x="78" y="174"/>
                  </a:lnTo>
                  <a:lnTo>
                    <a:pt x="72" y="188"/>
                  </a:lnTo>
                  <a:lnTo>
                    <a:pt x="68" y="202"/>
                  </a:lnTo>
                  <a:lnTo>
                    <a:pt x="68" y="202"/>
                  </a:lnTo>
                  <a:lnTo>
                    <a:pt x="0" y="470"/>
                  </a:lnTo>
                  <a:lnTo>
                    <a:pt x="286" y="454"/>
                  </a:lnTo>
                  <a:lnTo>
                    <a:pt x="118" y="740"/>
                  </a:lnTo>
                  <a:lnTo>
                    <a:pt x="118" y="740"/>
                  </a:lnTo>
                  <a:lnTo>
                    <a:pt x="146" y="774"/>
                  </a:lnTo>
                  <a:lnTo>
                    <a:pt x="180" y="810"/>
                  </a:lnTo>
                  <a:lnTo>
                    <a:pt x="224" y="852"/>
                  </a:lnTo>
                  <a:lnTo>
                    <a:pt x="250" y="874"/>
                  </a:lnTo>
                  <a:lnTo>
                    <a:pt x="278" y="896"/>
                  </a:lnTo>
                  <a:lnTo>
                    <a:pt x="306" y="918"/>
                  </a:lnTo>
                  <a:lnTo>
                    <a:pt x="338" y="938"/>
                  </a:lnTo>
                  <a:lnTo>
                    <a:pt x="368" y="956"/>
                  </a:lnTo>
                  <a:lnTo>
                    <a:pt x="402" y="970"/>
                  </a:lnTo>
                  <a:lnTo>
                    <a:pt x="436" y="982"/>
                  </a:lnTo>
                  <a:lnTo>
                    <a:pt x="470" y="992"/>
                  </a:lnTo>
                  <a:lnTo>
                    <a:pt x="470" y="992"/>
                  </a:lnTo>
                  <a:lnTo>
                    <a:pt x="504" y="998"/>
                  </a:lnTo>
                  <a:lnTo>
                    <a:pt x="536" y="1008"/>
                  </a:lnTo>
                  <a:lnTo>
                    <a:pt x="564" y="1020"/>
                  </a:lnTo>
                  <a:lnTo>
                    <a:pt x="592" y="1032"/>
                  </a:lnTo>
                  <a:lnTo>
                    <a:pt x="618" y="1048"/>
                  </a:lnTo>
                  <a:lnTo>
                    <a:pt x="640" y="1064"/>
                  </a:lnTo>
                  <a:lnTo>
                    <a:pt x="660" y="1080"/>
                  </a:lnTo>
                  <a:lnTo>
                    <a:pt x="678" y="1098"/>
                  </a:lnTo>
                  <a:lnTo>
                    <a:pt x="694" y="1116"/>
                  </a:lnTo>
                  <a:lnTo>
                    <a:pt x="706" y="1136"/>
                  </a:lnTo>
                  <a:lnTo>
                    <a:pt x="716" y="1154"/>
                  </a:lnTo>
                  <a:lnTo>
                    <a:pt x="722" y="1174"/>
                  </a:lnTo>
                  <a:lnTo>
                    <a:pt x="728" y="1192"/>
                  </a:lnTo>
                  <a:lnTo>
                    <a:pt x="728" y="1210"/>
                  </a:lnTo>
                  <a:lnTo>
                    <a:pt x="726" y="1226"/>
                  </a:lnTo>
                  <a:lnTo>
                    <a:pt x="722" y="1244"/>
                  </a:lnTo>
                  <a:lnTo>
                    <a:pt x="722" y="1244"/>
                  </a:lnTo>
                  <a:lnTo>
                    <a:pt x="714" y="1260"/>
                  </a:lnTo>
                  <a:lnTo>
                    <a:pt x="702" y="1282"/>
                  </a:lnTo>
                  <a:lnTo>
                    <a:pt x="672" y="1334"/>
                  </a:lnTo>
                  <a:lnTo>
                    <a:pt x="634" y="1390"/>
                  </a:lnTo>
                  <a:lnTo>
                    <a:pt x="590" y="1448"/>
                  </a:lnTo>
                  <a:lnTo>
                    <a:pt x="566" y="1476"/>
                  </a:lnTo>
                  <a:lnTo>
                    <a:pt x="544" y="1502"/>
                  </a:lnTo>
                  <a:lnTo>
                    <a:pt x="520" y="1526"/>
                  </a:lnTo>
                  <a:lnTo>
                    <a:pt x="498" y="1546"/>
                  </a:lnTo>
                  <a:lnTo>
                    <a:pt x="476" y="1562"/>
                  </a:lnTo>
                  <a:lnTo>
                    <a:pt x="456" y="1572"/>
                  </a:lnTo>
                  <a:lnTo>
                    <a:pt x="446" y="1576"/>
                  </a:lnTo>
                  <a:lnTo>
                    <a:pt x="436" y="1578"/>
                  </a:lnTo>
                  <a:lnTo>
                    <a:pt x="428" y="1580"/>
                  </a:lnTo>
                  <a:lnTo>
                    <a:pt x="420" y="1578"/>
                  </a:lnTo>
                  <a:lnTo>
                    <a:pt x="420" y="1578"/>
                  </a:lnTo>
                  <a:lnTo>
                    <a:pt x="402" y="1574"/>
                  </a:lnTo>
                  <a:lnTo>
                    <a:pt x="378" y="1568"/>
                  </a:lnTo>
                  <a:lnTo>
                    <a:pt x="322" y="1548"/>
                  </a:lnTo>
                  <a:lnTo>
                    <a:pt x="256" y="1524"/>
                  </a:lnTo>
                  <a:lnTo>
                    <a:pt x="188" y="1502"/>
                  </a:lnTo>
                  <a:lnTo>
                    <a:pt x="156" y="1492"/>
                  </a:lnTo>
                  <a:lnTo>
                    <a:pt x="126" y="1484"/>
                  </a:lnTo>
                  <a:lnTo>
                    <a:pt x="98" y="1480"/>
                  </a:lnTo>
                  <a:lnTo>
                    <a:pt x="74" y="1478"/>
                  </a:lnTo>
                  <a:lnTo>
                    <a:pt x="56" y="1480"/>
                  </a:lnTo>
                  <a:lnTo>
                    <a:pt x="48" y="1482"/>
                  </a:lnTo>
                  <a:lnTo>
                    <a:pt x="42" y="1486"/>
                  </a:lnTo>
                  <a:lnTo>
                    <a:pt x="38" y="1490"/>
                  </a:lnTo>
                  <a:lnTo>
                    <a:pt x="34" y="1496"/>
                  </a:lnTo>
                  <a:lnTo>
                    <a:pt x="32" y="1504"/>
                  </a:lnTo>
                  <a:lnTo>
                    <a:pt x="34" y="1512"/>
                  </a:lnTo>
                  <a:lnTo>
                    <a:pt x="34" y="1512"/>
                  </a:lnTo>
                  <a:lnTo>
                    <a:pt x="36" y="1522"/>
                  </a:lnTo>
                  <a:lnTo>
                    <a:pt x="40" y="1534"/>
                  </a:lnTo>
                  <a:lnTo>
                    <a:pt x="54" y="1566"/>
                  </a:lnTo>
                  <a:lnTo>
                    <a:pt x="74" y="1602"/>
                  </a:lnTo>
                  <a:lnTo>
                    <a:pt x="100" y="1642"/>
                  </a:lnTo>
                  <a:lnTo>
                    <a:pt x="128" y="1686"/>
                  </a:lnTo>
                  <a:lnTo>
                    <a:pt x="160" y="1734"/>
                  </a:lnTo>
                  <a:lnTo>
                    <a:pt x="194" y="1780"/>
                  </a:lnTo>
                  <a:lnTo>
                    <a:pt x="230" y="1826"/>
                  </a:lnTo>
                  <a:lnTo>
                    <a:pt x="268" y="1872"/>
                  </a:lnTo>
                  <a:lnTo>
                    <a:pt x="302" y="1912"/>
                  </a:lnTo>
                  <a:lnTo>
                    <a:pt x="336" y="1948"/>
                  </a:lnTo>
                  <a:lnTo>
                    <a:pt x="368" y="1980"/>
                  </a:lnTo>
                  <a:lnTo>
                    <a:pt x="398" y="2002"/>
                  </a:lnTo>
                  <a:lnTo>
                    <a:pt x="410" y="2012"/>
                  </a:lnTo>
                  <a:lnTo>
                    <a:pt x="422" y="2018"/>
                  </a:lnTo>
                  <a:lnTo>
                    <a:pt x="432" y="2022"/>
                  </a:lnTo>
                  <a:lnTo>
                    <a:pt x="440" y="2022"/>
                  </a:lnTo>
                  <a:lnTo>
                    <a:pt x="448" y="2020"/>
                  </a:lnTo>
                  <a:lnTo>
                    <a:pt x="454" y="2016"/>
                  </a:lnTo>
                  <a:lnTo>
                    <a:pt x="454" y="2016"/>
                  </a:lnTo>
                  <a:lnTo>
                    <a:pt x="462" y="2002"/>
                  </a:lnTo>
                  <a:lnTo>
                    <a:pt x="466" y="1984"/>
                  </a:lnTo>
                  <a:lnTo>
                    <a:pt x="468" y="1964"/>
                  </a:lnTo>
                  <a:lnTo>
                    <a:pt x="468" y="1944"/>
                  </a:lnTo>
                  <a:lnTo>
                    <a:pt x="464" y="1898"/>
                  </a:lnTo>
                  <a:lnTo>
                    <a:pt x="460" y="1852"/>
                  </a:lnTo>
                  <a:lnTo>
                    <a:pt x="456" y="1810"/>
                  </a:lnTo>
                  <a:lnTo>
                    <a:pt x="458" y="1794"/>
                  </a:lnTo>
                  <a:lnTo>
                    <a:pt x="460" y="1780"/>
                  </a:lnTo>
                  <a:lnTo>
                    <a:pt x="466" y="1768"/>
                  </a:lnTo>
                  <a:lnTo>
                    <a:pt x="470" y="1764"/>
                  </a:lnTo>
                  <a:lnTo>
                    <a:pt x="474" y="1762"/>
                  </a:lnTo>
                  <a:lnTo>
                    <a:pt x="480" y="1760"/>
                  </a:lnTo>
                  <a:lnTo>
                    <a:pt x="488" y="1760"/>
                  </a:lnTo>
                  <a:lnTo>
                    <a:pt x="504" y="1764"/>
                  </a:lnTo>
                  <a:lnTo>
                    <a:pt x="504" y="1764"/>
                  </a:lnTo>
                  <a:lnTo>
                    <a:pt x="514" y="1768"/>
                  </a:lnTo>
                  <a:lnTo>
                    <a:pt x="524" y="1774"/>
                  </a:lnTo>
                  <a:lnTo>
                    <a:pt x="544" y="1788"/>
                  </a:lnTo>
                  <a:lnTo>
                    <a:pt x="566" y="1806"/>
                  </a:lnTo>
                  <a:lnTo>
                    <a:pt x="588" y="1828"/>
                  </a:lnTo>
                  <a:lnTo>
                    <a:pt x="632" y="1876"/>
                  </a:lnTo>
                  <a:lnTo>
                    <a:pt x="680" y="1926"/>
                  </a:lnTo>
                  <a:lnTo>
                    <a:pt x="704" y="1946"/>
                  </a:lnTo>
                  <a:lnTo>
                    <a:pt x="728" y="1966"/>
                  </a:lnTo>
                  <a:lnTo>
                    <a:pt x="750" y="1980"/>
                  </a:lnTo>
                  <a:lnTo>
                    <a:pt x="762" y="1984"/>
                  </a:lnTo>
                  <a:lnTo>
                    <a:pt x="772" y="1988"/>
                  </a:lnTo>
                  <a:lnTo>
                    <a:pt x="784" y="1990"/>
                  </a:lnTo>
                  <a:lnTo>
                    <a:pt x="796" y="1990"/>
                  </a:lnTo>
                  <a:lnTo>
                    <a:pt x="806" y="1988"/>
                  </a:lnTo>
                  <a:lnTo>
                    <a:pt x="816" y="1986"/>
                  </a:lnTo>
                  <a:lnTo>
                    <a:pt x="826" y="1980"/>
                  </a:lnTo>
                  <a:lnTo>
                    <a:pt x="836" y="1972"/>
                  </a:lnTo>
                  <a:lnTo>
                    <a:pt x="846" y="1962"/>
                  </a:lnTo>
                  <a:lnTo>
                    <a:pt x="856" y="1948"/>
                  </a:lnTo>
                  <a:lnTo>
                    <a:pt x="856" y="1948"/>
                  </a:lnTo>
                  <a:lnTo>
                    <a:pt x="866" y="1934"/>
                  </a:lnTo>
                  <a:lnTo>
                    <a:pt x="876" y="1916"/>
                  </a:lnTo>
                  <a:lnTo>
                    <a:pt x="894" y="1874"/>
                  </a:lnTo>
                  <a:lnTo>
                    <a:pt x="910" y="1824"/>
                  </a:lnTo>
                  <a:lnTo>
                    <a:pt x="926" y="1766"/>
                  </a:lnTo>
                  <a:lnTo>
                    <a:pt x="940" y="1704"/>
                  </a:lnTo>
                  <a:lnTo>
                    <a:pt x="952" y="1636"/>
                  </a:lnTo>
                  <a:lnTo>
                    <a:pt x="960" y="1564"/>
                  </a:lnTo>
                  <a:lnTo>
                    <a:pt x="966" y="1488"/>
                  </a:lnTo>
                  <a:lnTo>
                    <a:pt x="966" y="1412"/>
                  </a:lnTo>
                  <a:lnTo>
                    <a:pt x="964" y="1332"/>
                  </a:lnTo>
                  <a:lnTo>
                    <a:pt x="960" y="1294"/>
                  </a:lnTo>
                  <a:lnTo>
                    <a:pt x="956" y="1254"/>
                  </a:lnTo>
                  <a:lnTo>
                    <a:pt x="948" y="1216"/>
                  </a:lnTo>
                  <a:lnTo>
                    <a:pt x="942" y="1176"/>
                  </a:lnTo>
                  <a:lnTo>
                    <a:pt x="932" y="1138"/>
                  </a:lnTo>
                  <a:lnTo>
                    <a:pt x="922" y="1100"/>
                  </a:lnTo>
                  <a:lnTo>
                    <a:pt x="910" y="1062"/>
                  </a:lnTo>
                  <a:lnTo>
                    <a:pt x="896" y="1026"/>
                  </a:lnTo>
                  <a:lnTo>
                    <a:pt x="880" y="990"/>
                  </a:lnTo>
                  <a:lnTo>
                    <a:pt x="864" y="956"/>
                  </a:lnTo>
                  <a:lnTo>
                    <a:pt x="844" y="922"/>
                  </a:lnTo>
                  <a:lnTo>
                    <a:pt x="822" y="890"/>
                  </a:lnTo>
                  <a:lnTo>
                    <a:pt x="822" y="890"/>
                  </a:lnTo>
                  <a:lnTo>
                    <a:pt x="778" y="826"/>
                  </a:lnTo>
                  <a:lnTo>
                    <a:pt x="736" y="758"/>
                  </a:lnTo>
                  <a:lnTo>
                    <a:pt x="694" y="688"/>
                  </a:lnTo>
                  <a:lnTo>
                    <a:pt x="652" y="618"/>
                  </a:lnTo>
                  <a:lnTo>
                    <a:pt x="614" y="546"/>
                  </a:lnTo>
                  <a:lnTo>
                    <a:pt x="576" y="478"/>
                  </a:lnTo>
                  <a:lnTo>
                    <a:pt x="508" y="344"/>
                  </a:lnTo>
                  <a:lnTo>
                    <a:pt x="450" y="228"/>
                  </a:lnTo>
                  <a:lnTo>
                    <a:pt x="408" y="134"/>
                  </a:lnTo>
                  <a:lnTo>
                    <a:pt x="370" y="5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c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1"/>
            <p:cNvSpPr/>
            <p:nvPr/>
          </p:nvSpPr>
          <p:spPr>
            <a:xfrm>
              <a:off x="39271680" y="4095720"/>
              <a:ext cx="879480" cy="19746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974600"/>
                <a:gd name="textAreaBottom" fmla="*/ 1974960 h 1974600"/>
              </a:gdLst>
              <a:ahLst/>
              <a:rect l="textAreaLeft" t="textAreaTop" r="textAreaRight" b="textAreaBottom"/>
              <a:pathLst>
                <a:path w="554" h="1244">
                  <a:moveTo>
                    <a:pt x="0" y="0"/>
                  </a:moveTo>
                  <a:lnTo>
                    <a:pt x="0" y="0"/>
                  </a:lnTo>
                  <a:lnTo>
                    <a:pt x="22" y="80"/>
                  </a:lnTo>
                  <a:lnTo>
                    <a:pt x="44" y="164"/>
                  </a:lnTo>
                  <a:lnTo>
                    <a:pt x="66" y="266"/>
                  </a:lnTo>
                  <a:lnTo>
                    <a:pt x="78" y="320"/>
                  </a:lnTo>
                  <a:lnTo>
                    <a:pt x="86" y="374"/>
                  </a:lnTo>
                  <a:lnTo>
                    <a:pt x="94" y="430"/>
                  </a:lnTo>
                  <a:lnTo>
                    <a:pt x="98" y="482"/>
                  </a:lnTo>
                  <a:lnTo>
                    <a:pt x="100" y="532"/>
                  </a:lnTo>
                  <a:lnTo>
                    <a:pt x="98" y="580"/>
                  </a:lnTo>
                  <a:lnTo>
                    <a:pt x="96" y="600"/>
                  </a:lnTo>
                  <a:lnTo>
                    <a:pt x="94" y="620"/>
                  </a:lnTo>
                  <a:lnTo>
                    <a:pt x="88" y="638"/>
                  </a:lnTo>
                  <a:lnTo>
                    <a:pt x="84" y="656"/>
                  </a:lnTo>
                  <a:lnTo>
                    <a:pt x="84" y="656"/>
                  </a:lnTo>
                  <a:lnTo>
                    <a:pt x="78" y="672"/>
                  </a:lnTo>
                  <a:lnTo>
                    <a:pt x="74" y="690"/>
                  </a:lnTo>
                  <a:lnTo>
                    <a:pt x="72" y="708"/>
                  </a:lnTo>
                  <a:lnTo>
                    <a:pt x="72" y="730"/>
                  </a:lnTo>
                  <a:lnTo>
                    <a:pt x="74" y="750"/>
                  </a:lnTo>
                  <a:lnTo>
                    <a:pt x="76" y="772"/>
                  </a:lnTo>
                  <a:lnTo>
                    <a:pt x="84" y="818"/>
                  </a:lnTo>
                  <a:lnTo>
                    <a:pt x="96" y="866"/>
                  </a:lnTo>
                  <a:lnTo>
                    <a:pt x="112" y="916"/>
                  </a:lnTo>
                  <a:lnTo>
                    <a:pt x="130" y="964"/>
                  </a:lnTo>
                  <a:lnTo>
                    <a:pt x="150" y="1012"/>
                  </a:lnTo>
                  <a:lnTo>
                    <a:pt x="172" y="1058"/>
                  </a:lnTo>
                  <a:lnTo>
                    <a:pt x="192" y="1102"/>
                  </a:lnTo>
                  <a:lnTo>
                    <a:pt x="230" y="1176"/>
                  </a:lnTo>
                  <a:lnTo>
                    <a:pt x="258" y="1224"/>
                  </a:lnTo>
                  <a:lnTo>
                    <a:pt x="268" y="1244"/>
                  </a:lnTo>
                  <a:lnTo>
                    <a:pt x="554" y="672"/>
                  </a:lnTo>
                  <a:lnTo>
                    <a:pt x="554" y="672"/>
                  </a:lnTo>
                  <a:lnTo>
                    <a:pt x="528" y="592"/>
                  </a:lnTo>
                  <a:lnTo>
                    <a:pt x="504" y="504"/>
                  </a:lnTo>
                  <a:lnTo>
                    <a:pt x="480" y="402"/>
                  </a:lnTo>
                  <a:lnTo>
                    <a:pt x="468" y="346"/>
                  </a:lnTo>
                  <a:lnTo>
                    <a:pt x="460" y="290"/>
                  </a:lnTo>
                  <a:lnTo>
                    <a:pt x="452" y="236"/>
                  </a:lnTo>
                  <a:lnTo>
                    <a:pt x="448" y="184"/>
                  </a:lnTo>
                  <a:lnTo>
                    <a:pt x="446" y="134"/>
                  </a:lnTo>
                  <a:lnTo>
                    <a:pt x="448" y="110"/>
                  </a:lnTo>
                  <a:lnTo>
                    <a:pt x="450" y="88"/>
                  </a:lnTo>
                  <a:lnTo>
                    <a:pt x="452" y="68"/>
                  </a:lnTo>
                  <a:lnTo>
                    <a:pt x="456" y="50"/>
                  </a:lnTo>
                  <a:lnTo>
                    <a:pt x="462" y="32"/>
                  </a:lnTo>
                  <a:lnTo>
                    <a:pt x="47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2"/>
            <p:cNvSpPr/>
            <p:nvPr/>
          </p:nvSpPr>
          <p:spPr>
            <a:xfrm>
              <a:off x="39230280" y="4054680"/>
              <a:ext cx="961920" cy="205740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606" h="1296">
                  <a:moveTo>
                    <a:pt x="4" y="10"/>
                  </a:move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2" y="114"/>
                  </a:lnTo>
                  <a:lnTo>
                    <a:pt x="44" y="196"/>
                  </a:lnTo>
                  <a:lnTo>
                    <a:pt x="66" y="296"/>
                  </a:lnTo>
                  <a:lnTo>
                    <a:pt x="78" y="348"/>
                  </a:lnTo>
                  <a:lnTo>
                    <a:pt x="86" y="402"/>
                  </a:lnTo>
                  <a:lnTo>
                    <a:pt x="94" y="456"/>
                  </a:lnTo>
                  <a:lnTo>
                    <a:pt x="98" y="506"/>
                  </a:lnTo>
                  <a:lnTo>
                    <a:pt x="100" y="554"/>
                  </a:lnTo>
                  <a:lnTo>
                    <a:pt x="100" y="600"/>
                  </a:lnTo>
                  <a:lnTo>
                    <a:pt x="98" y="620"/>
                  </a:lnTo>
                  <a:lnTo>
                    <a:pt x="94" y="638"/>
                  </a:lnTo>
                  <a:lnTo>
                    <a:pt x="90" y="656"/>
                  </a:lnTo>
                  <a:lnTo>
                    <a:pt x="84" y="672"/>
                  </a:lnTo>
                  <a:lnTo>
                    <a:pt x="84" y="672"/>
                  </a:lnTo>
                  <a:lnTo>
                    <a:pt x="80" y="690"/>
                  </a:lnTo>
                  <a:lnTo>
                    <a:pt x="76" y="708"/>
                  </a:lnTo>
                  <a:lnTo>
                    <a:pt x="72" y="728"/>
                  </a:lnTo>
                  <a:lnTo>
                    <a:pt x="72" y="748"/>
                  </a:lnTo>
                  <a:lnTo>
                    <a:pt x="72" y="770"/>
                  </a:lnTo>
                  <a:lnTo>
                    <a:pt x="74" y="792"/>
                  </a:lnTo>
                  <a:lnTo>
                    <a:pt x="82" y="840"/>
                  </a:lnTo>
                  <a:lnTo>
                    <a:pt x="94" y="888"/>
                  </a:lnTo>
                  <a:lnTo>
                    <a:pt x="110" y="938"/>
                  </a:lnTo>
                  <a:lnTo>
                    <a:pt x="128" y="988"/>
                  </a:lnTo>
                  <a:lnTo>
                    <a:pt x="148" y="1038"/>
                  </a:lnTo>
                  <a:lnTo>
                    <a:pt x="168" y="1084"/>
                  </a:lnTo>
                  <a:lnTo>
                    <a:pt x="190" y="1128"/>
                  </a:lnTo>
                  <a:lnTo>
                    <a:pt x="228" y="1204"/>
                  </a:lnTo>
                  <a:lnTo>
                    <a:pt x="258" y="1258"/>
                  </a:lnTo>
                  <a:lnTo>
                    <a:pt x="272" y="1282"/>
                  </a:lnTo>
                  <a:lnTo>
                    <a:pt x="272" y="1282"/>
                  </a:lnTo>
                  <a:lnTo>
                    <a:pt x="276" y="1288"/>
                  </a:lnTo>
                  <a:lnTo>
                    <a:pt x="282" y="1292"/>
                  </a:lnTo>
                  <a:lnTo>
                    <a:pt x="288" y="1294"/>
                  </a:lnTo>
                  <a:lnTo>
                    <a:pt x="296" y="1296"/>
                  </a:lnTo>
                  <a:lnTo>
                    <a:pt x="296" y="1296"/>
                  </a:lnTo>
                  <a:lnTo>
                    <a:pt x="302" y="1294"/>
                  </a:lnTo>
                  <a:lnTo>
                    <a:pt x="308" y="1292"/>
                  </a:lnTo>
                  <a:lnTo>
                    <a:pt x="314" y="1286"/>
                  </a:lnTo>
                  <a:lnTo>
                    <a:pt x="318" y="1282"/>
                  </a:lnTo>
                  <a:lnTo>
                    <a:pt x="604" y="710"/>
                  </a:lnTo>
                  <a:lnTo>
                    <a:pt x="604" y="710"/>
                  </a:lnTo>
                  <a:lnTo>
                    <a:pt x="606" y="700"/>
                  </a:lnTo>
                  <a:lnTo>
                    <a:pt x="604" y="690"/>
                  </a:lnTo>
                  <a:lnTo>
                    <a:pt x="604" y="690"/>
                  </a:lnTo>
                  <a:lnTo>
                    <a:pt x="586" y="628"/>
                  </a:lnTo>
                  <a:lnTo>
                    <a:pt x="562" y="550"/>
                  </a:lnTo>
                  <a:lnTo>
                    <a:pt x="540" y="460"/>
                  </a:lnTo>
                  <a:lnTo>
                    <a:pt x="520" y="364"/>
                  </a:lnTo>
                  <a:lnTo>
                    <a:pt x="512" y="318"/>
                  </a:lnTo>
                  <a:lnTo>
                    <a:pt x="506" y="272"/>
                  </a:lnTo>
                  <a:lnTo>
                    <a:pt x="500" y="226"/>
                  </a:lnTo>
                  <a:lnTo>
                    <a:pt x="498" y="184"/>
                  </a:lnTo>
                  <a:lnTo>
                    <a:pt x="498" y="146"/>
                  </a:lnTo>
                  <a:lnTo>
                    <a:pt x="502" y="110"/>
                  </a:lnTo>
                  <a:lnTo>
                    <a:pt x="508" y="80"/>
                  </a:lnTo>
                  <a:lnTo>
                    <a:pt x="514" y="68"/>
                  </a:lnTo>
                  <a:lnTo>
                    <a:pt x="518" y="56"/>
                  </a:lnTo>
                  <a:lnTo>
                    <a:pt x="518" y="56"/>
                  </a:lnTo>
                  <a:lnTo>
                    <a:pt x="522" y="50"/>
                  </a:lnTo>
                  <a:lnTo>
                    <a:pt x="522" y="44"/>
                  </a:lnTo>
                  <a:lnTo>
                    <a:pt x="522" y="36"/>
                  </a:lnTo>
                  <a:lnTo>
                    <a:pt x="518" y="30"/>
                  </a:lnTo>
                  <a:lnTo>
                    <a:pt x="518" y="30"/>
                  </a:lnTo>
                  <a:lnTo>
                    <a:pt x="514" y="26"/>
                  </a:lnTo>
                  <a:lnTo>
                    <a:pt x="510" y="20"/>
                  </a:lnTo>
                  <a:lnTo>
                    <a:pt x="504" y="18"/>
                  </a:lnTo>
                  <a:lnTo>
                    <a:pt x="496" y="1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124" y="750"/>
                  </a:moveTo>
                  <a:lnTo>
                    <a:pt x="124" y="750"/>
                  </a:lnTo>
                  <a:lnTo>
                    <a:pt x="124" y="734"/>
                  </a:lnTo>
                  <a:lnTo>
                    <a:pt x="126" y="718"/>
                  </a:lnTo>
                  <a:lnTo>
                    <a:pt x="130" y="704"/>
                  </a:lnTo>
                  <a:lnTo>
                    <a:pt x="134" y="692"/>
                  </a:lnTo>
                  <a:lnTo>
                    <a:pt x="134" y="692"/>
                  </a:lnTo>
                  <a:lnTo>
                    <a:pt x="142" y="664"/>
                  </a:lnTo>
                  <a:lnTo>
                    <a:pt x="148" y="634"/>
                  </a:lnTo>
                  <a:lnTo>
                    <a:pt x="152" y="600"/>
                  </a:lnTo>
                  <a:lnTo>
                    <a:pt x="152" y="564"/>
                  </a:lnTo>
                  <a:lnTo>
                    <a:pt x="152" y="564"/>
                  </a:lnTo>
                  <a:lnTo>
                    <a:pt x="152" y="530"/>
                  </a:lnTo>
                  <a:lnTo>
                    <a:pt x="150" y="494"/>
                  </a:lnTo>
                  <a:lnTo>
                    <a:pt x="142" y="422"/>
                  </a:lnTo>
                  <a:lnTo>
                    <a:pt x="130" y="348"/>
                  </a:lnTo>
                  <a:lnTo>
                    <a:pt x="116" y="276"/>
                  </a:lnTo>
                  <a:lnTo>
                    <a:pt x="102" y="208"/>
                  </a:lnTo>
                  <a:lnTo>
                    <a:pt x="86" y="146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460" y="68"/>
                  </a:lnTo>
                  <a:lnTo>
                    <a:pt x="460" y="68"/>
                  </a:lnTo>
                  <a:lnTo>
                    <a:pt x="454" y="92"/>
                  </a:lnTo>
                  <a:lnTo>
                    <a:pt x="450" y="116"/>
                  </a:lnTo>
                  <a:lnTo>
                    <a:pt x="446" y="142"/>
                  </a:lnTo>
                  <a:lnTo>
                    <a:pt x="446" y="172"/>
                  </a:lnTo>
                  <a:lnTo>
                    <a:pt x="446" y="172"/>
                  </a:lnTo>
                  <a:lnTo>
                    <a:pt x="446" y="208"/>
                  </a:lnTo>
                  <a:lnTo>
                    <a:pt x="450" y="246"/>
                  </a:lnTo>
                  <a:lnTo>
                    <a:pt x="454" y="286"/>
                  </a:lnTo>
                  <a:lnTo>
                    <a:pt x="460" y="326"/>
                  </a:lnTo>
                  <a:lnTo>
                    <a:pt x="474" y="406"/>
                  </a:lnTo>
                  <a:lnTo>
                    <a:pt x="490" y="482"/>
                  </a:lnTo>
                  <a:lnTo>
                    <a:pt x="510" y="554"/>
                  </a:lnTo>
                  <a:lnTo>
                    <a:pt x="526" y="616"/>
                  </a:lnTo>
                  <a:lnTo>
                    <a:pt x="552" y="696"/>
                  </a:lnTo>
                  <a:lnTo>
                    <a:pt x="552" y="696"/>
                  </a:lnTo>
                  <a:lnTo>
                    <a:pt x="292" y="1214"/>
                  </a:lnTo>
                  <a:lnTo>
                    <a:pt x="292" y="1214"/>
                  </a:lnTo>
                  <a:lnTo>
                    <a:pt x="266" y="1166"/>
                  </a:lnTo>
                  <a:lnTo>
                    <a:pt x="238" y="1110"/>
                  </a:lnTo>
                  <a:lnTo>
                    <a:pt x="210" y="1050"/>
                  </a:lnTo>
                  <a:lnTo>
                    <a:pt x="184" y="988"/>
                  </a:lnTo>
                  <a:lnTo>
                    <a:pt x="160" y="924"/>
                  </a:lnTo>
                  <a:lnTo>
                    <a:pt x="142" y="862"/>
                  </a:lnTo>
                  <a:lnTo>
                    <a:pt x="134" y="832"/>
                  </a:lnTo>
                  <a:lnTo>
                    <a:pt x="128" y="804"/>
                  </a:lnTo>
                  <a:lnTo>
                    <a:pt x="126" y="776"/>
                  </a:lnTo>
                  <a:lnTo>
                    <a:pt x="124" y="750"/>
                  </a:lnTo>
                  <a:lnTo>
                    <a:pt x="124" y="7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3"/>
            <p:cNvSpPr/>
            <p:nvPr/>
          </p:nvSpPr>
          <p:spPr>
            <a:xfrm>
              <a:off x="39430440" y="4149720"/>
              <a:ext cx="479160" cy="53316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02" h="336">
                  <a:moveTo>
                    <a:pt x="302" y="50"/>
                  </a:moveTo>
                  <a:lnTo>
                    <a:pt x="302" y="50"/>
                  </a:lnTo>
                  <a:lnTo>
                    <a:pt x="292" y="92"/>
                  </a:lnTo>
                  <a:lnTo>
                    <a:pt x="280" y="136"/>
                  </a:lnTo>
                  <a:lnTo>
                    <a:pt x="262" y="186"/>
                  </a:lnTo>
                  <a:lnTo>
                    <a:pt x="252" y="212"/>
                  </a:lnTo>
                  <a:lnTo>
                    <a:pt x="240" y="238"/>
                  </a:lnTo>
                  <a:lnTo>
                    <a:pt x="226" y="262"/>
                  </a:lnTo>
                  <a:lnTo>
                    <a:pt x="210" y="284"/>
                  </a:lnTo>
                  <a:lnTo>
                    <a:pt x="194" y="304"/>
                  </a:lnTo>
                  <a:lnTo>
                    <a:pt x="176" y="318"/>
                  </a:lnTo>
                  <a:lnTo>
                    <a:pt x="166" y="326"/>
                  </a:lnTo>
                  <a:lnTo>
                    <a:pt x="156" y="330"/>
                  </a:lnTo>
                  <a:lnTo>
                    <a:pt x="146" y="334"/>
                  </a:lnTo>
                  <a:lnTo>
                    <a:pt x="134" y="336"/>
                  </a:lnTo>
                  <a:lnTo>
                    <a:pt x="134" y="336"/>
                  </a:lnTo>
                  <a:lnTo>
                    <a:pt x="124" y="336"/>
                  </a:lnTo>
                  <a:lnTo>
                    <a:pt x="114" y="334"/>
                  </a:lnTo>
                  <a:lnTo>
                    <a:pt x="104" y="332"/>
                  </a:lnTo>
                  <a:lnTo>
                    <a:pt x="94" y="326"/>
                  </a:lnTo>
                  <a:lnTo>
                    <a:pt x="86" y="320"/>
                  </a:lnTo>
                  <a:lnTo>
                    <a:pt x="78" y="312"/>
                  </a:lnTo>
                  <a:lnTo>
                    <a:pt x="64" y="290"/>
                  </a:lnTo>
                  <a:lnTo>
                    <a:pt x="52" y="266"/>
                  </a:lnTo>
                  <a:lnTo>
                    <a:pt x="40" y="238"/>
                  </a:lnTo>
                  <a:lnTo>
                    <a:pt x="32" y="206"/>
                  </a:lnTo>
                  <a:lnTo>
                    <a:pt x="24" y="174"/>
                  </a:lnTo>
                  <a:lnTo>
                    <a:pt x="12" y="110"/>
                  </a:lnTo>
                  <a:lnTo>
                    <a:pt x="4" y="54"/>
                  </a:lnTo>
                  <a:lnTo>
                    <a:pt x="0" y="0"/>
                  </a:lnTo>
                  <a:lnTo>
                    <a:pt x="302" y="50"/>
                  </a:lnTo>
                  <a:close/>
                </a:path>
              </a:pathLst>
            </a:custGeom>
            <a:solidFill>
              <a:srgbClr val="fa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4"/>
            <p:cNvSpPr/>
            <p:nvPr/>
          </p:nvSpPr>
          <p:spPr>
            <a:xfrm>
              <a:off x="39309840" y="5118120"/>
              <a:ext cx="653760" cy="87300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412" h="550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30" y="28"/>
                  </a:lnTo>
                  <a:lnTo>
                    <a:pt x="46" y="40"/>
                  </a:lnTo>
                  <a:lnTo>
                    <a:pt x="66" y="54"/>
                  </a:lnTo>
                  <a:lnTo>
                    <a:pt x="88" y="68"/>
                  </a:lnTo>
                  <a:lnTo>
                    <a:pt x="114" y="80"/>
                  </a:lnTo>
                  <a:lnTo>
                    <a:pt x="142" y="92"/>
                  </a:lnTo>
                  <a:lnTo>
                    <a:pt x="174" y="102"/>
                  </a:lnTo>
                  <a:lnTo>
                    <a:pt x="208" y="108"/>
                  </a:lnTo>
                  <a:lnTo>
                    <a:pt x="244" y="112"/>
                  </a:lnTo>
                  <a:lnTo>
                    <a:pt x="284" y="110"/>
                  </a:lnTo>
                  <a:lnTo>
                    <a:pt x="304" y="108"/>
                  </a:lnTo>
                  <a:lnTo>
                    <a:pt x="324" y="106"/>
                  </a:lnTo>
                  <a:lnTo>
                    <a:pt x="346" y="100"/>
                  </a:lnTo>
                  <a:lnTo>
                    <a:pt x="368" y="94"/>
                  </a:lnTo>
                  <a:lnTo>
                    <a:pt x="390" y="86"/>
                  </a:lnTo>
                  <a:lnTo>
                    <a:pt x="412" y="76"/>
                  </a:lnTo>
                  <a:lnTo>
                    <a:pt x="412" y="76"/>
                  </a:lnTo>
                  <a:lnTo>
                    <a:pt x="410" y="98"/>
                  </a:lnTo>
                  <a:lnTo>
                    <a:pt x="398" y="158"/>
                  </a:lnTo>
                  <a:lnTo>
                    <a:pt x="380" y="240"/>
                  </a:lnTo>
                  <a:lnTo>
                    <a:pt x="368" y="286"/>
                  </a:lnTo>
                  <a:lnTo>
                    <a:pt x="354" y="332"/>
                  </a:lnTo>
                  <a:lnTo>
                    <a:pt x="338" y="378"/>
                  </a:lnTo>
                  <a:lnTo>
                    <a:pt x="320" y="422"/>
                  </a:lnTo>
                  <a:lnTo>
                    <a:pt x="300" y="462"/>
                  </a:lnTo>
                  <a:lnTo>
                    <a:pt x="290" y="480"/>
                  </a:lnTo>
                  <a:lnTo>
                    <a:pt x="278" y="496"/>
                  </a:lnTo>
                  <a:lnTo>
                    <a:pt x="266" y="510"/>
                  </a:lnTo>
                  <a:lnTo>
                    <a:pt x="254" y="524"/>
                  </a:lnTo>
                  <a:lnTo>
                    <a:pt x="240" y="534"/>
                  </a:lnTo>
                  <a:lnTo>
                    <a:pt x="228" y="542"/>
                  </a:lnTo>
                  <a:lnTo>
                    <a:pt x="214" y="548"/>
                  </a:lnTo>
                  <a:lnTo>
                    <a:pt x="198" y="550"/>
                  </a:lnTo>
                  <a:lnTo>
                    <a:pt x="184" y="550"/>
                  </a:lnTo>
                  <a:lnTo>
                    <a:pt x="168" y="546"/>
                  </a:lnTo>
                  <a:lnTo>
                    <a:pt x="168" y="546"/>
                  </a:lnTo>
                  <a:lnTo>
                    <a:pt x="152" y="540"/>
                  </a:lnTo>
                  <a:lnTo>
                    <a:pt x="138" y="530"/>
                  </a:lnTo>
                  <a:lnTo>
                    <a:pt x="126" y="520"/>
                  </a:lnTo>
                  <a:lnTo>
                    <a:pt x="112" y="506"/>
                  </a:lnTo>
                  <a:lnTo>
                    <a:pt x="100" y="492"/>
                  </a:lnTo>
                  <a:lnTo>
                    <a:pt x="90" y="474"/>
                  </a:lnTo>
                  <a:lnTo>
                    <a:pt x="80" y="456"/>
                  </a:lnTo>
                  <a:lnTo>
                    <a:pt x="70" y="436"/>
                  </a:lnTo>
                  <a:lnTo>
                    <a:pt x="54" y="394"/>
                  </a:lnTo>
                  <a:lnTo>
                    <a:pt x="40" y="348"/>
                  </a:lnTo>
                  <a:lnTo>
                    <a:pt x="30" y="300"/>
                  </a:lnTo>
                  <a:lnTo>
                    <a:pt x="20" y="252"/>
                  </a:lnTo>
                  <a:lnTo>
                    <a:pt x="14" y="204"/>
                  </a:lnTo>
                  <a:lnTo>
                    <a:pt x="8" y="158"/>
                  </a:lnTo>
                  <a:lnTo>
                    <a:pt x="2" y="78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5"/>
            <p:cNvSpPr/>
            <p:nvPr/>
          </p:nvSpPr>
          <p:spPr>
            <a:xfrm>
              <a:off x="38417400" y="981000"/>
              <a:ext cx="2879640" cy="18828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1814" h="1186">
                  <a:moveTo>
                    <a:pt x="92" y="640"/>
                  </a:moveTo>
                  <a:lnTo>
                    <a:pt x="92" y="640"/>
                  </a:lnTo>
                  <a:lnTo>
                    <a:pt x="84" y="618"/>
                  </a:lnTo>
                  <a:lnTo>
                    <a:pt x="64" y="562"/>
                  </a:lnTo>
                  <a:lnTo>
                    <a:pt x="42" y="482"/>
                  </a:lnTo>
                  <a:lnTo>
                    <a:pt x="30" y="436"/>
                  </a:lnTo>
                  <a:lnTo>
                    <a:pt x="18" y="386"/>
                  </a:lnTo>
                  <a:lnTo>
                    <a:pt x="10" y="336"/>
                  </a:lnTo>
                  <a:lnTo>
                    <a:pt x="4" y="286"/>
                  </a:lnTo>
                  <a:lnTo>
                    <a:pt x="0" y="238"/>
                  </a:lnTo>
                  <a:lnTo>
                    <a:pt x="2" y="192"/>
                  </a:lnTo>
                  <a:lnTo>
                    <a:pt x="4" y="170"/>
                  </a:lnTo>
                  <a:lnTo>
                    <a:pt x="8" y="150"/>
                  </a:lnTo>
                  <a:lnTo>
                    <a:pt x="14" y="130"/>
                  </a:lnTo>
                  <a:lnTo>
                    <a:pt x="20" y="114"/>
                  </a:lnTo>
                  <a:lnTo>
                    <a:pt x="28" y="98"/>
                  </a:lnTo>
                  <a:lnTo>
                    <a:pt x="40" y="84"/>
                  </a:lnTo>
                  <a:lnTo>
                    <a:pt x="50" y="7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82" y="52"/>
                  </a:lnTo>
                  <a:lnTo>
                    <a:pt x="102" y="44"/>
                  </a:lnTo>
                  <a:lnTo>
                    <a:pt x="124" y="38"/>
                  </a:lnTo>
                  <a:lnTo>
                    <a:pt x="150" y="32"/>
                  </a:lnTo>
                  <a:lnTo>
                    <a:pt x="208" y="20"/>
                  </a:lnTo>
                  <a:lnTo>
                    <a:pt x="276" y="12"/>
                  </a:lnTo>
                  <a:lnTo>
                    <a:pt x="352" y="8"/>
                  </a:lnTo>
                  <a:lnTo>
                    <a:pt x="432" y="4"/>
                  </a:lnTo>
                  <a:lnTo>
                    <a:pt x="516" y="2"/>
                  </a:lnTo>
                  <a:lnTo>
                    <a:pt x="604" y="0"/>
                  </a:lnTo>
                  <a:lnTo>
                    <a:pt x="776" y="2"/>
                  </a:lnTo>
                  <a:lnTo>
                    <a:pt x="934" y="2"/>
                  </a:lnTo>
                  <a:lnTo>
                    <a:pt x="1068" y="4"/>
                  </a:lnTo>
                  <a:lnTo>
                    <a:pt x="1120" y="2"/>
                  </a:lnTo>
                  <a:lnTo>
                    <a:pt x="1162" y="0"/>
                  </a:lnTo>
                  <a:lnTo>
                    <a:pt x="1162" y="0"/>
                  </a:lnTo>
                  <a:lnTo>
                    <a:pt x="1180" y="0"/>
                  </a:lnTo>
                  <a:lnTo>
                    <a:pt x="1198" y="2"/>
                  </a:lnTo>
                  <a:lnTo>
                    <a:pt x="1218" y="6"/>
                  </a:lnTo>
                  <a:lnTo>
                    <a:pt x="1238" y="14"/>
                  </a:lnTo>
                  <a:lnTo>
                    <a:pt x="1260" y="22"/>
                  </a:lnTo>
                  <a:lnTo>
                    <a:pt x="1280" y="34"/>
                  </a:lnTo>
                  <a:lnTo>
                    <a:pt x="1302" y="48"/>
                  </a:lnTo>
                  <a:lnTo>
                    <a:pt x="1326" y="62"/>
                  </a:lnTo>
                  <a:lnTo>
                    <a:pt x="1372" y="96"/>
                  </a:lnTo>
                  <a:lnTo>
                    <a:pt x="1418" y="134"/>
                  </a:lnTo>
                  <a:lnTo>
                    <a:pt x="1462" y="174"/>
                  </a:lnTo>
                  <a:lnTo>
                    <a:pt x="1506" y="216"/>
                  </a:lnTo>
                  <a:lnTo>
                    <a:pt x="1548" y="260"/>
                  </a:lnTo>
                  <a:lnTo>
                    <a:pt x="1588" y="300"/>
                  </a:lnTo>
                  <a:lnTo>
                    <a:pt x="1654" y="374"/>
                  </a:lnTo>
                  <a:lnTo>
                    <a:pt x="1698" y="426"/>
                  </a:lnTo>
                  <a:lnTo>
                    <a:pt x="1714" y="446"/>
                  </a:lnTo>
                  <a:lnTo>
                    <a:pt x="1714" y="446"/>
                  </a:lnTo>
                  <a:lnTo>
                    <a:pt x="1728" y="462"/>
                  </a:lnTo>
                  <a:lnTo>
                    <a:pt x="1742" y="480"/>
                  </a:lnTo>
                  <a:lnTo>
                    <a:pt x="1754" y="498"/>
                  </a:lnTo>
                  <a:lnTo>
                    <a:pt x="1766" y="518"/>
                  </a:lnTo>
                  <a:lnTo>
                    <a:pt x="1776" y="538"/>
                  </a:lnTo>
                  <a:lnTo>
                    <a:pt x="1786" y="558"/>
                  </a:lnTo>
                  <a:lnTo>
                    <a:pt x="1794" y="580"/>
                  </a:lnTo>
                  <a:lnTo>
                    <a:pt x="1800" y="602"/>
                  </a:lnTo>
                  <a:lnTo>
                    <a:pt x="1806" y="624"/>
                  </a:lnTo>
                  <a:lnTo>
                    <a:pt x="1810" y="644"/>
                  </a:lnTo>
                  <a:lnTo>
                    <a:pt x="1812" y="666"/>
                  </a:lnTo>
                  <a:lnTo>
                    <a:pt x="1814" y="688"/>
                  </a:lnTo>
                  <a:lnTo>
                    <a:pt x="1814" y="708"/>
                  </a:lnTo>
                  <a:lnTo>
                    <a:pt x="1812" y="728"/>
                  </a:lnTo>
                  <a:lnTo>
                    <a:pt x="1808" y="746"/>
                  </a:lnTo>
                  <a:lnTo>
                    <a:pt x="1802" y="762"/>
                  </a:lnTo>
                  <a:lnTo>
                    <a:pt x="1802" y="762"/>
                  </a:lnTo>
                  <a:lnTo>
                    <a:pt x="1788" y="804"/>
                  </a:lnTo>
                  <a:lnTo>
                    <a:pt x="1774" y="860"/>
                  </a:lnTo>
                  <a:lnTo>
                    <a:pt x="1754" y="922"/>
                  </a:lnTo>
                  <a:lnTo>
                    <a:pt x="1744" y="956"/>
                  </a:lnTo>
                  <a:lnTo>
                    <a:pt x="1730" y="990"/>
                  </a:lnTo>
                  <a:lnTo>
                    <a:pt x="1716" y="1022"/>
                  </a:lnTo>
                  <a:lnTo>
                    <a:pt x="1700" y="1054"/>
                  </a:lnTo>
                  <a:lnTo>
                    <a:pt x="1680" y="1084"/>
                  </a:lnTo>
                  <a:lnTo>
                    <a:pt x="1660" y="1112"/>
                  </a:lnTo>
                  <a:lnTo>
                    <a:pt x="1636" y="1136"/>
                  </a:lnTo>
                  <a:lnTo>
                    <a:pt x="1624" y="1146"/>
                  </a:lnTo>
                  <a:lnTo>
                    <a:pt x="1610" y="1156"/>
                  </a:lnTo>
                  <a:lnTo>
                    <a:pt x="1596" y="1166"/>
                  </a:lnTo>
                  <a:lnTo>
                    <a:pt x="1580" y="1172"/>
                  </a:lnTo>
                  <a:lnTo>
                    <a:pt x="1564" y="1178"/>
                  </a:lnTo>
                  <a:lnTo>
                    <a:pt x="1548" y="1184"/>
                  </a:lnTo>
                  <a:lnTo>
                    <a:pt x="1548" y="1184"/>
                  </a:lnTo>
                  <a:lnTo>
                    <a:pt x="1526" y="1186"/>
                  </a:lnTo>
                  <a:lnTo>
                    <a:pt x="1500" y="1184"/>
                  </a:lnTo>
                  <a:lnTo>
                    <a:pt x="1468" y="1180"/>
                  </a:lnTo>
                  <a:lnTo>
                    <a:pt x="1432" y="1172"/>
                  </a:lnTo>
                  <a:lnTo>
                    <a:pt x="1390" y="1162"/>
                  </a:lnTo>
                  <a:lnTo>
                    <a:pt x="1344" y="1150"/>
                  </a:lnTo>
                  <a:lnTo>
                    <a:pt x="1242" y="1118"/>
                  </a:lnTo>
                  <a:lnTo>
                    <a:pt x="1128" y="1076"/>
                  </a:lnTo>
                  <a:lnTo>
                    <a:pt x="1006" y="1030"/>
                  </a:lnTo>
                  <a:lnTo>
                    <a:pt x="878" y="980"/>
                  </a:lnTo>
                  <a:lnTo>
                    <a:pt x="750" y="928"/>
                  </a:lnTo>
                  <a:lnTo>
                    <a:pt x="504" y="824"/>
                  </a:lnTo>
                  <a:lnTo>
                    <a:pt x="292" y="730"/>
                  </a:lnTo>
                  <a:lnTo>
                    <a:pt x="92" y="640"/>
                  </a:lnTo>
                  <a:lnTo>
                    <a:pt x="92" y="6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6"/>
            <p:cNvSpPr/>
            <p:nvPr/>
          </p:nvSpPr>
          <p:spPr>
            <a:xfrm>
              <a:off x="38376360" y="936720"/>
              <a:ext cx="2962080" cy="1968480"/>
            </a:xfrm>
            <a:custGeom>
              <a:avLst/>
              <a:gdLst>
                <a:gd name="textAreaLeft" fmla="*/ 0 w 2962080"/>
                <a:gd name="textAreaRight" fmla="*/ 2962440 w 296208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1866" h="1240">
                  <a:moveTo>
                    <a:pt x="1184" y="2"/>
                  </a:moveTo>
                  <a:lnTo>
                    <a:pt x="1184" y="2"/>
                  </a:lnTo>
                  <a:lnTo>
                    <a:pt x="1134" y="4"/>
                  </a:lnTo>
                  <a:lnTo>
                    <a:pt x="1064" y="4"/>
                  </a:lnTo>
                  <a:lnTo>
                    <a:pt x="888" y="4"/>
                  </a:lnTo>
                  <a:lnTo>
                    <a:pt x="888" y="4"/>
                  </a:lnTo>
                  <a:lnTo>
                    <a:pt x="646" y="2"/>
                  </a:lnTo>
                  <a:lnTo>
                    <a:pt x="526" y="4"/>
                  </a:lnTo>
                  <a:lnTo>
                    <a:pt x="410" y="8"/>
                  </a:lnTo>
                  <a:lnTo>
                    <a:pt x="354" y="10"/>
                  </a:lnTo>
                  <a:lnTo>
                    <a:pt x="302" y="14"/>
                  </a:lnTo>
                  <a:lnTo>
                    <a:pt x="254" y="20"/>
                  </a:lnTo>
                  <a:lnTo>
                    <a:pt x="208" y="26"/>
                  </a:lnTo>
                  <a:lnTo>
                    <a:pt x="168" y="34"/>
                  </a:lnTo>
                  <a:lnTo>
                    <a:pt x="132" y="44"/>
                  </a:lnTo>
                  <a:lnTo>
                    <a:pt x="102" y="54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62" y="78"/>
                  </a:lnTo>
                  <a:lnTo>
                    <a:pt x="48" y="90"/>
                  </a:lnTo>
                  <a:lnTo>
                    <a:pt x="38" y="104"/>
                  </a:lnTo>
                  <a:lnTo>
                    <a:pt x="28" y="120"/>
                  </a:lnTo>
                  <a:lnTo>
                    <a:pt x="20" y="138"/>
                  </a:lnTo>
                  <a:lnTo>
                    <a:pt x="14" y="158"/>
                  </a:lnTo>
                  <a:lnTo>
                    <a:pt x="8" y="178"/>
                  </a:lnTo>
                  <a:lnTo>
                    <a:pt x="4" y="198"/>
                  </a:lnTo>
                  <a:lnTo>
                    <a:pt x="2" y="222"/>
                  </a:lnTo>
                  <a:lnTo>
                    <a:pt x="0" y="244"/>
                  </a:lnTo>
                  <a:lnTo>
                    <a:pt x="2" y="292"/>
                  </a:lnTo>
                  <a:lnTo>
                    <a:pt x="6" y="342"/>
                  </a:lnTo>
                  <a:lnTo>
                    <a:pt x="14" y="392"/>
                  </a:lnTo>
                  <a:lnTo>
                    <a:pt x="22" y="442"/>
                  </a:lnTo>
                  <a:lnTo>
                    <a:pt x="34" y="488"/>
                  </a:lnTo>
                  <a:lnTo>
                    <a:pt x="46" y="534"/>
                  </a:lnTo>
                  <a:lnTo>
                    <a:pt x="58" y="574"/>
                  </a:lnTo>
                  <a:lnTo>
                    <a:pt x="80" y="640"/>
                  </a:lnTo>
                  <a:lnTo>
                    <a:pt x="92" y="678"/>
                  </a:lnTo>
                  <a:lnTo>
                    <a:pt x="92" y="678"/>
                  </a:lnTo>
                  <a:lnTo>
                    <a:pt x="98" y="686"/>
                  </a:lnTo>
                  <a:lnTo>
                    <a:pt x="106" y="692"/>
                  </a:lnTo>
                  <a:lnTo>
                    <a:pt x="106" y="692"/>
                  </a:lnTo>
                  <a:lnTo>
                    <a:pt x="200" y="734"/>
                  </a:lnTo>
                  <a:lnTo>
                    <a:pt x="366" y="808"/>
                  </a:lnTo>
                  <a:lnTo>
                    <a:pt x="580" y="902"/>
                  </a:lnTo>
                  <a:lnTo>
                    <a:pt x="700" y="954"/>
                  </a:lnTo>
                  <a:lnTo>
                    <a:pt x="822" y="1004"/>
                  </a:lnTo>
                  <a:lnTo>
                    <a:pt x="944" y="1054"/>
                  </a:lnTo>
                  <a:lnTo>
                    <a:pt x="1066" y="1100"/>
                  </a:lnTo>
                  <a:lnTo>
                    <a:pt x="1180" y="1142"/>
                  </a:lnTo>
                  <a:lnTo>
                    <a:pt x="1288" y="1180"/>
                  </a:lnTo>
                  <a:lnTo>
                    <a:pt x="1384" y="1208"/>
                  </a:lnTo>
                  <a:lnTo>
                    <a:pt x="1428" y="1220"/>
                  </a:lnTo>
                  <a:lnTo>
                    <a:pt x="1468" y="1230"/>
                  </a:lnTo>
                  <a:lnTo>
                    <a:pt x="1502" y="1236"/>
                  </a:lnTo>
                  <a:lnTo>
                    <a:pt x="1534" y="1240"/>
                  </a:lnTo>
                  <a:lnTo>
                    <a:pt x="1560" y="1240"/>
                  </a:lnTo>
                  <a:lnTo>
                    <a:pt x="1580" y="1238"/>
                  </a:lnTo>
                  <a:lnTo>
                    <a:pt x="1580" y="1238"/>
                  </a:lnTo>
                  <a:lnTo>
                    <a:pt x="1608" y="1228"/>
                  </a:lnTo>
                  <a:lnTo>
                    <a:pt x="1636" y="1216"/>
                  </a:lnTo>
                  <a:lnTo>
                    <a:pt x="1660" y="1200"/>
                  </a:lnTo>
                  <a:lnTo>
                    <a:pt x="1682" y="1182"/>
                  </a:lnTo>
                  <a:lnTo>
                    <a:pt x="1702" y="1160"/>
                  </a:lnTo>
                  <a:lnTo>
                    <a:pt x="1722" y="1136"/>
                  </a:lnTo>
                  <a:lnTo>
                    <a:pt x="1738" y="1112"/>
                  </a:lnTo>
                  <a:lnTo>
                    <a:pt x="1754" y="1086"/>
                  </a:lnTo>
                  <a:lnTo>
                    <a:pt x="1766" y="1058"/>
                  </a:lnTo>
                  <a:lnTo>
                    <a:pt x="1780" y="1032"/>
                  </a:lnTo>
                  <a:lnTo>
                    <a:pt x="1800" y="976"/>
                  </a:lnTo>
                  <a:lnTo>
                    <a:pt x="1816" y="922"/>
                  </a:lnTo>
                  <a:lnTo>
                    <a:pt x="1830" y="872"/>
                  </a:lnTo>
                  <a:lnTo>
                    <a:pt x="1852" y="800"/>
                  </a:lnTo>
                  <a:lnTo>
                    <a:pt x="1852" y="800"/>
                  </a:lnTo>
                  <a:lnTo>
                    <a:pt x="1858" y="782"/>
                  </a:lnTo>
                  <a:lnTo>
                    <a:pt x="1862" y="762"/>
                  </a:lnTo>
                  <a:lnTo>
                    <a:pt x="1866" y="740"/>
                  </a:lnTo>
                  <a:lnTo>
                    <a:pt x="1866" y="718"/>
                  </a:lnTo>
                  <a:lnTo>
                    <a:pt x="1866" y="696"/>
                  </a:lnTo>
                  <a:lnTo>
                    <a:pt x="1862" y="672"/>
                  </a:lnTo>
                  <a:lnTo>
                    <a:pt x="1858" y="650"/>
                  </a:lnTo>
                  <a:lnTo>
                    <a:pt x="1852" y="626"/>
                  </a:lnTo>
                  <a:lnTo>
                    <a:pt x="1846" y="602"/>
                  </a:lnTo>
                  <a:lnTo>
                    <a:pt x="1836" y="578"/>
                  </a:lnTo>
                  <a:lnTo>
                    <a:pt x="1826" y="556"/>
                  </a:lnTo>
                  <a:lnTo>
                    <a:pt x="1816" y="534"/>
                  </a:lnTo>
                  <a:lnTo>
                    <a:pt x="1804" y="512"/>
                  </a:lnTo>
                  <a:lnTo>
                    <a:pt x="1790" y="492"/>
                  </a:lnTo>
                  <a:lnTo>
                    <a:pt x="1774" y="474"/>
                  </a:lnTo>
                  <a:lnTo>
                    <a:pt x="1758" y="456"/>
                  </a:lnTo>
                  <a:lnTo>
                    <a:pt x="1758" y="456"/>
                  </a:lnTo>
                  <a:lnTo>
                    <a:pt x="1732" y="422"/>
                  </a:lnTo>
                  <a:lnTo>
                    <a:pt x="1680" y="362"/>
                  </a:lnTo>
                  <a:lnTo>
                    <a:pt x="1612" y="286"/>
                  </a:lnTo>
                  <a:lnTo>
                    <a:pt x="1572" y="246"/>
                  </a:lnTo>
                  <a:lnTo>
                    <a:pt x="1530" y="204"/>
                  </a:lnTo>
                  <a:lnTo>
                    <a:pt x="1486" y="164"/>
                  </a:lnTo>
                  <a:lnTo>
                    <a:pt x="1442" y="124"/>
                  </a:lnTo>
                  <a:lnTo>
                    <a:pt x="1396" y="90"/>
                  </a:lnTo>
                  <a:lnTo>
                    <a:pt x="1350" y="58"/>
                  </a:lnTo>
                  <a:lnTo>
                    <a:pt x="1328" y="44"/>
                  </a:lnTo>
                  <a:lnTo>
                    <a:pt x="1306" y="32"/>
                  </a:lnTo>
                  <a:lnTo>
                    <a:pt x="1284" y="22"/>
                  </a:lnTo>
                  <a:lnTo>
                    <a:pt x="1264" y="14"/>
                  </a:lnTo>
                  <a:lnTo>
                    <a:pt x="1242" y="8"/>
                  </a:lnTo>
                  <a:lnTo>
                    <a:pt x="1222" y="2"/>
                  </a:lnTo>
                  <a:lnTo>
                    <a:pt x="1204" y="0"/>
                  </a:lnTo>
                  <a:lnTo>
                    <a:pt x="1184" y="2"/>
                  </a:lnTo>
                  <a:lnTo>
                    <a:pt x="1184" y="2"/>
                  </a:lnTo>
                  <a:close/>
                  <a:moveTo>
                    <a:pt x="1190" y="54"/>
                  </a:moveTo>
                  <a:lnTo>
                    <a:pt x="1190" y="54"/>
                  </a:lnTo>
                  <a:lnTo>
                    <a:pt x="1204" y="54"/>
                  </a:lnTo>
                  <a:lnTo>
                    <a:pt x="1218" y="54"/>
                  </a:lnTo>
                  <a:lnTo>
                    <a:pt x="1232" y="58"/>
                  </a:lnTo>
                  <a:lnTo>
                    <a:pt x="1248" y="64"/>
                  </a:lnTo>
                  <a:lnTo>
                    <a:pt x="1282" y="78"/>
                  </a:lnTo>
                  <a:lnTo>
                    <a:pt x="1318" y="98"/>
                  </a:lnTo>
                  <a:lnTo>
                    <a:pt x="1354" y="124"/>
                  </a:lnTo>
                  <a:lnTo>
                    <a:pt x="1392" y="152"/>
                  </a:lnTo>
                  <a:lnTo>
                    <a:pt x="1430" y="186"/>
                  </a:lnTo>
                  <a:lnTo>
                    <a:pt x="1470" y="220"/>
                  </a:lnTo>
                  <a:lnTo>
                    <a:pt x="1508" y="256"/>
                  </a:lnTo>
                  <a:lnTo>
                    <a:pt x="1544" y="294"/>
                  </a:lnTo>
                  <a:lnTo>
                    <a:pt x="1614" y="368"/>
                  </a:lnTo>
                  <a:lnTo>
                    <a:pt x="1674" y="436"/>
                  </a:lnTo>
                  <a:lnTo>
                    <a:pt x="1720" y="492"/>
                  </a:lnTo>
                  <a:lnTo>
                    <a:pt x="1720" y="492"/>
                  </a:lnTo>
                  <a:lnTo>
                    <a:pt x="1734" y="506"/>
                  </a:lnTo>
                  <a:lnTo>
                    <a:pt x="1746" y="522"/>
                  </a:lnTo>
                  <a:lnTo>
                    <a:pt x="1758" y="540"/>
                  </a:lnTo>
                  <a:lnTo>
                    <a:pt x="1768" y="558"/>
                  </a:lnTo>
                  <a:lnTo>
                    <a:pt x="1778" y="576"/>
                  </a:lnTo>
                  <a:lnTo>
                    <a:pt x="1788" y="596"/>
                  </a:lnTo>
                  <a:lnTo>
                    <a:pt x="1802" y="636"/>
                  </a:lnTo>
                  <a:lnTo>
                    <a:pt x="1806" y="656"/>
                  </a:lnTo>
                  <a:lnTo>
                    <a:pt x="1810" y="676"/>
                  </a:lnTo>
                  <a:lnTo>
                    <a:pt x="1812" y="694"/>
                  </a:lnTo>
                  <a:lnTo>
                    <a:pt x="1814" y="714"/>
                  </a:lnTo>
                  <a:lnTo>
                    <a:pt x="1814" y="732"/>
                  </a:lnTo>
                  <a:lnTo>
                    <a:pt x="1812" y="750"/>
                  </a:lnTo>
                  <a:lnTo>
                    <a:pt x="1808" y="766"/>
                  </a:lnTo>
                  <a:lnTo>
                    <a:pt x="1804" y="780"/>
                  </a:lnTo>
                  <a:lnTo>
                    <a:pt x="1780" y="858"/>
                  </a:lnTo>
                  <a:lnTo>
                    <a:pt x="1780" y="858"/>
                  </a:lnTo>
                  <a:lnTo>
                    <a:pt x="1766" y="904"/>
                  </a:lnTo>
                  <a:lnTo>
                    <a:pt x="1752" y="954"/>
                  </a:lnTo>
                  <a:lnTo>
                    <a:pt x="1734" y="1006"/>
                  </a:lnTo>
                  <a:lnTo>
                    <a:pt x="1722" y="1030"/>
                  </a:lnTo>
                  <a:lnTo>
                    <a:pt x="1710" y="1054"/>
                  </a:lnTo>
                  <a:lnTo>
                    <a:pt x="1698" y="1078"/>
                  </a:lnTo>
                  <a:lnTo>
                    <a:pt x="1684" y="1100"/>
                  </a:lnTo>
                  <a:lnTo>
                    <a:pt x="1668" y="1120"/>
                  </a:lnTo>
                  <a:lnTo>
                    <a:pt x="1652" y="1138"/>
                  </a:lnTo>
                  <a:lnTo>
                    <a:pt x="1632" y="1154"/>
                  </a:lnTo>
                  <a:lnTo>
                    <a:pt x="1612" y="1168"/>
                  </a:lnTo>
                  <a:lnTo>
                    <a:pt x="1590" y="1178"/>
                  </a:lnTo>
                  <a:lnTo>
                    <a:pt x="1568" y="1186"/>
                  </a:lnTo>
                  <a:lnTo>
                    <a:pt x="1568" y="1186"/>
                  </a:lnTo>
                  <a:lnTo>
                    <a:pt x="1554" y="1188"/>
                  </a:lnTo>
                  <a:lnTo>
                    <a:pt x="1536" y="1188"/>
                  </a:lnTo>
                  <a:lnTo>
                    <a:pt x="1514" y="1186"/>
                  </a:lnTo>
                  <a:lnTo>
                    <a:pt x="1490" y="1182"/>
                  </a:lnTo>
                  <a:lnTo>
                    <a:pt x="1432" y="1168"/>
                  </a:lnTo>
                  <a:lnTo>
                    <a:pt x="1362" y="1148"/>
                  </a:lnTo>
                  <a:lnTo>
                    <a:pt x="1282" y="1122"/>
                  </a:lnTo>
                  <a:lnTo>
                    <a:pt x="1192" y="1092"/>
                  </a:lnTo>
                  <a:lnTo>
                    <a:pt x="1098" y="1056"/>
                  </a:lnTo>
                  <a:lnTo>
                    <a:pt x="996" y="1016"/>
                  </a:lnTo>
                  <a:lnTo>
                    <a:pt x="780" y="930"/>
                  </a:lnTo>
                  <a:lnTo>
                    <a:pt x="558" y="836"/>
                  </a:lnTo>
                  <a:lnTo>
                    <a:pt x="340" y="740"/>
                  </a:lnTo>
                  <a:lnTo>
                    <a:pt x="138" y="648"/>
                  </a:lnTo>
                  <a:lnTo>
                    <a:pt x="138" y="648"/>
                  </a:lnTo>
                  <a:lnTo>
                    <a:pt x="122" y="604"/>
                  </a:lnTo>
                  <a:lnTo>
                    <a:pt x="108" y="556"/>
                  </a:lnTo>
                  <a:lnTo>
                    <a:pt x="92" y="506"/>
                  </a:lnTo>
                  <a:lnTo>
                    <a:pt x="80" y="454"/>
                  </a:lnTo>
                  <a:lnTo>
                    <a:pt x="70" y="402"/>
                  </a:lnTo>
                  <a:lnTo>
                    <a:pt x="60" y="352"/>
                  </a:lnTo>
                  <a:lnTo>
                    <a:pt x="56" y="302"/>
                  </a:lnTo>
                  <a:lnTo>
                    <a:pt x="54" y="256"/>
                  </a:lnTo>
                  <a:lnTo>
                    <a:pt x="54" y="256"/>
                  </a:lnTo>
                  <a:lnTo>
                    <a:pt x="54" y="232"/>
                  </a:lnTo>
                  <a:lnTo>
                    <a:pt x="56" y="208"/>
                  </a:lnTo>
                  <a:lnTo>
                    <a:pt x="60" y="186"/>
                  </a:lnTo>
                  <a:lnTo>
                    <a:pt x="66" y="166"/>
                  </a:lnTo>
                  <a:lnTo>
                    <a:pt x="72" y="148"/>
                  </a:lnTo>
                  <a:lnTo>
                    <a:pt x="82" y="134"/>
                  </a:lnTo>
                  <a:lnTo>
                    <a:pt x="92" y="12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28" y="100"/>
                  </a:lnTo>
                  <a:lnTo>
                    <a:pt x="156" y="90"/>
                  </a:lnTo>
                  <a:lnTo>
                    <a:pt x="192" y="82"/>
                  </a:lnTo>
                  <a:lnTo>
                    <a:pt x="232" y="76"/>
                  </a:lnTo>
                  <a:lnTo>
                    <a:pt x="278" y="70"/>
                  </a:lnTo>
                  <a:lnTo>
                    <a:pt x="326" y="66"/>
                  </a:lnTo>
                  <a:lnTo>
                    <a:pt x="432" y="60"/>
                  </a:lnTo>
                  <a:lnTo>
                    <a:pt x="548" y="56"/>
                  </a:lnTo>
                  <a:lnTo>
                    <a:pt x="666" y="54"/>
                  </a:lnTo>
                  <a:lnTo>
                    <a:pt x="888" y="56"/>
                  </a:lnTo>
                  <a:lnTo>
                    <a:pt x="888" y="56"/>
                  </a:lnTo>
                  <a:lnTo>
                    <a:pt x="1066" y="58"/>
                  </a:lnTo>
                  <a:lnTo>
                    <a:pt x="1136" y="56"/>
                  </a:lnTo>
                  <a:lnTo>
                    <a:pt x="1190" y="54"/>
                  </a:lnTo>
                  <a:lnTo>
                    <a:pt x="119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7"/>
            <p:cNvSpPr/>
            <p:nvPr/>
          </p:nvSpPr>
          <p:spPr>
            <a:xfrm>
              <a:off x="38531880" y="1193760"/>
              <a:ext cx="2663640" cy="1498320"/>
            </a:xfrm>
            <a:custGeom>
              <a:avLst/>
              <a:gdLst>
                <a:gd name="textAreaLeft" fmla="*/ 0 w 2663640"/>
                <a:gd name="textAreaRight" fmla="*/ 2663640 w 266364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1678" h="944">
                  <a:moveTo>
                    <a:pt x="1484" y="944"/>
                  </a:moveTo>
                  <a:lnTo>
                    <a:pt x="1484" y="944"/>
                  </a:lnTo>
                  <a:lnTo>
                    <a:pt x="1514" y="908"/>
                  </a:lnTo>
                  <a:lnTo>
                    <a:pt x="1546" y="866"/>
                  </a:lnTo>
                  <a:lnTo>
                    <a:pt x="1580" y="814"/>
                  </a:lnTo>
                  <a:lnTo>
                    <a:pt x="1598" y="786"/>
                  </a:lnTo>
                  <a:lnTo>
                    <a:pt x="1616" y="756"/>
                  </a:lnTo>
                  <a:lnTo>
                    <a:pt x="1632" y="724"/>
                  </a:lnTo>
                  <a:lnTo>
                    <a:pt x="1646" y="692"/>
                  </a:lnTo>
                  <a:lnTo>
                    <a:pt x="1660" y="660"/>
                  </a:lnTo>
                  <a:lnTo>
                    <a:pt x="1668" y="628"/>
                  </a:lnTo>
                  <a:lnTo>
                    <a:pt x="1674" y="598"/>
                  </a:lnTo>
                  <a:lnTo>
                    <a:pt x="1678" y="568"/>
                  </a:lnTo>
                  <a:lnTo>
                    <a:pt x="1678" y="568"/>
                  </a:lnTo>
                  <a:lnTo>
                    <a:pt x="1676" y="552"/>
                  </a:lnTo>
                  <a:lnTo>
                    <a:pt x="1672" y="536"/>
                  </a:lnTo>
                  <a:lnTo>
                    <a:pt x="1668" y="520"/>
                  </a:lnTo>
                  <a:lnTo>
                    <a:pt x="1662" y="504"/>
                  </a:lnTo>
                  <a:lnTo>
                    <a:pt x="1652" y="488"/>
                  </a:lnTo>
                  <a:lnTo>
                    <a:pt x="1644" y="472"/>
                  </a:lnTo>
                  <a:lnTo>
                    <a:pt x="1620" y="438"/>
                  </a:lnTo>
                  <a:lnTo>
                    <a:pt x="1592" y="406"/>
                  </a:lnTo>
                  <a:lnTo>
                    <a:pt x="1560" y="372"/>
                  </a:lnTo>
                  <a:lnTo>
                    <a:pt x="1528" y="342"/>
                  </a:lnTo>
                  <a:lnTo>
                    <a:pt x="1492" y="310"/>
                  </a:lnTo>
                  <a:lnTo>
                    <a:pt x="1458" y="282"/>
                  </a:lnTo>
                  <a:lnTo>
                    <a:pt x="1426" y="256"/>
                  </a:lnTo>
                  <a:lnTo>
                    <a:pt x="1366" y="212"/>
                  </a:lnTo>
                  <a:lnTo>
                    <a:pt x="1324" y="182"/>
                  </a:lnTo>
                  <a:lnTo>
                    <a:pt x="1308" y="172"/>
                  </a:lnTo>
                  <a:lnTo>
                    <a:pt x="1308" y="172"/>
                  </a:lnTo>
                  <a:lnTo>
                    <a:pt x="1326" y="196"/>
                  </a:lnTo>
                  <a:lnTo>
                    <a:pt x="1342" y="222"/>
                  </a:lnTo>
                  <a:lnTo>
                    <a:pt x="1360" y="250"/>
                  </a:lnTo>
                  <a:lnTo>
                    <a:pt x="1372" y="276"/>
                  </a:lnTo>
                  <a:lnTo>
                    <a:pt x="1374" y="288"/>
                  </a:lnTo>
                  <a:lnTo>
                    <a:pt x="1376" y="298"/>
                  </a:lnTo>
                  <a:lnTo>
                    <a:pt x="1374" y="306"/>
                  </a:lnTo>
                  <a:lnTo>
                    <a:pt x="1368" y="312"/>
                  </a:lnTo>
                  <a:lnTo>
                    <a:pt x="1358" y="314"/>
                  </a:lnTo>
                  <a:lnTo>
                    <a:pt x="1344" y="312"/>
                  </a:lnTo>
                  <a:lnTo>
                    <a:pt x="1344" y="312"/>
                  </a:lnTo>
                  <a:lnTo>
                    <a:pt x="1326" y="308"/>
                  </a:lnTo>
                  <a:lnTo>
                    <a:pt x="1306" y="298"/>
                  </a:lnTo>
                  <a:lnTo>
                    <a:pt x="1284" y="286"/>
                  </a:lnTo>
                  <a:lnTo>
                    <a:pt x="1262" y="270"/>
                  </a:lnTo>
                  <a:lnTo>
                    <a:pt x="1208" y="232"/>
                  </a:lnTo>
                  <a:lnTo>
                    <a:pt x="1150" y="190"/>
                  </a:lnTo>
                  <a:lnTo>
                    <a:pt x="1086" y="146"/>
                  </a:lnTo>
                  <a:lnTo>
                    <a:pt x="1052" y="124"/>
                  </a:lnTo>
                  <a:lnTo>
                    <a:pt x="1016" y="104"/>
                  </a:lnTo>
                  <a:lnTo>
                    <a:pt x="982" y="84"/>
                  </a:lnTo>
                  <a:lnTo>
                    <a:pt x="944" y="66"/>
                  </a:lnTo>
                  <a:lnTo>
                    <a:pt x="908" y="52"/>
                  </a:lnTo>
                  <a:lnTo>
                    <a:pt x="870" y="40"/>
                  </a:lnTo>
                  <a:lnTo>
                    <a:pt x="870" y="40"/>
                  </a:lnTo>
                  <a:lnTo>
                    <a:pt x="828" y="32"/>
                  </a:lnTo>
                  <a:lnTo>
                    <a:pt x="782" y="22"/>
                  </a:lnTo>
                  <a:lnTo>
                    <a:pt x="730" y="16"/>
                  </a:lnTo>
                  <a:lnTo>
                    <a:pt x="674" y="8"/>
                  </a:lnTo>
                  <a:lnTo>
                    <a:pt x="616" y="4"/>
                  </a:lnTo>
                  <a:lnTo>
                    <a:pt x="554" y="2"/>
                  </a:lnTo>
                  <a:lnTo>
                    <a:pt x="492" y="0"/>
                  </a:lnTo>
                  <a:lnTo>
                    <a:pt x="430" y="2"/>
                  </a:lnTo>
                  <a:lnTo>
                    <a:pt x="368" y="6"/>
                  </a:lnTo>
                  <a:lnTo>
                    <a:pt x="308" y="12"/>
                  </a:lnTo>
                  <a:lnTo>
                    <a:pt x="252" y="20"/>
                  </a:lnTo>
                  <a:lnTo>
                    <a:pt x="198" y="34"/>
                  </a:lnTo>
                  <a:lnTo>
                    <a:pt x="172" y="40"/>
                  </a:lnTo>
                  <a:lnTo>
                    <a:pt x="148" y="50"/>
                  </a:lnTo>
                  <a:lnTo>
                    <a:pt x="126" y="58"/>
                  </a:lnTo>
                  <a:lnTo>
                    <a:pt x="104" y="68"/>
                  </a:lnTo>
                  <a:lnTo>
                    <a:pt x="84" y="80"/>
                  </a:lnTo>
                  <a:lnTo>
                    <a:pt x="66" y="92"/>
                  </a:lnTo>
                  <a:lnTo>
                    <a:pt x="50" y="106"/>
                  </a:lnTo>
                  <a:lnTo>
                    <a:pt x="36" y="120"/>
                  </a:lnTo>
                  <a:lnTo>
                    <a:pt x="36" y="120"/>
                  </a:lnTo>
                  <a:lnTo>
                    <a:pt x="24" y="134"/>
                  </a:lnTo>
                  <a:lnTo>
                    <a:pt x="16" y="148"/>
                  </a:lnTo>
                  <a:lnTo>
                    <a:pt x="8" y="164"/>
                  </a:lnTo>
                  <a:lnTo>
                    <a:pt x="4" y="178"/>
                  </a:lnTo>
                  <a:lnTo>
                    <a:pt x="0" y="190"/>
                  </a:lnTo>
                  <a:lnTo>
                    <a:pt x="0" y="204"/>
                  </a:lnTo>
                  <a:lnTo>
                    <a:pt x="0" y="218"/>
                  </a:lnTo>
                  <a:lnTo>
                    <a:pt x="2" y="230"/>
                  </a:lnTo>
                  <a:lnTo>
                    <a:pt x="6" y="242"/>
                  </a:lnTo>
                  <a:lnTo>
                    <a:pt x="12" y="254"/>
                  </a:lnTo>
                  <a:lnTo>
                    <a:pt x="24" y="278"/>
                  </a:lnTo>
                  <a:lnTo>
                    <a:pt x="42" y="300"/>
                  </a:lnTo>
                  <a:lnTo>
                    <a:pt x="62" y="320"/>
                  </a:lnTo>
                  <a:lnTo>
                    <a:pt x="84" y="338"/>
                  </a:lnTo>
                  <a:lnTo>
                    <a:pt x="108" y="354"/>
                  </a:lnTo>
                  <a:lnTo>
                    <a:pt x="130" y="368"/>
                  </a:lnTo>
                  <a:lnTo>
                    <a:pt x="150" y="378"/>
                  </a:lnTo>
                  <a:lnTo>
                    <a:pt x="182" y="394"/>
                  </a:lnTo>
                  <a:lnTo>
                    <a:pt x="194" y="400"/>
                  </a:lnTo>
                  <a:lnTo>
                    <a:pt x="1484" y="944"/>
                  </a:lnTo>
                  <a:close/>
                </a:path>
              </a:pathLst>
            </a:custGeom>
            <a:solidFill>
              <a:srgbClr val="e0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8"/>
            <p:cNvSpPr/>
            <p:nvPr/>
          </p:nvSpPr>
          <p:spPr>
            <a:xfrm>
              <a:off x="40309920" y="1647720"/>
              <a:ext cx="682560" cy="1288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288800"/>
                <a:gd name="textAreaBottom" fmla="*/ 1289160 h 1288800"/>
              </a:gdLst>
              <a:ahLst/>
              <a:rect l="textAreaLeft" t="textAreaTop" r="textAreaRight" b="textAreaBottom"/>
              <a:pathLst>
                <a:path w="430" h="812">
                  <a:moveTo>
                    <a:pt x="14" y="0"/>
                  </a:moveTo>
                  <a:lnTo>
                    <a:pt x="14" y="0"/>
                  </a:lnTo>
                  <a:lnTo>
                    <a:pt x="28" y="2"/>
                  </a:lnTo>
                  <a:lnTo>
                    <a:pt x="68" y="10"/>
                  </a:lnTo>
                  <a:lnTo>
                    <a:pt x="124" y="22"/>
                  </a:lnTo>
                  <a:lnTo>
                    <a:pt x="158" y="32"/>
                  </a:lnTo>
                  <a:lnTo>
                    <a:pt x="192" y="44"/>
                  </a:lnTo>
                  <a:lnTo>
                    <a:pt x="228" y="58"/>
                  </a:lnTo>
                  <a:lnTo>
                    <a:pt x="262" y="74"/>
                  </a:lnTo>
                  <a:lnTo>
                    <a:pt x="296" y="92"/>
                  </a:lnTo>
                  <a:lnTo>
                    <a:pt x="328" y="116"/>
                  </a:lnTo>
                  <a:lnTo>
                    <a:pt x="356" y="140"/>
                  </a:lnTo>
                  <a:lnTo>
                    <a:pt x="370" y="154"/>
                  </a:lnTo>
                  <a:lnTo>
                    <a:pt x="382" y="170"/>
                  </a:lnTo>
                  <a:lnTo>
                    <a:pt x="392" y="184"/>
                  </a:lnTo>
                  <a:lnTo>
                    <a:pt x="402" y="202"/>
                  </a:lnTo>
                  <a:lnTo>
                    <a:pt x="410" y="218"/>
                  </a:lnTo>
                  <a:lnTo>
                    <a:pt x="416" y="238"/>
                  </a:lnTo>
                  <a:lnTo>
                    <a:pt x="416" y="238"/>
                  </a:lnTo>
                  <a:lnTo>
                    <a:pt x="422" y="256"/>
                  </a:lnTo>
                  <a:lnTo>
                    <a:pt x="426" y="276"/>
                  </a:lnTo>
                  <a:lnTo>
                    <a:pt x="430" y="318"/>
                  </a:lnTo>
                  <a:lnTo>
                    <a:pt x="430" y="362"/>
                  </a:lnTo>
                  <a:lnTo>
                    <a:pt x="428" y="408"/>
                  </a:lnTo>
                  <a:lnTo>
                    <a:pt x="422" y="452"/>
                  </a:lnTo>
                  <a:lnTo>
                    <a:pt x="414" y="498"/>
                  </a:lnTo>
                  <a:lnTo>
                    <a:pt x="402" y="542"/>
                  </a:lnTo>
                  <a:lnTo>
                    <a:pt x="392" y="584"/>
                  </a:lnTo>
                  <a:lnTo>
                    <a:pt x="366" y="662"/>
                  </a:lnTo>
                  <a:lnTo>
                    <a:pt x="344" y="724"/>
                  </a:lnTo>
                  <a:lnTo>
                    <a:pt x="326" y="766"/>
                  </a:lnTo>
                  <a:lnTo>
                    <a:pt x="320" y="782"/>
                  </a:lnTo>
                  <a:lnTo>
                    <a:pt x="320" y="782"/>
                  </a:lnTo>
                  <a:lnTo>
                    <a:pt x="312" y="792"/>
                  </a:lnTo>
                  <a:lnTo>
                    <a:pt x="304" y="800"/>
                  </a:lnTo>
                  <a:lnTo>
                    <a:pt x="292" y="808"/>
                  </a:lnTo>
                  <a:lnTo>
                    <a:pt x="284" y="810"/>
                  </a:lnTo>
                  <a:lnTo>
                    <a:pt x="278" y="812"/>
                  </a:lnTo>
                  <a:lnTo>
                    <a:pt x="270" y="812"/>
                  </a:lnTo>
                  <a:lnTo>
                    <a:pt x="262" y="810"/>
                  </a:lnTo>
                  <a:lnTo>
                    <a:pt x="252" y="808"/>
                  </a:lnTo>
                  <a:lnTo>
                    <a:pt x="242" y="802"/>
                  </a:lnTo>
                  <a:lnTo>
                    <a:pt x="234" y="792"/>
                  </a:lnTo>
                  <a:lnTo>
                    <a:pt x="224" y="782"/>
                  </a:lnTo>
                  <a:lnTo>
                    <a:pt x="224" y="782"/>
                  </a:lnTo>
                  <a:lnTo>
                    <a:pt x="212" y="762"/>
                  </a:lnTo>
                  <a:lnTo>
                    <a:pt x="196" y="728"/>
                  </a:lnTo>
                  <a:lnTo>
                    <a:pt x="178" y="686"/>
                  </a:lnTo>
                  <a:lnTo>
                    <a:pt x="158" y="634"/>
                  </a:lnTo>
                  <a:lnTo>
                    <a:pt x="116" y="510"/>
                  </a:lnTo>
                  <a:lnTo>
                    <a:pt x="72" y="374"/>
                  </a:lnTo>
                  <a:lnTo>
                    <a:pt x="52" y="306"/>
                  </a:lnTo>
                  <a:lnTo>
                    <a:pt x="36" y="240"/>
                  </a:lnTo>
                  <a:lnTo>
                    <a:pt x="20" y="180"/>
                  </a:lnTo>
                  <a:lnTo>
                    <a:pt x="10" y="124"/>
                  </a:lnTo>
                  <a:lnTo>
                    <a:pt x="2" y="76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4" y="12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d5d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>
              <a:off x="40268520" y="1606320"/>
              <a:ext cx="768240" cy="1371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484" h="864">
                  <a:moveTo>
                    <a:pt x="30" y="2"/>
                  </a:moveTo>
                  <a:lnTo>
                    <a:pt x="30" y="2"/>
                  </a:lnTo>
                  <a:lnTo>
                    <a:pt x="22" y="6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0" y="60"/>
                  </a:lnTo>
                  <a:lnTo>
                    <a:pt x="2" y="96"/>
                  </a:lnTo>
                  <a:lnTo>
                    <a:pt x="8" y="140"/>
                  </a:lnTo>
                  <a:lnTo>
                    <a:pt x="18" y="194"/>
                  </a:lnTo>
                  <a:lnTo>
                    <a:pt x="30" y="252"/>
                  </a:lnTo>
                  <a:lnTo>
                    <a:pt x="46" y="314"/>
                  </a:lnTo>
                  <a:lnTo>
                    <a:pt x="64" y="378"/>
                  </a:lnTo>
                  <a:lnTo>
                    <a:pt x="84" y="444"/>
                  </a:lnTo>
                  <a:lnTo>
                    <a:pt x="126" y="572"/>
                  </a:lnTo>
                  <a:lnTo>
                    <a:pt x="166" y="686"/>
                  </a:lnTo>
                  <a:lnTo>
                    <a:pt x="186" y="734"/>
                  </a:lnTo>
                  <a:lnTo>
                    <a:pt x="202" y="774"/>
                  </a:lnTo>
                  <a:lnTo>
                    <a:pt x="218" y="804"/>
                  </a:lnTo>
                  <a:lnTo>
                    <a:pt x="228" y="822"/>
                  </a:lnTo>
                  <a:lnTo>
                    <a:pt x="228" y="822"/>
                  </a:lnTo>
                  <a:lnTo>
                    <a:pt x="246" y="842"/>
                  </a:lnTo>
                  <a:lnTo>
                    <a:pt x="254" y="850"/>
                  </a:lnTo>
                  <a:lnTo>
                    <a:pt x="264" y="854"/>
                  </a:lnTo>
                  <a:lnTo>
                    <a:pt x="272" y="860"/>
                  </a:lnTo>
                  <a:lnTo>
                    <a:pt x="282" y="862"/>
                  </a:lnTo>
                  <a:lnTo>
                    <a:pt x="292" y="864"/>
                  </a:lnTo>
                  <a:lnTo>
                    <a:pt x="300" y="864"/>
                  </a:lnTo>
                  <a:lnTo>
                    <a:pt x="300" y="864"/>
                  </a:lnTo>
                  <a:lnTo>
                    <a:pt x="316" y="862"/>
                  </a:lnTo>
                  <a:lnTo>
                    <a:pt x="328" y="858"/>
                  </a:lnTo>
                  <a:lnTo>
                    <a:pt x="340" y="852"/>
                  </a:lnTo>
                  <a:lnTo>
                    <a:pt x="348" y="844"/>
                  </a:lnTo>
                  <a:lnTo>
                    <a:pt x="362" y="830"/>
                  </a:lnTo>
                  <a:lnTo>
                    <a:pt x="368" y="822"/>
                  </a:lnTo>
                  <a:lnTo>
                    <a:pt x="368" y="822"/>
                  </a:lnTo>
                  <a:lnTo>
                    <a:pt x="378" y="800"/>
                  </a:lnTo>
                  <a:lnTo>
                    <a:pt x="396" y="754"/>
                  </a:lnTo>
                  <a:lnTo>
                    <a:pt x="420" y="690"/>
                  </a:lnTo>
                  <a:lnTo>
                    <a:pt x="432" y="652"/>
                  </a:lnTo>
                  <a:lnTo>
                    <a:pt x="446" y="610"/>
                  </a:lnTo>
                  <a:lnTo>
                    <a:pt x="456" y="566"/>
                  </a:lnTo>
                  <a:lnTo>
                    <a:pt x="466" y="522"/>
                  </a:lnTo>
                  <a:lnTo>
                    <a:pt x="474" y="476"/>
                  </a:lnTo>
                  <a:lnTo>
                    <a:pt x="480" y="430"/>
                  </a:lnTo>
                  <a:lnTo>
                    <a:pt x="484" y="384"/>
                  </a:lnTo>
                  <a:lnTo>
                    <a:pt x="482" y="340"/>
                  </a:lnTo>
                  <a:lnTo>
                    <a:pt x="478" y="296"/>
                  </a:lnTo>
                  <a:lnTo>
                    <a:pt x="474" y="276"/>
                  </a:lnTo>
                  <a:lnTo>
                    <a:pt x="468" y="256"/>
                  </a:lnTo>
                  <a:lnTo>
                    <a:pt x="468" y="256"/>
                  </a:lnTo>
                  <a:lnTo>
                    <a:pt x="460" y="236"/>
                  </a:lnTo>
                  <a:lnTo>
                    <a:pt x="452" y="218"/>
                  </a:lnTo>
                  <a:lnTo>
                    <a:pt x="442" y="200"/>
                  </a:lnTo>
                  <a:lnTo>
                    <a:pt x="432" y="182"/>
                  </a:lnTo>
                  <a:lnTo>
                    <a:pt x="418" y="166"/>
                  </a:lnTo>
                  <a:lnTo>
                    <a:pt x="406" y="152"/>
                  </a:lnTo>
                  <a:lnTo>
                    <a:pt x="390" y="138"/>
                  </a:lnTo>
                  <a:lnTo>
                    <a:pt x="376" y="124"/>
                  </a:lnTo>
                  <a:lnTo>
                    <a:pt x="342" y="102"/>
                  </a:lnTo>
                  <a:lnTo>
                    <a:pt x="308" y="80"/>
                  </a:lnTo>
                  <a:lnTo>
                    <a:pt x="272" y="62"/>
                  </a:lnTo>
                  <a:lnTo>
                    <a:pt x="236" y="48"/>
                  </a:lnTo>
                  <a:lnTo>
                    <a:pt x="200" y="36"/>
                  </a:lnTo>
                  <a:lnTo>
                    <a:pt x="166" y="24"/>
                  </a:lnTo>
                  <a:lnTo>
                    <a:pt x="134" y="16"/>
                  </a:lnTo>
                  <a:lnTo>
                    <a:pt x="106" y="10"/>
                  </a:lnTo>
                  <a:lnTo>
                    <a:pt x="6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30" y="2"/>
                  </a:lnTo>
                  <a:close/>
                  <a:moveTo>
                    <a:pt x="36" y="52"/>
                  </a:moveTo>
                  <a:lnTo>
                    <a:pt x="36" y="52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36" y="52"/>
                  </a:lnTo>
                  <a:lnTo>
                    <a:pt x="36" y="52"/>
                  </a:lnTo>
                  <a:close/>
                  <a:moveTo>
                    <a:pt x="270" y="792"/>
                  </a:moveTo>
                  <a:lnTo>
                    <a:pt x="270" y="792"/>
                  </a:lnTo>
                  <a:lnTo>
                    <a:pt x="260" y="772"/>
                  </a:lnTo>
                  <a:lnTo>
                    <a:pt x="246" y="744"/>
                  </a:lnTo>
                  <a:lnTo>
                    <a:pt x="230" y="708"/>
                  </a:lnTo>
                  <a:lnTo>
                    <a:pt x="214" y="666"/>
                  </a:lnTo>
                  <a:lnTo>
                    <a:pt x="176" y="564"/>
                  </a:lnTo>
                  <a:lnTo>
                    <a:pt x="140" y="450"/>
                  </a:lnTo>
                  <a:lnTo>
                    <a:pt x="106" y="334"/>
                  </a:lnTo>
                  <a:lnTo>
                    <a:pt x="78" y="224"/>
                  </a:lnTo>
                  <a:lnTo>
                    <a:pt x="66" y="176"/>
                  </a:lnTo>
                  <a:lnTo>
                    <a:pt x="58" y="132"/>
                  </a:lnTo>
                  <a:lnTo>
                    <a:pt x="54" y="96"/>
                  </a:lnTo>
                  <a:lnTo>
                    <a:pt x="52" y="68"/>
                  </a:lnTo>
                  <a:lnTo>
                    <a:pt x="52" y="68"/>
                  </a:lnTo>
                  <a:lnTo>
                    <a:pt x="52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86" y="60"/>
                  </a:lnTo>
                  <a:lnTo>
                    <a:pt x="132" y="70"/>
                  </a:lnTo>
                  <a:lnTo>
                    <a:pt x="186" y="86"/>
                  </a:lnTo>
                  <a:lnTo>
                    <a:pt x="214" y="96"/>
                  </a:lnTo>
                  <a:lnTo>
                    <a:pt x="242" y="108"/>
                  </a:lnTo>
                  <a:lnTo>
                    <a:pt x="270" y="120"/>
                  </a:lnTo>
                  <a:lnTo>
                    <a:pt x="298" y="136"/>
                  </a:lnTo>
                  <a:lnTo>
                    <a:pt x="326" y="152"/>
                  </a:lnTo>
                  <a:lnTo>
                    <a:pt x="350" y="172"/>
                  </a:lnTo>
                  <a:lnTo>
                    <a:pt x="372" y="192"/>
                  </a:lnTo>
                  <a:lnTo>
                    <a:pt x="390" y="216"/>
                  </a:lnTo>
                  <a:lnTo>
                    <a:pt x="406" y="242"/>
                  </a:lnTo>
                  <a:lnTo>
                    <a:pt x="412" y="256"/>
                  </a:lnTo>
                  <a:lnTo>
                    <a:pt x="418" y="270"/>
                  </a:lnTo>
                  <a:lnTo>
                    <a:pt x="418" y="270"/>
                  </a:lnTo>
                  <a:lnTo>
                    <a:pt x="424" y="294"/>
                  </a:lnTo>
                  <a:lnTo>
                    <a:pt x="428" y="318"/>
                  </a:lnTo>
                  <a:lnTo>
                    <a:pt x="430" y="344"/>
                  </a:lnTo>
                  <a:lnTo>
                    <a:pt x="430" y="372"/>
                  </a:lnTo>
                  <a:lnTo>
                    <a:pt x="430" y="372"/>
                  </a:lnTo>
                  <a:lnTo>
                    <a:pt x="430" y="406"/>
                  </a:lnTo>
                  <a:lnTo>
                    <a:pt x="426" y="444"/>
                  </a:lnTo>
                  <a:lnTo>
                    <a:pt x="420" y="480"/>
                  </a:lnTo>
                  <a:lnTo>
                    <a:pt x="414" y="516"/>
                  </a:lnTo>
                  <a:lnTo>
                    <a:pt x="406" y="552"/>
                  </a:lnTo>
                  <a:lnTo>
                    <a:pt x="396" y="588"/>
                  </a:lnTo>
                  <a:lnTo>
                    <a:pt x="378" y="652"/>
                  </a:lnTo>
                  <a:lnTo>
                    <a:pt x="358" y="710"/>
                  </a:lnTo>
                  <a:lnTo>
                    <a:pt x="340" y="754"/>
                  </a:lnTo>
                  <a:lnTo>
                    <a:pt x="322" y="796"/>
                  </a:lnTo>
                  <a:lnTo>
                    <a:pt x="322" y="796"/>
                  </a:lnTo>
                  <a:lnTo>
                    <a:pt x="314" y="806"/>
                  </a:lnTo>
                  <a:lnTo>
                    <a:pt x="306" y="810"/>
                  </a:lnTo>
                  <a:lnTo>
                    <a:pt x="298" y="812"/>
                  </a:lnTo>
                  <a:lnTo>
                    <a:pt x="298" y="812"/>
                  </a:lnTo>
                  <a:lnTo>
                    <a:pt x="292" y="810"/>
                  </a:lnTo>
                  <a:lnTo>
                    <a:pt x="286" y="806"/>
                  </a:lnTo>
                  <a:lnTo>
                    <a:pt x="278" y="800"/>
                  </a:lnTo>
                  <a:lnTo>
                    <a:pt x="270" y="792"/>
                  </a:lnTo>
                  <a:lnTo>
                    <a:pt x="270" y="7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40"/>
            <p:cNvSpPr/>
            <p:nvPr/>
          </p:nvSpPr>
          <p:spPr>
            <a:xfrm>
              <a:off x="40471920" y="2784600"/>
              <a:ext cx="539640" cy="7682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40" h="484">
                  <a:moveTo>
                    <a:pt x="122" y="66"/>
                  </a:moveTo>
                  <a:lnTo>
                    <a:pt x="122" y="66"/>
                  </a:lnTo>
                  <a:lnTo>
                    <a:pt x="128" y="60"/>
                  </a:lnTo>
                  <a:lnTo>
                    <a:pt x="148" y="44"/>
                  </a:lnTo>
                  <a:lnTo>
                    <a:pt x="174" y="26"/>
                  </a:lnTo>
                  <a:lnTo>
                    <a:pt x="190" y="18"/>
                  </a:lnTo>
                  <a:lnTo>
                    <a:pt x="208" y="10"/>
                  </a:lnTo>
                  <a:lnTo>
                    <a:pt x="224" y="4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2"/>
                  </a:lnTo>
                  <a:lnTo>
                    <a:pt x="286" y="6"/>
                  </a:lnTo>
                  <a:lnTo>
                    <a:pt x="294" y="10"/>
                  </a:lnTo>
                  <a:lnTo>
                    <a:pt x="300" y="16"/>
                  </a:lnTo>
                  <a:lnTo>
                    <a:pt x="308" y="22"/>
                  </a:lnTo>
                  <a:lnTo>
                    <a:pt x="314" y="30"/>
                  </a:lnTo>
                  <a:lnTo>
                    <a:pt x="322" y="40"/>
                  </a:lnTo>
                  <a:lnTo>
                    <a:pt x="328" y="52"/>
                  </a:lnTo>
                  <a:lnTo>
                    <a:pt x="332" y="66"/>
                  </a:lnTo>
                  <a:lnTo>
                    <a:pt x="332" y="66"/>
                  </a:lnTo>
                  <a:lnTo>
                    <a:pt x="336" y="80"/>
                  </a:lnTo>
                  <a:lnTo>
                    <a:pt x="340" y="94"/>
                  </a:lnTo>
                  <a:lnTo>
                    <a:pt x="340" y="112"/>
                  </a:lnTo>
                  <a:lnTo>
                    <a:pt x="340" y="128"/>
                  </a:lnTo>
                  <a:lnTo>
                    <a:pt x="336" y="164"/>
                  </a:lnTo>
                  <a:lnTo>
                    <a:pt x="328" y="200"/>
                  </a:lnTo>
                  <a:lnTo>
                    <a:pt x="314" y="238"/>
                  </a:lnTo>
                  <a:lnTo>
                    <a:pt x="298" y="276"/>
                  </a:lnTo>
                  <a:lnTo>
                    <a:pt x="278" y="312"/>
                  </a:lnTo>
                  <a:lnTo>
                    <a:pt x="256" y="348"/>
                  </a:lnTo>
                  <a:lnTo>
                    <a:pt x="232" y="380"/>
                  </a:lnTo>
                  <a:lnTo>
                    <a:pt x="206" y="410"/>
                  </a:lnTo>
                  <a:lnTo>
                    <a:pt x="178" y="436"/>
                  </a:lnTo>
                  <a:lnTo>
                    <a:pt x="150" y="456"/>
                  </a:lnTo>
                  <a:lnTo>
                    <a:pt x="136" y="464"/>
                  </a:lnTo>
                  <a:lnTo>
                    <a:pt x="122" y="472"/>
                  </a:lnTo>
                  <a:lnTo>
                    <a:pt x="108" y="478"/>
                  </a:lnTo>
                  <a:lnTo>
                    <a:pt x="96" y="480"/>
                  </a:lnTo>
                  <a:lnTo>
                    <a:pt x="82" y="484"/>
                  </a:lnTo>
                  <a:lnTo>
                    <a:pt x="68" y="484"/>
                  </a:lnTo>
                  <a:lnTo>
                    <a:pt x="56" y="482"/>
                  </a:lnTo>
                  <a:lnTo>
                    <a:pt x="42" y="478"/>
                  </a:lnTo>
                  <a:lnTo>
                    <a:pt x="42" y="478"/>
                  </a:lnTo>
                  <a:lnTo>
                    <a:pt x="32" y="472"/>
                  </a:lnTo>
                  <a:lnTo>
                    <a:pt x="22" y="464"/>
                  </a:lnTo>
                  <a:lnTo>
                    <a:pt x="14" y="456"/>
                  </a:lnTo>
                  <a:lnTo>
                    <a:pt x="8" y="444"/>
                  </a:lnTo>
                  <a:lnTo>
                    <a:pt x="4" y="432"/>
                  </a:lnTo>
                  <a:lnTo>
                    <a:pt x="2" y="420"/>
                  </a:lnTo>
                  <a:lnTo>
                    <a:pt x="0" y="406"/>
                  </a:lnTo>
                  <a:lnTo>
                    <a:pt x="0" y="390"/>
                  </a:lnTo>
                  <a:lnTo>
                    <a:pt x="2" y="358"/>
                  </a:lnTo>
                  <a:lnTo>
                    <a:pt x="10" y="324"/>
                  </a:lnTo>
                  <a:lnTo>
                    <a:pt x="20" y="288"/>
                  </a:lnTo>
                  <a:lnTo>
                    <a:pt x="32" y="252"/>
                  </a:lnTo>
                  <a:lnTo>
                    <a:pt x="48" y="216"/>
                  </a:lnTo>
                  <a:lnTo>
                    <a:pt x="62" y="182"/>
                  </a:lnTo>
                  <a:lnTo>
                    <a:pt x="90" y="122"/>
                  </a:lnTo>
                  <a:lnTo>
                    <a:pt x="112" y="80"/>
                  </a:lnTo>
                  <a:lnTo>
                    <a:pt x="122" y="66"/>
                  </a:lnTo>
                  <a:lnTo>
                    <a:pt x="122" y="66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41"/>
            <p:cNvSpPr/>
            <p:nvPr/>
          </p:nvSpPr>
          <p:spPr>
            <a:xfrm>
              <a:off x="40430520" y="2739960"/>
              <a:ext cx="622080" cy="8539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392" h="538">
                  <a:moveTo>
                    <a:pt x="130" y="74"/>
                  </a:moveTo>
                  <a:lnTo>
                    <a:pt x="130" y="74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94" y="136"/>
                  </a:lnTo>
                  <a:lnTo>
                    <a:pt x="70" y="186"/>
                  </a:lnTo>
                  <a:lnTo>
                    <a:pt x="44" y="244"/>
                  </a:lnTo>
                  <a:lnTo>
                    <a:pt x="32" y="274"/>
                  </a:lnTo>
                  <a:lnTo>
                    <a:pt x="22" y="304"/>
                  </a:lnTo>
                  <a:lnTo>
                    <a:pt x="12" y="336"/>
                  </a:lnTo>
                  <a:lnTo>
                    <a:pt x="6" y="366"/>
                  </a:lnTo>
                  <a:lnTo>
                    <a:pt x="2" y="396"/>
                  </a:lnTo>
                  <a:lnTo>
                    <a:pt x="0" y="424"/>
                  </a:lnTo>
                  <a:lnTo>
                    <a:pt x="2" y="450"/>
                  </a:lnTo>
                  <a:lnTo>
                    <a:pt x="6" y="474"/>
                  </a:lnTo>
                  <a:lnTo>
                    <a:pt x="6" y="474"/>
                  </a:lnTo>
                  <a:lnTo>
                    <a:pt x="16" y="492"/>
                  </a:lnTo>
                  <a:lnTo>
                    <a:pt x="26" y="508"/>
                  </a:lnTo>
                  <a:lnTo>
                    <a:pt x="42" y="520"/>
                  </a:lnTo>
                  <a:lnTo>
                    <a:pt x="60" y="530"/>
                  </a:lnTo>
                  <a:lnTo>
                    <a:pt x="60" y="530"/>
                  </a:lnTo>
                  <a:lnTo>
                    <a:pt x="80" y="536"/>
                  </a:lnTo>
                  <a:lnTo>
                    <a:pt x="100" y="538"/>
                  </a:lnTo>
                  <a:lnTo>
                    <a:pt x="122" y="536"/>
                  </a:lnTo>
                  <a:lnTo>
                    <a:pt x="144" y="530"/>
                  </a:lnTo>
                  <a:lnTo>
                    <a:pt x="168" y="520"/>
                  </a:lnTo>
                  <a:lnTo>
                    <a:pt x="192" y="506"/>
                  </a:lnTo>
                  <a:lnTo>
                    <a:pt x="214" y="488"/>
                  </a:lnTo>
                  <a:lnTo>
                    <a:pt x="238" y="468"/>
                  </a:lnTo>
                  <a:lnTo>
                    <a:pt x="238" y="468"/>
                  </a:lnTo>
                  <a:lnTo>
                    <a:pt x="258" y="448"/>
                  </a:lnTo>
                  <a:lnTo>
                    <a:pt x="276" y="428"/>
                  </a:lnTo>
                  <a:lnTo>
                    <a:pt x="292" y="406"/>
                  </a:lnTo>
                  <a:lnTo>
                    <a:pt x="310" y="382"/>
                  </a:lnTo>
                  <a:lnTo>
                    <a:pt x="324" y="358"/>
                  </a:lnTo>
                  <a:lnTo>
                    <a:pt x="338" y="334"/>
                  </a:lnTo>
                  <a:lnTo>
                    <a:pt x="352" y="308"/>
                  </a:lnTo>
                  <a:lnTo>
                    <a:pt x="364" y="282"/>
                  </a:lnTo>
                  <a:lnTo>
                    <a:pt x="374" y="254"/>
                  </a:lnTo>
                  <a:lnTo>
                    <a:pt x="380" y="228"/>
                  </a:lnTo>
                  <a:lnTo>
                    <a:pt x="388" y="202"/>
                  </a:lnTo>
                  <a:lnTo>
                    <a:pt x="392" y="178"/>
                  </a:lnTo>
                  <a:lnTo>
                    <a:pt x="392" y="152"/>
                  </a:lnTo>
                  <a:lnTo>
                    <a:pt x="392" y="128"/>
                  </a:lnTo>
                  <a:lnTo>
                    <a:pt x="388" y="106"/>
                  </a:lnTo>
                  <a:lnTo>
                    <a:pt x="384" y="84"/>
                  </a:lnTo>
                  <a:lnTo>
                    <a:pt x="384" y="84"/>
                  </a:lnTo>
                  <a:lnTo>
                    <a:pt x="376" y="68"/>
                  </a:lnTo>
                  <a:lnTo>
                    <a:pt x="370" y="54"/>
                  </a:lnTo>
                  <a:lnTo>
                    <a:pt x="360" y="42"/>
                  </a:lnTo>
                  <a:lnTo>
                    <a:pt x="352" y="30"/>
                  </a:lnTo>
                  <a:lnTo>
                    <a:pt x="342" y="22"/>
                  </a:lnTo>
                  <a:lnTo>
                    <a:pt x="330" y="14"/>
                  </a:lnTo>
                  <a:lnTo>
                    <a:pt x="318" y="8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290" y="2"/>
                  </a:lnTo>
                  <a:lnTo>
                    <a:pt x="276" y="0"/>
                  </a:lnTo>
                  <a:lnTo>
                    <a:pt x="260" y="2"/>
                  </a:lnTo>
                  <a:lnTo>
                    <a:pt x="246" y="6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192" y="28"/>
                  </a:lnTo>
                  <a:lnTo>
                    <a:pt x="168" y="42"/>
                  </a:lnTo>
                  <a:lnTo>
                    <a:pt x="150" y="56"/>
                  </a:lnTo>
                  <a:lnTo>
                    <a:pt x="130" y="74"/>
                  </a:lnTo>
                  <a:lnTo>
                    <a:pt x="130" y="74"/>
                  </a:lnTo>
                  <a:close/>
                  <a:moveTo>
                    <a:pt x="292" y="54"/>
                  </a:moveTo>
                  <a:lnTo>
                    <a:pt x="292" y="54"/>
                  </a:lnTo>
                  <a:lnTo>
                    <a:pt x="300" y="56"/>
                  </a:lnTo>
                  <a:lnTo>
                    <a:pt x="310" y="64"/>
                  </a:lnTo>
                  <a:lnTo>
                    <a:pt x="316" y="70"/>
                  </a:lnTo>
                  <a:lnTo>
                    <a:pt x="322" y="78"/>
                  </a:lnTo>
                  <a:lnTo>
                    <a:pt x="328" y="88"/>
                  </a:lnTo>
                  <a:lnTo>
                    <a:pt x="334" y="102"/>
                  </a:lnTo>
                  <a:lnTo>
                    <a:pt x="334" y="102"/>
                  </a:lnTo>
                  <a:lnTo>
                    <a:pt x="338" y="118"/>
                  </a:lnTo>
                  <a:lnTo>
                    <a:pt x="340" y="138"/>
                  </a:lnTo>
                  <a:lnTo>
                    <a:pt x="340" y="158"/>
                  </a:lnTo>
                  <a:lnTo>
                    <a:pt x="338" y="178"/>
                  </a:lnTo>
                  <a:lnTo>
                    <a:pt x="334" y="200"/>
                  </a:lnTo>
                  <a:lnTo>
                    <a:pt x="328" y="222"/>
                  </a:lnTo>
                  <a:lnTo>
                    <a:pt x="320" y="244"/>
                  </a:lnTo>
                  <a:lnTo>
                    <a:pt x="312" y="268"/>
                  </a:lnTo>
                  <a:lnTo>
                    <a:pt x="302" y="290"/>
                  </a:lnTo>
                  <a:lnTo>
                    <a:pt x="290" y="312"/>
                  </a:lnTo>
                  <a:lnTo>
                    <a:pt x="264" y="356"/>
                  </a:lnTo>
                  <a:lnTo>
                    <a:pt x="250" y="376"/>
                  </a:lnTo>
                  <a:lnTo>
                    <a:pt x="234" y="396"/>
                  </a:lnTo>
                  <a:lnTo>
                    <a:pt x="218" y="414"/>
                  </a:lnTo>
                  <a:lnTo>
                    <a:pt x="202" y="430"/>
                  </a:lnTo>
                  <a:lnTo>
                    <a:pt x="202" y="430"/>
                  </a:lnTo>
                  <a:lnTo>
                    <a:pt x="184" y="446"/>
                  </a:lnTo>
                  <a:lnTo>
                    <a:pt x="168" y="458"/>
                  </a:lnTo>
                  <a:lnTo>
                    <a:pt x="150" y="470"/>
                  </a:lnTo>
                  <a:lnTo>
                    <a:pt x="134" y="478"/>
                  </a:lnTo>
                  <a:lnTo>
                    <a:pt x="120" y="482"/>
                  </a:lnTo>
                  <a:lnTo>
                    <a:pt x="104" y="484"/>
                  </a:lnTo>
                  <a:lnTo>
                    <a:pt x="92" y="484"/>
                  </a:lnTo>
                  <a:lnTo>
                    <a:pt x="78" y="482"/>
                  </a:lnTo>
                  <a:lnTo>
                    <a:pt x="78" y="482"/>
                  </a:lnTo>
                  <a:lnTo>
                    <a:pt x="72" y="478"/>
                  </a:lnTo>
                  <a:lnTo>
                    <a:pt x="64" y="472"/>
                  </a:lnTo>
                  <a:lnTo>
                    <a:pt x="60" y="464"/>
                  </a:lnTo>
                  <a:lnTo>
                    <a:pt x="56" y="456"/>
                  </a:lnTo>
                  <a:lnTo>
                    <a:pt x="56" y="456"/>
                  </a:lnTo>
                  <a:lnTo>
                    <a:pt x="52" y="442"/>
                  </a:lnTo>
                  <a:lnTo>
                    <a:pt x="52" y="424"/>
                  </a:lnTo>
                  <a:lnTo>
                    <a:pt x="52" y="424"/>
                  </a:lnTo>
                  <a:lnTo>
                    <a:pt x="52" y="406"/>
                  </a:lnTo>
                  <a:lnTo>
                    <a:pt x="56" y="386"/>
                  </a:lnTo>
                  <a:lnTo>
                    <a:pt x="64" y="346"/>
                  </a:lnTo>
                  <a:lnTo>
                    <a:pt x="78" y="302"/>
                  </a:lnTo>
                  <a:lnTo>
                    <a:pt x="96" y="256"/>
                  </a:lnTo>
                  <a:lnTo>
                    <a:pt x="116" y="214"/>
                  </a:lnTo>
                  <a:lnTo>
                    <a:pt x="134" y="174"/>
                  </a:lnTo>
                  <a:lnTo>
                    <a:pt x="168" y="110"/>
                  </a:lnTo>
                  <a:lnTo>
                    <a:pt x="168" y="110"/>
                  </a:lnTo>
                  <a:lnTo>
                    <a:pt x="192" y="92"/>
                  </a:lnTo>
                  <a:lnTo>
                    <a:pt x="206" y="82"/>
                  </a:lnTo>
                  <a:lnTo>
                    <a:pt x="224" y="72"/>
                  </a:lnTo>
                  <a:lnTo>
                    <a:pt x="240" y="62"/>
                  </a:lnTo>
                  <a:lnTo>
                    <a:pt x="258" y="56"/>
                  </a:lnTo>
                  <a:lnTo>
                    <a:pt x="276" y="54"/>
                  </a:lnTo>
                  <a:lnTo>
                    <a:pt x="284" y="54"/>
                  </a:lnTo>
                  <a:lnTo>
                    <a:pt x="292" y="54"/>
                  </a:lnTo>
                  <a:lnTo>
                    <a:pt x="29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2"/>
            <p:cNvSpPr/>
            <p:nvPr/>
          </p:nvSpPr>
          <p:spPr>
            <a:xfrm>
              <a:off x="40525920" y="2943360"/>
              <a:ext cx="365040" cy="5014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30" h="316">
                  <a:moveTo>
                    <a:pt x="198" y="0"/>
                  </a:moveTo>
                  <a:lnTo>
                    <a:pt x="198" y="0"/>
                  </a:lnTo>
                  <a:lnTo>
                    <a:pt x="188" y="4"/>
                  </a:lnTo>
                  <a:lnTo>
                    <a:pt x="182" y="10"/>
                  </a:lnTo>
                  <a:lnTo>
                    <a:pt x="176" y="20"/>
                  </a:lnTo>
                  <a:lnTo>
                    <a:pt x="176" y="30"/>
                  </a:lnTo>
                  <a:lnTo>
                    <a:pt x="176" y="30"/>
                  </a:lnTo>
                  <a:lnTo>
                    <a:pt x="176" y="42"/>
                  </a:lnTo>
                  <a:lnTo>
                    <a:pt x="176" y="66"/>
                  </a:lnTo>
                  <a:lnTo>
                    <a:pt x="174" y="102"/>
                  </a:lnTo>
                  <a:lnTo>
                    <a:pt x="170" y="122"/>
                  </a:lnTo>
                  <a:lnTo>
                    <a:pt x="164" y="142"/>
                  </a:lnTo>
                  <a:lnTo>
                    <a:pt x="158" y="162"/>
                  </a:lnTo>
                  <a:lnTo>
                    <a:pt x="148" y="182"/>
                  </a:lnTo>
                  <a:lnTo>
                    <a:pt x="136" y="202"/>
                  </a:lnTo>
                  <a:lnTo>
                    <a:pt x="120" y="218"/>
                  </a:lnTo>
                  <a:lnTo>
                    <a:pt x="102" y="234"/>
                  </a:lnTo>
                  <a:lnTo>
                    <a:pt x="80" y="248"/>
                  </a:lnTo>
                  <a:lnTo>
                    <a:pt x="54" y="258"/>
                  </a:lnTo>
                  <a:lnTo>
                    <a:pt x="38" y="262"/>
                  </a:lnTo>
                  <a:lnTo>
                    <a:pt x="22" y="264"/>
                  </a:lnTo>
                  <a:lnTo>
                    <a:pt x="22" y="264"/>
                  </a:lnTo>
                  <a:lnTo>
                    <a:pt x="14" y="268"/>
                  </a:lnTo>
                  <a:lnTo>
                    <a:pt x="6" y="274"/>
                  </a:lnTo>
                  <a:lnTo>
                    <a:pt x="2" y="28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4" y="304"/>
                  </a:lnTo>
                  <a:lnTo>
                    <a:pt x="10" y="310"/>
                  </a:lnTo>
                  <a:lnTo>
                    <a:pt x="20" y="316"/>
                  </a:lnTo>
                  <a:lnTo>
                    <a:pt x="30" y="316"/>
                  </a:lnTo>
                  <a:lnTo>
                    <a:pt x="30" y="316"/>
                  </a:lnTo>
                  <a:lnTo>
                    <a:pt x="62" y="310"/>
                  </a:lnTo>
                  <a:lnTo>
                    <a:pt x="90" y="300"/>
                  </a:lnTo>
                  <a:lnTo>
                    <a:pt x="116" y="288"/>
                  </a:lnTo>
                  <a:lnTo>
                    <a:pt x="138" y="274"/>
                  </a:lnTo>
                  <a:lnTo>
                    <a:pt x="158" y="256"/>
                  </a:lnTo>
                  <a:lnTo>
                    <a:pt x="174" y="238"/>
                  </a:lnTo>
                  <a:lnTo>
                    <a:pt x="188" y="216"/>
                  </a:lnTo>
                  <a:lnTo>
                    <a:pt x="200" y="196"/>
                  </a:lnTo>
                  <a:lnTo>
                    <a:pt x="210" y="172"/>
                  </a:lnTo>
                  <a:lnTo>
                    <a:pt x="218" y="150"/>
                  </a:lnTo>
                  <a:lnTo>
                    <a:pt x="222" y="126"/>
                  </a:lnTo>
                  <a:lnTo>
                    <a:pt x="226" y="104"/>
                  </a:lnTo>
                  <a:lnTo>
                    <a:pt x="228" y="82"/>
                  </a:lnTo>
                  <a:lnTo>
                    <a:pt x="230" y="62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24" y="14"/>
                  </a:lnTo>
                  <a:lnTo>
                    <a:pt x="218" y="6"/>
                  </a:lnTo>
                  <a:lnTo>
                    <a:pt x="210" y="2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3"/>
            <p:cNvSpPr/>
            <p:nvPr/>
          </p:nvSpPr>
          <p:spPr>
            <a:xfrm>
              <a:off x="38284200" y="2784600"/>
              <a:ext cx="542880" cy="7682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42" h="484">
                  <a:moveTo>
                    <a:pt x="220" y="66"/>
                  </a:moveTo>
                  <a:lnTo>
                    <a:pt x="220" y="66"/>
                  </a:lnTo>
                  <a:lnTo>
                    <a:pt x="212" y="60"/>
                  </a:lnTo>
                  <a:lnTo>
                    <a:pt x="194" y="44"/>
                  </a:lnTo>
                  <a:lnTo>
                    <a:pt x="166" y="26"/>
                  </a:lnTo>
                  <a:lnTo>
                    <a:pt x="152" y="18"/>
                  </a:lnTo>
                  <a:lnTo>
                    <a:pt x="134" y="10"/>
                  </a:lnTo>
                  <a:lnTo>
                    <a:pt x="116" y="4"/>
                  </a:lnTo>
                  <a:lnTo>
                    <a:pt x="98" y="0"/>
                  </a:lnTo>
                  <a:lnTo>
                    <a:pt x="82" y="0"/>
                  </a:lnTo>
                  <a:lnTo>
                    <a:pt x="64" y="2"/>
                  </a:lnTo>
                  <a:lnTo>
                    <a:pt x="56" y="6"/>
                  </a:lnTo>
                  <a:lnTo>
                    <a:pt x="48" y="10"/>
                  </a:lnTo>
                  <a:lnTo>
                    <a:pt x="40" y="16"/>
                  </a:lnTo>
                  <a:lnTo>
                    <a:pt x="34" y="22"/>
                  </a:lnTo>
                  <a:lnTo>
                    <a:pt x="26" y="30"/>
                  </a:lnTo>
                  <a:lnTo>
                    <a:pt x="20" y="40"/>
                  </a:lnTo>
                  <a:lnTo>
                    <a:pt x="14" y="52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4" y="80"/>
                  </a:lnTo>
                  <a:lnTo>
                    <a:pt x="2" y="94"/>
                  </a:lnTo>
                  <a:lnTo>
                    <a:pt x="0" y="112"/>
                  </a:lnTo>
                  <a:lnTo>
                    <a:pt x="0" y="128"/>
                  </a:lnTo>
                  <a:lnTo>
                    <a:pt x="4" y="164"/>
                  </a:lnTo>
                  <a:lnTo>
                    <a:pt x="14" y="200"/>
                  </a:lnTo>
                  <a:lnTo>
                    <a:pt x="26" y="238"/>
                  </a:lnTo>
                  <a:lnTo>
                    <a:pt x="42" y="276"/>
                  </a:lnTo>
                  <a:lnTo>
                    <a:pt x="62" y="312"/>
                  </a:lnTo>
                  <a:lnTo>
                    <a:pt x="84" y="348"/>
                  </a:lnTo>
                  <a:lnTo>
                    <a:pt x="110" y="380"/>
                  </a:lnTo>
                  <a:lnTo>
                    <a:pt x="136" y="410"/>
                  </a:lnTo>
                  <a:lnTo>
                    <a:pt x="162" y="436"/>
                  </a:lnTo>
                  <a:lnTo>
                    <a:pt x="190" y="456"/>
                  </a:lnTo>
                  <a:lnTo>
                    <a:pt x="204" y="464"/>
                  </a:lnTo>
                  <a:lnTo>
                    <a:pt x="218" y="472"/>
                  </a:lnTo>
                  <a:lnTo>
                    <a:pt x="232" y="478"/>
                  </a:lnTo>
                  <a:lnTo>
                    <a:pt x="246" y="480"/>
                  </a:lnTo>
                  <a:lnTo>
                    <a:pt x="260" y="484"/>
                  </a:lnTo>
                  <a:lnTo>
                    <a:pt x="274" y="484"/>
                  </a:lnTo>
                  <a:lnTo>
                    <a:pt x="286" y="482"/>
                  </a:lnTo>
                  <a:lnTo>
                    <a:pt x="298" y="478"/>
                  </a:lnTo>
                  <a:lnTo>
                    <a:pt x="298" y="478"/>
                  </a:lnTo>
                  <a:lnTo>
                    <a:pt x="310" y="472"/>
                  </a:lnTo>
                  <a:lnTo>
                    <a:pt x="320" y="464"/>
                  </a:lnTo>
                  <a:lnTo>
                    <a:pt x="328" y="456"/>
                  </a:lnTo>
                  <a:lnTo>
                    <a:pt x="332" y="444"/>
                  </a:lnTo>
                  <a:lnTo>
                    <a:pt x="338" y="432"/>
                  </a:lnTo>
                  <a:lnTo>
                    <a:pt x="340" y="420"/>
                  </a:lnTo>
                  <a:lnTo>
                    <a:pt x="342" y="406"/>
                  </a:lnTo>
                  <a:lnTo>
                    <a:pt x="342" y="390"/>
                  </a:lnTo>
                  <a:lnTo>
                    <a:pt x="338" y="358"/>
                  </a:lnTo>
                  <a:lnTo>
                    <a:pt x="332" y="324"/>
                  </a:lnTo>
                  <a:lnTo>
                    <a:pt x="322" y="288"/>
                  </a:lnTo>
                  <a:lnTo>
                    <a:pt x="308" y="252"/>
                  </a:lnTo>
                  <a:lnTo>
                    <a:pt x="294" y="216"/>
                  </a:lnTo>
                  <a:lnTo>
                    <a:pt x="280" y="182"/>
                  </a:lnTo>
                  <a:lnTo>
                    <a:pt x="250" y="122"/>
                  </a:lnTo>
                  <a:lnTo>
                    <a:pt x="228" y="80"/>
                  </a:lnTo>
                  <a:lnTo>
                    <a:pt x="220" y="66"/>
                  </a:lnTo>
                  <a:lnTo>
                    <a:pt x="220" y="66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4"/>
            <p:cNvSpPr/>
            <p:nvPr/>
          </p:nvSpPr>
          <p:spPr>
            <a:xfrm>
              <a:off x="38242800" y="2739960"/>
              <a:ext cx="625320" cy="85392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394" h="538">
                  <a:moveTo>
                    <a:pt x="88" y="4"/>
                  </a:moveTo>
                  <a:lnTo>
                    <a:pt x="88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2" y="22"/>
                  </a:lnTo>
                  <a:lnTo>
                    <a:pt x="42" y="30"/>
                  </a:lnTo>
                  <a:lnTo>
                    <a:pt x="32" y="42"/>
                  </a:lnTo>
                  <a:lnTo>
                    <a:pt x="24" y="54"/>
                  </a:lnTo>
                  <a:lnTo>
                    <a:pt x="16" y="68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0" y="152"/>
                  </a:lnTo>
                  <a:lnTo>
                    <a:pt x="2" y="176"/>
                  </a:lnTo>
                  <a:lnTo>
                    <a:pt x="6" y="202"/>
                  </a:lnTo>
                  <a:lnTo>
                    <a:pt x="12" y="228"/>
                  </a:lnTo>
                  <a:lnTo>
                    <a:pt x="20" y="254"/>
                  </a:lnTo>
                  <a:lnTo>
                    <a:pt x="30" y="280"/>
                  </a:lnTo>
                  <a:lnTo>
                    <a:pt x="42" y="308"/>
                  </a:lnTo>
                  <a:lnTo>
                    <a:pt x="54" y="332"/>
                  </a:lnTo>
                  <a:lnTo>
                    <a:pt x="68" y="358"/>
                  </a:lnTo>
                  <a:lnTo>
                    <a:pt x="84" y="382"/>
                  </a:lnTo>
                  <a:lnTo>
                    <a:pt x="100" y="406"/>
                  </a:lnTo>
                  <a:lnTo>
                    <a:pt x="118" y="428"/>
                  </a:lnTo>
                  <a:lnTo>
                    <a:pt x="136" y="448"/>
                  </a:lnTo>
                  <a:lnTo>
                    <a:pt x="154" y="468"/>
                  </a:lnTo>
                  <a:lnTo>
                    <a:pt x="154" y="468"/>
                  </a:lnTo>
                  <a:lnTo>
                    <a:pt x="178" y="488"/>
                  </a:lnTo>
                  <a:lnTo>
                    <a:pt x="202" y="506"/>
                  </a:lnTo>
                  <a:lnTo>
                    <a:pt x="226" y="520"/>
                  </a:lnTo>
                  <a:lnTo>
                    <a:pt x="248" y="530"/>
                  </a:lnTo>
                  <a:lnTo>
                    <a:pt x="272" y="536"/>
                  </a:lnTo>
                  <a:lnTo>
                    <a:pt x="294" y="538"/>
                  </a:lnTo>
                  <a:lnTo>
                    <a:pt x="314" y="536"/>
                  </a:lnTo>
                  <a:lnTo>
                    <a:pt x="334" y="530"/>
                  </a:lnTo>
                  <a:lnTo>
                    <a:pt x="334" y="530"/>
                  </a:lnTo>
                  <a:lnTo>
                    <a:pt x="352" y="520"/>
                  </a:lnTo>
                  <a:lnTo>
                    <a:pt x="366" y="508"/>
                  </a:lnTo>
                  <a:lnTo>
                    <a:pt x="378" y="492"/>
                  </a:lnTo>
                  <a:lnTo>
                    <a:pt x="386" y="474"/>
                  </a:lnTo>
                  <a:lnTo>
                    <a:pt x="386" y="474"/>
                  </a:lnTo>
                  <a:lnTo>
                    <a:pt x="392" y="450"/>
                  </a:lnTo>
                  <a:lnTo>
                    <a:pt x="394" y="424"/>
                  </a:lnTo>
                  <a:lnTo>
                    <a:pt x="392" y="396"/>
                  </a:lnTo>
                  <a:lnTo>
                    <a:pt x="388" y="366"/>
                  </a:lnTo>
                  <a:lnTo>
                    <a:pt x="380" y="336"/>
                  </a:lnTo>
                  <a:lnTo>
                    <a:pt x="372" y="304"/>
                  </a:lnTo>
                  <a:lnTo>
                    <a:pt x="360" y="274"/>
                  </a:lnTo>
                  <a:lnTo>
                    <a:pt x="348" y="244"/>
                  </a:lnTo>
                  <a:lnTo>
                    <a:pt x="324" y="186"/>
                  </a:lnTo>
                  <a:lnTo>
                    <a:pt x="300" y="136"/>
                  </a:lnTo>
                  <a:lnTo>
                    <a:pt x="268" y="80"/>
                  </a:lnTo>
                  <a:lnTo>
                    <a:pt x="268" y="80"/>
                  </a:lnTo>
                  <a:lnTo>
                    <a:pt x="264" y="74"/>
                  </a:lnTo>
                  <a:lnTo>
                    <a:pt x="264" y="74"/>
                  </a:lnTo>
                  <a:lnTo>
                    <a:pt x="244" y="56"/>
                  </a:lnTo>
                  <a:lnTo>
                    <a:pt x="224" y="42"/>
                  </a:lnTo>
                  <a:lnTo>
                    <a:pt x="202" y="28"/>
                  </a:lnTo>
                  <a:lnTo>
                    <a:pt x="176" y="16"/>
                  </a:lnTo>
                  <a:lnTo>
                    <a:pt x="162" y="10"/>
                  </a:lnTo>
                  <a:lnTo>
                    <a:pt x="148" y="6"/>
                  </a:lnTo>
                  <a:lnTo>
                    <a:pt x="132" y="2"/>
                  </a:lnTo>
                  <a:lnTo>
                    <a:pt x="118" y="0"/>
                  </a:lnTo>
                  <a:lnTo>
                    <a:pt x="104" y="2"/>
                  </a:lnTo>
                  <a:lnTo>
                    <a:pt x="88" y="4"/>
                  </a:lnTo>
                  <a:lnTo>
                    <a:pt x="88" y="4"/>
                  </a:lnTo>
                  <a:close/>
                  <a:moveTo>
                    <a:pt x="190" y="430"/>
                  </a:moveTo>
                  <a:lnTo>
                    <a:pt x="190" y="430"/>
                  </a:lnTo>
                  <a:lnTo>
                    <a:pt x="174" y="414"/>
                  </a:lnTo>
                  <a:lnTo>
                    <a:pt x="158" y="396"/>
                  </a:lnTo>
                  <a:lnTo>
                    <a:pt x="144" y="376"/>
                  </a:lnTo>
                  <a:lnTo>
                    <a:pt x="130" y="356"/>
                  </a:lnTo>
                  <a:lnTo>
                    <a:pt x="104" y="312"/>
                  </a:lnTo>
                  <a:lnTo>
                    <a:pt x="92" y="290"/>
                  </a:lnTo>
                  <a:lnTo>
                    <a:pt x="82" y="268"/>
                  </a:lnTo>
                  <a:lnTo>
                    <a:pt x="72" y="244"/>
                  </a:lnTo>
                  <a:lnTo>
                    <a:pt x="64" y="222"/>
                  </a:lnTo>
                  <a:lnTo>
                    <a:pt x="60" y="200"/>
                  </a:lnTo>
                  <a:lnTo>
                    <a:pt x="56" y="178"/>
                  </a:lnTo>
                  <a:lnTo>
                    <a:pt x="54" y="158"/>
                  </a:lnTo>
                  <a:lnTo>
                    <a:pt x="54" y="138"/>
                  </a:lnTo>
                  <a:lnTo>
                    <a:pt x="56" y="118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6" y="88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4"/>
                  </a:lnTo>
                  <a:lnTo>
                    <a:pt x="94" y="56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8" y="54"/>
                  </a:lnTo>
                  <a:lnTo>
                    <a:pt x="118" y="54"/>
                  </a:lnTo>
                  <a:lnTo>
                    <a:pt x="134" y="56"/>
                  </a:lnTo>
                  <a:lnTo>
                    <a:pt x="152" y="62"/>
                  </a:lnTo>
                  <a:lnTo>
                    <a:pt x="170" y="72"/>
                  </a:lnTo>
                  <a:lnTo>
                    <a:pt x="188" y="82"/>
                  </a:lnTo>
                  <a:lnTo>
                    <a:pt x="202" y="92"/>
                  </a:lnTo>
                  <a:lnTo>
                    <a:pt x="224" y="110"/>
                  </a:lnTo>
                  <a:lnTo>
                    <a:pt x="224" y="110"/>
                  </a:lnTo>
                  <a:lnTo>
                    <a:pt x="258" y="174"/>
                  </a:lnTo>
                  <a:lnTo>
                    <a:pt x="278" y="214"/>
                  </a:lnTo>
                  <a:lnTo>
                    <a:pt x="298" y="256"/>
                  </a:lnTo>
                  <a:lnTo>
                    <a:pt x="314" y="302"/>
                  </a:lnTo>
                  <a:lnTo>
                    <a:pt x="328" y="346"/>
                  </a:lnTo>
                  <a:lnTo>
                    <a:pt x="338" y="386"/>
                  </a:lnTo>
                  <a:lnTo>
                    <a:pt x="340" y="406"/>
                  </a:lnTo>
                  <a:lnTo>
                    <a:pt x="342" y="424"/>
                  </a:lnTo>
                  <a:lnTo>
                    <a:pt x="342" y="424"/>
                  </a:lnTo>
                  <a:lnTo>
                    <a:pt x="340" y="442"/>
                  </a:lnTo>
                  <a:lnTo>
                    <a:pt x="338" y="456"/>
                  </a:lnTo>
                  <a:lnTo>
                    <a:pt x="338" y="456"/>
                  </a:lnTo>
                  <a:lnTo>
                    <a:pt x="334" y="466"/>
                  </a:lnTo>
                  <a:lnTo>
                    <a:pt x="328" y="472"/>
                  </a:lnTo>
                  <a:lnTo>
                    <a:pt x="322" y="478"/>
                  </a:lnTo>
                  <a:lnTo>
                    <a:pt x="314" y="482"/>
                  </a:lnTo>
                  <a:lnTo>
                    <a:pt x="314" y="482"/>
                  </a:lnTo>
                  <a:lnTo>
                    <a:pt x="302" y="484"/>
                  </a:lnTo>
                  <a:lnTo>
                    <a:pt x="288" y="484"/>
                  </a:lnTo>
                  <a:lnTo>
                    <a:pt x="274" y="482"/>
                  </a:lnTo>
                  <a:lnTo>
                    <a:pt x="258" y="478"/>
                  </a:lnTo>
                  <a:lnTo>
                    <a:pt x="242" y="470"/>
                  </a:lnTo>
                  <a:lnTo>
                    <a:pt x="226" y="458"/>
                  </a:lnTo>
                  <a:lnTo>
                    <a:pt x="208" y="446"/>
                  </a:lnTo>
                  <a:lnTo>
                    <a:pt x="190" y="430"/>
                  </a:lnTo>
                  <a:lnTo>
                    <a:pt x="190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45"/>
            <p:cNvSpPr/>
            <p:nvPr/>
          </p:nvSpPr>
          <p:spPr>
            <a:xfrm>
              <a:off x="38408040" y="2943360"/>
              <a:ext cx="365040" cy="5014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30" h="316">
                  <a:moveTo>
                    <a:pt x="2" y="24"/>
                  </a:moveTo>
                  <a:lnTo>
                    <a:pt x="2" y="24"/>
                  </a:lnTo>
                  <a:lnTo>
                    <a:pt x="0" y="62"/>
                  </a:lnTo>
                  <a:lnTo>
                    <a:pt x="0" y="82"/>
                  </a:lnTo>
                  <a:lnTo>
                    <a:pt x="2" y="104"/>
                  </a:lnTo>
                  <a:lnTo>
                    <a:pt x="6" y="126"/>
                  </a:lnTo>
                  <a:lnTo>
                    <a:pt x="12" y="150"/>
                  </a:lnTo>
                  <a:lnTo>
                    <a:pt x="20" y="172"/>
                  </a:lnTo>
                  <a:lnTo>
                    <a:pt x="30" y="196"/>
                  </a:lnTo>
                  <a:lnTo>
                    <a:pt x="42" y="216"/>
                  </a:lnTo>
                  <a:lnTo>
                    <a:pt x="56" y="238"/>
                  </a:lnTo>
                  <a:lnTo>
                    <a:pt x="72" y="256"/>
                  </a:lnTo>
                  <a:lnTo>
                    <a:pt x="92" y="274"/>
                  </a:lnTo>
                  <a:lnTo>
                    <a:pt x="114" y="288"/>
                  </a:lnTo>
                  <a:lnTo>
                    <a:pt x="140" y="300"/>
                  </a:lnTo>
                  <a:lnTo>
                    <a:pt x="168" y="310"/>
                  </a:lnTo>
                  <a:lnTo>
                    <a:pt x="200" y="316"/>
                  </a:lnTo>
                  <a:lnTo>
                    <a:pt x="200" y="316"/>
                  </a:lnTo>
                  <a:lnTo>
                    <a:pt x="210" y="316"/>
                  </a:lnTo>
                  <a:lnTo>
                    <a:pt x="220" y="310"/>
                  </a:lnTo>
                  <a:lnTo>
                    <a:pt x="226" y="304"/>
                  </a:lnTo>
                  <a:lnTo>
                    <a:pt x="230" y="294"/>
                  </a:lnTo>
                  <a:lnTo>
                    <a:pt x="230" y="294"/>
                  </a:lnTo>
                  <a:lnTo>
                    <a:pt x="228" y="282"/>
                  </a:lnTo>
                  <a:lnTo>
                    <a:pt x="224" y="274"/>
                  </a:lnTo>
                  <a:lnTo>
                    <a:pt x="216" y="268"/>
                  </a:lnTo>
                  <a:lnTo>
                    <a:pt x="206" y="264"/>
                  </a:lnTo>
                  <a:lnTo>
                    <a:pt x="206" y="264"/>
                  </a:lnTo>
                  <a:lnTo>
                    <a:pt x="190" y="262"/>
                  </a:lnTo>
                  <a:lnTo>
                    <a:pt x="176" y="258"/>
                  </a:lnTo>
                  <a:lnTo>
                    <a:pt x="150" y="248"/>
                  </a:lnTo>
                  <a:lnTo>
                    <a:pt x="128" y="234"/>
                  </a:lnTo>
                  <a:lnTo>
                    <a:pt x="110" y="218"/>
                  </a:lnTo>
                  <a:lnTo>
                    <a:pt x="94" y="202"/>
                  </a:lnTo>
                  <a:lnTo>
                    <a:pt x="82" y="182"/>
                  </a:lnTo>
                  <a:lnTo>
                    <a:pt x="72" y="162"/>
                  </a:lnTo>
                  <a:lnTo>
                    <a:pt x="64" y="142"/>
                  </a:lnTo>
                  <a:lnTo>
                    <a:pt x="60" y="120"/>
                  </a:lnTo>
                  <a:lnTo>
                    <a:pt x="56" y="102"/>
                  </a:lnTo>
                  <a:lnTo>
                    <a:pt x="52" y="66"/>
                  </a:lnTo>
                  <a:lnTo>
                    <a:pt x="52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2" y="20"/>
                  </a:lnTo>
                  <a:lnTo>
                    <a:pt x="48" y="10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6"/>
            <p:cNvSpPr/>
            <p:nvPr/>
          </p:nvSpPr>
          <p:spPr>
            <a:xfrm>
              <a:off x="38563560" y="1533600"/>
              <a:ext cx="2133360" cy="287316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2873160"/>
                <a:gd name="textAreaBottom" fmla="*/ 2873520 h 2873160"/>
              </a:gdLst>
              <a:ahLst/>
              <a:rect l="textAreaLeft" t="textAreaTop" r="textAreaRight" b="textAreaBottom"/>
              <a:pathLst>
                <a:path w="1344" h="1810">
                  <a:moveTo>
                    <a:pt x="0" y="532"/>
                  </a:moveTo>
                  <a:lnTo>
                    <a:pt x="0" y="532"/>
                  </a:lnTo>
                  <a:lnTo>
                    <a:pt x="18" y="614"/>
                  </a:lnTo>
                  <a:lnTo>
                    <a:pt x="34" y="702"/>
                  </a:lnTo>
                  <a:lnTo>
                    <a:pt x="52" y="812"/>
                  </a:lnTo>
                  <a:lnTo>
                    <a:pt x="62" y="872"/>
                  </a:lnTo>
                  <a:lnTo>
                    <a:pt x="68" y="936"/>
                  </a:lnTo>
                  <a:lnTo>
                    <a:pt x="76" y="998"/>
                  </a:lnTo>
                  <a:lnTo>
                    <a:pt x="80" y="1062"/>
                  </a:lnTo>
                  <a:lnTo>
                    <a:pt x="84" y="1126"/>
                  </a:lnTo>
                  <a:lnTo>
                    <a:pt x="84" y="1186"/>
                  </a:lnTo>
                  <a:lnTo>
                    <a:pt x="82" y="1246"/>
                  </a:lnTo>
                  <a:lnTo>
                    <a:pt x="76" y="1300"/>
                  </a:lnTo>
                  <a:lnTo>
                    <a:pt x="76" y="1300"/>
                  </a:lnTo>
                  <a:lnTo>
                    <a:pt x="74" y="1326"/>
                  </a:lnTo>
                  <a:lnTo>
                    <a:pt x="76" y="1350"/>
                  </a:lnTo>
                  <a:lnTo>
                    <a:pt x="82" y="1376"/>
                  </a:lnTo>
                  <a:lnTo>
                    <a:pt x="90" y="1400"/>
                  </a:lnTo>
                  <a:lnTo>
                    <a:pt x="102" y="1426"/>
                  </a:lnTo>
                  <a:lnTo>
                    <a:pt x="116" y="1450"/>
                  </a:lnTo>
                  <a:lnTo>
                    <a:pt x="134" y="1472"/>
                  </a:lnTo>
                  <a:lnTo>
                    <a:pt x="152" y="1496"/>
                  </a:lnTo>
                  <a:lnTo>
                    <a:pt x="174" y="1518"/>
                  </a:lnTo>
                  <a:lnTo>
                    <a:pt x="196" y="1540"/>
                  </a:lnTo>
                  <a:lnTo>
                    <a:pt x="220" y="1562"/>
                  </a:lnTo>
                  <a:lnTo>
                    <a:pt x="246" y="1582"/>
                  </a:lnTo>
                  <a:lnTo>
                    <a:pt x="300" y="1622"/>
                  </a:lnTo>
                  <a:lnTo>
                    <a:pt x="358" y="1658"/>
                  </a:lnTo>
                  <a:lnTo>
                    <a:pt x="414" y="1692"/>
                  </a:lnTo>
                  <a:lnTo>
                    <a:pt x="470" y="1722"/>
                  </a:lnTo>
                  <a:lnTo>
                    <a:pt x="522" y="1748"/>
                  </a:lnTo>
                  <a:lnTo>
                    <a:pt x="570" y="1770"/>
                  </a:lnTo>
                  <a:lnTo>
                    <a:pt x="640" y="1800"/>
                  </a:lnTo>
                  <a:lnTo>
                    <a:pt x="666" y="1810"/>
                  </a:lnTo>
                  <a:lnTo>
                    <a:pt x="666" y="1810"/>
                  </a:lnTo>
                  <a:lnTo>
                    <a:pt x="686" y="1806"/>
                  </a:lnTo>
                  <a:lnTo>
                    <a:pt x="738" y="1794"/>
                  </a:lnTo>
                  <a:lnTo>
                    <a:pt x="772" y="1784"/>
                  </a:lnTo>
                  <a:lnTo>
                    <a:pt x="814" y="1768"/>
                  </a:lnTo>
                  <a:lnTo>
                    <a:pt x="858" y="1750"/>
                  </a:lnTo>
                  <a:lnTo>
                    <a:pt x="904" y="1728"/>
                  </a:lnTo>
                  <a:lnTo>
                    <a:pt x="954" y="1700"/>
                  </a:lnTo>
                  <a:lnTo>
                    <a:pt x="1004" y="1668"/>
                  </a:lnTo>
                  <a:lnTo>
                    <a:pt x="1028" y="1650"/>
                  </a:lnTo>
                  <a:lnTo>
                    <a:pt x="1052" y="1630"/>
                  </a:lnTo>
                  <a:lnTo>
                    <a:pt x="1076" y="1608"/>
                  </a:lnTo>
                  <a:lnTo>
                    <a:pt x="1100" y="1586"/>
                  </a:lnTo>
                  <a:lnTo>
                    <a:pt x="1124" y="1562"/>
                  </a:lnTo>
                  <a:lnTo>
                    <a:pt x="1146" y="1536"/>
                  </a:lnTo>
                  <a:lnTo>
                    <a:pt x="1168" y="1508"/>
                  </a:lnTo>
                  <a:lnTo>
                    <a:pt x="1188" y="1478"/>
                  </a:lnTo>
                  <a:lnTo>
                    <a:pt x="1208" y="1446"/>
                  </a:lnTo>
                  <a:lnTo>
                    <a:pt x="1226" y="1414"/>
                  </a:lnTo>
                  <a:lnTo>
                    <a:pt x="1242" y="1378"/>
                  </a:lnTo>
                  <a:lnTo>
                    <a:pt x="1258" y="1342"/>
                  </a:lnTo>
                  <a:lnTo>
                    <a:pt x="1258" y="1342"/>
                  </a:lnTo>
                  <a:lnTo>
                    <a:pt x="1270" y="1302"/>
                  </a:lnTo>
                  <a:lnTo>
                    <a:pt x="1284" y="1260"/>
                  </a:lnTo>
                  <a:lnTo>
                    <a:pt x="1296" y="1216"/>
                  </a:lnTo>
                  <a:lnTo>
                    <a:pt x="1306" y="1168"/>
                  </a:lnTo>
                  <a:lnTo>
                    <a:pt x="1316" y="1118"/>
                  </a:lnTo>
                  <a:lnTo>
                    <a:pt x="1324" y="1068"/>
                  </a:lnTo>
                  <a:lnTo>
                    <a:pt x="1332" y="1016"/>
                  </a:lnTo>
                  <a:lnTo>
                    <a:pt x="1338" y="962"/>
                  </a:lnTo>
                  <a:lnTo>
                    <a:pt x="1342" y="906"/>
                  </a:lnTo>
                  <a:lnTo>
                    <a:pt x="1344" y="852"/>
                  </a:lnTo>
                  <a:lnTo>
                    <a:pt x="1344" y="796"/>
                  </a:lnTo>
                  <a:lnTo>
                    <a:pt x="1342" y="740"/>
                  </a:lnTo>
                  <a:lnTo>
                    <a:pt x="1338" y="684"/>
                  </a:lnTo>
                  <a:lnTo>
                    <a:pt x="1332" y="628"/>
                  </a:lnTo>
                  <a:lnTo>
                    <a:pt x="1324" y="574"/>
                  </a:lnTo>
                  <a:lnTo>
                    <a:pt x="1314" y="520"/>
                  </a:lnTo>
                  <a:lnTo>
                    <a:pt x="1302" y="466"/>
                  </a:lnTo>
                  <a:lnTo>
                    <a:pt x="1286" y="416"/>
                  </a:lnTo>
                  <a:lnTo>
                    <a:pt x="1268" y="366"/>
                  </a:lnTo>
                  <a:lnTo>
                    <a:pt x="1248" y="318"/>
                  </a:lnTo>
                  <a:lnTo>
                    <a:pt x="1224" y="272"/>
                  </a:lnTo>
                  <a:lnTo>
                    <a:pt x="1196" y="230"/>
                  </a:lnTo>
                  <a:lnTo>
                    <a:pt x="1166" y="190"/>
                  </a:lnTo>
                  <a:lnTo>
                    <a:pt x="1134" y="154"/>
                  </a:lnTo>
                  <a:lnTo>
                    <a:pt x="1116" y="136"/>
                  </a:lnTo>
                  <a:lnTo>
                    <a:pt x="1098" y="120"/>
                  </a:lnTo>
                  <a:lnTo>
                    <a:pt x="1078" y="104"/>
                  </a:lnTo>
                  <a:lnTo>
                    <a:pt x="1058" y="90"/>
                  </a:lnTo>
                  <a:lnTo>
                    <a:pt x="1036" y="76"/>
                  </a:lnTo>
                  <a:lnTo>
                    <a:pt x="1014" y="64"/>
                  </a:lnTo>
                  <a:lnTo>
                    <a:pt x="992" y="52"/>
                  </a:lnTo>
                  <a:lnTo>
                    <a:pt x="968" y="42"/>
                  </a:lnTo>
                  <a:lnTo>
                    <a:pt x="944" y="32"/>
                  </a:lnTo>
                  <a:lnTo>
                    <a:pt x="918" y="24"/>
                  </a:lnTo>
                  <a:lnTo>
                    <a:pt x="890" y="16"/>
                  </a:lnTo>
                  <a:lnTo>
                    <a:pt x="864" y="10"/>
                  </a:lnTo>
                  <a:lnTo>
                    <a:pt x="834" y="6"/>
                  </a:lnTo>
                  <a:lnTo>
                    <a:pt x="806" y="2"/>
                  </a:lnTo>
                  <a:lnTo>
                    <a:pt x="774" y="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680" y="2"/>
                  </a:lnTo>
                  <a:lnTo>
                    <a:pt x="622" y="6"/>
                  </a:lnTo>
                  <a:lnTo>
                    <a:pt x="566" y="14"/>
                  </a:lnTo>
                  <a:lnTo>
                    <a:pt x="514" y="24"/>
                  </a:lnTo>
                  <a:lnTo>
                    <a:pt x="466" y="36"/>
                  </a:lnTo>
                  <a:lnTo>
                    <a:pt x="420" y="50"/>
                  </a:lnTo>
                  <a:lnTo>
                    <a:pt x="378" y="66"/>
                  </a:lnTo>
                  <a:lnTo>
                    <a:pt x="338" y="84"/>
                  </a:lnTo>
                  <a:lnTo>
                    <a:pt x="300" y="102"/>
                  </a:lnTo>
                  <a:lnTo>
                    <a:pt x="266" y="124"/>
                  </a:lnTo>
                  <a:lnTo>
                    <a:pt x="236" y="146"/>
                  </a:lnTo>
                  <a:lnTo>
                    <a:pt x="206" y="168"/>
                  </a:lnTo>
                  <a:lnTo>
                    <a:pt x="180" y="192"/>
                  </a:lnTo>
                  <a:lnTo>
                    <a:pt x="156" y="216"/>
                  </a:lnTo>
                  <a:lnTo>
                    <a:pt x="134" y="242"/>
                  </a:lnTo>
                  <a:lnTo>
                    <a:pt x="114" y="266"/>
                  </a:lnTo>
                  <a:lnTo>
                    <a:pt x="96" y="292"/>
                  </a:lnTo>
                  <a:lnTo>
                    <a:pt x="80" y="316"/>
                  </a:lnTo>
                  <a:lnTo>
                    <a:pt x="66" y="340"/>
                  </a:lnTo>
                  <a:lnTo>
                    <a:pt x="54" y="364"/>
                  </a:lnTo>
                  <a:lnTo>
                    <a:pt x="34" y="410"/>
                  </a:lnTo>
                  <a:lnTo>
                    <a:pt x="20" y="450"/>
                  </a:lnTo>
                  <a:lnTo>
                    <a:pt x="10" y="484"/>
                  </a:lnTo>
                  <a:lnTo>
                    <a:pt x="4" y="510"/>
                  </a:lnTo>
                  <a:lnTo>
                    <a:pt x="0" y="532"/>
                  </a:lnTo>
                  <a:lnTo>
                    <a:pt x="0" y="532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7"/>
            <p:cNvSpPr/>
            <p:nvPr/>
          </p:nvSpPr>
          <p:spPr>
            <a:xfrm>
              <a:off x="38522160" y="1492200"/>
              <a:ext cx="2216160" cy="2955960"/>
            </a:xfrm>
            <a:custGeom>
              <a:avLst/>
              <a:gdLst>
                <a:gd name="textAreaLeft" fmla="*/ 0 w 2216160"/>
                <a:gd name="textAreaRight" fmla="*/ 2216520 w 2216160"/>
                <a:gd name="textAreaTop" fmla="*/ 0 h 2955960"/>
                <a:gd name="textAreaBottom" fmla="*/ 2956320 h 2955960"/>
              </a:gdLst>
              <a:ahLst/>
              <a:rect l="textAreaLeft" t="textAreaTop" r="textAreaRight" b="textAreaBottom"/>
              <a:pathLst>
                <a:path w="1396" h="1862">
                  <a:moveTo>
                    <a:pt x="0" y="556"/>
                  </a:moveTo>
                  <a:lnTo>
                    <a:pt x="0" y="556"/>
                  </a:lnTo>
                  <a:lnTo>
                    <a:pt x="0" y="564"/>
                  </a:lnTo>
                  <a:lnTo>
                    <a:pt x="0" y="564"/>
                  </a:lnTo>
                  <a:lnTo>
                    <a:pt x="18" y="648"/>
                  </a:lnTo>
                  <a:lnTo>
                    <a:pt x="34" y="736"/>
                  </a:lnTo>
                  <a:lnTo>
                    <a:pt x="52" y="844"/>
                  </a:lnTo>
                  <a:lnTo>
                    <a:pt x="68" y="966"/>
                  </a:lnTo>
                  <a:lnTo>
                    <a:pt x="76" y="1028"/>
                  </a:lnTo>
                  <a:lnTo>
                    <a:pt x="80" y="1090"/>
                  </a:lnTo>
                  <a:lnTo>
                    <a:pt x="84" y="1152"/>
                  </a:lnTo>
                  <a:lnTo>
                    <a:pt x="84" y="1212"/>
                  </a:lnTo>
                  <a:lnTo>
                    <a:pt x="82" y="1270"/>
                  </a:lnTo>
                  <a:lnTo>
                    <a:pt x="76" y="1322"/>
                  </a:lnTo>
                  <a:lnTo>
                    <a:pt x="76" y="1322"/>
                  </a:lnTo>
                  <a:lnTo>
                    <a:pt x="74" y="1350"/>
                  </a:lnTo>
                  <a:lnTo>
                    <a:pt x="76" y="1376"/>
                  </a:lnTo>
                  <a:lnTo>
                    <a:pt x="82" y="1402"/>
                  </a:lnTo>
                  <a:lnTo>
                    <a:pt x="90" y="1430"/>
                  </a:lnTo>
                  <a:lnTo>
                    <a:pt x="100" y="1454"/>
                  </a:lnTo>
                  <a:lnTo>
                    <a:pt x="114" y="1480"/>
                  </a:lnTo>
                  <a:lnTo>
                    <a:pt x="132" y="1504"/>
                  </a:lnTo>
                  <a:lnTo>
                    <a:pt x="150" y="1528"/>
                  </a:lnTo>
                  <a:lnTo>
                    <a:pt x="172" y="1552"/>
                  </a:lnTo>
                  <a:lnTo>
                    <a:pt x="194" y="1576"/>
                  </a:lnTo>
                  <a:lnTo>
                    <a:pt x="218" y="1598"/>
                  </a:lnTo>
                  <a:lnTo>
                    <a:pt x="244" y="1620"/>
                  </a:lnTo>
                  <a:lnTo>
                    <a:pt x="298" y="1660"/>
                  </a:lnTo>
                  <a:lnTo>
                    <a:pt x="354" y="1698"/>
                  </a:lnTo>
                  <a:lnTo>
                    <a:pt x="412" y="1732"/>
                  </a:lnTo>
                  <a:lnTo>
                    <a:pt x="470" y="1764"/>
                  </a:lnTo>
                  <a:lnTo>
                    <a:pt x="522" y="1790"/>
                  </a:lnTo>
                  <a:lnTo>
                    <a:pt x="572" y="1814"/>
                  </a:lnTo>
                  <a:lnTo>
                    <a:pt x="648" y="1848"/>
                  </a:lnTo>
                  <a:lnTo>
                    <a:pt x="684" y="1862"/>
                  </a:lnTo>
                  <a:lnTo>
                    <a:pt x="684" y="1862"/>
                  </a:lnTo>
                  <a:lnTo>
                    <a:pt x="690" y="1862"/>
                  </a:lnTo>
                  <a:lnTo>
                    <a:pt x="696" y="1862"/>
                  </a:lnTo>
                  <a:lnTo>
                    <a:pt x="696" y="1862"/>
                  </a:lnTo>
                  <a:lnTo>
                    <a:pt x="718" y="1858"/>
                  </a:lnTo>
                  <a:lnTo>
                    <a:pt x="772" y="1844"/>
                  </a:lnTo>
                  <a:lnTo>
                    <a:pt x="808" y="1834"/>
                  </a:lnTo>
                  <a:lnTo>
                    <a:pt x="850" y="1818"/>
                  </a:lnTo>
                  <a:lnTo>
                    <a:pt x="896" y="1798"/>
                  </a:lnTo>
                  <a:lnTo>
                    <a:pt x="946" y="1774"/>
                  </a:lnTo>
                  <a:lnTo>
                    <a:pt x="996" y="1746"/>
                  </a:lnTo>
                  <a:lnTo>
                    <a:pt x="1046" y="1712"/>
                  </a:lnTo>
                  <a:lnTo>
                    <a:pt x="1072" y="1694"/>
                  </a:lnTo>
                  <a:lnTo>
                    <a:pt x="1098" y="1674"/>
                  </a:lnTo>
                  <a:lnTo>
                    <a:pt x="1122" y="1652"/>
                  </a:lnTo>
                  <a:lnTo>
                    <a:pt x="1148" y="1628"/>
                  </a:lnTo>
                  <a:lnTo>
                    <a:pt x="1170" y="1602"/>
                  </a:lnTo>
                  <a:lnTo>
                    <a:pt x="1194" y="1576"/>
                  </a:lnTo>
                  <a:lnTo>
                    <a:pt x="1216" y="1548"/>
                  </a:lnTo>
                  <a:lnTo>
                    <a:pt x="1236" y="1516"/>
                  </a:lnTo>
                  <a:lnTo>
                    <a:pt x="1256" y="1484"/>
                  </a:lnTo>
                  <a:lnTo>
                    <a:pt x="1276" y="1450"/>
                  </a:lnTo>
                  <a:lnTo>
                    <a:pt x="1292" y="1416"/>
                  </a:lnTo>
                  <a:lnTo>
                    <a:pt x="1308" y="1378"/>
                  </a:lnTo>
                  <a:lnTo>
                    <a:pt x="1308" y="1378"/>
                  </a:lnTo>
                  <a:lnTo>
                    <a:pt x="1326" y="1322"/>
                  </a:lnTo>
                  <a:lnTo>
                    <a:pt x="1344" y="1262"/>
                  </a:lnTo>
                  <a:lnTo>
                    <a:pt x="1358" y="1198"/>
                  </a:lnTo>
                  <a:lnTo>
                    <a:pt x="1372" y="1128"/>
                  </a:lnTo>
                  <a:lnTo>
                    <a:pt x="1382" y="1056"/>
                  </a:lnTo>
                  <a:lnTo>
                    <a:pt x="1390" y="980"/>
                  </a:lnTo>
                  <a:lnTo>
                    <a:pt x="1394" y="902"/>
                  </a:lnTo>
                  <a:lnTo>
                    <a:pt x="1396" y="824"/>
                  </a:lnTo>
                  <a:lnTo>
                    <a:pt x="1392" y="744"/>
                  </a:lnTo>
                  <a:lnTo>
                    <a:pt x="1386" y="664"/>
                  </a:lnTo>
                  <a:lnTo>
                    <a:pt x="1374" y="586"/>
                  </a:lnTo>
                  <a:lnTo>
                    <a:pt x="1368" y="548"/>
                  </a:lnTo>
                  <a:lnTo>
                    <a:pt x="1358" y="510"/>
                  </a:lnTo>
                  <a:lnTo>
                    <a:pt x="1348" y="472"/>
                  </a:lnTo>
                  <a:lnTo>
                    <a:pt x="1338" y="436"/>
                  </a:lnTo>
                  <a:lnTo>
                    <a:pt x="1326" y="400"/>
                  </a:lnTo>
                  <a:lnTo>
                    <a:pt x="1312" y="366"/>
                  </a:lnTo>
                  <a:lnTo>
                    <a:pt x="1296" y="332"/>
                  </a:lnTo>
                  <a:lnTo>
                    <a:pt x="1280" y="300"/>
                  </a:lnTo>
                  <a:lnTo>
                    <a:pt x="1262" y="268"/>
                  </a:lnTo>
                  <a:lnTo>
                    <a:pt x="1242" y="238"/>
                  </a:lnTo>
                  <a:lnTo>
                    <a:pt x="1242" y="238"/>
                  </a:lnTo>
                  <a:lnTo>
                    <a:pt x="1220" y="208"/>
                  </a:lnTo>
                  <a:lnTo>
                    <a:pt x="1198" y="182"/>
                  </a:lnTo>
                  <a:lnTo>
                    <a:pt x="1176" y="156"/>
                  </a:lnTo>
                  <a:lnTo>
                    <a:pt x="1150" y="134"/>
                  </a:lnTo>
                  <a:lnTo>
                    <a:pt x="1124" y="112"/>
                  </a:lnTo>
                  <a:lnTo>
                    <a:pt x="1098" y="92"/>
                  </a:lnTo>
                  <a:lnTo>
                    <a:pt x="1070" y="76"/>
                  </a:lnTo>
                  <a:lnTo>
                    <a:pt x="1042" y="60"/>
                  </a:lnTo>
                  <a:lnTo>
                    <a:pt x="1012" y="46"/>
                  </a:lnTo>
                  <a:lnTo>
                    <a:pt x="980" y="34"/>
                  </a:lnTo>
                  <a:lnTo>
                    <a:pt x="948" y="24"/>
                  </a:lnTo>
                  <a:lnTo>
                    <a:pt x="914" y="14"/>
                  </a:lnTo>
                  <a:lnTo>
                    <a:pt x="880" y="8"/>
                  </a:lnTo>
                  <a:lnTo>
                    <a:pt x="844" y="4"/>
                  </a:lnTo>
                  <a:lnTo>
                    <a:pt x="806" y="0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704" y="2"/>
                  </a:lnTo>
                  <a:lnTo>
                    <a:pt x="644" y="6"/>
                  </a:lnTo>
                  <a:lnTo>
                    <a:pt x="588" y="14"/>
                  </a:lnTo>
                  <a:lnTo>
                    <a:pt x="534" y="24"/>
                  </a:lnTo>
                  <a:lnTo>
                    <a:pt x="484" y="36"/>
                  </a:lnTo>
                  <a:lnTo>
                    <a:pt x="438" y="50"/>
                  </a:lnTo>
                  <a:lnTo>
                    <a:pt x="394" y="68"/>
                  </a:lnTo>
                  <a:lnTo>
                    <a:pt x="354" y="86"/>
                  </a:lnTo>
                  <a:lnTo>
                    <a:pt x="316" y="106"/>
                  </a:lnTo>
                  <a:lnTo>
                    <a:pt x="280" y="128"/>
                  </a:lnTo>
                  <a:lnTo>
                    <a:pt x="248" y="150"/>
                  </a:lnTo>
                  <a:lnTo>
                    <a:pt x="218" y="174"/>
                  </a:lnTo>
                  <a:lnTo>
                    <a:pt x="190" y="200"/>
                  </a:lnTo>
                  <a:lnTo>
                    <a:pt x="166" y="224"/>
                  </a:lnTo>
                  <a:lnTo>
                    <a:pt x="142" y="250"/>
                  </a:lnTo>
                  <a:lnTo>
                    <a:pt x="122" y="276"/>
                  </a:lnTo>
                  <a:lnTo>
                    <a:pt x="104" y="302"/>
                  </a:lnTo>
                  <a:lnTo>
                    <a:pt x="86" y="328"/>
                  </a:lnTo>
                  <a:lnTo>
                    <a:pt x="72" y="352"/>
                  </a:lnTo>
                  <a:lnTo>
                    <a:pt x="58" y="378"/>
                  </a:lnTo>
                  <a:lnTo>
                    <a:pt x="38" y="424"/>
                  </a:lnTo>
                  <a:lnTo>
                    <a:pt x="22" y="466"/>
                  </a:lnTo>
                  <a:lnTo>
                    <a:pt x="12" y="502"/>
                  </a:lnTo>
                  <a:lnTo>
                    <a:pt x="4" y="530"/>
                  </a:lnTo>
                  <a:lnTo>
                    <a:pt x="0" y="556"/>
                  </a:lnTo>
                  <a:lnTo>
                    <a:pt x="0" y="556"/>
                  </a:lnTo>
                  <a:close/>
                  <a:moveTo>
                    <a:pt x="768" y="52"/>
                  </a:moveTo>
                  <a:lnTo>
                    <a:pt x="768" y="52"/>
                  </a:lnTo>
                  <a:lnTo>
                    <a:pt x="804" y="54"/>
                  </a:lnTo>
                  <a:lnTo>
                    <a:pt x="836" y="56"/>
                  </a:lnTo>
                  <a:lnTo>
                    <a:pt x="870" y="60"/>
                  </a:lnTo>
                  <a:lnTo>
                    <a:pt x="900" y="66"/>
                  </a:lnTo>
                  <a:lnTo>
                    <a:pt x="932" y="74"/>
                  </a:lnTo>
                  <a:lnTo>
                    <a:pt x="960" y="82"/>
                  </a:lnTo>
                  <a:lnTo>
                    <a:pt x="990" y="94"/>
                  </a:lnTo>
                  <a:lnTo>
                    <a:pt x="1016" y="106"/>
                  </a:lnTo>
                  <a:lnTo>
                    <a:pt x="1044" y="120"/>
                  </a:lnTo>
                  <a:lnTo>
                    <a:pt x="1068" y="136"/>
                  </a:lnTo>
                  <a:lnTo>
                    <a:pt x="1092" y="154"/>
                  </a:lnTo>
                  <a:lnTo>
                    <a:pt x="1116" y="174"/>
                  </a:lnTo>
                  <a:lnTo>
                    <a:pt x="1138" y="194"/>
                  </a:lnTo>
                  <a:lnTo>
                    <a:pt x="1160" y="216"/>
                  </a:lnTo>
                  <a:lnTo>
                    <a:pt x="1180" y="242"/>
                  </a:lnTo>
                  <a:lnTo>
                    <a:pt x="1198" y="268"/>
                  </a:lnTo>
                  <a:lnTo>
                    <a:pt x="1198" y="268"/>
                  </a:lnTo>
                  <a:lnTo>
                    <a:pt x="1218" y="296"/>
                  </a:lnTo>
                  <a:lnTo>
                    <a:pt x="1236" y="328"/>
                  </a:lnTo>
                  <a:lnTo>
                    <a:pt x="1252" y="358"/>
                  </a:lnTo>
                  <a:lnTo>
                    <a:pt x="1266" y="392"/>
                  </a:lnTo>
                  <a:lnTo>
                    <a:pt x="1280" y="426"/>
                  </a:lnTo>
                  <a:lnTo>
                    <a:pt x="1290" y="460"/>
                  </a:lnTo>
                  <a:lnTo>
                    <a:pt x="1302" y="496"/>
                  </a:lnTo>
                  <a:lnTo>
                    <a:pt x="1310" y="532"/>
                  </a:lnTo>
                  <a:lnTo>
                    <a:pt x="1318" y="570"/>
                  </a:lnTo>
                  <a:lnTo>
                    <a:pt x="1326" y="608"/>
                  </a:lnTo>
                  <a:lnTo>
                    <a:pt x="1336" y="684"/>
                  </a:lnTo>
                  <a:lnTo>
                    <a:pt x="1342" y="760"/>
                  </a:lnTo>
                  <a:lnTo>
                    <a:pt x="1344" y="838"/>
                  </a:lnTo>
                  <a:lnTo>
                    <a:pt x="1344" y="838"/>
                  </a:lnTo>
                  <a:lnTo>
                    <a:pt x="1342" y="912"/>
                  </a:lnTo>
                  <a:lnTo>
                    <a:pt x="1338" y="986"/>
                  </a:lnTo>
                  <a:lnTo>
                    <a:pt x="1330" y="1056"/>
                  </a:lnTo>
                  <a:lnTo>
                    <a:pt x="1320" y="1124"/>
                  </a:lnTo>
                  <a:lnTo>
                    <a:pt x="1306" y="1190"/>
                  </a:lnTo>
                  <a:lnTo>
                    <a:pt x="1292" y="1250"/>
                  </a:lnTo>
                  <a:lnTo>
                    <a:pt x="1276" y="1308"/>
                  </a:lnTo>
                  <a:lnTo>
                    <a:pt x="1258" y="1358"/>
                  </a:lnTo>
                  <a:lnTo>
                    <a:pt x="1258" y="1358"/>
                  </a:lnTo>
                  <a:lnTo>
                    <a:pt x="1244" y="1392"/>
                  </a:lnTo>
                  <a:lnTo>
                    <a:pt x="1230" y="1424"/>
                  </a:lnTo>
                  <a:lnTo>
                    <a:pt x="1214" y="1454"/>
                  </a:lnTo>
                  <a:lnTo>
                    <a:pt x="1196" y="1484"/>
                  </a:lnTo>
                  <a:lnTo>
                    <a:pt x="1178" y="1510"/>
                  </a:lnTo>
                  <a:lnTo>
                    <a:pt x="1158" y="1536"/>
                  </a:lnTo>
                  <a:lnTo>
                    <a:pt x="1138" y="1562"/>
                  </a:lnTo>
                  <a:lnTo>
                    <a:pt x="1116" y="1584"/>
                  </a:lnTo>
                  <a:lnTo>
                    <a:pt x="1096" y="1606"/>
                  </a:lnTo>
                  <a:lnTo>
                    <a:pt x="1074" y="1626"/>
                  </a:lnTo>
                  <a:lnTo>
                    <a:pt x="1028" y="1662"/>
                  </a:lnTo>
                  <a:lnTo>
                    <a:pt x="984" y="1694"/>
                  </a:lnTo>
                  <a:lnTo>
                    <a:pt x="938" y="1720"/>
                  </a:lnTo>
                  <a:lnTo>
                    <a:pt x="894" y="1742"/>
                  </a:lnTo>
                  <a:lnTo>
                    <a:pt x="852" y="1762"/>
                  </a:lnTo>
                  <a:lnTo>
                    <a:pt x="814" y="1776"/>
                  </a:lnTo>
                  <a:lnTo>
                    <a:pt x="778" y="1788"/>
                  </a:lnTo>
                  <a:lnTo>
                    <a:pt x="748" y="1796"/>
                  </a:lnTo>
                  <a:lnTo>
                    <a:pt x="724" y="1804"/>
                  </a:lnTo>
                  <a:lnTo>
                    <a:pt x="696" y="1810"/>
                  </a:lnTo>
                  <a:lnTo>
                    <a:pt x="696" y="1810"/>
                  </a:lnTo>
                  <a:lnTo>
                    <a:pt x="622" y="1780"/>
                  </a:lnTo>
                  <a:lnTo>
                    <a:pt x="580" y="1760"/>
                  </a:lnTo>
                  <a:lnTo>
                    <a:pt x="536" y="1738"/>
                  </a:lnTo>
                  <a:lnTo>
                    <a:pt x="490" y="1714"/>
                  </a:lnTo>
                  <a:lnTo>
                    <a:pt x="442" y="1688"/>
                  </a:lnTo>
                  <a:lnTo>
                    <a:pt x="394" y="1660"/>
                  </a:lnTo>
                  <a:lnTo>
                    <a:pt x="348" y="1630"/>
                  </a:lnTo>
                  <a:lnTo>
                    <a:pt x="304" y="1600"/>
                  </a:lnTo>
                  <a:lnTo>
                    <a:pt x="262" y="1566"/>
                  </a:lnTo>
                  <a:lnTo>
                    <a:pt x="224" y="1532"/>
                  </a:lnTo>
                  <a:lnTo>
                    <a:pt x="192" y="1496"/>
                  </a:lnTo>
                  <a:lnTo>
                    <a:pt x="178" y="1478"/>
                  </a:lnTo>
                  <a:lnTo>
                    <a:pt x="164" y="1460"/>
                  </a:lnTo>
                  <a:lnTo>
                    <a:pt x="154" y="1442"/>
                  </a:lnTo>
                  <a:lnTo>
                    <a:pt x="144" y="1424"/>
                  </a:lnTo>
                  <a:lnTo>
                    <a:pt x="136" y="1406"/>
                  </a:lnTo>
                  <a:lnTo>
                    <a:pt x="132" y="1386"/>
                  </a:lnTo>
                  <a:lnTo>
                    <a:pt x="128" y="1368"/>
                  </a:lnTo>
                  <a:lnTo>
                    <a:pt x="126" y="1350"/>
                  </a:lnTo>
                  <a:lnTo>
                    <a:pt x="126" y="1350"/>
                  </a:lnTo>
                  <a:lnTo>
                    <a:pt x="128" y="1328"/>
                  </a:lnTo>
                  <a:lnTo>
                    <a:pt x="128" y="1328"/>
                  </a:lnTo>
                  <a:lnTo>
                    <a:pt x="132" y="1298"/>
                  </a:lnTo>
                  <a:lnTo>
                    <a:pt x="134" y="1264"/>
                  </a:lnTo>
                  <a:lnTo>
                    <a:pt x="136" y="1194"/>
                  </a:lnTo>
                  <a:lnTo>
                    <a:pt x="136" y="1194"/>
                  </a:lnTo>
                  <a:lnTo>
                    <a:pt x="136" y="1144"/>
                  </a:lnTo>
                  <a:lnTo>
                    <a:pt x="134" y="1092"/>
                  </a:lnTo>
                  <a:lnTo>
                    <a:pt x="124" y="988"/>
                  </a:lnTo>
                  <a:lnTo>
                    <a:pt x="112" y="884"/>
                  </a:lnTo>
                  <a:lnTo>
                    <a:pt x="98" y="788"/>
                  </a:lnTo>
                  <a:lnTo>
                    <a:pt x="82" y="704"/>
                  </a:lnTo>
                  <a:lnTo>
                    <a:pt x="70" y="634"/>
                  </a:lnTo>
                  <a:lnTo>
                    <a:pt x="52" y="558"/>
                  </a:lnTo>
                  <a:lnTo>
                    <a:pt x="52" y="558"/>
                  </a:lnTo>
                  <a:lnTo>
                    <a:pt x="60" y="524"/>
                  </a:lnTo>
                  <a:lnTo>
                    <a:pt x="66" y="494"/>
                  </a:lnTo>
                  <a:lnTo>
                    <a:pt x="78" y="460"/>
                  </a:lnTo>
                  <a:lnTo>
                    <a:pt x="94" y="420"/>
                  </a:lnTo>
                  <a:lnTo>
                    <a:pt x="114" y="378"/>
                  </a:lnTo>
                  <a:lnTo>
                    <a:pt x="128" y="356"/>
                  </a:lnTo>
                  <a:lnTo>
                    <a:pt x="142" y="334"/>
                  </a:lnTo>
                  <a:lnTo>
                    <a:pt x="158" y="312"/>
                  </a:lnTo>
                  <a:lnTo>
                    <a:pt x="174" y="288"/>
                  </a:lnTo>
                  <a:lnTo>
                    <a:pt x="194" y="266"/>
                  </a:lnTo>
                  <a:lnTo>
                    <a:pt x="216" y="244"/>
                  </a:lnTo>
                  <a:lnTo>
                    <a:pt x="240" y="222"/>
                  </a:lnTo>
                  <a:lnTo>
                    <a:pt x="264" y="200"/>
                  </a:lnTo>
                  <a:lnTo>
                    <a:pt x="292" y="180"/>
                  </a:lnTo>
                  <a:lnTo>
                    <a:pt x="322" y="160"/>
                  </a:lnTo>
                  <a:lnTo>
                    <a:pt x="356" y="142"/>
                  </a:lnTo>
                  <a:lnTo>
                    <a:pt x="390" y="126"/>
                  </a:lnTo>
                  <a:lnTo>
                    <a:pt x="428" y="110"/>
                  </a:lnTo>
                  <a:lnTo>
                    <a:pt x="468" y="96"/>
                  </a:lnTo>
                  <a:lnTo>
                    <a:pt x="510" y="82"/>
                  </a:lnTo>
                  <a:lnTo>
                    <a:pt x="556" y="72"/>
                  </a:lnTo>
                  <a:lnTo>
                    <a:pt x="604" y="64"/>
                  </a:lnTo>
                  <a:lnTo>
                    <a:pt x="656" y="58"/>
                  </a:lnTo>
                  <a:lnTo>
                    <a:pt x="710" y="54"/>
                  </a:lnTo>
                  <a:lnTo>
                    <a:pt x="768" y="52"/>
                  </a:lnTo>
                  <a:lnTo>
                    <a:pt x="76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8"/>
            <p:cNvSpPr/>
            <p:nvPr/>
          </p:nvSpPr>
          <p:spPr>
            <a:xfrm>
              <a:off x="39357360" y="3193920"/>
              <a:ext cx="266400" cy="625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68" h="394">
                  <a:moveTo>
                    <a:pt x="136" y="0"/>
                  </a:moveTo>
                  <a:lnTo>
                    <a:pt x="136" y="0"/>
                  </a:lnTo>
                  <a:lnTo>
                    <a:pt x="126" y="4"/>
                  </a:lnTo>
                  <a:lnTo>
                    <a:pt x="118" y="10"/>
                  </a:lnTo>
                  <a:lnTo>
                    <a:pt x="114" y="20"/>
                  </a:lnTo>
                  <a:lnTo>
                    <a:pt x="114" y="30"/>
                  </a:lnTo>
                  <a:lnTo>
                    <a:pt x="114" y="30"/>
                  </a:lnTo>
                  <a:lnTo>
                    <a:pt x="116" y="60"/>
                  </a:lnTo>
                  <a:lnTo>
                    <a:pt x="114" y="82"/>
                  </a:lnTo>
                  <a:lnTo>
                    <a:pt x="112" y="104"/>
                  </a:lnTo>
                  <a:lnTo>
                    <a:pt x="110" y="126"/>
                  </a:lnTo>
                  <a:lnTo>
                    <a:pt x="104" y="148"/>
                  </a:lnTo>
                  <a:lnTo>
                    <a:pt x="94" y="166"/>
                  </a:lnTo>
                  <a:lnTo>
                    <a:pt x="90" y="176"/>
                  </a:lnTo>
                  <a:lnTo>
                    <a:pt x="84" y="182"/>
                  </a:lnTo>
                  <a:lnTo>
                    <a:pt x="84" y="182"/>
                  </a:lnTo>
                  <a:lnTo>
                    <a:pt x="72" y="192"/>
                  </a:lnTo>
                  <a:lnTo>
                    <a:pt x="58" y="198"/>
                  </a:lnTo>
                  <a:lnTo>
                    <a:pt x="44" y="202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20" y="202"/>
                  </a:lnTo>
                  <a:lnTo>
                    <a:pt x="12" y="206"/>
                  </a:lnTo>
                  <a:lnTo>
                    <a:pt x="6" y="210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2" y="238"/>
                  </a:lnTo>
                  <a:lnTo>
                    <a:pt x="6" y="244"/>
                  </a:lnTo>
                  <a:lnTo>
                    <a:pt x="118" y="386"/>
                  </a:lnTo>
                  <a:lnTo>
                    <a:pt x="118" y="386"/>
                  </a:lnTo>
                  <a:lnTo>
                    <a:pt x="128" y="392"/>
                  </a:lnTo>
                  <a:lnTo>
                    <a:pt x="136" y="394"/>
                  </a:lnTo>
                  <a:lnTo>
                    <a:pt x="146" y="394"/>
                  </a:lnTo>
                  <a:lnTo>
                    <a:pt x="156" y="390"/>
                  </a:lnTo>
                  <a:lnTo>
                    <a:pt x="156" y="390"/>
                  </a:lnTo>
                  <a:lnTo>
                    <a:pt x="160" y="384"/>
                  </a:lnTo>
                  <a:lnTo>
                    <a:pt x="164" y="380"/>
                  </a:lnTo>
                  <a:lnTo>
                    <a:pt x="166" y="374"/>
                  </a:lnTo>
                  <a:lnTo>
                    <a:pt x="166" y="368"/>
                  </a:lnTo>
                  <a:lnTo>
                    <a:pt x="166" y="368"/>
                  </a:lnTo>
                  <a:lnTo>
                    <a:pt x="164" y="360"/>
                  </a:lnTo>
                  <a:lnTo>
                    <a:pt x="160" y="352"/>
                  </a:lnTo>
                  <a:lnTo>
                    <a:pt x="160" y="352"/>
                  </a:lnTo>
                  <a:lnTo>
                    <a:pt x="74" y="248"/>
                  </a:lnTo>
                  <a:lnTo>
                    <a:pt x="74" y="248"/>
                  </a:lnTo>
                  <a:lnTo>
                    <a:pt x="88" y="242"/>
                  </a:lnTo>
                  <a:lnTo>
                    <a:pt x="100" y="236"/>
                  </a:lnTo>
                  <a:lnTo>
                    <a:pt x="112" y="228"/>
                  </a:lnTo>
                  <a:lnTo>
                    <a:pt x="122" y="218"/>
                  </a:lnTo>
                  <a:lnTo>
                    <a:pt x="122" y="218"/>
                  </a:lnTo>
                  <a:lnTo>
                    <a:pt x="134" y="202"/>
                  </a:lnTo>
                  <a:lnTo>
                    <a:pt x="146" y="184"/>
                  </a:lnTo>
                  <a:lnTo>
                    <a:pt x="154" y="164"/>
                  </a:lnTo>
                  <a:lnTo>
                    <a:pt x="160" y="142"/>
                  </a:lnTo>
                  <a:lnTo>
                    <a:pt x="164" y="122"/>
                  </a:lnTo>
                  <a:lnTo>
                    <a:pt x="166" y="102"/>
                  </a:lnTo>
                  <a:lnTo>
                    <a:pt x="168" y="64"/>
                  </a:lnTo>
                  <a:lnTo>
                    <a:pt x="168" y="64"/>
                  </a:lnTo>
                  <a:lnTo>
                    <a:pt x="166" y="36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2" y="14"/>
                  </a:lnTo>
                  <a:lnTo>
                    <a:pt x="156" y="6"/>
                  </a:lnTo>
                  <a:lnTo>
                    <a:pt x="146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49"/>
            <p:cNvSpPr/>
            <p:nvPr/>
          </p:nvSpPr>
          <p:spPr>
            <a:xfrm>
              <a:off x="39287520" y="3933720"/>
              <a:ext cx="765000" cy="16164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82" h="102">
                  <a:moveTo>
                    <a:pt x="4" y="12"/>
                  </a:moveTo>
                  <a:lnTo>
                    <a:pt x="4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2" y="54"/>
                  </a:lnTo>
                  <a:lnTo>
                    <a:pt x="48" y="66"/>
                  </a:lnTo>
                  <a:lnTo>
                    <a:pt x="90" y="80"/>
                  </a:lnTo>
                  <a:lnTo>
                    <a:pt x="114" y="86"/>
                  </a:lnTo>
                  <a:lnTo>
                    <a:pt x="142" y="92"/>
                  </a:lnTo>
                  <a:lnTo>
                    <a:pt x="174" y="98"/>
                  </a:lnTo>
                  <a:lnTo>
                    <a:pt x="208" y="100"/>
                  </a:lnTo>
                  <a:lnTo>
                    <a:pt x="244" y="102"/>
                  </a:lnTo>
                  <a:lnTo>
                    <a:pt x="284" y="100"/>
                  </a:lnTo>
                  <a:lnTo>
                    <a:pt x="326" y="96"/>
                  </a:lnTo>
                  <a:lnTo>
                    <a:pt x="370" y="88"/>
                  </a:lnTo>
                  <a:lnTo>
                    <a:pt x="416" y="76"/>
                  </a:lnTo>
                  <a:lnTo>
                    <a:pt x="464" y="58"/>
                  </a:lnTo>
                  <a:lnTo>
                    <a:pt x="464" y="58"/>
                  </a:lnTo>
                  <a:lnTo>
                    <a:pt x="474" y="54"/>
                  </a:lnTo>
                  <a:lnTo>
                    <a:pt x="480" y="44"/>
                  </a:lnTo>
                  <a:lnTo>
                    <a:pt x="482" y="36"/>
                  </a:lnTo>
                  <a:lnTo>
                    <a:pt x="480" y="24"/>
                  </a:lnTo>
                  <a:lnTo>
                    <a:pt x="480" y="24"/>
                  </a:lnTo>
                  <a:lnTo>
                    <a:pt x="474" y="16"/>
                  </a:lnTo>
                  <a:lnTo>
                    <a:pt x="466" y="10"/>
                  </a:lnTo>
                  <a:lnTo>
                    <a:pt x="456" y="8"/>
                  </a:lnTo>
                  <a:lnTo>
                    <a:pt x="446" y="10"/>
                  </a:lnTo>
                  <a:lnTo>
                    <a:pt x="446" y="10"/>
                  </a:lnTo>
                  <a:lnTo>
                    <a:pt x="402" y="24"/>
                  </a:lnTo>
                  <a:lnTo>
                    <a:pt x="360" y="36"/>
                  </a:lnTo>
                  <a:lnTo>
                    <a:pt x="320" y="42"/>
                  </a:lnTo>
                  <a:lnTo>
                    <a:pt x="282" y="46"/>
                  </a:lnTo>
                  <a:lnTo>
                    <a:pt x="246" y="48"/>
                  </a:lnTo>
                  <a:lnTo>
                    <a:pt x="212" y="48"/>
                  </a:lnTo>
                  <a:lnTo>
                    <a:pt x="182" y="44"/>
                  </a:lnTo>
                  <a:lnTo>
                    <a:pt x="154" y="40"/>
                  </a:lnTo>
                  <a:lnTo>
                    <a:pt x="128" y="36"/>
                  </a:lnTo>
                  <a:lnTo>
                    <a:pt x="106" y="30"/>
                  </a:lnTo>
                  <a:lnTo>
                    <a:pt x="70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50"/>
            <p:cNvSpPr/>
            <p:nvPr/>
          </p:nvSpPr>
          <p:spPr>
            <a:xfrm>
              <a:off x="40217760" y="3514680"/>
              <a:ext cx="237960" cy="180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50" h="114">
                  <a:moveTo>
                    <a:pt x="150" y="56"/>
                  </a:moveTo>
                  <a:lnTo>
                    <a:pt x="150" y="56"/>
                  </a:lnTo>
                  <a:lnTo>
                    <a:pt x="148" y="68"/>
                  </a:lnTo>
                  <a:lnTo>
                    <a:pt x="144" y="80"/>
                  </a:lnTo>
                  <a:lnTo>
                    <a:pt x="138" y="88"/>
                  </a:lnTo>
                  <a:lnTo>
                    <a:pt x="128" y="98"/>
                  </a:lnTo>
                  <a:lnTo>
                    <a:pt x="118" y="104"/>
                  </a:lnTo>
                  <a:lnTo>
                    <a:pt x="104" y="110"/>
                  </a:lnTo>
                  <a:lnTo>
                    <a:pt x="90" y="112"/>
                  </a:lnTo>
                  <a:lnTo>
                    <a:pt x="76" y="114"/>
                  </a:lnTo>
                  <a:lnTo>
                    <a:pt x="76" y="114"/>
                  </a:lnTo>
                  <a:lnTo>
                    <a:pt x="60" y="112"/>
                  </a:lnTo>
                  <a:lnTo>
                    <a:pt x="46" y="110"/>
                  </a:lnTo>
                  <a:lnTo>
                    <a:pt x="34" y="104"/>
                  </a:lnTo>
                  <a:lnTo>
                    <a:pt x="22" y="98"/>
                  </a:lnTo>
                  <a:lnTo>
                    <a:pt x="14" y="88"/>
                  </a:lnTo>
                  <a:lnTo>
                    <a:pt x="6" y="80"/>
                  </a:lnTo>
                  <a:lnTo>
                    <a:pt x="2" y="6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46"/>
                  </a:lnTo>
                  <a:lnTo>
                    <a:pt x="6" y="34"/>
                  </a:lnTo>
                  <a:lnTo>
                    <a:pt x="14" y="26"/>
                  </a:lnTo>
                  <a:lnTo>
                    <a:pt x="22" y="16"/>
                  </a:lnTo>
                  <a:lnTo>
                    <a:pt x="34" y="10"/>
                  </a:lnTo>
                  <a:lnTo>
                    <a:pt x="46" y="4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4" y="4"/>
                  </a:lnTo>
                  <a:lnTo>
                    <a:pt x="118" y="10"/>
                  </a:lnTo>
                  <a:lnTo>
                    <a:pt x="128" y="16"/>
                  </a:lnTo>
                  <a:lnTo>
                    <a:pt x="138" y="26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50" y="56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rgbClr val="fa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1"/>
            <p:cNvSpPr/>
            <p:nvPr/>
          </p:nvSpPr>
          <p:spPr>
            <a:xfrm>
              <a:off x="38769840" y="3514680"/>
              <a:ext cx="237960" cy="180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50" h="114">
                  <a:moveTo>
                    <a:pt x="150" y="56"/>
                  </a:moveTo>
                  <a:lnTo>
                    <a:pt x="150" y="56"/>
                  </a:lnTo>
                  <a:lnTo>
                    <a:pt x="148" y="68"/>
                  </a:lnTo>
                  <a:lnTo>
                    <a:pt x="144" y="80"/>
                  </a:lnTo>
                  <a:lnTo>
                    <a:pt x="138" y="88"/>
                  </a:lnTo>
                  <a:lnTo>
                    <a:pt x="128" y="98"/>
                  </a:lnTo>
                  <a:lnTo>
                    <a:pt x="116" y="104"/>
                  </a:lnTo>
                  <a:lnTo>
                    <a:pt x="104" y="110"/>
                  </a:lnTo>
                  <a:lnTo>
                    <a:pt x="90" y="112"/>
                  </a:lnTo>
                  <a:lnTo>
                    <a:pt x="76" y="114"/>
                  </a:lnTo>
                  <a:lnTo>
                    <a:pt x="76" y="114"/>
                  </a:lnTo>
                  <a:lnTo>
                    <a:pt x="60" y="112"/>
                  </a:lnTo>
                  <a:lnTo>
                    <a:pt x="46" y="110"/>
                  </a:lnTo>
                  <a:lnTo>
                    <a:pt x="34" y="104"/>
                  </a:lnTo>
                  <a:lnTo>
                    <a:pt x="22" y="98"/>
                  </a:lnTo>
                  <a:lnTo>
                    <a:pt x="14" y="88"/>
                  </a:lnTo>
                  <a:lnTo>
                    <a:pt x="6" y="80"/>
                  </a:lnTo>
                  <a:lnTo>
                    <a:pt x="2" y="6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46"/>
                  </a:lnTo>
                  <a:lnTo>
                    <a:pt x="6" y="34"/>
                  </a:lnTo>
                  <a:lnTo>
                    <a:pt x="14" y="26"/>
                  </a:lnTo>
                  <a:lnTo>
                    <a:pt x="22" y="16"/>
                  </a:lnTo>
                  <a:lnTo>
                    <a:pt x="34" y="10"/>
                  </a:lnTo>
                  <a:lnTo>
                    <a:pt x="46" y="4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4" y="4"/>
                  </a:lnTo>
                  <a:lnTo>
                    <a:pt x="116" y="10"/>
                  </a:lnTo>
                  <a:lnTo>
                    <a:pt x="128" y="16"/>
                  </a:lnTo>
                  <a:lnTo>
                    <a:pt x="138" y="26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50" y="56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rgbClr val="fa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52"/>
            <p:cNvSpPr/>
            <p:nvPr/>
          </p:nvSpPr>
          <p:spPr>
            <a:xfrm>
              <a:off x="38334960" y="1422360"/>
              <a:ext cx="1996920" cy="1701720"/>
            </a:xfrm>
            <a:custGeom>
              <a:avLst/>
              <a:gdLst>
                <a:gd name="textAreaLeft" fmla="*/ 0 w 1996920"/>
                <a:gd name="textAreaRight" fmla="*/ 1997280 w 199692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258" h="1072">
                  <a:moveTo>
                    <a:pt x="1222" y="212"/>
                  </a:moveTo>
                  <a:lnTo>
                    <a:pt x="1222" y="212"/>
                  </a:lnTo>
                  <a:lnTo>
                    <a:pt x="1202" y="238"/>
                  </a:lnTo>
                  <a:lnTo>
                    <a:pt x="1176" y="268"/>
                  </a:lnTo>
                  <a:lnTo>
                    <a:pt x="1142" y="306"/>
                  </a:lnTo>
                  <a:lnTo>
                    <a:pt x="1100" y="352"/>
                  </a:lnTo>
                  <a:lnTo>
                    <a:pt x="1050" y="404"/>
                  </a:lnTo>
                  <a:lnTo>
                    <a:pt x="992" y="458"/>
                  </a:lnTo>
                  <a:lnTo>
                    <a:pt x="926" y="516"/>
                  </a:lnTo>
                  <a:lnTo>
                    <a:pt x="854" y="574"/>
                  </a:lnTo>
                  <a:lnTo>
                    <a:pt x="816" y="602"/>
                  </a:lnTo>
                  <a:lnTo>
                    <a:pt x="778" y="632"/>
                  </a:lnTo>
                  <a:lnTo>
                    <a:pt x="736" y="658"/>
                  </a:lnTo>
                  <a:lnTo>
                    <a:pt x="696" y="686"/>
                  </a:lnTo>
                  <a:lnTo>
                    <a:pt x="652" y="710"/>
                  </a:lnTo>
                  <a:lnTo>
                    <a:pt x="608" y="734"/>
                  </a:lnTo>
                  <a:lnTo>
                    <a:pt x="562" y="756"/>
                  </a:lnTo>
                  <a:lnTo>
                    <a:pt x="516" y="778"/>
                  </a:lnTo>
                  <a:lnTo>
                    <a:pt x="470" y="796"/>
                  </a:lnTo>
                  <a:lnTo>
                    <a:pt x="422" y="812"/>
                  </a:lnTo>
                  <a:lnTo>
                    <a:pt x="372" y="828"/>
                  </a:lnTo>
                  <a:lnTo>
                    <a:pt x="322" y="838"/>
                  </a:lnTo>
                  <a:lnTo>
                    <a:pt x="272" y="848"/>
                  </a:lnTo>
                  <a:lnTo>
                    <a:pt x="222" y="854"/>
                  </a:lnTo>
                  <a:lnTo>
                    <a:pt x="222" y="1072"/>
                  </a:lnTo>
                  <a:lnTo>
                    <a:pt x="222" y="1072"/>
                  </a:lnTo>
                  <a:lnTo>
                    <a:pt x="182" y="994"/>
                  </a:lnTo>
                  <a:lnTo>
                    <a:pt x="148" y="928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04" y="866"/>
                  </a:lnTo>
                  <a:lnTo>
                    <a:pt x="74" y="856"/>
                  </a:lnTo>
                  <a:lnTo>
                    <a:pt x="56" y="852"/>
                  </a:lnTo>
                  <a:lnTo>
                    <a:pt x="40" y="852"/>
                  </a:lnTo>
                  <a:lnTo>
                    <a:pt x="24" y="854"/>
                  </a:lnTo>
                  <a:lnTo>
                    <a:pt x="16" y="858"/>
                  </a:lnTo>
                  <a:lnTo>
                    <a:pt x="12" y="862"/>
                  </a:lnTo>
                  <a:lnTo>
                    <a:pt x="12" y="862"/>
                  </a:lnTo>
                  <a:lnTo>
                    <a:pt x="8" y="832"/>
                  </a:lnTo>
                  <a:lnTo>
                    <a:pt x="4" y="798"/>
                  </a:lnTo>
                  <a:lnTo>
                    <a:pt x="0" y="752"/>
                  </a:lnTo>
                  <a:lnTo>
                    <a:pt x="0" y="698"/>
                  </a:lnTo>
                  <a:lnTo>
                    <a:pt x="2" y="636"/>
                  </a:lnTo>
                  <a:lnTo>
                    <a:pt x="8" y="570"/>
                  </a:lnTo>
                  <a:lnTo>
                    <a:pt x="12" y="536"/>
                  </a:lnTo>
                  <a:lnTo>
                    <a:pt x="20" y="502"/>
                  </a:lnTo>
                  <a:lnTo>
                    <a:pt x="28" y="466"/>
                  </a:lnTo>
                  <a:lnTo>
                    <a:pt x="36" y="430"/>
                  </a:lnTo>
                  <a:lnTo>
                    <a:pt x="48" y="396"/>
                  </a:lnTo>
                  <a:lnTo>
                    <a:pt x="62" y="360"/>
                  </a:lnTo>
                  <a:lnTo>
                    <a:pt x="78" y="326"/>
                  </a:lnTo>
                  <a:lnTo>
                    <a:pt x="96" y="292"/>
                  </a:lnTo>
                  <a:lnTo>
                    <a:pt x="118" y="260"/>
                  </a:lnTo>
                  <a:lnTo>
                    <a:pt x="142" y="228"/>
                  </a:lnTo>
                  <a:lnTo>
                    <a:pt x="168" y="200"/>
                  </a:lnTo>
                  <a:lnTo>
                    <a:pt x="196" y="172"/>
                  </a:lnTo>
                  <a:lnTo>
                    <a:pt x="228" y="146"/>
                  </a:lnTo>
                  <a:lnTo>
                    <a:pt x="264" y="122"/>
                  </a:lnTo>
                  <a:lnTo>
                    <a:pt x="304" y="102"/>
                  </a:lnTo>
                  <a:lnTo>
                    <a:pt x="346" y="82"/>
                  </a:lnTo>
                  <a:lnTo>
                    <a:pt x="392" y="68"/>
                  </a:lnTo>
                  <a:lnTo>
                    <a:pt x="442" y="54"/>
                  </a:lnTo>
                  <a:lnTo>
                    <a:pt x="442" y="54"/>
                  </a:lnTo>
                  <a:lnTo>
                    <a:pt x="540" y="36"/>
                  </a:lnTo>
                  <a:lnTo>
                    <a:pt x="630" y="20"/>
                  </a:lnTo>
                  <a:lnTo>
                    <a:pt x="712" y="10"/>
                  </a:lnTo>
                  <a:lnTo>
                    <a:pt x="788" y="4"/>
                  </a:lnTo>
                  <a:lnTo>
                    <a:pt x="854" y="0"/>
                  </a:lnTo>
                  <a:lnTo>
                    <a:pt x="914" y="0"/>
                  </a:lnTo>
                  <a:lnTo>
                    <a:pt x="968" y="4"/>
                  </a:lnTo>
                  <a:lnTo>
                    <a:pt x="1018" y="10"/>
                  </a:lnTo>
                  <a:lnTo>
                    <a:pt x="1060" y="18"/>
                  </a:lnTo>
                  <a:lnTo>
                    <a:pt x="1098" y="30"/>
                  </a:lnTo>
                  <a:lnTo>
                    <a:pt x="1132" y="44"/>
                  </a:lnTo>
                  <a:lnTo>
                    <a:pt x="1164" y="60"/>
                  </a:lnTo>
                  <a:lnTo>
                    <a:pt x="1190" y="78"/>
                  </a:lnTo>
                  <a:lnTo>
                    <a:pt x="1214" y="98"/>
                  </a:lnTo>
                  <a:lnTo>
                    <a:pt x="1236" y="120"/>
                  </a:lnTo>
                  <a:lnTo>
                    <a:pt x="1258" y="142"/>
                  </a:lnTo>
                  <a:lnTo>
                    <a:pt x="1222" y="212"/>
                  </a:lnTo>
                  <a:close/>
                </a:path>
              </a:pathLst>
            </a:custGeom>
            <a:solidFill>
              <a:srgbClr val="6d5d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53"/>
            <p:cNvSpPr/>
            <p:nvPr/>
          </p:nvSpPr>
          <p:spPr>
            <a:xfrm>
              <a:off x="38293560" y="1380960"/>
              <a:ext cx="2079360" cy="1784160"/>
            </a:xfrm>
            <a:custGeom>
              <a:avLst/>
              <a:gdLst>
                <a:gd name="textAreaLeft" fmla="*/ 0 w 2079360"/>
                <a:gd name="textAreaRight" fmla="*/ 2079720 w 2079360"/>
                <a:gd name="textAreaTop" fmla="*/ 0 h 1784160"/>
                <a:gd name="textAreaBottom" fmla="*/ 1784520 h 1784160"/>
              </a:gdLst>
              <a:ahLst/>
              <a:rect l="textAreaLeft" t="textAreaTop" r="textAreaRight" b="textAreaBottom"/>
              <a:pathLst>
                <a:path w="1310" h="1124">
                  <a:moveTo>
                    <a:pt x="462" y="54"/>
                  </a:moveTo>
                  <a:lnTo>
                    <a:pt x="462" y="54"/>
                  </a:lnTo>
                  <a:lnTo>
                    <a:pt x="410" y="68"/>
                  </a:lnTo>
                  <a:lnTo>
                    <a:pt x="362" y="84"/>
                  </a:lnTo>
                  <a:lnTo>
                    <a:pt x="318" y="102"/>
                  </a:lnTo>
                  <a:lnTo>
                    <a:pt x="278" y="124"/>
                  </a:lnTo>
                  <a:lnTo>
                    <a:pt x="242" y="148"/>
                  </a:lnTo>
                  <a:lnTo>
                    <a:pt x="208" y="176"/>
                  </a:lnTo>
                  <a:lnTo>
                    <a:pt x="178" y="204"/>
                  </a:lnTo>
                  <a:lnTo>
                    <a:pt x="150" y="234"/>
                  </a:lnTo>
                  <a:lnTo>
                    <a:pt x="126" y="266"/>
                  </a:lnTo>
                  <a:lnTo>
                    <a:pt x="104" y="300"/>
                  </a:lnTo>
                  <a:lnTo>
                    <a:pt x="86" y="334"/>
                  </a:lnTo>
                  <a:lnTo>
                    <a:pt x="68" y="370"/>
                  </a:lnTo>
                  <a:lnTo>
                    <a:pt x="54" y="406"/>
                  </a:lnTo>
                  <a:lnTo>
                    <a:pt x="42" y="442"/>
                  </a:lnTo>
                  <a:lnTo>
                    <a:pt x="30" y="478"/>
                  </a:lnTo>
                  <a:lnTo>
                    <a:pt x="22" y="516"/>
                  </a:lnTo>
                  <a:lnTo>
                    <a:pt x="16" y="552"/>
                  </a:lnTo>
                  <a:lnTo>
                    <a:pt x="10" y="586"/>
                  </a:lnTo>
                  <a:lnTo>
                    <a:pt x="2" y="656"/>
                  </a:lnTo>
                  <a:lnTo>
                    <a:pt x="0" y="718"/>
                  </a:lnTo>
                  <a:lnTo>
                    <a:pt x="2" y="776"/>
                  </a:lnTo>
                  <a:lnTo>
                    <a:pt x="4" y="822"/>
                  </a:lnTo>
                  <a:lnTo>
                    <a:pt x="8" y="860"/>
                  </a:lnTo>
                  <a:lnTo>
                    <a:pt x="12" y="892"/>
                  </a:lnTo>
                  <a:lnTo>
                    <a:pt x="12" y="892"/>
                  </a:lnTo>
                  <a:lnTo>
                    <a:pt x="14" y="898"/>
                  </a:lnTo>
                  <a:lnTo>
                    <a:pt x="18" y="904"/>
                  </a:lnTo>
                  <a:lnTo>
                    <a:pt x="24" y="910"/>
                  </a:lnTo>
                  <a:lnTo>
                    <a:pt x="30" y="912"/>
                  </a:lnTo>
                  <a:lnTo>
                    <a:pt x="30" y="912"/>
                  </a:lnTo>
                  <a:lnTo>
                    <a:pt x="36" y="914"/>
                  </a:lnTo>
                  <a:lnTo>
                    <a:pt x="44" y="912"/>
                  </a:lnTo>
                  <a:lnTo>
                    <a:pt x="50" y="910"/>
                  </a:lnTo>
                  <a:lnTo>
                    <a:pt x="56" y="906"/>
                  </a:lnTo>
                  <a:lnTo>
                    <a:pt x="56" y="906"/>
                  </a:lnTo>
                  <a:lnTo>
                    <a:pt x="60" y="904"/>
                  </a:lnTo>
                  <a:lnTo>
                    <a:pt x="64" y="904"/>
                  </a:lnTo>
                  <a:lnTo>
                    <a:pt x="80" y="906"/>
                  </a:lnTo>
                  <a:lnTo>
                    <a:pt x="102" y="910"/>
                  </a:lnTo>
                  <a:lnTo>
                    <a:pt x="124" y="918"/>
                  </a:lnTo>
                  <a:lnTo>
                    <a:pt x="124" y="918"/>
                  </a:lnTo>
                  <a:lnTo>
                    <a:pt x="224" y="1110"/>
                  </a:lnTo>
                  <a:lnTo>
                    <a:pt x="224" y="1110"/>
                  </a:lnTo>
                  <a:lnTo>
                    <a:pt x="230" y="1118"/>
                  </a:lnTo>
                  <a:lnTo>
                    <a:pt x="238" y="1122"/>
                  </a:lnTo>
                  <a:lnTo>
                    <a:pt x="246" y="1124"/>
                  </a:lnTo>
                  <a:lnTo>
                    <a:pt x="254" y="1124"/>
                  </a:lnTo>
                  <a:lnTo>
                    <a:pt x="254" y="1124"/>
                  </a:lnTo>
                  <a:lnTo>
                    <a:pt x="262" y="1120"/>
                  </a:lnTo>
                  <a:lnTo>
                    <a:pt x="268" y="1114"/>
                  </a:lnTo>
                  <a:lnTo>
                    <a:pt x="272" y="1106"/>
                  </a:lnTo>
                  <a:lnTo>
                    <a:pt x="274" y="1098"/>
                  </a:lnTo>
                  <a:lnTo>
                    <a:pt x="274" y="1098"/>
                  </a:lnTo>
                  <a:lnTo>
                    <a:pt x="274" y="902"/>
                  </a:lnTo>
                  <a:lnTo>
                    <a:pt x="274" y="902"/>
                  </a:lnTo>
                  <a:lnTo>
                    <a:pt x="324" y="894"/>
                  </a:lnTo>
                  <a:lnTo>
                    <a:pt x="374" y="886"/>
                  </a:lnTo>
                  <a:lnTo>
                    <a:pt x="422" y="872"/>
                  </a:lnTo>
                  <a:lnTo>
                    <a:pt x="470" y="858"/>
                  </a:lnTo>
                  <a:lnTo>
                    <a:pt x="518" y="842"/>
                  </a:lnTo>
                  <a:lnTo>
                    <a:pt x="564" y="822"/>
                  </a:lnTo>
                  <a:lnTo>
                    <a:pt x="610" y="802"/>
                  </a:lnTo>
                  <a:lnTo>
                    <a:pt x="654" y="780"/>
                  </a:lnTo>
                  <a:lnTo>
                    <a:pt x="698" y="756"/>
                  </a:lnTo>
                  <a:lnTo>
                    <a:pt x="740" y="730"/>
                  </a:lnTo>
                  <a:lnTo>
                    <a:pt x="780" y="704"/>
                  </a:lnTo>
                  <a:lnTo>
                    <a:pt x="820" y="678"/>
                  </a:lnTo>
                  <a:lnTo>
                    <a:pt x="860" y="650"/>
                  </a:lnTo>
                  <a:lnTo>
                    <a:pt x="896" y="622"/>
                  </a:lnTo>
                  <a:lnTo>
                    <a:pt x="966" y="566"/>
                  </a:lnTo>
                  <a:lnTo>
                    <a:pt x="1030" y="508"/>
                  </a:lnTo>
                  <a:lnTo>
                    <a:pt x="1088" y="454"/>
                  </a:lnTo>
                  <a:lnTo>
                    <a:pt x="1138" y="404"/>
                  </a:lnTo>
                  <a:lnTo>
                    <a:pt x="1182" y="358"/>
                  </a:lnTo>
                  <a:lnTo>
                    <a:pt x="1216" y="318"/>
                  </a:lnTo>
                  <a:lnTo>
                    <a:pt x="1244" y="286"/>
                  </a:lnTo>
                  <a:lnTo>
                    <a:pt x="1270" y="254"/>
                  </a:lnTo>
                  <a:lnTo>
                    <a:pt x="1270" y="254"/>
                  </a:lnTo>
                  <a:lnTo>
                    <a:pt x="1272" y="250"/>
                  </a:lnTo>
                  <a:lnTo>
                    <a:pt x="1306" y="180"/>
                  </a:lnTo>
                  <a:lnTo>
                    <a:pt x="1306" y="180"/>
                  </a:lnTo>
                  <a:lnTo>
                    <a:pt x="1308" y="174"/>
                  </a:lnTo>
                  <a:lnTo>
                    <a:pt x="1310" y="168"/>
                  </a:lnTo>
                  <a:lnTo>
                    <a:pt x="1310" y="168"/>
                  </a:lnTo>
                  <a:lnTo>
                    <a:pt x="1308" y="160"/>
                  </a:lnTo>
                  <a:lnTo>
                    <a:pt x="1304" y="152"/>
                  </a:lnTo>
                  <a:lnTo>
                    <a:pt x="1304" y="152"/>
                  </a:lnTo>
                  <a:lnTo>
                    <a:pt x="1280" y="126"/>
                  </a:lnTo>
                  <a:lnTo>
                    <a:pt x="1254" y="102"/>
                  </a:lnTo>
                  <a:lnTo>
                    <a:pt x="1226" y="80"/>
                  </a:lnTo>
                  <a:lnTo>
                    <a:pt x="1196" y="60"/>
                  </a:lnTo>
                  <a:lnTo>
                    <a:pt x="1162" y="44"/>
                  </a:lnTo>
                  <a:lnTo>
                    <a:pt x="1126" y="30"/>
                  </a:lnTo>
                  <a:lnTo>
                    <a:pt x="1084" y="18"/>
                  </a:lnTo>
                  <a:lnTo>
                    <a:pt x="1038" y="8"/>
                  </a:lnTo>
                  <a:lnTo>
                    <a:pt x="988" y="2"/>
                  </a:lnTo>
                  <a:lnTo>
                    <a:pt x="932" y="0"/>
                  </a:lnTo>
                  <a:lnTo>
                    <a:pt x="870" y="0"/>
                  </a:lnTo>
                  <a:lnTo>
                    <a:pt x="802" y="4"/>
                  </a:lnTo>
                  <a:lnTo>
                    <a:pt x="728" y="10"/>
                  </a:lnTo>
                  <a:lnTo>
                    <a:pt x="648" y="22"/>
                  </a:lnTo>
                  <a:lnTo>
                    <a:pt x="558" y="36"/>
                  </a:lnTo>
                  <a:lnTo>
                    <a:pt x="462" y="54"/>
                  </a:lnTo>
                  <a:lnTo>
                    <a:pt x="462" y="54"/>
                  </a:lnTo>
                  <a:close/>
                  <a:moveTo>
                    <a:pt x="52" y="722"/>
                  </a:moveTo>
                  <a:lnTo>
                    <a:pt x="52" y="722"/>
                  </a:lnTo>
                  <a:lnTo>
                    <a:pt x="52" y="682"/>
                  </a:lnTo>
                  <a:lnTo>
                    <a:pt x="54" y="640"/>
                  </a:lnTo>
                  <a:lnTo>
                    <a:pt x="58" y="596"/>
                  </a:lnTo>
                  <a:lnTo>
                    <a:pt x="66" y="550"/>
                  </a:lnTo>
                  <a:lnTo>
                    <a:pt x="76" y="504"/>
                  </a:lnTo>
                  <a:lnTo>
                    <a:pt x="88" y="458"/>
                  </a:lnTo>
                  <a:lnTo>
                    <a:pt x="106" y="412"/>
                  </a:lnTo>
                  <a:lnTo>
                    <a:pt x="126" y="366"/>
                  </a:lnTo>
                  <a:lnTo>
                    <a:pt x="138" y="344"/>
                  </a:lnTo>
                  <a:lnTo>
                    <a:pt x="150" y="322"/>
                  </a:lnTo>
                  <a:lnTo>
                    <a:pt x="164" y="300"/>
                  </a:lnTo>
                  <a:lnTo>
                    <a:pt x="180" y="280"/>
                  </a:lnTo>
                  <a:lnTo>
                    <a:pt x="196" y="260"/>
                  </a:lnTo>
                  <a:lnTo>
                    <a:pt x="214" y="242"/>
                  </a:lnTo>
                  <a:lnTo>
                    <a:pt x="232" y="222"/>
                  </a:lnTo>
                  <a:lnTo>
                    <a:pt x="254" y="206"/>
                  </a:lnTo>
                  <a:lnTo>
                    <a:pt x="276" y="190"/>
                  </a:lnTo>
                  <a:lnTo>
                    <a:pt x="298" y="174"/>
                  </a:lnTo>
                  <a:lnTo>
                    <a:pt x="324" y="160"/>
                  </a:lnTo>
                  <a:lnTo>
                    <a:pt x="350" y="146"/>
                  </a:lnTo>
                  <a:lnTo>
                    <a:pt x="378" y="134"/>
                  </a:lnTo>
                  <a:lnTo>
                    <a:pt x="408" y="124"/>
                  </a:lnTo>
                  <a:lnTo>
                    <a:pt x="440" y="114"/>
                  </a:lnTo>
                  <a:lnTo>
                    <a:pt x="472" y="106"/>
                  </a:lnTo>
                  <a:lnTo>
                    <a:pt x="472" y="106"/>
                  </a:lnTo>
                  <a:lnTo>
                    <a:pt x="570" y="88"/>
                  </a:lnTo>
                  <a:lnTo>
                    <a:pt x="658" y="74"/>
                  </a:lnTo>
                  <a:lnTo>
                    <a:pt x="738" y="62"/>
                  </a:lnTo>
                  <a:lnTo>
                    <a:pt x="810" y="56"/>
                  </a:lnTo>
                  <a:lnTo>
                    <a:pt x="876" y="52"/>
                  </a:lnTo>
                  <a:lnTo>
                    <a:pt x="934" y="52"/>
                  </a:lnTo>
                  <a:lnTo>
                    <a:pt x="986" y="56"/>
                  </a:lnTo>
                  <a:lnTo>
                    <a:pt x="1032" y="60"/>
                  </a:lnTo>
                  <a:lnTo>
                    <a:pt x="1072" y="68"/>
                  </a:lnTo>
                  <a:lnTo>
                    <a:pt x="1108" y="78"/>
                  </a:lnTo>
                  <a:lnTo>
                    <a:pt x="1140" y="92"/>
                  </a:lnTo>
                  <a:lnTo>
                    <a:pt x="1168" y="106"/>
                  </a:lnTo>
                  <a:lnTo>
                    <a:pt x="1192" y="120"/>
                  </a:lnTo>
                  <a:lnTo>
                    <a:pt x="1214" y="138"/>
                  </a:lnTo>
                  <a:lnTo>
                    <a:pt x="1234" y="154"/>
                  </a:lnTo>
                  <a:lnTo>
                    <a:pt x="1252" y="172"/>
                  </a:lnTo>
                  <a:lnTo>
                    <a:pt x="1252" y="172"/>
                  </a:lnTo>
                  <a:lnTo>
                    <a:pt x="1226" y="224"/>
                  </a:lnTo>
                  <a:lnTo>
                    <a:pt x="1226" y="224"/>
                  </a:lnTo>
                  <a:lnTo>
                    <a:pt x="1200" y="256"/>
                  </a:lnTo>
                  <a:lnTo>
                    <a:pt x="1174" y="288"/>
                  </a:lnTo>
                  <a:lnTo>
                    <a:pt x="1138" y="326"/>
                  </a:lnTo>
                  <a:lnTo>
                    <a:pt x="1096" y="372"/>
                  </a:lnTo>
                  <a:lnTo>
                    <a:pt x="1044" y="422"/>
                  </a:lnTo>
                  <a:lnTo>
                    <a:pt x="988" y="476"/>
                  </a:lnTo>
                  <a:lnTo>
                    <a:pt x="924" y="532"/>
                  </a:lnTo>
                  <a:lnTo>
                    <a:pt x="854" y="588"/>
                  </a:lnTo>
                  <a:lnTo>
                    <a:pt x="818" y="614"/>
                  </a:lnTo>
                  <a:lnTo>
                    <a:pt x="778" y="642"/>
                  </a:lnTo>
                  <a:lnTo>
                    <a:pt x="740" y="668"/>
                  </a:lnTo>
                  <a:lnTo>
                    <a:pt x="700" y="694"/>
                  </a:lnTo>
                  <a:lnTo>
                    <a:pt x="658" y="718"/>
                  </a:lnTo>
                  <a:lnTo>
                    <a:pt x="616" y="740"/>
                  </a:lnTo>
                  <a:lnTo>
                    <a:pt x="572" y="762"/>
                  </a:lnTo>
                  <a:lnTo>
                    <a:pt x="528" y="782"/>
                  </a:lnTo>
                  <a:lnTo>
                    <a:pt x="482" y="800"/>
                  </a:lnTo>
                  <a:lnTo>
                    <a:pt x="436" y="814"/>
                  </a:lnTo>
                  <a:lnTo>
                    <a:pt x="390" y="828"/>
                  </a:lnTo>
                  <a:lnTo>
                    <a:pt x="342" y="840"/>
                  </a:lnTo>
                  <a:lnTo>
                    <a:pt x="294" y="848"/>
                  </a:lnTo>
                  <a:lnTo>
                    <a:pt x="246" y="852"/>
                  </a:lnTo>
                  <a:lnTo>
                    <a:pt x="246" y="852"/>
                  </a:lnTo>
                  <a:lnTo>
                    <a:pt x="236" y="856"/>
                  </a:lnTo>
                  <a:lnTo>
                    <a:pt x="228" y="862"/>
                  </a:lnTo>
                  <a:lnTo>
                    <a:pt x="224" y="870"/>
                  </a:lnTo>
                  <a:lnTo>
                    <a:pt x="222" y="880"/>
                  </a:lnTo>
                  <a:lnTo>
                    <a:pt x="222" y="880"/>
                  </a:lnTo>
                  <a:lnTo>
                    <a:pt x="222" y="992"/>
                  </a:lnTo>
                  <a:lnTo>
                    <a:pt x="222" y="992"/>
                  </a:lnTo>
                  <a:lnTo>
                    <a:pt x="166" y="884"/>
                  </a:lnTo>
                  <a:lnTo>
                    <a:pt x="166" y="884"/>
                  </a:lnTo>
                  <a:lnTo>
                    <a:pt x="160" y="876"/>
                  </a:lnTo>
                  <a:lnTo>
                    <a:pt x="154" y="872"/>
                  </a:lnTo>
                  <a:lnTo>
                    <a:pt x="154" y="872"/>
                  </a:lnTo>
                  <a:lnTo>
                    <a:pt x="138" y="866"/>
                  </a:lnTo>
                  <a:lnTo>
                    <a:pt x="114" y="858"/>
                  </a:lnTo>
                  <a:lnTo>
                    <a:pt x="86" y="854"/>
                  </a:lnTo>
                  <a:lnTo>
                    <a:pt x="72" y="852"/>
                  </a:lnTo>
                  <a:lnTo>
                    <a:pt x="60" y="854"/>
                  </a:lnTo>
                  <a:lnTo>
                    <a:pt x="60" y="854"/>
                  </a:lnTo>
                  <a:lnTo>
                    <a:pt x="54" y="798"/>
                  </a:lnTo>
                  <a:lnTo>
                    <a:pt x="52" y="764"/>
                  </a:lnTo>
                  <a:lnTo>
                    <a:pt x="52" y="722"/>
                  </a:lnTo>
                  <a:lnTo>
                    <a:pt x="52" y="7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54"/>
            <p:cNvSpPr/>
            <p:nvPr/>
          </p:nvSpPr>
          <p:spPr>
            <a:xfrm>
              <a:off x="40306680" y="1600200"/>
              <a:ext cx="260280" cy="298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188">
                  <a:moveTo>
                    <a:pt x="164" y="48"/>
                  </a:moveTo>
                  <a:lnTo>
                    <a:pt x="164" y="48"/>
                  </a:lnTo>
                  <a:lnTo>
                    <a:pt x="158" y="66"/>
                  </a:lnTo>
                  <a:lnTo>
                    <a:pt x="150" y="86"/>
                  </a:lnTo>
                  <a:lnTo>
                    <a:pt x="138" y="108"/>
                  </a:lnTo>
                  <a:lnTo>
                    <a:pt x="120" y="132"/>
                  </a:lnTo>
                  <a:lnTo>
                    <a:pt x="110" y="144"/>
                  </a:lnTo>
                  <a:lnTo>
                    <a:pt x="98" y="156"/>
                  </a:lnTo>
                  <a:lnTo>
                    <a:pt x="84" y="166"/>
                  </a:lnTo>
                  <a:lnTo>
                    <a:pt x="68" y="174"/>
                  </a:lnTo>
                  <a:lnTo>
                    <a:pt x="52" y="182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24" y="184"/>
                  </a:lnTo>
                  <a:lnTo>
                    <a:pt x="18" y="178"/>
                  </a:lnTo>
                  <a:lnTo>
                    <a:pt x="10" y="170"/>
                  </a:lnTo>
                  <a:lnTo>
                    <a:pt x="4" y="16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2" y="134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28" y="92"/>
                  </a:lnTo>
                  <a:lnTo>
                    <a:pt x="52" y="52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88" y="2"/>
                  </a:lnTo>
                  <a:lnTo>
                    <a:pt x="100" y="0"/>
                  </a:lnTo>
                  <a:lnTo>
                    <a:pt x="114" y="0"/>
                  </a:lnTo>
                  <a:lnTo>
                    <a:pt x="128" y="4"/>
                  </a:lnTo>
                  <a:lnTo>
                    <a:pt x="136" y="6"/>
                  </a:lnTo>
                  <a:lnTo>
                    <a:pt x="144" y="12"/>
                  </a:lnTo>
                  <a:lnTo>
                    <a:pt x="150" y="18"/>
                  </a:lnTo>
                  <a:lnTo>
                    <a:pt x="156" y="26"/>
                  </a:lnTo>
                  <a:lnTo>
                    <a:pt x="160" y="36"/>
                  </a:lnTo>
                  <a:lnTo>
                    <a:pt x="164" y="48"/>
                  </a:lnTo>
                  <a:lnTo>
                    <a:pt x="164" y="48"/>
                  </a:lnTo>
                  <a:close/>
                </a:path>
              </a:pathLst>
            </a:custGeom>
            <a:solidFill>
              <a:srgbClr val="f09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5"/>
            <p:cNvSpPr/>
            <p:nvPr/>
          </p:nvSpPr>
          <p:spPr>
            <a:xfrm>
              <a:off x="40262400" y="1558800"/>
              <a:ext cx="345960" cy="3808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8" h="240">
                  <a:moveTo>
                    <a:pt x="96" y="6"/>
                  </a:moveTo>
                  <a:lnTo>
                    <a:pt x="96" y="6"/>
                  </a:lnTo>
                  <a:lnTo>
                    <a:pt x="88" y="10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56" y="66"/>
                  </a:lnTo>
                  <a:lnTo>
                    <a:pt x="34" y="104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6" y="152"/>
                  </a:lnTo>
                  <a:lnTo>
                    <a:pt x="2" y="164"/>
                  </a:lnTo>
                  <a:lnTo>
                    <a:pt x="0" y="176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6" y="196"/>
                  </a:lnTo>
                  <a:lnTo>
                    <a:pt x="12" y="206"/>
                  </a:lnTo>
                  <a:lnTo>
                    <a:pt x="18" y="214"/>
                  </a:lnTo>
                  <a:lnTo>
                    <a:pt x="26" y="222"/>
                  </a:lnTo>
                  <a:lnTo>
                    <a:pt x="40" y="232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58" y="240"/>
                  </a:lnTo>
                  <a:lnTo>
                    <a:pt x="68" y="240"/>
                  </a:lnTo>
                  <a:lnTo>
                    <a:pt x="68" y="240"/>
                  </a:lnTo>
                  <a:lnTo>
                    <a:pt x="88" y="234"/>
                  </a:lnTo>
                  <a:lnTo>
                    <a:pt x="108" y="224"/>
                  </a:lnTo>
                  <a:lnTo>
                    <a:pt x="126" y="214"/>
                  </a:lnTo>
                  <a:lnTo>
                    <a:pt x="140" y="202"/>
                  </a:lnTo>
                  <a:lnTo>
                    <a:pt x="154" y="190"/>
                  </a:lnTo>
                  <a:lnTo>
                    <a:pt x="168" y="178"/>
                  </a:lnTo>
                  <a:lnTo>
                    <a:pt x="178" y="164"/>
                  </a:lnTo>
                  <a:lnTo>
                    <a:pt x="186" y="150"/>
                  </a:lnTo>
                  <a:lnTo>
                    <a:pt x="202" y="124"/>
                  </a:lnTo>
                  <a:lnTo>
                    <a:pt x="210" y="102"/>
                  </a:lnTo>
                  <a:lnTo>
                    <a:pt x="218" y="80"/>
                  </a:lnTo>
                  <a:lnTo>
                    <a:pt x="218" y="80"/>
                  </a:lnTo>
                  <a:lnTo>
                    <a:pt x="218" y="74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4" y="56"/>
                  </a:lnTo>
                  <a:lnTo>
                    <a:pt x="210" y="44"/>
                  </a:lnTo>
                  <a:lnTo>
                    <a:pt x="204" y="36"/>
                  </a:lnTo>
                  <a:lnTo>
                    <a:pt x="198" y="28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74" y="8"/>
                  </a:lnTo>
                  <a:lnTo>
                    <a:pt x="162" y="4"/>
                  </a:lnTo>
                  <a:lnTo>
                    <a:pt x="148" y="0"/>
                  </a:lnTo>
                  <a:lnTo>
                    <a:pt x="136" y="0"/>
                  </a:lnTo>
                  <a:lnTo>
                    <a:pt x="124" y="0"/>
                  </a:lnTo>
                  <a:lnTo>
                    <a:pt x="104" y="2"/>
                  </a:lnTo>
                  <a:lnTo>
                    <a:pt x="96" y="6"/>
                  </a:lnTo>
                  <a:lnTo>
                    <a:pt x="96" y="6"/>
                  </a:lnTo>
                  <a:close/>
                  <a:moveTo>
                    <a:pt x="150" y="56"/>
                  </a:moveTo>
                  <a:lnTo>
                    <a:pt x="150" y="56"/>
                  </a:lnTo>
                  <a:lnTo>
                    <a:pt x="156" y="58"/>
                  </a:lnTo>
                  <a:lnTo>
                    <a:pt x="158" y="64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56" y="98"/>
                  </a:lnTo>
                  <a:lnTo>
                    <a:pt x="148" y="112"/>
                  </a:lnTo>
                  <a:lnTo>
                    <a:pt x="138" y="128"/>
                  </a:lnTo>
                  <a:lnTo>
                    <a:pt x="124" y="144"/>
                  </a:lnTo>
                  <a:lnTo>
                    <a:pt x="108" y="160"/>
                  </a:lnTo>
                  <a:lnTo>
                    <a:pt x="88" y="174"/>
                  </a:lnTo>
                  <a:lnTo>
                    <a:pt x="76" y="180"/>
                  </a:lnTo>
                  <a:lnTo>
                    <a:pt x="64" y="184"/>
                  </a:lnTo>
                  <a:lnTo>
                    <a:pt x="64" y="184"/>
                  </a:lnTo>
                  <a:lnTo>
                    <a:pt x="56" y="178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54" y="172"/>
                  </a:lnTo>
                  <a:lnTo>
                    <a:pt x="54" y="172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74" y="142"/>
                  </a:lnTo>
                  <a:lnTo>
                    <a:pt x="92" y="108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36" y="52"/>
                  </a:lnTo>
                  <a:lnTo>
                    <a:pt x="144" y="52"/>
                  </a:lnTo>
                  <a:lnTo>
                    <a:pt x="150" y="56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56"/>
            <p:cNvSpPr/>
            <p:nvPr/>
          </p:nvSpPr>
          <p:spPr>
            <a:xfrm>
              <a:off x="39760560" y="2568600"/>
              <a:ext cx="723600" cy="25056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56" h="158">
                  <a:moveTo>
                    <a:pt x="8" y="86"/>
                  </a:moveTo>
                  <a:lnTo>
                    <a:pt x="8" y="86"/>
                  </a:lnTo>
                  <a:lnTo>
                    <a:pt x="2" y="94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16" y="128"/>
                  </a:lnTo>
                  <a:lnTo>
                    <a:pt x="26" y="130"/>
                  </a:lnTo>
                  <a:lnTo>
                    <a:pt x="36" y="130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58" y="112"/>
                  </a:lnTo>
                  <a:lnTo>
                    <a:pt x="76" y="100"/>
                  </a:lnTo>
                  <a:lnTo>
                    <a:pt x="98" y="86"/>
                  </a:lnTo>
                  <a:lnTo>
                    <a:pt x="124" y="74"/>
                  </a:lnTo>
                  <a:lnTo>
                    <a:pt x="154" y="62"/>
                  </a:lnTo>
                  <a:lnTo>
                    <a:pt x="172" y="58"/>
                  </a:lnTo>
                  <a:lnTo>
                    <a:pt x="190" y="54"/>
                  </a:lnTo>
                  <a:lnTo>
                    <a:pt x="208" y="52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52" y="54"/>
                  </a:lnTo>
                  <a:lnTo>
                    <a:pt x="274" y="60"/>
                  </a:lnTo>
                  <a:lnTo>
                    <a:pt x="298" y="68"/>
                  </a:lnTo>
                  <a:lnTo>
                    <a:pt x="322" y="78"/>
                  </a:lnTo>
                  <a:lnTo>
                    <a:pt x="344" y="92"/>
                  </a:lnTo>
                  <a:lnTo>
                    <a:pt x="366" y="108"/>
                  </a:lnTo>
                  <a:lnTo>
                    <a:pt x="388" y="128"/>
                  </a:lnTo>
                  <a:lnTo>
                    <a:pt x="410" y="148"/>
                  </a:lnTo>
                  <a:lnTo>
                    <a:pt x="410" y="148"/>
                  </a:lnTo>
                  <a:lnTo>
                    <a:pt x="418" y="154"/>
                  </a:lnTo>
                  <a:lnTo>
                    <a:pt x="428" y="158"/>
                  </a:lnTo>
                  <a:lnTo>
                    <a:pt x="438" y="156"/>
                  </a:lnTo>
                  <a:lnTo>
                    <a:pt x="448" y="150"/>
                  </a:lnTo>
                  <a:lnTo>
                    <a:pt x="448" y="150"/>
                  </a:lnTo>
                  <a:lnTo>
                    <a:pt x="454" y="142"/>
                  </a:lnTo>
                  <a:lnTo>
                    <a:pt x="456" y="132"/>
                  </a:lnTo>
                  <a:lnTo>
                    <a:pt x="454" y="122"/>
                  </a:lnTo>
                  <a:lnTo>
                    <a:pt x="448" y="114"/>
                  </a:lnTo>
                  <a:lnTo>
                    <a:pt x="448" y="114"/>
                  </a:lnTo>
                  <a:lnTo>
                    <a:pt x="424" y="88"/>
                  </a:lnTo>
                  <a:lnTo>
                    <a:pt x="398" y="66"/>
                  </a:lnTo>
                  <a:lnTo>
                    <a:pt x="370" y="46"/>
                  </a:lnTo>
                  <a:lnTo>
                    <a:pt x="344" y="30"/>
                  </a:lnTo>
                  <a:lnTo>
                    <a:pt x="316" y="18"/>
                  </a:lnTo>
                  <a:lnTo>
                    <a:pt x="286" y="8"/>
                  </a:lnTo>
                  <a:lnTo>
                    <a:pt x="258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04" y="0"/>
                  </a:lnTo>
                  <a:lnTo>
                    <a:pt x="182" y="2"/>
                  </a:lnTo>
                  <a:lnTo>
                    <a:pt x="162" y="6"/>
                  </a:lnTo>
                  <a:lnTo>
                    <a:pt x="142" y="12"/>
                  </a:lnTo>
                  <a:lnTo>
                    <a:pt x="122" y="18"/>
                  </a:lnTo>
                  <a:lnTo>
                    <a:pt x="104" y="24"/>
                  </a:lnTo>
                  <a:lnTo>
                    <a:pt x="72" y="40"/>
                  </a:lnTo>
                  <a:lnTo>
                    <a:pt x="46" y="56"/>
                  </a:lnTo>
                  <a:lnTo>
                    <a:pt x="26" y="70"/>
                  </a:lnTo>
                  <a:lnTo>
                    <a:pt x="8" y="86"/>
                  </a:lnTo>
                  <a:lnTo>
                    <a:pt x="8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57"/>
            <p:cNvSpPr/>
            <p:nvPr/>
          </p:nvSpPr>
          <p:spPr>
            <a:xfrm>
              <a:off x="38884320" y="2628720"/>
              <a:ext cx="539640" cy="17460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40" h="110">
                  <a:moveTo>
                    <a:pt x="10" y="62"/>
                  </a:moveTo>
                  <a:lnTo>
                    <a:pt x="10" y="62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106"/>
                  </a:lnTo>
                  <a:lnTo>
                    <a:pt x="20" y="110"/>
                  </a:lnTo>
                  <a:lnTo>
                    <a:pt x="30" y="110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72" y="88"/>
                  </a:lnTo>
                  <a:lnTo>
                    <a:pt x="100" y="72"/>
                  </a:lnTo>
                  <a:lnTo>
                    <a:pt x="128" y="62"/>
                  </a:lnTo>
                  <a:lnTo>
                    <a:pt x="152" y="56"/>
                  </a:lnTo>
                  <a:lnTo>
                    <a:pt x="176" y="52"/>
                  </a:lnTo>
                  <a:lnTo>
                    <a:pt x="196" y="52"/>
                  </a:lnTo>
                  <a:lnTo>
                    <a:pt x="214" y="54"/>
                  </a:lnTo>
                  <a:lnTo>
                    <a:pt x="232" y="58"/>
                  </a:lnTo>
                  <a:lnTo>
                    <a:pt x="246" y="62"/>
                  </a:lnTo>
                  <a:lnTo>
                    <a:pt x="258" y="70"/>
                  </a:lnTo>
                  <a:lnTo>
                    <a:pt x="268" y="76"/>
                  </a:lnTo>
                  <a:lnTo>
                    <a:pt x="276" y="82"/>
                  </a:lnTo>
                  <a:lnTo>
                    <a:pt x="288" y="94"/>
                  </a:lnTo>
                  <a:lnTo>
                    <a:pt x="292" y="98"/>
                  </a:lnTo>
                  <a:lnTo>
                    <a:pt x="292" y="98"/>
                  </a:lnTo>
                  <a:lnTo>
                    <a:pt x="300" y="106"/>
                  </a:lnTo>
                  <a:lnTo>
                    <a:pt x="310" y="110"/>
                  </a:lnTo>
                  <a:lnTo>
                    <a:pt x="320" y="110"/>
                  </a:lnTo>
                  <a:lnTo>
                    <a:pt x="330" y="106"/>
                  </a:lnTo>
                  <a:lnTo>
                    <a:pt x="330" y="106"/>
                  </a:lnTo>
                  <a:lnTo>
                    <a:pt x="336" y="98"/>
                  </a:lnTo>
                  <a:lnTo>
                    <a:pt x="340" y="90"/>
                  </a:lnTo>
                  <a:lnTo>
                    <a:pt x="340" y="80"/>
                  </a:lnTo>
                  <a:lnTo>
                    <a:pt x="336" y="70"/>
                  </a:lnTo>
                  <a:lnTo>
                    <a:pt x="336" y="70"/>
                  </a:lnTo>
                  <a:lnTo>
                    <a:pt x="332" y="62"/>
                  </a:lnTo>
                  <a:lnTo>
                    <a:pt x="316" y="48"/>
                  </a:lnTo>
                  <a:lnTo>
                    <a:pt x="306" y="38"/>
                  </a:lnTo>
                  <a:lnTo>
                    <a:pt x="292" y="28"/>
                  </a:lnTo>
                  <a:lnTo>
                    <a:pt x="276" y="20"/>
                  </a:lnTo>
                  <a:lnTo>
                    <a:pt x="256" y="12"/>
                  </a:lnTo>
                  <a:lnTo>
                    <a:pt x="234" y="4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54" y="2"/>
                  </a:lnTo>
                  <a:lnTo>
                    <a:pt x="122" y="10"/>
                  </a:lnTo>
                  <a:lnTo>
                    <a:pt x="88" y="22"/>
                  </a:lnTo>
                  <a:lnTo>
                    <a:pt x="50" y="38"/>
                  </a:lnTo>
                  <a:lnTo>
                    <a:pt x="10" y="62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58"/>
            <p:cNvSpPr/>
            <p:nvPr/>
          </p:nvSpPr>
          <p:spPr>
            <a:xfrm>
              <a:off x="38436480" y="1717560"/>
              <a:ext cx="1685880" cy="927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1062" h="584">
                  <a:moveTo>
                    <a:pt x="1062" y="0"/>
                  </a:moveTo>
                  <a:lnTo>
                    <a:pt x="1062" y="0"/>
                  </a:lnTo>
                  <a:lnTo>
                    <a:pt x="1046" y="20"/>
                  </a:lnTo>
                  <a:lnTo>
                    <a:pt x="1002" y="74"/>
                  </a:lnTo>
                  <a:lnTo>
                    <a:pt x="970" y="112"/>
                  </a:lnTo>
                  <a:lnTo>
                    <a:pt x="932" y="152"/>
                  </a:lnTo>
                  <a:lnTo>
                    <a:pt x="886" y="198"/>
                  </a:lnTo>
                  <a:lnTo>
                    <a:pt x="836" y="244"/>
                  </a:lnTo>
                  <a:lnTo>
                    <a:pt x="778" y="294"/>
                  </a:lnTo>
                  <a:lnTo>
                    <a:pt x="716" y="342"/>
                  </a:lnTo>
                  <a:lnTo>
                    <a:pt x="682" y="366"/>
                  </a:lnTo>
                  <a:lnTo>
                    <a:pt x="646" y="388"/>
                  </a:lnTo>
                  <a:lnTo>
                    <a:pt x="610" y="412"/>
                  </a:lnTo>
                  <a:lnTo>
                    <a:pt x="574" y="434"/>
                  </a:lnTo>
                  <a:lnTo>
                    <a:pt x="534" y="454"/>
                  </a:lnTo>
                  <a:lnTo>
                    <a:pt x="494" y="474"/>
                  </a:lnTo>
                  <a:lnTo>
                    <a:pt x="452" y="492"/>
                  </a:lnTo>
                  <a:lnTo>
                    <a:pt x="410" y="510"/>
                  </a:lnTo>
                  <a:lnTo>
                    <a:pt x="366" y="526"/>
                  </a:lnTo>
                  <a:lnTo>
                    <a:pt x="322" y="540"/>
                  </a:lnTo>
                  <a:lnTo>
                    <a:pt x="276" y="552"/>
                  </a:lnTo>
                  <a:lnTo>
                    <a:pt x="228" y="562"/>
                  </a:lnTo>
                  <a:lnTo>
                    <a:pt x="228" y="562"/>
                  </a:lnTo>
                  <a:lnTo>
                    <a:pt x="218" y="556"/>
                  </a:lnTo>
                  <a:lnTo>
                    <a:pt x="206" y="550"/>
                  </a:lnTo>
                  <a:lnTo>
                    <a:pt x="194" y="542"/>
                  </a:lnTo>
                  <a:lnTo>
                    <a:pt x="182" y="530"/>
                  </a:lnTo>
                  <a:lnTo>
                    <a:pt x="172" y="518"/>
                  </a:lnTo>
                  <a:lnTo>
                    <a:pt x="170" y="510"/>
                  </a:lnTo>
                  <a:lnTo>
                    <a:pt x="166" y="502"/>
                  </a:lnTo>
                  <a:lnTo>
                    <a:pt x="166" y="492"/>
                  </a:lnTo>
                  <a:lnTo>
                    <a:pt x="166" y="482"/>
                  </a:lnTo>
                  <a:lnTo>
                    <a:pt x="166" y="482"/>
                  </a:lnTo>
                  <a:lnTo>
                    <a:pt x="166" y="476"/>
                  </a:lnTo>
                  <a:lnTo>
                    <a:pt x="164" y="476"/>
                  </a:lnTo>
                  <a:lnTo>
                    <a:pt x="162" y="476"/>
                  </a:lnTo>
                  <a:lnTo>
                    <a:pt x="154" y="480"/>
                  </a:lnTo>
                  <a:lnTo>
                    <a:pt x="144" y="488"/>
                  </a:lnTo>
                  <a:lnTo>
                    <a:pt x="86" y="540"/>
                  </a:lnTo>
                  <a:lnTo>
                    <a:pt x="56" y="568"/>
                  </a:lnTo>
                  <a:lnTo>
                    <a:pt x="40" y="576"/>
                  </a:lnTo>
                  <a:lnTo>
                    <a:pt x="28" y="582"/>
                  </a:lnTo>
                  <a:lnTo>
                    <a:pt x="16" y="584"/>
                  </a:lnTo>
                  <a:lnTo>
                    <a:pt x="12" y="584"/>
                  </a:lnTo>
                  <a:lnTo>
                    <a:pt x="8" y="580"/>
                  </a:lnTo>
                  <a:lnTo>
                    <a:pt x="4" y="576"/>
                  </a:lnTo>
                  <a:lnTo>
                    <a:pt x="2" y="570"/>
                  </a:lnTo>
                  <a:lnTo>
                    <a:pt x="0" y="562"/>
                  </a:lnTo>
                  <a:lnTo>
                    <a:pt x="0" y="552"/>
                  </a:lnTo>
                  <a:lnTo>
                    <a:pt x="0" y="552"/>
                  </a:lnTo>
                  <a:lnTo>
                    <a:pt x="2" y="530"/>
                  </a:lnTo>
                  <a:lnTo>
                    <a:pt x="4" y="504"/>
                  </a:lnTo>
                  <a:lnTo>
                    <a:pt x="12" y="446"/>
                  </a:lnTo>
                  <a:lnTo>
                    <a:pt x="26" y="384"/>
                  </a:lnTo>
                  <a:lnTo>
                    <a:pt x="40" y="322"/>
                  </a:lnTo>
                  <a:lnTo>
                    <a:pt x="66" y="218"/>
                  </a:lnTo>
                  <a:lnTo>
                    <a:pt x="80" y="176"/>
                  </a:lnTo>
                  <a:lnTo>
                    <a:pt x="80" y="176"/>
                  </a:lnTo>
                  <a:lnTo>
                    <a:pt x="76" y="218"/>
                  </a:lnTo>
                  <a:lnTo>
                    <a:pt x="74" y="262"/>
                  </a:lnTo>
                  <a:lnTo>
                    <a:pt x="72" y="308"/>
                  </a:lnTo>
                  <a:lnTo>
                    <a:pt x="74" y="352"/>
                  </a:lnTo>
                  <a:lnTo>
                    <a:pt x="76" y="372"/>
                  </a:lnTo>
                  <a:lnTo>
                    <a:pt x="80" y="386"/>
                  </a:lnTo>
                  <a:lnTo>
                    <a:pt x="84" y="398"/>
                  </a:lnTo>
                  <a:lnTo>
                    <a:pt x="86" y="402"/>
                  </a:lnTo>
                  <a:lnTo>
                    <a:pt x="90" y="404"/>
                  </a:lnTo>
                  <a:lnTo>
                    <a:pt x="92" y="404"/>
                  </a:lnTo>
                  <a:lnTo>
                    <a:pt x="96" y="402"/>
                  </a:lnTo>
                  <a:lnTo>
                    <a:pt x="106" y="396"/>
                  </a:lnTo>
                  <a:lnTo>
                    <a:pt x="106" y="396"/>
                  </a:lnTo>
                  <a:lnTo>
                    <a:pt x="126" y="374"/>
                  </a:lnTo>
                  <a:lnTo>
                    <a:pt x="148" y="358"/>
                  </a:lnTo>
                  <a:lnTo>
                    <a:pt x="170" y="346"/>
                  </a:lnTo>
                  <a:lnTo>
                    <a:pt x="180" y="342"/>
                  </a:lnTo>
                  <a:lnTo>
                    <a:pt x="190" y="340"/>
                  </a:lnTo>
                  <a:lnTo>
                    <a:pt x="202" y="338"/>
                  </a:lnTo>
                  <a:lnTo>
                    <a:pt x="212" y="338"/>
                  </a:lnTo>
                  <a:lnTo>
                    <a:pt x="222" y="340"/>
                  </a:lnTo>
                  <a:lnTo>
                    <a:pt x="232" y="342"/>
                  </a:lnTo>
                  <a:lnTo>
                    <a:pt x="240" y="346"/>
                  </a:lnTo>
                  <a:lnTo>
                    <a:pt x="248" y="352"/>
                  </a:lnTo>
                  <a:lnTo>
                    <a:pt x="256" y="360"/>
                  </a:lnTo>
                  <a:lnTo>
                    <a:pt x="264" y="368"/>
                  </a:lnTo>
                  <a:lnTo>
                    <a:pt x="264" y="368"/>
                  </a:lnTo>
                  <a:lnTo>
                    <a:pt x="268" y="374"/>
                  </a:lnTo>
                  <a:lnTo>
                    <a:pt x="274" y="378"/>
                  </a:lnTo>
                  <a:lnTo>
                    <a:pt x="280" y="380"/>
                  </a:lnTo>
                  <a:lnTo>
                    <a:pt x="290" y="382"/>
                  </a:lnTo>
                  <a:lnTo>
                    <a:pt x="314" y="384"/>
                  </a:lnTo>
                  <a:lnTo>
                    <a:pt x="342" y="382"/>
                  </a:lnTo>
                  <a:lnTo>
                    <a:pt x="378" y="378"/>
                  </a:lnTo>
                  <a:lnTo>
                    <a:pt x="418" y="368"/>
                  </a:lnTo>
                  <a:lnTo>
                    <a:pt x="464" y="354"/>
                  </a:lnTo>
                  <a:lnTo>
                    <a:pt x="514" y="336"/>
                  </a:lnTo>
                  <a:lnTo>
                    <a:pt x="570" y="312"/>
                  </a:lnTo>
                  <a:lnTo>
                    <a:pt x="630" y="284"/>
                  </a:lnTo>
                  <a:lnTo>
                    <a:pt x="694" y="252"/>
                  </a:lnTo>
                  <a:lnTo>
                    <a:pt x="760" y="214"/>
                  </a:lnTo>
                  <a:lnTo>
                    <a:pt x="832" y="170"/>
                  </a:lnTo>
                  <a:lnTo>
                    <a:pt x="906" y="120"/>
                  </a:lnTo>
                  <a:lnTo>
                    <a:pt x="982" y="62"/>
                  </a:lnTo>
                  <a:lnTo>
                    <a:pt x="1062" y="0"/>
                  </a:lnTo>
                  <a:lnTo>
                    <a:pt x="1062" y="0"/>
                  </a:lnTo>
                  <a:close/>
                </a:path>
              </a:pathLst>
            </a:custGeom>
            <a:solidFill>
              <a:srgbClr val="615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59"/>
            <p:cNvSpPr/>
            <p:nvPr/>
          </p:nvSpPr>
          <p:spPr>
            <a:xfrm>
              <a:off x="38646000" y="1647720"/>
              <a:ext cx="1266840" cy="39348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798" h="248">
                  <a:moveTo>
                    <a:pt x="0" y="140"/>
                  </a:moveTo>
                  <a:lnTo>
                    <a:pt x="0" y="140"/>
                  </a:lnTo>
                  <a:lnTo>
                    <a:pt x="28" y="114"/>
                  </a:lnTo>
                  <a:lnTo>
                    <a:pt x="58" y="90"/>
                  </a:lnTo>
                  <a:lnTo>
                    <a:pt x="92" y="64"/>
                  </a:lnTo>
                  <a:lnTo>
                    <a:pt x="110" y="52"/>
                  </a:lnTo>
                  <a:lnTo>
                    <a:pt x="128" y="42"/>
                  </a:lnTo>
                  <a:lnTo>
                    <a:pt x="144" y="34"/>
                  </a:lnTo>
                  <a:lnTo>
                    <a:pt x="158" y="30"/>
                  </a:lnTo>
                  <a:lnTo>
                    <a:pt x="172" y="28"/>
                  </a:lnTo>
                  <a:lnTo>
                    <a:pt x="178" y="30"/>
                  </a:lnTo>
                  <a:lnTo>
                    <a:pt x="182" y="32"/>
                  </a:lnTo>
                  <a:lnTo>
                    <a:pt x="186" y="34"/>
                  </a:lnTo>
                  <a:lnTo>
                    <a:pt x="190" y="40"/>
                  </a:lnTo>
                  <a:lnTo>
                    <a:pt x="192" y="46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8" y="86"/>
                  </a:lnTo>
                  <a:lnTo>
                    <a:pt x="208" y="118"/>
                  </a:lnTo>
                  <a:lnTo>
                    <a:pt x="214" y="134"/>
                  </a:lnTo>
                  <a:lnTo>
                    <a:pt x="220" y="148"/>
                  </a:lnTo>
                  <a:lnTo>
                    <a:pt x="228" y="160"/>
                  </a:lnTo>
                  <a:lnTo>
                    <a:pt x="238" y="172"/>
                  </a:lnTo>
                  <a:lnTo>
                    <a:pt x="248" y="182"/>
                  </a:lnTo>
                  <a:lnTo>
                    <a:pt x="258" y="192"/>
                  </a:lnTo>
                  <a:lnTo>
                    <a:pt x="270" y="198"/>
                  </a:lnTo>
                  <a:lnTo>
                    <a:pt x="282" y="202"/>
                  </a:lnTo>
                  <a:lnTo>
                    <a:pt x="296" y="204"/>
                  </a:lnTo>
                  <a:lnTo>
                    <a:pt x="310" y="204"/>
                  </a:lnTo>
                  <a:lnTo>
                    <a:pt x="326" y="200"/>
                  </a:lnTo>
                  <a:lnTo>
                    <a:pt x="342" y="194"/>
                  </a:lnTo>
                  <a:lnTo>
                    <a:pt x="342" y="194"/>
                  </a:lnTo>
                  <a:lnTo>
                    <a:pt x="376" y="174"/>
                  </a:lnTo>
                  <a:lnTo>
                    <a:pt x="416" y="146"/>
                  </a:lnTo>
                  <a:lnTo>
                    <a:pt x="494" y="90"/>
                  </a:lnTo>
                  <a:lnTo>
                    <a:pt x="532" y="66"/>
                  </a:lnTo>
                  <a:lnTo>
                    <a:pt x="548" y="58"/>
                  </a:lnTo>
                  <a:lnTo>
                    <a:pt x="566" y="50"/>
                  </a:lnTo>
                  <a:lnTo>
                    <a:pt x="580" y="46"/>
                  </a:lnTo>
                  <a:lnTo>
                    <a:pt x="594" y="44"/>
                  </a:lnTo>
                  <a:lnTo>
                    <a:pt x="604" y="46"/>
                  </a:lnTo>
                  <a:lnTo>
                    <a:pt x="614" y="54"/>
                  </a:lnTo>
                  <a:lnTo>
                    <a:pt x="614" y="54"/>
                  </a:lnTo>
                  <a:lnTo>
                    <a:pt x="624" y="60"/>
                  </a:lnTo>
                  <a:lnTo>
                    <a:pt x="634" y="64"/>
                  </a:lnTo>
                  <a:lnTo>
                    <a:pt x="648" y="64"/>
                  </a:lnTo>
                  <a:lnTo>
                    <a:pt x="662" y="64"/>
                  </a:lnTo>
                  <a:lnTo>
                    <a:pt x="676" y="60"/>
                  </a:lnTo>
                  <a:lnTo>
                    <a:pt x="692" y="56"/>
                  </a:lnTo>
                  <a:lnTo>
                    <a:pt x="722" y="44"/>
                  </a:lnTo>
                  <a:lnTo>
                    <a:pt x="752" y="28"/>
                  </a:lnTo>
                  <a:lnTo>
                    <a:pt x="776" y="14"/>
                  </a:lnTo>
                  <a:lnTo>
                    <a:pt x="798" y="0"/>
                  </a:lnTo>
                  <a:lnTo>
                    <a:pt x="798" y="0"/>
                  </a:lnTo>
                  <a:lnTo>
                    <a:pt x="780" y="18"/>
                  </a:lnTo>
                  <a:lnTo>
                    <a:pt x="762" y="36"/>
                  </a:lnTo>
                  <a:lnTo>
                    <a:pt x="738" y="54"/>
                  </a:lnTo>
                  <a:lnTo>
                    <a:pt x="712" y="72"/>
                  </a:lnTo>
                  <a:lnTo>
                    <a:pt x="698" y="80"/>
                  </a:lnTo>
                  <a:lnTo>
                    <a:pt x="684" y="86"/>
                  </a:lnTo>
                  <a:lnTo>
                    <a:pt x="670" y="90"/>
                  </a:lnTo>
                  <a:lnTo>
                    <a:pt x="656" y="92"/>
                  </a:lnTo>
                  <a:lnTo>
                    <a:pt x="644" y="92"/>
                  </a:lnTo>
                  <a:lnTo>
                    <a:pt x="632" y="88"/>
                  </a:lnTo>
                  <a:lnTo>
                    <a:pt x="632" y="88"/>
                  </a:lnTo>
                  <a:lnTo>
                    <a:pt x="620" y="84"/>
                  </a:lnTo>
                  <a:lnTo>
                    <a:pt x="606" y="84"/>
                  </a:lnTo>
                  <a:lnTo>
                    <a:pt x="594" y="86"/>
                  </a:lnTo>
                  <a:lnTo>
                    <a:pt x="580" y="90"/>
                  </a:lnTo>
                  <a:lnTo>
                    <a:pt x="566" y="96"/>
                  </a:lnTo>
                  <a:lnTo>
                    <a:pt x="550" y="104"/>
                  </a:lnTo>
                  <a:lnTo>
                    <a:pt x="520" y="122"/>
                  </a:lnTo>
                  <a:lnTo>
                    <a:pt x="460" y="166"/>
                  </a:lnTo>
                  <a:lnTo>
                    <a:pt x="430" y="186"/>
                  </a:lnTo>
                  <a:lnTo>
                    <a:pt x="404" y="202"/>
                  </a:lnTo>
                  <a:lnTo>
                    <a:pt x="404" y="202"/>
                  </a:lnTo>
                  <a:lnTo>
                    <a:pt x="374" y="216"/>
                  </a:lnTo>
                  <a:lnTo>
                    <a:pt x="340" y="230"/>
                  </a:lnTo>
                  <a:lnTo>
                    <a:pt x="304" y="242"/>
                  </a:lnTo>
                  <a:lnTo>
                    <a:pt x="286" y="244"/>
                  </a:lnTo>
                  <a:lnTo>
                    <a:pt x="270" y="248"/>
                  </a:lnTo>
                  <a:lnTo>
                    <a:pt x="252" y="248"/>
                  </a:lnTo>
                  <a:lnTo>
                    <a:pt x="236" y="246"/>
                  </a:lnTo>
                  <a:lnTo>
                    <a:pt x="222" y="240"/>
                  </a:lnTo>
                  <a:lnTo>
                    <a:pt x="208" y="234"/>
                  </a:lnTo>
                  <a:lnTo>
                    <a:pt x="196" y="222"/>
                  </a:lnTo>
                  <a:lnTo>
                    <a:pt x="188" y="208"/>
                  </a:lnTo>
                  <a:lnTo>
                    <a:pt x="180" y="190"/>
                  </a:lnTo>
                  <a:lnTo>
                    <a:pt x="176" y="168"/>
                  </a:lnTo>
                  <a:lnTo>
                    <a:pt x="176" y="168"/>
                  </a:lnTo>
                  <a:lnTo>
                    <a:pt x="170" y="146"/>
                  </a:lnTo>
                  <a:lnTo>
                    <a:pt x="162" y="128"/>
                  </a:lnTo>
                  <a:lnTo>
                    <a:pt x="152" y="116"/>
                  </a:lnTo>
                  <a:lnTo>
                    <a:pt x="140" y="108"/>
                  </a:lnTo>
                  <a:lnTo>
                    <a:pt x="126" y="102"/>
                  </a:lnTo>
                  <a:lnTo>
                    <a:pt x="112" y="100"/>
                  </a:lnTo>
                  <a:lnTo>
                    <a:pt x="96" y="102"/>
                  </a:lnTo>
                  <a:lnTo>
                    <a:pt x="80" y="104"/>
                  </a:lnTo>
                  <a:lnTo>
                    <a:pt x="66" y="108"/>
                  </a:lnTo>
                  <a:lnTo>
                    <a:pt x="50" y="114"/>
                  </a:lnTo>
                  <a:lnTo>
                    <a:pt x="24" y="126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837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60"/>
            <p:cNvSpPr/>
            <p:nvPr/>
          </p:nvSpPr>
          <p:spPr>
            <a:xfrm>
              <a:off x="40636800" y="1955880"/>
              <a:ext cx="276120" cy="6667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74" h="420">
                  <a:moveTo>
                    <a:pt x="0" y="0"/>
                  </a:moveTo>
                  <a:lnTo>
                    <a:pt x="0" y="0"/>
                  </a:lnTo>
                  <a:lnTo>
                    <a:pt x="10" y="22"/>
                  </a:lnTo>
                  <a:lnTo>
                    <a:pt x="22" y="44"/>
                  </a:lnTo>
                  <a:lnTo>
                    <a:pt x="38" y="70"/>
                  </a:lnTo>
                  <a:lnTo>
                    <a:pt x="58" y="96"/>
                  </a:lnTo>
                  <a:lnTo>
                    <a:pt x="68" y="108"/>
                  </a:lnTo>
                  <a:lnTo>
                    <a:pt x="78" y="118"/>
                  </a:lnTo>
                  <a:lnTo>
                    <a:pt x="88" y="126"/>
                  </a:lnTo>
                  <a:lnTo>
                    <a:pt x="100" y="134"/>
                  </a:lnTo>
                  <a:lnTo>
                    <a:pt x="112" y="138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34" y="142"/>
                  </a:lnTo>
                  <a:lnTo>
                    <a:pt x="144" y="148"/>
                  </a:lnTo>
                  <a:lnTo>
                    <a:pt x="152" y="158"/>
                  </a:lnTo>
                  <a:lnTo>
                    <a:pt x="160" y="172"/>
                  </a:lnTo>
                  <a:lnTo>
                    <a:pt x="166" y="188"/>
                  </a:lnTo>
                  <a:lnTo>
                    <a:pt x="170" y="208"/>
                  </a:lnTo>
                  <a:lnTo>
                    <a:pt x="172" y="228"/>
                  </a:lnTo>
                  <a:lnTo>
                    <a:pt x="174" y="250"/>
                  </a:lnTo>
                  <a:lnTo>
                    <a:pt x="172" y="274"/>
                  </a:lnTo>
                  <a:lnTo>
                    <a:pt x="170" y="298"/>
                  </a:lnTo>
                  <a:lnTo>
                    <a:pt x="164" y="320"/>
                  </a:lnTo>
                  <a:lnTo>
                    <a:pt x="158" y="344"/>
                  </a:lnTo>
                  <a:lnTo>
                    <a:pt x="148" y="366"/>
                  </a:lnTo>
                  <a:lnTo>
                    <a:pt x="136" y="386"/>
                  </a:lnTo>
                  <a:lnTo>
                    <a:pt x="122" y="404"/>
                  </a:lnTo>
                  <a:lnTo>
                    <a:pt x="106" y="420"/>
                  </a:lnTo>
                  <a:lnTo>
                    <a:pt x="106" y="420"/>
                  </a:lnTo>
                  <a:lnTo>
                    <a:pt x="96" y="370"/>
                  </a:lnTo>
                  <a:lnTo>
                    <a:pt x="70" y="252"/>
                  </a:lnTo>
                  <a:lnTo>
                    <a:pt x="52" y="182"/>
                  </a:lnTo>
                  <a:lnTo>
                    <a:pt x="36" y="114"/>
                  </a:lnTo>
                  <a:lnTo>
                    <a:pt x="18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5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1"/>
            <p:cNvSpPr/>
            <p:nvPr/>
          </p:nvSpPr>
          <p:spPr>
            <a:xfrm>
              <a:off x="39843000" y="3067200"/>
              <a:ext cx="473040" cy="22536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98" h="142">
                  <a:moveTo>
                    <a:pt x="8" y="62"/>
                  </a:moveTo>
                  <a:lnTo>
                    <a:pt x="8" y="62"/>
                  </a:lnTo>
                  <a:lnTo>
                    <a:pt x="2" y="70"/>
                  </a:lnTo>
                  <a:lnTo>
                    <a:pt x="0" y="80"/>
                  </a:lnTo>
                  <a:lnTo>
                    <a:pt x="2" y="90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16" y="104"/>
                  </a:lnTo>
                  <a:lnTo>
                    <a:pt x="26" y="106"/>
                  </a:lnTo>
                  <a:lnTo>
                    <a:pt x="36" y="104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54" y="90"/>
                  </a:lnTo>
                  <a:lnTo>
                    <a:pt x="66" y="82"/>
                  </a:lnTo>
                  <a:lnTo>
                    <a:pt x="80" y="74"/>
                  </a:lnTo>
                  <a:lnTo>
                    <a:pt x="96" y="64"/>
                  </a:lnTo>
                  <a:lnTo>
                    <a:pt x="114" y="58"/>
                  </a:lnTo>
                  <a:lnTo>
                    <a:pt x="136" y="54"/>
                  </a:lnTo>
                  <a:lnTo>
                    <a:pt x="146" y="54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70" y="56"/>
                  </a:lnTo>
                  <a:lnTo>
                    <a:pt x="182" y="62"/>
                  </a:lnTo>
                  <a:lnTo>
                    <a:pt x="194" y="68"/>
                  </a:lnTo>
                  <a:lnTo>
                    <a:pt x="206" y="76"/>
                  </a:lnTo>
                  <a:lnTo>
                    <a:pt x="218" y="86"/>
                  </a:lnTo>
                  <a:lnTo>
                    <a:pt x="228" y="98"/>
                  </a:lnTo>
                  <a:lnTo>
                    <a:pt x="240" y="112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56" y="136"/>
                  </a:lnTo>
                  <a:lnTo>
                    <a:pt x="266" y="140"/>
                  </a:lnTo>
                  <a:lnTo>
                    <a:pt x="276" y="142"/>
                  </a:lnTo>
                  <a:lnTo>
                    <a:pt x="286" y="138"/>
                  </a:lnTo>
                  <a:lnTo>
                    <a:pt x="286" y="138"/>
                  </a:lnTo>
                  <a:lnTo>
                    <a:pt x="294" y="130"/>
                  </a:lnTo>
                  <a:lnTo>
                    <a:pt x="298" y="122"/>
                  </a:lnTo>
                  <a:lnTo>
                    <a:pt x="298" y="112"/>
                  </a:lnTo>
                  <a:lnTo>
                    <a:pt x="294" y="102"/>
                  </a:lnTo>
                  <a:lnTo>
                    <a:pt x="294" y="102"/>
                  </a:lnTo>
                  <a:lnTo>
                    <a:pt x="280" y="80"/>
                  </a:lnTo>
                  <a:lnTo>
                    <a:pt x="266" y="62"/>
                  </a:lnTo>
                  <a:lnTo>
                    <a:pt x="250" y="46"/>
                  </a:lnTo>
                  <a:lnTo>
                    <a:pt x="234" y="32"/>
                  </a:lnTo>
                  <a:lnTo>
                    <a:pt x="218" y="20"/>
                  </a:lnTo>
                  <a:lnTo>
                    <a:pt x="200" y="12"/>
                  </a:lnTo>
                  <a:lnTo>
                    <a:pt x="182" y="6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48" y="0"/>
                  </a:lnTo>
                  <a:lnTo>
                    <a:pt x="132" y="2"/>
                  </a:lnTo>
                  <a:lnTo>
                    <a:pt x="118" y="4"/>
                  </a:lnTo>
                  <a:lnTo>
                    <a:pt x="104" y="6"/>
                  </a:lnTo>
                  <a:lnTo>
                    <a:pt x="78" y="16"/>
                  </a:lnTo>
                  <a:lnTo>
                    <a:pt x="56" y="26"/>
                  </a:lnTo>
                  <a:lnTo>
                    <a:pt x="36" y="38"/>
                  </a:lnTo>
                  <a:lnTo>
                    <a:pt x="22" y="50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2"/>
            <p:cNvSpPr/>
            <p:nvPr/>
          </p:nvSpPr>
          <p:spPr>
            <a:xfrm>
              <a:off x="38938320" y="3048120"/>
              <a:ext cx="431640" cy="1746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2" h="110">
                  <a:moveTo>
                    <a:pt x="106" y="0"/>
                  </a:moveTo>
                  <a:lnTo>
                    <a:pt x="106" y="0"/>
                  </a:lnTo>
                  <a:lnTo>
                    <a:pt x="92" y="2"/>
                  </a:lnTo>
                  <a:lnTo>
                    <a:pt x="78" y="6"/>
                  </a:lnTo>
                  <a:lnTo>
                    <a:pt x="64" y="10"/>
                  </a:lnTo>
                  <a:lnTo>
                    <a:pt x="52" y="18"/>
                  </a:lnTo>
                  <a:lnTo>
                    <a:pt x="38" y="26"/>
                  </a:lnTo>
                  <a:lnTo>
                    <a:pt x="28" y="36"/>
                  </a:lnTo>
                  <a:lnTo>
                    <a:pt x="16" y="46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4" y="88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20" y="100"/>
                  </a:lnTo>
                  <a:lnTo>
                    <a:pt x="30" y="100"/>
                  </a:lnTo>
                  <a:lnTo>
                    <a:pt x="40" y="98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62" y="76"/>
                  </a:lnTo>
                  <a:lnTo>
                    <a:pt x="76" y="64"/>
                  </a:lnTo>
                  <a:lnTo>
                    <a:pt x="92" y="56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20" y="52"/>
                  </a:lnTo>
                  <a:lnTo>
                    <a:pt x="132" y="54"/>
                  </a:lnTo>
                  <a:lnTo>
                    <a:pt x="152" y="58"/>
                  </a:lnTo>
                  <a:lnTo>
                    <a:pt x="172" y="66"/>
                  </a:lnTo>
                  <a:lnTo>
                    <a:pt x="190" y="76"/>
                  </a:lnTo>
                  <a:lnTo>
                    <a:pt x="206" y="86"/>
                  </a:lnTo>
                  <a:lnTo>
                    <a:pt x="218" y="94"/>
                  </a:lnTo>
                  <a:lnTo>
                    <a:pt x="228" y="102"/>
                  </a:lnTo>
                  <a:lnTo>
                    <a:pt x="228" y="102"/>
                  </a:lnTo>
                  <a:lnTo>
                    <a:pt x="236" y="108"/>
                  </a:lnTo>
                  <a:lnTo>
                    <a:pt x="246" y="110"/>
                  </a:lnTo>
                  <a:lnTo>
                    <a:pt x="256" y="108"/>
                  </a:lnTo>
                  <a:lnTo>
                    <a:pt x="264" y="102"/>
                  </a:lnTo>
                  <a:lnTo>
                    <a:pt x="264" y="102"/>
                  </a:lnTo>
                  <a:lnTo>
                    <a:pt x="270" y="92"/>
                  </a:lnTo>
                  <a:lnTo>
                    <a:pt x="272" y="82"/>
                  </a:lnTo>
                  <a:lnTo>
                    <a:pt x="270" y="72"/>
                  </a:lnTo>
                  <a:lnTo>
                    <a:pt x="264" y="64"/>
                  </a:lnTo>
                  <a:lnTo>
                    <a:pt x="264" y="64"/>
                  </a:lnTo>
                  <a:lnTo>
                    <a:pt x="248" y="52"/>
                  </a:lnTo>
                  <a:lnTo>
                    <a:pt x="234" y="40"/>
                  </a:lnTo>
                  <a:lnTo>
                    <a:pt x="214" y="28"/>
                  </a:lnTo>
                  <a:lnTo>
                    <a:pt x="190" y="16"/>
                  </a:lnTo>
                  <a:lnTo>
                    <a:pt x="164" y="8"/>
                  </a:lnTo>
                  <a:lnTo>
                    <a:pt x="150" y="4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63"/>
            <p:cNvSpPr/>
            <p:nvPr/>
          </p:nvSpPr>
          <p:spPr>
            <a:xfrm>
              <a:off x="39484440" y="4533840"/>
              <a:ext cx="1041120" cy="19620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962000"/>
                <a:gd name="textAreaBottom" fmla="*/ 1962360 h 1962000"/>
              </a:gdLst>
              <a:ahLst/>
              <a:rect l="textAreaLeft" t="textAreaTop" r="textAreaRight" b="textAreaBottom"/>
              <a:pathLst>
                <a:path w="656" h="1236">
                  <a:moveTo>
                    <a:pt x="336" y="10"/>
                  </a:moveTo>
                  <a:lnTo>
                    <a:pt x="336" y="10"/>
                  </a:lnTo>
                  <a:lnTo>
                    <a:pt x="356" y="6"/>
                  </a:lnTo>
                  <a:lnTo>
                    <a:pt x="378" y="2"/>
                  </a:lnTo>
                  <a:lnTo>
                    <a:pt x="404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6" y="2"/>
                  </a:lnTo>
                  <a:lnTo>
                    <a:pt x="466" y="6"/>
                  </a:lnTo>
                  <a:lnTo>
                    <a:pt x="476" y="12"/>
                  </a:lnTo>
                  <a:lnTo>
                    <a:pt x="482" y="18"/>
                  </a:lnTo>
                  <a:lnTo>
                    <a:pt x="486" y="26"/>
                  </a:lnTo>
                  <a:lnTo>
                    <a:pt x="486" y="26"/>
                  </a:lnTo>
                  <a:lnTo>
                    <a:pt x="492" y="36"/>
                  </a:lnTo>
                  <a:lnTo>
                    <a:pt x="498" y="48"/>
                  </a:lnTo>
                  <a:lnTo>
                    <a:pt x="518" y="72"/>
                  </a:lnTo>
                  <a:lnTo>
                    <a:pt x="542" y="100"/>
                  </a:lnTo>
                  <a:lnTo>
                    <a:pt x="570" y="130"/>
                  </a:lnTo>
                  <a:lnTo>
                    <a:pt x="598" y="160"/>
                  </a:lnTo>
                  <a:lnTo>
                    <a:pt x="624" y="190"/>
                  </a:lnTo>
                  <a:lnTo>
                    <a:pt x="634" y="204"/>
                  </a:lnTo>
                  <a:lnTo>
                    <a:pt x="644" y="218"/>
                  </a:lnTo>
                  <a:lnTo>
                    <a:pt x="650" y="232"/>
                  </a:lnTo>
                  <a:lnTo>
                    <a:pt x="654" y="246"/>
                  </a:lnTo>
                  <a:lnTo>
                    <a:pt x="654" y="246"/>
                  </a:lnTo>
                  <a:lnTo>
                    <a:pt x="656" y="262"/>
                  </a:lnTo>
                  <a:lnTo>
                    <a:pt x="656" y="290"/>
                  </a:lnTo>
                  <a:lnTo>
                    <a:pt x="652" y="368"/>
                  </a:lnTo>
                  <a:lnTo>
                    <a:pt x="640" y="466"/>
                  </a:lnTo>
                  <a:lnTo>
                    <a:pt x="628" y="572"/>
                  </a:lnTo>
                  <a:lnTo>
                    <a:pt x="600" y="764"/>
                  </a:lnTo>
                  <a:lnTo>
                    <a:pt x="588" y="850"/>
                  </a:lnTo>
                  <a:lnTo>
                    <a:pt x="336" y="850"/>
                  </a:lnTo>
                  <a:lnTo>
                    <a:pt x="420" y="1000"/>
                  </a:lnTo>
                  <a:lnTo>
                    <a:pt x="134" y="1236"/>
                  </a:lnTo>
                  <a:lnTo>
                    <a:pt x="0" y="1018"/>
                  </a:lnTo>
                  <a:lnTo>
                    <a:pt x="0" y="1018"/>
                  </a:lnTo>
                  <a:lnTo>
                    <a:pt x="14" y="988"/>
                  </a:lnTo>
                  <a:lnTo>
                    <a:pt x="52" y="910"/>
                  </a:lnTo>
                  <a:lnTo>
                    <a:pt x="106" y="792"/>
                  </a:lnTo>
                  <a:lnTo>
                    <a:pt x="136" y="722"/>
                  </a:lnTo>
                  <a:lnTo>
                    <a:pt x="168" y="646"/>
                  </a:lnTo>
                  <a:lnTo>
                    <a:pt x="198" y="566"/>
                  </a:lnTo>
                  <a:lnTo>
                    <a:pt x="230" y="484"/>
                  </a:lnTo>
                  <a:lnTo>
                    <a:pt x="258" y="400"/>
                  </a:lnTo>
                  <a:lnTo>
                    <a:pt x="284" y="316"/>
                  </a:lnTo>
                  <a:lnTo>
                    <a:pt x="304" y="234"/>
                  </a:lnTo>
                  <a:lnTo>
                    <a:pt x="322" y="154"/>
                  </a:lnTo>
                  <a:lnTo>
                    <a:pt x="328" y="116"/>
                  </a:lnTo>
                  <a:lnTo>
                    <a:pt x="332" y="80"/>
                  </a:lnTo>
                  <a:lnTo>
                    <a:pt x="334" y="44"/>
                  </a:lnTo>
                  <a:lnTo>
                    <a:pt x="336" y="10"/>
                  </a:lnTo>
                  <a:lnTo>
                    <a:pt x="3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64"/>
            <p:cNvSpPr/>
            <p:nvPr/>
          </p:nvSpPr>
          <p:spPr>
            <a:xfrm>
              <a:off x="39443040" y="4489560"/>
              <a:ext cx="1123920" cy="204768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2047680"/>
                <a:gd name="textAreaBottom" fmla="*/ 2048040 h 2047680"/>
              </a:gdLst>
              <a:ahLst/>
              <a:rect l="textAreaLeft" t="textAreaTop" r="textAreaRight" b="textAreaBottom"/>
              <a:pathLst>
                <a:path w="708" h="1290">
                  <a:moveTo>
                    <a:pt x="356" y="12"/>
                  </a:moveTo>
                  <a:lnTo>
                    <a:pt x="356" y="12"/>
                  </a:lnTo>
                  <a:lnTo>
                    <a:pt x="348" y="16"/>
                  </a:lnTo>
                  <a:lnTo>
                    <a:pt x="340" y="22"/>
                  </a:lnTo>
                  <a:lnTo>
                    <a:pt x="336" y="30"/>
                  </a:lnTo>
                  <a:lnTo>
                    <a:pt x="336" y="38"/>
                  </a:lnTo>
                  <a:lnTo>
                    <a:pt x="336" y="38"/>
                  </a:lnTo>
                  <a:lnTo>
                    <a:pt x="334" y="72"/>
                  </a:lnTo>
                  <a:lnTo>
                    <a:pt x="332" y="106"/>
                  </a:lnTo>
                  <a:lnTo>
                    <a:pt x="328" y="142"/>
                  </a:lnTo>
                  <a:lnTo>
                    <a:pt x="322" y="180"/>
                  </a:lnTo>
                  <a:lnTo>
                    <a:pt x="304" y="256"/>
                  </a:lnTo>
                  <a:lnTo>
                    <a:pt x="284" y="338"/>
                  </a:lnTo>
                  <a:lnTo>
                    <a:pt x="258" y="420"/>
                  </a:lnTo>
                  <a:lnTo>
                    <a:pt x="230" y="502"/>
                  </a:lnTo>
                  <a:lnTo>
                    <a:pt x="200" y="584"/>
                  </a:lnTo>
                  <a:lnTo>
                    <a:pt x="170" y="662"/>
                  </a:lnTo>
                  <a:lnTo>
                    <a:pt x="140" y="736"/>
                  </a:lnTo>
                  <a:lnTo>
                    <a:pt x="110" y="806"/>
                  </a:lnTo>
                  <a:lnTo>
                    <a:pt x="56" y="924"/>
                  </a:lnTo>
                  <a:lnTo>
                    <a:pt x="18" y="1004"/>
                  </a:lnTo>
                  <a:lnTo>
                    <a:pt x="2" y="1034"/>
                  </a:lnTo>
                  <a:lnTo>
                    <a:pt x="2" y="1034"/>
                  </a:lnTo>
                  <a:lnTo>
                    <a:pt x="0" y="1040"/>
                  </a:lnTo>
                  <a:lnTo>
                    <a:pt x="0" y="1046"/>
                  </a:lnTo>
                  <a:lnTo>
                    <a:pt x="0" y="1054"/>
                  </a:lnTo>
                  <a:lnTo>
                    <a:pt x="4" y="1060"/>
                  </a:lnTo>
                  <a:lnTo>
                    <a:pt x="138" y="1278"/>
                  </a:lnTo>
                  <a:lnTo>
                    <a:pt x="138" y="1278"/>
                  </a:lnTo>
                  <a:lnTo>
                    <a:pt x="142" y="1282"/>
                  </a:lnTo>
                  <a:lnTo>
                    <a:pt x="146" y="1286"/>
                  </a:lnTo>
                  <a:lnTo>
                    <a:pt x="156" y="1290"/>
                  </a:lnTo>
                  <a:lnTo>
                    <a:pt x="156" y="1290"/>
                  </a:lnTo>
                  <a:lnTo>
                    <a:pt x="162" y="1290"/>
                  </a:lnTo>
                  <a:lnTo>
                    <a:pt x="166" y="1290"/>
                  </a:lnTo>
                  <a:lnTo>
                    <a:pt x="172" y="1288"/>
                  </a:lnTo>
                  <a:lnTo>
                    <a:pt x="176" y="1284"/>
                  </a:lnTo>
                  <a:lnTo>
                    <a:pt x="462" y="1050"/>
                  </a:lnTo>
                  <a:lnTo>
                    <a:pt x="462" y="1050"/>
                  </a:lnTo>
                  <a:lnTo>
                    <a:pt x="466" y="1044"/>
                  </a:lnTo>
                  <a:lnTo>
                    <a:pt x="470" y="1040"/>
                  </a:lnTo>
                  <a:lnTo>
                    <a:pt x="472" y="1034"/>
                  </a:lnTo>
                  <a:lnTo>
                    <a:pt x="472" y="1028"/>
                  </a:lnTo>
                  <a:lnTo>
                    <a:pt x="472" y="1028"/>
                  </a:lnTo>
                  <a:lnTo>
                    <a:pt x="472" y="1022"/>
                  </a:lnTo>
                  <a:lnTo>
                    <a:pt x="468" y="1016"/>
                  </a:lnTo>
                  <a:lnTo>
                    <a:pt x="468" y="1016"/>
                  </a:lnTo>
                  <a:lnTo>
                    <a:pt x="406" y="904"/>
                  </a:lnTo>
                  <a:lnTo>
                    <a:pt x="406" y="904"/>
                  </a:lnTo>
                  <a:lnTo>
                    <a:pt x="614" y="904"/>
                  </a:lnTo>
                  <a:lnTo>
                    <a:pt x="614" y="904"/>
                  </a:lnTo>
                  <a:lnTo>
                    <a:pt x="622" y="902"/>
                  </a:lnTo>
                  <a:lnTo>
                    <a:pt x="630" y="898"/>
                  </a:lnTo>
                  <a:lnTo>
                    <a:pt x="636" y="890"/>
                  </a:lnTo>
                  <a:lnTo>
                    <a:pt x="640" y="882"/>
                  </a:lnTo>
                  <a:lnTo>
                    <a:pt x="640" y="882"/>
                  </a:lnTo>
                  <a:lnTo>
                    <a:pt x="656" y="776"/>
                  </a:lnTo>
                  <a:lnTo>
                    <a:pt x="678" y="610"/>
                  </a:lnTo>
                  <a:lnTo>
                    <a:pt x="690" y="520"/>
                  </a:lnTo>
                  <a:lnTo>
                    <a:pt x="700" y="436"/>
                  </a:lnTo>
                  <a:lnTo>
                    <a:pt x="706" y="360"/>
                  </a:lnTo>
                  <a:lnTo>
                    <a:pt x="708" y="302"/>
                  </a:lnTo>
                  <a:lnTo>
                    <a:pt x="708" y="302"/>
                  </a:lnTo>
                  <a:lnTo>
                    <a:pt x="708" y="282"/>
                  </a:lnTo>
                  <a:lnTo>
                    <a:pt x="706" y="266"/>
                  </a:lnTo>
                  <a:lnTo>
                    <a:pt x="706" y="266"/>
                  </a:lnTo>
                  <a:lnTo>
                    <a:pt x="700" y="250"/>
                  </a:lnTo>
                  <a:lnTo>
                    <a:pt x="692" y="234"/>
                  </a:lnTo>
                  <a:lnTo>
                    <a:pt x="680" y="216"/>
                  </a:lnTo>
                  <a:lnTo>
                    <a:pt x="668" y="198"/>
                  </a:lnTo>
                  <a:lnTo>
                    <a:pt x="638" y="162"/>
                  </a:lnTo>
                  <a:lnTo>
                    <a:pt x="604" y="128"/>
                  </a:lnTo>
                  <a:lnTo>
                    <a:pt x="604" y="128"/>
                  </a:lnTo>
                  <a:lnTo>
                    <a:pt x="562" y="82"/>
                  </a:lnTo>
                  <a:lnTo>
                    <a:pt x="546" y="62"/>
                  </a:lnTo>
                  <a:lnTo>
                    <a:pt x="540" y="54"/>
                  </a:lnTo>
                  <a:lnTo>
                    <a:pt x="538" y="46"/>
                  </a:lnTo>
                  <a:lnTo>
                    <a:pt x="538" y="46"/>
                  </a:lnTo>
                  <a:lnTo>
                    <a:pt x="532" y="34"/>
                  </a:lnTo>
                  <a:lnTo>
                    <a:pt x="524" y="26"/>
                  </a:lnTo>
                  <a:lnTo>
                    <a:pt x="516" y="18"/>
                  </a:lnTo>
                  <a:lnTo>
                    <a:pt x="504" y="12"/>
                  </a:lnTo>
                  <a:lnTo>
                    <a:pt x="492" y="6"/>
                  </a:lnTo>
                  <a:lnTo>
                    <a:pt x="480" y="4"/>
                  </a:lnTo>
                  <a:lnTo>
                    <a:pt x="452" y="0"/>
                  </a:lnTo>
                  <a:lnTo>
                    <a:pt x="424" y="2"/>
                  </a:lnTo>
                  <a:lnTo>
                    <a:pt x="396" y="4"/>
                  </a:lnTo>
                  <a:lnTo>
                    <a:pt x="372" y="8"/>
                  </a:lnTo>
                  <a:lnTo>
                    <a:pt x="356" y="12"/>
                  </a:lnTo>
                  <a:lnTo>
                    <a:pt x="356" y="12"/>
                  </a:lnTo>
                  <a:close/>
                  <a:moveTo>
                    <a:pt x="488" y="64"/>
                  </a:moveTo>
                  <a:lnTo>
                    <a:pt x="488" y="64"/>
                  </a:lnTo>
                  <a:lnTo>
                    <a:pt x="492" y="74"/>
                  </a:lnTo>
                  <a:lnTo>
                    <a:pt x="498" y="86"/>
                  </a:lnTo>
                  <a:lnTo>
                    <a:pt x="516" y="110"/>
                  </a:lnTo>
                  <a:lnTo>
                    <a:pt x="540" y="136"/>
                  </a:lnTo>
                  <a:lnTo>
                    <a:pt x="566" y="164"/>
                  </a:lnTo>
                  <a:lnTo>
                    <a:pt x="566" y="164"/>
                  </a:lnTo>
                  <a:lnTo>
                    <a:pt x="594" y="194"/>
                  </a:lnTo>
                  <a:lnTo>
                    <a:pt x="622" y="224"/>
                  </a:lnTo>
                  <a:lnTo>
                    <a:pt x="634" y="240"/>
                  </a:lnTo>
                  <a:lnTo>
                    <a:pt x="644" y="254"/>
                  </a:lnTo>
                  <a:lnTo>
                    <a:pt x="650" y="268"/>
                  </a:lnTo>
                  <a:lnTo>
                    <a:pt x="656" y="280"/>
                  </a:lnTo>
                  <a:lnTo>
                    <a:pt x="656" y="280"/>
                  </a:lnTo>
                  <a:lnTo>
                    <a:pt x="656" y="288"/>
                  </a:lnTo>
                  <a:lnTo>
                    <a:pt x="656" y="302"/>
                  </a:lnTo>
                  <a:lnTo>
                    <a:pt x="656" y="302"/>
                  </a:lnTo>
                  <a:lnTo>
                    <a:pt x="656" y="344"/>
                  </a:lnTo>
                  <a:lnTo>
                    <a:pt x="650" y="400"/>
                  </a:lnTo>
                  <a:lnTo>
                    <a:pt x="634" y="540"/>
                  </a:lnTo>
                  <a:lnTo>
                    <a:pt x="614" y="700"/>
                  </a:lnTo>
                  <a:lnTo>
                    <a:pt x="592" y="852"/>
                  </a:lnTo>
                  <a:lnTo>
                    <a:pt x="592" y="852"/>
                  </a:lnTo>
                  <a:lnTo>
                    <a:pt x="362" y="852"/>
                  </a:lnTo>
                  <a:lnTo>
                    <a:pt x="362" y="852"/>
                  </a:lnTo>
                  <a:lnTo>
                    <a:pt x="354" y="852"/>
                  </a:lnTo>
                  <a:lnTo>
                    <a:pt x="348" y="856"/>
                  </a:lnTo>
                  <a:lnTo>
                    <a:pt x="344" y="860"/>
                  </a:lnTo>
                  <a:lnTo>
                    <a:pt x="338" y="864"/>
                  </a:lnTo>
                  <a:lnTo>
                    <a:pt x="338" y="864"/>
                  </a:lnTo>
                  <a:lnTo>
                    <a:pt x="336" y="870"/>
                  </a:lnTo>
                  <a:lnTo>
                    <a:pt x="336" y="878"/>
                  </a:lnTo>
                  <a:lnTo>
                    <a:pt x="336" y="878"/>
                  </a:lnTo>
                  <a:lnTo>
                    <a:pt x="336" y="884"/>
                  </a:lnTo>
                  <a:lnTo>
                    <a:pt x="338" y="890"/>
                  </a:lnTo>
                  <a:lnTo>
                    <a:pt x="338" y="890"/>
                  </a:lnTo>
                  <a:lnTo>
                    <a:pt x="412" y="1022"/>
                  </a:lnTo>
                  <a:lnTo>
                    <a:pt x="412" y="1022"/>
                  </a:lnTo>
                  <a:lnTo>
                    <a:pt x="166" y="1224"/>
                  </a:lnTo>
                  <a:lnTo>
                    <a:pt x="166" y="1224"/>
                  </a:lnTo>
                  <a:lnTo>
                    <a:pt x="56" y="1044"/>
                  </a:lnTo>
                  <a:lnTo>
                    <a:pt x="56" y="1044"/>
                  </a:lnTo>
                  <a:lnTo>
                    <a:pt x="84" y="988"/>
                  </a:lnTo>
                  <a:lnTo>
                    <a:pt x="126" y="898"/>
                  </a:lnTo>
                  <a:lnTo>
                    <a:pt x="178" y="780"/>
                  </a:lnTo>
                  <a:lnTo>
                    <a:pt x="206" y="714"/>
                  </a:lnTo>
                  <a:lnTo>
                    <a:pt x="234" y="644"/>
                  </a:lnTo>
                  <a:lnTo>
                    <a:pt x="262" y="570"/>
                  </a:lnTo>
                  <a:lnTo>
                    <a:pt x="290" y="494"/>
                  </a:lnTo>
                  <a:lnTo>
                    <a:pt x="314" y="418"/>
                  </a:lnTo>
                  <a:lnTo>
                    <a:pt x="336" y="344"/>
                  </a:lnTo>
                  <a:lnTo>
                    <a:pt x="356" y="268"/>
                  </a:lnTo>
                  <a:lnTo>
                    <a:pt x="370" y="196"/>
                  </a:lnTo>
                  <a:lnTo>
                    <a:pt x="382" y="126"/>
                  </a:lnTo>
                  <a:lnTo>
                    <a:pt x="384" y="94"/>
                  </a:lnTo>
                  <a:lnTo>
                    <a:pt x="386" y="62"/>
                  </a:lnTo>
                  <a:lnTo>
                    <a:pt x="386" y="62"/>
                  </a:lnTo>
                  <a:lnTo>
                    <a:pt x="424" y="56"/>
                  </a:lnTo>
                  <a:lnTo>
                    <a:pt x="456" y="54"/>
                  </a:lnTo>
                  <a:lnTo>
                    <a:pt x="468" y="56"/>
                  </a:lnTo>
                  <a:lnTo>
                    <a:pt x="478" y="56"/>
                  </a:lnTo>
                  <a:lnTo>
                    <a:pt x="484" y="60"/>
                  </a:lnTo>
                  <a:lnTo>
                    <a:pt x="488" y="64"/>
                  </a:lnTo>
                  <a:lnTo>
                    <a:pt x="48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5"/>
            <p:cNvSpPr/>
            <p:nvPr/>
          </p:nvSpPr>
          <p:spPr>
            <a:xfrm>
              <a:off x="38925360" y="4603680"/>
              <a:ext cx="1492200" cy="295920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940" h="1864">
                  <a:moveTo>
                    <a:pt x="536" y="956"/>
                  </a:moveTo>
                  <a:lnTo>
                    <a:pt x="536" y="956"/>
                  </a:lnTo>
                  <a:lnTo>
                    <a:pt x="500" y="884"/>
                  </a:lnTo>
                  <a:lnTo>
                    <a:pt x="462" y="804"/>
                  </a:lnTo>
                  <a:lnTo>
                    <a:pt x="418" y="704"/>
                  </a:lnTo>
                  <a:lnTo>
                    <a:pt x="396" y="650"/>
                  </a:lnTo>
                  <a:lnTo>
                    <a:pt x="376" y="592"/>
                  </a:lnTo>
                  <a:lnTo>
                    <a:pt x="356" y="534"/>
                  </a:lnTo>
                  <a:lnTo>
                    <a:pt x="338" y="476"/>
                  </a:lnTo>
                  <a:lnTo>
                    <a:pt x="322" y="416"/>
                  </a:lnTo>
                  <a:lnTo>
                    <a:pt x="312" y="358"/>
                  </a:lnTo>
                  <a:lnTo>
                    <a:pt x="304" y="304"/>
                  </a:lnTo>
                  <a:lnTo>
                    <a:pt x="302" y="278"/>
                  </a:lnTo>
                  <a:lnTo>
                    <a:pt x="302" y="252"/>
                  </a:lnTo>
                  <a:lnTo>
                    <a:pt x="302" y="252"/>
                  </a:lnTo>
                  <a:lnTo>
                    <a:pt x="306" y="224"/>
                  </a:lnTo>
                  <a:lnTo>
                    <a:pt x="310" y="194"/>
                  </a:lnTo>
                  <a:lnTo>
                    <a:pt x="314" y="158"/>
                  </a:lnTo>
                  <a:lnTo>
                    <a:pt x="316" y="116"/>
                  </a:lnTo>
                  <a:lnTo>
                    <a:pt x="316" y="74"/>
                  </a:lnTo>
                  <a:lnTo>
                    <a:pt x="314" y="54"/>
                  </a:lnTo>
                  <a:lnTo>
                    <a:pt x="310" y="34"/>
                  </a:lnTo>
                  <a:lnTo>
                    <a:pt x="306" y="16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288" y="6"/>
                  </a:lnTo>
                  <a:lnTo>
                    <a:pt x="274" y="14"/>
                  </a:lnTo>
                  <a:lnTo>
                    <a:pt x="260" y="26"/>
                  </a:lnTo>
                  <a:lnTo>
                    <a:pt x="244" y="44"/>
                  </a:lnTo>
                  <a:lnTo>
                    <a:pt x="236" y="52"/>
                  </a:lnTo>
                  <a:lnTo>
                    <a:pt x="230" y="64"/>
                  </a:lnTo>
                  <a:lnTo>
                    <a:pt x="226" y="76"/>
                  </a:lnTo>
                  <a:lnTo>
                    <a:pt x="220" y="88"/>
                  </a:lnTo>
                  <a:lnTo>
                    <a:pt x="218" y="102"/>
                  </a:lnTo>
                  <a:lnTo>
                    <a:pt x="218" y="118"/>
                  </a:lnTo>
                  <a:lnTo>
                    <a:pt x="218" y="118"/>
                  </a:lnTo>
                  <a:lnTo>
                    <a:pt x="216" y="134"/>
                  </a:lnTo>
                  <a:lnTo>
                    <a:pt x="210" y="150"/>
                  </a:lnTo>
                  <a:lnTo>
                    <a:pt x="202" y="166"/>
                  </a:lnTo>
                  <a:lnTo>
                    <a:pt x="192" y="182"/>
                  </a:lnTo>
                  <a:lnTo>
                    <a:pt x="178" y="198"/>
                  </a:lnTo>
                  <a:lnTo>
                    <a:pt x="164" y="212"/>
                  </a:lnTo>
                  <a:lnTo>
                    <a:pt x="134" y="242"/>
                  </a:lnTo>
                  <a:lnTo>
                    <a:pt x="102" y="266"/>
                  </a:lnTo>
                  <a:lnTo>
                    <a:pt x="76" y="284"/>
                  </a:lnTo>
                  <a:lnTo>
                    <a:pt x="50" y="302"/>
                  </a:lnTo>
                  <a:lnTo>
                    <a:pt x="50" y="302"/>
                  </a:lnTo>
                  <a:lnTo>
                    <a:pt x="24" y="516"/>
                  </a:lnTo>
                  <a:lnTo>
                    <a:pt x="6" y="684"/>
                  </a:lnTo>
                  <a:lnTo>
                    <a:pt x="2" y="756"/>
                  </a:lnTo>
                  <a:lnTo>
                    <a:pt x="0" y="806"/>
                  </a:lnTo>
                  <a:lnTo>
                    <a:pt x="218" y="772"/>
                  </a:lnTo>
                  <a:lnTo>
                    <a:pt x="134" y="1024"/>
                  </a:lnTo>
                  <a:lnTo>
                    <a:pt x="134" y="1024"/>
                  </a:lnTo>
                  <a:lnTo>
                    <a:pt x="202" y="1094"/>
                  </a:lnTo>
                  <a:lnTo>
                    <a:pt x="276" y="1166"/>
                  </a:lnTo>
                  <a:lnTo>
                    <a:pt x="366" y="1250"/>
                  </a:lnTo>
                  <a:lnTo>
                    <a:pt x="466" y="1340"/>
                  </a:lnTo>
                  <a:lnTo>
                    <a:pt x="516" y="1382"/>
                  </a:lnTo>
                  <a:lnTo>
                    <a:pt x="566" y="1420"/>
                  </a:lnTo>
                  <a:lnTo>
                    <a:pt x="614" y="1456"/>
                  </a:lnTo>
                  <a:lnTo>
                    <a:pt x="658" y="1488"/>
                  </a:lnTo>
                  <a:lnTo>
                    <a:pt x="700" y="1512"/>
                  </a:lnTo>
                  <a:lnTo>
                    <a:pt x="720" y="1520"/>
                  </a:lnTo>
                  <a:lnTo>
                    <a:pt x="738" y="1528"/>
                  </a:lnTo>
                  <a:lnTo>
                    <a:pt x="738" y="1528"/>
                  </a:lnTo>
                  <a:lnTo>
                    <a:pt x="754" y="1534"/>
                  </a:lnTo>
                  <a:lnTo>
                    <a:pt x="770" y="1542"/>
                  </a:lnTo>
                  <a:lnTo>
                    <a:pt x="786" y="1552"/>
                  </a:lnTo>
                  <a:lnTo>
                    <a:pt x="800" y="1562"/>
                  </a:lnTo>
                  <a:lnTo>
                    <a:pt x="826" y="1584"/>
                  </a:lnTo>
                  <a:lnTo>
                    <a:pt x="848" y="1608"/>
                  </a:lnTo>
                  <a:lnTo>
                    <a:pt x="866" y="1636"/>
                  </a:lnTo>
                  <a:lnTo>
                    <a:pt x="884" y="1664"/>
                  </a:lnTo>
                  <a:lnTo>
                    <a:pt x="896" y="1692"/>
                  </a:lnTo>
                  <a:lnTo>
                    <a:pt x="908" y="1722"/>
                  </a:lnTo>
                  <a:lnTo>
                    <a:pt x="918" y="1748"/>
                  </a:lnTo>
                  <a:lnTo>
                    <a:pt x="924" y="1776"/>
                  </a:lnTo>
                  <a:lnTo>
                    <a:pt x="934" y="1820"/>
                  </a:lnTo>
                  <a:lnTo>
                    <a:pt x="938" y="1852"/>
                  </a:lnTo>
                  <a:lnTo>
                    <a:pt x="940" y="1864"/>
                  </a:lnTo>
                  <a:lnTo>
                    <a:pt x="940" y="1864"/>
                  </a:lnTo>
                  <a:lnTo>
                    <a:pt x="940" y="1854"/>
                  </a:lnTo>
                  <a:lnTo>
                    <a:pt x="940" y="1824"/>
                  </a:lnTo>
                  <a:lnTo>
                    <a:pt x="936" y="1778"/>
                  </a:lnTo>
                  <a:lnTo>
                    <a:pt x="932" y="1750"/>
                  </a:lnTo>
                  <a:lnTo>
                    <a:pt x="926" y="1720"/>
                  </a:lnTo>
                  <a:lnTo>
                    <a:pt x="920" y="1686"/>
                  </a:lnTo>
                  <a:lnTo>
                    <a:pt x="910" y="1650"/>
                  </a:lnTo>
                  <a:lnTo>
                    <a:pt x="898" y="1612"/>
                  </a:lnTo>
                  <a:lnTo>
                    <a:pt x="882" y="1574"/>
                  </a:lnTo>
                  <a:lnTo>
                    <a:pt x="864" y="1534"/>
                  </a:lnTo>
                  <a:lnTo>
                    <a:pt x="844" y="1492"/>
                  </a:lnTo>
                  <a:lnTo>
                    <a:pt x="818" y="1452"/>
                  </a:lnTo>
                  <a:lnTo>
                    <a:pt x="788" y="1410"/>
                  </a:lnTo>
                  <a:lnTo>
                    <a:pt x="788" y="1410"/>
                  </a:lnTo>
                  <a:lnTo>
                    <a:pt x="758" y="1370"/>
                  </a:lnTo>
                  <a:lnTo>
                    <a:pt x="730" y="1328"/>
                  </a:lnTo>
                  <a:lnTo>
                    <a:pt x="702" y="1288"/>
                  </a:lnTo>
                  <a:lnTo>
                    <a:pt x="678" y="1248"/>
                  </a:lnTo>
                  <a:lnTo>
                    <a:pt x="634" y="1170"/>
                  </a:lnTo>
                  <a:lnTo>
                    <a:pt x="600" y="1102"/>
                  </a:lnTo>
                  <a:lnTo>
                    <a:pt x="572" y="1042"/>
                  </a:lnTo>
                  <a:lnTo>
                    <a:pt x="552" y="998"/>
                  </a:lnTo>
                  <a:lnTo>
                    <a:pt x="536" y="956"/>
                  </a:lnTo>
                  <a:lnTo>
                    <a:pt x="536" y="9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66"/>
            <p:cNvSpPr/>
            <p:nvPr/>
          </p:nvSpPr>
          <p:spPr>
            <a:xfrm>
              <a:off x="38881080" y="4562640"/>
              <a:ext cx="1577880" cy="3041640"/>
            </a:xfrm>
            <a:custGeom>
              <a:avLst/>
              <a:gdLst>
                <a:gd name="textAreaLeft" fmla="*/ 0 w 1577880"/>
                <a:gd name="textAreaRight" fmla="*/ 1578240 w 1577880"/>
                <a:gd name="textAreaTop" fmla="*/ 0 h 3041640"/>
                <a:gd name="textAreaBottom" fmla="*/ 3042000 h 3041640"/>
              </a:gdLst>
              <a:ahLst/>
              <a:rect l="textAreaLeft" t="textAreaTop" r="textAreaRight" b="textAreaBottom"/>
              <a:pathLst>
                <a:path w="994" h="1916">
                  <a:moveTo>
                    <a:pt x="320" y="2"/>
                  </a:moveTo>
                  <a:lnTo>
                    <a:pt x="320" y="2"/>
                  </a:lnTo>
                  <a:lnTo>
                    <a:pt x="302" y="10"/>
                  </a:lnTo>
                  <a:lnTo>
                    <a:pt x="286" y="20"/>
                  </a:lnTo>
                  <a:lnTo>
                    <a:pt x="268" y="36"/>
                  </a:lnTo>
                  <a:lnTo>
                    <a:pt x="250" y="54"/>
                  </a:lnTo>
                  <a:lnTo>
                    <a:pt x="242" y="66"/>
                  </a:lnTo>
                  <a:lnTo>
                    <a:pt x="234" y="78"/>
                  </a:lnTo>
                  <a:lnTo>
                    <a:pt x="228" y="92"/>
                  </a:lnTo>
                  <a:lnTo>
                    <a:pt x="224" y="108"/>
                  </a:lnTo>
                  <a:lnTo>
                    <a:pt x="220" y="126"/>
                  </a:lnTo>
                  <a:lnTo>
                    <a:pt x="220" y="144"/>
                  </a:lnTo>
                  <a:lnTo>
                    <a:pt x="220" y="144"/>
                  </a:lnTo>
                  <a:lnTo>
                    <a:pt x="218" y="152"/>
                  </a:lnTo>
                  <a:lnTo>
                    <a:pt x="214" y="164"/>
                  </a:lnTo>
                  <a:lnTo>
                    <a:pt x="210" y="174"/>
                  </a:lnTo>
                  <a:lnTo>
                    <a:pt x="204" y="184"/>
                  </a:lnTo>
                  <a:lnTo>
                    <a:pt x="186" y="208"/>
                  </a:lnTo>
                  <a:lnTo>
                    <a:pt x="164" y="230"/>
                  </a:lnTo>
                  <a:lnTo>
                    <a:pt x="140" y="252"/>
                  </a:lnTo>
                  <a:lnTo>
                    <a:pt x="114" y="272"/>
                  </a:lnTo>
                  <a:lnTo>
                    <a:pt x="88" y="290"/>
                  </a:lnTo>
                  <a:lnTo>
                    <a:pt x="64" y="306"/>
                  </a:lnTo>
                  <a:lnTo>
                    <a:pt x="64" y="306"/>
                  </a:lnTo>
                  <a:lnTo>
                    <a:pt x="60" y="310"/>
                  </a:lnTo>
                  <a:lnTo>
                    <a:pt x="56" y="314"/>
                  </a:lnTo>
                  <a:lnTo>
                    <a:pt x="52" y="318"/>
                  </a:lnTo>
                  <a:lnTo>
                    <a:pt x="52" y="324"/>
                  </a:lnTo>
                  <a:lnTo>
                    <a:pt x="52" y="324"/>
                  </a:lnTo>
                  <a:lnTo>
                    <a:pt x="26" y="546"/>
                  </a:lnTo>
                  <a:lnTo>
                    <a:pt x="8" y="712"/>
                  </a:lnTo>
                  <a:lnTo>
                    <a:pt x="2" y="782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2" y="838"/>
                  </a:lnTo>
                  <a:lnTo>
                    <a:pt x="4" y="842"/>
                  </a:lnTo>
                  <a:lnTo>
                    <a:pt x="6" y="848"/>
                  </a:lnTo>
                  <a:lnTo>
                    <a:pt x="10" y="852"/>
                  </a:lnTo>
                  <a:lnTo>
                    <a:pt x="10" y="852"/>
                  </a:lnTo>
                  <a:lnTo>
                    <a:pt x="14" y="854"/>
                  </a:lnTo>
                  <a:lnTo>
                    <a:pt x="20" y="858"/>
                  </a:lnTo>
                  <a:lnTo>
                    <a:pt x="26" y="858"/>
                  </a:lnTo>
                  <a:lnTo>
                    <a:pt x="32" y="858"/>
                  </a:lnTo>
                  <a:lnTo>
                    <a:pt x="32" y="858"/>
                  </a:lnTo>
                  <a:lnTo>
                    <a:pt x="206" y="830"/>
                  </a:lnTo>
                  <a:lnTo>
                    <a:pt x="206" y="830"/>
                  </a:lnTo>
                  <a:lnTo>
                    <a:pt x="136" y="1042"/>
                  </a:lnTo>
                  <a:lnTo>
                    <a:pt x="136" y="1042"/>
                  </a:lnTo>
                  <a:lnTo>
                    <a:pt x="136" y="1050"/>
                  </a:lnTo>
                  <a:lnTo>
                    <a:pt x="136" y="1050"/>
                  </a:lnTo>
                  <a:lnTo>
                    <a:pt x="136" y="1060"/>
                  </a:lnTo>
                  <a:lnTo>
                    <a:pt x="142" y="1068"/>
                  </a:lnTo>
                  <a:lnTo>
                    <a:pt x="142" y="1068"/>
                  </a:lnTo>
                  <a:lnTo>
                    <a:pt x="220" y="1146"/>
                  </a:lnTo>
                  <a:lnTo>
                    <a:pt x="294" y="1220"/>
                  </a:lnTo>
                  <a:lnTo>
                    <a:pt x="386" y="1304"/>
                  </a:lnTo>
                  <a:lnTo>
                    <a:pt x="434" y="1348"/>
                  </a:lnTo>
                  <a:lnTo>
                    <a:pt x="484" y="1392"/>
                  </a:lnTo>
                  <a:lnTo>
                    <a:pt x="534" y="1434"/>
                  </a:lnTo>
                  <a:lnTo>
                    <a:pt x="584" y="1472"/>
                  </a:lnTo>
                  <a:lnTo>
                    <a:pt x="632" y="1508"/>
                  </a:lnTo>
                  <a:lnTo>
                    <a:pt x="678" y="1538"/>
                  </a:lnTo>
                  <a:lnTo>
                    <a:pt x="720" y="1562"/>
                  </a:lnTo>
                  <a:lnTo>
                    <a:pt x="738" y="1572"/>
                  </a:lnTo>
                  <a:lnTo>
                    <a:pt x="758" y="1578"/>
                  </a:lnTo>
                  <a:lnTo>
                    <a:pt x="758" y="1578"/>
                  </a:lnTo>
                  <a:lnTo>
                    <a:pt x="772" y="1584"/>
                  </a:lnTo>
                  <a:lnTo>
                    <a:pt x="786" y="1592"/>
                  </a:lnTo>
                  <a:lnTo>
                    <a:pt x="812" y="1610"/>
                  </a:lnTo>
                  <a:lnTo>
                    <a:pt x="836" y="1630"/>
                  </a:lnTo>
                  <a:lnTo>
                    <a:pt x="856" y="1652"/>
                  </a:lnTo>
                  <a:lnTo>
                    <a:pt x="874" y="1678"/>
                  </a:lnTo>
                  <a:lnTo>
                    <a:pt x="888" y="1704"/>
                  </a:lnTo>
                  <a:lnTo>
                    <a:pt x="900" y="1730"/>
                  </a:lnTo>
                  <a:lnTo>
                    <a:pt x="912" y="1756"/>
                  </a:lnTo>
                  <a:lnTo>
                    <a:pt x="920" y="1782"/>
                  </a:lnTo>
                  <a:lnTo>
                    <a:pt x="926" y="1808"/>
                  </a:lnTo>
                  <a:lnTo>
                    <a:pt x="936" y="1850"/>
                  </a:lnTo>
                  <a:lnTo>
                    <a:pt x="940" y="1880"/>
                  </a:lnTo>
                  <a:lnTo>
                    <a:pt x="942" y="1892"/>
                  </a:lnTo>
                  <a:lnTo>
                    <a:pt x="942" y="1892"/>
                  </a:lnTo>
                  <a:lnTo>
                    <a:pt x="944" y="1902"/>
                  </a:lnTo>
                  <a:lnTo>
                    <a:pt x="950" y="1908"/>
                  </a:lnTo>
                  <a:lnTo>
                    <a:pt x="958" y="1914"/>
                  </a:lnTo>
                  <a:lnTo>
                    <a:pt x="968" y="1916"/>
                  </a:lnTo>
                  <a:lnTo>
                    <a:pt x="968" y="1916"/>
                  </a:lnTo>
                  <a:lnTo>
                    <a:pt x="978" y="1914"/>
                  </a:lnTo>
                  <a:lnTo>
                    <a:pt x="986" y="1910"/>
                  </a:lnTo>
                  <a:lnTo>
                    <a:pt x="992" y="1902"/>
                  </a:lnTo>
                  <a:lnTo>
                    <a:pt x="994" y="1892"/>
                  </a:lnTo>
                  <a:lnTo>
                    <a:pt x="994" y="1892"/>
                  </a:lnTo>
                  <a:lnTo>
                    <a:pt x="994" y="1878"/>
                  </a:lnTo>
                  <a:lnTo>
                    <a:pt x="994" y="1846"/>
                  </a:lnTo>
                  <a:lnTo>
                    <a:pt x="990" y="1798"/>
                  </a:lnTo>
                  <a:lnTo>
                    <a:pt x="986" y="1768"/>
                  </a:lnTo>
                  <a:lnTo>
                    <a:pt x="980" y="1736"/>
                  </a:lnTo>
                  <a:lnTo>
                    <a:pt x="972" y="1702"/>
                  </a:lnTo>
                  <a:lnTo>
                    <a:pt x="962" y="1666"/>
                  </a:lnTo>
                  <a:lnTo>
                    <a:pt x="950" y="1626"/>
                  </a:lnTo>
                  <a:lnTo>
                    <a:pt x="934" y="1586"/>
                  </a:lnTo>
                  <a:lnTo>
                    <a:pt x="916" y="1546"/>
                  </a:lnTo>
                  <a:lnTo>
                    <a:pt x="894" y="1504"/>
                  </a:lnTo>
                  <a:lnTo>
                    <a:pt x="868" y="1462"/>
                  </a:lnTo>
                  <a:lnTo>
                    <a:pt x="838" y="1420"/>
                  </a:lnTo>
                  <a:lnTo>
                    <a:pt x="838" y="1420"/>
                  </a:lnTo>
                  <a:lnTo>
                    <a:pt x="808" y="1380"/>
                  </a:lnTo>
                  <a:lnTo>
                    <a:pt x="780" y="1340"/>
                  </a:lnTo>
                  <a:lnTo>
                    <a:pt x="754" y="1300"/>
                  </a:lnTo>
                  <a:lnTo>
                    <a:pt x="730" y="1262"/>
                  </a:lnTo>
                  <a:lnTo>
                    <a:pt x="688" y="1186"/>
                  </a:lnTo>
                  <a:lnTo>
                    <a:pt x="652" y="1118"/>
                  </a:lnTo>
                  <a:lnTo>
                    <a:pt x="624" y="1060"/>
                  </a:lnTo>
                  <a:lnTo>
                    <a:pt x="606" y="1014"/>
                  </a:lnTo>
                  <a:lnTo>
                    <a:pt x="590" y="974"/>
                  </a:lnTo>
                  <a:lnTo>
                    <a:pt x="590" y="974"/>
                  </a:lnTo>
                  <a:lnTo>
                    <a:pt x="588" y="970"/>
                  </a:lnTo>
                  <a:lnTo>
                    <a:pt x="588" y="970"/>
                  </a:lnTo>
                  <a:lnTo>
                    <a:pt x="550" y="896"/>
                  </a:lnTo>
                  <a:lnTo>
                    <a:pt x="514" y="818"/>
                  </a:lnTo>
                  <a:lnTo>
                    <a:pt x="470" y="720"/>
                  </a:lnTo>
                  <a:lnTo>
                    <a:pt x="450" y="666"/>
                  </a:lnTo>
                  <a:lnTo>
                    <a:pt x="428" y="610"/>
                  </a:lnTo>
                  <a:lnTo>
                    <a:pt x="408" y="552"/>
                  </a:lnTo>
                  <a:lnTo>
                    <a:pt x="392" y="494"/>
                  </a:lnTo>
                  <a:lnTo>
                    <a:pt x="376" y="438"/>
                  </a:lnTo>
                  <a:lnTo>
                    <a:pt x="366" y="382"/>
                  </a:lnTo>
                  <a:lnTo>
                    <a:pt x="358" y="328"/>
                  </a:lnTo>
                  <a:lnTo>
                    <a:pt x="356" y="302"/>
                  </a:lnTo>
                  <a:lnTo>
                    <a:pt x="356" y="278"/>
                  </a:lnTo>
                  <a:lnTo>
                    <a:pt x="356" y="278"/>
                  </a:lnTo>
                  <a:lnTo>
                    <a:pt x="360" y="248"/>
                  </a:lnTo>
                  <a:lnTo>
                    <a:pt x="364" y="218"/>
                  </a:lnTo>
                  <a:lnTo>
                    <a:pt x="368" y="180"/>
                  </a:lnTo>
                  <a:lnTo>
                    <a:pt x="370" y="138"/>
                  </a:lnTo>
                  <a:lnTo>
                    <a:pt x="370" y="94"/>
                  </a:lnTo>
                  <a:lnTo>
                    <a:pt x="368" y="74"/>
                  </a:lnTo>
                  <a:lnTo>
                    <a:pt x="364" y="52"/>
                  </a:lnTo>
                  <a:lnTo>
                    <a:pt x="360" y="34"/>
                  </a:lnTo>
                  <a:lnTo>
                    <a:pt x="354" y="16"/>
                  </a:lnTo>
                  <a:lnTo>
                    <a:pt x="354" y="16"/>
                  </a:lnTo>
                  <a:lnTo>
                    <a:pt x="348" y="8"/>
                  </a:lnTo>
                  <a:lnTo>
                    <a:pt x="340" y="2"/>
                  </a:lnTo>
                  <a:lnTo>
                    <a:pt x="340" y="2"/>
                  </a:lnTo>
                  <a:lnTo>
                    <a:pt x="330" y="0"/>
                  </a:lnTo>
                  <a:lnTo>
                    <a:pt x="320" y="2"/>
                  </a:lnTo>
                  <a:lnTo>
                    <a:pt x="320" y="2"/>
                  </a:lnTo>
                  <a:close/>
                  <a:moveTo>
                    <a:pt x="272" y="144"/>
                  </a:moveTo>
                  <a:lnTo>
                    <a:pt x="272" y="144"/>
                  </a:lnTo>
                  <a:lnTo>
                    <a:pt x="272" y="130"/>
                  </a:lnTo>
                  <a:lnTo>
                    <a:pt x="276" y="118"/>
                  </a:lnTo>
                  <a:lnTo>
                    <a:pt x="280" y="106"/>
                  </a:lnTo>
                  <a:lnTo>
                    <a:pt x="284" y="96"/>
                  </a:lnTo>
                  <a:lnTo>
                    <a:pt x="292" y="88"/>
                  </a:lnTo>
                  <a:lnTo>
                    <a:pt x="298" y="80"/>
                  </a:lnTo>
                  <a:lnTo>
                    <a:pt x="312" y="66"/>
                  </a:lnTo>
                  <a:lnTo>
                    <a:pt x="312" y="66"/>
                  </a:lnTo>
                  <a:lnTo>
                    <a:pt x="316" y="96"/>
                  </a:lnTo>
                  <a:lnTo>
                    <a:pt x="318" y="128"/>
                  </a:lnTo>
                  <a:lnTo>
                    <a:pt x="318" y="128"/>
                  </a:lnTo>
                  <a:lnTo>
                    <a:pt x="316" y="170"/>
                  </a:lnTo>
                  <a:lnTo>
                    <a:pt x="312" y="212"/>
                  </a:lnTo>
                  <a:lnTo>
                    <a:pt x="308" y="246"/>
                  </a:lnTo>
                  <a:lnTo>
                    <a:pt x="304" y="272"/>
                  </a:lnTo>
                  <a:lnTo>
                    <a:pt x="304" y="272"/>
                  </a:lnTo>
                  <a:lnTo>
                    <a:pt x="304" y="274"/>
                  </a:lnTo>
                  <a:lnTo>
                    <a:pt x="304" y="274"/>
                  </a:lnTo>
                  <a:lnTo>
                    <a:pt x="304" y="300"/>
                  </a:lnTo>
                  <a:lnTo>
                    <a:pt x="306" y="326"/>
                  </a:lnTo>
                  <a:lnTo>
                    <a:pt x="314" y="382"/>
                  </a:lnTo>
                  <a:lnTo>
                    <a:pt x="324" y="440"/>
                  </a:lnTo>
                  <a:lnTo>
                    <a:pt x="338" y="498"/>
                  </a:lnTo>
                  <a:lnTo>
                    <a:pt x="356" y="558"/>
                  </a:lnTo>
                  <a:lnTo>
                    <a:pt x="374" y="616"/>
                  </a:lnTo>
                  <a:lnTo>
                    <a:pt x="396" y="672"/>
                  </a:lnTo>
                  <a:lnTo>
                    <a:pt x="416" y="728"/>
                  </a:lnTo>
                  <a:lnTo>
                    <a:pt x="460" y="828"/>
                  </a:lnTo>
                  <a:lnTo>
                    <a:pt x="498" y="910"/>
                  </a:lnTo>
                  <a:lnTo>
                    <a:pt x="526" y="966"/>
                  </a:lnTo>
                  <a:lnTo>
                    <a:pt x="540" y="994"/>
                  </a:lnTo>
                  <a:lnTo>
                    <a:pt x="540" y="994"/>
                  </a:lnTo>
                  <a:lnTo>
                    <a:pt x="560" y="1042"/>
                  </a:lnTo>
                  <a:lnTo>
                    <a:pt x="580" y="1090"/>
                  </a:lnTo>
                  <a:lnTo>
                    <a:pt x="608" y="1148"/>
                  </a:lnTo>
                  <a:lnTo>
                    <a:pt x="644" y="1218"/>
                  </a:lnTo>
                  <a:lnTo>
                    <a:pt x="686" y="1292"/>
                  </a:lnTo>
                  <a:lnTo>
                    <a:pt x="712" y="1332"/>
                  </a:lnTo>
                  <a:lnTo>
                    <a:pt x="738" y="1372"/>
                  </a:lnTo>
                  <a:lnTo>
                    <a:pt x="766" y="1412"/>
                  </a:lnTo>
                  <a:lnTo>
                    <a:pt x="796" y="1452"/>
                  </a:lnTo>
                  <a:lnTo>
                    <a:pt x="796" y="1452"/>
                  </a:lnTo>
                  <a:lnTo>
                    <a:pt x="822" y="1490"/>
                  </a:lnTo>
                  <a:lnTo>
                    <a:pt x="846" y="1528"/>
                  </a:lnTo>
                  <a:lnTo>
                    <a:pt x="866" y="1566"/>
                  </a:lnTo>
                  <a:lnTo>
                    <a:pt x="882" y="1604"/>
                  </a:lnTo>
                  <a:lnTo>
                    <a:pt x="882" y="1604"/>
                  </a:lnTo>
                  <a:lnTo>
                    <a:pt x="860" y="1582"/>
                  </a:lnTo>
                  <a:lnTo>
                    <a:pt x="834" y="1562"/>
                  </a:lnTo>
                  <a:lnTo>
                    <a:pt x="806" y="1544"/>
                  </a:lnTo>
                  <a:lnTo>
                    <a:pt x="792" y="1536"/>
                  </a:lnTo>
                  <a:lnTo>
                    <a:pt x="776" y="1530"/>
                  </a:lnTo>
                  <a:lnTo>
                    <a:pt x="776" y="1530"/>
                  </a:lnTo>
                  <a:lnTo>
                    <a:pt x="742" y="1514"/>
                  </a:lnTo>
                  <a:lnTo>
                    <a:pt x="706" y="1494"/>
                  </a:lnTo>
                  <a:lnTo>
                    <a:pt x="666" y="1468"/>
                  </a:lnTo>
                  <a:lnTo>
                    <a:pt x="624" y="1438"/>
                  </a:lnTo>
                  <a:lnTo>
                    <a:pt x="582" y="1404"/>
                  </a:lnTo>
                  <a:lnTo>
                    <a:pt x="536" y="1368"/>
                  </a:lnTo>
                  <a:lnTo>
                    <a:pt x="446" y="1290"/>
                  </a:lnTo>
                  <a:lnTo>
                    <a:pt x="362" y="1210"/>
                  </a:lnTo>
                  <a:lnTo>
                    <a:pt x="288" y="1138"/>
                  </a:lnTo>
                  <a:lnTo>
                    <a:pt x="192" y="1044"/>
                  </a:lnTo>
                  <a:lnTo>
                    <a:pt x="192" y="1044"/>
                  </a:lnTo>
                  <a:lnTo>
                    <a:pt x="270" y="806"/>
                  </a:lnTo>
                  <a:lnTo>
                    <a:pt x="270" y="806"/>
                  </a:lnTo>
                  <a:lnTo>
                    <a:pt x="272" y="798"/>
                  </a:lnTo>
                  <a:lnTo>
                    <a:pt x="272" y="798"/>
                  </a:lnTo>
                  <a:lnTo>
                    <a:pt x="270" y="790"/>
                  </a:lnTo>
                  <a:lnTo>
                    <a:pt x="266" y="782"/>
                  </a:lnTo>
                  <a:lnTo>
                    <a:pt x="266" y="782"/>
                  </a:lnTo>
                  <a:lnTo>
                    <a:pt x="260" y="776"/>
                  </a:lnTo>
                  <a:lnTo>
                    <a:pt x="254" y="774"/>
                  </a:lnTo>
                  <a:lnTo>
                    <a:pt x="248" y="772"/>
                  </a:lnTo>
                  <a:lnTo>
                    <a:pt x="242" y="772"/>
                  </a:lnTo>
                  <a:lnTo>
                    <a:pt x="242" y="772"/>
                  </a:lnTo>
                  <a:lnTo>
                    <a:pt x="54" y="800"/>
                  </a:lnTo>
                  <a:lnTo>
                    <a:pt x="54" y="800"/>
                  </a:lnTo>
                  <a:lnTo>
                    <a:pt x="58" y="750"/>
                  </a:lnTo>
                  <a:lnTo>
                    <a:pt x="64" y="688"/>
                  </a:lnTo>
                  <a:lnTo>
                    <a:pt x="78" y="548"/>
                  </a:lnTo>
                  <a:lnTo>
                    <a:pt x="102" y="344"/>
                  </a:lnTo>
                  <a:lnTo>
                    <a:pt x="102" y="344"/>
                  </a:lnTo>
                  <a:lnTo>
                    <a:pt x="120" y="332"/>
                  </a:lnTo>
                  <a:lnTo>
                    <a:pt x="146" y="314"/>
                  </a:lnTo>
                  <a:lnTo>
                    <a:pt x="174" y="292"/>
                  </a:lnTo>
                  <a:lnTo>
                    <a:pt x="202" y="266"/>
                  </a:lnTo>
                  <a:lnTo>
                    <a:pt x="228" y="238"/>
                  </a:lnTo>
                  <a:lnTo>
                    <a:pt x="240" y="222"/>
                  </a:lnTo>
                  <a:lnTo>
                    <a:pt x="250" y="208"/>
                  </a:lnTo>
                  <a:lnTo>
                    <a:pt x="260" y="192"/>
                  </a:lnTo>
                  <a:lnTo>
                    <a:pt x="266" y="176"/>
                  </a:lnTo>
                  <a:lnTo>
                    <a:pt x="270" y="160"/>
                  </a:lnTo>
                  <a:lnTo>
                    <a:pt x="272" y="144"/>
                  </a:lnTo>
                  <a:lnTo>
                    <a:pt x="27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67"/>
            <p:cNvSpPr/>
            <p:nvPr/>
          </p:nvSpPr>
          <p:spPr>
            <a:xfrm>
              <a:off x="40214520" y="7521840"/>
              <a:ext cx="244440" cy="11746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54" h="740">
                  <a:moveTo>
                    <a:pt x="102" y="24"/>
                  </a:moveTo>
                  <a:lnTo>
                    <a:pt x="102" y="24"/>
                  </a:lnTo>
                  <a:lnTo>
                    <a:pt x="98" y="94"/>
                  </a:lnTo>
                  <a:lnTo>
                    <a:pt x="88" y="250"/>
                  </a:lnTo>
                  <a:lnTo>
                    <a:pt x="82" y="340"/>
                  </a:lnTo>
                  <a:lnTo>
                    <a:pt x="74" y="426"/>
                  </a:lnTo>
                  <a:lnTo>
                    <a:pt x="64" y="500"/>
                  </a:lnTo>
                  <a:lnTo>
                    <a:pt x="58" y="532"/>
                  </a:lnTo>
                  <a:lnTo>
                    <a:pt x="52" y="556"/>
                  </a:lnTo>
                  <a:lnTo>
                    <a:pt x="52" y="556"/>
                  </a:lnTo>
                  <a:lnTo>
                    <a:pt x="50" y="562"/>
                  </a:lnTo>
                  <a:lnTo>
                    <a:pt x="52" y="568"/>
                  </a:lnTo>
                  <a:lnTo>
                    <a:pt x="52" y="568"/>
                  </a:lnTo>
                  <a:lnTo>
                    <a:pt x="52" y="582"/>
                  </a:lnTo>
                  <a:lnTo>
                    <a:pt x="52" y="598"/>
                  </a:lnTo>
                  <a:lnTo>
                    <a:pt x="52" y="616"/>
                  </a:lnTo>
                  <a:lnTo>
                    <a:pt x="48" y="636"/>
                  </a:lnTo>
                  <a:lnTo>
                    <a:pt x="40" y="658"/>
                  </a:lnTo>
                  <a:lnTo>
                    <a:pt x="34" y="668"/>
                  </a:lnTo>
                  <a:lnTo>
                    <a:pt x="28" y="676"/>
                  </a:lnTo>
                  <a:lnTo>
                    <a:pt x="20" y="686"/>
                  </a:lnTo>
                  <a:lnTo>
                    <a:pt x="12" y="694"/>
                  </a:lnTo>
                  <a:lnTo>
                    <a:pt x="12" y="694"/>
                  </a:lnTo>
                  <a:lnTo>
                    <a:pt x="4" y="702"/>
                  </a:lnTo>
                  <a:lnTo>
                    <a:pt x="0" y="710"/>
                  </a:lnTo>
                  <a:lnTo>
                    <a:pt x="2" y="720"/>
                  </a:lnTo>
                  <a:lnTo>
                    <a:pt x="6" y="730"/>
                  </a:lnTo>
                  <a:lnTo>
                    <a:pt x="6" y="730"/>
                  </a:lnTo>
                  <a:lnTo>
                    <a:pt x="14" y="738"/>
                  </a:lnTo>
                  <a:lnTo>
                    <a:pt x="24" y="740"/>
                  </a:lnTo>
                  <a:lnTo>
                    <a:pt x="34" y="740"/>
                  </a:lnTo>
                  <a:lnTo>
                    <a:pt x="42" y="736"/>
                  </a:lnTo>
                  <a:lnTo>
                    <a:pt x="42" y="736"/>
                  </a:lnTo>
                  <a:lnTo>
                    <a:pt x="60" y="720"/>
                  </a:lnTo>
                  <a:lnTo>
                    <a:pt x="76" y="702"/>
                  </a:lnTo>
                  <a:lnTo>
                    <a:pt x="86" y="682"/>
                  </a:lnTo>
                  <a:lnTo>
                    <a:pt x="94" y="662"/>
                  </a:lnTo>
                  <a:lnTo>
                    <a:pt x="100" y="644"/>
                  </a:lnTo>
                  <a:lnTo>
                    <a:pt x="104" y="624"/>
                  </a:lnTo>
                  <a:lnTo>
                    <a:pt x="104" y="608"/>
                  </a:lnTo>
                  <a:lnTo>
                    <a:pt x="106" y="592"/>
                  </a:lnTo>
                  <a:lnTo>
                    <a:pt x="106" y="592"/>
                  </a:lnTo>
                  <a:lnTo>
                    <a:pt x="104" y="564"/>
                  </a:lnTo>
                  <a:lnTo>
                    <a:pt x="104" y="564"/>
                  </a:lnTo>
                  <a:lnTo>
                    <a:pt x="110" y="538"/>
                  </a:lnTo>
                  <a:lnTo>
                    <a:pt x="116" y="506"/>
                  </a:lnTo>
                  <a:lnTo>
                    <a:pt x="126" y="430"/>
                  </a:lnTo>
                  <a:lnTo>
                    <a:pt x="134" y="344"/>
                  </a:lnTo>
                  <a:lnTo>
                    <a:pt x="140" y="256"/>
                  </a:lnTo>
                  <a:lnTo>
                    <a:pt x="150" y="100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2" y="16"/>
                  </a:lnTo>
                  <a:lnTo>
                    <a:pt x="146" y="8"/>
                  </a:lnTo>
                  <a:lnTo>
                    <a:pt x="138" y="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8" y="2"/>
                  </a:lnTo>
                  <a:lnTo>
                    <a:pt x="110" y="6"/>
                  </a:lnTo>
                  <a:lnTo>
                    <a:pt x="104" y="14"/>
                  </a:lnTo>
                  <a:lnTo>
                    <a:pt x="102" y="24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68"/>
            <p:cNvSpPr/>
            <p:nvPr/>
          </p:nvSpPr>
          <p:spPr>
            <a:xfrm>
              <a:off x="38696760" y="8480520"/>
              <a:ext cx="2720880" cy="260280"/>
            </a:xfrm>
            <a:custGeom>
              <a:avLst/>
              <a:gdLst>
                <a:gd name="textAreaLeft" fmla="*/ 0 w 2720880"/>
                <a:gd name="textAreaRight" fmla="*/ 2721240 w 2720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714" h="164">
                  <a:moveTo>
                    <a:pt x="4" y="12"/>
                  </a:moveTo>
                  <a:lnTo>
                    <a:pt x="4" y="1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6" y="58"/>
                  </a:lnTo>
                  <a:lnTo>
                    <a:pt x="56" y="76"/>
                  </a:lnTo>
                  <a:lnTo>
                    <a:pt x="102" y="98"/>
                  </a:lnTo>
                  <a:lnTo>
                    <a:pt x="158" y="124"/>
                  </a:lnTo>
                  <a:lnTo>
                    <a:pt x="188" y="134"/>
                  </a:lnTo>
                  <a:lnTo>
                    <a:pt x="218" y="144"/>
                  </a:lnTo>
                  <a:lnTo>
                    <a:pt x="250" y="154"/>
                  </a:lnTo>
                  <a:lnTo>
                    <a:pt x="282" y="160"/>
                  </a:lnTo>
                  <a:lnTo>
                    <a:pt x="314" y="164"/>
                  </a:lnTo>
                  <a:lnTo>
                    <a:pt x="346" y="164"/>
                  </a:lnTo>
                  <a:lnTo>
                    <a:pt x="376" y="160"/>
                  </a:lnTo>
                  <a:lnTo>
                    <a:pt x="390" y="156"/>
                  </a:lnTo>
                  <a:lnTo>
                    <a:pt x="404" y="152"/>
                  </a:lnTo>
                  <a:lnTo>
                    <a:pt x="404" y="152"/>
                  </a:lnTo>
                  <a:lnTo>
                    <a:pt x="424" y="146"/>
                  </a:lnTo>
                  <a:lnTo>
                    <a:pt x="444" y="140"/>
                  </a:lnTo>
                  <a:lnTo>
                    <a:pt x="484" y="132"/>
                  </a:lnTo>
                  <a:lnTo>
                    <a:pt x="528" y="128"/>
                  </a:lnTo>
                  <a:lnTo>
                    <a:pt x="572" y="126"/>
                  </a:lnTo>
                  <a:lnTo>
                    <a:pt x="616" y="126"/>
                  </a:lnTo>
                  <a:lnTo>
                    <a:pt x="658" y="128"/>
                  </a:lnTo>
                  <a:lnTo>
                    <a:pt x="732" y="132"/>
                  </a:lnTo>
                  <a:lnTo>
                    <a:pt x="866" y="140"/>
                  </a:lnTo>
                  <a:lnTo>
                    <a:pt x="866" y="140"/>
                  </a:lnTo>
                  <a:lnTo>
                    <a:pt x="1004" y="148"/>
                  </a:lnTo>
                  <a:lnTo>
                    <a:pt x="1086" y="152"/>
                  </a:lnTo>
                  <a:lnTo>
                    <a:pt x="1170" y="152"/>
                  </a:lnTo>
                  <a:lnTo>
                    <a:pt x="1212" y="150"/>
                  </a:lnTo>
                  <a:lnTo>
                    <a:pt x="1254" y="148"/>
                  </a:lnTo>
                  <a:lnTo>
                    <a:pt x="1294" y="144"/>
                  </a:lnTo>
                  <a:lnTo>
                    <a:pt x="1330" y="138"/>
                  </a:lnTo>
                  <a:lnTo>
                    <a:pt x="1366" y="132"/>
                  </a:lnTo>
                  <a:lnTo>
                    <a:pt x="1398" y="122"/>
                  </a:lnTo>
                  <a:lnTo>
                    <a:pt x="1426" y="112"/>
                  </a:lnTo>
                  <a:lnTo>
                    <a:pt x="1450" y="100"/>
                  </a:lnTo>
                  <a:lnTo>
                    <a:pt x="1450" y="100"/>
                  </a:lnTo>
                  <a:lnTo>
                    <a:pt x="1472" y="86"/>
                  </a:lnTo>
                  <a:lnTo>
                    <a:pt x="1494" y="78"/>
                  </a:lnTo>
                  <a:lnTo>
                    <a:pt x="1514" y="70"/>
                  </a:lnTo>
                  <a:lnTo>
                    <a:pt x="1534" y="64"/>
                  </a:lnTo>
                  <a:lnTo>
                    <a:pt x="1554" y="62"/>
                  </a:lnTo>
                  <a:lnTo>
                    <a:pt x="1572" y="60"/>
                  </a:lnTo>
                  <a:lnTo>
                    <a:pt x="1590" y="60"/>
                  </a:lnTo>
                  <a:lnTo>
                    <a:pt x="1606" y="62"/>
                  </a:lnTo>
                  <a:lnTo>
                    <a:pt x="1634" y="68"/>
                  </a:lnTo>
                  <a:lnTo>
                    <a:pt x="1654" y="74"/>
                  </a:lnTo>
                  <a:lnTo>
                    <a:pt x="1670" y="80"/>
                  </a:lnTo>
                  <a:lnTo>
                    <a:pt x="1676" y="82"/>
                  </a:lnTo>
                  <a:lnTo>
                    <a:pt x="1676" y="82"/>
                  </a:lnTo>
                  <a:lnTo>
                    <a:pt x="1686" y="86"/>
                  </a:lnTo>
                  <a:lnTo>
                    <a:pt x="1696" y="86"/>
                  </a:lnTo>
                  <a:lnTo>
                    <a:pt x="1704" y="80"/>
                  </a:lnTo>
                  <a:lnTo>
                    <a:pt x="1710" y="72"/>
                  </a:lnTo>
                  <a:lnTo>
                    <a:pt x="1710" y="72"/>
                  </a:lnTo>
                  <a:lnTo>
                    <a:pt x="1714" y="64"/>
                  </a:lnTo>
                  <a:lnTo>
                    <a:pt x="1714" y="54"/>
                  </a:lnTo>
                  <a:lnTo>
                    <a:pt x="1708" y="44"/>
                  </a:lnTo>
                  <a:lnTo>
                    <a:pt x="1702" y="38"/>
                  </a:lnTo>
                  <a:lnTo>
                    <a:pt x="1702" y="38"/>
                  </a:lnTo>
                  <a:lnTo>
                    <a:pt x="1694" y="34"/>
                  </a:lnTo>
                  <a:lnTo>
                    <a:pt x="1676" y="26"/>
                  </a:lnTo>
                  <a:lnTo>
                    <a:pt x="1650" y="18"/>
                  </a:lnTo>
                  <a:lnTo>
                    <a:pt x="1632" y="14"/>
                  </a:lnTo>
                  <a:lnTo>
                    <a:pt x="1614" y="10"/>
                  </a:lnTo>
                  <a:lnTo>
                    <a:pt x="1594" y="8"/>
                  </a:lnTo>
                  <a:lnTo>
                    <a:pt x="1574" y="8"/>
                  </a:lnTo>
                  <a:lnTo>
                    <a:pt x="1550" y="10"/>
                  </a:lnTo>
                  <a:lnTo>
                    <a:pt x="1526" y="12"/>
                  </a:lnTo>
                  <a:lnTo>
                    <a:pt x="1502" y="18"/>
                  </a:lnTo>
                  <a:lnTo>
                    <a:pt x="1476" y="28"/>
                  </a:lnTo>
                  <a:lnTo>
                    <a:pt x="1450" y="40"/>
                  </a:lnTo>
                  <a:lnTo>
                    <a:pt x="1422" y="54"/>
                  </a:lnTo>
                  <a:lnTo>
                    <a:pt x="1422" y="54"/>
                  </a:lnTo>
                  <a:lnTo>
                    <a:pt x="1400" y="66"/>
                  </a:lnTo>
                  <a:lnTo>
                    <a:pt x="1374" y="74"/>
                  </a:lnTo>
                  <a:lnTo>
                    <a:pt x="1344" y="82"/>
                  </a:lnTo>
                  <a:lnTo>
                    <a:pt x="1312" y="88"/>
                  </a:lnTo>
                  <a:lnTo>
                    <a:pt x="1276" y="92"/>
                  </a:lnTo>
                  <a:lnTo>
                    <a:pt x="1238" y="96"/>
                  </a:lnTo>
                  <a:lnTo>
                    <a:pt x="1158" y="98"/>
                  </a:lnTo>
                  <a:lnTo>
                    <a:pt x="1076" y="98"/>
                  </a:lnTo>
                  <a:lnTo>
                    <a:pt x="998" y="96"/>
                  </a:lnTo>
                  <a:lnTo>
                    <a:pt x="868" y="88"/>
                  </a:lnTo>
                  <a:lnTo>
                    <a:pt x="798" y="84"/>
                  </a:lnTo>
                  <a:lnTo>
                    <a:pt x="736" y="80"/>
                  </a:lnTo>
                  <a:lnTo>
                    <a:pt x="736" y="80"/>
                  </a:lnTo>
                  <a:lnTo>
                    <a:pt x="656" y="76"/>
                  </a:lnTo>
                  <a:lnTo>
                    <a:pt x="612" y="74"/>
                  </a:lnTo>
                  <a:lnTo>
                    <a:pt x="566" y="74"/>
                  </a:lnTo>
                  <a:lnTo>
                    <a:pt x="520" y="76"/>
                  </a:lnTo>
                  <a:lnTo>
                    <a:pt x="474" y="80"/>
                  </a:lnTo>
                  <a:lnTo>
                    <a:pt x="428" y="90"/>
                  </a:lnTo>
                  <a:lnTo>
                    <a:pt x="406" y="96"/>
                  </a:lnTo>
                  <a:lnTo>
                    <a:pt x="386" y="102"/>
                  </a:lnTo>
                  <a:lnTo>
                    <a:pt x="386" y="102"/>
                  </a:lnTo>
                  <a:lnTo>
                    <a:pt x="366" y="108"/>
                  </a:lnTo>
                  <a:lnTo>
                    <a:pt x="344" y="110"/>
                  </a:lnTo>
                  <a:lnTo>
                    <a:pt x="322" y="110"/>
                  </a:lnTo>
                  <a:lnTo>
                    <a:pt x="298" y="108"/>
                  </a:lnTo>
                  <a:lnTo>
                    <a:pt x="274" y="104"/>
                  </a:lnTo>
                  <a:lnTo>
                    <a:pt x="248" y="98"/>
                  </a:lnTo>
                  <a:lnTo>
                    <a:pt x="224" y="92"/>
                  </a:lnTo>
                  <a:lnTo>
                    <a:pt x="198" y="82"/>
                  </a:lnTo>
                  <a:lnTo>
                    <a:pt x="150" y="62"/>
                  </a:lnTo>
                  <a:lnTo>
                    <a:pt x="106" y="42"/>
                  </a:lnTo>
                  <a:lnTo>
                    <a:pt x="68" y="2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69"/>
            <p:cNvSpPr/>
            <p:nvPr/>
          </p:nvSpPr>
          <p:spPr>
            <a:xfrm>
              <a:off x="39468600" y="8832960"/>
              <a:ext cx="1923840" cy="18396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212" h="116">
                  <a:moveTo>
                    <a:pt x="18" y="32"/>
                  </a:moveTo>
                  <a:lnTo>
                    <a:pt x="18" y="32"/>
                  </a:lnTo>
                  <a:lnTo>
                    <a:pt x="8" y="38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8" y="74"/>
                  </a:lnTo>
                  <a:lnTo>
                    <a:pt x="16" y="80"/>
                  </a:lnTo>
                  <a:lnTo>
                    <a:pt x="26" y="82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64" y="72"/>
                  </a:lnTo>
                  <a:lnTo>
                    <a:pt x="98" y="66"/>
                  </a:lnTo>
                  <a:lnTo>
                    <a:pt x="140" y="60"/>
                  </a:lnTo>
                  <a:lnTo>
                    <a:pt x="186" y="56"/>
                  </a:lnTo>
                  <a:lnTo>
                    <a:pt x="234" y="54"/>
                  </a:lnTo>
                  <a:lnTo>
                    <a:pt x="288" y="52"/>
                  </a:lnTo>
                  <a:lnTo>
                    <a:pt x="398" y="54"/>
                  </a:lnTo>
                  <a:lnTo>
                    <a:pt x="508" y="60"/>
                  </a:lnTo>
                  <a:lnTo>
                    <a:pt x="560" y="64"/>
                  </a:lnTo>
                  <a:lnTo>
                    <a:pt x="610" y="68"/>
                  </a:lnTo>
                  <a:lnTo>
                    <a:pt x="654" y="74"/>
                  </a:lnTo>
                  <a:lnTo>
                    <a:pt x="694" y="82"/>
                  </a:lnTo>
                  <a:lnTo>
                    <a:pt x="730" y="90"/>
                  </a:lnTo>
                  <a:lnTo>
                    <a:pt x="756" y="98"/>
                  </a:lnTo>
                  <a:lnTo>
                    <a:pt x="756" y="98"/>
                  </a:lnTo>
                  <a:lnTo>
                    <a:pt x="784" y="106"/>
                  </a:lnTo>
                  <a:lnTo>
                    <a:pt x="816" y="112"/>
                  </a:lnTo>
                  <a:lnTo>
                    <a:pt x="848" y="114"/>
                  </a:lnTo>
                  <a:lnTo>
                    <a:pt x="882" y="116"/>
                  </a:lnTo>
                  <a:lnTo>
                    <a:pt x="918" y="114"/>
                  </a:lnTo>
                  <a:lnTo>
                    <a:pt x="954" y="112"/>
                  </a:lnTo>
                  <a:lnTo>
                    <a:pt x="1022" y="102"/>
                  </a:lnTo>
                  <a:lnTo>
                    <a:pt x="1086" y="90"/>
                  </a:lnTo>
                  <a:lnTo>
                    <a:pt x="1140" y="78"/>
                  </a:lnTo>
                  <a:lnTo>
                    <a:pt x="1192" y="64"/>
                  </a:lnTo>
                  <a:lnTo>
                    <a:pt x="1192" y="64"/>
                  </a:lnTo>
                  <a:lnTo>
                    <a:pt x="1202" y="60"/>
                  </a:lnTo>
                  <a:lnTo>
                    <a:pt x="1208" y="52"/>
                  </a:lnTo>
                  <a:lnTo>
                    <a:pt x="1212" y="42"/>
                  </a:lnTo>
                  <a:lnTo>
                    <a:pt x="1210" y="32"/>
                  </a:lnTo>
                  <a:lnTo>
                    <a:pt x="1210" y="32"/>
                  </a:lnTo>
                  <a:lnTo>
                    <a:pt x="1206" y="22"/>
                  </a:lnTo>
                  <a:lnTo>
                    <a:pt x="1198" y="16"/>
                  </a:lnTo>
                  <a:lnTo>
                    <a:pt x="1188" y="14"/>
                  </a:lnTo>
                  <a:lnTo>
                    <a:pt x="1178" y="14"/>
                  </a:lnTo>
                  <a:lnTo>
                    <a:pt x="1178" y="14"/>
                  </a:lnTo>
                  <a:lnTo>
                    <a:pt x="1132" y="26"/>
                  </a:lnTo>
                  <a:lnTo>
                    <a:pt x="1082" y="38"/>
                  </a:lnTo>
                  <a:lnTo>
                    <a:pt x="1022" y="50"/>
                  </a:lnTo>
                  <a:lnTo>
                    <a:pt x="956" y="58"/>
                  </a:lnTo>
                  <a:lnTo>
                    <a:pt x="922" y="62"/>
                  </a:lnTo>
                  <a:lnTo>
                    <a:pt x="890" y="64"/>
                  </a:lnTo>
                  <a:lnTo>
                    <a:pt x="858" y="62"/>
                  </a:lnTo>
                  <a:lnTo>
                    <a:pt x="828" y="60"/>
                  </a:lnTo>
                  <a:lnTo>
                    <a:pt x="800" y="56"/>
                  </a:lnTo>
                  <a:lnTo>
                    <a:pt x="774" y="48"/>
                  </a:lnTo>
                  <a:lnTo>
                    <a:pt x="774" y="48"/>
                  </a:lnTo>
                  <a:lnTo>
                    <a:pt x="746" y="40"/>
                  </a:lnTo>
                  <a:lnTo>
                    <a:pt x="708" y="30"/>
                  </a:lnTo>
                  <a:lnTo>
                    <a:pt x="666" y="24"/>
                  </a:lnTo>
                  <a:lnTo>
                    <a:pt x="618" y="16"/>
                  </a:lnTo>
                  <a:lnTo>
                    <a:pt x="566" y="10"/>
                  </a:lnTo>
                  <a:lnTo>
                    <a:pt x="512" y="6"/>
                  </a:lnTo>
                  <a:lnTo>
                    <a:pt x="456" y="2"/>
                  </a:lnTo>
                  <a:lnTo>
                    <a:pt x="398" y="0"/>
                  </a:lnTo>
                  <a:lnTo>
                    <a:pt x="340" y="0"/>
                  </a:lnTo>
                  <a:lnTo>
                    <a:pt x="284" y="0"/>
                  </a:lnTo>
                  <a:lnTo>
                    <a:pt x="228" y="2"/>
                  </a:lnTo>
                  <a:lnTo>
                    <a:pt x="176" y="4"/>
                  </a:lnTo>
                  <a:lnTo>
                    <a:pt x="128" y="8"/>
                  </a:lnTo>
                  <a:lnTo>
                    <a:pt x="86" y="14"/>
                  </a:lnTo>
                  <a:lnTo>
                    <a:pt x="48" y="22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70"/>
            <p:cNvSpPr/>
            <p:nvPr/>
          </p:nvSpPr>
          <p:spPr>
            <a:xfrm>
              <a:off x="39189240" y="7080480"/>
              <a:ext cx="1726920" cy="2539800"/>
            </a:xfrm>
            <a:custGeom>
              <a:avLst/>
              <a:gdLst>
                <a:gd name="textAreaLeft" fmla="*/ 0 w 1726920"/>
                <a:gd name="textAreaRight" fmla="*/ 1727280 w 1726920"/>
                <a:gd name="textAreaTop" fmla="*/ 0 h 2539800"/>
                <a:gd name="textAreaBottom" fmla="*/ 2540160 h 2539800"/>
              </a:gdLst>
              <a:ahLst/>
              <a:rect l="textAreaLeft" t="textAreaTop" r="textAreaRight" b="textAreaBottom"/>
              <a:pathLst>
                <a:path w="1088" h="1600">
                  <a:moveTo>
                    <a:pt x="40" y="0"/>
                  </a:moveTo>
                  <a:lnTo>
                    <a:pt x="0" y="1562"/>
                  </a:lnTo>
                  <a:lnTo>
                    <a:pt x="1028" y="1600"/>
                  </a:lnTo>
                  <a:lnTo>
                    <a:pt x="1088" y="6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66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1"/>
            <p:cNvSpPr/>
            <p:nvPr/>
          </p:nvSpPr>
          <p:spPr>
            <a:xfrm>
              <a:off x="39147840" y="7039080"/>
              <a:ext cx="1809720" cy="262260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2622600"/>
                <a:gd name="textAreaBottom" fmla="*/ 2622960 h 2622600"/>
              </a:gdLst>
              <a:ahLst/>
              <a:rect l="textAreaLeft" t="textAreaTop" r="textAreaRight" b="textAreaBottom"/>
              <a:pathLst>
                <a:path w="1140" h="1652">
                  <a:moveTo>
                    <a:pt x="48" y="6"/>
                  </a:moveTo>
                  <a:lnTo>
                    <a:pt x="48" y="6"/>
                  </a:lnTo>
                  <a:lnTo>
                    <a:pt x="42" y="16"/>
                  </a:lnTo>
                  <a:lnTo>
                    <a:pt x="40" y="26"/>
                  </a:lnTo>
                  <a:lnTo>
                    <a:pt x="0" y="1586"/>
                  </a:lnTo>
                  <a:lnTo>
                    <a:pt x="0" y="1586"/>
                  </a:lnTo>
                  <a:lnTo>
                    <a:pt x="2" y="1596"/>
                  </a:lnTo>
                  <a:lnTo>
                    <a:pt x="8" y="1606"/>
                  </a:lnTo>
                  <a:lnTo>
                    <a:pt x="16" y="1610"/>
                  </a:lnTo>
                  <a:lnTo>
                    <a:pt x="26" y="1614"/>
                  </a:lnTo>
                  <a:lnTo>
                    <a:pt x="1054" y="1652"/>
                  </a:lnTo>
                  <a:lnTo>
                    <a:pt x="1054" y="1652"/>
                  </a:lnTo>
                  <a:lnTo>
                    <a:pt x="1064" y="1652"/>
                  </a:lnTo>
                  <a:lnTo>
                    <a:pt x="1072" y="1646"/>
                  </a:lnTo>
                  <a:lnTo>
                    <a:pt x="1072" y="1646"/>
                  </a:lnTo>
                  <a:lnTo>
                    <a:pt x="1078" y="1638"/>
                  </a:lnTo>
                  <a:lnTo>
                    <a:pt x="1080" y="1628"/>
                  </a:lnTo>
                  <a:lnTo>
                    <a:pt x="1140" y="86"/>
                  </a:lnTo>
                  <a:lnTo>
                    <a:pt x="1140" y="86"/>
                  </a:lnTo>
                  <a:lnTo>
                    <a:pt x="1138" y="76"/>
                  </a:lnTo>
                  <a:lnTo>
                    <a:pt x="1132" y="68"/>
                  </a:lnTo>
                  <a:lnTo>
                    <a:pt x="1124" y="62"/>
                  </a:lnTo>
                  <a:lnTo>
                    <a:pt x="1114" y="6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8" y="2"/>
                  </a:lnTo>
                  <a:lnTo>
                    <a:pt x="48" y="6"/>
                  </a:lnTo>
                  <a:lnTo>
                    <a:pt x="48" y="6"/>
                  </a:lnTo>
                  <a:close/>
                  <a:moveTo>
                    <a:pt x="92" y="54"/>
                  </a:moveTo>
                  <a:lnTo>
                    <a:pt x="92" y="54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28" y="1600"/>
                  </a:lnTo>
                  <a:lnTo>
                    <a:pt x="1028" y="1600"/>
                  </a:lnTo>
                  <a:lnTo>
                    <a:pt x="54" y="1562"/>
                  </a:lnTo>
                  <a:lnTo>
                    <a:pt x="54" y="1562"/>
                  </a:lnTo>
                  <a:lnTo>
                    <a:pt x="92" y="54"/>
                  </a:lnTo>
                  <a:lnTo>
                    <a:pt x="9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72"/>
            <p:cNvSpPr/>
            <p:nvPr/>
          </p:nvSpPr>
          <p:spPr>
            <a:xfrm>
              <a:off x="41243400" y="7375680"/>
              <a:ext cx="1012680" cy="13320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38" h="84">
                  <a:moveTo>
                    <a:pt x="0" y="50"/>
                  </a:moveTo>
                  <a:lnTo>
                    <a:pt x="0" y="50"/>
                  </a:lnTo>
                  <a:lnTo>
                    <a:pt x="18" y="46"/>
                  </a:lnTo>
                  <a:lnTo>
                    <a:pt x="66" y="36"/>
                  </a:lnTo>
                  <a:lnTo>
                    <a:pt x="140" y="24"/>
                  </a:lnTo>
                  <a:lnTo>
                    <a:pt x="232" y="10"/>
                  </a:lnTo>
                  <a:lnTo>
                    <a:pt x="282" y="6"/>
                  </a:lnTo>
                  <a:lnTo>
                    <a:pt x="334" y="2"/>
                  </a:lnTo>
                  <a:lnTo>
                    <a:pt x="386" y="0"/>
                  </a:lnTo>
                  <a:lnTo>
                    <a:pt x="440" y="2"/>
                  </a:lnTo>
                  <a:lnTo>
                    <a:pt x="492" y="4"/>
                  </a:lnTo>
                  <a:lnTo>
                    <a:pt x="544" y="10"/>
                  </a:lnTo>
                  <a:lnTo>
                    <a:pt x="592" y="20"/>
                  </a:lnTo>
                  <a:lnTo>
                    <a:pt x="616" y="26"/>
                  </a:lnTo>
                  <a:lnTo>
                    <a:pt x="638" y="34"/>
                  </a:lnTo>
                  <a:lnTo>
                    <a:pt x="638" y="34"/>
                  </a:lnTo>
                  <a:lnTo>
                    <a:pt x="626" y="38"/>
                  </a:lnTo>
                  <a:lnTo>
                    <a:pt x="588" y="48"/>
                  </a:lnTo>
                  <a:lnTo>
                    <a:pt x="530" y="62"/>
                  </a:lnTo>
                  <a:lnTo>
                    <a:pt x="492" y="68"/>
                  </a:lnTo>
                  <a:lnTo>
                    <a:pt x="452" y="74"/>
                  </a:lnTo>
                  <a:lnTo>
                    <a:pt x="406" y="78"/>
                  </a:lnTo>
                  <a:lnTo>
                    <a:pt x="358" y="82"/>
                  </a:lnTo>
                  <a:lnTo>
                    <a:pt x="304" y="84"/>
                  </a:lnTo>
                  <a:lnTo>
                    <a:pt x="248" y="84"/>
                  </a:lnTo>
                  <a:lnTo>
                    <a:pt x="190" y="80"/>
                  </a:lnTo>
                  <a:lnTo>
                    <a:pt x="128" y="74"/>
                  </a:lnTo>
                  <a:lnTo>
                    <a:pt x="66" y="64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8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73"/>
            <p:cNvSpPr/>
            <p:nvPr/>
          </p:nvSpPr>
          <p:spPr>
            <a:xfrm>
              <a:off x="41202000" y="7334280"/>
              <a:ext cx="1095120" cy="2156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90" h="136">
                  <a:moveTo>
                    <a:pt x="20" y="52"/>
                  </a:moveTo>
                  <a:lnTo>
                    <a:pt x="20" y="52"/>
                  </a:lnTo>
                  <a:lnTo>
                    <a:pt x="12" y="54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86"/>
                  </a:lnTo>
                  <a:lnTo>
                    <a:pt x="6" y="94"/>
                  </a:lnTo>
                  <a:lnTo>
                    <a:pt x="12" y="98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86" y="116"/>
                  </a:lnTo>
                  <a:lnTo>
                    <a:pt x="150" y="126"/>
                  </a:lnTo>
                  <a:lnTo>
                    <a:pt x="212" y="132"/>
                  </a:lnTo>
                  <a:lnTo>
                    <a:pt x="270" y="136"/>
                  </a:lnTo>
                  <a:lnTo>
                    <a:pt x="326" y="136"/>
                  </a:lnTo>
                  <a:lnTo>
                    <a:pt x="380" y="136"/>
                  </a:lnTo>
                  <a:lnTo>
                    <a:pt x="430" y="132"/>
                  </a:lnTo>
                  <a:lnTo>
                    <a:pt x="476" y="126"/>
                  </a:lnTo>
                  <a:lnTo>
                    <a:pt x="518" y="120"/>
                  </a:lnTo>
                  <a:lnTo>
                    <a:pt x="556" y="114"/>
                  </a:lnTo>
                  <a:lnTo>
                    <a:pt x="616" y="102"/>
                  </a:lnTo>
                  <a:lnTo>
                    <a:pt x="656" y="90"/>
                  </a:lnTo>
                  <a:lnTo>
                    <a:pt x="674" y="84"/>
                  </a:lnTo>
                  <a:lnTo>
                    <a:pt x="674" y="84"/>
                  </a:lnTo>
                  <a:lnTo>
                    <a:pt x="680" y="80"/>
                  </a:lnTo>
                  <a:lnTo>
                    <a:pt x="686" y="76"/>
                  </a:lnTo>
                  <a:lnTo>
                    <a:pt x="690" y="68"/>
                  </a:lnTo>
                  <a:lnTo>
                    <a:pt x="690" y="60"/>
                  </a:lnTo>
                  <a:lnTo>
                    <a:pt x="690" y="60"/>
                  </a:lnTo>
                  <a:lnTo>
                    <a:pt x="690" y="52"/>
                  </a:lnTo>
                  <a:lnTo>
                    <a:pt x="686" y="44"/>
                  </a:lnTo>
                  <a:lnTo>
                    <a:pt x="680" y="40"/>
                  </a:lnTo>
                  <a:lnTo>
                    <a:pt x="674" y="36"/>
                  </a:lnTo>
                  <a:lnTo>
                    <a:pt x="674" y="36"/>
                  </a:lnTo>
                  <a:lnTo>
                    <a:pt x="650" y="28"/>
                  </a:lnTo>
                  <a:lnTo>
                    <a:pt x="626" y="22"/>
                  </a:lnTo>
                  <a:lnTo>
                    <a:pt x="576" y="12"/>
                  </a:lnTo>
                  <a:lnTo>
                    <a:pt x="526" y="4"/>
                  </a:lnTo>
                  <a:lnTo>
                    <a:pt x="472" y="0"/>
                  </a:lnTo>
                  <a:lnTo>
                    <a:pt x="418" y="0"/>
                  </a:lnTo>
                  <a:lnTo>
                    <a:pt x="366" y="2"/>
                  </a:lnTo>
                  <a:lnTo>
                    <a:pt x="314" y="4"/>
                  </a:lnTo>
                  <a:lnTo>
                    <a:pt x="262" y="10"/>
                  </a:lnTo>
                  <a:lnTo>
                    <a:pt x="170" y="22"/>
                  </a:lnTo>
                  <a:lnTo>
                    <a:pt x="96" y="34"/>
                  </a:lnTo>
                  <a:lnTo>
                    <a:pt x="42" y="46"/>
                  </a:lnTo>
                  <a:lnTo>
                    <a:pt x="20" y="52"/>
                  </a:lnTo>
                  <a:lnTo>
                    <a:pt x="20" y="52"/>
                  </a:lnTo>
                  <a:close/>
                  <a:moveTo>
                    <a:pt x="552" y="60"/>
                  </a:moveTo>
                  <a:lnTo>
                    <a:pt x="552" y="60"/>
                  </a:lnTo>
                  <a:lnTo>
                    <a:pt x="518" y="68"/>
                  </a:lnTo>
                  <a:lnTo>
                    <a:pt x="478" y="72"/>
                  </a:lnTo>
                  <a:lnTo>
                    <a:pt x="436" y="78"/>
                  </a:lnTo>
                  <a:lnTo>
                    <a:pt x="388" y="82"/>
                  </a:lnTo>
                  <a:lnTo>
                    <a:pt x="338" y="84"/>
                  </a:lnTo>
                  <a:lnTo>
                    <a:pt x="286" y="82"/>
                  </a:lnTo>
                  <a:lnTo>
                    <a:pt x="230" y="80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258" y="64"/>
                  </a:lnTo>
                  <a:lnTo>
                    <a:pt x="306" y="58"/>
                  </a:lnTo>
                  <a:lnTo>
                    <a:pt x="354" y="56"/>
                  </a:lnTo>
                  <a:lnTo>
                    <a:pt x="404" y="54"/>
                  </a:lnTo>
                  <a:lnTo>
                    <a:pt x="454" y="54"/>
                  </a:lnTo>
                  <a:lnTo>
                    <a:pt x="504" y="56"/>
                  </a:lnTo>
                  <a:lnTo>
                    <a:pt x="552" y="60"/>
                  </a:lnTo>
                  <a:lnTo>
                    <a:pt x="5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74"/>
            <p:cNvSpPr/>
            <p:nvPr/>
          </p:nvSpPr>
          <p:spPr>
            <a:xfrm>
              <a:off x="39354120" y="7324920"/>
              <a:ext cx="1403280" cy="213984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84" h="1348">
                  <a:moveTo>
                    <a:pt x="74" y="64"/>
                  </a:moveTo>
                  <a:lnTo>
                    <a:pt x="74" y="64"/>
                  </a:lnTo>
                  <a:lnTo>
                    <a:pt x="54" y="252"/>
                  </a:lnTo>
                  <a:lnTo>
                    <a:pt x="36" y="446"/>
                  </a:lnTo>
                  <a:lnTo>
                    <a:pt x="18" y="668"/>
                  </a:lnTo>
                  <a:lnTo>
                    <a:pt x="10" y="782"/>
                  </a:lnTo>
                  <a:lnTo>
                    <a:pt x="4" y="892"/>
                  </a:lnTo>
                  <a:lnTo>
                    <a:pt x="0" y="996"/>
                  </a:lnTo>
                  <a:lnTo>
                    <a:pt x="0" y="1088"/>
                  </a:lnTo>
                  <a:lnTo>
                    <a:pt x="2" y="1168"/>
                  </a:lnTo>
                  <a:lnTo>
                    <a:pt x="4" y="1202"/>
                  </a:lnTo>
                  <a:lnTo>
                    <a:pt x="8" y="1230"/>
                  </a:lnTo>
                  <a:lnTo>
                    <a:pt x="14" y="1254"/>
                  </a:lnTo>
                  <a:lnTo>
                    <a:pt x="20" y="1272"/>
                  </a:lnTo>
                  <a:lnTo>
                    <a:pt x="26" y="1284"/>
                  </a:lnTo>
                  <a:lnTo>
                    <a:pt x="30" y="1286"/>
                  </a:lnTo>
                  <a:lnTo>
                    <a:pt x="36" y="1288"/>
                  </a:lnTo>
                  <a:lnTo>
                    <a:pt x="36" y="1288"/>
                  </a:lnTo>
                  <a:lnTo>
                    <a:pt x="96" y="1296"/>
                  </a:lnTo>
                  <a:lnTo>
                    <a:pt x="194" y="1306"/>
                  </a:lnTo>
                  <a:lnTo>
                    <a:pt x="448" y="1326"/>
                  </a:lnTo>
                  <a:lnTo>
                    <a:pt x="682" y="1342"/>
                  </a:lnTo>
                  <a:lnTo>
                    <a:pt x="786" y="1348"/>
                  </a:lnTo>
                  <a:lnTo>
                    <a:pt x="786" y="1348"/>
                  </a:lnTo>
                  <a:lnTo>
                    <a:pt x="762" y="1338"/>
                  </a:lnTo>
                  <a:lnTo>
                    <a:pt x="700" y="1314"/>
                  </a:lnTo>
                  <a:lnTo>
                    <a:pt x="612" y="1276"/>
                  </a:lnTo>
                  <a:lnTo>
                    <a:pt x="564" y="1254"/>
                  </a:lnTo>
                  <a:lnTo>
                    <a:pt x="514" y="1230"/>
                  </a:lnTo>
                  <a:lnTo>
                    <a:pt x="464" y="1202"/>
                  </a:lnTo>
                  <a:lnTo>
                    <a:pt x="418" y="1174"/>
                  </a:lnTo>
                  <a:lnTo>
                    <a:pt x="374" y="1144"/>
                  </a:lnTo>
                  <a:lnTo>
                    <a:pt x="336" y="1114"/>
                  </a:lnTo>
                  <a:lnTo>
                    <a:pt x="320" y="1100"/>
                  </a:lnTo>
                  <a:lnTo>
                    <a:pt x="304" y="1084"/>
                  </a:lnTo>
                  <a:lnTo>
                    <a:pt x="292" y="1068"/>
                  </a:lnTo>
                  <a:lnTo>
                    <a:pt x="282" y="1052"/>
                  </a:lnTo>
                  <a:lnTo>
                    <a:pt x="276" y="1038"/>
                  </a:lnTo>
                  <a:lnTo>
                    <a:pt x="272" y="1022"/>
                  </a:lnTo>
                  <a:lnTo>
                    <a:pt x="270" y="1008"/>
                  </a:lnTo>
                  <a:lnTo>
                    <a:pt x="272" y="992"/>
                  </a:lnTo>
                  <a:lnTo>
                    <a:pt x="272" y="992"/>
                  </a:lnTo>
                  <a:lnTo>
                    <a:pt x="278" y="978"/>
                  </a:lnTo>
                  <a:lnTo>
                    <a:pt x="286" y="966"/>
                  </a:lnTo>
                  <a:lnTo>
                    <a:pt x="296" y="958"/>
                  </a:lnTo>
                  <a:lnTo>
                    <a:pt x="310" y="950"/>
                  </a:lnTo>
                  <a:lnTo>
                    <a:pt x="326" y="944"/>
                  </a:lnTo>
                  <a:lnTo>
                    <a:pt x="344" y="940"/>
                  </a:lnTo>
                  <a:lnTo>
                    <a:pt x="364" y="936"/>
                  </a:lnTo>
                  <a:lnTo>
                    <a:pt x="384" y="934"/>
                  </a:lnTo>
                  <a:lnTo>
                    <a:pt x="432" y="934"/>
                  </a:lnTo>
                  <a:lnTo>
                    <a:pt x="484" y="936"/>
                  </a:lnTo>
                  <a:lnTo>
                    <a:pt x="594" y="942"/>
                  </a:lnTo>
                  <a:lnTo>
                    <a:pt x="648" y="946"/>
                  </a:lnTo>
                  <a:lnTo>
                    <a:pt x="702" y="946"/>
                  </a:lnTo>
                  <a:lnTo>
                    <a:pt x="750" y="944"/>
                  </a:lnTo>
                  <a:lnTo>
                    <a:pt x="774" y="940"/>
                  </a:lnTo>
                  <a:lnTo>
                    <a:pt x="794" y="936"/>
                  </a:lnTo>
                  <a:lnTo>
                    <a:pt x="814" y="930"/>
                  </a:lnTo>
                  <a:lnTo>
                    <a:pt x="832" y="924"/>
                  </a:lnTo>
                  <a:lnTo>
                    <a:pt x="846" y="914"/>
                  </a:lnTo>
                  <a:lnTo>
                    <a:pt x="860" y="902"/>
                  </a:lnTo>
                  <a:lnTo>
                    <a:pt x="870" y="888"/>
                  </a:lnTo>
                  <a:lnTo>
                    <a:pt x="878" y="874"/>
                  </a:lnTo>
                  <a:lnTo>
                    <a:pt x="884" y="854"/>
                  </a:lnTo>
                  <a:lnTo>
                    <a:pt x="884" y="834"/>
                  </a:lnTo>
                  <a:lnTo>
                    <a:pt x="884" y="834"/>
                  </a:lnTo>
                  <a:lnTo>
                    <a:pt x="882" y="812"/>
                  </a:lnTo>
                  <a:lnTo>
                    <a:pt x="878" y="792"/>
                  </a:lnTo>
                  <a:lnTo>
                    <a:pt x="868" y="770"/>
                  </a:lnTo>
                  <a:lnTo>
                    <a:pt x="856" y="750"/>
                  </a:lnTo>
                  <a:lnTo>
                    <a:pt x="840" y="732"/>
                  </a:lnTo>
                  <a:lnTo>
                    <a:pt x="822" y="714"/>
                  </a:lnTo>
                  <a:lnTo>
                    <a:pt x="802" y="696"/>
                  </a:lnTo>
                  <a:lnTo>
                    <a:pt x="780" y="678"/>
                  </a:lnTo>
                  <a:lnTo>
                    <a:pt x="756" y="662"/>
                  </a:lnTo>
                  <a:lnTo>
                    <a:pt x="728" y="646"/>
                  </a:lnTo>
                  <a:lnTo>
                    <a:pt x="702" y="632"/>
                  </a:lnTo>
                  <a:lnTo>
                    <a:pt x="672" y="618"/>
                  </a:lnTo>
                  <a:lnTo>
                    <a:pt x="612" y="592"/>
                  </a:lnTo>
                  <a:lnTo>
                    <a:pt x="548" y="568"/>
                  </a:lnTo>
                  <a:lnTo>
                    <a:pt x="486" y="546"/>
                  </a:lnTo>
                  <a:lnTo>
                    <a:pt x="426" y="528"/>
                  </a:lnTo>
                  <a:lnTo>
                    <a:pt x="368" y="514"/>
                  </a:lnTo>
                  <a:lnTo>
                    <a:pt x="318" y="500"/>
                  </a:lnTo>
                  <a:lnTo>
                    <a:pt x="242" y="484"/>
                  </a:lnTo>
                  <a:lnTo>
                    <a:pt x="212" y="478"/>
                  </a:lnTo>
                  <a:lnTo>
                    <a:pt x="212" y="478"/>
                  </a:lnTo>
                  <a:lnTo>
                    <a:pt x="210" y="466"/>
                  </a:lnTo>
                  <a:lnTo>
                    <a:pt x="202" y="432"/>
                  </a:lnTo>
                  <a:lnTo>
                    <a:pt x="196" y="382"/>
                  </a:lnTo>
                  <a:lnTo>
                    <a:pt x="192" y="354"/>
                  </a:lnTo>
                  <a:lnTo>
                    <a:pt x="190" y="326"/>
                  </a:lnTo>
                  <a:lnTo>
                    <a:pt x="190" y="296"/>
                  </a:lnTo>
                  <a:lnTo>
                    <a:pt x="192" y="266"/>
                  </a:lnTo>
                  <a:lnTo>
                    <a:pt x="198" y="238"/>
                  </a:lnTo>
                  <a:lnTo>
                    <a:pt x="204" y="212"/>
                  </a:lnTo>
                  <a:lnTo>
                    <a:pt x="216" y="188"/>
                  </a:lnTo>
                  <a:lnTo>
                    <a:pt x="222" y="178"/>
                  </a:lnTo>
                  <a:lnTo>
                    <a:pt x="230" y="168"/>
                  </a:lnTo>
                  <a:lnTo>
                    <a:pt x="238" y="160"/>
                  </a:lnTo>
                  <a:lnTo>
                    <a:pt x="248" y="152"/>
                  </a:lnTo>
                  <a:lnTo>
                    <a:pt x="260" y="148"/>
                  </a:lnTo>
                  <a:lnTo>
                    <a:pt x="272" y="142"/>
                  </a:lnTo>
                  <a:lnTo>
                    <a:pt x="272" y="142"/>
                  </a:lnTo>
                  <a:lnTo>
                    <a:pt x="284" y="138"/>
                  </a:lnTo>
                  <a:lnTo>
                    <a:pt x="294" y="134"/>
                  </a:lnTo>
                  <a:lnTo>
                    <a:pt x="302" y="128"/>
                  </a:lnTo>
                  <a:lnTo>
                    <a:pt x="308" y="122"/>
                  </a:lnTo>
                  <a:lnTo>
                    <a:pt x="312" y="114"/>
                  </a:lnTo>
                  <a:lnTo>
                    <a:pt x="314" y="106"/>
                  </a:lnTo>
                  <a:lnTo>
                    <a:pt x="316" y="98"/>
                  </a:lnTo>
                  <a:lnTo>
                    <a:pt x="316" y="90"/>
                  </a:lnTo>
                  <a:lnTo>
                    <a:pt x="314" y="82"/>
                  </a:lnTo>
                  <a:lnTo>
                    <a:pt x="310" y="74"/>
                  </a:lnTo>
                  <a:lnTo>
                    <a:pt x="300" y="56"/>
                  </a:lnTo>
                  <a:lnTo>
                    <a:pt x="286" y="40"/>
                  </a:lnTo>
                  <a:lnTo>
                    <a:pt x="266" y="26"/>
                  </a:lnTo>
                  <a:lnTo>
                    <a:pt x="246" y="14"/>
                  </a:lnTo>
                  <a:lnTo>
                    <a:pt x="222" y="6"/>
                  </a:lnTo>
                  <a:lnTo>
                    <a:pt x="198" y="2"/>
                  </a:lnTo>
                  <a:lnTo>
                    <a:pt x="184" y="0"/>
                  </a:lnTo>
                  <a:lnTo>
                    <a:pt x="172" y="2"/>
                  </a:lnTo>
                  <a:lnTo>
                    <a:pt x="158" y="2"/>
                  </a:lnTo>
                  <a:lnTo>
                    <a:pt x="146" y="6"/>
                  </a:lnTo>
                  <a:lnTo>
                    <a:pt x="134" y="12"/>
                  </a:lnTo>
                  <a:lnTo>
                    <a:pt x="120" y="18"/>
                  </a:lnTo>
                  <a:lnTo>
                    <a:pt x="108" y="26"/>
                  </a:lnTo>
                  <a:lnTo>
                    <a:pt x="96" y="36"/>
                  </a:lnTo>
                  <a:lnTo>
                    <a:pt x="86" y="50"/>
                  </a:lnTo>
                  <a:lnTo>
                    <a:pt x="74" y="64"/>
                  </a:lnTo>
                  <a:lnTo>
                    <a:pt x="74" y="64"/>
                  </a:lnTo>
                  <a:close/>
                </a:path>
              </a:pathLst>
            </a:custGeom>
            <a:solidFill>
              <a:srgbClr val="675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75"/>
            <p:cNvSpPr/>
            <p:nvPr/>
          </p:nvSpPr>
          <p:spPr>
            <a:xfrm>
              <a:off x="39379680" y="7207560"/>
              <a:ext cx="1882800" cy="264168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1186" h="1664">
                  <a:moveTo>
                    <a:pt x="144" y="0"/>
                  </a:moveTo>
                  <a:lnTo>
                    <a:pt x="0" y="1556"/>
                  </a:lnTo>
                  <a:lnTo>
                    <a:pt x="1022" y="1664"/>
                  </a:lnTo>
                  <a:lnTo>
                    <a:pt x="1186" y="13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c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76"/>
            <p:cNvSpPr/>
            <p:nvPr/>
          </p:nvSpPr>
          <p:spPr>
            <a:xfrm>
              <a:off x="39338280" y="7166160"/>
              <a:ext cx="1965240" cy="2724120"/>
            </a:xfrm>
            <a:custGeom>
              <a:avLst/>
              <a:gdLst>
                <a:gd name="textAreaLeft" fmla="*/ 0 w 1965240"/>
                <a:gd name="textAreaRight" fmla="*/ 1965600 w 1965240"/>
                <a:gd name="textAreaTop" fmla="*/ 0 h 2724120"/>
                <a:gd name="textAreaBottom" fmla="*/ 2724480 h 2724120"/>
              </a:gdLst>
              <a:ahLst/>
              <a:rect l="textAreaLeft" t="textAreaTop" r="textAreaRight" b="textAreaBottom"/>
              <a:pathLst>
                <a:path w="1238" h="1716">
                  <a:moveTo>
                    <a:pt x="154" y="6"/>
                  </a:moveTo>
                  <a:lnTo>
                    <a:pt x="154" y="6"/>
                  </a:lnTo>
                  <a:lnTo>
                    <a:pt x="148" y="14"/>
                  </a:lnTo>
                  <a:lnTo>
                    <a:pt x="144" y="24"/>
                  </a:lnTo>
                  <a:lnTo>
                    <a:pt x="0" y="1580"/>
                  </a:lnTo>
                  <a:lnTo>
                    <a:pt x="0" y="1580"/>
                  </a:lnTo>
                  <a:lnTo>
                    <a:pt x="0" y="1590"/>
                  </a:lnTo>
                  <a:lnTo>
                    <a:pt x="6" y="1598"/>
                  </a:lnTo>
                  <a:lnTo>
                    <a:pt x="14" y="1604"/>
                  </a:lnTo>
                  <a:lnTo>
                    <a:pt x="24" y="1608"/>
                  </a:lnTo>
                  <a:lnTo>
                    <a:pt x="1046" y="1716"/>
                  </a:lnTo>
                  <a:lnTo>
                    <a:pt x="1046" y="1716"/>
                  </a:lnTo>
                  <a:lnTo>
                    <a:pt x="1056" y="1716"/>
                  </a:lnTo>
                  <a:lnTo>
                    <a:pt x="1064" y="1710"/>
                  </a:lnTo>
                  <a:lnTo>
                    <a:pt x="1064" y="1710"/>
                  </a:lnTo>
                  <a:lnTo>
                    <a:pt x="1072" y="1702"/>
                  </a:lnTo>
                  <a:lnTo>
                    <a:pt x="1074" y="1692"/>
                  </a:lnTo>
                  <a:lnTo>
                    <a:pt x="1238" y="160"/>
                  </a:lnTo>
                  <a:lnTo>
                    <a:pt x="1238" y="160"/>
                  </a:lnTo>
                  <a:lnTo>
                    <a:pt x="1236" y="150"/>
                  </a:lnTo>
                  <a:lnTo>
                    <a:pt x="1232" y="140"/>
                  </a:lnTo>
                  <a:lnTo>
                    <a:pt x="1224" y="134"/>
                  </a:lnTo>
                  <a:lnTo>
                    <a:pt x="1214" y="1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64" y="2"/>
                  </a:lnTo>
                  <a:lnTo>
                    <a:pt x="154" y="6"/>
                  </a:lnTo>
                  <a:lnTo>
                    <a:pt x="154" y="6"/>
                  </a:lnTo>
                  <a:close/>
                  <a:moveTo>
                    <a:pt x="194" y="56"/>
                  </a:moveTo>
                  <a:lnTo>
                    <a:pt x="194" y="56"/>
                  </a:lnTo>
                  <a:lnTo>
                    <a:pt x="1182" y="180"/>
                  </a:lnTo>
                  <a:lnTo>
                    <a:pt x="1182" y="180"/>
                  </a:lnTo>
                  <a:lnTo>
                    <a:pt x="1026" y="1662"/>
                  </a:lnTo>
                  <a:lnTo>
                    <a:pt x="1026" y="1662"/>
                  </a:lnTo>
                  <a:lnTo>
                    <a:pt x="54" y="1558"/>
                  </a:lnTo>
                  <a:lnTo>
                    <a:pt x="54" y="1558"/>
                  </a:lnTo>
                  <a:lnTo>
                    <a:pt x="194" y="56"/>
                  </a:lnTo>
                  <a:lnTo>
                    <a:pt x="19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77"/>
            <p:cNvSpPr/>
            <p:nvPr/>
          </p:nvSpPr>
          <p:spPr>
            <a:xfrm>
              <a:off x="39573360" y="7480440"/>
              <a:ext cx="1431720" cy="219708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902" h="1384">
                  <a:moveTo>
                    <a:pt x="146" y="56"/>
                  </a:moveTo>
                  <a:lnTo>
                    <a:pt x="146" y="56"/>
                  </a:lnTo>
                  <a:lnTo>
                    <a:pt x="114" y="242"/>
                  </a:lnTo>
                  <a:lnTo>
                    <a:pt x="82" y="434"/>
                  </a:lnTo>
                  <a:lnTo>
                    <a:pt x="48" y="654"/>
                  </a:lnTo>
                  <a:lnTo>
                    <a:pt x="34" y="768"/>
                  </a:lnTo>
                  <a:lnTo>
                    <a:pt x="20" y="878"/>
                  </a:lnTo>
                  <a:lnTo>
                    <a:pt x="10" y="980"/>
                  </a:lnTo>
                  <a:lnTo>
                    <a:pt x="2" y="1072"/>
                  </a:lnTo>
                  <a:lnTo>
                    <a:pt x="0" y="1152"/>
                  </a:lnTo>
                  <a:lnTo>
                    <a:pt x="0" y="1186"/>
                  </a:lnTo>
                  <a:lnTo>
                    <a:pt x="2" y="1214"/>
                  </a:lnTo>
                  <a:lnTo>
                    <a:pt x="4" y="1238"/>
                  </a:lnTo>
                  <a:lnTo>
                    <a:pt x="10" y="1256"/>
                  </a:lnTo>
                  <a:lnTo>
                    <a:pt x="16" y="1268"/>
                  </a:lnTo>
                  <a:lnTo>
                    <a:pt x="20" y="1272"/>
                  </a:lnTo>
                  <a:lnTo>
                    <a:pt x="24" y="1274"/>
                  </a:lnTo>
                  <a:lnTo>
                    <a:pt x="24" y="1274"/>
                  </a:lnTo>
                  <a:lnTo>
                    <a:pt x="84" y="1286"/>
                  </a:lnTo>
                  <a:lnTo>
                    <a:pt x="182" y="1302"/>
                  </a:lnTo>
                  <a:lnTo>
                    <a:pt x="432" y="1340"/>
                  </a:lnTo>
                  <a:lnTo>
                    <a:pt x="666" y="1370"/>
                  </a:lnTo>
                  <a:lnTo>
                    <a:pt x="770" y="1384"/>
                  </a:lnTo>
                  <a:lnTo>
                    <a:pt x="770" y="1384"/>
                  </a:lnTo>
                  <a:lnTo>
                    <a:pt x="746" y="1374"/>
                  </a:lnTo>
                  <a:lnTo>
                    <a:pt x="686" y="1346"/>
                  </a:lnTo>
                  <a:lnTo>
                    <a:pt x="602" y="1302"/>
                  </a:lnTo>
                  <a:lnTo>
                    <a:pt x="554" y="1276"/>
                  </a:lnTo>
                  <a:lnTo>
                    <a:pt x="506" y="1248"/>
                  </a:lnTo>
                  <a:lnTo>
                    <a:pt x="458" y="1218"/>
                  </a:lnTo>
                  <a:lnTo>
                    <a:pt x="414" y="1186"/>
                  </a:lnTo>
                  <a:lnTo>
                    <a:pt x="372" y="1154"/>
                  </a:lnTo>
                  <a:lnTo>
                    <a:pt x="336" y="1122"/>
                  </a:lnTo>
                  <a:lnTo>
                    <a:pt x="320" y="1104"/>
                  </a:lnTo>
                  <a:lnTo>
                    <a:pt x="306" y="1088"/>
                  </a:lnTo>
                  <a:lnTo>
                    <a:pt x="296" y="1072"/>
                  </a:lnTo>
                  <a:lnTo>
                    <a:pt x="288" y="1056"/>
                  </a:lnTo>
                  <a:lnTo>
                    <a:pt x="280" y="1040"/>
                  </a:lnTo>
                  <a:lnTo>
                    <a:pt x="278" y="1024"/>
                  </a:lnTo>
                  <a:lnTo>
                    <a:pt x="278" y="1010"/>
                  </a:lnTo>
                  <a:lnTo>
                    <a:pt x="280" y="994"/>
                  </a:lnTo>
                  <a:lnTo>
                    <a:pt x="280" y="994"/>
                  </a:lnTo>
                  <a:lnTo>
                    <a:pt x="286" y="982"/>
                  </a:lnTo>
                  <a:lnTo>
                    <a:pt x="296" y="970"/>
                  </a:lnTo>
                  <a:lnTo>
                    <a:pt x="308" y="962"/>
                  </a:lnTo>
                  <a:lnTo>
                    <a:pt x="320" y="956"/>
                  </a:lnTo>
                  <a:lnTo>
                    <a:pt x="336" y="950"/>
                  </a:lnTo>
                  <a:lnTo>
                    <a:pt x="356" y="946"/>
                  </a:lnTo>
                  <a:lnTo>
                    <a:pt x="374" y="946"/>
                  </a:lnTo>
                  <a:lnTo>
                    <a:pt x="396" y="944"/>
                  </a:lnTo>
                  <a:lnTo>
                    <a:pt x="444" y="946"/>
                  </a:lnTo>
                  <a:lnTo>
                    <a:pt x="494" y="952"/>
                  </a:lnTo>
                  <a:lnTo>
                    <a:pt x="604" y="968"/>
                  </a:lnTo>
                  <a:lnTo>
                    <a:pt x="658" y="974"/>
                  </a:lnTo>
                  <a:lnTo>
                    <a:pt x="712" y="978"/>
                  </a:lnTo>
                  <a:lnTo>
                    <a:pt x="760" y="978"/>
                  </a:lnTo>
                  <a:lnTo>
                    <a:pt x="784" y="978"/>
                  </a:lnTo>
                  <a:lnTo>
                    <a:pt x="806" y="974"/>
                  </a:lnTo>
                  <a:lnTo>
                    <a:pt x="826" y="970"/>
                  </a:lnTo>
                  <a:lnTo>
                    <a:pt x="844" y="964"/>
                  </a:lnTo>
                  <a:lnTo>
                    <a:pt x="860" y="956"/>
                  </a:lnTo>
                  <a:lnTo>
                    <a:pt x="872" y="944"/>
                  </a:lnTo>
                  <a:lnTo>
                    <a:pt x="884" y="932"/>
                  </a:lnTo>
                  <a:lnTo>
                    <a:pt x="894" y="916"/>
                  </a:lnTo>
                  <a:lnTo>
                    <a:pt x="900" y="900"/>
                  </a:lnTo>
                  <a:lnTo>
                    <a:pt x="902" y="878"/>
                  </a:lnTo>
                  <a:lnTo>
                    <a:pt x="902" y="878"/>
                  </a:lnTo>
                  <a:lnTo>
                    <a:pt x="902" y="856"/>
                  </a:lnTo>
                  <a:lnTo>
                    <a:pt x="898" y="834"/>
                  </a:lnTo>
                  <a:lnTo>
                    <a:pt x="890" y="814"/>
                  </a:lnTo>
                  <a:lnTo>
                    <a:pt x="880" y="794"/>
                  </a:lnTo>
                  <a:lnTo>
                    <a:pt x="866" y="774"/>
                  </a:lnTo>
                  <a:lnTo>
                    <a:pt x="848" y="754"/>
                  </a:lnTo>
                  <a:lnTo>
                    <a:pt x="830" y="734"/>
                  </a:lnTo>
                  <a:lnTo>
                    <a:pt x="808" y="716"/>
                  </a:lnTo>
                  <a:lnTo>
                    <a:pt x="784" y="698"/>
                  </a:lnTo>
                  <a:lnTo>
                    <a:pt x="760" y="680"/>
                  </a:lnTo>
                  <a:lnTo>
                    <a:pt x="732" y="664"/>
                  </a:lnTo>
                  <a:lnTo>
                    <a:pt x="704" y="648"/>
                  </a:lnTo>
                  <a:lnTo>
                    <a:pt x="646" y="618"/>
                  </a:lnTo>
                  <a:lnTo>
                    <a:pt x="586" y="590"/>
                  </a:lnTo>
                  <a:lnTo>
                    <a:pt x="524" y="564"/>
                  </a:lnTo>
                  <a:lnTo>
                    <a:pt x="464" y="542"/>
                  </a:lnTo>
                  <a:lnTo>
                    <a:pt x="410" y="524"/>
                  </a:lnTo>
                  <a:lnTo>
                    <a:pt x="360" y="508"/>
                  </a:lnTo>
                  <a:lnTo>
                    <a:pt x="284" y="486"/>
                  </a:lnTo>
                  <a:lnTo>
                    <a:pt x="256" y="478"/>
                  </a:lnTo>
                  <a:lnTo>
                    <a:pt x="256" y="478"/>
                  </a:lnTo>
                  <a:lnTo>
                    <a:pt x="254" y="466"/>
                  </a:lnTo>
                  <a:lnTo>
                    <a:pt x="248" y="430"/>
                  </a:lnTo>
                  <a:lnTo>
                    <a:pt x="244" y="382"/>
                  </a:lnTo>
                  <a:lnTo>
                    <a:pt x="244" y="354"/>
                  </a:lnTo>
                  <a:lnTo>
                    <a:pt x="244" y="324"/>
                  </a:lnTo>
                  <a:lnTo>
                    <a:pt x="246" y="294"/>
                  </a:lnTo>
                  <a:lnTo>
                    <a:pt x="250" y="266"/>
                  </a:lnTo>
                  <a:lnTo>
                    <a:pt x="256" y="238"/>
                  </a:lnTo>
                  <a:lnTo>
                    <a:pt x="266" y="212"/>
                  </a:lnTo>
                  <a:lnTo>
                    <a:pt x="278" y="188"/>
                  </a:lnTo>
                  <a:lnTo>
                    <a:pt x="286" y="178"/>
                  </a:lnTo>
                  <a:lnTo>
                    <a:pt x="294" y="170"/>
                  </a:lnTo>
                  <a:lnTo>
                    <a:pt x="304" y="162"/>
                  </a:lnTo>
                  <a:lnTo>
                    <a:pt x="314" y="156"/>
                  </a:lnTo>
                  <a:lnTo>
                    <a:pt x="326" y="150"/>
                  </a:lnTo>
                  <a:lnTo>
                    <a:pt x="338" y="148"/>
                  </a:lnTo>
                  <a:lnTo>
                    <a:pt x="338" y="148"/>
                  </a:lnTo>
                  <a:lnTo>
                    <a:pt x="350" y="144"/>
                  </a:lnTo>
                  <a:lnTo>
                    <a:pt x="360" y="140"/>
                  </a:lnTo>
                  <a:lnTo>
                    <a:pt x="368" y="134"/>
                  </a:lnTo>
                  <a:lnTo>
                    <a:pt x="374" y="128"/>
                  </a:lnTo>
                  <a:lnTo>
                    <a:pt x="380" y="122"/>
                  </a:lnTo>
                  <a:lnTo>
                    <a:pt x="382" y="114"/>
                  </a:lnTo>
                  <a:lnTo>
                    <a:pt x="384" y="106"/>
                  </a:lnTo>
                  <a:lnTo>
                    <a:pt x="384" y="98"/>
                  </a:lnTo>
                  <a:lnTo>
                    <a:pt x="382" y="90"/>
                  </a:lnTo>
                  <a:lnTo>
                    <a:pt x="380" y="80"/>
                  </a:lnTo>
                  <a:lnTo>
                    <a:pt x="370" y="64"/>
                  </a:lnTo>
                  <a:lnTo>
                    <a:pt x="358" y="46"/>
                  </a:lnTo>
                  <a:lnTo>
                    <a:pt x="340" y="32"/>
                  </a:lnTo>
                  <a:lnTo>
                    <a:pt x="320" y="18"/>
                  </a:lnTo>
                  <a:lnTo>
                    <a:pt x="298" y="8"/>
                  </a:lnTo>
                  <a:lnTo>
                    <a:pt x="272" y="2"/>
                  </a:lnTo>
                  <a:lnTo>
                    <a:pt x="260" y="0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0" y="2"/>
                  </a:lnTo>
                  <a:lnTo>
                    <a:pt x="208" y="8"/>
                  </a:lnTo>
                  <a:lnTo>
                    <a:pt x="194" y="12"/>
                  </a:lnTo>
                  <a:lnTo>
                    <a:pt x="182" y="20"/>
                  </a:lnTo>
                  <a:lnTo>
                    <a:pt x="170" y="30"/>
                  </a:lnTo>
                  <a:lnTo>
                    <a:pt x="158" y="42"/>
                  </a:lnTo>
                  <a:lnTo>
                    <a:pt x="146" y="56"/>
                  </a:lnTo>
                  <a:lnTo>
                    <a:pt x="146" y="56"/>
                  </a:lnTo>
                  <a:close/>
                </a:path>
              </a:pathLst>
            </a:custGeom>
            <a:solidFill>
              <a:srgbClr val="63c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78"/>
            <p:cNvSpPr/>
            <p:nvPr/>
          </p:nvSpPr>
          <p:spPr>
            <a:xfrm>
              <a:off x="38665080" y="7375680"/>
              <a:ext cx="3378240" cy="1650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2128" h="1040">
                  <a:moveTo>
                    <a:pt x="46" y="538"/>
                  </a:moveTo>
                  <a:lnTo>
                    <a:pt x="46" y="538"/>
                  </a:lnTo>
                  <a:lnTo>
                    <a:pt x="44" y="554"/>
                  </a:lnTo>
                  <a:lnTo>
                    <a:pt x="46" y="572"/>
                  </a:lnTo>
                  <a:lnTo>
                    <a:pt x="48" y="590"/>
                  </a:lnTo>
                  <a:lnTo>
                    <a:pt x="54" y="608"/>
                  </a:lnTo>
                  <a:lnTo>
                    <a:pt x="62" y="628"/>
                  </a:lnTo>
                  <a:lnTo>
                    <a:pt x="72" y="646"/>
                  </a:lnTo>
                  <a:lnTo>
                    <a:pt x="96" y="684"/>
                  </a:lnTo>
                  <a:lnTo>
                    <a:pt x="122" y="722"/>
                  </a:lnTo>
                  <a:lnTo>
                    <a:pt x="150" y="756"/>
                  </a:lnTo>
                  <a:lnTo>
                    <a:pt x="174" y="784"/>
                  </a:lnTo>
                  <a:lnTo>
                    <a:pt x="196" y="806"/>
                  </a:lnTo>
                  <a:lnTo>
                    <a:pt x="196" y="806"/>
                  </a:lnTo>
                  <a:lnTo>
                    <a:pt x="206" y="814"/>
                  </a:lnTo>
                  <a:lnTo>
                    <a:pt x="216" y="820"/>
                  </a:lnTo>
                  <a:lnTo>
                    <a:pt x="228" y="822"/>
                  </a:lnTo>
                  <a:lnTo>
                    <a:pt x="240" y="822"/>
                  </a:lnTo>
                  <a:lnTo>
                    <a:pt x="252" y="820"/>
                  </a:lnTo>
                  <a:lnTo>
                    <a:pt x="264" y="816"/>
                  </a:lnTo>
                  <a:lnTo>
                    <a:pt x="288" y="804"/>
                  </a:lnTo>
                  <a:lnTo>
                    <a:pt x="314" y="788"/>
                  </a:lnTo>
                  <a:lnTo>
                    <a:pt x="338" y="772"/>
                  </a:lnTo>
                  <a:lnTo>
                    <a:pt x="382" y="740"/>
                  </a:lnTo>
                  <a:lnTo>
                    <a:pt x="382" y="740"/>
                  </a:lnTo>
                  <a:lnTo>
                    <a:pt x="390" y="732"/>
                  </a:lnTo>
                  <a:lnTo>
                    <a:pt x="396" y="726"/>
                  </a:lnTo>
                  <a:lnTo>
                    <a:pt x="402" y="718"/>
                  </a:lnTo>
                  <a:lnTo>
                    <a:pt x="406" y="710"/>
                  </a:lnTo>
                  <a:lnTo>
                    <a:pt x="408" y="692"/>
                  </a:lnTo>
                  <a:lnTo>
                    <a:pt x="408" y="676"/>
                  </a:lnTo>
                  <a:lnTo>
                    <a:pt x="406" y="662"/>
                  </a:lnTo>
                  <a:lnTo>
                    <a:pt x="402" y="650"/>
                  </a:lnTo>
                  <a:lnTo>
                    <a:pt x="398" y="638"/>
                  </a:lnTo>
                  <a:lnTo>
                    <a:pt x="398" y="638"/>
                  </a:lnTo>
                  <a:lnTo>
                    <a:pt x="418" y="652"/>
                  </a:lnTo>
                  <a:lnTo>
                    <a:pt x="438" y="664"/>
                  </a:lnTo>
                  <a:lnTo>
                    <a:pt x="458" y="672"/>
                  </a:lnTo>
                  <a:lnTo>
                    <a:pt x="480" y="680"/>
                  </a:lnTo>
                  <a:lnTo>
                    <a:pt x="502" y="684"/>
                  </a:lnTo>
                  <a:lnTo>
                    <a:pt x="522" y="686"/>
                  </a:lnTo>
                  <a:lnTo>
                    <a:pt x="542" y="688"/>
                  </a:lnTo>
                  <a:lnTo>
                    <a:pt x="562" y="686"/>
                  </a:lnTo>
                  <a:lnTo>
                    <a:pt x="596" y="684"/>
                  </a:lnTo>
                  <a:lnTo>
                    <a:pt x="624" y="678"/>
                  </a:lnTo>
                  <a:lnTo>
                    <a:pt x="650" y="672"/>
                  </a:lnTo>
                  <a:lnTo>
                    <a:pt x="650" y="672"/>
                  </a:lnTo>
                  <a:lnTo>
                    <a:pt x="842" y="742"/>
                  </a:lnTo>
                  <a:lnTo>
                    <a:pt x="1042" y="810"/>
                  </a:lnTo>
                  <a:lnTo>
                    <a:pt x="1156" y="848"/>
                  </a:lnTo>
                  <a:lnTo>
                    <a:pt x="1274" y="886"/>
                  </a:lnTo>
                  <a:lnTo>
                    <a:pt x="1392" y="924"/>
                  </a:lnTo>
                  <a:lnTo>
                    <a:pt x="1508" y="958"/>
                  </a:lnTo>
                  <a:lnTo>
                    <a:pt x="1620" y="988"/>
                  </a:lnTo>
                  <a:lnTo>
                    <a:pt x="1720" y="1012"/>
                  </a:lnTo>
                  <a:lnTo>
                    <a:pt x="1766" y="1022"/>
                  </a:lnTo>
                  <a:lnTo>
                    <a:pt x="1808" y="1030"/>
                  </a:lnTo>
                  <a:lnTo>
                    <a:pt x="1846" y="1036"/>
                  </a:lnTo>
                  <a:lnTo>
                    <a:pt x="1880" y="1038"/>
                  </a:lnTo>
                  <a:lnTo>
                    <a:pt x="1908" y="1040"/>
                  </a:lnTo>
                  <a:lnTo>
                    <a:pt x="1932" y="1038"/>
                  </a:lnTo>
                  <a:lnTo>
                    <a:pt x="1948" y="1032"/>
                  </a:lnTo>
                  <a:lnTo>
                    <a:pt x="1956" y="1030"/>
                  </a:lnTo>
                  <a:lnTo>
                    <a:pt x="1960" y="1024"/>
                  </a:lnTo>
                  <a:lnTo>
                    <a:pt x="1960" y="1024"/>
                  </a:lnTo>
                  <a:lnTo>
                    <a:pt x="1968" y="1012"/>
                  </a:lnTo>
                  <a:lnTo>
                    <a:pt x="1976" y="996"/>
                  </a:lnTo>
                  <a:lnTo>
                    <a:pt x="1984" y="976"/>
                  </a:lnTo>
                  <a:lnTo>
                    <a:pt x="1992" y="952"/>
                  </a:lnTo>
                  <a:lnTo>
                    <a:pt x="2006" y="892"/>
                  </a:lnTo>
                  <a:lnTo>
                    <a:pt x="2022" y="822"/>
                  </a:lnTo>
                  <a:lnTo>
                    <a:pt x="2036" y="742"/>
                  </a:lnTo>
                  <a:lnTo>
                    <a:pt x="2050" y="656"/>
                  </a:lnTo>
                  <a:lnTo>
                    <a:pt x="2076" y="474"/>
                  </a:lnTo>
                  <a:lnTo>
                    <a:pt x="2098" y="298"/>
                  </a:lnTo>
                  <a:lnTo>
                    <a:pt x="2114" y="146"/>
                  </a:lnTo>
                  <a:lnTo>
                    <a:pt x="2128" y="0"/>
                  </a:lnTo>
                  <a:lnTo>
                    <a:pt x="2128" y="0"/>
                  </a:lnTo>
                  <a:lnTo>
                    <a:pt x="1944" y="12"/>
                  </a:lnTo>
                  <a:lnTo>
                    <a:pt x="1802" y="24"/>
                  </a:lnTo>
                  <a:lnTo>
                    <a:pt x="1742" y="30"/>
                  </a:lnTo>
                  <a:lnTo>
                    <a:pt x="1702" y="36"/>
                  </a:lnTo>
                  <a:lnTo>
                    <a:pt x="1702" y="36"/>
                  </a:lnTo>
                  <a:lnTo>
                    <a:pt x="1698" y="108"/>
                  </a:lnTo>
                  <a:lnTo>
                    <a:pt x="1688" y="272"/>
                  </a:lnTo>
                  <a:lnTo>
                    <a:pt x="1682" y="364"/>
                  </a:lnTo>
                  <a:lnTo>
                    <a:pt x="1674" y="446"/>
                  </a:lnTo>
                  <a:lnTo>
                    <a:pt x="1664" y="510"/>
                  </a:lnTo>
                  <a:lnTo>
                    <a:pt x="1660" y="532"/>
                  </a:lnTo>
                  <a:lnTo>
                    <a:pt x="1654" y="546"/>
                  </a:lnTo>
                  <a:lnTo>
                    <a:pt x="1654" y="546"/>
                  </a:lnTo>
                  <a:lnTo>
                    <a:pt x="1538" y="520"/>
                  </a:lnTo>
                  <a:lnTo>
                    <a:pt x="1270" y="460"/>
                  </a:lnTo>
                  <a:lnTo>
                    <a:pt x="1120" y="424"/>
                  </a:lnTo>
                  <a:lnTo>
                    <a:pt x="980" y="390"/>
                  </a:lnTo>
                  <a:lnTo>
                    <a:pt x="866" y="360"/>
                  </a:lnTo>
                  <a:lnTo>
                    <a:pt x="824" y="348"/>
                  </a:lnTo>
                  <a:lnTo>
                    <a:pt x="794" y="338"/>
                  </a:lnTo>
                  <a:lnTo>
                    <a:pt x="794" y="338"/>
                  </a:lnTo>
                  <a:lnTo>
                    <a:pt x="680" y="296"/>
                  </a:lnTo>
                  <a:lnTo>
                    <a:pt x="550" y="250"/>
                  </a:lnTo>
                  <a:lnTo>
                    <a:pt x="398" y="196"/>
                  </a:lnTo>
                  <a:lnTo>
                    <a:pt x="398" y="196"/>
                  </a:lnTo>
                  <a:lnTo>
                    <a:pt x="368" y="188"/>
                  </a:lnTo>
                  <a:lnTo>
                    <a:pt x="336" y="182"/>
                  </a:lnTo>
                  <a:lnTo>
                    <a:pt x="298" y="176"/>
                  </a:lnTo>
                  <a:lnTo>
                    <a:pt x="256" y="170"/>
                  </a:lnTo>
                  <a:lnTo>
                    <a:pt x="218" y="168"/>
                  </a:lnTo>
                  <a:lnTo>
                    <a:pt x="200" y="168"/>
                  </a:lnTo>
                  <a:lnTo>
                    <a:pt x="186" y="170"/>
                  </a:lnTo>
                  <a:lnTo>
                    <a:pt x="172" y="172"/>
                  </a:lnTo>
                  <a:lnTo>
                    <a:pt x="162" y="178"/>
                  </a:lnTo>
                  <a:lnTo>
                    <a:pt x="162" y="178"/>
                  </a:lnTo>
                  <a:lnTo>
                    <a:pt x="78" y="226"/>
                  </a:lnTo>
                  <a:lnTo>
                    <a:pt x="30" y="252"/>
                  </a:lnTo>
                  <a:lnTo>
                    <a:pt x="30" y="252"/>
                  </a:lnTo>
                  <a:lnTo>
                    <a:pt x="24" y="262"/>
                  </a:lnTo>
                  <a:lnTo>
                    <a:pt x="20" y="272"/>
                  </a:lnTo>
                  <a:lnTo>
                    <a:pt x="14" y="284"/>
                  </a:lnTo>
                  <a:lnTo>
                    <a:pt x="12" y="298"/>
                  </a:lnTo>
                  <a:lnTo>
                    <a:pt x="14" y="312"/>
                  </a:lnTo>
                  <a:lnTo>
                    <a:pt x="16" y="320"/>
                  </a:lnTo>
                  <a:lnTo>
                    <a:pt x="18" y="326"/>
                  </a:lnTo>
                  <a:lnTo>
                    <a:pt x="22" y="332"/>
                  </a:lnTo>
                  <a:lnTo>
                    <a:pt x="30" y="338"/>
                  </a:lnTo>
                  <a:lnTo>
                    <a:pt x="30" y="338"/>
                  </a:lnTo>
                  <a:lnTo>
                    <a:pt x="22" y="346"/>
                  </a:lnTo>
                  <a:lnTo>
                    <a:pt x="16" y="354"/>
                  </a:lnTo>
                  <a:lnTo>
                    <a:pt x="10" y="364"/>
                  </a:lnTo>
                  <a:lnTo>
                    <a:pt x="6" y="376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0" y="402"/>
                  </a:lnTo>
                  <a:lnTo>
                    <a:pt x="14" y="408"/>
                  </a:lnTo>
                  <a:lnTo>
                    <a:pt x="20" y="414"/>
                  </a:lnTo>
                  <a:lnTo>
                    <a:pt x="20" y="414"/>
                  </a:lnTo>
                  <a:lnTo>
                    <a:pt x="10" y="436"/>
                  </a:lnTo>
                  <a:lnTo>
                    <a:pt x="4" y="458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80"/>
                  </a:lnTo>
                  <a:lnTo>
                    <a:pt x="2" y="490"/>
                  </a:lnTo>
                  <a:lnTo>
                    <a:pt x="8" y="500"/>
                  </a:lnTo>
                  <a:lnTo>
                    <a:pt x="14" y="510"/>
                  </a:lnTo>
                  <a:lnTo>
                    <a:pt x="24" y="520"/>
                  </a:lnTo>
                  <a:lnTo>
                    <a:pt x="38" y="532"/>
                  </a:lnTo>
                  <a:lnTo>
                    <a:pt x="46" y="538"/>
                  </a:lnTo>
                  <a:lnTo>
                    <a:pt x="46" y="538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79"/>
            <p:cNvSpPr/>
            <p:nvPr/>
          </p:nvSpPr>
          <p:spPr>
            <a:xfrm>
              <a:off x="38624040" y="7334280"/>
              <a:ext cx="3460680" cy="1726920"/>
            </a:xfrm>
            <a:custGeom>
              <a:avLst/>
              <a:gdLst>
                <a:gd name="textAreaLeft" fmla="*/ 0 w 3460680"/>
                <a:gd name="textAreaRight" fmla="*/ 3461040 w 346068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2180" h="1088">
                  <a:moveTo>
                    <a:pt x="2152" y="0"/>
                  </a:moveTo>
                  <a:lnTo>
                    <a:pt x="2152" y="0"/>
                  </a:lnTo>
                  <a:lnTo>
                    <a:pt x="1962" y="12"/>
                  </a:lnTo>
                  <a:lnTo>
                    <a:pt x="1822" y="24"/>
                  </a:lnTo>
                  <a:lnTo>
                    <a:pt x="1764" y="30"/>
                  </a:lnTo>
                  <a:lnTo>
                    <a:pt x="1722" y="36"/>
                  </a:lnTo>
                  <a:lnTo>
                    <a:pt x="1722" y="36"/>
                  </a:lnTo>
                  <a:lnTo>
                    <a:pt x="1714" y="38"/>
                  </a:lnTo>
                  <a:lnTo>
                    <a:pt x="1708" y="44"/>
                  </a:lnTo>
                  <a:lnTo>
                    <a:pt x="1704" y="52"/>
                  </a:lnTo>
                  <a:lnTo>
                    <a:pt x="1702" y="60"/>
                  </a:lnTo>
                  <a:lnTo>
                    <a:pt x="1702" y="60"/>
                  </a:lnTo>
                  <a:lnTo>
                    <a:pt x="1694" y="210"/>
                  </a:lnTo>
                  <a:lnTo>
                    <a:pt x="1684" y="350"/>
                  </a:lnTo>
                  <a:lnTo>
                    <a:pt x="1674" y="466"/>
                  </a:lnTo>
                  <a:lnTo>
                    <a:pt x="1668" y="510"/>
                  </a:lnTo>
                  <a:lnTo>
                    <a:pt x="1664" y="540"/>
                  </a:lnTo>
                  <a:lnTo>
                    <a:pt x="1664" y="540"/>
                  </a:lnTo>
                  <a:lnTo>
                    <a:pt x="1496" y="504"/>
                  </a:lnTo>
                  <a:lnTo>
                    <a:pt x="1242" y="446"/>
                  </a:lnTo>
                  <a:lnTo>
                    <a:pt x="1108" y="414"/>
                  </a:lnTo>
                  <a:lnTo>
                    <a:pt x="988" y="384"/>
                  </a:lnTo>
                  <a:lnTo>
                    <a:pt x="892" y="358"/>
                  </a:lnTo>
                  <a:lnTo>
                    <a:pt x="856" y="348"/>
                  </a:lnTo>
                  <a:lnTo>
                    <a:pt x="830" y="340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378" y="184"/>
                  </a:lnTo>
                  <a:lnTo>
                    <a:pt x="342" y="178"/>
                  </a:lnTo>
                  <a:lnTo>
                    <a:pt x="304" y="172"/>
                  </a:lnTo>
                  <a:lnTo>
                    <a:pt x="266" y="168"/>
                  </a:lnTo>
                  <a:lnTo>
                    <a:pt x="230" y="168"/>
                  </a:lnTo>
                  <a:lnTo>
                    <a:pt x="214" y="170"/>
                  </a:lnTo>
                  <a:lnTo>
                    <a:pt x="198" y="172"/>
                  </a:lnTo>
                  <a:lnTo>
                    <a:pt x="184" y="176"/>
                  </a:lnTo>
                  <a:lnTo>
                    <a:pt x="174" y="180"/>
                  </a:lnTo>
                  <a:lnTo>
                    <a:pt x="42" y="256"/>
                  </a:lnTo>
                  <a:lnTo>
                    <a:pt x="42" y="256"/>
                  </a:lnTo>
                  <a:lnTo>
                    <a:pt x="38" y="260"/>
                  </a:lnTo>
                  <a:lnTo>
                    <a:pt x="34" y="264"/>
                  </a:lnTo>
                  <a:lnTo>
                    <a:pt x="34" y="264"/>
                  </a:lnTo>
                  <a:lnTo>
                    <a:pt x="26" y="276"/>
                  </a:lnTo>
                  <a:lnTo>
                    <a:pt x="18" y="292"/>
                  </a:lnTo>
                  <a:lnTo>
                    <a:pt x="14" y="310"/>
                  </a:lnTo>
                  <a:lnTo>
                    <a:pt x="12" y="330"/>
                  </a:lnTo>
                  <a:lnTo>
                    <a:pt x="12" y="330"/>
                  </a:lnTo>
                  <a:lnTo>
                    <a:pt x="12" y="338"/>
                  </a:lnTo>
                  <a:lnTo>
                    <a:pt x="14" y="346"/>
                  </a:lnTo>
                  <a:lnTo>
                    <a:pt x="22" y="364"/>
                  </a:lnTo>
                  <a:lnTo>
                    <a:pt x="22" y="364"/>
                  </a:lnTo>
                  <a:lnTo>
                    <a:pt x="16" y="374"/>
                  </a:lnTo>
                  <a:lnTo>
                    <a:pt x="10" y="386"/>
                  </a:lnTo>
                  <a:lnTo>
                    <a:pt x="6" y="398"/>
                  </a:lnTo>
                  <a:lnTo>
                    <a:pt x="4" y="412"/>
                  </a:lnTo>
                  <a:lnTo>
                    <a:pt x="4" y="412"/>
                  </a:lnTo>
                  <a:lnTo>
                    <a:pt x="4" y="416"/>
                  </a:lnTo>
                  <a:lnTo>
                    <a:pt x="4" y="416"/>
                  </a:lnTo>
                  <a:lnTo>
                    <a:pt x="6" y="422"/>
                  </a:lnTo>
                  <a:lnTo>
                    <a:pt x="10" y="428"/>
                  </a:lnTo>
                  <a:lnTo>
                    <a:pt x="18" y="438"/>
                  </a:lnTo>
                  <a:lnTo>
                    <a:pt x="18" y="438"/>
                  </a:lnTo>
                  <a:lnTo>
                    <a:pt x="12" y="452"/>
                  </a:lnTo>
                  <a:lnTo>
                    <a:pt x="6" y="468"/>
                  </a:lnTo>
                  <a:lnTo>
                    <a:pt x="2" y="486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2" y="516"/>
                  </a:lnTo>
                  <a:lnTo>
                    <a:pt x="4" y="528"/>
                  </a:lnTo>
                  <a:lnTo>
                    <a:pt x="10" y="538"/>
                  </a:lnTo>
                  <a:lnTo>
                    <a:pt x="16" y="546"/>
                  </a:lnTo>
                  <a:lnTo>
                    <a:pt x="30" y="564"/>
                  </a:lnTo>
                  <a:lnTo>
                    <a:pt x="44" y="576"/>
                  </a:lnTo>
                  <a:lnTo>
                    <a:pt x="44" y="576"/>
                  </a:lnTo>
                  <a:lnTo>
                    <a:pt x="44" y="580"/>
                  </a:lnTo>
                  <a:lnTo>
                    <a:pt x="44" y="580"/>
                  </a:lnTo>
                  <a:lnTo>
                    <a:pt x="46" y="600"/>
                  </a:lnTo>
                  <a:lnTo>
                    <a:pt x="50" y="620"/>
                  </a:lnTo>
                  <a:lnTo>
                    <a:pt x="56" y="642"/>
                  </a:lnTo>
                  <a:lnTo>
                    <a:pt x="64" y="662"/>
                  </a:lnTo>
                  <a:lnTo>
                    <a:pt x="76" y="684"/>
                  </a:lnTo>
                  <a:lnTo>
                    <a:pt x="86" y="704"/>
                  </a:lnTo>
                  <a:lnTo>
                    <a:pt x="114" y="744"/>
                  </a:lnTo>
                  <a:lnTo>
                    <a:pt x="140" y="780"/>
                  </a:lnTo>
                  <a:lnTo>
                    <a:pt x="168" y="812"/>
                  </a:lnTo>
                  <a:lnTo>
                    <a:pt x="204" y="852"/>
                  </a:lnTo>
                  <a:lnTo>
                    <a:pt x="204" y="852"/>
                  </a:lnTo>
                  <a:lnTo>
                    <a:pt x="216" y="860"/>
                  </a:lnTo>
                  <a:lnTo>
                    <a:pt x="226" y="868"/>
                  </a:lnTo>
                  <a:lnTo>
                    <a:pt x="238" y="872"/>
                  </a:lnTo>
                  <a:lnTo>
                    <a:pt x="250" y="874"/>
                  </a:lnTo>
                  <a:lnTo>
                    <a:pt x="262" y="874"/>
                  </a:lnTo>
                  <a:lnTo>
                    <a:pt x="274" y="874"/>
                  </a:lnTo>
                  <a:lnTo>
                    <a:pt x="288" y="870"/>
                  </a:lnTo>
                  <a:lnTo>
                    <a:pt x="300" y="866"/>
                  </a:lnTo>
                  <a:lnTo>
                    <a:pt x="324" y="854"/>
                  </a:lnTo>
                  <a:lnTo>
                    <a:pt x="348" y="840"/>
                  </a:lnTo>
                  <a:lnTo>
                    <a:pt x="372" y="824"/>
                  </a:lnTo>
                  <a:lnTo>
                    <a:pt x="392" y="810"/>
                  </a:lnTo>
                  <a:lnTo>
                    <a:pt x="422" y="788"/>
                  </a:lnTo>
                  <a:lnTo>
                    <a:pt x="422" y="788"/>
                  </a:lnTo>
                  <a:lnTo>
                    <a:pt x="432" y="780"/>
                  </a:lnTo>
                  <a:lnTo>
                    <a:pt x="440" y="772"/>
                  </a:lnTo>
                  <a:lnTo>
                    <a:pt x="448" y="762"/>
                  </a:lnTo>
                  <a:lnTo>
                    <a:pt x="452" y="752"/>
                  </a:lnTo>
                  <a:lnTo>
                    <a:pt x="456" y="742"/>
                  </a:lnTo>
                  <a:lnTo>
                    <a:pt x="458" y="732"/>
                  </a:lnTo>
                  <a:lnTo>
                    <a:pt x="462" y="712"/>
                  </a:lnTo>
                  <a:lnTo>
                    <a:pt x="462" y="712"/>
                  </a:lnTo>
                  <a:lnTo>
                    <a:pt x="478" y="720"/>
                  </a:lnTo>
                  <a:lnTo>
                    <a:pt x="494" y="724"/>
                  </a:lnTo>
                  <a:lnTo>
                    <a:pt x="528" y="732"/>
                  </a:lnTo>
                  <a:lnTo>
                    <a:pt x="560" y="736"/>
                  </a:lnTo>
                  <a:lnTo>
                    <a:pt x="590" y="736"/>
                  </a:lnTo>
                  <a:lnTo>
                    <a:pt x="618" y="736"/>
                  </a:lnTo>
                  <a:lnTo>
                    <a:pt x="642" y="732"/>
                  </a:lnTo>
                  <a:lnTo>
                    <a:pt x="676" y="726"/>
                  </a:lnTo>
                  <a:lnTo>
                    <a:pt x="676" y="726"/>
                  </a:lnTo>
                  <a:lnTo>
                    <a:pt x="838" y="784"/>
                  </a:lnTo>
                  <a:lnTo>
                    <a:pt x="1030" y="852"/>
                  </a:lnTo>
                  <a:lnTo>
                    <a:pt x="1240" y="922"/>
                  </a:lnTo>
                  <a:lnTo>
                    <a:pt x="1346" y="956"/>
                  </a:lnTo>
                  <a:lnTo>
                    <a:pt x="1450" y="988"/>
                  </a:lnTo>
                  <a:lnTo>
                    <a:pt x="1552" y="1016"/>
                  </a:lnTo>
                  <a:lnTo>
                    <a:pt x="1646" y="1042"/>
                  </a:lnTo>
                  <a:lnTo>
                    <a:pt x="1736" y="1062"/>
                  </a:lnTo>
                  <a:lnTo>
                    <a:pt x="1816" y="1078"/>
                  </a:lnTo>
                  <a:lnTo>
                    <a:pt x="1850" y="1082"/>
                  </a:lnTo>
                  <a:lnTo>
                    <a:pt x="1884" y="1086"/>
                  </a:lnTo>
                  <a:lnTo>
                    <a:pt x="1914" y="1088"/>
                  </a:lnTo>
                  <a:lnTo>
                    <a:pt x="1940" y="1088"/>
                  </a:lnTo>
                  <a:lnTo>
                    <a:pt x="1962" y="1086"/>
                  </a:lnTo>
                  <a:lnTo>
                    <a:pt x="1982" y="1082"/>
                  </a:lnTo>
                  <a:lnTo>
                    <a:pt x="1996" y="1076"/>
                  </a:lnTo>
                  <a:lnTo>
                    <a:pt x="2006" y="1068"/>
                  </a:lnTo>
                  <a:lnTo>
                    <a:pt x="2006" y="1068"/>
                  </a:lnTo>
                  <a:lnTo>
                    <a:pt x="2014" y="1056"/>
                  </a:lnTo>
                  <a:lnTo>
                    <a:pt x="2022" y="1040"/>
                  </a:lnTo>
                  <a:lnTo>
                    <a:pt x="2030" y="1020"/>
                  </a:lnTo>
                  <a:lnTo>
                    <a:pt x="2038" y="998"/>
                  </a:lnTo>
                  <a:lnTo>
                    <a:pt x="2054" y="942"/>
                  </a:lnTo>
                  <a:lnTo>
                    <a:pt x="2068" y="874"/>
                  </a:lnTo>
                  <a:lnTo>
                    <a:pt x="2084" y="800"/>
                  </a:lnTo>
                  <a:lnTo>
                    <a:pt x="2098" y="718"/>
                  </a:lnTo>
                  <a:lnTo>
                    <a:pt x="2122" y="544"/>
                  </a:lnTo>
                  <a:lnTo>
                    <a:pt x="2144" y="372"/>
                  </a:lnTo>
                  <a:lnTo>
                    <a:pt x="2162" y="216"/>
                  </a:lnTo>
                  <a:lnTo>
                    <a:pt x="2180" y="28"/>
                  </a:lnTo>
                  <a:lnTo>
                    <a:pt x="2180" y="28"/>
                  </a:lnTo>
                  <a:lnTo>
                    <a:pt x="2180" y="24"/>
                  </a:lnTo>
                  <a:lnTo>
                    <a:pt x="2178" y="18"/>
                  </a:lnTo>
                  <a:lnTo>
                    <a:pt x="2176" y="12"/>
                  </a:lnTo>
                  <a:lnTo>
                    <a:pt x="2172" y="8"/>
                  </a:lnTo>
                  <a:lnTo>
                    <a:pt x="2172" y="8"/>
                  </a:lnTo>
                  <a:lnTo>
                    <a:pt x="2168" y="4"/>
                  </a:lnTo>
                  <a:lnTo>
                    <a:pt x="2164" y="2"/>
                  </a:lnTo>
                  <a:lnTo>
                    <a:pt x="2158" y="0"/>
                  </a:lnTo>
                  <a:lnTo>
                    <a:pt x="2152" y="0"/>
                  </a:lnTo>
                  <a:lnTo>
                    <a:pt x="2152" y="0"/>
                  </a:lnTo>
                  <a:close/>
                  <a:moveTo>
                    <a:pt x="46" y="564"/>
                  </a:moveTo>
                  <a:lnTo>
                    <a:pt x="46" y="564"/>
                  </a:lnTo>
                  <a:lnTo>
                    <a:pt x="46" y="558"/>
                  </a:lnTo>
                  <a:lnTo>
                    <a:pt x="46" y="558"/>
                  </a:lnTo>
                  <a:lnTo>
                    <a:pt x="46" y="564"/>
                  </a:lnTo>
                  <a:lnTo>
                    <a:pt x="46" y="564"/>
                  </a:lnTo>
                  <a:close/>
                  <a:moveTo>
                    <a:pt x="2124" y="54"/>
                  </a:moveTo>
                  <a:lnTo>
                    <a:pt x="2124" y="54"/>
                  </a:lnTo>
                  <a:lnTo>
                    <a:pt x="2110" y="196"/>
                  </a:lnTo>
                  <a:lnTo>
                    <a:pt x="2094" y="348"/>
                  </a:lnTo>
                  <a:lnTo>
                    <a:pt x="2074" y="504"/>
                  </a:lnTo>
                  <a:lnTo>
                    <a:pt x="2054" y="652"/>
                  </a:lnTo>
                  <a:lnTo>
                    <a:pt x="2032" y="788"/>
                  </a:lnTo>
                  <a:lnTo>
                    <a:pt x="2020" y="848"/>
                  </a:lnTo>
                  <a:lnTo>
                    <a:pt x="2010" y="902"/>
                  </a:lnTo>
                  <a:lnTo>
                    <a:pt x="1998" y="950"/>
                  </a:lnTo>
                  <a:lnTo>
                    <a:pt x="1988" y="988"/>
                  </a:lnTo>
                  <a:lnTo>
                    <a:pt x="1976" y="1016"/>
                  </a:lnTo>
                  <a:lnTo>
                    <a:pt x="1972" y="1026"/>
                  </a:lnTo>
                  <a:lnTo>
                    <a:pt x="1966" y="1034"/>
                  </a:lnTo>
                  <a:lnTo>
                    <a:pt x="1966" y="1034"/>
                  </a:lnTo>
                  <a:lnTo>
                    <a:pt x="1958" y="1038"/>
                  </a:lnTo>
                  <a:lnTo>
                    <a:pt x="1948" y="1040"/>
                  </a:lnTo>
                  <a:lnTo>
                    <a:pt x="1934" y="1042"/>
                  </a:lnTo>
                  <a:lnTo>
                    <a:pt x="1918" y="1042"/>
                  </a:lnTo>
                  <a:lnTo>
                    <a:pt x="1876" y="1038"/>
                  </a:lnTo>
                  <a:lnTo>
                    <a:pt x="1822" y="1028"/>
                  </a:lnTo>
                  <a:lnTo>
                    <a:pt x="1760" y="1016"/>
                  </a:lnTo>
                  <a:lnTo>
                    <a:pt x="1688" y="998"/>
                  </a:lnTo>
                  <a:lnTo>
                    <a:pt x="1608" y="978"/>
                  </a:lnTo>
                  <a:lnTo>
                    <a:pt x="1522" y="952"/>
                  </a:lnTo>
                  <a:lnTo>
                    <a:pt x="1330" y="894"/>
                  </a:lnTo>
                  <a:lnTo>
                    <a:pt x="1122" y="828"/>
                  </a:lnTo>
                  <a:lnTo>
                    <a:pt x="906" y="752"/>
                  </a:lnTo>
                  <a:lnTo>
                    <a:pt x="686" y="674"/>
                  </a:lnTo>
                  <a:lnTo>
                    <a:pt x="686" y="674"/>
                  </a:lnTo>
                  <a:lnTo>
                    <a:pt x="676" y="672"/>
                  </a:lnTo>
                  <a:lnTo>
                    <a:pt x="668" y="674"/>
                  </a:lnTo>
                  <a:lnTo>
                    <a:pt x="668" y="674"/>
                  </a:lnTo>
                  <a:lnTo>
                    <a:pt x="644" y="680"/>
                  </a:lnTo>
                  <a:lnTo>
                    <a:pt x="618" y="684"/>
                  </a:lnTo>
                  <a:lnTo>
                    <a:pt x="586" y="686"/>
                  </a:lnTo>
                  <a:lnTo>
                    <a:pt x="552" y="686"/>
                  </a:lnTo>
                  <a:lnTo>
                    <a:pt x="532" y="684"/>
                  </a:lnTo>
                  <a:lnTo>
                    <a:pt x="514" y="680"/>
                  </a:lnTo>
                  <a:lnTo>
                    <a:pt x="494" y="674"/>
                  </a:lnTo>
                  <a:lnTo>
                    <a:pt x="476" y="666"/>
                  </a:lnTo>
                  <a:lnTo>
                    <a:pt x="458" y="656"/>
                  </a:lnTo>
                  <a:lnTo>
                    <a:pt x="442" y="644"/>
                  </a:lnTo>
                  <a:lnTo>
                    <a:pt x="442" y="644"/>
                  </a:lnTo>
                  <a:lnTo>
                    <a:pt x="434" y="640"/>
                  </a:lnTo>
                  <a:lnTo>
                    <a:pt x="424" y="638"/>
                  </a:lnTo>
                  <a:lnTo>
                    <a:pt x="416" y="640"/>
                  </a:lnTo>
                  <a:lnTo>
                    <a:pt x="408" y="644"/>
                  </a:lnTo>
                  <a:lnTo>
                    <a:pt x="408" y="644"/>
                  </a:lnTo>
                  <a:lnTo>
                    <a:pt x="402" y="650"/>
                  </a:lnTo>
                  <a:lnTo>
                    <a:pt x="398" y="658"/>
                  </a:lnTo>
                  <a:lnTo>
                    <a:pt x="398" y="668"/>
                  </a:lnTo>
                  <a:lnTo>
                    <a:pt x="400" y="676"/>
                  </a:lnTo>
                  <a:lnTo>
                    <a:pt x="400" y="676"/>
                  </a:lnTo>
                  <a:lnTo>
                    <a:pt x="404" y="684"/>
                  </a:lnTo>
                  <a:lnTo>
                    <a:pt x="408" y="702"/>
                  </a:lnTo>
                  <a:lnTo>
                    <a:pt x="408" y="714"/>
                  </a:lnTo>
                  <a:lnTo>
                    <a:pt x="406" y="724"/>
                  </a:lnTo>
                  <a:lnTo>
                    <a:pt x="402" y="734"/>
                  </a:lnTo>
                  <a:lnTo>
                    <a:pt x="392" y="744"/>
                  </a:lnTo>
                  <a:lnTo>
                    <a:pt x="360" y="768"/>
                  </a:lnTo>
                  <a:lnTo>
                    <a:pt x="360" y="768"/>
                  </a:lnTo>
                  <a:lnTo>
                    <a:pt x="324" y="794"/>
                  </a:lnTo>
                  <a:lnTo>
                    <a:pt x="306" y="806"/>
                  </a:lnTo>
                  <a:lnTo>
                    <a:pt x="290" y="814"/>
                  </a:lnTo>
                  <a:lnTo>
                    <a:pt x="276" y="820"/>
                  </a:lnTo>
                  <a:lnTo>
                    <a:pt x="262" y="822"/>
                  </a:lnTo>
                  <a:lnTo>
                    <a:pt x="250" y="820"/>
                  </a:lnTo>
                  <a:lnTo>
                    <a:pt x="246" y="818"/>
                  </a:lnTo>
                  <a:lnTo>
                    <a:pt x="242" y="814"/>
                  </a:lnTo>
                  <a:lnTo>
                    <a:pt x="242" y="814"/>
                  </a:lnTo>
                  <a:lnTo>
                    <a:pt x="214" y="786"/>
                  </a:lnTo>
                  <a:lnTo>
                    <a:pt x="188" y="756"/>
                  </a:lnTo>
                  <a:lnTo>
                    <a:pt x="164" y="724"/>
                  </a:lnTo>
                  <a:lnTo>
                    <a:pt x="142" y="692"/>
                  </a:lnTo>
                  <a:lnTo>
                    <a:pt x="122" y="662"/>
                  </a:lnTo>
                  <a:lnTo>
                    <a:pt x="108" y="632"/>
                  </a:lnTo>
                  <a:lnTo>
                    <a:pt x="100" y="606"/>
                  </a:lnTo>
                  <a:lnTo>
                    <a:pt x="96" y="592"/>
                  </a:lnTo>
                  <a:lnTo>
                    <a:pt x="96" y="582"/>
                  </a:lnTo>
                  <a:lnTo>
                    <a:pt x="96" y="582"/>
                  </a:lnTo>
                  <a:lnTo>
                    <a:pt x="98" y="568"/>
                  </a:lnTo>
                  <a:lnTo>
                    <a:pt x="98" y="568"/>
                  </a:lnTo>
                  <a:lnTo>
                    <a:pt x="98" y="564"/>
                  </a:lnTo>
                  <a:lnTo>
                    <a:pt x="98" y="564"/>
                  </a:lnTo>
                  <a:lnTo>
                    <a:pt x="96" y="558"/>
                  </a:lnTo>
                  <a:lnTo>
                    <a:pt x="94" y="552"/>
                  </a:lnTo>
                  <a:lnTo>
                    <a:pt x="92" y="546"/>
                  </a:lnTo>
                  <a:lnTo>
                    <a:pt x="86" y="542"/>
                  </a:lnTo>
                  <a:lnTo>
                    <a:pt x="86" y="542"/>
                  </a:lnTo>
                  <a:lnTo>
                    <a:pt x="74" y="532"/>
                  </a:lnTo>
                  <a:lnTo>
                    <a:pt x="64" y="522"/>
                  </a:lnTo>
                  <a:lnTo>
                    <a:pt x="56" y="512"/>
                  </a:lnTo>
                  <a:lnTo>
                    <a:pt x="52" y="506"/>
                  </a:lnTo>
                  <a:lnTo>
                    <a:pt x="52" y="506"/>
                  </a:lnTo>
                  <a:lnTo>
                    <a:pt x="54" y="492"/>
                  </a:lnTo>
                  <a:lnTo>
                    <a:pt x="58" y="476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70" y="444"/>
                  </a:lnTo>
                  <a:lnTo>
                    <a:pt x="70" y="444"/>
                  </a:lnTo>
                  <a:lnTo>
                    <a:pt x="70" y="438"/>
                  </a:lnTo>
                  <a:lnTo>
                    <a:pt x="68" y="430"/>
                  </a:lnTo>
                  <a:lnTo>
                    <a:pt x="62" y="418"/>
                  </a:lnTo>
                  <a:lnTo>
                    <a:pt x="58" y="412"/>
                  </a:lnTo>
                  <a:lnTo>
                    <a:pt x="58" y="412"/>
                  </a:lnTo>
                  <a:lnTo>
                    <a:pt x="58" y="412"/>
                  </a:lnTo>
                  <a:lnTo>
                    <a:pt x="58" y="412"/>
                  </a:lnTo>
                  <a:lnTo>
                    <a:pt x="58" y="404"/>
                  </a:lnTo>
                  <a:lnTo>
                    <a:pt x="62" y="396"/>
                  </a:lnTo>
                  <a:lnTo>
                    <a:pt x="74" y="382"/>
                  </a:lnTo>
                  <a:lnTo>
                    <a:pt x="74" y="382"/>
                  </a:lnTo>
                  <a:lnTo>
                    <a:pt x="80" y="374"/>
                  </a:lnTo>
                  <a:lnTo>
                    <a:pt x="82" y="364"/>
                  </a:lnTo>
                  <a:lnTo>
                    <a:pt x="82" y="364"/>
                  </a:lnTo>
                  <a:lnTo>
                    <a:pt x="82" y="362"/>
                  </a:lnTo>
                  <a:lnTo>
                    <a:pt x="82" y="362"/>
                  </a:lnTo>
                  <a:lnTo>
                    <a:pt x="78" y="352"/>
                  </a:lnTo>
                  <a:lnTo>
                    <a:pt x="74" y="346"/>
                  </a:lnTo>
                  <a:lnTo>
                    <a:pt x="70" y="342"/>
                  </a:lnTo>
                  <a:lnTo>
                    <a:pt x="70" y="342"/>
                  </a:lnTo>
                  <a:lnTo>
                    <a:pt x="66" y="336"/>
                  </a:lnTo>
                  <a:lnTo>
                    <a:pt x="64" y="328"/>
                  </a:lnTo>
                  <a:lnTo>
                    <a:pt x="64" y="328"/>
                  </a:lnTo>
                  <a:lnTo>
                    <a:pt x="66" y="320"/>
                  </a:lnTo>
                  <a:lnTo>
                    <a:pt x="68" y="310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200" y="226"/>
                  </a:lnTo>
                  <a:lnTo>
                    <a:pt x="200" y="226"/>
                  </a:lnTo>
                  <a:lnTo>
                    <a:pt x="214" y="222"/>
                  </a:lnTo>
                  <a:lnTo>
                    <a:pt x="232" y="220"/>
                  </a:lnTo>
                  <a:lnTo>
                    <a:pt x="256" y="220"/>
                  </a:lnTo>
                  <a:lnTo>
                    <a:pt x="286" y="224"/>
                  </a:lnTo>
                  <a:lnTo>
                    <a:pt x="350" y="232"/>
                  </a:lnTo>
                  <a:lnTo>
                    <a:pt x="418" y="248"/>
                  </a:lnTo>
                  <a:lnTo>
                    <a:pt x="418" y="248"/>
                  </a:lnTo>
                  <a:lnTo>
                    <a:pt x="812" y="388"/>
                  </a:lnTo>
                  <a:lnTo>
                    <a:pt x="812" y="388"/>
                  </a:lnTo>
                  <a:lnTo>
                    <a:pt x="840" y="398"/>
                  </a:lnTo>
                  <a:lnTo>
                    <a:pt x="882" y="410"/>
                  </a:lnTo>
                  <a:lnTo>
                    <a:pt x="994" y="440"/>
                  </a:lnTo>
                  <a:lnTo>
                    <a:pt x="1130" y="474"/>
                  </a:lnTo>
                  <a:lnTo>
                    <a:pt x="1278" y="508"/>
                  </a:lnTo>
                  <a:lnTo>
                    <a:pt x="1544" y="568"/>
                  </a:lnTo>
                  <a:lnTo>
                    <a:pt x="1676" y="598"/>
                  </a:lnTo>
                  <a:lnTo>
                    <a:pt x="1676" y="598"/>
                  </a:lnTo>
                  <a:lnTo>
                    <a:pt x="1684" y="598"/>
                  </a:lnTo>
                  <a:lnTo>
                    <a:pt x="1692" y="596"/>
                  </a:lnTo>
                  <a:lnTo>
                    <a:pt x="1698" y="592"/>
                  </a:lnTo>
                  <a:lnTo>
                    <a:pt x="1704" y="586"/>
                  </a:lnTo>
                  <a:lnTo>
                    <a:pt x="1704" y="586"/>
                  </a:lnTo>
                  <a:lnTo>
                    <a:pt x="1708" y="574"/>
                  </a:lnTo>
                  <a:lnTo>
                    <a:pt x="1714" y="556"/>
                  </a:lnTo>
                  <a:lnTo>
                    <a:pt x="1722" y="506"/>
                  </a:lnTo>
                  <a:lnTo>
                    <a:pt x="1730" y="440"/>
                  </a:lnTo>
                  <a:lnTo>
                    <a:pt x="1736" y="366"/>
                  </a:lnTo>
                  <a:lnTo>
                    <a:pt x="1748" y="210"/>
                  </a:lnTo>
                  <a:lnTo>
                    <a:pt x="1754" y="84"/>
                  </a:lnTo>
                  <a:lnTo>
                    <a:pt x="1754" y="84"/>
                  </a:lnTo>
                  <a:lnTo>
                    <a:pt x="1834" y="76"/>
                  </a:lnTo>
                  <a:lnTo>
                    <a:pt x="1940" y="66"/>
                  </a:lnTo>
                  <a:lnTo>
                    <a:pt x="2124" y="54"/>
                  </a:lnTo>
                  <a:lnTo>
                    <a:pt x="2124" y="54"/>
                  </a:lnTo>
                  <a:close/>
                  <a:moveTo>
                    <a:pt x="448" y="652"/>
                  </a:moveTo>
                  <a:lnTo>
                    <a:pt x="448" y="652"/>
                  </a:lnTo>
                  <a:lnTo>
                    <a:pt x="450" y="658"/>
                  </a:lnTo>
                  <a:lnTo>
                    <a:pt x="450" y="664"/>
                  </a:lnTo>
                  <a:lnTo>
                    <a:pt x="450" y="664"/>
                  </a:lnTo>
                  <a:lnTo>
                    <a:pt x="450" y="664"/>
                  </a:lnTo>
                  <a:lnTo>
                    <a:pt x="450" y="664"/>
                  </a:lnTo>
                  <a:lnTo>
                    <a:pt x="448" y="652"/>
                  </a:lnTo>
                  <a:lnTo>
                    <a:pt x="448" y="6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80"/>
            <p:cNvSpPr/>
            <p:nvPr/>
          </p:nvSpPr>
          <p:spPr>
            <a:xfrm>
              <a:off x="38925360" y="8296560"/>
              <a:ext cx="412560" cy="1364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60" h="86">
                  <a:moveTo>
                    <a:pt x="14" y="2"/>
                  </a:moveTo>
                  <a:lnTo>
                    <a:pt x="14" y="2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4" y="50"/>
                  </a:lnTo>
                  <a:lnTo>
                    <a:pt x="24" y="58"/>
                  </a:lnTo>
                  <a:lnTo>
                    <a:pt x="36" y="64"/>
                  </a:lnTo>
                  <a:lnTo>
                    <a:pt x="50" y="70"/>
                  </a:lnTo>
                  <a:lnTo>
                    <a:pt x="64" y="74"/>
                  </a:lnTo>
                  <a:lnTo>
                    <a:pt x="98" y="82"/>
                  </a:lnTo>
                  <a:lnTo>
                    <a:pt x="134" y="84"/>
                  </a:lnTo>
                  <a:lnTo>
                    <a:pt x="170" y="86"/>
                  </a:lnTo>
                  <a:lnTo>
                    <a:pt x="204" y="86"/>
                  </a:lnTo>
                  <a:lnTo>
                    <a:pt x="236" y="84"/>
                  </a:lnTo>
                  <a:lnTo>
                    <a:pt x="236" y="84"/>
                  </a:lnTo>
                  <a:lnTo>
                    <a:pt x="246" y="82"/>
                  </a:lnTo>
                  <a:lnTo>
                    <a:pt x="254" y="76"/>
                  </a:lnTo>
                  <a:lnTo>
                    <a:pt x="258" y="68"/>
                  </a:lnTo>
                  <a:lnTo>
                    <a:pt x="260" y="56"/>
                  </a:lnTo>
                  <a:lnTo>
                    <a:pt x="260" y="56"/>
                  </a:lnTo>
                  <a:lnTo>
                    <a:pt x="258" y="46"/>
                  </a:lnTo>
                  <a:lnTo>
                    <a:pt x="252" y="38"/>
                  </a:lnTo>
                  <a:lnTo>
                    <a:pt x="242" y="34"/>
                  </a:lnTo>
                  <a:lnTo>
                    <a:pt x="232" y="32"/>
                  </a:lnTo>
                  <a:lnTo>
                    <a:pt x="232" y="32"/>
                  </a:lnTo>
                  <a:lnTo>
                    <a:pt x="200" y="34"/>
                  </a:lnTo>
                  <a:lnTo>
                    <a:pt x="170" y="34"/>
                  </a:lnTo>
                  <a:lnTo>
                    <a:pt x="140" y="32"/>
                  </a:lnTo>
                  <a:lnTo>
                    <a:pt x="114" y="30"/>
                  </a:lnTo>
                  <a:lnTo>
                    <a:pt x="90" y="26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81"/>
            <p:cNvSpPr/>
            <p:nvPr/>
          </p:nvSpPr>
          <p:spPr>
            <a:xfrm>
              <a:off x="39001680" y="836640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8" h="128">
                  <a:moveTo>
                    <a:pt x="50" y="12"/>
                  </a:moveTo>
                  <a:lnTo>
                    <a:pt x="2" y="88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4" y="116"/>
                  </a:lnTo>
                  <a:lnTo>
                    <a:pt x="12" y="124"/>
                  </a:lnTo>
                  <a:lnTo>
                    <a:pt x="12" y="124"/>
                  </a:lnTo>
                  <a:lnTo>
                    <a:pt x="20" y="128"/>
                  </a:lnTo>
                  <a:lnTo>
                    <a:pt x="30" y="126"/>
                  </a:lnTo>
                  <a:lnTo>
                    <a:pt x="40" y="122"/>
                  </a:lnTo>
                  <a:lnTo>
                    <a:pt x="48" y="116"/>
                  </a:lnTo>
                  <a:lnTo>
                    <a:pt x="94" y="40"/>
                  </a:lnTo>
                  <a:lnTo>
                    <a:pt x="94" y="40"/>
                  </a:lnTo>
                  <a:lnTo>
                    <a:pt x="98" y="30"/>
                  </a:lnTo>
                  <a:lnTo>
                    <a:pt x="98" y="20"/>
                  </a:lnTo>
                  <a:lnTo>
                    <a:pt x="94" y="1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8" y="4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82"/>
            <p:cNvSpPr/>
            <p:nvPr/>
          </p:nvSpPr>
          <p:spPr>
            <a:xfrm>
              <a:off x="38696760" y="8077320"/>
              <a:ext cx="475920" cy="1936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00" h="122">
                  <a:moveTo>
                    <a:pt x="144" y="2"/>
                  </a:moveTo>
                  <a:lnTo>
                    <a:pt x="144" y="2"/>
                  </a:lnTo>
                  <a:lnTo>
                    <a:pt x="128" y="8"/>
                  </a:lnTo>
                  <a:lnTo>
                    <a:pt x="108" y="18"/>
                  </a:lnTo>
                  <a:lnTo>
                    <a:pt x="66" y="40"/>
                  </a:lnTo>
                  <a:lnTo>
                    <a:pt x="30" y="62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10" y="118"/>
                  </a:lnTo>
                  <a:lnTo>
                    <a:pt x="20" y="122"/>
                  </a:lnTo>
                  <a:lnTo>
                    <a:pt x="30" y="122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68" y="100"/>
                  </a:lnTo>
                  <a:lnTo>
                    <a:pt x="102" y="80"/>
                  </a:lnTo>
                  <a:lnTo>
                    <a:pt x="134" y="62"/>
                  </a:lnTo>
                  <a:lnTo>
                    <a:pt x="146" y="58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68" y="52"/>
                  </a:lnTo>
                  <a:lnTo>
                    <a:pt x="180" y="52"/>
                  </a:lnTo>
                  <a:lnTo>
                    <a:pt x="210" y="54"/>
                  </a:lnTo>
                  <a:lnTo>
                    <a:pt x="242" y="58"/>
                  </a:lnTo>
                  <a:lnTo>
                    <a:pt x="268" y="64"/>
                  </a:lnTo>
                  <a:lnTo>
                    <a:pt x="268" y="64"/>
                  </a:lnTo>
                  <a:lnTo>
                    <a:pt x="278" y="64"/>
                  </a:lnTo>
                  <a:lnTo>
                    <a:pt x="288" y="60"/>
                  </a:lnTo>
                  <a:lnTo>
                    <a:pt x="296" y="52"/>
                  </a:lnTo>
                  <a:lnTo>
                    <a:pt x="300" y="44"/>
                  </a:lnTo>
                  <a:lnTo>
                    <a:pt x="300" y="44"/>
                  </a:lnTo>
                  <a:lnTo>
                    <a:pt x="300" y="32"/>
                  </a:lnTo>
                  <a:lnTo>
                    <a:pt x="296" y="24"/>
                  </a:lnTo>
                  <a:lnTo>
                    <a:pt x="288" y="16"/>
                  </a:lnTo>
                  <a:lnTo>
                    <a:pt x="280" y="12"/>
                  </a:lnTo>
                  <a:lnTo>
                    <a:pt x="280" y="12"/>
                  </a:lnTo>
                  <a:lnTo>
                    <a:pt x="260" y="8"/>
                  </a:lnTo>
                  <a:lnTo>
                    <a:pt x="224" y="2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2" y="0"/>
                  </a:lnTo>
                  <a:lnTo>
                    <a:pt x="144" y="2"/>
                  </a:lnTo>
                  <a:lnTo>
                    <a:pt x="14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83"/>
            <p:cNvSpPr/>
            <p:nvPr/>
          </p:nvSpPr>
          <p:spPr>
            <a:xfrm>
              <a:off x="38655720" y="7912440"/>
              <a:ext cx="529920" cy="16164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34" h="102">
                  <a:moveTo>
                    <a:pt x="16" y="50"/>
                  </a:moveTo>
                  <a:lnTo>
                    <a:pt x="16" y="50"/>
                  </a:lnTo>
                  <a:lnTo>
                    <a:pt x="8" y="56"/>
                  </a:lnTo>
                  <a:lnTo>
                    <a:pt x="2" y="64"/>
                  </a:lnTo>
                  <a:lnTo>
                    <a:pt x="0" y="74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6" y="94"/>
                  </a:lnTo>
                  <a:lnTo>
                    <a:pt x="14" y="100"/>
                  </a:lnTo>
                  <a:lnTo>
                    <a:pt x="24" y="102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88" y="82"/>
                  </a:lnTo>
                  <a:lnTo>
                    <a:pt x="140" y="66"/>
                  </a:lnTo>
                  <a:lnTo>
                    <a:pt x="184" y="56"/>
                  </a:lnTo>
                  <a:lnTo>
                    <a:pt x="198" y="54"/>
                  </a:lnTo>
                  <a:lnTo>
                    <a:pt x="208" y="54"/>
                  </a:lnTo>
                  <a:lnTo>
                    <a:pt x="322" y="82"/>
                  </a:lnTo>
                  <a:lnTo>
                    <a:pt x="322" y="82"/>
                  </a:lnTo>
                  <a:lnTo>
                    <a:pt x="312" y="78"/>
                  </a:lnTo>
                  <a:lnTo>
                    <a:pt x="306" y="70"/>
                  </a:lnTo>
                  <a:lnTo>
                    <a:pt x="302" y="60"/>
                  </a:lnTo>
                  <a:lnTo>
                    <a:pt x="302" y="50"/>
                  </a:lnTo>
                  <a:lnTo>
                    <a:pt x="302" y="50"/>
                  </a:lnTo>
                  <a:lnTo>
                    <a:pt x="308" y="40"/>
                  </a:lnTo>
                  <a:lnTo>
                    <a:pt x="314" y="34"/>
                  </a:lnTo>
                  <a:lnTo>
                    <a:pt x="324" y="30"/>
                  </a:lnTo>
                  <a:lnTo>
                    <a:pt x="334" y="30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12" y="2"/>
                  </a:lnTo>
                  <a:lnTo>
                    <a:pt x="202" y="0"/>
                  </a:lnTo>
                  <a:lnTo>
                    <a:pt x="176" y="4"/>
                  </a:lnTo>
                  <a:lnTo>
                    <a:pt x="148" y="10"/>
                  </a:lnTo>
                  <a:lnTo>
                    <a:pt x="116" y="18"/>
                  </a:lnTo>
                  <a:lnTo>
                    <a:pt x="58" y="36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84"/>
            <p:cNvSpPr/>
            <p:nvPr/>
          </p:nvSpPr>
          <p:spPr>
            <a:xfrm>
              <a:off x="38671560" y="7750440"/>
              <a:ext cx="380880" cy="2030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40" h="128">
                  <a:moveTo>
                    <a:pt x="12" y="80"/>
                  </a:moveTo>
                  <a:lnTo>
                    <a:pt x="12" y="80"/>
                  </a:lnTo>
                  <a:lnTo>
                    <a:pt x="4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0" y="124"/>
                  </a:lnTo>
                  <a:lnTo>
                    <a:pt x="20" y="128"/>
                  </a:lnTo>
                  <a:lnTo>
                    <a:pt x="30" y="128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74" y="104"/>
                  </a:lnTo>
                  <a:lnTo>
                    <a:pt x="120" y="80"/>
                  </a:lnTo>
                  <a:lnTo>
                    <a:pt x="146" y="70"/>
                  </a:lnTo>
                  <a:lnTo>
                    <a:pt x="172" y="60"/>
                  </a:lnTo>
                  <a:lnTo>
                    <a:pt x="194" y="54"/>
                  </a:lnTo>
                  <a:lnTo>
                    <a:pt x="214" y="52"/>
                  </a:lnTo>
                  <a:lnTo>
                    <a:pt x="214" y="52"/>
                  </a:lnTo>
                  <a:lnTo>
                    <a:pt x="224" y="50"/>
                  </a:lnTo>
                  <a:lnTo>
                    <a:pt x="232" y="44"/>
                  </a:lnTo>
                  <a:lnTo>
                    <a:pt x="238" y="36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38" y="16"/>
                  </a:lnTo>
                  <a:lnTo>
                    <a:pt x="232" y="8"/>
                  </a:lnTo>
                  <a:lnTo>
                    <a:pt x="224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00" y="0"/>
                  </a:lnTo>
                  <a:lnTo>
                    <a:pt x="186" y="2"/>
                  </a:lnTo>
                  <a:lnTo>
                    <a:pt x="154" y="12"/>
                  </a:lnTo>
                  <a:lnTo>
                    <a:pt x="122" y="22"/>
                  </a:lnTo>
                  <a:lnTo>
                    <a:pt x="90" y="36"/>
                  </a:lnTo>
                  <a:lnTo>
                    <a:pt x="38" y="64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85"/>
            <p:cNvSpPr/>
            <p:nvPr/>
          </p:nvSpPr>
          <p:spPr>
            <a:xfrm>
              <a:off x="41246640" y="7496280"/>
              <a:ext cx="117360" cy="126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4" h="80">
                  <a:moveTo>
                    <a:pt x="60" y="30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6" y="80"/>
                  </a:lnTo>
                  <a:lnTo>
                    <a:pt x="56" y="80"/>
                  </a:lnTo>
                  <a:lnTo>
                    <a:pt x="66" y="74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4" y="60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48"/>
                  </a:lnTo>
                  <a:lnTo>
                    <a:pt x="70" y="40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86"/>
            <p:cNvSpPr/>
            <p:nvPr/>
          </p:nvSpPr>
          <p:spPr>
            <a:xfrm>
              <a:off x="41062320" y="6880320"/>
              <a:ext cx="1342800" cy="52380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846" h="330">
                  <a:moveTo>
                    <a:pt x="828" y="102"/>
                  </a:moveTo>
                  <a:lnTo>
                    <a:pt x="828" y="102"/>
                  </a:lnTo>
                  <a:lnTo>
                    <a:pt x="770" y="82"/>
                  </a:lnTo>
                  <a:lnTo>
                    <a:pt x="712" y="64"/>
                  </a:lnTo>
                  <a:lnTo>
                    <a:pt x="644" y="42"/>
                  </a:lnTo>
                  <a:lnTo>
                    <a:pt x="572" y="24"/>
                  </a:lnTo>
                  <a:lnTo>
                    <a:pt x="534" y="14"/>
                  </a:lnTo>
                  <a:lnTo>
                    <a:pt x="498" y="8"/>
                  </a:lnTo>
                  <a:lnTo>
                    <a:pt x="464" y="2"/>
                  </a:lnTo>
                  <a:lnTo>
                    <a:pt x="432" y="0"/>
                  </a:lnTo>
                  <a:lnTo>
                    <a:pt x="402" y="0"/>
                  </a:lnTo>
                  <a:lnTo>
                    <a:pt x="378" y="2"/>
                  </a:lnTo>
                  <a:lnTo>
                    <a:pt x="378" y="2"/>
                  </a:lnTo>
                  <a:lnTo>
                    <a:pt x="354" y="6"/>
                  </a:lnTo>
                  <a:lnTo>
                    <a:pt x="328" y="14"/>
                  </a:lnTo>
                  <a:lnTo>
                    <a:pt x="270" y="32"/>
                  </a:lnTo>
                  <a:lnTo>
                    <a:pt x="212" y="54"/>
                  </a:lnTo>
                  <a:lnTo>
                    <a:pt x="154" y="78"/>
                  </a:lnTo>
                  <a:lnTo>
                    <a:pt x="58" y="122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14" y="330"/>
                  </a:lnTo>
                  <a:lnTo>
                    <a:pt x="14" y="330"/>
                  </a:lnTo>
                  <a:lnTo>
                    <a:pt x="68" y="330"/>
                  </a:lnTo>
                  <a:lnTo>
                    <a:pt x="68" y="330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114" y="152"/>
                  </a:lnTo>
                  <a:lnTo>
                    <a:pt x="204" y="114"/>
                  </a:lnTo>
                  <a:lnTo>
                    <a:pt x="252" y="94"/>
                  </a:lnTo>
                  <a:lnTo>
                    <a:pt x="300" y="76"/>
                  </a:lnTo>
                  <a:lnTo>
                    <a:pt x="346" y="62"/>
                  </a:lnTo>
                  <a:lnTo>
                    <a:pt x="386" y="54"/>
                  </a:lnTo>
                  <a:lnTo>
                    <a:pt x="386" y="54"/>
                  </a:lnTo>
                  <a:lnTo>
                    <a:pt x="404" y="52"/>
                  </a:lnTo>
                  <a:lnTo>
                    <a:pt x="426" y="52"/>
                  </a:lnTo>
                  <a:lnTo>
                    <a:pt x="452" y="54"/>
                  </a:lnTo>
                  <a:lnTo>
                    <a:pt x="478" y="58"/>
                  </a:lnTo>
                  <a:lnTo>
                    <a:pt x="538" y="70"/>
                  </a:lnTo>
                  <a:lnTo>
                    <a:pt x="600" y="84"/>
                  </a:lnTo>
                  <a:lnTo>
                    <a:pt x="662" y="102"/>
                  </a:lnTo>
                  <a:lnTo>
                    <a:pt x="720" y="120"/>
                  </a:lnTo>
                  <a:lnTo>
                    <a:pt x="810" y="152"/>
                  </a:lnTo>
                  <a:lnTo>
                    <a:pt x="810" y="152"/>
                  </a:lnTo>
                  <a:lnTo>
                    <a:pt x="820" y="154"/>
                  </a:lnTo>
                  <a:lnTo>
                    <a:pt x="830" y="152"/>
                  </a:lnTo>
                  <a:lnTo>
                    <a:pt x="838" y="146"/>
                  </a:lnTo>
                  <a:lnTo>
                    <a:pt x="844" y="136"/>
                  </a:lnTo>
                  <a:lnTo>
                    <a:pt x="844" y="136"/>
                  </a:lnTo>
                  <a:lnTo>
                    <a:pt x="846" y="126"/>
                  </a:lnTo>
                  <a:lnTo>
                    <a:pt x="844" y="116"/>
                  </a:lnTo>
                  <a:lnTo>
                    <a:pt x="838" y="108"/>
                  </a:lnTo>
                  <a:lnTo>
                    <a:pt x="828" y="102"/>
                  </a:lnTo>
                  <a:lnTo>
                    <a:pt x="8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87"/>
            <p:cNvSpPr/>
            <p:nvPr/>
          </p:nvSpPr>
          <p:spPr>
            <a:xfrm>
              <a:off x="41386320" y="8106120"/>
              <a:ext cx="285480" cy="387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80" h="244">
                  <a:moveTo>
                    <a:pt x="0" y="124"/>
                  </a:moveTo>
                  <a:lnTo>
                    <a:pt x="0" y="124"/>
                  </a:lnTo>
                  <a:lnTo>
                    <a:pt x="10" y="100"/>
                  </a:lnTo>
                  <a:lnTo>
                    <a:pt x="22" y="76"/>
                  </a:lnTo>
                  <a:lnTo>
                    <a:pt x="40" y="50"/>
                  </a:lnTo>
                  <a:lnTo>
                    <a:pt x="50" y="38"/>
                  </a:lnTo>
                  <a:lnTo>
                    <a:pt x="60" y="26"/>
                  </a:lnTo>
                  <a:lnTo>
                    <a:pt x="72" y="16"/>
                  </a:lnTo>
                  <a:lnTo>
                    <a:pt x="84" y="8"/>
                  </a:lnTo>
                  <a:lnTo>
                    <a:pt x="96" y="2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52" y="16"/>
                  </a:lnTo>
                  <a:lnTo>
                    <a:pt x="162" y="28"/>
                  </a:lnTo>
                  <a:lnTo>
                    <a:pt x="170" y="42"/>
                  </a:lnTo>
                  <a:lnTo>
                    <a:pt x="174" y="60"/>
                  </a:lnTo>
                  <a:lnTo>
                    <a:pt x="178" y="78"/>
                  </a:lnTo>
                  <a:lnTo>
                    <a:pt x="180" y="98"/>
                  </a:lnTo>
                  <a:lnTo>
                    <a:pt x="178" y="120"/>
                  </a:lnTo>
                  <a:lnTo>
                    <a:pt x="178" y="140"/>
                  </a:lnTo>
                  <a:lnTo>
                    <a:pt x="172" y="178"/>
                  </a:lnTo>
                  <a:lnTo>
                    <a:pt x="166" y="212"/>
                  </a:lnTo>
                  <a:lnTo>
                    <a:pt x="158" y="24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a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88"/>
            <p:cNvSpPr/>
            <p:nvPr/>
          </p:nvSpPr>
          <p:spPr>
            <a:xfrm>
              <a:off x="40255920" y="6454800"/>
              <a:ext cx="62856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89"/>
            <p:cNvSpPr/>
            <p:nvPr/>
          </p:nvSpPr>
          <p:spPr>
            <a:xfrm>
              <a:off x="40214520" y="6410520"/>
              <a:ext cx="711000" cy="39672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448" h="250">
                  <a:moveTo>
                    <a:pt x="26" y="0"/>
                  </a:moveTo>
                  <a:lnTo>
                    <a:pt x="26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2" y="234"/>
                  </a:lnTo>
                  <a:lnTo>
                    <a:pt x="8" y="244"/>
                  </a:lnTo>
                  <a:lnTo>
                    <a:pt x="16" y="248"/>
                  </a:lnTo>
                  <a:lnTo>
                    <a:pt x="26" y="250"/>
                  </a:lnTo>
                  <a:lnTo>
                    <a:pt x="422" y="250"/>
                  </a:lnTo>
                  <a:lnTo>
                    <a:pt x="422" y="250"/>
                  </a:lnTo>
                  <a:lnTo>
                    <a:pt x="432" y="248"/>
                  </a:lnTo>
                  <a:lnTo>
                    <a:pt x="440" y="244"/>
                  </a:lnTo>
                  <a:lnTo>
                    <a:pt x="446" y="234"/>
                  </a:lnTo>
                  <a:lnTo>
                    <a:pt x="448" y="224"/>
                  </a:lnTo>
                  <a:lnTo>
                    <a:pt x="448" y="28"/>
                  </a:lnTo>
                  <a:lnTo>
                    <a:pt x="448" y="28"/>
                  </a:lnTo>
                  <a:lnTo>
                    <a:pt x="446" y="16"/>
                  </a:lnTo>
                  <a:lnTo>
                    <a:pt x="440" y="8"/>
                  </a:lnTo>
                  <a:lnTo>
                    <a:pt x="432" y="2"/>
                  </a:lnTo>
                  <a:lnTo>
                    <a:pt x="422" y="0"/>
                  </a:lnTo>
                  <a:lnTo>
                    <a:pt x="26" y="0"/>
                  </a:lnTo>
                  <a:close/>
                  <a:moveTo>
                    <a:pt x="396" y="54"/>
                  </a:moveTo>
                  <a:lnTo>
                    <a:pt x="396" y="54"/>
                  </a:lnTo>
                  <a:lnTo>
                    <a:pt x="396" y="198"/>
                  </a:lnTo>
                  <a:lnTo>
                    <a:pt x="396" y="198"/>
                  </a:lnTo>
                  <a:lnTo>
                    <a:pt x="52" y="198"/>
                  </a:lnTo>
                  <a:lnTo>
                    <a:pt x="52" y="198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396" y="54"/>
                  </a:lnTo>
                  <a:lnTo>
                    <a:pt x="39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90"/>
            <p:cNvSpPr/>
            <p:nvPr/>
          </p:nvSpPr>
          <p:spPr>
            <a:xfrm>
              <a:off x="36201240" y="4362480"/>
              <a:ext cx="2352600" cy="397512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3975120"/>
                <a:gd name="textAreaBottom" fmla="*/ 3975480 h 3975120"/>
              </a:gdLst>
              <a:ahLst/>
              <a:rect l="textAreaLeft" t="textAreaTop" r="textAreaRight" b="textAreaBottom"/>
              <a:pathLst>
                <a:path w="1482" h="2504">
                  <a:moveTo>
                    <a:pt x="618" y="700"/>
                  </a:moveTo>
                  <a:lnTo>
                    <a:pt x="618" y="700"/>
                  </a:lnTo>
                  <a:lnTo>
                    <a:pt x="632" y="712"/>
                  </a:lnTo>
                  <a:lnTo>
                    <a:pt x="648" y="726"/>
                  </a:lnTo>
                  <a:lnTo>
                    <a:pt x="670" y="748"/>
                  </a:lnTo>
                  <a:lnTo>
                    <a:pt x="698" y="776"/>
                  </a:lnTo>
                  <a:lnTo>
                    <a:pt x="726" y="812"/>
                  </a:lnTo>
                  <a:lnTo>
                    <a:pt x="758" y="854"/>
                  </a:lnTo>
                  <a:lnTo>
                    <a:pt x="792" y="906"/>
                  </a:lnTo>
                  <a:lnTo>
                    <a:pt x="792" y="906"/>
                  </a:lnTo>
                  <a:lnTo>
                    <a:pt x="800" y="920"/>
                  </a:lnTo>
                  <a:lnTo>
                    <a:pt x="808" y="936"/>
                  </a:lnTo>
                  <a:lnTo>
                    <a:pt x="814" y="956"/>
                  </a:lnTo>
                  <a:lnTo>
                    <a:pt x="818" y="976"/>
                  </a:lnTo>
                  <a:lnTo>
                    <a:pt x="828" y="1022"/>
                  </a:lnTo>
                  <a:lnTo>
                    <a:pt x="834" y="1072"/>
                  </a:lnTo>
                  <a:lnTo>
                    <a:pt x="836" y="1130"/>
                  </a:lnTo>
                  <a:lnTo>
                    <a:pt x="838" y="1190"/>
                  </a:lnTo>
                  <a:lnTo>
                    <a:pt x="838" y="1254"/>
                  </a:lnTo>
                  <a:lnTo>
                    <a:pt x="836" y="1322"/>
                  </a:lnTo>
                  <a:lnTo>
                    <a:pt x="828" y="1460"/>
                  </a:lnTo>
                  <a:lnTo>
                    <a:pt x="820" y="1598"/>
                  </a:lnTo>
                  <a:lnTo>
                    <a:pt x="814" y="1728"/>
                  </a:lnTo>
                  <a:lnTo>
                    <a:pt x="812" y="1790"/>
                  </a:lnTo>
                  <a:lnTo>
                    <a:pt x="810" y="1846"/>
                  </a:lnTo>
                  <a:lnTo>
                    <a:pt x="810" y="1846"/>
                  </a:lnTo>
                  <a:lnTo>
                    <a:pt x="812" y="1956"/>
                  </a:lnTo>
                  <a:lnTo>
                    <a:pt x="818" y="2066"/>
                  </a:lnTo>
                  <a:lnTo>
                    <a:pt x="822" y="2118"/>
                  </a:lnTo>
                  <a:lnTo>
                    <a:pt x="828" y="2170"/>
                  </a:lnTo>
                  <a:lnTo>
                    <a:pt x="836" y="2220"/>
                  </a:lnTo>
                  <a:lnTo>
                    <a:pt x="844" y="2268"/>
                  </a:lnTo>
                  <a:lnTo>
                    <a:pt x="854" y="2312"/>
                  </a:lnTo>
                  <a:lnTo>
                    <a:pt x="866" y="2352"/>
                  </a:lnTo>
                  <a:lnTo>
                    <a:pt x="880" y="2390"/>
                  </a:lnTo>
                  <a:lnTo>
                    <a:pt x="894" y="2422"/>
                  </a:lnTo>
                  <a:lnTo>
                    <a:pt x="912" y="2450"/>
                  </a:lnTo>
                  <a:lnTo>
                    <a:pt x="920" y="2462"/>
                  </a:lnTo>
                  <a:lnTo>
                    <a:pt x="930" y="2472"/>
                  </a:lnTo>
                  <a:lnTo>
                    <a:pt x="940" y="2480"/>
                  </a:lnTo>
                  <a:lnTo>
                    <a:pt x="950" y="2488"/>
                  </a:lnTo>
                  <a:lnTo>
                    <a:pt x="962" y="2494"/>
                  </a:lnTo>
                  <a:lnTo>
                    <a:pt x="974" y="2498"/>
                  </a:lnTo>
                  <a:lnTo>
                    <a:pt x="974" y="2498"/>
                  </a:lnTo>
                  <a:lnTo>
                    <a:pt x="998" y="2502"/>
                  </a:lnTo>
                  <a:lnTo>
                    <a:pt x="1022" y="2504"/>
                  </a:lnTo>
                  <a:lnTo>
                    <a:pt x="1050" y="2502"/>
                  </a:lnTo>
                  <a:lnTo>
                    <a:pt x="1076" y="2498"/>
                  </a:lnTo>
                  <a:lnTo>
                    <a:pt x="1102" y="2490"/>
                  </a:lnTo>
                  <a:lnTo>
                    <a:pt x="1130" y="2480"/>
                  </a:lnTo>
                  <a:lnTo>
                    <a:pt x="1156" y="2468"/>
                  </a:lnTo>
                  <a:lnTo>
                    <a:pt x="1184" y="2452"/>
                  </a:lnTo>
                  <a:lnTo>
                    <a:pt x="1210" y="2436"/>
                  </a:lnTo>
                  <a:lnTo>
                    <a:pt x="1234" y="2420"/>
                  </a:lnTo>
                  <a:lnTo>
                    <a:pt x="1258" y="2400"/>
                  </a:lnTo>
                  <a:lnTo>
                    <a:pt x="1282" y="2380"/>
                  </a:lnTo>
                  <a:lnTo>
                    <a:pt x="1302" y="2360"/>
                  </a:lnTo>
                  <a:lnTo>
                    <a:pt x="1322" y="2340"/>
                  </a:lnTo>
                  <a:lnTo>
                    <a:pt x="1338" y="2320"/>
                  </a:lnTo>
                  <a:lnTo>
                    <a:pt x="1354" y="2298"/>
                  </a:lnTo>
                  <a:lnTo>
                    <a:pt x="1354" y="2298"/>
                  </a:lnTo>
                  <a:lnTo>
                    <a:pt x="1366" y="2274"/>
                  </a:lnTo>
                  <a:lnTo>
                    <a:pt x="1380" y="2240"/>
                  </a:lnTo>
                  <a:lnTo>
                    <a:pt x="1394" y="2200"/>
                  </a:lnTo>
                  <a:lnTo>
                    <a:pt x="1406" y="2154"/>
                  </a:lnTo>
                  <a:lnTo>
                    <a:pt x="1418" y="2104"/>
                  </a:lnTo>
                  <a:lnTo>
                    <a:pt x="1430" y="2048"/>
                  </a:lnTo>
                  <a:lnTo>
                    <a:pt x="1440" y="1992"/>
                  </a:lnTo>
                  <a:lnTo>
                    <a:pt x="1450" y="1932"/>
                  </a:lnTo>
                  <a:lnTo>
                    <a:pt x="1466" y="1814"/>
                  </a:lnTo>
                  <a:lnTo>
                    <a:pt x="1478" y="1704"/>
                  </a:lnTo>
                  <a:lnTo>
                    <a:pt x="1482" y="1654"/>
                  </a:lnTo>
                  <a:lnTo>
                    <a:pt x="1482" y="1608"/>
                  </a:lnTo>
                  <a:lnTo>
                    <a:pt x="1482" y="1570"/>
                  </a:lnTo>
                  <a:lnTo>
                    <a:pt x="1480" y="1538"/>
                  </a:lnTo>
                  <a:lnTo>
                    <a:pt x="1480" y="1538"/>
                  </a:lnTo>
                  <a:lnTo>
                    <a:pt x="1476" y="1512"/>
                  </a:lnTo>
                  <a:lnTo>
                    <a:pt x="1468" y="1490"/>
                  </a:lnTo>
                  <a:lnTo>
                    <a:pt x="1458" y="1468"/>
                  </a:lnTo>
                  <a:lnTo>
                    <a:pt x="1446" y="1450"/>
                  </a:lnTo>
                  <a:lnTo>
                    <a:pt x="1434" y="1432"/>
                  </a:lnTo>
                  <a:lnTo>
                    <a:pt x="1420" y="1418"/>
                  </a:lnTo>
                  <a:lnTo>
                    <a:pt x="1406" y="1404"/>
                  </a:lnTo>
                  <a:lnTo>
                    <a:pt x="1392" y="1394"/>
                  </a:lnTo>
                  <a:lnTo>
                    <a:pt x="1364" y="1376"/>
                  </a:lnTo>
                  <a:lnTo>
                    <a:pt x="1340" y="1366"/>
                  </a:lnTo>
                  <a:lnTo>
                    <a:pt x="1324" y="1360"/>
                  </a:lnTo>
                  <a:lnTo>
                    <a:pt x="1318" y="1358"/>
                  </a:lnTo>
                  <a:lnTo>
                    <a:pt x="1318" y="1358"/>
                  </a:lnTo>
                  <a:lnTo>
                    <a:pt x="1226" y="1358"/>
                  </a:lnTo>
                  <a:lnTo>
                    <a:pt x="1226" y="1358"/>
                  </a:lnTo>
                  <a:lnTo>
                    <a:pt x="1214" y="1284"/>
                  </a:lnTo>
                  <a:lnTo>
                    <a:pt x="1202" y="1204"/>
                  </a:lnTo>
                  <a:lnTo>
                    <a:pt x="1190" y="1106"/>
                  </a:lnTo>
                  <a:lnTo>
                    <a:pt x="1178" y="998"/>
                  </a:lnTo>
                  <a:lnTo>
                    <a:pt x="1168" y="886"/>
                  </a:lnTo>
                  <a:lnTo>
                    <a:pt x="1166" y="834"/>
                  </a:lnTo>
                  <a:lnTo>
                    <a:pt x="1164" y="782"/>
                  </a:lnTo>
                  <a:lnTo>
                    <a:pt x="1164" y="734"/>
                  </a:lnTo>
                  <a:lnTo>
                    <a:pt x="1166" y="692"/>
                  </a:lnTo>
                  <a:lnTo>
                    <a:pt x="1166" y="692"/>
                  </a:lnTo>
                  <a:lnTo>
                    <a:pt x="1168" y="650"/>
                  </a:lnTo>
                  <a:lnTo>
                    <a:pt x="1166" y="610"/>
                  </a:lnTo>
                  <a:lnTo>
                    <a:pt x="1162" y="568"/>
                  </a:lnTo>
                  <a:lnTo>
                    <a:pt x="1156" y="528"/>
                  </a:lnTo>
                  <a:lnTo>
                    <a:pt x="1148" y="488"/>
                  </a:lnTo>
                  <a:lnTo>
                    <a:pt x="1136" y="450"/>
                  </a:lnTo>
                  <a:lnTo>
                    <a:pt x="1124" y="414"/>
                  </a:lnTo>
                  <a:lnTo>
                    <a:pt x="1110" y="378"/>
                  </a:lnTo>
                  <a:lnTo>
                    <a:pt x="1096" y="346"/>
                  </a:lnTo>
                  <a:lnTo>
                    <a:pt x="1080" y="318"/>
                  </a:lnTo>
                  <a:lnTo>
                    <a:pt x="1066" y="290"/>
                  </a:lnTo>
                  <a:lnTo>
                    <a:pt x="1050" y="268"/>
                  </a:lnTo>
                  <a:lnTo>
                    <a:pt x="1034" y="248"/>
                  </a:lnTo>
                  <a:lnTo>
                    <a:pt x="1020" y="232"/>
                  </a:lnTo>
                  <a:lnTo>
                    <a:pt x="1006" y="222"/>
                  </a:lnTo>
                  <a:lnTo>
                    <a:pt x="992" y="216"/>
                  </a:lnTo>
                  <a:lnTo>
                    <a:pt x="992" y="216"/>
                  </a:lnTo>
                  <a:lnTo>
                    <a:pt x="978" y="212"/>
                  </a:lnTo>
                  <a:lnTo>
                    <a:pt x="964" y="206"/>
                  </a:lnTo>
                  <a:lnTo>
                    <a:pt x="932" y="186"/>
                  </a:lnTo>
                  <a:lnTo>
                    <a:pt x="898" y="160"/>
                  </a:lnTo>
                  <a:lnTo>
                    <a:pt x="864" y="130"/>
                  </a:lnTo>
                  <a:lnTo>
                    <a:pt x="832" y="98"/>
                  </a:lnTo>
                  <a:lnTo>
                    <a:pt x="804" y="64"/>
                  </a:lnTo>
                  <a:lnTo>
                    <a:pt x="792" y="46"/>
                  </a:lnTo>
                  <a:lnTo>
                    <a:pt x="782" y="30"/>
                  </a:lnTo>
                  <a:lnTo>
                    <a:pt x="774" y="14"/>
                  </a:lnTo>
                  <a:lnTo>
                    <a:pt x="768" y="0"/>
                  </a:lnTo>
                  <a:lnTo>
                    <a:pt x="768" y="0"/>
                  </a:lnTo>
                  <a:lnTo>
                    <a:pt x="754" y="6"/>
                  </a:lnTo>
                  <a:lnTo>
                    <a:pt x="742" y="16"/>
                  </a:lnTo>
                  <a:lnTo>
                    <a:pt x="728" y="28"/>
                  </a:lnTo>
                  <a:lnTo>
                    <a:pt x="716" y="44"/>
                  </a:lnTo>
                  <a:lnTo>
                    <a:pt x="712" y="52"/>
                  </a:lnTo>
                  <a:lnTo>
                    <a:pt x="708" y="64"/>
                  </a:lnTo>
                  <a:lnTo>
                    <a:pt x="704" y="76"/>
                  </a:lnTo>
                  <a:lnTo>
                    <a:pt x="704" y="88"/>
                  </a:lnTo>
                  <a:lnTo>
                    <a:pt x="706" y="102"/>
                  </a:lnTo>
                  <a:lnTo>
                    <a:pt x="708" y="116"/>
                  </a:lnTo>
                  <a:lnTo>
                    <a:pt x="708" y="116"/>
                  </a:lnTo>
                  <a:lnTo>
                    <a:pt x="718" y="146"/>
                  </a:lnTo>
                  <a:lnTo>
                    <a:pt x="728" y="168"/>
                  </a:lnTo>
                  <a:lnTo>
                    <a:pt x="738" y="188"/>
                  </a:lnTo>
                  <a:lnTo>
                    <a:pt x="748" y="202"/>
                  </a:lnTo>
                  <a:lnTo>
                    <a:pt x="762" y="220"/>
                  </a:lnTo>
                  <a:lnTo>
                    <a:pt x="768" y="224"/>
                  </a:lnTo>
                  <a:lnTo>
                    <a:pt x="768" y="224"/>
                  </a:lnTo>
                  <a:lnTo>
                    <a:pt x="688" y="210"/>
                  </a:lnTo>
                  <a:lnTo>
                    <a:pt x="604" y="194"/>
                  </a:lnTo>
                  <a:lnTo>
                    <a:pt x="506" y="180"/>
                  </a:lnTo>
                  <a:lnTo>
                    <a:pt x="456" y="172"/>
                  </a:lnTo>
                  <a:lnTo>
                    <a:pt x="406" y="168"/>
                  </a:lnTo>
                  <a:lnTo>
                    <a:pt x="356" y="164"/>
                  </a:lnTo>
                  <a:lnTo>
                    <a:pt x="310" y="162"/>
                  </a:lnTo>
                  <a:lnTo>
                    <a:pt x="268" y="162"/>
                  </a:lnTo>
                  <a:lnTo>
                    <a:pt x="234" y="166"/>
                  </a:lnTo>
                  <a:lnTo>
                    <a:pt x="218" y="168"/>
                  </a:lnTo>
                  <a:lnTo>
                    <a:pt x="204" y="172"/>
                  </a:lnTo>
                  <a:lnTo>
                    <a:pt x="194" y="178"/>
                  </a:lnTo>
                  <a:lnTo>
                    <a:pt x="184" y="184"/>
                  </a:lnTo>
                  <a:lnTo>
                    <a:pt x="184" y="184"/>
                  </a:lnTo>
                  <a:lnTo>
                    <a:pt x="176" y="188"/>
                  </a:lnTo>
                  <a:lnTo>
                    <a:pt x="158" y="200"/>
                  </a:lnTo>
                  <a:lnTo>
                    <a:pt x="148" y="208"/>
                  </a:lnTo>
                  <a:lnTo>
                    <a:pt x="138" y="218"/>
                  </a:lnTo>
                  <a:lnTo>
                    <a:pt x="130" y="230"/>
                  </a:lnTo>
                  <a:lnTo>
                    <a:pt x="126" y="242"/>
                  </a:lnTo>
                  <a:lnTo>
                    <a:pt x="126" y="242"/>
                  </a:lnTo>
                  <a:lnTo>
                    <a:pt x="116" y="244"/>
                  </a:lnTo>
                  <a:lnTo>
                    <a:pt x="94" y="250"/>
                  </a:lnTo>
                  <a:lnTo>
                    <a:pt x="82" y="258"/>
                  </a:lnTo>
                  <a:lnTo>
                    <a:pt x="70" y="266"/>
                  </a:lnTo>
                  <a:lnTo>
                    <a:pt x="60" y="278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42" y="298"/>
                  </a:lnTo>
                  <a:lnTo>
                    <a:pt x="34" y="304"/>
                  </a:lnTo>
                  <a:lnTo>
                    <a:pt x="22" y="314"/>
                  </a:lnTo>
                  <a:lnTo>
                    <a:pt x="14" y="324"/>
                  </a:lnTo>
                  <a:lnTo>
                    <a:pt x="6" y="338"/>
                  </a:lnTo>
                  <a:lnTo>
                    <a:pt x="0" y="352"/>
                  </a:lnTo>
                  <a:lnTo>
                    <a:pt x="0" y="358"/>
                  </a:lnTo>
                  <a:lnTo>
                    <a:pt x="2" y="366"/>
                  </a:lnTo>
                  <a:lnTo>
                    <a:pt x="2" y="366"/>
                  </a:lnTo>
                  <a:lnTo>
                    <a:pt x="6" y="380"/>
                  </a:lnTo>
                  <a:lnTo>
                    <a:pt x="12" y="392"/>
                  </a:lnTo>
                  <a:lnTo>
                    <a:pt x="20" y="400"/>
                  </a:lnTo>
                  <a:lnTo>
                    <a:pt x="30" y="408"/>
                  </a:lnTo>
                  <a:lnTo>
                    <a:pt x="44" y="414"/>
                  </a:lnTo>
                  <a:lnTo>
                    <a:pt x="52" y="416"/>
                  </a:lnTo>
                  <a:lnTo>
                    <a:pt x="52" y="416"/>
                  </a:lnTo>
                  <a:lnTo>
                    <a:pt x="44" y="428"/>
                  </a:lnTo>
                  <a:lnTo>
                    <a:pt x="38" y="438"/>
                  </a:lnTo>
                  <a:lnTo>
                    <a:pt x="32" y="452"/>
                  </a:lnTo>
                  <a:lnTo>
                    <a:pt x="30" y="468"/>
                  </a:lnTo>
                  <a:lnTo>
                    <a:pt x="28" y="476"/>
                  </a:lnTo>
                  <a:lnTo>
                    <a:pt x="30" y="484"/>
                  </a:lnTo>
                  <a:lnTo>
                    <a:pt x="32" y="490"/>
                  </a:lnTo>
                  <a:lnTo>
                    <a:pt x="36" y="496"/>
                  </a:lnTo>
                  <a:lnTo>
                    <a:pt x="42" y="502"/>
                  </a:lnTo>
                  <a:lnTo>
                    <a:pt x="52" y="508"/>
                  </a:lnTo>
                  <a:lnTo>
                    <a:pt x="52" y="508"/>
                  </a:lnTo>
                  <a:lnTo>
                    <a:pt x="64" y="514"/>
                  </a:lnTo>
                  <a:lnTo>
                    <a:pt x="84" y="520"/>
                  </a:lnTo>
                  <a:lnTo>
                    <a:pt x="142" y="534"/>
                  </a:lnTo>
                  <a:lnTo>
                    <a:pt x="220" y="552"/>
                  </a:lnTo>
                  <a:lnTo>
                    <a:pt x="306" y="572"/>
                  </a:lnTo>
                  <a:lnTo>
                    <a:pt x="396" y="598"/>
                  </a:lnTo>
                  <a:lnTo>
                    <a:pt x="440" y="612"/>
                  </a:lnTo>
                  <a:lnTo>
                    <a:pt x="484" y="628"/>
                  </a:lnTo>
                  <a:lnTo>
                    <a:pt x="522" y="644"/>
                  </a:lnTo>
                  <a:lnTo>
                    <a:pt x="560" y="662"/>
                  </a:lnTo>
                  <a:lnTo>
                    <a:pt x="590" y="680"/>
                  </a:lnTo>
                  <a:lnTo>
                    <a:pt x="618" y="700"/>
                  </a:lnTo>
                  <a:lnTo>
                    <a:pt x="618" y="70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1"/>
            <p:cNvSpPr/>
            <p:nvPr/>
          </p:nvSpPr>
          <p:spPr>
            <a:xfrm>
              <a:off x="36160200" y="4321080"/>
              <a:ext cx="2435040" cy="405756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1534" h="2556">
                  <a:moveTo>
                    <a:pt x="784" y="2"/>
                  </a:moveTo>
                  <a:lnTo>
                    <a:pt x="784" y="2"/>
                  </a:lnTo>
                  <a:lnTo>
                    <a:pt x="772" y="8"/>
                  </a:lnTo>
                  <a:lnTo>
                    <a:pt x="758" y="16"/>
                  </a:lnTo>
                  <a:lnTo>
                    <a:pt x="744" y="26"/>
                  </a:lnTo>
                  <a:lnTo>
                    <a:pt x="732" y="38"/>
                  </a:lnTo>
                  <a:lnTo>
                    <a:pt x="720" y="54"/>
                  </a:lnTo>
                  <a:lnTo>
                    <a:pt x="712" y="70"/>
                  </a:lnTo>
                  <a:lnTo>
                    <a:pt x="706" y="90"/>
                  </a:lnTo>
                  <a:lnTo>
                    <a:pt x="704" y="112"/>
                  </a:lnTo>
                  <a:lnTo>
                    <a:pt x="704" y="112"/>
                  </a:lnTo>
                  <a:lnTo>
                    <a:pt x="706" y="130"/>
                  </a:lnTo>
                  <a:lnTo>
                    <a:pt x="710" y="150"/>
                  </a:lnTo>
                  <a:lnTo>
                    <a:pt x="710" y="150"/>
                  </a:lnTo>
                  <a:lnTo>
                    <a:pt x="722" y="184"/>
                  </a:lnTo>
                  <a:lnTo>
                    <a:pt x="734" y="212"/>
                  </a:lnTo>
                  <a:lnTo>
                    <a:pt x="734" y="212"/>
                  </a:lnTo>
                  <a:lnTo>
                    <a:pt x="672" y="200"/>
                  </a:lnTo>
                  <a:lnTo>
                    <a:pt x="598" y="188"/>
                  </a:lnTo>
                  <a:lnTo>
                    <a:pt x="518" y="176"/>
                  </a:lnTo>
                  <a:lnTo>
                    <a:pt x="436" y="166"/>
                  </a:lnTo>
                  <a:lnTo>
                    <a:pt x="396" y="164"/>
                  </a:lnTo>
                  <a:lnTo>
                    <a:pt x="358" y="162"/>
                  </a:lnTo>
                  <a:lnTo>
                    <a:pt x="322" y="162"/>
                  </a:lnTo>
                  <a:lnTo>
                    <a:pt x="288" y="164"/>
                  </a:lnTo>
                  <a:lnTo>
                    <a:pt x="258" y="166"/>
                  </a:lnTo>
                  <a:lnTo>
                    <a:pt x="232" y="172"/>
                  </a:lnTo>
                  <a:lnTo>
                    <a:pt x="210" y="178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186" y="192"/>
                  </a:lnTo>
                  <a:lnTo>
                    <a:pt x="170" y="204"/>
                  </a:lnTo>
                  <a:lnTo>
                    <a:pt x="152" y="222"/>
                  </a:lnTo>
                  <a:lnTo>
                    <a:pt x="142" y="232"/>
                  </a:lnTo>
                  <a:lnTo>
                    <a:pt x="134" y="244"/>
                  </a:lnTo>
                  <a:lnTo>
                    <a:pt x="134" y="244"/>
                  </a:lnTo>
                  <a:lnTo>
                    <a:pt x="118" y="250"/>
                  </a:lnTo>
                  <a:lnTo>
                    <a:pt x="98" y="260"/>
                  </a:lnTo>
                  <a:lnTo>
                    <a:pt x="86" y="268"/>
                  </a:lnTo>
                  <a:lnTo>
                    <a:pt x="78" y="276"/>
                  </a:lnTo>
                  <a:lnTo>
                    <a:pt x="68" y="286"/>
                  </a:lnTo>
                  <a:lnTo>
                    <a:pt x="60" y="298"/>
                  </a:lnTo>
                  <a:lnTo>
                    <a:pt x="60" y="298"/>
                  </a:lnTo>
                  <a:lnTo>
                    <a:pt x="46" y="308"/>
                  </a:lnTo>
                  <a:lnTo>
                    <a:pt x="36" y="316"/>
                  </a:lnTo>
                  <a:lnTo>
                    <a:pt x="26" y="326"/>
                  </a:lnTo>
                  <a:lnTo>
                    <a:pt x="16" y="338"/>
                  </a:lnTo>
                  <a:lnTo>
                    <a:pt x="8" y="352"/>
                  </a:lnTo>
                  <a:lnTo>
                    <a:pt x="2" y="366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398"/>
                  </a:lnTo>
                  <a:lnTo>
                    <a:pt x="2" y="398"/>
                  </a:lnTo>
                  <a:lnTo>
                    <a:pt x="8" y="416"/>
                  </a:lnTo>
                  <a:lnTo>
                    <a:pt x="16" y="432"/>
                  </a:lnTo>
                  <a:lnTo>
                    <a:pt x="28" y="444"/>
                  </a:lnTo>
                  <a:lnTo>
                    <a:pt x="40" y="454"/>
                  </a:lnTo>
                  <a:lnTo>
                    <a:pt x="40" y="454"/>
                  </a:lnTo>
                  <a:lnTo>
                    <a:pt x="32" y="476"/>
                  </a:lnTo>
                  <a:lnTo>
                    <a:pt x="30" y="488"/>
                  </a:lnTo>
                  <a:lnTo>
                    <a:pt x="28" y="500"/>
                  </a:lnTo>
                  <a:lnTo>
                    <a:pt x="28" y="500"/>
                  </a:lnTo>
                  <a:lnTo>
                    <a:pt x="30" y="516"/>
                  </a:lnTo>
                  <a:lnTo>
                    <a:pt x="30" y="516"/>
                  </a:lnTo>
                  <a:lnTo>
                    <a:pt x="36" y="528"/>
                  </a:lnTo>
                  <a:lnTo>
                    <a:pt x="42" y="540"/>
                  </a:lnTo>
                  <a:lnTo>
                    <a:pt x="52" y="550"/>
                  </a:lnTo>
                  <a:lnTo>
                    <a:pt x="66" y="558"/>
                  </a:lnTo>
                  <a:lnTo>
                    <a:pt x="66" y="558"/>
                  </a:lnTo>
                  <a:lnTo>
                    <a:pt x="82" y="564"/>
                  </a:lnTo>
                  <a:lnTo>
                    <a:pt x="106" y="572"/>
                  </a:lnTo>
                  <a:lnTo>
                    <a:pt x="186" y="590"/>
                  </a:lnTo>
                  <a:lnTo>
                    <a:pt x="186" y="590"/>
                  </a:lnTo>
                  <a:lnTo>
                    <a:pt x="300" y="618"/>
                  </a:lnTo>
                  <a:lnTo>
                    <a:pt x="362" y="634"/>
                  </a:lnTo>
                  <a:lnTo>
                    <a:pt x="424" y="652"/>
                  </a:lnTo>
                  <a:lnTo>
                    <a:pt x="486" y="672"/>
                  </a:lnTo>
                  <a:lnTo>
                    <a:pt x="540" y="694"/>
                  </a:lnTo>
                  <a:lnTo>
                    <a:pt x="566" y="706"/>
                  </a:lnTo>
                  <a:lnTo>
                    <a:pt x="588" y="720"/>
                  </a:lnTo>
                  <a:lnTo>
                    <a:pt x="608" y="732"/>
                  </a:lnTo>
                  <a:lnTo>
                    <a:pt x="626" y="746"/>
                  </a:lnTo>
                  <a:lnTo>
                    <a:pt x="626" y="746"/>
                  </a:lnTo>
                  <a:lnTo>
                    <a:pt x="628" y="746"/>
                  </a:lnTo>
                  <a:lnTo>
                    <a:pt x="628" y="746"/>
                  </a:lnTo>
                  <a:lnTo>
                    <a:pt x="642" y="758"/>
                  </a:lnTo>
                  <a:lnTo>
                    <a:pt x="658" y="774"/>
                  </a:lnTo>
                  <a:lnTo>
                    <a:pt x="680" y="794"/>
                  </a:lnTo>
                  <a:lnTo>
                    <a:pt x="706" y="822"/>
                  </a:lnTo>
                  <a:lnTo>
                    <a:pt x="734" y="856"/>
                  </a:lnTo>
                  <a:lnTo>
                    <a:pt x="764" y="898"/>
                  </a:lnTo>
                  <a:lnTo>
                    <a:pt x="796" y="946"/>
                  </a:lnTo>
                  <a:lnTo>
                    <a:pt x="796" y="946"/>
                  </a:lnTo>
                  <a:lnTo>
                    <a:pt x="806" y="966"/>
                  </a:lnTo>
                  <a:lnTo>
                    <a:pt x="816" y="992"/>
                  </a:lnTo>
                  <a:lnTo>
                    <a:pt x="824" y="1024"/>
                  </a:lnTo>
                  <a:lnTo>
                    <a:pt x="828" y="1058"/>
                  </a:lnTo>
                  <a:lnTo>
                    <a:pt x="832" y="1094"/>
                  </a:lnTo>
                  <a:lnTo>
                    <a:pt x="836" y="1136"/>
                  </a:lnTo>
                  <a:lnTo>
                    <a:pt x="838" y="1224"/>
                  </a:lnTo>
                  <a:lnTo>
                    <a:pt x="838" y="1224"/>
                  </a:lnTo>
                  <a:lnTo>
                    <a:pt x="836" y="1308"/>
                  </a:lnTo>
                  <a:lnTo>
                    <a:pt x="832" y="1396"/>
                  </a:lnTo>
                  <a:lnTo>
                    <a:pt x="824" y="1572"/>
                  </a:lnTo>
                  <a:lnTo>
                    <a:pt x="810" y="1872"/>
                  </a:lnTo>
                  <a:lnTo>
                    <a:pt x="810" y="1872"/>
                  </a:lnTo>
                  <a:lnTo>
                    <a:pt x="812" y="1982"/>
                  </a:lnTo>
                  <a:lnTo>
                    <a:pt x="818" y="2092"/>
                  </a:lnTo>
                  <a:lnTo>
                    <a:pt x="822" y="2146"/>
                  </a:lnTo>
                  <a:lnTo>
                    <a:pt x="828" y="2200"/>
                  </a:lnTo>
                  <a:lnTo>
                    <a:pt x="836" y="2252"/>
                  </a:lnTo>
                  <a:lnTo>
                    <a:pt x="844" y="2302"/>
                  </a:lnTo>
                  <a:lnTo>
                    <a:pt x="856" y="2348"/>
                  </a:lnTo>
                  <a:lnTo>
                    <a:pt x="868" y="2392"/>
                  </a:lnTo>
                  <a:lnTo>
                    <a:pt x="884" y="2430"/>
                  </a:lnTo>
                  <a:lnTo>
                    <a:pt x="900" y="2466"/>
                  </a:lnTo>
                  <a:lnTo>
                    <a:pt x="910" y="2480"/>
                  </a:lnTo>
                  <a:lnTo>
                    <a:pt x="920" y="2496"/>
                  </a:lnTo>
                  <a:lnTo>
                    <a:pt x="930" y="2508"/>
                  </a:lnTo>
                  <a:lnTo>
                    <a:pt x="940" y="2520"/>
                  </a:lnTo>
                  <a:lnTo>
                    <a:pt x="952" y="2530"/>
                  </a:lnTo>
                  <a:lnTo>
                    <a:pt x="966" y="2538"/>
                  </a:lnTo>
                  <a:lnTo>
                    <a:pt x="978" y="2544"/>
                  </a:lnTo>
                  <a:lnTo>
                    <a:pt x="992" y="2550"/>
                  </a:lnTo>
                  <a:lnTo>
                    <a:pt x="992" y="2550"/>
                  </a:lnTo>
                  <a:lnTo>
                    <a:pt x="1018" y="2554"/>
                  </a:lnTo>
                  <a:lnTo>
                    <a:pt x="1046" y="2556"/>
                  </a:lnTo>
                  <a:lnTo>
                    <a:pt x="1076" y="2554"/>
                  </a:lnTo>
                  <a:lnTo>
                    <a:pt x="1104" y="2550"/>
                  </a:lnTo>
                  <a:lnTo>
                    <a:pt x="1134" y="2542"/>
                  </a:lnTo>
                  <a:lnTo>
                    <a:pt x="1162" y="2530"/>
                  </a:lnTo>
                  <a:lnTo>
                    <a:pt x="1192" y="2518"/>
                  </a:lnTo>
                  <a:lnTo>
                    <a:pt x="1220" y="2502"/>
                  </a:lnTo>
                  <a:lnTo>
                    <a:pt x="1248" y="2486"/>
                  </a:lnTo>
                  <a:lnTo>
                    <a:pt x="1276" y="2466"/>
                  </a:lnTo>
                  <a:lnTo>
                    <a:pt x="1300" y="2446"/>
                  </a:lnTo>
                  <a:lnTo>
                    <a:pt x="1324" y="2426"/>
                  </a:lnTo>
                  <a:lnTo>
                    <a:pt x="1348" y="2404"/>
                  </a:lnTo>
                  <a:lnTo>
                    <a:pt x="1368" y="2382"/>
                  </a:lnTo>
                  <a:lnTo>
                    <a:pt x="1386" y="2362"/>
                  </a:lnTo>
                  <a:lnTo>
                    <a:pt x="1402" y="2340"/>
                  </a:lnTo>
                  <a:lnTo>
                    <a:pt x="1402" y="2340"/>
                  </a:lnTo>
                  <a:lnTo>
                    <a:pt x="1414" y="2316"/>
                  </a:lnTo>
                  <a:lnTo>
                    <a:pt x="1426" y="2286"/>
                  </a:lnTo>
                  <a:lnTo>
                    <a:pt x="1440" y="2250"/>
                  </a:lnTo>
                  <a:lnTo>
                    <a:pt x="1452" y="2210"/>
                  </a:lnTo>
                  <a:lnTo>
                    <a:pt x="1464" y="2166"/>
                  </a:lnTo>
                  <a:lnTo>
                    <a:pt x="1474" y="2116"/>
                  </a:lnTo>
                  <a:lnTo>
                    <a:pt x="1494" y="2014"/>
                  </a:lnTo>
                  <a:lnTo>
                    <a:pt x="1512" y="1906"/>
                  </a:lnTo>
                  <a:lnTo>
                    <a:pt x="1524" y="1800"/>
                  </a:lnTo>
                  <a:lnTo>
                    <a:pt x="1532" y="1702"/>
                  </a:lnTo>
                  <a:lnTo>
                    <a:pt x="1534" y="1660"/>
                  </a:lnTo>
                  <a:lnTo>
                    <a:pt x="1534" y="1620"/>
                  </a:lnTo>
                  <a:lnTo>
                    <a:pt x="1534" y="1620"/>
                  </a:lnTo>
                  <a:lnTo>
                    <a:pt x="1534" y="1588"/>
                  </a:lnTo>
                  <a:lnTo>
                    <a:pt x="1532" y="1562"/>
                  </a:lnTo>
                  <a:lnTo>
                    <a:pt x="1532" y="1562"/>
                  </a:lnTo>
                  <a:lnTo>
                    <a:pt x="1526" y="1532"/>
                  </a:lnTo>
                  <a:lnTo>
                    <a:pt x="1518" y="1506"/>
                  </a:lnTo>
                  <a:lnTo>
                    <a:pt x="1508" y="1484"/>
                  </a:lnTo>
                  <a:lnTo>
                    <a:pt x="1496" y="1462"/>
                  </a:lnTo>
                  <a:lnTo>
                    <a:pt x="1482" y="1444"/>
                  </a:lnTo>
                  <a:lnTo>
                    <a:pt x="1468" y="1426"/>
                  </a:lnTo>
                  <a:lnTo>
                    <a:pt x="1452" y="1412"/>
                  </a:lnTo>
                  <a:lnTo>
                    <a:pt x="1436" y="1400"/>
                  </a:lnTo>
                  <a:lnTo>
                    <a:pt x="1420" y="1390"/>
                  </a:lnTo>
                  <a:lnTo>
                    <a:pt x="1404" y="1380"/>
                  </a:lnTo>
                  <a:lnTo>
                    <a:pt x="1378" y="1368"/>
                  </a:lnTo>
                  <a:lnTo>
                    <a:pt x="1358" y="1360"/>
                  </a:lnTo>
                  <a:lnTo>
                    <a:pt x="1350" y="1358"/>
                  </a:lnTo>
                  <a:lnTo>
                    <a:pt x="1350" y="1358"/>
                  </a:lnTo>
                  <a:lnTo>
                    <a:pt x="1344" y="1358"/>
                  </a:lnTo>
                  <a:lnTo>
                    <a:pt x="1344" y="1358"/>
                  </a:lnTo>
                  <a:lnTo>
                    <a:pt x="1274" y="1358"/>
                  </a:lnTo>
                  <a:lnTo>
                    <a:pt x="1274" y="1358"/>
                  </a:lnTo>
                  <a:lnTo>
                    <a:pt x="1260" y="1262"/>
                  </a:lnTo>
                  <a:lnTo>
                    <a:pt x="1240" y="1116"/>
                  </a:lnTo>
                  <a:lnTo>
                    <a:pt x="1232" y="1032"/>
                  </a:lnTo>
                  <a:lnTo>
                    <a:pt x="1224" y="948"/>
                  </a:lnTo>
                  <a:lnTo>
                    <a:pt x="1218" y="866"/>
                  </a:lnTo>
                  <a:lnTo>
                    <a:pt x="1216" y="788"/>
                  </a:lnTo>
                  <a:lnTo>
                    <a:pt x="1216" y="788"/>
                  </a:lnTo>
                  <a:lnTo>
                    <a:pt x="1218" y="752"/>
                  </a:lnTo>
                  <a:lnTo>
                    <a:pt x="1220" y="720"/>
                  </a:lnTo>
                  <a:lnTo>
                    <a:pt x="1220" y="720"/>
                  </a:lnTo>
                  <a:lnTo>
                    <a:pt x="1220" y="678"/>
                  </a:lnTo>
                  <a:lnTo>
                    <a:pt x="1220" y="678"/>
                  </a:lnTo>
                  <a:lnTo>
                    <a:pt x="1220" y="636"/>
                  </a:lnTo>
                  <a:lnTo>
                    <a:pt x="1216" y="596"/>
                  </a:lnTo>
                  <a:lnTo>
                    <a:pt x="1210" y="556"/>
                  </a:lnTo>
                  <a:lnTo>
                    <a:pt x="1202" y="518"/>
                  </a:lnTo>
                  <a:lnTo>
                    <a:pt x="1190" y="480"/>
                  </a:lnTo>
                  <a:lnTo>
                    <a:pt x="1180" y="442"/>
                  </a:lnTo>
                  <a:lnTo>
                    <a:pt x="1166" y="408"/>
                  </a:lnTo>
                  <a:lnTo>
                    <a:pt x="1152" y="374"/>
                  </a:lnTo>
                  <a:lnTo>
                    <a:pt x="1136" y="344"/>
                  </a:lnTo>
                  <a:lnTo>
                    <a:pt x="1122" y="314"/>
                  </a:lnTo>
                  <a:lnTo>
                    <a:pt x="1104" y="290"/>
                  </a:lnTo>
                  <a:lnTo>
                    <a:pt x="1088" y="268"/>
                  </a:lnTo>
                  <a:lnTo>
                    <a:pt x="1072" y="248"/>
                  </a:lnTo>
                  <a:lnTo>
                    <a:pt x="1056" y="234"/>
                  </a:lnTo>
                  <a:lnTo>
                    <a:pt x="1040" y="224"/>
                  </a:lnTo>
                  <a:lnTo>
                    <a:pt x="1024" y="218"/>
                  </a:lnTo>
                  <a:lnTo>
                    <a:pt x="1024" y="218"/>
                  </a:lnTo>
                  <a:lnTo>
                    <a:pt x="1014" y="214"/>
                  </a:lnTo>
                  <a:lnTo>
                    <a:pt x="1000" y="208"/>
                  </a:lnTo>
                  <a:lnTo>
                    <a:pt x="972" y="190"/>
                  </a:lnTo>
                  <a:lnTo>
                    <a:pt x="940" y="166"/>
                  </a:lnTo>
                  <a:lnTo>
                    <a:pt x="908" y="138"/>
                  </a:lnTo>
                  <a:lnTo>
                    <a:pt x="878" y="108"/>
                  </a:lnTo>
                  <a:lnTo>
                    <a:pt x="852" y="76"/>
                  </a:lnTo>
                  <a:lnTo>
                    <a:pt x="832" y="46"/>
                  </a:lnTo>
                  <a:lnTo>
                    <a:pt x="824" y="32"/>
                  </a:lnTo>
                  <a:lnTo>
                    <a:pt x="818" y="18"/>
                  </a:lnTo>
                  <a:lnTo>
                    <a:pt x="818" y="18"/>
                  </a:lnTo>
                  <a:lnTo>
                    <a:pt x="812" y="8"/>
                  </a:lnTo>
                  <a:lnTo>
                    <a:pt x="804" y="2"/>
                  </a:lnTo>
                  <a:lnTo>
                    <a:pt x="804" y="2"/>
                  </a:lnTo>
                  <a:lnTo>
                    <a:pt x="794" y="0"/>
                  </a:lnTo>
                  <a:lnTo>
                    <a:pt x="784" y="2"/>
                  </a:lnTo>
                  <a:lnTo>
                    <a:pt x="784" y="2"/>
                  </a:lnTo>
                  <a:close/>
                  <a:moveTo>
                    <a:pt x="816" y="262"/>
                  </a:moveTo>
                  <a:lnTo>
                    <a:pt x="816" y="262"/>
                  </a:lnTo>
                  <a:lnTo>
                    <a:pt x="818" y="256"/>
                  </a:lnTo>
                  <a:lnTo>
                    <a:pt x="820" y="250"/>
                  </a:lnTo>
                  <a:lnTo>
                    <a:pt x="820" y="250"/>
                  </a:lnTo>
                  <a:lnTo>
                    <a:pt x="818" y="246"/>
                  </a:lnTo>
                  <a:lnTo>
                    <a:pt x="816" y="240"/>
                  </a:lnTo>
                  <a:lnTo>
                    <a:pt x="814" y="234"/>
                  </a:lnTo>
                  <a:lnTo>
                    <a:pt x="810" y="230"/>
                  </a:lnTo>
                  <a:lnTo>
                    <a:pt x="810" y="230"/>
                  </a:lnTo>
                  <a:lnTo>
                    <a:pt x="804" y="226"/>
                  </a:lnTo>
                  <a:lnTo>
                    <a:pt x="792" y="210"/>
                  </a:lnTo>
                  <a:lnTo>
                    <a:pt x="784" y="196"/>
                  </a:lnTo>
                  <a:lnTo>
                    <a:pt x="776" y="180"/>
                  </a:lnTo>
                  <a:lnTo>
                    <a:pt x="768" y="160"/>
                  </a:lnTo>
                  <a:lnTo>
                    <a:pt x="760" y="136"/>
                  </a:lnTo>
                  <a:lnTo>
                    <a:pt x="760" y="136"/>
                  </a:lnTo>
                  <a:lnTo>
                    <a:pt x="758" y="124"/>
                  </a:lnTo>
                  <a:lnTo>
                    <a:pt x="756" y="114"/>
                  </a:lnTo>
                  <a:lnTo>
                    <a:pt x="756" y="114"/>
                  </a:lnTo>
                  <a:lnTo>
                    <a:pt x="758" y="104"/>
                  </a:lnTo>
                  <a:lnTo>
                    <a:pt x="760" y="96"/>
                  </a:lnTo>
                  <a:lnTo>
                    <a:pt x="766" y="82"/>
                  </a:lnTo>
                  <a:lnTo>
                    <a:pt x="774" y="70"/>
                  </a:lnTo>
                  <a:lnTo>
                    <a:pt x="784" y="62"/>
                  </a:lnTo>
                  <a:lnTo>
                    <a:pt x="784" y="62"/>
                  </a:lnTo>
                  <a:lnTo>
                    <a:pt x="804" y="94"/>
                  </a:lnTo>
                  <a:lnTo>
                    <a:pt x="828" y="126"/>
                  </a:lnTo>
                  <a:lnTo>
                    <a:pt x="856" y="158"/>
                  </a:lnTo>
                  <a:lnTo>
                    <a:pt x="888" y="188"/>
                  </a:lnTo>
                  <a:lnTo>
                    <a:pt x="920" y="216"/>
                  </a:lnTo>
                  <a:lnTo>
                    <a:pt x="952" y="240"/>
                  </a:lnTo>
                  <a:lnTo>
                    <a:pt x="984" y="258"/>
                  </a:lnTo>
                  <a:lnTo>
                    <a:pt x="998" y="264"/>
                  </a:lnTo>
                  <a:lnTo>
                    <a:pt x="1012" y="268"/>
                  </a:lnTo>
                  <a:lnTo>
                    <a:pt x="1012" y="268"/>
                  </a:lnTo>
                  <a:lnTo>
                    <a:pt x="1020" y="272"/>
                  </a:lnTo>
                  <a:lnTo>
                    <a:pt x="1030" y="280"/>
                  </a:lnTo>
                  <a:lnTo>
                    <a:pt x="1042" y="292"/>
                  </a:lnTo>
                  <a:lnTo>
                    <a:pt x="1054" y="308"/>
                  </a:lnTo>
                  <a:lnTo>
                    <a:pt x="1066" y="326"/>
                  </a:lnTo>
                  <a:lnTo>
                    <a:pt x="1080" y="348"/>
                  </a:lnTo>
                  <a:lnTo>
                    <a:pt x="1092" y="372"/>
                  </a:lnTo>
                  <a:lnTo>
                    <a:pt x="1106" y="400"/>
                  </a:lnTo>
                  <a:lnTo>
                    <a:pt x="1118" y="430"/>
                  </a:lnTo>
                  <a:lnTo>
                    <a:pt x="1130" y="460"/>
                  </a:lnTo>
                  <a:lnTo>
                    <a:pt x="1140" y="494"/>
                  </a:lnTo>
                  <a:lnTo>
                    <a:pt x="1150" y="528"/>
                  </a:lnTo>
                  <a:lnTo>
                    <a:pt x="1158" y="564"/>
                  </a:lnTo>
                  <a:lnTo>
                    <a:pt x="1164" y="600"/>
                  </a:lnTo>
                  <a:lnTo>
                    <a:pt x="1166" y="638"/>
                  </a:lnTo>
                  <a:lnTo>
                    <a:pt x="1168" y="676"/>
                  </a:lnTo>
                  <a:lnTo>
                    <a:pt x="1168" y="676"/>
                  </a:lnTo>
                  <a:lnTo>
                    <a:pt x="1166" y="716"/>
                  </a:lnTo>
                  <a:lnTo>
                    <a:pt x="1166" y="716"/>
                  </a:lnTo>
                  <a:lnTo>
                    <a:pt x="1164" y="750"/>
                  </a:lnTo>
                  <a:lnTo>
                    <a:pt x="1164" y="790"/>
                  </a:lnTo>
                  <a:lnTo>
                    <a:pt x="1164" y="790"/>
                  </a:lnTo>
                  <a:lnTo>
                    <a:pt x="1166" y="880"/>
                  </a:lnTo>
                  <a:lnTo>
                    <a:pt x="1174" y="978"/>
                  </a:lnTo>
                  <a:lnTo>
                    <a:pt x="1182" y="1076"/>
                  </a:lnTo>
                  <a:lnTo>
                    <a:pt x="1194" y="1168"/>
                  </a:lnTo>
                  <a:lnTo>
                    <a:pt x="1214" y="1320"/>
                  </a:lnTo>
                  <a:lnTo>
                    <a:pt x="1226" y="1388"/>
                  </a:lnTo>
                  <a:lnTo>
                    <a:pt x="1226" y="1388"/>
                  </a:lnTo>
                  <a:lnTo>
                    <a:pt x="1228" y="1396"/>
                  </a:lnTo>
                  <a:lnTo>
                    <a:pt x="1234" y="1404"/>
                  </a:lnTo>
                  <a:lnTo>
                    <a:pt x="1242" y="1408"/>
                  </a:lnTo>
                  <a:lnTo>
                    <a:pt x="1252" y="1410"/>
                  </a:lnTo>
                  <a:lnTo>
                    <a:pt x="1252" y="1410"/>
                  </a:lnTo>
                  <a:lnTo>
                    <a:pt x="1340" y="1410"/>
                  </a:lnTo>
                  <a:lnTo>
                    <a:pt x="1340" y="1410"/>
                  </a:lnTo>
                  <a:lnTo>
                    <a:pt x="1350" y="1414"/>
                  </a:lnTo>
                  <a:lnTo>
                    <a:pt x="1366" y="1420"/>
                  </a:lnTo>
                  <a:lnTo>
                    <a:pt x="1386" y="1430"/>
                  </a:lnTo>
                  <a:lnTo>
                    <a:pt x="1410" y="1446"/>
                  </a:lnTo>
                  <a:lnTo>
                    <a:pt x="1422" y="1456"/>
                  </a:lnTo>
                  <a:lnTo>
                    <a:pt x="1432" y="1466"/>
                  </a:lnTo>
                  <a:lnTo>
                    <a:pt x="1444" y="1480"/>
                  </a:lnTo>
                  <a:lnTo>
                    <a:pt x="1454" y="1494"/>
                  </a:lnTo>
                  <a:lnTo>
                    <a:pt x="1462" y="1510"/>
                  </a:lnTo>
                  <a:lnTo>
                    <a:pt x="1470" y="1528"/>
                  </a:lnTo>
                  <a:lnTo>
                    <a:pt x="1476" y="1546"/>
                  </a:lnTo>
                  <a:lnTo>
                    <a:pt x="1480" y="1568"/>
                  </a:lnTo>
                  <a:lnTo>
                    <a:pt x="1480" y="1568"/>
                  </a:lnTo>
                  <a:lnTo>
                    <a:pt x="1482" y="1594"/>
                  </a:lnTo>
                  <a:lnTo>
                    <a:pt x="1482" y="1624"/>
                  </a:lnTo>
                  <a:lnTo>
                    <a:pt x="1482" y="1624"/>
                  </a:lnTo>
                  <a:lnTo>
                    <a:pt x="1482" y="1662"/>
                  </a:lnTo>
                  <a:lnTo>
                    <a:pt x="1480" y="1704"/>
                  </a:lnTo>
                  <a:lnTo>
                    <a:pt x="1472" y="1798"/>
                  </a:lnTo>
                  <a:lnTo>
                    <a:pt x="1458" y="1900"/>
                  </a:lnTo>
                  <a:lnTo>
                    <a:pt x="1442" y="2004"/>
                  </a:lnTo>
                  <a:lnTo>
                    <a:pt x="1422" y="2104"/>
                  </a:lnTo>
                  <a:lnTo>
                    <a:pt x="1412" y="2150"/>
                  </a:lnTo>
                  <a:lnTo>
                    <a:pt x="1402" y="2192"/>
                  </a:lnTo>
                  <a:lnTo>
                    <a:pt x="1390" y="2230"/>
                  </a:lnTo>
                  <a:lnTo>
                    <a:pt x="1380" y="2264"/>
                  </a:lnTo>
                  <a:lnTo>
                    <a:pt x="1368" y="2290"/>
                  </a:lnTo>
                  <a:lnTo>
                    <a:pt x="1358" y="2310"/>
                  </a:lnTo>
                  <a:lnTo>
                    <a:pt x="1358" y="2310"/>
                  </a:lnTo>
                  <a:lnTo>
                    <a:pt x="1344" y="2330"/>
                  </a:lnTo>
                  <a:lnTo>
                    <a:pt x="1328" y="2348"/>
                  </a:lnTo>
                  <a:lnTo>
                    <a:pt x="1310" y="2368"/>
                  </a:lnTo>
                  <a:lnTo>
                    <a:pt x="1290" y="2386"/>
                  </a:lnTo>
                  <a:lnTo>
                    <a:pt x="1270" y="2404"/>
                  </a:lnTo>
                  <a:lnTo>
                    <a:pt x="1248" y="2422"/>
                  </a:lnTo>
                  <a:lnTo>
                    <a:pt x="1224" y="2438"/>
                  </a:lnTo>
                  <a:lnTo>
                    <a:pt x="1200" y="2454"/>
                  </a:lnTo>
                  <a:lnTo>
                    <a:pt x="1176" y="2468"/>
                  </a:lnTo>
                  <a:lnTo>
                    <a:pt x="1150" y="2480"/>
                  </a:lnTo>
                  <a:lnTo>
                    <a:pt x="1126" y="2490"/>
                  </a:lnTo>
                  <a:lnTo>
                    <a:pt x="1100" y="2498"/>
                  </a:lnTo>
                  <a:lnTo>
                    <a:pt x="1076" y="2502"/>
                  </a:lnTo>
                  <a:lnTo>
                    <a:pt x="1052" y="2504"/>
                  </a:lnTo>
                  <a:lnTo>
                    <a:pt x="1028" y="2504"/>
                  </a:lnTo>
                  <a:lnTo>
                    <a:pt x="1006" y="2498"/>
                  </a:lnTo>
                  <a:lnTo>
                    <a:pt x="1006" y="2498"/>
                  </a:lnTo>
                  <a:lnTo>
                    <a:pt x="998" y="2496"/>
                  </a:lnTo>
                  <a:lnTo>
                    <a:pt x="990" y="2492"/>
                  </a:lnTo>
                  <a:lnTo>
                    <a:pt x="974" y="2480"/>
                  </a:lnTo>
                  <a:lnTo>
                    <a:pt x="960" y="2462"/>
                  </a:lnTo>
                  <a:lnTo>
                    <a:pt x="946" y="2440"/>
                  </a:lnTo>
                  <a:lnTo>
                    <a:pt x="934" y="2414"/>
                  </a:lnTo>
                  <a:lnTo>
                    <a:pt x="922" y="2384"/>
                  </a:lnTo>
                  <a:lnTo>
                    <a:pt x="912" y="2350"/>
                  </a:lnTo>
                  <a:lnTo>
                    <a:pt x="902" y="2312"/>
                  </a:lnTo>
                  <a:lnTo>
                    <a:pt x="892" y="2268"/>
                  </a:lnTo>
                  <a:lnTo>
                    <a:pt x="884" y="2222"/>
                  </a:lnTo>
                  <a:lnTo>
                    <a:pt x="878" y="2172"/>
                  </a:lnTo>
                  <a:lnTo>
                    <a:pt x="872" y="2118"/>
                  </a:lnTo>
                  <a:lnTo>
                    <a:pt x="868" y="2062"/>
                  </a:lnTo>
                  <a:lnTo>
                    <a:pt x="866" y="2002"/>
                  </a:lnTo>
                  <a:lnTo>
                    <a:pt x="864" y="1938"/>
                  </a:lnTo>
                  <a:lnTo>
                    <a:pt x="862" y="1872"/>
                  </a:lnTo>
                  <a:lnTo>
                    <a:pt x="876" y="1574"/>
                  </a:lnTo>
                  <a:lnTo>
                    <a:pt x="876" y="1574"/>
                  </a:lnTo>
                  <a:lnTo>
                    <a:pt x="886" y="1396"/>
                  </a:lnTo>
                  <a:lnTo>
                    <a:pt x="888" y="1310"/>
                  </a:lnTo>
                  <a:lnTo>
                    <a:pt x="890" y="1226"/>
                  </a:lnTo>
                  <a:lnTo>
                    <a:pt x="890" y="1226"/>
                  </a:lnTo>
                  <a:lnTo>
                    <a:pt x="890" y="1176"/>
                  </a:lnTo>
                  <a:lnTo>
                    <a:pt x="888" y="1130"/>
                  </a:lnTo>
                  <a:lnTo>
                    <a:pt x="884" y="1086"/>
                  </a:lnTo>
                  <a:lnTo>
                    <a:pt x="880" y="1044"/>
                  </a:lnTo>
                  <a:lnTo>
                    <a:pt x="872" y="1006"/>
                  </a:lnTo>
                  <a:lnTo>
                    <a:pt x="864" y="972"/>
                  </a:lnTo>
                  <a:lnTo>
                    <a:pt x="854" y="942"/>
                  </a:lnTo>
                  <a:lnTo>
                    <a:pt x="840" y="918"/>
                  </a:lnTo>
                  <a:lnTo>
                    <a:pt x="840" y="918"/>
                  </a:lnTo>
                  <a:lnTo>
                    <a:pt x="808" y="868"/>
                  </a:lnTo>
                  <a:lnTo>
                    <a:pt x="776" y="824"/>
                  </a:lnTo>
                  <a:lnTo>
                    <a:pt x="746" y="788"/>
                  </a:lnTo>
                  <a:lnTo>
                    <a:pt x="720" y="760"/>
                  </a:lnTo>
                  <a:lnTo>
                    <a:pt x="696" y="738"/>
                  </a:lnTo>
                  <a:lnTo>
                    <a:pt x="680" y="720"/>
                  </a:lnTo>
                  <a:lnTo>
                    <a:pt x="660" y="706"/>
                  </a:lnTo>
                  <a:lnTo>
                    <a:pt x="660" y="706"/>
                  </a:lnTo>
                  <a:lnTo>
                    <a:pt x="642" y="690"/>
                  </a:lnTo>
                  <a:lnTo>
                    <a:pt x="620" y="676"/>
                  </a:lnTo>
                  <a:lnTo>
                    <a:pt x="596" y="664"/>
                  </a:lnTo>
                  <a:lnTo>
                    <a:pt x="570" y="650"/>
                  </a:lnTo>
                  <a:lnTo>
                    <a:pt x="512" y="626"/>
                  </a:lnTo>
                  <a:lnTo>
                    <a:pt x="450" y="604"/>
                  </a:lnTo>
                  <a:lnTo>
                    <a:pt x="384" y="586"/>
                  </a:lnTo>
                  <a:lnTo>
                    <a:pt x="320" y="568"/>
                  </a:lnTo>
                  <a:lnTo>
                    <a:pt x="198" y="540"/>
                  </a:lnTo>
                  <a:lnTo>
                    <a:pt x="198" y="540"/>
                  </a:lnTo>
                  <a:lnTo>
                    <a:pt x="130" y="522"/>
                  </a:lnTo>
                  <a:lnTo>
                    <a:pt x="104" y="516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2" y="506"/>
                  </a:lnTo>
                  <a:lnTo>
                    <a:pt x="82" y="504"/>
                  </a:lnTo>
                  <a:lnTo>
                    <a:pt x="82" y="504"/>
                  </a:lnTo>
                  <a:lnTo>
                    <a:pt x="82" y="498"/>
                  </a:lnTo>
                  <a:lnTo>
                    <a:pt x="82" y="498"/>
                  </a:lnTo>
                  <a:lnTo>
                    <a:pt x="82" y="488"/>
                  </a:lnTo>
                  <a:lnTo>
                    <a:pt x="86" y="478"/>
                  </a:lnTo>
                  <a:lnTo>
                    <a:pt x="92" y="468"/>
                  </a:lnTo>
                  <a:lnTo>
                    <a:pt x="98" y="458"/>
                  </a:lnTo>
                  <a:lnTo>
                    <a:pt x="98" y="458"/>
                  </a:lnTo>
                  <a:lnTo>
                    <a:pt x="102" y="450"/>
                  </a:lnTo>
                  <a:lnTo>
                    <a:pt x="104" y="442"/>
                  </a:lnTo>
                  <a:lnTo>
                    <a:pt x="104" y="442"/>
                  </a:lnTo>
                  <a:lnTo>
                    <a:pt x="102" y="434"/>
                  </a:lnTo>
                  <a:lnTo>
                    <a:pt x="102" y="434"/>
                  </a:lnTo>
                  <a:lnTo>
                    <a:pt x="98" y="428"/>
                  </a:lnTo>
                  <a:lnTo>
                    <a:pt x="94" y="422"/>
                  </a:lnTo>
                  <a:lnTo>
                    <a:pt x="88" y="420"/>
                  </a:lnTo>
                  <a:lnTo>
                    <a:pt x="82" y="416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68" y="410"/>
                  </a:lnTo>
                  <a:lnTo>
                    <a:pt x="64" y="406"/>
                  </a:lnTo>
                  <a:lnTo>
                    <a:pt x="60" y="402"/>
                  </a:lnTo>
                  <a:lnTo>
                    <a:pt x="56" y="396"/>
                  </a:lnTo>
                  <a:lnTo>
                    <a:pt x="52" y="388"/>
                  </a:lnTo>
                  <a:lnTo>
                    <a:pt x="52" y="388"/>
                  </a:lnTo>
                  <a:lnTo>
                    <a:pt x="52" y="384"/>
                  </a:lnTo>
                  <a:lnTo>
                    <a:pt x="52" y="384"/>
                  </a:lnTo>
                  <a:lnTo>
                    <a:pt x="54" y="378"/>
                  </a:lnTo>
                  <a:lnTo>
                    <a:pt x="56" y="372"/>
                  </a:lnTo>
                  <a:lnTo>
                    <a:pt x="66" y="358"/>
                  </a:lnTo>
                  <a:lnTo>
                    <a:pt x="80" y="348"/>
                  </a:lnTo>
                  <a:lnTo>
                    <a:pt x="90" y="340"/>
                  </a:lnTo>
                  <a:lnTo>
                    <a:pt x="90" y="340"/>
                  </a:lnTo>
                  <a:lnTo>
                    <a:pt x="96" y="334"/>
                  </a:lnTo>
                  <a:lnTo>
                    <a:pt x="102" y="328"/>
                  </a:lnTo>
                  <a:lnTo>
                    <a:pt x="102" y="328"/>
                  </a:lnTo>
                  <a:lnTo>
                    <a:pt x="106" y="320"/>
                  </a:lnTo>
                  <a:lnTo>
                    <a:pt x="112" y="312"/>
                  </a:lnTo>
                  <a:lnTo>
                    <a:pt x="120" y="308"/>
                  </a:lnTo>
                  <a:lnTo>
                    <a:pt x="128" y="302"/>
                  </a:lnTo>
                  <a:lnTo>
                    <a:pt x="144" y="296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64" y="292"/>
                  </a:lnTo>
                  <a:lnTo>
                    <a:pt x="170" y="288"/>
                  </a:lnTo>
                  <a:lnTo>
                    <a:pt x="174" y="282"/>
                  </a:lnTo>
                  <a:lnTo>
                    <a:pt x="178" y="274"/>
                  </a:lnTo>
                  <a:lnTo>
                    <a:pt x="178" y="274"/>
                  </a:lnTo>
                  <a:lnTo>
                    <a:pt x="180" y="268"/>
                  </a:lnTo>
                  <a:lnTo>
                    <a:pt x="184" y="262"/>
                  </a:lnTo>
                  <a:lnTo>
                    <a:pt x="196" y="250"/>
                  </a:lnTo>
                  <a:lnTo>
                    <a:pt x="208" y="240"/>
                  </a:lnTo>
                  <a:lnTo>
                    <a:pt x="222" y="232"/>
                  </a:lnTo>
                  <a:lnTo>
                    <a:pt x="222" y="232"/>
                  </a:lnTo>
                  <a:lnTo>
                    <a:pt x="236" y="226"/>
                  </a:lnTo>
                  <a:lnTo>
                    <a:pt x="254" y="220"/>
                  </a:lnTo>
                  <a:lnTo>
                    <a:pt x="278" y="216"/>
                  </a:lnTo>
                  <a:lnTo>
                    <a:pt x="306" y="216"/>
                  </a:lnTo>
                  <a:lnTo>
                    <a:pt x="336" y="214"/>
                  </a:lnTo>
                  <a:lnTo>
                    <a:pt x="372" y="216"/>
                  </a:lnTo>
                  <a:lnTo>
                    <a:pt x="450" y="222"/>
                  </a:lnTo>
                  <a:lnTo>
                    <a:pt x="534" y="232"/>
                  </a:lnTo>
                  <a:lnTo>
                    <a:pt x="622" y="246"/>
                  </a:lnTo>
                  <a:lnTo>
                    <a:pt x="708" y="260"/>
                  </a:lnTo>
                  <a:lnTo>
                    <a:pt x="788" y="276"/>
                  </a:lnTo>
                  <a:lnTo>
                    <a:pt x="788" y="276"/>
                  </a:lnTo>
                  <a:lnTo>
                    <a:pt x="796" y="276"/>
                  </a:lnTo>
                  <a:lnTo>
                    <a:pt x="804" y="274"/>
                  </a:lnTo>
                  <a:lnTo>
                    <a:pt x="812" y="270"/>
                  </a:lnTo>
                  <a:lnTo>
                    <a:pt x="816" y="262"/>
                  </a:lnTo>
                  <a:lnTo>
                    <a:pt x="816" y="262"/>
                  </a:lnTo>
                  <a:close/>
                  <a:moveTo>
                    <a:pt x="660" y="706"/>
                  </a:moveTo>
                  <a:lnTo>
                    <a:pt x="660" y="706"/>
                  </a:lnTo>
                  <a:lnTo>
                    <a:pt x="660" y="706"/>
                  </a:lnTo>
                  <a:lnTo>
                    <a:pt x="660" y="706"/>
                  </a:lnTo>
                  <a:lnTo>
                    <a:pt x="658" y="704"/>
                  </a:lnTo>
                  <a:lnTo>
                    <a:pt x="658" y="704"/>
                  </a:lnTo>
                  <a:lnTo>
                    <a:pt x="660" y="706"/>
                  </a:lnTo>
                  <a:lnTo>
                    <a:pt x="660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92"/>
            <p:cNvSpPr/>
            <p:nvPr/>
          </p:nvSpPr>
          <p:spPr>
            <a:xfrm>
              <a:off x="36283680" y="5023080"/>
              <a:ext cx="765000" cy="19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82" h="126">
                  <a:moveTo>
                    <a:pt x="0" y="0"/>
                  </a:moveTo>
                  <a:lnTo>
                    <a:pt x="0" y="0"/>
                  </a:lnTo>
                  <a:lnTo>
                    <a:pt x="58" y="8"/>
                  </a:lnTo>
                  <a:lnTo>
                    <a:pt x="122" y="18"/>
                  </a:lnTo>
                  <a:lnTo>
                    <a:pt x="196" y="32"/>
                  </a:lnTo>
                  <a:lnTo>
                    <a:pt x="278" y="50"/>
                  </a:lnTo>
                  <a:lnTo>
                    <a:pt x="318" y="60"/>
                  </a:lnTo>
                  <a:lnTo>
                    <a:pt x="358" y="70"/>
                  </a:lnTo>
                  <a:lnTo>
                    <a:pt x="394" y="82"/>
                  </a:lnTo>
                  <a:lnTo>
                    <a:pt x="428" y="96"/>
                  </a:lnTo>
                  <a:lnTo>
                    <a:pt x="458" y="110"/>
                  </a:lnTo>
                  <a:lnTo>
                    <a:pt x="482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93"/>
            <p:cNvSpPr/>
            <p:nvPr/>
          </p:nvSpPr>
          <p:spPr>
            <a:xfrm>
              <a:off x="36283680" y="5023080"/>
              <a:ext cx="765000" cy="19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82" h="126">
                  <a:moveTo>
                    <a:pt x="0" y="0"/>
                  </a:moveTo>
                  <a:lnTo>
                    <a:pt x="0" y="0"/>
                  </a:lnTo>
                  <a:lnTo>
                    <a:pt x="58" y="8"/>
                  </a:lnTo>
                  <a:lnTo>
                    <a:pt x="122" y="18"/>
                  </a:lnTo>
                  <a:lnTo>
                    <a:pt x="196" y="32"/>
                  </a:lnTo>
                  <a:lnTo>
                    <a:pt x="278" y="50"/>
                  </a:lnTo>
                  <a:lnTo>
                    <a:pt x="318" y="60"/>
                  </a:lnTo>
                  <a:lnTo>
                    <a:pt x="358" y="70"/>
                  </a:lnTo>
                  <a:lnTo>
                    <a:pt x="394" y="82"/>
                  </a:lnTo>
                  <a:lnTo>
                    <a:pt x="428" y="96"/>
                  </a:lnTo>
                  <a:lnTo>
                    <a:pt x="458" y="110"/>
                  </a:lnTo>
                  <a:lnTo>
                    <a:pt x="482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4"/>
            <p:cNvSpPr/>
            <p:nvPr/>
          </p:nvSpPr>
          <p:spPr>
            <a:xfrm>
              <a:off x="36239400" y="4981680"/>
              <a:ext cx="850680" cy="28224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36" h="178">
                  <a:moveTo>
                    <a:pt x="0" y="24"/>
                  </a:moveTo>
                  <a:lnTo>
                    <a:pt x="0" y="24"/>
                  </a:lnTo>
                  <a:lnTo>
                    <a:pt x="2" y="34"/>
                  </a:lnTo>
                  <a:lnTo>
                    <a:pt x="6" y="42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84" y="60"/>
                  </a:lnTo>
                  <a:lnTo>
                    <a:pt x="146" y="70"/>
                  </a:lnTo>
                  <a:lnTo>
                    <a:pt x="220" y="84"/>
                  </a:lnTo>
                  <a:lnTo>
                    <a:pt x="298" y="100"/>
                  </a:lnTo>
                  <a:lnTo>
                    <a:pt x="338" y="110"/>
                  </a:lnTo>
                  <a:lnTo>
                    <a:pt x="376" y="120"/>
                  </a:lnTo>
                  <a:lnTo>
                    <a:pt x="410" y="132"/>
                  </a:lnTo>
                  <a:lnTo>
                    <a:pt x="444" y="146"/>
                  </a:lnTo>
                  <a:lnTo>
                    <a:pt x="472" y="158"/>
                  </a:lnTo>
                  <a:lnTo>
                    <a:pt x="494" y="172"/>
                  </a:lnTo>
                  <a:lnTo>
                    <a:pt x="494" y="172"/>
                  </a:lnTo>
                  <a:lnTo>
                    <a:pt x="504" y="178"/>
                  </a:lnTo>
                  <a:lnTo>
                    <a:pt x="514" y="178"/>
                  </a:lnTo>
                  <a:lnTo>
                    <a:pt x="524" y="174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6" y="158"/>
                  </a:lnTo>
                  <a:lnTo>
                    <a:pt x="536" y="148"/>
                  </a:lnTo>
                  <a:lnTo>
                    <a:pt x="532" y="138"/>
                  </a:lnTo>
                  <a:lnTo>
                    <a:pt x="526" y="130"/>
                  </a:lnTo>
                  <a:lnTo>
                    <a:pt x="526" y="130"/>
                  </a:lnTo>
                  <a:lnTo>
                    <a:pt x="500" y="114"/>
                  </a:lnTo>
                  <a:lnTo>
                    <a:pt x="470" y="100"/>
                  </a:lnTo>
                  <a:lnTo>
                    <a:pt x="436" y="86"/>
                  </a:lnTo>
                  <a:lnTo>
                    <a:pt x="400" y="74"/>
                  </a:lnTo>
                  <a:lnTo>
                    <a:pt x="360" y="62"/>
                  </a:lnTo>
                  <a:lnTo>
                    <a:pt x="320" y="52"/>
                  </a:lnTo>
                  <a:lnTo>
                    <a:pt x="238" y="34"/>
                  </a:lnTo>
                  <a:lnTo>
                    <a:pt x="162" y="20"/>
                  </a:lnTo>
                  <a:lnTo>
                    <a:pt x="96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95"/>
            <p:cNvSpPr/>
            <p:nvPr/>
          </p:nvSpPr>
          <p:spPr>
            <a:xfrm>
              <a:off x="36283680" y="4826160"/>
              <a:ext cx="831600" cy="2379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24" h="150">
                  <a:moveTo>
                    <a:pt x="0" y="0"/>
                  </a:moveTo>
                  <a:lnTo>
                    <a:pt x="0" y="0"/>
                  </a:lnTo>
                  <a:lnTo>
                    <a:pt x="58" y="6"/>
                  </a:lnTo>
                  <a:lnTo>
                    <a:pt x="122" y="16"/>
                  </a:lnTo>
                  <a:lnTo>
                    <a:pt x="198" y="30"/>
                  </a:lnTo>
                  <a:lnTo>
                    <a:pt x="242" y="40"/>
                  </a:lnTo>
                  <a:lnTo>
                    <a:pt x="284" y="50"/>
                  </a:lnTo>
                  <a:lnTo>
                    <a:pt x="328" y="64"/>
                  </a:lnTo>
                  <a:lnTo>
                    <a:pt x="372" y="76"/>
                  </a:lnTo>
                  <a:lnTo>
                    <a:pt x="414" y="92"/>
                  </a:lnTo>
                  <a:lnTo>
                    <a:pt x="454" y="110"/>
                  </a:lnTo>
                  <a:lnTo>
                    <a:pt x="490" y="128"/>
                  </a:lnTo>
                  <a:lnTo>
                    <a:pt x="524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96"/>
            <p:cNvSpPr/>
            <p:nvPr/>
          </p:nvSpPr>
          <p:spPr>
            <a:xfrm>
              <a:off x="36283680" y="4826160"/>
              <a:ext cx="831600" cy="2379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24" h="150">
                  <a:moveTo>
                    <a:pt x="0" y="0"/>
                  </a:moveTo>
                  <a:lnTo>
                    <a:pt x="0" y="0"/>
                  </a:lnTo>
                  <a:lnTo>
                    <a:pt x="58" y="6"/>
                  </a:lnTo>
                  <a:lnTo>
                    <a:pt x="122" y="16"/>
                  </a:lnTo>
                  <a:lnTo>
                    <a:pt x="198" y="30"/>
                  </a:lnTo>
                  <a:lnTo>
                    <a:pt x="242" y="40"/>
                  </a:lnTo>
                  <a:lnTo>
                    <a:pt x="284" y="50"/>
                  </a:lnTo>
                  <a:lnTo>
                    <a:pt x="328" y="64"/>
                  </a:lnTo>
                  <a:lnTo>
                    <a:pt x="372" y="76"/>
                  </a:lnTo>
                  <a:lnTo>
                    <a:pt x="414" y="92"/>
                  </a:lnTo>
                  <a:lnTo>
                    <a:pt x="454" y="110"/>
                  </a:lnTo>
                  <a:lnTo>
                    <a:pt x="490" y="128"/>
                  </a:lnTo>
                  <a:lnTo>
                    <a:pt x="524" y="1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97"/>
            <p:cNvSpPr/>
            <p:nvPr/>
          </p:nvSpPr>
          <p:spPr>
            <a:xfrm>
              <a:off x="36239400" y="4784760"/>
              <a:ext cx="917280" cy="3204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78" h="202">
                  <a:moveTo>
                    <a:pt x="0" y="24"/>
                  </a:moveTo>
                  <a:lnTo>
                    <a:pt x="0" y="24"/>
                  </a:lnTo>
                  <a:lnTo>
                    <a:pt x="2" y="34"/>
                  </a:lnTo>
                  <a:lnTo>
                    <a:pt x="6" y="42"/>
                  </a:lnTo>
                  <a:lnTo>
                    <a:pt x="14" y="48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84" y="58"/>
                  </a:lnTo>
                  <a:lnTo>
                    <a:pt x="146" y="68"/>
                  </a:lnTo>
                  <a:lnTo>
                    <a:pt x="222" y="82"/>
                  </a:lnTo>
                  <a:lnTo>
                    <a:pt x="306" y="102"/>
                  </a:lnTo>
                  <a:lnTo>
                    <a:pt x="348" y="114"/>
                  </a:lnTo>
                  <a:lnTo>
                    <a:pt x="390" y="128"/>
                  </a:lnTo>
                  <a:lnTo>
                    <a:pt x="430" y="142"/>
                  </a:lnTo>
                  <a:lnTo>
                    <a:pt x="470" y="158"/>
                  </a:lnTo>
                  <a:lnTo>
                    <a:pt x="504" y="178"/>
                  </a:lnTo>
                  <a:lnTo>
                    <a:pt x="536" y="196"/>
                  </a:lnTo>
                  <a:lnTo>
                    <a:pt x="536" y="196"/>
                  </a:lnTo>
                  <a:lnTo>
                    <a:pt x="546" y="202"/>
                  </a:lnTo>
                  <a:lnTo>
                    <a:pt x="556" y="202"/>
                  </a:lnTo>
                  <a:lnTo>
                    <a:pt x="566" y="198"/>
                  </a:lnTo>
                  <a:lnTo>
                    <a:pt x="574" y="190"/>
                  </a:lnTo>
                  <a:lnTo>
                    <a:pt x="574" y="190"/>
                  </a:lnTo>
                  <a:lnTo>
                    <a:pt x="578" y="180"/>
                  </a:lnTo>
                  <a:lnTo>
                    <a:pt x="578" y="170"/>
                  </a:lnTo>
                  <a:lnTo>
                    <a:pt x="574" y="162"/>
                  </a:lnTo>
                  <a:lnTo>
                    <a:pt x="566" y="154"/>
                  </a:lnTo>
                  <a:lnTo>
                    <a:pt x="566" y="154"/>
                  </a:lnTo>
                  <a:lnTo>
                    <a:pt x="532" y="132"/>
                  </a:lnTo>
                  <a:lnTo>
                    <a:pt x="496" y="114"/>
                  </a:lnTo>
                  <a:lnTo>
                    <a:pt x="456" y="96"/>
                  </a:lnTo>
                  <a:lnTo>
                    <a:pt x="412" y="80"/>
                  </a:lnTo>
                  <a:lnTo>
                    <a:pt x="370" y="66"/>
                  </a:lnTo>
                  <a:lnTo>
                    <a:pt x="326" y="52"/>
                  </a:lnTo>
                  <a:lnTo>
                    <a:pt x="282" y="42"/>
                  </a:lnTo>
                  <a:lnTo>
                    <a:pt x="240" y="32"/>
                  </a:lnTo>
                  <a:lnTo>
                    <a:pt x="162" y="18"/>
                  </a:lnTo>
                  <a:lnTo>
                    <a:pt x="96" y="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98"/>
            <p:cNvSpPr/>
            <p:nvPr/>
          </p:nvSpPr>
          <p:spPr>
            <a:xfrm>
              <a:off x="36401400" y="4746600"/>
              <a:ext cx="752400" cy="10476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74" h="66">
                  <a:moveTo>
                    <a:pt x="0" y="0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110" y="0"/>
                  </a:lnTo>
                  <a:lnTo>
                    <a:pt x="182" y="4"/>
                  </a:lnTo>
                  <a:lnTo>
                    <a:pt x="258" y="12"/>
                  </a:lnTo>
                  <a:lnTo>
                    <a:pt x="298" y="18"/>
                  </a:lnTo>
                  <a:lnTo>
                    <a:pt x="338" y="24"/>
                  </a:lnTo>
                  <a:lnTo>
                    <a:pt x="376" y="32"/>
                  </a:lnTo>
                  <a:lnTo>
                    <a:pt x="412" y="42"/>
                  </a:lnTo>
                  <a:lnTo>
                    <a:pt x="444" y="54"/>
                  </a:lnTo>
                  <a:lnTo>
                    <a:pt x="474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9"/>
            <p:cNvSpPr/>
            <p:nvPr/>
          </p:nvSpPr>
          <p:spPr>
            <a:xfrm>
              <a:off x="36401400" y="4746600"/>
              <a:ext cx="752400" cy="10476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74" h="66">
                  <a:moveTo>
                    <a:pt x="0" y="0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110" y="0"/>
                  </a:lnTo>
                  <a:lnTo>
                    <a:pt x="182" y="4"/>
                  </a:lnTo>
                  <a:lnTo>
                    <a:pt x="258" y="12"/>
                  </a:lnTo>
                  <a:lnTo>
                    <a:pt x="298" y="18"/>
                  </a:lnTo>
                  <a:lnTo>
                    <a:pt x="338" y="24"/>
                  </a:lnTo>
                  <a:lnTo>
                    <a:pt x="376" y="32"/>
                  </a:lnTo>
                  <a:lnTo>
                    <a:pt x="412" y="42"/>
                  </a:lnTo>
                  <a:lnTo>
                    <a:pt x="444" y="54"/>
                  </a:lnTo>
                  <a:lnTo>
                    <a:pt x="474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0"/>
            <p:cNvSpPr/>
            <p:nvPr/>
          </p:nvSpPr>
          <p:spPr>
            <a:xfrm>
              <a:off x="36360000" y="4705560"/>
              <a:ext cx="834840" cy="18720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26" h="118">
                  <a:moveTo>
                    <a:pt x="26" y="0"/>
                  </a:moveTo>
                  <a:lnTo>
                    <a:pt x="26" y="0"/>
                  </a:lnTo>
                  <a:lnTo>
                    <a:pt x="16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80" y="52"/>
                  </a:lnTo>
                  <a:lnTo>
                    <a:pt x="136" y="54"/>
                  </a:lnTo>
                  <a:lnTo>
                    <a:pt x="206" y="58"/>
                  </a:lnTo>
                  <a:lnTo>
                    <a:pt x="280" y="64"/>
                  </a:lnTo>
                  <a:lnTo>
                    <a:pt x="320" y="70"/>
                  </a:lnTo>
                  <a:lnTo>
                    <a:pt x="356" y="76"/>
                  </a:lnTo>
                  <a:lnTo>
                    <a:pt x="394" y="84"/>
                  </a:lnTo>
                  <a:lnTo>
                    <a:pt x="428" y="92"/>
                  </a:lnTo>
                  <a:lnTo>
                    <a:pt x="460" y="104"/>
                  </a:lnTo>
                  <a:lnTo>
                    <a:pt x="488" y="116"/>
                  </a:lnTo>
                  <a:lnTo>
                    <a:pt x="488" y="116"/>
                  </a:lnTo>
                  <a:lnTo>
                    <a:pt x="498" y="118"/>
                  </a:lnTo>
                  <a:lnTo>
                    <a:pt x="508" y="118"/>
                  </a:lnTo>
                  <a:lnTo>
                    <a:pt x="518" y="112"/>
                  </a:lnTo>
                  <a:lnTo>
                    <a:pt x="524" y="104"/>
                  </a:lnTo>
                  <a:lnTo>
                    <a:pt x="524" y="104"/>
                  </a:lnTo>
                  <a:lnTo>
                    <a:pt x="526" y="94"/>
                  </a:lnTo>
                  <a:lnTo>
                    <a:pt x="526" y="84"/>
                  </a:lnTo>
                  <a:lnTo>
                    <a:pt x="520" y="76"/>
                  </a:lnTo>
                  <a:lnTo>
                    <a:pt x="512" y="68"/>
                  </a:lnTo>
                  <a:lnTo>
                    <a:pt x="512" y="68"/>
                  </a:lnTo>
                  <a:lnTo>
                    <a:pt x="482" y="56"/>
                  </a:lnTo>
                  <a:lnTo>
                    <a:pt x="448" y="44"/>
                  </a:lnTo>
                  <a:lnTo>
                    <a:pt x="412" y="34"/>
                  </a:lnTo>
                  <a:lnTo>
                    <a:pt x="374" y="26"/>
                  </a:lnTo>
                  <a:lnTo>
                    <a:pt x="334" y="18"/>
                  </a:lnTo>
                  <a:lnTo>
                    <a:pt x="294" y="12"/>
                  </a:lnTo>
                  <a:lnTo>
                    <a:pt x="216" y="4"/>
                  </a:lnTo>
                  <a:lnTo>
                    <a:pt x="144" y="0"/>
                  </a:lnTo>
                  <a:lnTo>
                    <a:pt x="8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01"/>
            <p:cNvSpPr/>
            <p:nvPr/>
          </p:nvSpPr>
          <p:spPr>
            <a:xfrm>
              <a:off x="37369800" y="4676760"/>
              <a:ext cx="171360" cy="6379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08" h="402">
                  <a:moveTo>
                    <a:pt x="4" y="24"/>
                  </a:moveTo>
                  <a:lnTo>
                    <a:pt x="4" y="24"/>
                  </a:lnTo>
                  <a:lnTo>
                    <a:pt x="2" y="66"/>
                  </a:lnTo>
                  <a:lnTo>
                    <a:pt x="0" y="110"/>
                  </a:lnTo>
                  <a:lnTo>
                    <a:pt x="2" y="162"/>
                  </a:lnTo>
                  <a:lnTo>
                    <a:pt x="6" y="220"/>
                  </a:lnTo>
                  <a:lnTo>
                    <a:pt x="12" y="250"/>
                  </a:lnTo>
                  <a:lnTo>
                    <a:pt x="16" y="280"/>
                  </a:lnTo>
                  <a:lnTo>
                    <a:pt x="24" y="308"/>
                  </a:lnTo>
                  <a:lnTo>
                    <a:pt x="34" y="338"/>
                  </a:lnTo>
                  <a:lnTo>
                    <a:pt x="44" y="364"/>
                  </a:lnTo>
                  <a:lnTo>
                    <a:pt x="58" y="390"/>
                  </a:lnTo>
                  <a:lnTo>
                    <a:pt x="58" y="390"/>
                  </a:lnTo>
                  <a:lnTo>
                    <a:pt x="66" y="398"/>
                  </a:lnTo>
                  <a:lnTo>
                    <a:pt x="74" y="402"/>
                  </a:lnTo>
                  <a:lnTo>
                    <a:pt x="84" y="402"/>
                  </a:lnTo>
                  <a:lnTo>
                    <a:pt x="94" y="400"/>
                  </a:lnTo>
                  <a:lnTo>
                    <a:pt x="94" y="400"/>
                  </a:lnTo>
                  <a:lnTo>
                    <a:pt x="102" y="392"/>
                  </a:lnTo>
                  <a:lnTo>
                    <a:pt x="106" y="384"/>
                  </a:lnTo>
                  <a:lnTo>
                    <a:pt x="108" y="372"/>
                  </a:lnTo>
                  <a:lnTo>
                    <a:pt x="104" y="364"/>
                  </a:lnTo>
                  <a:lnTo>
                    <a:pt x="104" y="364"/>
                  </a:lnTo>
                  <a:lnTo>
                    <a:pt x="92" y="340"/>
                  </a:lnTo>
                  <a:lnTo>
                    <a:pt x="82" y="316"/>
                  </a:lnTo>
                  <a:lnTo>
                    <a:pt x="74" y="290"/>
                  </a:lnTo>
                  <a:lnTo>
                    <a:pt x="66" y="262"/>
                  </a:lnTo>
                  <a:lnTo>
                    <a:pt x="62" y="234"/>
                  </a:lnTo>
                  <a:lnTo>
                    <a:pt x="58" y="208"/>
                  </a:lnTo>
                  <a:lnTo>
                    <a:pt x="54" y="154"/>
                  </a:lnTo>
                  <a:lnTo>
                    <a:pt x="54" y="106"/>
                  </a:lnTo>
                  <a:lnTo>
                    <a:pt x="54" y="6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6" y="20"/>
                  </a:lnTo>
                  <a:lnTo>
                    <a:pt x="52" y="10"/>
                  </a:lnTo>
                  <a:lnTo>
                    <a:pt x="4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14" y="6"/>
                  </a:lnTo>
                  <a:lnTo>
                    <a:pt x="8" y="14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2"/>
            <p:cNvSpPr/>
            <p:nvPr/>
          </p:nvSpPr>
          <p:spPr>
            <a:xfrm>
              <a:off x="38147760" y="6518520"/>
              <a:ext cx="85680" cy="990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54" h="624">
                  <a:moveTo>
                    <a:pt x="0" y="0"/>
                  </a:moveTo>
                  <a:lnTo>
                    <a:pt x="0" y="0"/>
                  </a:lnTo>
                  <a:lnTo>
                    <a:pt x="10" y="70"/>
                  </a:lnTo>
                  <a:lnTo>
                    <a:pt x="22" y="146"/>
                  </a:lnTo>
                  <a:lnTo>
                    <a:pt x="34" y="240"/>
                  </a:lnTo>
                  <a:lnTo>
                    <a:pt x="44" y="342"/>
                  </a:lnTo>
                  <a:lnTo>
                    <a:pt x="52" y="446"/>
                  </a:lnTo>
                  <a:lnTo>
                    <a:pt x="54" y="496"/>
                  </a:lnTo>
                  <a:lnTo>
                    <a:pt x="54" y="542"/>
                  </a:lnTo>
                  <a:lnTo>
                    <a:pt x="52" y="586"/>
                  </a:lnTo>
                  <a:lnTo>
                    <a:pt x="48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03"/>
            <p:cNvSpPr/>
            <p:nvPr/>
          </p:nvSpPr>
          <p:spPr>
            <a:xfrm>
              <a:off x="38147760" y="6518520"/>
              <a:ext cx="85680" cy="990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54" h="624">
                  <a:moveTo>
                    <a:pt x="0" y="0"/>
                  </a:moveTo>
                  <a:lnTo>
                    <a:pt x="0" y="0"/>
                  </a:lnTo>
                  <a:lnTo>
                    <a:pt x="10" y="70"/>
                  </a:lnTo>
                  <a:lnTo>
                    <a:pt x="22" y="146"/>
                  </a:lnTo>
                  <a:lnTo>
                    <a:pt x="34" y="240"/>
                  </a:lnTo>
                  <a:lnTo>
                    <a:pt x="44" y="342"/>
                  </a:lnTo>
                  <a:lnTo>
                    <a:pt x="52" y="446"/>
                  </a:lnTo>
                  <a:lnTo>
                    <a:pt x="54" y="496"/>
                  </a:lnTo>
                  <a:lnTo>
                    <a:pt x="54" y="542"/>
                  </a:lnTo>
                  <a:lnTo>
                    <a:pt x="52" y="586"/>
                  </a:lnTo>
                  <a:lnTo>
                    <a:pt x="48" y="6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04"/>
            <p:cNvSpPr/>
            <p:nvPr/>
          </p:nvSpPr>
          <p:spPr>
            <a:xfrm>
              <a:off x="38106360" y="6477120"/>
              <a:ext cx="168120" cy="10731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106" h="676">
                  <a:moveTo>
                    <a:pt x="20" y="0"/>
                  </a:moveTo>
                  <a:lnTo>
                    <a:pt x="20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02"/>
                  </a:lnTo>
                  <a:lnTo>
                    <a:pt x="22" y="178"/>
                  </a:lnTo>
                  <a:lnTo>
                    <a:pt x="34" y="270"/>
                  </a:lnTo>
                  <a:lnTo>
                    <a:pt x="44" y="372"/>
                  </a:lnTo>
                  <a:lnTo>
                    <a:pt x="52" y="472"/>
                  </a:lnTo>
                  <a:lnTo>
                    <a:pt x="54" y="522"/>
                  </a:lnTo>
                  <a:lnTo>
                    <a:pt x="54" y="566"/>
                  </a:lnTo>
                  <a:lnTo>
                    <a:pt x="52" y="610"/>
                  </a:lnTo>
                  <a:lnTo>
                    <a:pt x="48" y="646"/>
                  </a:lnTo>
                  <a:lnTo>
                    <a:pt x="48" y="646"/>
                  </a:lnTo>
                  <a:lnTo>
                    <a:pt x="50" y="656"/>
                  </a:lnTo>
                  <a:lnTo>
                    <a:pt x="54" y="666"/>
                  </a:lnTo>
                  <a:lnTo>
                    <a:pt x="62" y="672"/>
                  </a:lnTo>
                  <a:lnTo>
                    <a:pt x="72" y="676"/>
                  </a:lnTo>
                  <a:lnTo>
                    <a:pt x="72" y="676"/>
                  </a:lnTo>
                  <a:lnTo>
                    <a:pt x="82" y="676"/>
                  </a:lnTo>
                  <a:lnTo>
                    <a:pt x="90" y="670"/>
                  </a:lnTo>
                  <a:lnTo>
                    <a:pt x="98" y="664"/>
                  </a:lnTo>
                  <a:lnTo>
                    <a:pt x="102" y="654"/>
                  </a:lnTo>
                  <a:lnTo>
                    <a:pt x="102" y="654"/>
                  </a:lnTo>
                  <a:lnTo>
                    <a:pt x="104" y="614"/>
                  </a:lnTo>
                  <a:lnTo>
                    <a:pt x="106" y="572"/>
                  </a:lnTo>
                  <a:lnTo>
                    <a:pt x="106" y="524"/>
                  </a:lnTo>
                  <a:lnTo>
                    <a:pt x="104" y="476"/>
                  </a:lnTo>
                  <a:lnTo>
                    <a:pt x="98" y="374"/>
                  </a:lnTo>
                  <a:lnTo>
                    <a:pt x="86" y="272"/>
                  </a:lnTo>
                  <a:lnTo>
                    <a:pt x="74" y="178"/>
                  </a:lnTo>
                  <a:lnTo>
                    <a:pt x="64" y="10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40" y="4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05"/>
            <p:cNvSpPr/>
            <p:nvPr/>
          </p:nvSpPr>
          <p:spPr>
            <a:xfrm>
              <a:off x="37258560" y="5550120"/>
              <a:ext cx="492120" cy="29520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10" h="186">
                  <a:moveTo>
                    <a:pt x="12" y="4"/>
                  </a:moveTo>
                  <a:lnTo>
                    <a:pt x="12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0" y="64"/>
                  </a:lnTo>
                  <a:lnTo>
                    <a:pt x="38" y="88"/>
                  </a:lnTo>
                  <a:lnTo>
                    <a:pt x="60" y="114"/>
                  </a:lnTo>
                  <a:lnTo>
                    <a:pt x="88" y="138"/>
                  </a:lnTo>
                  <a:lnTo>
                    <a:pt x="104" y="150"/>
                  </a:lnTo>
                  <a:lnTo>
                    <a:pt x="120" y="162"/>
                  </a:lnTo>
                  <a:lnTo>
                    <a:pt x="136" y="172"/>
                  </a:lnTo>
                  <a:lnTo>
                    <a:pt x="154" y="178"/>
                  </a:lnTo>
                  <a:lnTo>
                    <a:pt x="172" y="184"/>
                  </a:lnTo>
                  <a:lnTo>
                    <a:pt x="190" y="186"/>
                  </a:lnTo>
                  <a:lnTo>
                    <a:pt x="190" y="186"/>
                  </a:lnTo>
                  <a:lnTo>
                    <a:pt x="206" y="186"/>
                  </a:lnTo>
                  <a:lnTo>
                    <a:pt x="222" y="184"/>
                  </a:lnTo>
                  <a:lnTo>
                    <a:pt x="236" y="180"/>
                  </a:lnTo>
                  <a:lnTo>
                    <a:pt x="252" y="172"/>
                  </a:lnTo>
                  <a:lnTo>
                    <a:pt x="266" y="164"/>
                  </a:lnTo>
                  <a:lnTo>
                    <a:pt x="280" y="154"/>
                  </a:lnTo>
                  <a:lnTo>
                    <a:pt x="292" y="140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10" y="116"/>
                  </a:lnTo>
                  <a:lnTo>
                    <a:pt x="310" y="106"/>
                  </a:lnTo>
                  <a:lnTo>
                    <a:pt x="308" y="96"/>
                  </a:lnTo>
                  <a:lnTo>
                    <a:pt x="300" y="90"/>
                  </a:lnTo>
                  <a:lnTo>
                    <a:pt x="300" y="90"/>
                  </a:lnTo>
                  <a:lnTo>
                    <a:pt x="292" y="84"/>
                  </a:lnTo>
                  <a:lnTo>
                    <a:pt x="282" y="84"/>
                  </a:lnTo>
                  <a:lnTo>
                    <a:pt x="272" y="86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46" y="112"/>
                  </a:lnTo>
                  <a:lnTo>
                    <a:pt x="238" y="120"/>
                  </a:lnTo>
                  <a:lnTo>
                    <a:pt x="230" y="124"/>
                  </a:lnTo>
                  <a:lnTo>
                    <a:pt x="220" y="130"/>
                  </a:lnTo>
                  <a:lnTo>
                    <a:pt x="212" y="132"/>
                  </a:lnTo>
                  <a:lnTo>
                    <a:pt x="202" y="134"/>
                  </a:lnTo>
                  <a:lnTo>
                    <a:pt x="194" y="134"/>
                  </a:lnTo>
                  <a:lnTo>
                    <a:pt x="194" y="134"/>
                  </a:lnTo>
                  <a:lnTo>
                    <a:pt x="182" y="132"/>
                  </a:lnTo>
                  <a:lnTo>
                    <a:pt x="170" y="128"/>
                  </a:lnTo>
                  <a:lnTo>
                    <a:pt x="160" y="124"/>
                  </a:lnTo>
                  <a:lnTo>
                    <a:pt x="148" y="118"/>
                  </a:lnTo>
                  <a:lnTo>
                    <a:pt x="126" y="102"/>
                  </a:lnTo>
                  <a:lnTo>
                    <a:pt x="106" y="84"/>
                  </a:lnTo>
                  <a:lnTo>
                    <a:pt x="88" y="64"/>
                  </a:lnTo>
                  <a:lnTo>
                    <a:pt x="72" y="44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グループ化 213"/>
          <p:cNvGrpSpPr/>
          <p:nvPr/>
        </p:nvGrpSpPr>
        <p:grpSpPr>
          <a:xfrm>
            <a:off x="3835440" y="1235160"/>
            <a:ext cx="32140440" cy="8515440"/>
            <a:chOff x="3835440" y="1235160"/>
            <a:chExt cx="32140440" cy="8515440"/>
          </a:xfrm>
        </p:grpSpPr>
        <p:sp>
          <p:nvSpPr>
            <p:cNvPr id="250" name="Freeform 5"/>
            <p:cNvSpPr/>
            <p:nvPr/>
          </p:nvSpPr>
          <p:spPr>
            <a:xfrm>
              <a:off x="3835440" y="1235160"/>
              <a:ext cx="12026880" cy="4324320"/>
            </a:xfrm>
            <a:custGeom>
              <a:avLst/>
              <a:gdLst>
                <a:gd name="textAreaLeft" fmla="*/ 0 w 12026880"/>
                <a:gd name="textAreaRight" fmla="*/ 12027240 w 12026880"/>
                <a:gd name="textAreaTop" fmla="*/ 0 h 4324320"/>
                <a:gd name="textAreaBottom" fmla="*/ 4324680 h 4324320"/>
              </a:gdLst>
              <a:ahLst/>
              <a:rect l="textAreaLeft" t="textAreaTop" r="textAreaRight" b="textAreaBottom"/>
              <a:pathLst>
                <a:path w="7576" h="2724">
                  <a:moveTo>
                    <a:pt x="7518" y="816"/>
                  </a:moveTo>
                  <a:lnTo>
                    <a:pt x="7518" y="816"/>
                  </a:lnTo>
                  <a:lnTo>
                    <a:pt x="7530" y="766"/>
                  </a:lnTo>
                  <a:lnTo>
                    <a:pt x="7530" y="766"/>
                  </a:lnTo>
                  <a:lnTo>
                    <a:pt x="7534" y="758"/>
                  </a:lnTo>
                  <a:lnTo>
                    <a:pt x="7534" y="758"/>
                  </a:lnTo>
                  <a:lnTo>
                    <a:pt x="7546" y="738"/>
                  </a:lnTo>
                  <a:lnTo>
                    <a:pt x="7556" y="718"/>
                  </a:lnTo>
                  <a:lnTo>
                    <a:pt x="7564" y="698"/>
                  </a:lnTo>
                  <a:lnTo>
                    <a:pt x="7570" y="676"/>
                  </a:lnTo>
                  <a:lnTo>
                    <a:pt x="7574" y="654"/>
                  </a:lnTo>
                  <a:lnTo>
                    <a:pt x="7576" y="634"/>
                  </a:lnTo>
                  <a:lnTo>
                    <a:pt x="7576" y="612"/>
                  </a:lnTo>
                  <a:lnTo>
                    <a:pt x="7574" y="590"/>
                  </a:lnTo>
                  <a:lnTo>
                    <a:pt x="7570" y="568"/>
                  </a:lnTo>
                  <a:lnTo>
                    <a:pt x="7566" y="548"/>
                  </a:lnTo>
                  <a:lnTo>
                    <a:pt x="7558" y="528"/>
                  </a:lnTo>
                  <a:lnTo>
                    <a:pt x="7550" y="508"/>
                  </a:lnTo>
                  <a:lnTo>
                    <a:pt x="7540" y="488"/>
                  </a:lnTo>
                  <a:lnTo>
                    <a:pt x="7528" y="470"/>
                  </a:lnTo>
                  <a:lnTo>
                    <a:pt x="7514" y="452"/>
                  </a:lnTo>
                  <a:lnTo>
                    <a:pt x="7498" y="436"/>
                  </a:lnTo>
                  <a:lnTo>
                    <a:pt x="7276" y="222"/>
                  </a:lnTo>
                  <a:lnTo>
                    <a:pt x="7276" y="222"/>
                  </a:lnTo>
                  <a:lnTo>
                    <a:pt x="7262" y="208"/>
                  </a:lnTo>
                  <a:lnTo>
                    <a:pt x="7248" y="196"/>
                  </a:lnTo>
                  <a:lnTo>
                    <a:pt x="7232" y="186"/>
                  </a:lnTo>
                  <a:lnTo>
                    <a:pt x="7214" y="178"/>
                  </a:lnTo>
                  <a:lnTo>
                    <a:pt x="7198" y="170"/>
                  </a:lnTo>
                  <a:lnTo>
                    <a:pt x="7180" y="162"/>
                  </a:lnTo>
                  <a:lnTo>
                    <a:pt x="7162" y="158"/>
                  </a:lnTo>
                  <a:lnTo>
                    <a:pt x="7142" y="154"/>
                  </a:lnTo>
                  <a:lnTo>
                    <a:pt x="7124" y="152"/>
                  </a:lnTo>
                  <a:lnTo>
                    <a:pt x="7106" y="150"/>
                  </a:lnTo>
                  <a:lnTo>
                    <a:pt x="7086" y="150"/>
                  </a:lnTo>
                  <a:lnTo>
                    <a:pt x="7068" y="152"/>
                  </a:lnTo>
                  <a:lnTo>
                    <a:pt x="7048" y="154"/>
                  </a:lnTo>
                  <a:lnTo>
                    <a:pt x="7030" y="160"/>
                  </a:lnTo>
                  <a:lnTo>
                    <a:pt x="7012" y="166"/>
                  </a:lnTo>
                  <a:lnTo>
                    <a:pt x="6994" y="172"/>
                  </a:lnTo>
                  <a:lnTo>
                    <a:pt x="6994" y="172"/>
                  </a:lnTo>
                  <a:lnTo>
                    <a:pt x="6984" y="176"/>
                  </a:lnTo>
                  <a:lnTo>
                    <a:pt x="6972" y="180"/>
                  </a:lnTo>
                  <a:lnTo>
                    <a:pt x="6952" y="182"/>
                  </a:lnTo>
                  <a:lnTo>
                    <a:pt x="6920" y="182"/>
                  </a:lnTo>
                  <a:lnTo>
                    <a:pt x="5754" y="182"/>
                  </a:lnTo>
                  <a:lnTo>
                    <a:pt x="5754" y="182"/>
                  </a:lnTo>
                  <a:lnTo>
                    <a:pt x="5606" y="182"/>
                  </a:lnTo>
                  <a:lnTo>
                    <a:pt x="5506" y="178"/>
                  </a:lnTo>
                  <a:lnTo>
                    <a:pt x="5436" y="174"/>
                  </a:lnTo>
                  <a:lnTo>
                    <a:pt x="5374" y="166"/>
                  </a:lnTo>
                  <a:lnTo>
                    <a:pt x="5374" y="166"/>
                  </a:lnTo>
                  <a:lnTo>
                    <a:pt x="5346" y="162"/>
                  </a:lnTo>
                  <a:lnTo>
                    <a:pt x="5318" y="162"/>
                  </a:lnTo>
                  <a:lnTo>
                    <a:pt x="5292" y="166"/>
                  </a:lnTo>
                  <a:lnTo>
                    <a:pt x="5264" y="172"/>
                  </a:lnTo>
                  <a:lnTo>
                    <a:pt x="5238" y="180"/>
                  </a:lnTo>
                  <a:lnTo>
                    <a:pt x="5214" y="192"/>
                  </a:lnTo>
                  <a:lnTo>
                    <a:pt x="5190" y="206"/>
                  </a:lnTo>
                  <a:lnTo>
                    <a:pt x="5168" y="222"/>
                  </a:lnTo>
                  <a:lnTo>
                    <a:pt x="5168" y="222"/>
                  </a:lnTo>
                  <a:lnTo>
                    <a:pt x="5148" y="242"/>
                  </a:lnTo>
                  <a:lnTo>
                    <a:pt x="5130" y="264"/>
                  </a:lnTo>
                  <a:lnTo>
                    <a:pt x="5114" y="286"/>
                  </a:lnTo>
                  <a:lnTo>
                    <a:pt x="5102" y="310"/>
                  </a:lnTo>
                  <a:lnTo>
                    <a:pt x="5092" y="336"/>
                  </a:lnTo>
                  <a:lnTo>
                    <a:pt x="5084" y="362"/>
                  </a:lnTo>
                  <a:lnTo>
                    <a:pt x="5080" y="390"/>
                  </a:lnTo>
                  <a:lnTo>
                    <a:pt x="5078" y="418"/>
                  </a:lnTo>
                  <a:lnTo>
                    <a:pt x="5078" y="770"/>
                  </a:lnTo>
                  <a:lnTo>
                    <a:pt x="5078" y="770"/>
                  </a:lnTo>
                  <a:lnTo>
                    <a:pt x="4972" y="690"/>
                  </a:lnTo>
                  <a:lnTo>
                    <a:pt x="4932" y="658"/>
                  </a:lnTo>
                  <a:lnTo>
                    <a:pt x="4898" y="628"/>
                  </a:lnTo>
                  <a:lnTo>
                    <a:pt x="4866" y="598"/>
                  </a:lnTo>
                  <a:lnTo>
                    <a:pt x="4836" y="566"/>
                  </a:lnTo>
                  <a:lnTo>
                    <a:pt x="4804" y="530"/>
                  </a:lnTo>
                  <a:lnTo>
                    <a:pt x="4768" y="488"/>
                  </a:lnTo>
                  <a:lnTo>
                    <a:pt x="4768" y="488"/>
                  </a:lnTo>
                  <a:lnTo>
                    <a:pt x="4744" y="464"/>
                  </a:lnTo>
                  <a:lnTo>
                    <a:pt x="4718" y="442"/>
                  </a:lnTo>
                  <a:lnTo>
                    <a:pt x="4690" y="424"/>
                  </a:lnTo>
                  <a:lnTo>
                    <a:pt x="4660" y="412"/>
                  </a:lnTo>
                  <a:lnTo>
                    <a:pt x="4628" y="402"/>
                  </a:lnTo>
                  <a:lnTo>
                    <a:pt x="4596" y="396"/>
                  </a:lnTo>
                  <a:lnTo>
                    <a:pt x="4562" y="396"/>
                  </a:lnTo>
                  <a:lnTo>
                    <a:pt x="4530" y="400"/>
                  </a:lnTo>
                  <a:lnTo>
                    <a:pt x="4530" y="400"/>
                  </a:lnTo>
                  <a:lnTo>
                    <a:pt x="4496" y="406"/>
                  </a:lnTo>
                  <a:lnTo>
                    <a:pt x="4466" y="418"/>
                  </a:lnTo>
                  <a:lnTo>
                    <a:pt x="4436" y="434"/>
                  </a:lnTo>
                  <a:lnTo>
                    <a:pt x="4410" y="454"/>
                  </a:lnTo>
                  <a:lnTo>
                    <a:pt x="4386" y="476"/>
                  </a:lnTo>
                  <a:lnTo>
                    <a:pt x="4364" y="502"/>
                  </a:lnTo>
                  <a:lnTo>
                    <a:pt x="4346" y="530"/>
                  </a:lnTo>
                  <a:lnTo>
                    <a:pt x="4332" y="560"/>
                  </a:lnTo>
                  <a:lnTo>
                    <a:pt x="4332" y="560"/>
                  </a:lnTo>
                  <a:lnTo>
                    <a:pt x="4308" y="624"/>
                  </a:lnTo>
                  <a:lnTo>
                    <a:pt x="4284" y="684"/>
                  </a:lnTo>
                  <a:lnTo>
                    <a:pt x="4258" y="738"/>
                  </a:lnTo>
                  <a:lnTo>
                    <a:pt x="4234" y="792"/>
                  </a:lnTo>
                  <a:lnTo>
                    <a:pt x="4208" y="842"/>
                  </a:lnTo>
                  <a:lnTo>
                    <a:pt x="4180" y="892"/>
                  </a:lnTo>
                  <a:lnTo>
                    <a:pt x="4150" y="942"/>
                  </a:lnTo>
                  <a:lnTo>
                    <a:pt x="4118" y="992"/>
                  </a:lnTo>
                  <a:lnTo>
                    <a:pt x="4118" y="992"/>
                  </a:lnTo>
                  <a:lnTo>
                    <a:pt x="4116" y="994"/>
                  </a:lnTo>
                  <a:lnTo>
                    <a:pt x="4116" y="994"/>
                  </a:lnTo>
                  <a:lnTo>
                    <a:pt x="4074" y="1056"/>
                  </a:lnTo>
                  <a:lnTo>
                    <a:pt x="4030" y="1116"/>
                  </a:lnTo>
                  <a:lnTo>
                    <a:pt x="3986" y="1170"/>
                  </a:lnTo>
                  <a:lnTo>
                    <a:pt x="3940" y="1220"/>
                  </a:lnTo>
                  <a:lnTo>
                    <a:pt x="3892" y="1268"/>
                  </a:lnTo>
                  <a:lnTo>
                    <a:pt x="3842" y="1312"/>
                  </a:lnTo>
                  <a:lnTo>
                    <a:pt x="3788" y="1352"/>
                  </a:lnTo>
                  <a:lnTo>
                    <a:pt x="3734" y="1390"/>
                  </a:lnTo>
                  <a:lnTo>
                    <a:pt x="4008" y="1026"/>
                  </a:lnTo>
                  <a:lnTo>
                    <a:pt x="4008" y="1026"/>
                  </a:lnTo>
                  <a:lnTo>
                    <a:pt x="4022" y="1006"/>
                  </a:lnTo>
                  <a:lnTo>
                    <a:pt x="4034" y="984"/>
                  </a:lnTo>
                  <a:lnTo>
                    <a:pt x="4044" y="962"/>
                  </a:lnTo>
                  <a:lnTo>
                    <a:pt x="4050" y="940"/>
                  </a:lnTo>
                  <a:lnTo>
                    <a:pt x="4056" y="918"/>
                  </a:lnTo>
                  <a:lnTo>
                    <a:pt x="4060" y="894"/>
                  </a:lnTo>
                  <a:lnTo>
                    <a:pt x="4060" y="872"/>
                  </a:lnTo>
                  <a:lnTo>
                    <a:pt x="4060" y="848"/>
                  </a:lnTo>
                  <a:lnTo>
                    <a:pt x="4056" y="826"/>
                  </a:lnTo>
                  <a:lnTo>
                    <a:pt x="4050" y="802"/>
                  </a:lnTo>
                  <a:lnTo>
                    <a:pt x="4044" y="780"/>
                  </a:lnTo>
                  <a:lnTo>
                    <a:pt x="4034" y="758"/>
                  </a:lnTo>
                  <a:lnTo>
                    <a:pt x="4022" y="738"/>
                  </a:lnTo>
                  <a:lnTo>
                    <a:pt x="4010" y="718"/>
                  </a:lnTo>
                  <a:lnTo>
                    <a:pt x="3994" y="700"/>
                  </a:lnTo>
                  <a:lnTo>
                    <a:pt x="3976" y="682"/>
                  </a:lnTo>
                  <a:lnTo>
                    <a:pt x="3976" y="682"/>
                  </a:lnTo>
                  <a:lnTo>
                    <a:pt x="3896" y="612"/>
                  </a:lnTo>
                  <a:lnTo>
                    <a:pt x="3818" y="546"/>
                  </a:lnTo>
                  <a:lnTo>
                    <a:pt x="3740" y="484"/>
                  </a:lnTo>
                  <a:lnTo>
                    <a:pt x="3658" y="424"/>
                  </a:lnTo>
                  <a:lnTo>
                    <a:pt x="3572" y="364"/>
                  </a:lnTo>
                  <a:lnTo>
                    <a:pt x="3478" y="304"/>
                  </a:lnTo>
                  <a:lnTo>
                    <a:pt x="3374" y="240"/>
                  </a:lnTo>
                  <a:lnTo>
                    <a:pt x="3258" y="170"/>
                  </a:lnTo>
                  <a:lnTo>
                    <a:pt x="3258" y="170"/>
                  </a:lnTo>
                  <a:lnTo>
                    <a:pt x="3238" y="160"/>
                  </a:lnTo>
                  <a:lnTo>
                    <a:pt x="3216" y="150"/>
                  </a:lnTo>
                  <a:lnTo>
                    <a:pt x="3194" y="144"/>
                  </a:lnTo>
                  <a:lnTo>
                    <a:pt x="3172" y="138"/>
                  </a:lnTo>
                  <a:lnTo>
                    <a:pt x="3150" y="136"/>
                  </a:lnTo>
                  <a:lnTo>
                    <a:pt x="3128" y="136"/>
                  </a:lnTo>
                  <a:lnTo>
                    <a:pt x="3106" y="136"/>
                  </a:lnTo>
                  <a:lnTo>
                    <a:pt x="3084" y="140"/>
                  </a:lnTo>
                  <a:lnTo>
                    <a:pt x="3062" y="144"/>
                  </a:lnTo>
                  <a:lnTo>
                    <a:pt x="3042" y="150"/>
                  </a:lnTo>
                  <a:lnTo>
                    <a:pt x="3020" y="160"/>
                  </a:lnTo>
                  <a:lnTo>
                    <a:pt x="3000" y="170"/>
                  </a:lnTo>
                  <a:lnTo>
                    <a:pt x="2982" y="182"/>
                  </a:lnTo>
                  <a:lnTo>
                    <a:pt x="2964" y="196"/>
                  </a:lnTo>
                  <a:lnTo>
                    <a:pt x="2946" y="212"/>
                  </a:lnTo>
                  <a:lnTo>
                    <a:pt x="2932" y="230"/>
                  </a:lnTo>
                  <a:lnTo>
                    <a:pt x="2656" y="568"/>
                  </a:lnTo>
                  <a:lnTo>
                    <a:pt x="2656" y="568"/>
                  </a:lnTo>
                  <a:lnTo>
                    <a:pt x="2660" y="536"/>
                  </a:lnTo>
                  <a:lnTo>
                    <a:pt x="2660" y="504"/>
                  </a:lnTo>
                  <a:lnTo>
                    <a:pt x="2660" y="504"/>
                  </a:lnTo>
                  <a:lnTo>
                    <a:pt x="2656" y="476"/>
                  </a:lnTo>
                  <a:lnTo>
                    <a:pt x="2648" y="446"/>
                  </a:lnTo>
                  <a:lnTo>
                    <a:pt x="2638" y="420"/>
                  </a:lnTo>
                  <a:lnTo>
                    <a:pt x="2626" y="394"/>
                  </a:lnTo>
                  <a:lnTo>
                    <a:pt x="2610" y="368"/>
                  </a:lnTo>
                  <a:lnTo>
                    <a:pt x="2592" y="346"/>
                  </a:lnTo>
                  <a:lnTo>
                    <a:pt x="2570" y="326"/>
                  </a:lnTo>
                  <a:lnTo>
                    <a:pt x="2546" y="308"/>
                  </a:lnTo>
                  <a:lnTo>
                    <a:pt x="2148" y="42"/>
                  </a:lnTo>
                  <a:lnTo>
                    <a:pt x="2148" y="42"/>
                  </a:lnTo>
                  <a:lnTo>
                    <a:pt x="2126" y="30"/>
                  </a:lnTo>
                  <a:lnTo>
                    <a:pt x="2102" y="18"/>
                  </a:lnTo>
                  <a:lnTo>
                    <a:pt x="2078" y="10"/>
                  </a:lnTo>
                  <a:lnTo>
                    <a:pt x="2052" y="4"/>
                  </a:lnTo>
                  <a:lnTo>
                    <a:pt x="2026" y="0"/>
                  </a:lnTo>
                  <a:lnTo>
                    <a:pt x="2000" y="0"/>
                  </a:lnTo>
                  <a:lnTo>
                    <a:pt x="1974" y="2"/>
                  </a:lnTo>
                  <a:lnTo>
                    <a:pt x="1948" y="6"/>
                  </a:lnTo>
                  <a:lnTo>
                    <a:pt x="1948" y="6"/>
                  </a:lnTo>
                  <a:lnTo>
                    <a:pt x="1924" y="14"/>
                  </a:lnTo>
                  <a:lnTo>
                    <a:pt x="1900" y="24"/>
                  </a:lnTo>
                  <a:lnTo>
                    <a:pt x="1876" y="36"/>
                  </a:lnTo>
                  <a:lnTo>
                    <a:pt x="1854" y="50"/>
                  </a:lnTo>
                  <a:lnTo>
                    <a:pt x="1834" y="66"/>
                  </a:lnTo>
                  <a:lnTo>
                    <a:pt x="1816" y="84"/>
                  </a:lnTo>
                  <a:lnTo>
                    <a:pt x="1800" y="106"/>
                  </a:lnTo>
                  <a:lnTo>
                    <a:pt x="1786" y="128"/>
                  </a:lnTo>
                  <a:lnTo>
                    <a:pt x="1786" y="128"/>
                  </a:lnTo>
                  <a:lnTo>
                    <a:pt x="1766" y="158"/>
                  </a:lnTo>
                  <a:lnTo>
                    <a:pt x="1738" y="192"/>
                  </a:lnTo>
                  <a:lnTo>
                    <a:pt x="1704" y="234"/>
                  </a:lnTo>
                  <a:lnTo>
                    <a:pt x="1660" y="280"/>
                  </a:lnTo>
                  <a:lnTo>
                    <a:pt x="1610" y="330"/>
                  </a:lnTo>
                  <a:lnTo>
                    <a:pt x="1550" y="384"/>
                  </a:lnTo>
                  <a:lnTo>
                    <a:pt x="1482" y="442"/>
                  </a:lnTo>
                  <a:lnTo>
                    <a:pt x="1406" y="502"/>
                  </a:lnTo>
                  <a:lnTo>
                    <a:pt x="1406" y="502"/>
                  </a:lnTo>
                  <a:lnTo>
                    <a:pt x="1404" y="502"/>
                  </a:lnTo>
                  <a:lnTo>
                    <a:pt x="1404" y="502"/>
                  </a:lnTo>
                  <a:lnTo>
                    <a:pt x="1334" y="556"/>
                  </a:lnTo>
                  <a:lnTo>
                    <a:pt x="1266" y="604"/>
                  </a:lnTo>
                  <a:lnTo>
                    <a:pt x="1196" y="652"/>
                  </a:lnTo>
                  <a:lnTo>
                    <a:pt x="1128" y="696"/>
                  </a:lnTo>
                  <a:lnTo>
                    <a:pt x="1058" y="740"/>
                  </a:lnTo>
                  <a:lnTo>
                    <a:pt x="988" y="780"/>
                  </a:lnTo>
                  <a:lnTo>
                    <a:pt x="916" y="818"/>
                  </a:lnTo>
                  <a:lnTo>
                    <a:pt x="844" y="854"/>
                  </a:lnTo>
                  <a:lnTo>
                    <a:pt x="770" y="890"/>
                  </a:lnTo>
                  <a:lnTo>
                    <a:pt x="694" y="922"/>
                  </a:lnTo>
                  <a:lnTo>
                    <a:pt x="616" y="954"/>
                  </a:lnTo>
                  <a:lnTo>
                    <a:pt x="536" y="986"/>
                  </a:lnTo>
                  <a:lnTo>
                    <a:pt x="454" y="1014"/>
                  </a:lnTo>
                  <a:lnTo>
                    <a:pt x="368" y="1044"/>
                  </a:lnTo>
                  <a:lnTo>
                    <a:pt x="278" y="1070"/>
                  </a:lnTo>
                  <a:lnTo>
                    <a:pt x="186" y="1098"/>
                  </a:lnTo>
                  <a:lnTo>
                    <a:pt x="186" y="1098"/>
                  </a:lnTo>
                  <a:lnTo>
                    <a:pt x="156" y="1108"/>
                  </a:lnTo>
                  <a:lnTo>
                    <a:pt x="128" y="1122"/>
                  </a:lnTo>
                  <a:lnTo>
                    <a:pt x="102" y="1140"/>
                  </a:lnTo>
                  <a:lnTo>
                    <a:pt x="78" y="1160"/>
                  </a:lnTo>
                  <a:lnTo>
                    <a:pt x="56" y="1182"/>
                  </a:lnTo>
                  <a:lnTo>
                    <a:pt x="38" y="1208"/>
                  </a:lnTo>
                  <a:lnTo>
                    <a:pt x="24" y="1236"/>
                  </a:lnTo>
                  <a:lnTo>
                    <a:pt x="12" y="1266"/>
                  </a:lnTo>
                  <a:lnTo>
                    <a:pt x="12" y="1266"/>
                  </a:lnTo>
                  <a:lnTo>
                    <a:pt x="4" y="1296"/>
                  </a:lnTo>
                  <a:lnTo>
                    <a:pt x="0" y="1328"/>
                  </a:lnTo>
                  <a:lnTo>
                    <a:pt x="0" y="1360"/>
                  </a:lnTo>
                  <a:lnTo>
                    <a:pt x="4" y="1390"/>
                  </a:lnTo>
                  <a:lnTo>
                    <a:pt x="12" y="1420"/>
                  </a:lnTo>
                  <a:lnTo>
                    <a:pt x="22" y="1450"/>
                  </a:lnTo>
                  <a:lnTo>
                    <a:pt x="38" y="1478"/>
                  </a:lnTo>
                  <a:lnTo>
                    <a:pt x="56" y="1504"/>
                  </a:lnTo>
                  <a:lnTo>
                    <a:pt x="56" y="1504"/>
                  </a:lnTo>
                  <a:lnTo>
                    <a:pt x="92" y="1550"/>
                  </a:lnTo>
                  <a:lnTo>
                    <a:pt x="124" y="1592"/>
                  </a:lnTo>
                  <a:lnTo>
                    <a:pt x="150" y="1630"/>
                  </a:lnTo>
                  <a:lnTo>
                    <a:pt x="174" y="1666"/>
                  </a:lnTo>
                  <a:lnTo>
                    <a:pt x="194" y="1704"/>
                  </a:lnTo>
                  <a:lnTo>
                    <a:pt x="214" y="1742"/>
                  </a:lnTo>
                  <a:lnTo>
                    <a:pt x="234" y="1786"/>
                  </a:lnTo>
                  <a:lnTo>
                    <a:pt x="254" y="1834"/>
                  </a:lnTo>
                  <a:lnTo>
                    <a:pt x="254" y="1834"/>
                  </a:lnTo>
                  <a:lnTo>
                    <a:pt x="264" y="1858"/>
                  </a:lnTo>
                  <a:lnTo>
                    <a:pt x="278" y="1880"/>
                  </a:lnTo>
                  <a:lnTo>
                    <a:pt x="292" y="1900"/>
                  </a:lnTo>
                  <a:lnTo>
                    <a:pt x="308" y="1918"/>
                  </a:lnTo>
                  <a:lnTo>
                    <a:pt x="326" y="1934"/>
                  </a:lnTo>
                  <a:lnTo>
                    <a:pt x="344" y="1948"/>
                  </a:lnTo>
                  <a:lnTo>
                    <a:pt x="364" y="1962"/>
                  </a:lnTo>
                  <a:lnTo>
                    <a:pt x="386" y="1972"/>
                  </a:lnTo>
                  <a:lnTo>
                    <a:pt x="408" y="1980"/>
                  </a:lnTo>
                  <a:lnTo>
                    <a:pt x="432" y="1988"/>
                  </a:lnTo>
                  <a:lnTo>
                    <a:pt x="454" y="1992"/>
                  </a:lnTo>
                  <a:lnTo>
                    <a:pt x="478" y="1994"/>
                  </a:lnTo>
                  <a:lnTo>
                    <a:pt x="504" y="1994"/>
                  </a:lnTo>
                  <a:lnTo>
                    <a:pt x="528" y="1992"/>
                  </a:lnTo>
                  <a:lnTo>
                    <a:pt x="552" y="1988"/>
                  </a:lnTo>
                  <a:lnTo>
                    <a:pt x="576" y="1980"/>
                  </a:lnTo>
                  <a:lnTo>
                    <a:pt x="576" y="1980"/>
                  </a:lnTo>
                  <a:lnTo>
                    <a:pt x="708" y="1932"/>
                  </a:lnTo>
                  <a:lnTo>
                    <a:pt x="826" y="1886"/>
                  </a:lnTo>
                  <a:lnTo>
                    <a:pt x="936" y="1842"/>
                  </a:lnTo>
                  <a:lnTo>
                    <a:pt x="1038" y="1796"/>
                  </a:lnTo>
                  <a:lnTo>
                    <a:pt x="1038" y="2054"/>
                  </a:lnTo>
                  <a:lnTo>
                    <a:pt x="1038" y="2054"/>
                  </a:lnTo>
                  <a:lnTo>
                    <a:pt x="1038" y="2182"/>
                  </a:lnTo>
                  <a:lnTo>
                    <a:pt x="1036" y="2272"/>
                  </a:lnTo>
                  <a:lnTo>
                    <a:pt x="1032" y="2346"/>
                  </a:lnTo>
                  <a:lnTo>
                    <a:pt x="1026" y="2426"/>
                  </a:lnTo>
                  <a:lnTo>
                    <a:pt x="1026" y="2426"/>
                  </a:lnTo>
                  <a:lnTo>
                    <a:pt x="1024" y="2452"/>
                  </a:lnTo>
                  <a:lnTo>
                    <a:pt x="1026" y="2478"/>
                  </a:lnTo>
                  <a:lnTo>
                    <a:pt x="1030" y="2504"/>
                  </a:lnTo>
                  <a:lnTo>
                    <a:pt x="1038" y="2530"/>
                  </a:lnTo>
                  <a:lnTo>
                    <a:pt x="1046" y="2554"/>
                  </a:lnTo>
                  <a:lnTo>
                    <a:pt x="1058" y="2578"/>
                  </a:lnTo>
                  <a:lnTo>
                    <a:pt x="1074" y="2600"/>
                  </a:lnTo>
                  <a:lnTo>
                    <a:pt x="1090" y="2622"/>
                  </a:lnTo>
                  <a:lnTo>
                    <a:pt x="1090" y="2622"/>
                  </a:lnTo>
                  <a:lnTo>
                    <a:pt x="1110" y="2640"/>
                  </a:lnTo>
                  <a:lnTo>
                    <a:pt x="1130" y="2656"/>
                  </a:lnTo>
                  <a:lnTo>
                    <a:pt x="1152" y="2670"/>
                  </a:lnTo>
                  <a:lnTo>
                    <a:pt x="1176" y="2682"/>
                  </a:lnTo>
                  <a:lnTo>
                    <a:pt x="1200" y="2692"/>
                  </a:lnTo>
                  <a:lnTo>
                    <a:pt x="1226" y="2700"/>
                  </a:lnTo>
                  <a:lnTo>
                    <a:pt x="1252" y="2704"/>
                  </a:lnTo>
                  <a:lnTo>
                    <a:pt x="1280" y="2704"/>
                  </a:lnTo>
                  <a:lnTo>
                    <a:pt x="1756" y="2704"/>
                  </a:lnTo>
                  <a:lnTo>
                    <a:pt x="1756" y="2704"/>
                  </a:lnTo>
                  <a:lnTo>
                    <a:pt x="1782" y="2704"/>
                  </a:lnTo>
                  <a:lnTo>
                    <a:pt x="1808" y="2700"/>
                  </a:lnTo>
                  <a:lnTo>
                    <a:pt x="1834" y="2692"/>
                  </a:lnTo>
                  <a:lnTo>
                    <a:pt x="1860" y="2682"/>
                  </a:lnTo>
                  <a:lnTo>
                    <a:pt x="1882" y="2672"/>
                  </a:lnTo>
                  <a:lnTo>
                    <a:pt x="1904" y="2656"/>
                  </a:lnTo>
                  <a:lnTo>
                    <a:pt x="1926" y="2640"/>
                  </a:lnTo>
                  <a:lnTo>
                    <a:pt x="1944" y="2622"/>
                  </a:lnTo>
                  <a:lnTo>
                    <a:pt x="1944" y="2622"/>
                  </a:lnTo>
                  <a:lnTo>
                    <a:pt x="1962" y="2600"/>
                  </a:lnTo>
                  <a:lnTo>
                    <a:pt x="1976" y="2578"/>
                  </a:lnTo>
                  <a:lnTo>
                    <a:pt x="1988" y="2554"/>
                  </a:lnTo>
                  <a:lnTo>
                    <a:pt x="1998" y="2530"/>
                  </a:lnTo>
                  <a:lnTo>
                    <a:pt x="2006" y="2506"/>
                  </a:lnTo>
                  <a:lnTo>
                    <a:pt x="2010" y="2478"/>
                  </a:lnTo>
                  <a:lnTo>
                    <a:pt x="2012" y="2452"/>
                  </a:lnTo>
                  <a:lnTo>
                    <a:pt x="2010" y="2426"/>
                  </a:lnTo>
                  <a:lnTo>
                    <a:pt x="2010" y="2426"/>
                  </a:lnTo>
                  <a:lnTo>
                    <a:pt x="2004" y="2342"/>
                  </a:lnTo>
                  <a:lnTo>
                    <a:pt x="1998" y="2264"/>
                  </a:lnTo>
                  <a:lnTo>
                    <a:pt x="1998" y="2174"/>
                  </a:lnTo>
                  <a:lnTo>
                    <a:pt x="1996" y="2052"/>
                  </a:lnTo>
                  <a:lnTo>
                    <a:pt x="1996" y="1234"/>
                  </a:lnTo>
                  <a:lnTo>
                    <a:pt x="1996" y="1234"/>
                  </a:lnTo>
                  <a:lnTo>
                    <a:pt x="2058" y="1186"/>
                  </a:lnTo>
                  <a:lnTo>
                    <a:pt x="2120" y="1136"/>
                  </a:lnTo>
                  <a:lnTo>
                    <a:pt x="2182" y="1084"/>
                  </a:lnTo>
                  <a:lnTo>
                    <a:pt x="2242" y="1030"/>
                  </a:lnTo>
                  <a:lnTo>
                    <a:pt x="2304" y="974"/>
                  </a:lnTo>
                  <a:lnTo>
                    <a:pt x="2366" y="916"/>
                  </a:lnTo>
                  <a:lnTo>
                    <a:pt x="2428" y="854"/>
                  </a:lnTo>
                  <a:lnTo>
                    <a:pt x="2492" y="790"/>
                  </a:lnTo>
                  <a:lnTo>
                    <a:pt x="2492" y="790"/>
                  </a:lnTo>
                  <a:lnTo>
                    <a:pt x="2494" y="786"/>
                  </a:lnTo>
                  <a:lnTo>
                    <a:pt x="2494" y="786"/>
                  </a:lnTo>
                  <a:lnTo>
                    <a:pt x="2528" y="752"/>
                  </a:lnTo>
                  <a:lnTo>
                    <a:pt x="2572" y="714"/>
                  </a:lnTo>
                  <a:lnTo>
                    <a:pt x="2572" y="714"/>
                  </a:lnTo>
                  <a:lnTo>
                    <a:pt x="2584" y="702"/>
                  </a:lnTo>
                  <a:lnTo>
                    <a:pt x="2596" y="690"/>
                  </a:lnTo>
                  <a:lnTo>
                    <a:pt x="2596" y="690"/>
                  </a:lnTo>
                  <a:lnTo>
                    <a:pt x="2592" y="714"/>
                  </a:lnTo>
                  <a:lnTo>
                    <a:pt x="2592" y="738"/>
                  </a:lnTo>
                  <a:lnTo>
                    <a:pt x="2592" y="762"/>
                  </a:lnTo>
                  <a:lnTo>
                    <a:pt x="2596" y="786"/>
                  </a:lnTo>
                  <a:lnTo>
                    <a:pt x="2596" y="786"/>
                  </a:lnTo>
                  <a:lnTo>
                    <a:pt x="2604" y="814"/>
                  </a:lnTo>
                  <a:lnTo>
                    <a:pt x="2614" y="840"/>
                  </a:lnTo>
                  <a:lnTo>
                    <a:pt x="2626" y="866"/>
                  </a:lnTo>
                  <a:lnTo>
                    <a:pt x="2642" y="888"/>
                  </a:lnTo>
                  <a:lnTo>
                    <a:pt x="2660" y="910"/>
                  </a:lnTo>
                  <a:lnTo>
                    <a:pt x="2680" y="930"/>
                  </a:lnTo>
                  <a:lnTo>
                    <a:pt x="2702" y="946"/>
                  </a:lnTo>
                  <a:lnTo>
                    <a:pt x="2726" y="962"/>
                  </a:lnTo>
                  <a:lnTo>
                    <a:pt x="2726" y="962"/>
                  </a:lnTo>
                  <a:lnTo>
                    <a:pt x="2808" y="1008"/>
                  </a:lnTo>
                  <a:lnTo>
                    <a:pt x="2886" y="1056"/>
                  </a:lnTo>
                  <a:lnTo>
                    <a:pt x="2962" y="1110"/>
                  </a:lnTo>
                  <a:lnTo>
                    <a:pt x="3038" y="1164"/>
                  </a:lnTo>
                  <a:lnTo>
                    <a:pt x="3112" y="1224"/>
                  </a:lnTo>
                  <a:lnTo>
                    <a:pt x="3184" y="1288"/>
                  </a:lnTo>
                  <a:lnTo>
                    <a:pt x="3258" y="1358"/>
                  </a:lnTo>
                  <a:lnTo>
                    <a:pt x="3330" y="1432"/>
                  </a:lnTo>
                  <a:lnTo>
                    <a:pt x="3330" y="1432"/>
                  </a:lnTo>
                  <a:lnTo>
                    <a:pt x="3348" y="1448"/>
                  </a:lnTo>
                  <a:lnTo>
                    <a:pt x="3366" y="1462"/>
                  </a:lnTo>
                  <a:lnTo>
                    <a:pt x="3386" y="1476"/>
                  </a:lnTo>
                  <a:lnTo>
                    <a:pt x="3406" y="1486"/>
                  </a:lnTo>
                  <a:lnTo>
                    <a:pt x="3428" y="1496"/>
                  </a:lnTo>
                  <a:lnTo>
                    <a:pt x="3450" y="1502"/>
                  </a:lnTo>
                  <a:lnTo>
                    <a:pt x="3474" y="1508"/>
                  </a:lnTo>
                  <a:lnTo>
                    <a:pt x="3496" y="1510"/>
                  </a:lnTo>
                  <a:lnTo>
                    <a:pt x="3496" y="1510"/>
                  </a:lnTo>
                  <a:lnTo>
                    <a:pt x="3420" y="1540"/>
                  </a:lnTo>
                  <a:lnTo>
                    <a:pt x="3342" y="1566"/>
                  </a:lnTo>
                  <a:lnTo>
                    <a:pt x="3262" y="1590"/>
                  </a:lnTo>
                  <a:lnTo>
                    <a:pt x="3180" y="1610"/>
                  </a:lnTo>
                  <a:lnTo>
                    <a:pt x="3100" y="1628"/>
                  </a:lnTo>
                  <a:lnTo>
                    <a:pt x="3016" y="1642"/>
                  </a:lnTo>
                  <a:lnTo>
                    <a:pt x="2934" y="1654"/>
                  </a:lnTo>
                  <a:lnTo>
                    <a:pt x="2852" y="1662"/>
                  </a:lnTo>
                  <a:lnTo>
                    <a:pt x="2852" y="1662"/>
                  </a:lnTo>
                  <a:lnTo>
                    <a:pt x="2824" y="1666"/>
                  </a:lnTo>
                  <a:lnTo>
                    <a:pt x="2796" y="1672"/>
                  </a:lnTo>
                  <a:lnTo>
                    <a:pt x="2770" y="1682"/>
                  </a:lnTo>
                  <a:lnTo>
                    <a:pt x="2744" y="1694"/>
                  </a:lnTo>
                  <a:lnTo>
                    <a:pt x="2722" y="1710"/>
                  </a:lnTo>
                  <a:lnTo>
                    <a:pt x="2700" y="1726"/>
                  </a:lnTo>
                  <a:lnTo>
                    <a:pt x="2680" y="1746"/>
                  </a:lnTo>
                  <a:lnTo>
                    <a:pt x="2662" y="1770"/>
                  </a:lnTo>
                  <a:lnTo>
                    <a:pt x="2662" y="1770"/>
                  </a:lnTo>
                  <a:lnTo>
                    <a:pt x="2648" y="1794"/>
                  </a:lnTo>
                  <a:lnTo>
                    <a:pt x="2636" y="1818"/>
                  </a:lnTo>
                  <a:lnTo>
                    <a:pt x="2626" y="1844"/>
                  </a:lnTo>
                  <a:lnTo>
                    <a:pt x="2620" y="1872"/>
                  </a:lnTo>
                  <a:lnTo>
                    <a:pt x="2616" y="1900"/>
                  </a:lnTo>
                  <a:lnTo>
                    <a:pt x="2616" y="1928"/>
                  </a:lnTo>
                  <a:lnTo>
                    <a:pt x="2618" y="1956"/>
                  </a:lnTo>
                  <a:lnTo>
                    <a:pt x="2624" y="1982"/>
                  </a:lnTo>
                  <a:lnTo>
                    <a:pt x="2752" y="2454"/>
                  </a:lnTo>
                  <a:lnTo>
                    <a:pt x="2752" y="2454"/>
                  </a:lnTo>
                  <a:lnTo>
                    <a:pt x="2760" y="2480"/>
                  </a:lnTo>
                  <a:lnTo>
                    <a:pt x="2770" y="2502"/>
                  </a:lnTo>
                  <a:lnTo>
                    <a:pt x="2784" y="2524"/>
                  </a:lnTo>
                  <a:lnTo>
                    <a:pt x="2798" y="2546"/>
                  </a:lnTo>
                  <a:lnTo>
                    <a:pt x="2814" y="2564"/>
                  </a:lnTo>
                  <a:lnTo>
                    <a:pt x="2832" y="2582"/>
                  </a:lnTo>
                  <a:lnTo>
                    <a:pt x="2852" y="2598"/>
                  </a:lnTo>
                  <a:lnTo>
                    <a:pt x="2874" y="2610"/>
                  </a:lnTo>
                  <a:lnTo>
                    <a:pt x="2874" y="2610"/>
                  </a:lnTo>
                  <a:lnTo>
                    <a:pt x="2904" y="2624"/>
                  </a:lnTo>
                  <a:lnTo>
                    <a:pt x="2936" y="2636"/>
                  </a:lnTo>
                  <a:lnTo>
                    <a:pt x="2966" y="2642"/>
                  </a:lnTo>
                  <a:lnTo>
                    <a:pt x="3000" y="2644"/>
                  </a:lnTo>
                  <a:lnTo>
                    <a:pt x="3000" y="2644"/>
                  </a:lnTo>
                  <a:lnTo>
                    <a:pt x="3018" y="2642"/>
                  </a:lnTo>
                  <a:lnTo>
                    <a:pt x="3036" y="2640"/>
                  </a:lnTo>
                  <a:lnTo>
                    <a:pt x="3054" y="2638"/>
                  </a:lnTo>
                  <a:lnTo>
                    <a:pt x="3072" y="2632"/>
                  </a:lnTo>
                  <a:lnTo>
                    <a:pt x="3072" y="2632"/>
                  </a:lnTo>
                  <a:lnTo>
                    <a:pt x="3128" y="2618"/>
                  </a:lnTo>
                  <a:lnTo>
                    <a:pt x="3190" y="2602"/>
                  </a:lnTo>
                  <a:lnTo>
                    <a:pt x="3190" y="2602"/>
                  </a:lnTo>
                  <a:lnTo>
                    <a:pt x="3234" y="2592"/>
                  </a:lnTo>
                  <a:lnTo>
                    <a:pt x="3234" y="2592"/>
                  </a:lnTo>
                  <a:lnTo>
                    <a:pt x="3404" y="2550"/>
                  </a:lnTo>
                  <a:lnTo>
                    <a:pt x="3484" y="2530"/>
                  </a:lnTo>
                  <a:lnTo>
                    <a:pt x="3558" y="2510"/>
                  </a:lnTo>
                  <a:lnTo>
                    <a:pt x="3628" y="2488"/>
                  </a:lnTo>
                  <a:lnTo>
                    <a:pt x="3696" y="2466"/>
                  </a:lnTo>
                  <a:lnTo>
                    <a:pt x="3760" y="2444"/>
                  </a:lnTo>
                  <a:lnTo>
                    <a:pt x="3824" y="2420"/>
                  </a:lnTo>
                  <a:lnTo>
                    <a:pt x="3882" y="2396"/>
                  </a:lnTo>
                  <a:lnTo>
                    <a:pt x="3940" y="2370"/>
                  </a:lnTo>
                  <a:lnTo>
                    <a:pt x="3998" y="2344"/>
                  </a:lnTo>
                  <a:lnTo>
                    <a:pt x="4052" y="2316"/>
                  </a:lnTo>
                  <a:lnTo>
                    <a:pt x="4108" y="2288"/>
                  </a:lnTo>
                  <a:lnTo>
                    <a:pt x="4162" y="2256"/>
                  </a:lnTo>
                  <a:lnTo>
                    <a:pt x="4216" y="2224"/>
                  </a:lnTo>
                  <a:lnTo>
                    <a:pt x="4270" y="2190"/>
                  </a:lnTo>
                  <a:lnTo>
                    <a:pt x="4270" y="2190"/>
                  </a:lnTo>
                  <a:lnTo>
                    <a:pt x="4340" y="2142"/>
                  </a:lnTo>
                  <a:lnTo>
                    <a:pt x="4408" y="2092"/>
                  </a:lnTo>
                  <a:lnTo>
                    <a:pt x="4474" y="2042"/>
                  </a:lnTo>
                  <a:lnTo>
                    <a:pt x="4538" y="1988"/>
                  </a:lnTo>
                  <a:lnTo>
                    <a:pt x="4598" y="1930"/>
                  </a:lnTo>
                  <a:lnTo>
                    <a:pt x="4658" y="1870"/>
                  </a:lnTo>
                  <a:lnTo>
                    <a:pt x="4714" y="1808"/>
                  </a:lnTo>
                  <a:lnTo>
                    <a:pt x="4770" y="1742"/>
                  </a:lnTo>
                  <a:lnTo>
                    <a:pt x="4824" y="1674"/>
                  </a:lnTo>
                  <a:lnTo>
                    <a:pt x="4876" y="1602"/>
                  </a:lnTo>
                  <a:lnTo>
                    <a:pt x="4926" y="1526"/>
                  </a:lnTo>
                  <a:lnTo>
                    <a:pt x="4976" y="1446"/>
                  </a:lnTo>
                  <a:lnTo>
                    <a:pt x="5024" y="1364"/>
                  </a:lnTo>
                  <a:lnTo>
                    <a:pt x="5072" y="1276"/>
                  </a:lnTo>
                  <a:lnTo>
                    <a:pt x="5118" y="1184"/>
                  </a:lnTo>
                  <a:lnTo>
                    <a:pt x="5164" y="1088"/>
                  </a:lnTo>
                  <a:lnTo>
                    <a:pt x="5164" y="1088"/>
                  </a:lnTo>
                  <a:lnTo>
                    <a:pt x="5174" y="1062"/>
                  </a:lnTo>
                  <a:lnTo>
                    <a:pt x="5174" y="1062"/>
                  </a:lnTo>
                  <a:lnTo>
                    <a:pt x="5194" y="1076"/>
                  </a:lnTo>
                  <a:lnTo>
                    <a:pt x="5216" y="1088"/>
                  </a:lnTo>
                  <a:lnTo>
                    <a:pt x="5238" y="1098"/>
                  </a:lnTo>
                  <a:lnTo>
                    <a:pt x="5260" y="1106"/>
                  </a:lnTo>
                  <a:lnTo>
                    <a:pt x="5284" y="1112"/>
                  </a:lnTo>
                  <a:lnTo>
                    <a:pt x="5308" y="1116"/>
                  </a:lnTo>
                  <a:lnTo>
                    <a:pt x="5332" y="1118"/>
                  </a:lnTo>
                  <a:lnTo>
                    <a:pt x="5358" y="1116"/>
                  </a:lnTo>
                  <a:lnTo>
                    <a:pt x="5358" y="1116"/>
                  </a:lnTo>
                  <a:lnTo>
                    <a:pt x="5434" y="1110"/>
                  </a:lnTo>
                  <a:lnTo>
                    <a:pt x="5508" y="1106"/>
                  </a:lnTo>
                  <a:lnTo>
                    <a:pt x="5602" y="1104"/>
                  </a:lnTo>
                  <a:lnTo>
                    <a:pt x="5746" y="1102"/>
                  </a:lnTo>
                  <a:lnTo>
                    <a:pt x="6396" y="1102"/>
                  </a:lnTo>
                  <a:lnTo>
                    <a:pt x="6396" y="1102"/>
                  </a:lnTo>
                  <a:lnTo>
                    <a:pt x="6374" y="1142"/>
                  </a:lnTo>
                  <a:lnTo>
                    <a:pt x="6350" y="1180"/>
                  </a:lnTo>
                  <a:lnTo>
                    <a:pt x="6326" y="1216"/>
                  </a:lnTo>
                  <a:lnTo>
                    <a:pt x="6300" y="1254"/>
                  </a:lnTo>
                  <a:lnTo>
                    <a:pt x="6272" y="1290"/>
                  </a:lnTo>
                  <a:lnTo>
                    <a:pt x="6242" y="1324"/>
                  </a:lnTo>
                  <a:lnTo>
                    <a:pt x="6210" y="1360"/>
                  </a:lnTo>
                  <a:lnTo>
                    <a:pt x="6176" y="1394"/>
                  </a:lnTo>
                  <a:lnTo>
                    <a:pt x="6176" y="1394"/>
                  </a:lnTo>
                  <a:lnTo>
                    <a:pt x="6140" y="1428"/>
                  </a:lnTo>
                  <a:lnTo>
                    <a:pt x="6104" y="1462"/>
                  </a:lnTo>
                  <a:lnTo>
                    <a:pt x="6068" y="1494"/>
                  </a:lnTo>
                  <a:lnTo>
                    <a:pt x="6028" y="1524"/>
                  </a:lnTo>
                  <a:lnTo>
                    <a:pt x="5988" y="1554"/>
                  </a:lnTo>
                  <a:lnTo>
                    <a:pt x="5948" y="1582"/>
                  </a:lnTo>
                  <a:lnTo>
                    <a:pt x="5906" y="1610"/>
                  </a:lnTo>
                  <a:lnTo>
                    <a:pt x="5862" y="1636"/>
                  </a:lnTo>
                  <a:lnTo>
                    <a:pt x="5816" y="1660"/>
                  </a:lnTo>
                  <a:lnTo>
                    <a:pt x="5770" y="1684"/>
                  </a:lnTo>
                  <a:lnTo>
                    <a:pt x="5720" y="1708"/>
                  </a:lnTo>
                  <a:lnTo>
                    <a:pt x="5670" y="1730"/>
                  </a:lnTo>
                  <a:lnTo>
                    <a:pt x="5618" y="1752"/>
                  </a:lnTo>
                  <a:lnTo>
                    <a:pt x="5564" y="1774"/>
                  </a:lnTo>
                  <a:lnTo>
                    <a:pt x="5508" y="1794"/>
                  </a:lnTo>
                  <a:lnTo>
                    <a:pt x="5450" y="1814"/>
                  </a:lnTo>
                  <a:lnTo>
                    <a:pt x="5450" y="1814"/>
                  </a:lnTo>
                  <a:lnTo>
                    <a:pt x="5420" y="1826"/>
                  </a:lnTo>
                  <a:lnTo>
                    <a:pt x="5392" y="1842"/>
                  </a:lnTo>
                  <a:lnTo>
                    <a:pt x="5364" y="1862"/>
                  </a:lnTo>
                  <a:lnTo>
                    <a:pt x="5342" y="1884"/>
                  </a:lnTo>
                  <a:lnTo>
                    <a:pt x="5322" y="1908"/>
                  </a:lnTo>
                  <a:lnTo>
                    <a:pt x="5304" y="1936"/>
                  </a:lnTo>
                  <a:lnTo>
                    <a:pt x="5290" y="1966"/>
                  </a:lnTo>
                  <a:lnTo>
                    <a:pt x="5282" y="1998"/>
                  </a:lnTo>
                  <a:lnTo>
                    <a:pt x="5282" y="1998"/>
                  </a:lnTo>
                  <a:lnTo>
                    <a:pt x="5276" y="2030"/>
                  </a:lnTo>
                  <a:lnTo>
                    <a:pt x="5274" y="2064"/>
                  </a:lnTo>
                  <a:lnTo>
                    <a:pt x="5278" y="2096"/>
                  </a:lnTo>
                  <a:lnTo>
                    <a:pt x="5284" y="2126"/>
                  </a:lnTo>
                  <a:lnTo>
                    <a:pt x="5296" y="2158"/>
                  </a:lnTo>
                  <a:lnTo>
                    <a:pt x="5310" y="2186"/>
                  </a:lnTo>
                  <a:lnTo>
                    <a:pt x="5328" y="2214"/>
                  </a:lnTo>
                  <a:lnTo>
                    <a:pt x="5350" y="2238"/>
                  </a:lnTo>
                  <a:lnTo>
                    <a:pt x="5350" y="2238"/>
                  </a:lnTo>
                  <a:lnTo>
                    <a:pt x="5400" y="2288"/>
                  </a:lnTo>
                  <a:lnTo>
                    <a:pt x="5442" y="2332"/>
                  </a:lnTo>
                  <a:lnTo>
                    <a:pt x="5476" y="2370"/>
                  </a:lnTo>
                  <a:lnTo>
                    <a:pt x="5506" y="2406"/>
                  </a:lnTo>
                  <a:lnTo>
                    <a:pt x="5532" y="2444"/>
                  </a:lnTo>
                  <a:lnTo>
                    <a:pt x="5558" y="2484"/>
                  </a:lnTo>
                  <a:lnTo>
                    <a:pt x="5584" y="2532"/>
                  </a:lnTo>
                  <a:lnTo>
                    <a:pt x="5612" y="2586"/>
                  </a:lnTo>
                  <a:lnTo>
                    <a:pt x="5612" y="2586"/>
                  </a:lnTo>
                  <a:lnTo>
                    <a:pt x="5620" y="2602"/>
                  </a:lnTo>
                  <a:lnTo>
                    <a:pt x="5630" y="2616"/>
                  </a:lnTo>
                  <a:lnTo>
                    <a:pt x="5642" y="2630"/>
                  </a:lnTo>
                  <a:lnTo>
                    <a:pt x="5654" y="2644"/>
                  </a:lnTo>
                  <a:lnTo>
                    <a:pt x="5666" y="2656"/>
                  </a:lnTo>
                  <a:lnTo>
                    <a:pt x="5680" y="2668"/>
                  </a:lnTo>
                  <a:lnTo>
                    <a:pt x="5708" y="2688"/>
                  </a:lnTo>
                  <a:lnTo>
                    <a:pt x="5738" y="2704"/>
                  </a:lnTo>
                  <a:lnTo>
                    <a:pt x="5770" y="2716"/>
                  </a:lnTo>
                  <a:lnTo>
                    <a:pt x="5804" y="2722"/>
                  </a:lnTo>
                  <a:lnTo>
                    <a:pt x="5840" y="2724"/>
                  </a:lnTo>
                  <a:lnTo>
                    <a:pt x="5840" y="2724"/>
                  </a:lnTo>
                  <a:lnTo>
                    <a:pt x="5866" y="2722"/>
                  </a:lnTo>
                  <a:lnTo>
                    <a:pt x="5894" y="2718"/>
                  </a:lnTo>
                  <a:lnTo>
                    <a:pt x="5920" y="2712"/>
                  </a:lnTo>
                  <a:lnTo>
                    <a:pt x="5946" y="2700"/>
                  </a:lnTo>
                  <a:lnTo>
                    <a:pt x="5946" y="2700"/>
                  </a:lnTo>
                  <a:lnTo>
                    <a:pt x="6032" y="2660"/>
                  </a:lnTo>
                  <a:lnTo>
                    <a:pt x="6114" y="2620"/>
                  </a:lnTo>
                  <a:lnTo>
                    <a:pt x="6192" y="2580"/>
                  </a:lnTo>
                  <a:lnTo>
                    <a:pt x="6266" y="2538"/>
                  </a:lnTo>
                  <a:lnTo>
                    <a:pt x="6340" y="2496"/>
                  </a:lnTo>
                  <a:lnTo>
                    <a:pt x="6408" y="2454"/>
                  </a:lnTo>
                  <a:lnTo>
                    <a:pt x="6474" y="2410"/>
                  </a:lnTo>
                  <a:lnTo>
                    <a:pt x="6538" y="2366"/>
                  </a:lnTo>
                  <a:lnTo>
                    <a:pt x="6600" y="2320"/>
                  </a:lnTo>
                  <a:lnTo>
                    <a:pt x="6658" y="2274"/>
                  </a:lnTo>
                  <a:lnTo>
                    <a:pt x="6714" y="2226"/>
                  </a:lnTo>
                  <a:lnTo>
                    <a:pt x="6770" y="2178"/>
                  </a:lnTo>
                  <a:lnTo>
                    <a:pt x="6822" y="2126"/>
                  </a:lnTo>
                  <a:lnTo>
                    <a:pt x="6874" y="2074"/>
                  </a:lnTo>
                  <a:lnTo>
                    <a:pt x="6922" y="2020"/>
                  </a:lnTo>
                  <a:lnTo>
                    <a:pt x="6970" y="1966"/>
                  </a:lnTo>
                  <a:lnTo>
                    <a:pt x="6970" y="1966"/>
                  </a:lnTo>
                  <a:lnTo>
                    <a:pt x="7018" y="1906"/>
                  </a:lnTo>
                  <a:lnTo>
                    <a:pt x="7066" y="1846"/>
                  </a:lnTo>
                  <a:lnTo>
                    <a:pt x="7108" y="1784"/>
                  </a:lnTo>
                  <a:lnTo>
                    <a:pt x="7150" y="1722"/>
                  </a:lnTo>
                  <a:lnTo>
                    <a:pt x="7190" y="1658"/>
                  </a:lnTo>
                  <a:lnTo>
                    <a:pt x="7228" y="1594"/>
                  </a:lnTo>
                  <a:lnTo>
                    <a:pt x="7264" y="1526"/>
                  </a:lnTo>
                  <a:lnTo>
                    <a:pt x="7298" y="1458"/>
                  </a:lnTo>
                  <a:lnTo>
                    <a:pt x="7330" y="1386"/>
                  </a:lnTo>
                  <a:lnTo>
                    <a:pt x="7362" y="1314"/>
                  </a:lnTo>
                  <a:lnTo>
                    <a:pt x="7390" y="1238"/>
                  </a:lnTo>
                  <a:lnTo>
                    <a:pt x="7418" y="1160"/>
                  </a:lnTo>
                  <a:lnTo>
                    <a:pt x="7446" y="1078"/>
                  </a:lnTo>
                  <a:lnTo>
                    <a:pt x="7470" y="994"/>
                  </a:lnTo>
                  <a:lnTo>
                    <a:pt x="7494" y="906"/>
                  </a:lnTo>
                  <a:lnTo>
                    <a:pt x="7518" y="816"/>
                  </a:lnTo>
                  <a:lnTo>
                    <a:pt x="7518" y="816"/>
                  </a:lnTo>
                  <a:lnTo>
                    <a:pt x="7518" y="816"/>
                  </a:lnTo>
                  <a:lnTo>
                    <a:pt x="7518" y="816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15468480" y="1238040"/>
              <a:ext cx="16328880" cy="4353120"/>
            </a:xfrm>
            <a:custGeom>
              <a:avLst/>
              <a:gdLst>
                <a:gd name="textAreaLeft" fmla="*/ 0 w 16328880"/>
                <a:gd name="textAreaRight" fmla="*/ 16329240 w 16328880"/>
                <a:gd name="textAreaTop" fmla="*/ 0 h 4353120"/>
                <a:gd name="textAreaBottom" fmla="*/ 4353120 h 4353120"/>
              </a:gdLst>
              <a:ahLst/>
              <a:rect l="textAreaLeft" t="textAreaTop" r="textAreaRight" b="textAreaBottom"/>
              <a:pathLst>
                <a:path w="10286" h="2742">
                  <a:moveTo>
                    <a:pt x="5220" y="2332"/>
                  </a:moveTo>
                  <a:lnTo>
                    <a:pt x="5252" y="2452"/>
                  </a:lnTo>
                  <a:lnTo>
                    <a:pt x="5252" y="2452"/>
                  </a:lnTo>
                  <a:lnTo>
                    <a:pt x="5260" y="2478"/>
                  </a:lnTo>
                  <a:lnTo>
                    <a:pt x="5270" y="2500"/>
                  </a:lnTo>
                  <a:lnTo>
                    <a:pt x="5282" y="2522"/>
                  </a:lnTo>
                  <a:lnTo>
                    <a:pt x="5298" y="2544"/>
                  </a:lnTo>
                  <a:lnTo>
                    <a:pt x="5314" y="2562"/>
                  </a:lnTo>
                  <a:lnTo>
                    <a:pt x="5332" y="2580"/>
                  </a:lnTo>
                  <a:lnTo>
                    <a:pt x="5352" y="2596"/>
                  </a:lnTo>
                  <a:lnTo>
                    <a:pt x="5374" y="2608"/>
                  </a:lnTo>
                  <a:lnTo>
                    <a:pt x="5374" y="2608"/>
                  </a:lnTo>
                  <a:lnTo>
                    <a:pt x="5404" y="2622"/>
                  </a:lnTo>
                  <a:lnTo>
                    <a:pt x="5434" y="2634"/>
                  </a:lnTo>
                  <a:lnTo>
                    <a:pt x="5466" y="2640"/>
                  </a:lnTo>
                  <a:lnTo>
                    <a:pt x="5498" y="2642"/>
                  </a:lnTo>
                  <a:lnTo>
                    <a:pt x="5498" y="2642"/>
                  </a:lnTo>
                  <a:lnTo>
                    <a:pt x="5516" y="2640"/>
                  </a:lnTo>
                  <a:lnTo>
                    <a:pt x="5534" y="2638"/>
                  </a:lnTo>
                  <a:lnTo>
                    <a:pt x="5552" y="2636"/>
                  </a:lnTo>
                  <a:lnTo>
                    <a:pt x="5570" y="2630"/>
                  </a:lnTo>
                  <a:lnTo>
                    <a:pt x="5570" y="2630"/>
                  </a:lnTo>
                  <a:lnTo>
                    <a:pt x="5626" y="2616"/>
                  </a:lnTo>
                  <a:lnTo>
                    <a:pt x="5690" y="2600"/>
                  </a:lnTo>
                  <a:lnTo>
                    <a:pt x="5690" y="2600"/>
                  </a:lnTo>
                  <a:lnTo>
                    <a:pt x="5732" y="2590"/>
                  </a:lnTo>
                  <a:lnTo>
                    <a:pt x="5732" y="2590"/>
                  </a:lnTo>
                  <a:lnTo>
                    <a:pt x="5904" y="2548"/>
                  </a:lnTo>
                  <a:lnTo>
                    <a:pt x="5982" y="2528"/>
                  </a:lnTo>
                  <a:lnTo>
                    <a:pt x="6058" y="2508"/>
                  </a:lnTo>
                  <a:lnTo>
                    <a:pt x="6128" y="2486"/>
                  </a:lnTo>
                  <a:lnTo>
                    <a:pt x="6196" y="2464"/>
                  </a:lnTo>
                  <a:lnTo>
                    <a:pt x="6260" y="2442"/>
                  </a:lnTo>
                  <a:lnTo>
                    <a:pt x="6322" y="2418"/>
                  </a:lnTo>
                  <a:lnTo>
                    <a:pt x="6382" y="2394"/>
                  </a:lnTo>
                  <a:lnTo>
                    <a:pt x="6440" y="2370"/>
                  </a:lnTo>
                  <a:lnTo>
                    <a:pt x="6496" y="2342"/>
                  </a:lnTo>
                  <a:lnTo>
                    <a:pt x="6552" y="2314"/>
                  </a:lnTo>
                  <a:lnTo>
                    <a:pt x="6606" y="2286"/>
                  </a:lnTo>
                  <a:lnTo>
                    <a:pt x="6660" y="2254"/>
                  </a:lnTo>
                  <a:lnTo>
                    <a:pt x="6714" y="2222"/>
                  </a:lnTo>
                  <a:lnTo>
                    <a:pt x="6770" y="2188"/>
                  </a:lnTo>
                  <a:lnTo>
                    <a:pt x="6770" y="2188"/>
                  </a:lnTo>
                  <a:lnTo>
                    <a:pt x="6828" y="2150"/>
                  </a:lnTo>
                  <a:lnTo>
                    <a:pt x="6884" y="2110"/>
                  </a:lnTo>
                  <a:lnTo>
                    <a:pt x="6938" y="2068"/>
                  </a:lnTo>
                  <a:lnTo>
                    <a:pt x="6990" y="2026"/>
                  </a:lnTo>
                  <a:lnTo>
                    <a:pt x="7042" y="1982"/>
                  </a:lnTo>
                  <a:lnTo>
                    <a:pt x="7090" y="1936"/>
                  </a:lnTo>
                  <a:lnTo>
                    <a:pt x="7140" y="1888"/>
                  </a:lnTo>
                  <a:lnTo>
                    <a:pt x="7186" y="1838"/>
                  </a:lnTo>
                  <a:lnTo>
                    <a:pt x="7232" y="1786"/>
                  </a:lnTo>
                  <a:lnTo>
                    <a:pt x="7276" y="1732"/>
                  </a:lnTo>
                  <a:lnTo>
                    <a:pt x="7320" y="1676"/>
                  </a:lnTo>
                  <a:lnTo>
                    <a:pt x="7364" y="1618"/>
                  </a:lnTo>
                  <a:lnTo>
                    <a:pt x="7404" y="1556"/>
                  </a:lnTo>
                  <a:lnTo>
                    <a:pt x="7446" y="1494"/>
                  </a:lnTo>
                  <a:lnTo>
                    <a:pt x="7486" y="1428"/>
                  </a:lnTo>
                  <a:lnTo>
                    <a:pt x="7524" y="1358"/>
                  </a:lnTo>
                  <a:lnTo>
                    <a:pt x="7524" y="1358"/>
                  </a:lnTo>
                  <a:lnTo>
                    <a:pt x="7542" y="1368"/>
                  </a:lnTo>
                  <a:lnTo>
                    <a:pt x="7560" y="1374"/>
                  </a:lnTo>
                  <a:lnTo>
                    <a:pt x="7576" y="1380"/>
                  </a:lnTo>
                  <a:lnTo>
                    <a:pt x="7596" y="1386"/>
                  </a:lnTo>
                  <a:lnTo>
                    <a:pt x="7614" y="1388"/>
                  </a:lnTo>
                  <a:lnTo>
                    <a:pt x="7632" y="1390"/>
                  </a:lnTo>
                  <a:lnTo>
                    <a:pt x="7652" y="1390"/>
                  </a:lnTo>
                  <a:lnTo>
                    <a:pt x="7670" y="1390"/>
                  </a:lnTo>
                  <a:lnTo>
                    <a:pt x="7670" y="1390"/>
                  </a:lnTo>
                  <a:lnTo>
                    <a:pt x="7760" y="1382"/>
                  </a:lnTo>
                  <a:lnTo>
                    <a:pt x="7832" y="1380"/>
                  </a:lnTo>
                  <a:lnTo>
                    <a:pt x="7832" y="1396"/>
                  </a:lnTo>
                  <a:lnTo>
                    <a:pt x="7832" y="1396"/>
                  </a:lnTo>
                  <a:lnTo>
                    <a:pt x="7832" y="1462"/>
                  </a:lnTo>
                  <a:lnTo>
                    <a:pt x="7830" y="1520"/>
                  </a:lnTo>
                  <a:lnTo>
                    <a:pt x="7826" y="1572"/>
                  </a:lnTo>
                  <a:lnTo>
                    <a:pt x="7820" y="1618"/>
                  </a:lnTo>
                  <a:lnTo>
                    <a:pt x="7820" y="1618"/>
                  </a:lnTo>
                  <a:lnTo>
                    <a:pt x="7818" y="1646"/>
                  </a:lnTo>
                  <a:lnTo>
                    <a:pt x="7818" y="1672"/>
                  </a:lnTo>
                  <a:lnTo>
                    <a:pt x="7822" y="1700"/>
                  </a:lnTo>
                  <a:lnTo>
                    <a:pt x="7828" y="1726"/>
                  </a:lnTo>
                  <a:lnTo>
                    <a:pt x="7838" y="1752"/>
                  </a:lnTo>
                  <a:lnTo>
                    <a:pt x="7848" y="1776"/>
                  </a:lnTo>
                  <a:lnTo>
                    <a:pt x="7864" y="1800"/>
                  </a:lnTo>
                  <a:lnTo>
                    <a:pt x="7880" y="1822"/>
                  </a:lnTo>
                  <a:lnTo>
                    <a:pt x="7880" y="1822"/>
                  </a:lnTo>
                  <a:lnTo>
                    <a:pt x="7900" y="1840"/>
                  </a:lnTo>
                  <a:lnTo>
                    <a:pt x="7920" y="1858"/>
                  </a:lnTo>
                  <a:lnTo>
                    <a:pt x="7942" y="1874"/>
                  </a:lnTo>
                  <a:lnTo>
                    <a:pt x="7968" y="1886"/>
                  </a:lnTo>
                  <a:lnTo>
                    <a:pt x="7992" y="1896"/>
                  </a:lnTo>
                  <a:lnTo>
                    <a:pt x="8018" y="1904"/>
                  </a:lnTo>
                  <a:lnTo>
                    <a:pt x="8046" y="1908"/>
                  </a:lnTo>
                  <a:lnTo>
                    <a:pt x="8074" y="1910"/>
                  </a:lnTo>
                  <a:lnTo>
                    <a:pt x="8134" y="1910"/>
                  </a:lnTo>
                  <a:lnTo>
                    <a:pt x="8134" y="1910"/>
                  </a:lnTo>
                  <a:lnTo>
                    <a:pt x="8120" y="1922"/>
                  </a:lnTo>
                  <a:lnTo>
                    <a:pt x="8104" y="1938"/>
                  </a:lnTo>
                  <a:lnTo>
                    <a:pt x="8090" y="1954"/>
                  </a:lnTo>
                  <a:lnTo>
                    <a:pt x="8078" y="1970"/>
                  </a:lnTo>
                  <a:lnTo>
                    <a:pt x="8068" y="1988"/>
                  </a:lnTo>
                  <a:lnTo>
                    <a:pt x="8058" y="2006"/>
                  </a:lnTo>
                  <a:lnTo>
                    <a:pt x="8050" y="2026"/>
                  </a:lnTo>
                  <a:lnTo>
                    <a:pt x="8044" y="2048"/>
                  </a:lnTo>
                  <a:lnTo>
                    <a:pt x="8044" y="2048"/>
                  </a:lnTo>
                  <a:lnTo>
                    <a:pt x="8038" y="2080"/>
                  </a:lnTo>
                  <a:lnTo>
                    <a:pt x="8036" y="2112"/>
                  </a:lnTo>
                  <a:lnTo>
                    <a:pt x="8038" y="2146"/>
                  </a:lnTo>
                  <a:lnTo>
                    <a:pt x="8046" y="2176"/>
                  </a:lnTo>
                  <a:lnTo>
                    <a:pt x="8056" y="2208"/>
                  </a:lnTo>
                  <a:lnTo>
                    <a:pt x="8070" y="2236"/>
                  </a:lnTo>
                  <a:lnTo>
                    <a:pt x="8088" y="2264"/>
                  </a:lnTo>
                  <a:lnTo>
                    <a:pt x="8110" y="2290"/>
                  </a:lnTo>
                  <a:lnTo>
                    <a:pt x="8110" y="2290"/>
                  </a:lnTo>
                  <a:lnTo>
                    <a:pt x="8150" y="2330"/>
                  </a:lnTo>
                  <a:lnTo>
                    <a:pt x="8184" y="2368"/>
                  </a:lnTo>
                  <a:lnTo>
                    <a:pt x="8212" y="2402"/>
                  </a:lnTo>
                  <a:lnTo>
                    <a:pt x="8238" y="2436"/>
                  </a:lnTo>
                  <a:lnTo>
                    <a:pt x="8262" y="2472"/>
                  </a:lnTo>
                  <a:lnTo>
                    <a:pt x="8284" y="2508"/>
                  </a:lnTo>
                  <a:lnTo>
                    <a:pt x="8306" y="2550"/>
                  </a:lnTo>
                  <a:lnTo>
                    <a:pt x="8330" y="2598"/>
                  </a:lnTo>
                  <a:lnTo>
                    <a:pt x="8330" y="2598"/>
                  </a:lnTo>
                  <a:lnTo>
                    <a:pt x="8338" y="2614"/>
                  </a:lnTo>
                  <a:lnTo>
                    <a:pt x="8348" y="2630"/>
                  </a:lnTo>
                  <a:lnTo>
                    <a:pt x="8360" y="2644"/>
                  </a:lnTo>
                  <a:lnTo>
                    <a:pt x="8370" y="2658"/>
                  </a:lnTo>
                  <a:lnTo>
                    <a:pt x="8384" y="2672"/>
                  </a:lnTo>
                  <a:lnTo>
                    <a:pt x="8396" y="2684"/>
                  </a:lnTo>
                  <a:lnTo>
                    <a:pt x="8410" y="2694"/>
                  </a:lnTo>
                  <a:lnTo>
                    <a:pt x="8426" y="2704"/>
                  </a:lnTo>
                  <a:lnTo>
                    <a:pt x="8440" y="2712"/>
                  </a:lnTo>
                  <a:lnTo>
                    <a:pt x="8456" y="2720"/>
                  </a:lnTo>
                  <a:lnTo>
                    <a:pt x="8472" y="2726"/>
                  </a:lnTo>
                  <a:lnTo>
                    <a:pt x="8490" y="2732"/>
                  </a:lnTo>
                  <a:lnTo>
                    <a:pt x="8506" y="2736"/>
                  </a:lnTo>
                  <a:lnTo>
                    <a:pt x="8524" y="2740"/>
                  </a:lnTo>
                  <a:lnTo>
                    <a:pt x="8542" y="2742"/>
                  </a:lnTo>
                  <a:lnTo>
                    <a:pt x="8560" y="2742"/>
                  </a:lnTo>
                  <a:lnTo>
                    <a:pt x="8560" y="2742"/>
                  </a:lnTo>
                  <a:lnTo>
                    <a:pt x="8582" y="2742"/>
                  </a:lnTo>
                  <a:lnTo>
                    <a:pt x="8604" y="2738"/>
                  </a:lnTo>
                  <a:lnTo>
                    <a:pt x="8626" y="2734"/>
                  </a:lnTo>
                  <a:lnTo>
                    <a:pt x="8648" y="2726"/>
                  </a:lnTo>
                  <a:lnTo>
                    <a:pt x="8648" y="2726"/>
                  </a:lnTo>
                  <a:lnTo>
                    <a:pt x="8738" y="2692"/>
                  </a:lnTo>
                  <a:lnTo>
                    <a:pt x="8814" y="2660"/>
                  </a:lnTo>
                  <a:lnTo>
                    <a:pt x="8882" y="2630"/>
                  </a:lnTo>
                  <a:lnTo>
                    <a:pt x="8948" y="2598"/>
                  </a:lnTo>
                  <a:lnTo>
                    <a:pt x="8948" y="2598"/>
                  </a:lnTo>
                  <a:lnTo>
                    <a:pt x="8948" y="2598"/>
                  </a:lnTo>
                  <a:lnTo>
                    <a:pt x="8948" y="2598"/>
                  </a:lnTo>
                  <a:lnTo>
                    <a:pt x="8990" y="2574"/>
                  </a:lnTo>
                  <a:lnTo>
                    <a:pt x="9030" y="2552"/>
                  </a:lnTo>
                  <a:lnTo>
                    <a:pt x="9068" y="2528"/>
                  </a:lnTo>
                  <a:lnTo>
                    <a:pt x="9106" y="2502"/>
                  </a:lnTo>
                  <a:lnTo>
                    <a:pt x="9142" y="2476"/>
                  </a:lnTo>
                  <a:lnTo>
                    <a:pt x="9178" y="2450"/>
                  </a:lnTo>
                  <a:lnTo>
                    <a:pt x="9212" y="2422"/>
                  </a:lnTo>
                  <a:lnTo>
                    <a:pt x="9246" y="2394"/>
                  </a:lnTo>
                  <a:lnTo>
                    <a:pt x="9278" y="2364"/>
                  </a:lnTo>
                  <a:lnTo>
                    <a:pt x="9308" y="2334"/>
                  </a:lnTo>
                  <a:lnTo>
                    <a:pt x="9338" y="2304"/>
                  </a:lnTo>
                  <a:lnTo>
                    <a:pt x="9366" y="2272"/>
                  </a:lnTo>
                  <a:lnTo>
                    <a:pt x="9394" y="2240"/>
                  </a:lnTo>
                  <a:lnTo>
                    <a:pt x="9420" y="2206"/>
                  </a:lnTo>
                  <a:lnTo>
                    <a:pt x="9446" y="2172"/>
                  </a:lnTo>
                  <a:lnTo>
                    <a:pt x="9470" y="2136"/>
                  </a:lnTo>
                  <a:lnTo>
                    <a:pt x="9470" y="2136"/>
                  </a:lnTo>
                  <a:lnTo>
                    <a:pt x="9492" y="2102"/>
                  </a:lnTo>
                  <a:lnTo>
                    <a:pt x="9514" y="2066"/>
                  </a:lnTo>
                  <a:lnTo>
                    <a:pt x="9532" y="2032"/>
                  </a:lnTo>
                  <a:lnTo>
                    <a:pt x="9550" y="1996"/>
                  </a:lnTo>
                  <a:lnTo>
                    <a:pt x="9568" y="1960"/>
                  </a:lnTo>
                  <a:lnTo>
                    <a:pt x="9584" y="1924"/>
                  </a:lnTo>
                  <a:lnTo>
                    <a:pt x="9598" y="1886"/>
                  </a:lnTo>
                  <a:lnTo>
                    <a:pt x="9612" y="1848"/>
                  </a:lnTo>
                  <a:lnTo>
                    <a:pt x="9624" y="1808"/>
                  </a:lnTo>
                  <a:lnTo>
                    <a:pt x="9636" y="1768"/>
                  </a:lnTo>
                  <a:lnTo>
                    <a:pt x="9646" y="1726"/>
                  </a:lnTo>
                  <a:lnTo>
                    <a:pt x="9654" y="1684"/>
                  </a:lnTo>
                  <a:lnTo>
                    <a:pt x="9670" y="1592"/>
                  </a:lnTo>
                  <a:lnTo>
                    <a:pt x="9684" y="1494"/>
                  </a:lnTo>
                  <a:lnTo>
                    <a:pt x="9684" y="1494"/>
                  </a:lnTo>
                  <a:lnTo>
                    <a:pt x="9688" y="1436"/>
                  </a:lnTo>
                  <a:lnTo>
                    <a:pt x="9692" y="1380"/>
                  </a:lnTo>
                  <a:lnTo>
                    <a:pt x="9692" y="1380"/>
                  </a:lnTo>
                  <a:lnTo>
                    <a:pt x="9786" y="1382"/>
                  </a:lnTo>
                  <a:lnTo>
                    <a:pt x="9882" y="1390"/>
                  </a:lnTo>
                  <a:lnTo>
                    <a:pt x="9882" y="1390"/>
                  </a:lnTo>
                  <a:lnTo>
                    <a:pt x="9908" y="1390"/>
                  </a:lnTo>
                  <a:lnTo>
                    <a:pt x="9936" y="1388"/>
                  </a:lnTo>
                  <a:lnTo>
                    <a:pt x="9960" y="1384"/>
                  </a:lnTo>
                  <a:lnTo>
                    <a:pt x="9986" y="1376"/>
                  </a:lnTo>
                  <a:lnTo>
                    <a:pt x="10010" y="1368"/>
                  </a:lnTo>
                  <a:lnTo>
                    <a:pt x="10034" y="1354"/>
                  </a:lnTo>
                  <a:lnTo>
                    <a:pt x="10056" y="1340"/>
                  </a:lnTo>
                  <a:lnTo>
                    <a:pt x="10076" y="1324"/>
                  </a:lnTo>
                  <a:lnTo>
                    <a:pt x="10076" y="1324"/>
                  </a:lnTo>
                  <a:lnTo>
                    <a:pt x="10094" y="1304"/>
                  </a:lnTo>
                  <a:lnTo>
                    <a:pt x="10112" y="1284"/>
                  </a:lnTo>
                  <a:lnTo>
                    <a:pt x="10126" y="1262"/>
                  </a:lnTo>
                  <a:lnTo>
                    <a:pt x="10138" y="1238"/>
                  </a:lnTo>
                  <a:lnTo>
                    <a:pt x="10146" y="1214"/>
                  </a:lnTo>
                  <a:lnTo>
                    <a:pt x="10154" y="1188"/>
                  </a:lnTo>
                  <a:lnTo>
                    <a:pt x="10158" y="1162"/>
                  </a:lnTo>
                  <a:lnTo>
                    <a:pt x="10158" y="1136"/>
                  </a:lnTo>
                  <a:lnTo>
                    <a:pt x="10158" y="780"/>
                  </a:lnTo>
                  <a:lnTo>
                    <a:pt x="10158" y="780"/>
                  </a:lnTo>
                  <a:lnTo>
                    <a:pt x="10176" y="768"/>
                  </a:lnTo>
                  <a:lnTo>
                    <a:pt x="10192" y="756"/>
                  </a:lnTo>
                  <a:lnTo>
                    <a:pt x="10208" y="742"/>
                  </a:lnTo>
                  <a:lnTo>
                    <a:pt x="10222" y="728"/>
                  </a:lnTo>
                  <a:lnTo>
                    <a:pt x="10234" y="712"/>
                  </a:lnTo>
                  <a:lnTo>
                    <a:pt x="10246" y="696"/>
                  </a:lnTo>
                  <a:lnTo>
                    <a:pt x="10256" y="678"/>
                  </a:lnTo>
                  <a:lnTo>
                    <a:pt x="10266" y="660"/>
                  </a:lnTo>
                  <a:lnTo>
                    <a:pt x="10272" y="640"/>
                  </a:lnTo>
                  <a:lnTo>
                    <a:pt x="10278" y="622"/>
                  </a:lnTo>
                  <a:lnTo>
                    <a:pt x="10282" y="602"/>
                  </a:lnTo>
                  <a:lnTo>
                    <a:pt x="10286" y="580"/>
                  </a:lnTo>
                  <a:lnTo>
                    <a:pt x="10286" y="560"/>
                  </a:lnTo>
                  <a:lnTo>
                    <a:pt x="10286" y="540"/>
                  </a:lnTo>
                  <a:lnTo>
                    <a:pt x="10284" y="518"/>
                  </a:lnTo>
                  <a:lnTo>
                    <a:pt x="10280" y="498"/>
                  </a:lnTo>
                  <a:lnTo>
                    <a:pt x="10280" y="498"/>
                  </a:lnTo>
                  <a:lnTo>
                    <a:pt x="10266" y="444"/>
                  </a:lnTo>
                  <a:lnTo>
                    <a:pt x="10250" y="394"/>
                  </a:lnTo>
                  <a:lnTo>
                    <a:pt x="10234" y="344"/>
                  </a:lnTo>
                  <a:lnTo>
                    <a:pt x="10216" y="296"/>
                  </a:lnTo>
                  <a:lnTo>
                    <a:pt x="10196" y="250"/>
                  </a:lnTo>
                  <a:lnTo>
                    <a:pt x="10174" y="206"/>
                  </a:lnTo>
                  <a:lnTo>
                    <a:pt x="10152" y="164"/>
                  </a:lnTo>
                  <a:lnTo>
                    <a:pt x="10128" y="122"/>
                  </a:lnTo>
                  <a:lnTo>
                    <a:pt x="10128" y="122"/>
                  </a:lnTo>
                  <a:lnTo>
                    <a:pt x="10116" y="104"/>
                  </a:lnTo>
                  <a:lnTo>
                    <a:pt x="10104" y="88"/>
                  </a:lnTo>
                  <a:lnTo>
                    <a:pt x="10090" y="74"/>
                  </a:lnTo>
                  <a:lnTo>
                    <a:pt x="10074" y="60"/>
                  </a:lnTo>
                  <a:lnTo>
                    <a:pt x="10058" y="48"/>
                  </a:lnTo>
                  <a:lnTo>
                    <a:pt x="10040" y="36"/>
                  </a:lnTo>
                  <a:lnTo>
                    <a:pt x="10022" y="26"/>
                  </a:lnTo>
                  <a:lnTo>
                    <a:pt x="10004" y="18"/>
                  </a:lnTo>
                  <a:lnTo>
                    <a:pt x="9984" y="12"/>
                  </a:lnTo>
                  <a:lnTo>
                    <a:pt x="9966" y="6"/>
                  </a:lnTo>
                  <a:lnTo>
                    <a:pt x="9946" y="2"/>
                  </a:lnTo>
                  <a:lnTo>
                    <a:pt x="9924" y="0"/>
                  </a:lnTo>
                  <a:lnTo>
                    <a:pt x="9904" y="0"/>
                  </a:lnTo>
                  <a:lnTo>
                    <a:pt x="9884" y="2"/>
                  </a:lnTo>
                  <a:lnTo>
                    <a:pt x="9862" y="6"/>
                  </a:lnTo>
                  <a:lnTo>
                    <a:pt x="9842" y="10"/>
                  </a:lnTo>
                  <a:lnTo>
                    <a:pt x="9658" y="62"/>
                  </a:lnTo>
                  <a:lnTo>
                    <a:pt x="9658" y="62"/>
                  </a:lnTo>
                  <a:lnTo>
                    <a:pt x="9632" y="70"/>
                  </a:lnTo>
                  <a:lnTo>
                    <a:pt x="9632" y="70"/>
                  </a:lnTo>
                  <a:lnTo>
                    <a:pt x="9612" y="72"/>
                  </a:lnTo>
                  <a:lnTo>
                    <a:pt x="9592" y="78"/>
                  </a:lnTo>
                  <a:lnTo>
                    <a:pt x="9592" y="78"/>
                  </a:lnTo>
                  <a:lnTo>
                    <a:pt x="9562" y="62"/>
                  </a:lnTo>
                  <a:lnTo>
                    <a:pt x="9530" y="52"/>
                  </a:lnTo>
                  <a:lnTo>
                    <a:pt x="9498" y="44"/>
                  </a:lnTo>
                  <a:lnTo>
                    <a:pt x="9464" y="42"/>
                  </a:lnTo>
                  <a:lnTo>
                    <a:pt x="9024" y="42"/>
                  </a:lnTo>
                  <a:lnTo>
                    <a:pt x="9024" y="42"/>
                  </a:lnTo>
                  <a:lnTo>
                    <a:pt x="8996" y="44"/>
                  </a:lnTo>
                  <a:lnTo>
                    <a:pt x="8968" y="48"/>
                  </a:lnTo>
                  <a:lnTo>
                    <a:pt x="8942" y="56"/>
                  </a:lnTo>
                  <a:lnTo>
                    <a:pt x="8916" y="66"/>
                  </a:lnTo>
                  <a:lnTo>
                    <a:pt x="8892" y="78"/>
                  </a:lnTo>
                  <a:lnTo>
                    <a:pt x="8870" y="94"/>
                  </a:lnTo>
                  <a:lnTo>
                    <a:pt x="8848" y="112"/>
                  </a:lnTo>
                  <a:lnTo>
                    <a:pt x="8830" y="132"/>
                  </a:lnTo>
                  <a:lnTo>
                    <a:pt x="8830" y="132"/>
                  </a:lnTo>
                  <a:lnTo>
                    <a:pt x="8808" y="160"/>
                  </a:lnTo>
                  <a:lnTo>
                    <a:pt x="8792" y="190"/>
                  </a:lnTo>
                  <a:lnTo>
                    <a:pt x="8780" y="222"/>
                  </a:lnTo>
                  <a:lnTo>
                    <a:pt x="8772" y="254"/>
                  </a:lnTo>
                  <a:lnTo>
                    <a:pt x="8772" y="254"/>
                  </a:lnTo>
                  <a:lnTo>
                    <a:pt x="8768" y="236"/>
                  </a:lnTo>
                  <a:lnTo>
                    <a:pt x="8764" y="218"/>
                  </a:lnTo>
                  <a:lnTo>
                    <a:pt x="8758" y="202"/>
                  </a:lnTo>
                  <a:lnTo>
                    <a:pt x="8750" y="184"/>
                  </a:lnTo>
                  <a:lnTo>
                    <a:pt x="8742" y="168"/>
                  </a:lnTo>
                  <a:lnTo>
                    <a:pt x="8732" y="152"/>
                  </a:lnTo>
                  <a:lnTo>
                    <a:pt x="8722" y="138"/>
                  </a:lnTo>
                  <a:lnTo>
                    <a:pt x="8710" y="124"/>
                  </a:lnTo>
                  <a:lnTo>
                    <a:pt x="8710" y="124"/>
                  </a:lnTo>
                  <a:lnTo>
                    <a:pt x="8690" y="104"/>
                  </a:lnTo>
                  <a:lnTo>
                    <a:pt x="8670" y="88"/>
                  </a:lnTo>
                  <a:lnTo>
                    <a:pt x="8648" y="74"/>
                  </a:lnTo>
                  <a:lnTo>
                    <a:pt x="8624" y="62"/>
                  </a:lnTo>
                  <a:lnTo>
                    <a:pt x="8600" y="52"/>
                  </a:lnTo>
                  <a:lnTo>
                    <a:pt x="8574" y="46"/>
                  </a:lnTo>
                  <a:lnTo>
                    <a:pt x="8548" y="42"/>
                  </a:lnTo>
                  <a:lnTo>
                    <a:pt x="8520" y="40"/>
                  </a:lnTo>
                  <a:lnTo>
                    <a:pt x="8074" y="40"/>
                  </a:lnTo>
                  <a:lnTo>
                    <a:pt x="8074" y="40"/>
                  </a:lnTo>
                  <a:lnTo>
                    <a:pt x="8046" y="42"/>
                  </a:lnTo>
                  <a:lnTo>
                    <a:pt x="8018" y="46"/>
                  </a:lnTo>
                  <a:lnTo>
                    <a:pt x="7992" y="52"/>
                  </a:lnTo>
                  <a:lnTo>
                    <a:pt x="7968" y="62"/>
                  </a:lnTo>
                  <a:lnTo>
                    <a:pt x="7944" y="76"/>
                  </a:lnTo>
                  <a:lnTo>
                    <a:pt x="7920" y="90"/>
                  </a:lnTo>
                  <a:lnTo>
                    <a:pt x="7900" y="108"/>
                  </a:lnTo>
                  <a:lnTo>
                    <a:pt x="7880" y="128"/>
                  </a:lnTo>
                  <a:lnTo>
                    <a:pt x="7880" y="128"/>
                  </a:lnTo>
                  <a:lnTo>
                    <a:pt x="7864" y="148"/>
                  </a:lnTo>
                  <a:lnTo>
                    <a:pt x="7850" y="172"/>
                  </a:lnTo>
                  <a:lnTo>
                    <a:pt x="7838" y="196"/>
                  </a:lnTo>
                  <a:lnTo>
                    <a:pt x="7828" y="222"/>
                  </a:lnTo>
                  <a:lnTo>
                    <a:pt x="7822" y="248"/>
                  </a:lnTo>
                  <a:lnTo>
                    <a:pt x="7818" y="274"/>
                  </a:lnTo>
                  <a:lnTo>
                    <a:pt x="7818" y="302"/>
                  </a:lnTo>
                  <a:lnTo>
                    <a:pt x="7820" y="330"/>
                  </a:lnTo>
                  <a:lnTo>
                    <a:pt x="7820" y="330"/>
                  </a:lnTo>
                  <a:lnTo>
                    <a:pt x="7828" y="402"/>
                  </a:lnTo>
                  <a:lnTo>
                    <a:pt x="7832" y="478"/>
                  </a:lnTo>
                  <a:lnTo>
                    <a:pt x="7832" y="478"/>
                  </a:lnTo>
                  <a:lnTo>
                    <a:pt x="7792" y="476"/>
                  </a:lnTo>
                  <a:lnTo>
                    <a:pt x="7756" y="474"/>
                  </a:lnTo>
                  <a:lnTo>
                    <a:pt x="7682" y="464"/>
                  </a:lnTo>
                  <a:lnTo>
                    <a:pt x="7682" y="464"/>
                  </a:lnTo>
                  <a:lnTo>
                    <a:pt x="7654" y="462"/>
                  </a:lnTo>
                  <a:lnTo>
                    <a:pt x="7628" y="464"/>
                  </a:lnTo>
                  <a:lnTo>
                    <a:pt x="7600" y="466"/>
                  </a:lnTo>
                  <a:lnTo>
                    <a:pt x="7574" y="474"/>
                  </a:lnTo>
                  <a:lnTo>
                    <a:pt x="7548" y="482"/>
                  </a:lnTo>
                  <a:lnTo>
                    <a:pt x="7524" y="494"/>
                  </a:lnTo>
                  <a:lnTo>
                    <a:pt x="7502" y="508"/>
                  </a:lnTo>
                  <a:lnTo>
                    <a:pt x="7480" y="526"/>
                  </a:lnTo>
                  <a:lnTo>
                    <a:pt x="7480" y="526"/>
                  </a:lnTo>
                  <a:lnTo>
                    <a:pt x="7456" y="550"/>
                  </a:lnTo>
                  <a:lnTo>
                    <a:pt x="7436" y="576"/>
                  </a:lnTo>
                  <a:lnTo>
                    <a:pt x="7420" y="604"/>
                  </a:lnTo>
                  <a:lnTo>
                    <a:pt x="7406" y="634"/>
                  </a:lnTo>
                  <a:lnTo>
                    <a:pt x="7406" y="634"/>
                  </a:lnTo>
                  <a:lnTo>
                    <a:pt x="7372" y="602"/>
                  </a:lnTo>
                  <a:lnTo>
                    <a:pt x="7340" y="568"/>
                  </a:lnTo>
                  <a:lnTo>
                    <a:pt x="7306" y="530"/>
                  </a:lnTo>
                  <a:lnTo>
                    <a:pt x="7268" y="486"/>
                  </a:lnTo>
                  <a:lnTo>
                    <a:pt x="7268" y="486"/>
                  </a:lnTo>
                  <a:lnTo>
                    <a:pt x="7244" y="462"/>
                  </a:lnTo>
                  <a:lnTo>
                    <a:pt x="7218" y="440"/>
                  </a:lnTo>
                  <a:lnTo>
                    <a:pt x="7190" y="422"/>
                  </a:lnTo>
                  <a:lnTo>
                    <a:pt x="7160" y="410"/>
                  </a:lnTo>
                  <a:lnTo>
                    <a:pt x="7128" y="400"/>
                  </a:lnTo>
                  <a:lnTo>
                    <a:pt x="7096" y="394"/>
                  </a:lnTo>
                  <a:lnTo>
                    <a:pt x="7062" y="394"/>
                  </a:lnTo>
                  <a:lnTo>
                    <a:pt x="7028" y="398"/>
                  </a:lnTo>
                  <a:lnTo>
                    <a:pt x="7028" y="398"/>
                  </a:lnTo>
                  <a:lnTo>
                    <a:pt x="6996" y="404"/>
                  </a:lnTo>
                  <a:lnTo>
                    <a:pt x="6964" y="416"/>
                  </a:lnTo>
                  <a:lnTo>
                    <a:pt x="6936" y="432"/>
                  </a:lnTo>
                  <a:lnTo>
                    <a:pt x="6908" y="452"/>
                  </a:lnTo>
                  <a:lnTo>
                    <a:pt x="6884" y="474"/>
                  </a:lnTo>
                  <a:lnTo>
                    <a:pt x="6864" y="500"/>
                  </a:lnTo>
                  <a:lnTo>
                    <a:pt x="6846" y="528"/>
                  </a:lnTo>
                  <a:lnTo>
                    <a:pt x="6832" y="558"/>
                  </a:lnTo>
                  <a:lnTo>
                    <a:pt x="6832" y="558"/>
                  </a:lnTo>
                  <a:lnTo>
                    <a:pt x="6808" y="622"/>
                  </a:lnTo>
                  <a:lnTo>
                    <a:pt x="6782" y="682"/>
                  </a:lnTo>
                  <a:lnTo>
                    <a:pt x="6758" y="736"/>
                  </a:lnTo>
                  <a:lnTo>
                    <a:pt x="6732" y="790"/>
                  </a:lnTo>
                  <a:lnTo>
                    <a:pt x="6706" y="840"/>
                  </a:lnTo>
                  <a:lnTo>
                    <a:pt x="6678" y="890"/>
                  </a:lnTo>
                  <a:lnTo>
                    <a:pt x="6648" y="940"/>
                  </a:lnTo>
                  <a:lnTo>
                    <a:pt x="6616" y="990"/>
                  </a:lnTo>
                  <a:lnTo>
                    <a:pt x="6616" y="990"/>
                  </a:lnTo>
                  <a:lnTo>
                    <a:pt x="6614" y="992"/>
                  </a:lnTo>
                  <a:lnTo>
                    <a:pt x="6614" y="992"/>
                  </a:lnTo>
                  <a:lnTo>
                    <a:pt x="6574" y="1054"/>
                  </a:lnTo>
                  <a:lnTo>
                    <a:pt x="6530" y="1114"/>
                  </a:lnTo>
                  <a:lnTo>
                    <a:pt x="6486" y="1168"/>
                  </a:lnTo>
                  <a:lnTo>
                    <a:pt x="6440" y="1218"/>
                  </a:lnTo>
                  <a:lnTo>
                    <a:pt x="6392" y="1266"/>
                  </a:lnTo>
                  <a:lnTo>
                    <a:pt x="6340" y="1310"/>
                  </a:lnTo>
                  <a:lnTo>
                    <a:pt x="6288" y="1350"/>
                  </a:lnTo>
                  <a:lnTo>
                    <a:pt x="6232" y="1388"/>
                  </a:lnTo>
                  <a:lnTo>
                    <a:pt x="6508" y="1024"/>
                  </a:lnTo>
                  <a:lnTo>
                    <a:pt x="6508" y="1024"/>
                  </a:lnTo>
                  <a:lnTo>
                    <a:pt x="6522" y="1004"/>
                  </a:lnTo>
                  <a:lnTo>
                    <a:pt x="6534" y="982"/>
                  </a:lnTo>
                  <a:lnTo>
                    <a:pt x="6542" y="960"/>
                  </a:lnTo>
                  <a:lnTo>
                    <a:pt x="6550" y="938"/>
                  </a:lnTo>
                  <a:lnTo>
                    <a:pt x="6556" y="916"/>
                  </a:lnTo>
                  <a:lnTo>
                    <a:pt x="6558" y="892"/>
                  </a:lnTo>
                  <a:lnTo>
                    <a:pt x="6560" y="870"/>
                  </a:lnTo>
                  <a:lnTo>
                    <a:pt x="6558" y="846"/>
                  </a:lnTo>
                  <a:lnTo>
                    <a:pt x="6556" y="824"/>
                  </a:lnTo>
                  <a:lnTo>
                    <a:pt x="6550" y="800"/>
                  </a:lnTo>
                  <a:lnTo>
                    <a:pt x="6542" y="778"/>
                  </a:lnTo>
                  <a:lnTo>
                    <a:pt x="6534" y="756"/>
                  </a:lnTo>
                  <a:lnTo>
                    <a:pt x="6522" y="736"/>
                  </a:lnTo>
                  <a:lnTo>
                    <a:pt x="6508" y="716"/>
                  </a:lnTo>
                  <a:lnTo>
                    <a:pt x="6492" y="698"/>
                  </a:lnTo>
                  <a:lnTo>
                    <a:pt x="6476" y="680"/>
                  </a:lnTo>
                  <a:lnTo>
                    <a:pt x="6476" y="680"/>
                  </a:lnTo>
                  <a:lnTo>
                    <a:pt x="6396" y="610"/>
                  </a:lnTo>
                  <a:lnTo>
                    <a:pt x="6318" y="544"/>
                  </a:lnTo>
                  <a:lnTo>
                    <a:pt x="6240" y="482"/>
                  </a:lnTo>
                  <a:lnTo>
                    <a:pt x="6158" y="422"/>
                  </a:lnTo>
                  <a:lnTo>
                    <a:pt x="6072" y="362"/>
                  </a:lnTo>
                  <a:lnTo>
                    <a:pt x="5978" y="302"/>
                  </a:lnTo>
                  <a:lnTo>
                    <a:pt x="5874" y="238"/>
                  </a:lnTo>
                  <a:lnTo>
                    <a:pt x="5758" y="168"/>
                  </a:lnTo>
                  <a:lnTo>
                    <a:pt x="5758" y="168"/>
                  </a:lnTo>
                  <a:lnTo>
                    <a:pt x="5738" y="158"/>
                  </a:lnTo>
                  <a:lnTo>
                    <a:pt x="5716" y="148"/>
                  </a:lnTo>
                  <a:lnTo>
                    <a:pt x="5694" y="142"/>
                  </a:lnTo>
                  <a:lnTo>
                    <a:pt x="5672" y="136"/>
                  </a:lnTo>
                  <a:lnTo>
                    <a:pt x="5650" y="134"/>
                  </a:lnTo>
                  <a:lnTo>
                    <a:pt x="5628" y="134"/>
                  </a:lnTo>
                  <a:lnTo>
                    <a:pt x="5606" y="134"/>
                  </a:lnTo>
                  <a:lnTo>
                    <a:pt x="5584" y="138"/>
                  </a:lnTo>
                  <a:lnTo>
                    <a:pt x="5562" y="142"/>
                  </a:lnTo>
                  <a:lnTo>
                    <a:pt x="5540" y="148"/>
                  </a:lnTo>
                  <a:lnTo>
                    <a:pt x="5520" y="158"/>
                  </a:lnTo>
                  <a:lnTo>
                    <a:pt x="5500" y="168"/>
                  </a:lnTo>
                  <a:lnTo>
                    <a:pt x="5482" y="180"/>
                  </a:lnTo>
                  <a:lnTo>
                    <a:pt x="5464" y="194"/>
                  </a:lnTo>
                  <a:lnTo>
                    <a:pt x="5446" y="210"/>
                  </a:lnTo>
                  <a:lnTo>
                    <a:pt x="5430" y="228"/>
                  </a:lnTo>
                  <a:lnTo>
                    <a:pt x="5148" y="574"/>
                  </a:lnTo>
                  <a:lnTo>
                    <a:pt x="5148" y="574"/>
                  </a:lnTo>
                  <a:lnTo>
                    <a:pt x="5132" y="596"/>
                  </a:lnTo>
                  <a:lnTo>
                    <a:pt x="5118" y="620"/>
                  </a:lnTo>
                  <a:lnTo>
                    <a:pt x="5106" y="646"/>
                  </a:lnTo>
                  <a:lnTo>
                    <a:pt x="5098" y="674"/>
                  </a:lnTo>
                  <a:lnTo>
                    <a:pt x="5092" y="700"/>
                  </a:lnTo>
                  <a:lnTo>
                    <a:pt x="5090" y="728"/>
                  </a:lnTo>
                  <a:lnTo>
                    <a:pt x="5092" y="756"/>
                  </a:lnTo>
                  <a:lnTo>
                    <a:pt x="5096" y="784"/>
                  </a:lnTo>
                  <a:lnTo>
                    <a:pt x="5096" y="784"/>
                  </a:lnTo>
                  <a:lnTo>
                    <a:pt x="5102" y="812"/>
                  </a:lnTo>
                  <a:lnTo>
                    <a:pt x="5112" y="838"/>
                  </a:lnTo>
                  <a:lnTo>
                    <a:pt x="5126" y="864"/>
                  </a:lnTo>
                  <a:lnTo>
                    <a:pt x="5140" y="886"/>
                  </a:lnTo>
                  <a:lnTo>
                    <a:pt x="5158" y="908"/>
                  </a:lnTo>
                  <a:lnTo>
                    <a:pt x="5178" y="928"/>
                  </a:lnTo>
                  <a:lnTo>
                    <a:pt x="5200" y="944"/>
                  </a:lnTo>
                  <a:lnTo>
                    <a:pt x="5224" y="960"/>
                  </a:lnTo>
                  <a:lnTo>
                    <a:pt x="5224" y="960"/>
                  </a:lnTo>
                  <a:lnTo>
                    <a:pt x="5306" y="1006"/>
                  </a:lnTo>
                  <a:lnTo>
                    <a:pt x="5386" y="1054"/>
                  </a:lnTo>
                  <a:lnTo>
                    <a:pt x="5462" y="1108"/>
                  </a:lnTo>
                  <a:lnTo>
                    <a:pt x="5536" y="1162"/>
                  </a:lnTo>
                  <a:lnTo>
                    <a:pt x="5610" y="1222"/>
                  </a:lnTo>
                  <a:lnTo>
                    <a:pt x="5684" y="1286"/>
                  </a:lnTo>
                  <a:lnTo>
                    <a:pt x="5756" y="1356"/>
                  </a:lnTo>
                  <a:lnTo>
                    <a:pt x="5830" y="1430"/>
                  </a:lnTo>
                  <a:lnTo>
                    <a:pt x="5830" y="1430"/>
                  </a:lnTo>
                  <a:lnTo>
                    <a:pt x="5846" y="1446"/>
                  </a:lnTo>
                  <a:lnTo>
                    <a:pt x="5866" y="1460"/>
                  </a:lnTo>
                  <a:lnTo>
                    <a:pt x="5886" y="1474"/>
                  </a:lnTo>
                  <a:lnTo>
                    <a:pt x="5906" y="1484"/>
                  </a:lnTo>
                  <a:lnTo>
                    <a:pt x="5928" y="1494"/>
                  </a:lnTo>
                  <a:lnTo>
                    <a:pt x="5950" y="1500"/>
                  </a:lnTo>
                  <a:lnTo>
                    <a:pt x="5972" y="1506"/>
                  </a:lnTo>
                  <a:lnTo>
                    <a:pt x="5996" y="1508"/>
                  </a:lnTo>
                  <a:lnTo>
                    <a:pt x="5996" y="1508"/>
                  </a:lnTo>
                  <a:lnTo>
                    <a:pt x="5920" y="1538"/>
                  </a:lnTo>
                  <a:lnTo>
                    <a:pt x="5840" y="1564"/>
                  </a:lnTo>
                  <a:lnTo>
                    <a:pt x="5760" y="1588"/>
                  </a:lnTo>
                  <a:lnTo>
                    <a:pt x="5680" y="1608"/>
                  </a:lnTo>
                  <a:lnTo>
                    <a:pt x="5598" y="1626"/>
                  </a:lnTo>
                  <a:lnTo>
                    <a:pt x="5516" y="1640"/>
                  </a:lnTo>
                  <a:lnTo>
                    <a:pt x="5434" y="1652"/>
                  </a:lnTo>
                  <a:lnTo>
                    <a:pt x="5350" y="1660"/>
                  </a:lnTo>
                  <a:lnTo>
                    <a:pt x="5350" y="1660"/>
                  </a:lnTo>
                  <a:lnTo>
                    <a:pt x="5332" y="1662"/>
                  </a:lnTo>
                  <a:lnTo>
                    <a:pt x="5316" y="1664"/>
                  </a:lnTo>
                  <a:lnTo>
                    <a:pt x="5298" y="1670"/>
                  </a:lnTo>
                  <a:lnTo>
                    <a:pt x="5282" y="1674"/>
                  </a:lnTo>
                  <a:lnTo>
                    <a:pt x="5264" y="1682"/>
                  </a:lnTo>
                  <a:lnTo>
                    <a:pt x="5250" y="1690"/>
                  </a:lnTo>
                  <a:lnTo>
                    <a:pt x="5234" y="1698"/>
                  </a:lnTo>
                  <a:lnTo>
                    <a:pt x="5220" y="1708"/>
                  </a:lnTo>
                  <a:lnTo>
                    <a:pt x="5220" y="1708"/>
                  </a:lnTo>
                  <a:lnTo>
                    <a:pt x="5206" y="1680"/>
                  </a:lnTo>
                  <a:lnTo>
                    <a:pt x="5190" y="1656"/>
                  </a:lnTo>
                  <a:lnTo>
                    <a:pt x="5170" y="1632"/>
                  </a:lnTo>
                  <a:lnTo>
                    <a:pt x="5148" y="1610"/>
                  </a:lnTo>
                  <a:lnTo>
                    <a:pt x="5148" y="1610"/>
                  </a:lnTo>
                  <a:lnTo>
                    <a:pt x="5126" y="1592"/>
                  </a:lnTo>
                  <a:lnTo>
                    <a:pt x="5102" y="1578"/>
                  </a:lnTo>
                  <a:lnTo>
                    <a:pt x="5078" y="1566"/>
                  </a:lnTo>
                  <a:lnTo>
                    <a:pt x="5052" y="1558"/>
                  </a:lnTo>
                  <a:lnTo>
                    <a:pt x="5026" y="1552"/>
                  </a:lnTo>
                  <a:lnTo>
                    <a:pt x="4998" y="1548"/>
                  </a:lnTo>
                  <a:lnTo>
                    <a:pt x="4970" y="1548"/>
                  </a:lnTo>
                  <a:lnTo>
                    <a:pt x="4944" y="1552"/>
                  </a:lnTo>
                  <a:lnTo>
                    <a:pt x="4944" y="1552"/>
                  </a:lnTo>
                  <a:lnTo>
                    <a:pt x="4878" y="1560"/>
                  </a:lnTo>
                  <a:lnTo>
                    <a:pt x="4808" y="1564"/>
                  </a:lnTo>
                  <a:lnTo>
                    <a:pt x="4714" y="1568"/>
                  </a:lnTo>
                  <a:lnTo>
                    <a:pt x="4576" y="1568"/>
                  </a:lnTo>
                  <a:lnTo>
                    <a:pt x="4356" y="1568"/>
                  </a:lnTo>
                  <a:lnTo>
                    <a:pt x="4356" y="1148"/>
                  </a:lnTo>
                  <a:lnTo>
                    <a:pt x="4398" y="1148"/>
                  </a:lnTo>
                  <a:lnTo>
                    <a:pt x="4398" y="1148"/>
                  </a:lnTo>
                  <a:lnTo>
                    <a:pt x="4536" y="1148"/>
                  </a:lnTo>
                  <a:lnTo>
                    <a:pt x="4630" y="1150"/>
                  </a:lnTo>
                  <a:lnTo>
                    <a:pt x="4702" y="1154"/>
                  </a:lnTo>
                  <a:lnTo>
                    <a:pt x="4774" y="1158"/>
                  </a:lnTo>
                  <a:lnTo>
                    <a:pt x="4774" y="1158"/>
                  </a:lnTo>
                  <a:lnTo>
                    <a:pt x="4800" y="1160"/>
                  </a:lnTo>
                  <a:lnTo>
                    <a:pt x="4826" y="1158"/>
                  </a:lnTo>
                  <a:lnTo>
                    <a:pt x="4852" y="1154"/>
                  </a:lnTo>
                  <a:lnTo>
                    <a:pt x="4878" y="1146"/>
                  </a:lnTo>
                  <a:lnTo>
                    <a:pt x="4902" y="1136"/>
                  </a:lnTo>
                  <a:lnTo>
                    <a:pt x="4926" y="1124"/>
                  </a:lnTo>
                  <a:lnTo>
                    <a:pt x="4948" y="1110"/>
                  </a:lnTo>
                  <a:lnTo>
                    <a:pt x="4968" y="1092"/>
                  </a:lnTo>
                  <a:lnTo>
                    <a:pt x="4968" y="1092"/>
                  </a:lnTo>
                  <a:lnTo>
                    <a:pt x="4986" y="1074"/>
                  </a:lnTo>
                  <a:lnTo>
                    <a:pt x="5004" y="1052"/>
                  </a:lnTo>
                  <a:lnTo>
                    <a:pt x="5018" y="1030"/>
                  </a:lnTo>
                  <a:lnTo>
                    <a:pt x="5030" y="1008"/>
                  </a:lnTo>
                  <a:lnTo>
                    <a:pt x="5038" y="982"/>
                  </a:lnTo>
                  <a:lnTo>
                    <a:pt x="5046" y="958"/>
                  </a:lnTo>
                  <a:lnTo>
                    <a:pt x="5050" y="932"/>
                  </a:lnTo>
                  <a:lnTo>
                    <a:pt x="5052" y="904"/>
                  </a:lnTo>
                  <a:lnTo>
                    <a:pt x="5052" y="480"/>
                  </a:lnTo>
                  <a:lnTo>
                    <a:pt x="5052" y="480"/>
                  </a:lnTo>
                  <a:lnTo>
                    <a:pt x="5050" y="452"/>
                  </a:lnTo>
                  <a:lnTo>
                    <a:pt x="5046" y="426"/>
                  </a:lnTo>
                  <a:lnTo>
                    <a:pt x="5038" y="400"/>
                  </a:lnTo>
                  <a:lnTo>
                    <a:pt x="5028" y="374"/>
                  </a:lnTo>
                  <a:lnTo>
                    <a:pt x="5016" y="350"/>
                  </a:lnTo>
                  <a:lnTo>
                    <a:pt x="5000" y="328"/>
                  </a:lnTo>
                  <a:lnTo>
                    <a:pt x="4984" y="306"/>
                  </a:lnTo>
                  <a:lnTo>
                    <a:pt x="4964" y="288"/>
                  </a:lnTo>
                  <a:lnTo>
                    <a:pt x="4964" y="288"/>
                  </a:lnTo>
                  <a:lnTo>
                    <a:pt x="4942" y="270"/>
                  </a:lnTo>
                  <a:lnTo>
                    <a:pt x="4920" y="256"/>
                  </a:lnTo>
                  <a:lnTo>
                    <a:pt x="4896" y="244"/>
                  </a:lnTo>
                  <a:lnTo>
                    <a:pt x="4870" y="236"/>
                  </a:lnTo>
                  <a:lnTo>
                    <a:pt x="4844" y="228"/>
                  </a:lnTo>
                  <a:lnTo>
                    <a:pt x="4818" y="224"/>
                  </a:lnTo>
                  <a:lnTo>
                    <a:pt x="4790" y="224"/>
                  </a:lnTo>
                  <a:lnTo>
                    <a:pt x="4762" y="226"/>
                  </a:lnTo>
                  <a:lnTo>
                    <a:pt x="4762" y="226"/>
                  </a:lnTo>
                  <a:lnTo>
                    <a:pt x="4694" y="234"/>
                  </a:lnTo>
                  <a:lnTo>
                    <a:pt x="4618" y="240"/>
                  </a:lnTo>
                  <a:lnTo>
                    <a:pt x="4522" y="242"/>
                  </a:lnTo>
                  <a:lnTo>
                    <a:pt x="4390" y="244"/>
                  </a:lnTo>
                  <a:lnTo>
                    <a:pt x="3390" y="244"/>
                  </a:lnTo>
                  <a:lnTo>
                    <a:pt x="3390" y="244"/>
                  </a:lnTo>
                  <a:lnTo>
                    <a:pt x="3268" y="244"/>
                  </a:lnTo>
                  <a:lnTo>
                    <a:pt x="3176" y="240"/>
                  </a:lnTo>
                  <a:lnTo>
                    <a:pt x="3098" y="236"/>
                  </a:lnTo>
                  <a:lnTo>
                    <a:pt x="3018" y="226"/>
                  </a:lnTo>
                  <a:lnTo>
                    <a:pt x="3018" y="226"/>
                  </a:lnTo>
                  <a:lnTo>
                    <a:pt x="2992" y="224"/>
                  </a:lnTo>
                  <a:lnTo>
                    <a:pt x="2964" y="224"/>
                  </a:lnTo>
                  <a:lnTo>
                    <a:pt x="2938" y="228"/>
                  </a:lnTo>
                  <a:lnTo>
                    <a:pt x="2910" y="234"/>
                  </a:lnTo>
                  <a:lnTo>
                    <a:pt x="2886" y="244"/>
                  </a:lnTo>
                  <a:lnTo>
                    <a:pt x="2862" y="256"/>
                  </a:lnTo>
                  <a:lnTo>
                    <a:pt x="2838" y="270"/>
                  </a:lnTo>
                  <a:lnTo>
                    <a:pt x="2816" y="288"/>
                  </a:lnTo>
                  <a:lnTo>
                    <a:pt x="2816" y="288"/>
                  </a:lnTo>
                  <a:lnTo>
                    <a:pt x="2798" y="306"/>
                  </a:lnTo>
                  <a:lnTo>
                    <a:pt x="2780" y="328"/>
                  </a:lnTo>
                  <a:lnTo>
                    <a:pt x="2764" y="350"/>
                  </a:lnTo>
                  <a:lnTo>
                    <a:pt x="2752" y="374"/>
                  </a:lnTo>
                  <a:lnTo>
                    <a:pt x="2742" y="400"/>
                  </a:lnTo>
                  <a:lnTo>
                    <a:pt x="2736" y="426"/>
                  </a:lnTo>
                  <a:lnTo>
                    <a:pt x="2732" y="452"/>
                  </a:lnTo>
                  <a:lnTo>
                    <a:pt x="2730" y="480"/>
                  </a:lnTo>
                  <a:lnTo>
                    <a:pt x="2730" y="904"/>
                  </a:lnTo>
                  <a:lnTo>
                    <a:pt x="2730" y="904"/>
                  </a:lnTo>
                  <a:lnTo>
                    <a:pt x="2732" y="932"/>
                  </a:lnTo>
                  <a:lnTo>
                    <a:pt x="2736" y="958"/>
                  </a:lnTo>
                  <a:lnTo>
                    <a:pt x="2742" y="982"/>
                  </a:lnTo>
                  <a:lnTo>
                    <a:pt x="2752" y="1008"/>
                  </a:lnTo>
                  <a:lnTo>
                    <a:pt x="2764" y="1030"/>
                  </a:lnTo>
                  <a:lnTo>
                    <a:pt x="2778" y="1054"/>
                  </a:lnTo>
                  <a:lnTo>
                    <a:pt x="2794" y="1074"/>
                  </a:lnTo>
                  <a:lnTo>
                    <a:pt x="2812" y="1092"/>
                  </a:lnTo>
                  <a:lnTo>
                    <a:pt x="2812" y="1092"/>
                  </a:lnTo>
                  <a:lnTo>
                    <a:pt x="2834" y="1110"/>
                  </a:lnTo>
                  <a:lnTo>
                    <a:pt x="2856" y="1124"/>
                  </a:lnTo>
                  <a:lnTo>
                    <a:pt x="2880" y="1136"/>
                  </a:lnTo>
                  <a:lnTo>
                    <a:pt x="2904" y="1146"/>
                  </a:lnTo>
                  <a:lnTo>
                    <a:pt x="2928" y="1154"/>
                  </a:lnTo>
                  <a:lnTo>
                    <a:pt x="2954" y="1158"/>
                  </a:lnTo>
                  <a:lnTo>
                    <a:pt x="2982" y="1160"/>
                  </a:lnTo>
                  <a:lnTo>
                    <a:pt x="3008" y="1158"/>
                  </a:lnTo>
                  <a:lnTo>
                    <a:pt x="3008" y="1158"/>
                  </a:lnTo>
                  <a:lnTo>
                    <a:pt x="3076" y="1154"/>
                  </a:lnTo>
                  <a:lnTo>
                    <a:pt x="3148" y="1150"/>
                  </a:lnTo>
                  <a:lnTo>
                    <a:pt x="3242" y="1148"/>
                  </a:lnTo>
                  <a:lnTo>
                    <a:pt x="3382" y="1148"/>
                  </a:lnTo>
                  <a:lnTo>
                    <a:pt x="3398" y="1148"/>
                  </a:lnTo>
                  <a:lnTo>
                    <a:pt x="3398" y="1568"/>
                  </a:lnTo>
                  <a:lnTo>
                    <a:pt x="3206" y="1568"/>
                  </a:lnTo>
                  <a:lnTo>
                    <a:pt x="3206" y="1568"/>
                  </a:lnTo>
                  <a:lnTo>
                    <a:pt x="3098" y="1568"/>
                  </a:lnTo>
                  <a:lnTo>
                    <a:pt x="3014" y="1566"/>
                  </a:lnTo>
                  <a:lnTo>
                    <a:pt x="2946" y="1562"/>
                  </a:lnTo>
                  <a:lnTo>
                    <a:pt x="2886" y="1556"/>
                  </a:lnTo>
                  <a:lnTo>
                    <a:pt x="2886" y="1556"/>
                  </a:lnTo>
                  <a:lnTo>
                    <a:pt x="2888" y="1522"/>
                  </a:lnTo>
                  <a:lnTo>
                    <a:pt x="2888" y="1488"/>
                  </a:lnTo>
                  <a:lnTo>
                    <a:pt x="2882" y="1456"/>
                  </a:lnTo>
                  <a:lnTo>
                    <a:pt x="2870" y="1424"/>
                  </a:lnTo>
                  <a:lnTo>
                    <a:pt x="2856" y="1394"/>
                  </a:lnTo>
                  <a:lnTo>
                    <a:pt x="2838" y="1366"/>
                  </a:lnTo>
                  <a:lnTo>
                    <a:pt x="2816" y="1340"/>
                  </a:lnTo>
                  <a:lnTo>
                    <a:pt x="2790" y="1316"/>
                  </a:lnTo>
                  <a:lnTo>
                    <a:pt x="2790" y="1316"/>
                  </a:lnTo>
                  <a:lnTo>
                    <a:pt x="2746" y="1282"/>
                  </a:lnTo>
                  <a:lnTo>
                    <a:pt x="2710" y="1252"/>
                  </a:lnTo>
                  <a:lnTo>
                    <a:pt x="2676" y="1222"/>
                  </a:lnTo>
                  <a:lnTo>
                    <a:pt x="2644" y="1192"/>
                  </a:lnTo>
                  <a:lnTo>
                    <a:pt x="2612" y="1158"/>
                  </a:lnTo>
                  <a:lnTo>
                    <a:pt x="2580" y="1122"/>
                  </a:lnTo>
                  <a:lnTo>
                    <a:pt x="2506" y="1034"/>
                  </a:lnTo>
                  <a:lnTo>
                    <a:pt x="2506" y="1034"/>
                  </a:lnTo>
                  <a:lnTo>
                    <a:pt x="2494" y="1020"/>
                  </a:lnTo>
                  <a:lnTo>
                    <a:pt x="2482" y="1008"/>
                  </a:lnTo>
                  <a:lnTo>
                    <a:pt x="2468" y="996"/>
                  </a:lnTo>
                  <a:lnTo>
                    <a:pt x="2454" y="986"/>
                  </a:lnTo>
                  <a:lnTo>
                    <a:pt x="2424" y="968"/>
                  </a:lnTo>
                  <a:lnTo>
                    <a:pt x="2392" y="954"/>
                  </a:lnTo>
                  <a:lnTo>
                    <a:pt x="2358" y="944"/>
                  </a:lnTo>
                  <a:lnTo>
                    <a:pt x="2324" y="940"/>
                  </a:lnTo>
                  <a:lnTo>
                    <a:pt x="2306" y="938"/>
                  </a:lnTo>
                  <a:lnTo>
                    <a:pt x="2290" y="940"/>
                  </a:lnTo>
                  <a:lnTo>
                    <a:pt x="2272" y="942"/>
                  </a:lnTo>
                  <a:lnTo>
                    <a:pt x="2254" y="944"/>
                  </a:lnTo>
                  <a:lnTo>
                    <a:pt x="2254" y="944"/>
                  </a:lnTo>
                  <a:lnTo>
                    <a:pt x="2226" y="952"/>
                  </a:lnTo>
                  <a:lnTo>
                    <a:pt x="2202" y="962"/>
                  </a:lnTo>
                  <a:lnTo>
                    <a:pt x="2178" y="974"/>
                  </a:lnTo>
                  <a:lnTo>
                    <a:pt x="2154" y="990"/>
                  </a:lnTo>
                  <a:lnTo>
                    <a:pt x="2134" y="1006"/>
                  </a:lnTo>
                  <a:lnTo>
                    <a:pt x="2114" y="1026"/>
                  </a:lnTo>
                  <a:lnTo>
                    <a:pt x="2098" y="1048"/>
                  </a:lnTo>
                  <a:lnTo>
                    <a:pt x="2084" y="1070"/>
                  </a:lnTo>
                  <a:lnTo>
                    <a:pt x="2088" y="600"/>
                  </a:lnTo>
                  <a:lnTo>
                    <a:pt x="2088" y="600"/>
                  </a:lnTo>
                  <a:lnTo>
                    <a:pt x="2090" y="516"/>
                  </a:lnTo>
                  <a:lnTo>
                    <a:pt x="2092" y="456"/>
                  </a:lnTo>
                  <a:lnTo>
                    <a:pt x="2098" y="406"/>
                  </a:lnTo>
                  <a:lnTo>
                    <a:pt x="2106" y="350"/>
                  </a:lnTo>
                  <a:lnTo>
                    <a:pt x="2106" y="350"/>
                  </a:lnTo>
                  <a:lnTo>
                    <a:pt x="2108" y="322"/>
                  </a:lnTo>
                  <a:lnTo>
                    <a:pt x="2108" y="294"/>
                  </a:lnTo>
                  <a:lnTo>
                    <a:pt x="2104" y="268"/>
                  </a:lnTo>
                  <a:lnTo>
                    <a:pt x="2098" y="240"/>
                  </a:lnTo>
                  <a:lnTo>
                    <a:pt x="2088" y="216"/>
                  </a:lnTo>
                  <a:lnTo>
                    <a:pt x="2076" y="190"/>
                  </a:lnTo>
                  <a:lnTo>
                    <a:pt x="2062" y="168"/>
                  </a:lnTo>
                  <a:lnTo>
                    <a:pt x="2046" y="146"/>
                  </a:lnTo>
                  <a:lnTo>
                    <a:pt x="2046" y="146"/>
                  </a:lnTo>
                  <a:lnTo>
                    <a:pt x="2026" y="126"/>
                  </a:lnTo>
                  <a:lnTo>
                    <a:pt x="2006" y="108"/>
                  </a:lnTo>
                  <a:lnTo>
                    <a:pt x="1982" y="92"/>
                  </a:lnTo>
                  <a:lnTo>
                    <a:pt x="1958" y="80"/>
                  </a:lnTo>
                  <a:lnTo>
                    <a:pt x="1934" y="70"/>
                  </a:lnTo>
                  <a:lnTo>
                    <a:pt x="1908" y="62"/>
                  </a:lnTo>
                  <a:lnTo>
                    <a:pt x="1880" y="58"/>
                  </a:lnTo>
                  <a:lnTo>
                    <a:pt x="1852" y="56"/>
                  </a:lnTo>
                  <a:lnTo>
                    <a:pt x="1390" y="56"/>
                  </a:lnTo>
                  <a:lnTo>
                    <a:pt x="1390" y="56"/>
                  </a:lnTo>
                  <a:lnTo>
                    <a:pt x="1370" y="58"/>
                  </a:lnTo>
                  <a:lnTo>
                    <a:pt x="1348" y="60"/>
                  </a:lnTo>
                  <a:lnTo>
                    <a:pt x="1328" y="64"/>
                  </a:lnTo>
                  <a:lnTo>
                    <a:pt x="1308" y="70"/>
                  </a:lnTo>
                  <a:lnTo>
                    <a:pt x="1290" y="78"/>
                  </a:lnTo>
                  <a:lnTo>
                    <a:pt x="1272" y="86"/>
                  </a:lnTo>
                  <a:lnTo>
                    <a:pt x="1254" y="98"/>
                  </a:lnTo>
                  <a:lnTo>
                    <a:pt x="1236" y="108"/>
                  </a:lnTo>
                  <a:lnTo>
                    <a:pt x="1236" y="108"/>
                  </a:lnTo>
                  <a:lnTo>
                    <a:pt x="1204" y="100"/>
                  </a:lnTo>
                  <a:lnTo>
                    <a:pt x="1172" y="96"/>
                  </a:lnTo>
                  <a:lnTo>
                    <a:pt x="708" y="70"/>
                  </a:lnTo>
                  <a:lnTo>
                    <a:pt x="708" y="70"/>
                  </a:lnTo>
                  <a:lnTo>
                    <a:pt x="680" y="70"/>
                  </a:lnTo>
                  <a:lnTo>
                    <a:pt x="652" y="72"/>
                  </a:lnTo>
                  <a:lnTo>
                    <a:pt x="624" y="78"/>
                  </a:lnTo>
                  <a:lnTo>
                    <a:pt x="598" y="88"/>
                  </a:lnTo>
                  <a:lnTo>
                    <a:pt x="574" y="98"/>
                  </a:lnTo>
                  <a:lnTo>
                    <a:pt x="550" y="114"/>
                  </a:lnTo>
                  <a:lnTo>
                    <a:pt x="528" y="130"/>
                  </a:lnTo>
                  <a:lnTo>
                    <a:pt x="508" y="150"/>
                  </a:lnTo>
                  <a:lnTo>
                    <a:pt x="508" y="150"/>
                  </a:lnTo>
                  <a:lnTo>
                    <a:pt x="490" y="170"/>
                  </a:lnTo>
                  <a:lnTo>
                    <a:pt x="474" y="194"/>
                  </a:lnTo>
                  <a:lnTo>
                    <a:pt x="460" y="218"/>
                  </a:lnTo>
                  <a:lnTo>
                    <a:pt x="450" y="244"/>
                  </a:lnTo>
                  <a:lnTo>
                    <a:pt x="444" y="270"/>
                  </a:lnTo>
                  <a:lnTo>
                    <a:pt x="438" y="298"/>
                  </a:lnTo>
                  <a:lnTo>
                    <a:pt x="438" y="326"/>
                  </a:lnTo>
                  <a:lnTo>
                    <a:pt x="440" y="354"/>
                  </a:lnTo>
                  <a:lnTo>
                    <a:pt x="440" y="354"/>
                  </a:lnTo>
                  <a:lnTo>
                    <a:pt x="442" y="390"/>
                  </a:lnTo>
                  <a:lnTo>
                    <a:pt x="446" y="430"/>
                  </a:lnTo>
                  <a:lnTo>
                    <a:pt x="446" y="482"/>
                  </a:lnTo>
                  <a:lnTo>
                    <a:pt x="448" y="550"/>
                  </a:lnTo>
                  <a:lnTo>
                    <a:pt x="448" y="550"/>
                  </a:lnTo>
                  <a:lnTo>
                    <a:pt x="446" y="758"/>
                  </a:lnTo>
                  <a:lnTo>
                    <a:pt x="440" y="940"/>
                  </a:lnTo>
                  <a:lnTo>
                    <a:pt x="436" y="1020"/>
                  </a:lnTo>
                  <a:lnTo>
                    <a:pt x="432" y="1096"/>
                  </a:lnTo>
                  <a:lnTo>
                    <a:pt x="426" y="1168"/>
                  </a:lnTo>
                  <a:lnTo>
                    <a:pt x="418" y="1234"/>
                  </a:lnTo>
                  <a:lnTo>
                    <a:pt x="410" y="1294"/>
                  </a:lnTo>
                  <a:lnTo>
                    <a:pt x="400" y="1352"/>
                  </a:lnTo>
                  <a:lnTo>
                    <a:pt x="390" y="1404"/>
                  </a:lnTo>
                  <a:lnTo>
                    <a:pt x="378" y="1454"/>
                  </a:lnTo>
                  <a:lnTo>
                    <a:pt x="366" y="1500"/>
                  </a:lnTo>
                  <a:lnTo>
                    <a:pt x="350" y="1542"/>
                  </a:lnTo>
                  <a:lnTo>
                    <a:pt x="334" y="1584"/>
                  </a:lnTo>
                  <a:lnTo>
                    <a:pt x="318" y="1622"/>
                  </a:lnTo>
                  <a:lnTo>
                    <a:pt x="318" y="1622"/>
                  </a:lnTo>
                  <a:lnTo>
                    <a:pt x="316" y="1624"/>
                  </a:lnTo>
                  <a:lnTo>
                    <a:pt x="316" y="1624"/>
                  </a:lnTo>
                  <a:lnTo>
                    <a:pt x="294" y="1672"/>
                  </a:lnTo>
                  <a:lnTo>
                    <a:pt x="270" y="1714"/>
                  </a:lnTo>
                  <a:lnTo>
                    <a:pt x="246" y="1754"/>
                  </a:lnTo>
                  <a:lnTo>
                    <a:pt x="220" y="1790"/>
                  </a:lnTo>
                  <a:lnTo>
                    <a:pt x="192" y="1826"/>
                  </a:lnTo>
                  <a:lnTo>
                    <a:pt x="160" y="1860"/>
                  </a:lnTo>
                  <a:lnTo>
                    <a:pt x="124" y="1896"/>
                  </a:lnTo>
                  <a:lnTo>
                    <a:pt x="86" y="1932"/>
                  </a:lnTo>
                  <a:lnTo>
                    <a:pt x="86" y="1932"/>
                  </a:lnTo>
                  <a:lnTo>
                    <a:pt x="64" y="1954"/>
                  </a:lnTo>
                  <a:lnTo>
                    <a:pt x="46" y="1976"/>
                  </a:lnTo>
                  <a:lnTo>
                    <a:pt x="32" y="2000"/>
                  </a:lnTo>
                  <a:lnTo>
                    <a:pt x="20" y="2026"/>
                  </a:lnTo>
                  <a:lnTo>
                    <a:pt x="10" y="2052"/>
                  </a:lnTo>
                  <a:lnTo>
                    <a:pt x="4" y="2080"/>
                  </a:lnTo>
                  <a:lnTo>
                    <a:pt x="0" y="2108"/>
                  </a:lnTo>
                  <a:lnTo>
                    <a:pt x="0" y="2138"/>
                  </a:lnTo>
                  <a:lnTo>
                    <a:pt x="0" y="2138"/>
                  </a:lnTo>
                  <a:lnTo>
                    <a:pt x="4" y="2166"/>
                  </a:lnTo>
                  <a:lnTo>
                    <a:pt x="10" y="2194"/>
                  </a:lnTo>
                  <a:lnTo>
                    <a:pt x="20" y="2222"/>
                  </a:lnTo>
                  <a:lnTo>
                    <a:pt x="32" y="2248"/>
                  </a:lnTo>
                  <a:lnTo>
                    <a:pt x="48" y="2272"/>
                  </a:lnTo>
                  <a:lnTo>
                    <a:pt x="66" y="2294"/>
                  </a:lnTo>
                  <a:lnTo>
                    <a:pt x="86" y="2314"/>
                  </a:lnTo>
                  <a:lnTo>
                    <a:pt x="108" y="2332"/>
                  </a:lnTo>
                  <a:lnTo>
                    <a:pt x="108" y="2332"/>
                  </a:lnTo>
                  <a:lnTo>
                    <a:pt x="154" y="2366"/>
                  </a:lnTo>
                  <a:lnTo>
                    <a:pt x="196" y="2396"/>
                  </a:lnTo>
                  <a:lnTo>
                    <a:pt x="230" y="2426"/>
                  </a:lnTo>
                  <a:lnTo>
                    <a:pt x="264" y="2456"/>
                  </a:lnTo>
                  <a:lnTo>
                    <a:pt x="296" y="2490"/>
                  </a:lnTo>
                  <a:lnTo>
                    <a:pt x="328" y="2528"/>
                  </a:lnTo>
                  <a:lnTo>
                    <a:pt x="364" y="2570"/>
                  </a:lnTo>
                  <a:lnTo>
                    <a:pt x="404" y="2622"/>
                  </a:lnTo>
                  <a:lnTo>
                    <a:pt x="404" y="2622"/>
                  </a:lnTo>
                  <a:lnTo>
                    <a:pt x="422" y="2642"/>
                  </a:lnTo>
                  <a:lnTo>
                    <a:pt x="442" y="2662"/>
                  </a:lnTo>
                  <a:lnTo>
                    <a:pt x="464" y="2678"/>
                  </a:lnTo>
                  <a:lnTo>
                    <a:pt x="488" y="2692"/>
                  </a:lnTo>
                  <a:lnTo>
                    <a:pt x="512" y="2704"/>
                  </a:lnTo>
                  <a:lnTo>
                    <a:pt x="538" y="2712"/>
                  </a:lnTo>
                  <a:lnTo>
                    <a:pt x="566" y="2718"/>
                  </a:lnTo>
                  <a:lnTo>
                    <a:pt x="594" y="2722"/>
                  </a:lnTo>
                  <a:lnTo>
                    <a:pt x="594" y="2722"/>
                  </a:lnTo>
                  <a:lnTo>
                    <a:pt x="622" y="2722"/>
                  </a:lnTo>
                  <a:lnTo>
                    <a:pt x="648" y="2718"/>
                  </a:lnTo>
                  <a:lnTo>
                    <a:pt x="676" y="2712"/>
                  </a:lnTo>
                  <a:lnTo>
                    <a:pt x="702" y="2704"/>
                  </a:lnTo>
                  <a:lnTo>
                    <a:pt x="726" y="2692"/>
                  </a:lnTo>
                  <a:lnTo>
                    <a:pt x="750" y="2678"/>
                  </a:lnTo>
                  <a:lnTo>
                    <a:pt x="772" y="2662"/>
                  </a:lnTo>
                  <a:lnTo>
                    <a:pt x="792" y="2642"/>
                  </a:lnTo>
                  <a:lnTo>
                    <a:pt x="792" y="2642"/>
                  </a:lnTo>
                  <a:lnTo>
                    <a:pt x="844" y="2588"/>
                  </a:lnTo>
                  <a:lnTo>
                    <a:pt x="890" y="2534"/>
                  </a:lnTo>
                  <a:lnTo>
                    <a:pt x="932" y="2484"/>
                  </a:lnTo>
                  <a:lnTo>
                    <a:pt x="972" y="2432"/>
                  </a:lnTo>
                  <a:lnTo>
                    <a:pt x="1010" y="2382"/>
                  </a:lnTo>
                  <a:lnTo>
                    <a:pt x="1044" y="2332"/>
                  </a:lnTo>
                  <a:lnTo>
                    <a:pt x="1076" y="2280"/>
                  </a:lnTo>
                  <a:lnTo>
                    <a:pt x="1106" y="2230"/>
                  </a:lnTo>
                  <a:lnTo>
                    <a:pt x="1106" y="2230"/>
                  </a:lnTo>
                  <a:lnTo>
                    <a:pt x="1106" y="2256"/>
                  </a:lnTo>
                  <a:lnTo>
                    <a:pt x="1108" y="2284"/>
                  </a:lnTo>
                  <a:lnTo>
                    <a:pt x="1112" y="2310"/>
                  </a:lnTo>
                  <a:lnTo>
                    <a:pt x="1120" y="2336"/>
                  </a:lnTo>
                  <a:lnTo>
                    <a:pt x="1130" y="2362"/>
                  </a:lnTo>
                  <a:lnTo>
                    <a:pt x="1142" y="2386"/>
                  </a:lnTo>
                  <a:lnTo>
                    <a:pt x="1158" y="2408"/>
                  </a:lnTo>
                  <a:lnTo>
                    <a:pt x="1176" y="2430"/>
                  </a:lnTo>
                  <a:lnTo>
                    <a:pt x="1388" y="2650"/>
                  </a:lnTo>
                  <a:lnTo>
                    <a:pt x="1388" y="2650"/>
                  </a:lnTo>
                  <a:lnTo>
                    <a:pt x="1408" y="2670"/>
                  </a:lnTo>
                  <a:lnTo>
                    <a:pt x="1428" y="2684"/>
                  </a:lnTo>
                  <a:lnTo>
                    <a:pt x="1450" y="2698"/>
                  </a:lnTo>
                  <a:lnTo>
                    <a:pt x="1474" y="2710"/>
                  </a:lnTo>
                  <a:lnTo>
                    <a:pt x="1498" y="2718"/>
                  </a:lnTo>
                  <a:lnTo>
                    <a:pt x="1522" y="2724"/>
                  </a:lnTo>
                  <a:lnTo>
                    <a:pt x="1548" y="2728"/>
                  </a:lnTo>
                  <a:lnTo>
                    <a:pt x="1572" y="2730"/>
                  </a:lnTo>
                  <a:lnTo>
                    <a:pt x="1572" y="2730"/>
                  </a:lnTo>
                  <a:lnTo>
                    <a:pt x="1606" y="2728"/>
                  </a:lnTo>
                  <a:lnTo>
                    <a:pt x="1640" y="2720"/>
                  </a:lnTo>
                  <a:lnTo>
                    <a:pt x="1658" y="2714"/>
                  </a:lnTo>
                  <a:lnTo>
                    <a:pt x="1674" y="2708"/>
                  </a:lnTo>
                  <a:lnTo>
                    <a:pt x="1690" y="2700"/>
                  </a:lnTo>
                  <a:lnTo>
                    <a:pt x="1706" y="2692"/>
                  </a:lnTo>
                  <a:lnTo>
                    <a:pt x="1706" y="2692"/>
                  </a:lnTo>
                  <a:lnTo>
                    <a:pt x="1722" y="2684"/>
                  </a:lnTo>
                  <a:lnTo>
                    <a:pt x="1778" y="2664"/>
                  </a:lnTo>
                  <a:lnTo>
                    <a:pt x="1778" y="2664"/>
                  </a:lnTo>
                  <a:lnTo>
                    <a:pt x="1780" y="2662"/>
                  </a:lnTo>
                  <a:lnTo>
                    <a:pt x="1780" y="2662"/>
                  </a:lnTo>
                  <a:lnTo>
                    <a:pt x="1880" y="2624"/>
                  </a:lnTo>
                  <a:lnTo>
                    <a:pt x="1968" y="2588"/>
                  </a:lnTo>
                  <a:lnTo>
                    <a:pt x="2048" y="2552"/>
                  </a:lnTo>
                  <a:lnTo>
                    <a:pt x="2120" y="2516"/>
                  </a:lnTo>
                  <a:lnTo>
                    <a:pt x="2186" y="2476"/>
                  </a:lnTo>
                  <a:lnTo>
                    <a:pt x="2250" y="2434"/>
                  </a:lnTo>
                  <a:lnTo>
                    <a:pt x="2312" y="2388"/>
                  </a:lnTo>
                  <a:lnTo>
                    <a:pt x="2374" y="2336"/>
                  </a:lnTo>
                  <a:lnTo>
                    <a:pt x="2374" y="2336"/>
                  </a:lnTo>
                  <a:lnTo>
                    <a:pt x="2420" y="2296"/>
                  </a:lnTo>
                  <a:lnTo>
                    <a:pt x="2464" y="2254"/>
                  </a:lnTo>
                  <a:lnTo>
                    <a:pt x="2508" y="2210"/>
                  </a:lnTo>
                  <a:lnTo>
                    <a:pt x="2548" y="2164"/>
                  </a:lnTo>
                  <a:lnTo>
                    <a:pt x="2548" y="2234"/>
                  </a:lnTo>
                  <a:lnTo>
                    <a:pt x="2548" y="2234"/>
                  </a:lnTo>
                  <a:lnTo>
                    <a:pt x="2550" y="2260"/>
                  </a:lnTo>
                  <a:lnTo>
                    <a:pt x="2554" y="2286"/>
                  </a:lnTo>
                  <a:lnTo>
                    <a:pt x="2560" y="2312"/>
                  </a:lnTo>
                  <a:lnTo>
                    <a:pt x="2570" y="2336"/>
                  </a:lnTo>
                  <a:lnTo>
                    <a:pt x="2582" y="2360"/>
                  </a:lnTo>
                  <a:lnTo>
                    <a:pt x="2596" y="2382"/>
                  </a:lnTo>
                  <a:lnTo>
                    <a:pt x="2612" y="2404"/>
                  </a:lnTo>
                  <a:lnTo>
                    <a:pt x="2630" y="2422"/>
                  </a:lnTo>
                  <a:lnTo>
                    <a:pt x="2630" y="2422"/>
                  </a:lnTo>
                  <a:lnTo>
                    <a:pt x="2652" y="2440"/>
                  </a:lnTo>
                  <a:lnTo>
                    <a:pt x="2674" y="2454"/>
                  </a:lnTo>
                  <a:lnTo>
                    <a:pt x="2698" y="2466"/>
                  </a:lnTo>
                  <a:lnTo>
                    <a:pt x="2722" y="2476"/>
                  </a:lnTo>
                  <a:lnTo>
                    <a:pt x="2748" y="2482"/>
                  </a:lnTo>
                  <a:lnTo>
                    <a:pt x="2774" y="2488"/>
                  </a:lnTo>
                  <a:lnTo>
                    <a:pt x="2800" y="2488"/>
                  </a:lnTo>
                  <a:lnTo>
                    <a:pt x="2826" y="2488"/>
                  </a:lnTo>
                  <a:lnTo>
                    <a:pt x="2826" y="2488"/>
                  </a:lnTo>
                  <a:lnTo>
                    <a:pt x="2894" y="2482"/>
                  </a:lnTo>
                  <a:lnTo>
                    <a:pt x="2968" y="2478"/>
                  </a:lnTo>
                  <a:lnTo>
                    <a:pt x="3062" y="2478"/>
                  </a:lnTo>
                  <a:lnTo>
                    <a:pt x="3198" y="2476"/>
                  </a:lnTo>
                  <a:lnTo>
                    <a:pt x="4584" y="2476"/>
                  </a:lnTo>
                  <a:lnTo>
                    <a:pt x="4584" y="2476"/>
                  </a:lnTo>
                  <a:lnTo>
                    <a:pt x="4702" y="2478"/>
                  </a:lnTo>
                  <a:lnTo>
                    <a:pt x="4802" y="2480"/>
                  </a:lnTo>
                  <a:lnTo>
                    <a:pt x="4886" y="2484"/>
                  </a:lnTo>
                  <a:lnTo>
                    <a:pt x="4954" y="2490"/>
                  </a:lnTo>
                  <a:lnTo>
                    <a:pt x="4954" y="2490"/>
                  </a:lnTo>
                  <a:lnTo>
                    <a:pt x="4982" y="2492"/>
                  </a:lnTo>
                  <a:lnTo>
                    <a:pt x="4982" y="2492"/>
                  </a:lnTo>
                  <a:lnTo>
                    <a:pt x="5006" y="2490"/>
                  </a:lnTo>
                  <a:lnTo>
                    <a:pt x="5028" y="2488"/>
                  </a:lnTo>
                  <a:lnTo>
                    <a:pt x="5052" y="2482"/>
                  </a:lnTo>
                  <a:lnTo>
                    <a:pt x="5074" y="2474"/>
                  </a:lnTo>
                  <a:lnTo>
                    <a:pt x="5094" y="2466"/>
                  </a:lnTo>
                  <a:lnTo>
                    <a:pt x="5116" y="2454"/>
                  </a:lnTo>
                  <a:lnTo>
                    <a:pt x="5134" y="2440"/>
                  </a:lnTo>
                  <a:lnTo>
                    <a:pt x="5152" y="2426"/>
                  </a:lnTo>
                  <a:lnTo>
                    <a:pt x="5152" y="2426"/>
                  </a:lnTo>
                  <a:lnTo>
                    <a:pt x="5174" y="2406"/>
                  </a:lnTo>
                  <a:lnTo>
                    <a:pt x="5192" y="2382"/>
                  </a:lnTo>
                  <a:lnTo>
                    <a:pt x="5206" y="2358"/>
                  </a:lnTo>
                  <a:lnTo>
                    <a:pt x="5220" y="2332"/>
                  </a:lnTo>
                  <a:lnTo>
                    <a:pt x="5220" y="2332"/>
                  </a:lnTo>
                  <a:close/>
                  <a:moveTo>
                    <a:pt x="8772" y="342"/>
                  </a:moveTo>
                  <a:lnTo>
                    <a:pt x="8772" y="342"/>
                  </a:lnTo>
                  <a:lnTo>
                    <a:pt x="8776" y="366"/>
                  </a:lnTo>
                  <a:lnTo>
                    <a:pt x="8778" y="396"/>
                  </a:lnTo>
                  <a:lnTo>
                    <a:pt x="8780" y="480"/>
                  </a:lnTo>
                  <a:lnTo>
                    <a:pt x="8766" y="480"/>
                  </a:lnTo>
                  <a:lnTo>
                    <a:pt x="8766" y="480"/>
                  </a:lnTo>
                  <a:lnTo>
                    <a:pt x="8768" y="404"/>
                  </a:lnTo>
                  <a:lnTo>
                    <a:pt x="8772" y="342"/>
                  </a:lnTo>
                  <a:lnTo>
                    <a:pt x="8772" y="34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7"/>
            <p:cNvSpPr/>
            <p:nvPr/>
          </p:nvSpPr>
          <p:spPr>
            <a:xfrm>
              <a:off x="31216680" y="2676600"/>
              <a:ext cx="3260520" cy="2962080"/>
            </a:xfrm>
            <a:custGeom>
              <a:avLst/>
              <a:gdLst>
                <a:gd name="textAreaLeft" fmla="*/ 0 w 3260520"/>
                <a:gd name="textAreaRight" fmla="*/ 3260880 w 3260520"/>
                <a:gd name="textAreaTop" fmla="*/ 0 h 2962080"/>
                <a:gd name="textAreaBottom" fmla="*/ 2962440 h 2962080"/>
              </a:gdLst>
              <a:ahLst/>
              <a:rect l="textAreaLeft" t="textAreaTop" r="textAreaRight" b="textAreaBottom"/>
              <a:pathLst>
                <a:path w="2054" h="1866">
                  <a:moveTo>
                    <a:pt x="276" y="314"/>
                  </a:moveTo>
                  <a:lnTo>
                    <a:pt x="276" y="314"/>
                  </a:lnTo>
                  <a:lnTo>
                    <a:pt x="242" y="350"/>
                  </a:lnTo>
                  <a:lnTo>
                    <a:pt x="212" y="390"/>
                  </a:lnTo>
                  <a:lnTo>
                    <a:pt x="182" y="430"/>
                  </a:lnTo>
                  <a:lnTo>
                    <a:pt x="156" y="470"/>
                  </a:lnTo>
                  <a:lnTo>
                    <a:pt x="130" y="514"/>
                  </a:lnTo>
                  <a:lnTo>
                    <a:pt x="108" y="558"/>
                  </a:lnTo>
                  <a:lnTo>
                    <a:pt x="88" y="604"/>
                  </a:lnTo>
                  <a:lnTo>
                    <a:pt x="68" y="652"/>
                  </a:lnTo>
                  <a:lnTo>
                    <a:pt x="52" y="700"/>
                  </a:lnTo>
                  <a:lnTo>
                    <a:pt x="38" y="750"/>
                  </a:lnTo>
                  <a:lnTo>
                    <a:pt x="26" y="802"/>
                  </a:lnTo>
                  <a:lnTo>
                    <a:pt x="16" y="854"/>
                  </a:lnTo>
                  <a:lnTo>
                    <a:pt x="10" y="908"/>
                  </a:lnTo>
                  <a:lnTo>
                    <a:pt x="4" y="962"/>
                  </a:lnTo>
                  <a:lnTo>
                    <a:pt x="0" y="1020"/>
                  </a:lnTo>
                  <a:lnTo>
                    <a:pt x="0" y="1078"/>
                  </a:lnTo>
                  <a:lnTo>
                    <a:pt x="0" y="1078"/>
                  </a:lnTo>
                  <a:lnTo>
                    <a:pt x="2" y="1136"/>
                  </a:lnTo>
                  <a:lnTo>
                    <a:pt x="6" y="1194"/>
                  </a:lnTo>
                  <a:lnTo>
                    <a:pt x="16" y="1250"/>
                  </a:lnTo>
                  <a:lnTo>
                    <a:pt x="28" y="1304"/>
                  </a:lnTo>
                  <a:lnTo>
                    <a:pt x="44" y="1356"/>
                  </a:lnTo>
                  <a:lnTo>
                    <a:pt x="64" y="1408"/>
                  </a:lnTo>
                  <a:lnTo>
                    <a:pt x="86" y="1458"/>
                  </a:lnTo>
                  <a:lnTo>
                    <a:pt x="114" y="1506"/>
                  </a:lnTo>
                  <a:lnTo>
                    <a:pt x="114" y="1506"/>
                  </a:lnTo>
                  <a:lnTo>
                    <a:pt x="134" y="1538"/>
                  </a:lnTo>
                  <a:lnTo>
                    <a:pt x="156" y="1570"/>
                  </a:lnTo>
                  <a:lnTo>
                    <a:pt x="180" y="1600"/>
                  </a:lnTo>
                  <a:lnTo>
                    <a:pt x="206" y="1626"/>
                  </a:lnTo>
                  <a:lnTo>
                    <a:pt x="232" y="1652"/>
                  </a:lnTo>
                  <a:lnTo>
                    <a:pt x="260" y="1674"/>
                  </a:lnTo>
                  <a:lnTo>
                    <a:pt x="288" y="1696"/>
                  </a:lnTo>
                  <a:lnTo>
                    <a:pt x="318" y="1714"/>
                  </a:lnTo>
                  <a:lnTo>
                    <a:pt x="350" y="1732"/>
                  </a:lnTo>
                  <a:lnTo>
                    <a:pt x="382" y="1746"/>
                  </a:lnTo>
                  <a:lnTo>
                    <a:pt x="416" y="1758"/>
                  </a:lnTo>
                  <a:lnTo>
                    <a:pt x="450" y="1768"/>
                  </a:lnTo>
                  <a:lnTo>
                    <a:pt x="484" y="1776"/>
                  </a:lnTo>
                  <a:lnTo>
                    <a:pt x="520" y="1782"/>
                  </a:lnTo>
                  <a:lnTo>
                    <a:pt x="558" y="1786"/>
                  </a:lnTo>
                  <a:lnTo>
                    <a:pt x="596" y="1786"/>
                  </a:lnTo>
                  <a:lnTo>
                    <a:pt x="596" y="1786"/>
                  </a:lnTo>
                  <a:lnTo>
                    <a:pt x="626" y="1786"/>
                  </a:lnTo>
                  <a:lnTo>
                    <a:pt x="658" y="1784"/>
                  </a:lnTo>
                  <a:lnTo>
                    <a:pt x="692" y="1778"/>
                  </a:lnTo>
                  <a:lnTo>
                    <a:pt x="726" y="1772"/>
                  </a:lnTo>
                  <a:lnTo>
                    <a:pt x="762" y="1762"/>
                  </a:lnTo>
                  <a:lnTo>
                    <a:pt x="798" y="1750"/>
                  </a:lnTo>
                  <a:lnTo>
                    <a:pt x="834" y="1734"/>
                  </a:lnTo>
                  <a:lnTo>
                    <a:pt x="872" y="1716"/>
                  </a:lnTo>
                  <a:lnTo>
                    <a:pt x="872" y="1716"/>
                  </a:lnTo>
                  <a:lnTo>
                    <a:pt x="894" y="1744"/>
                  </a:lnTo>
                  <a:lnTo>
                    <a:pt x="894" y="1744"/>
                  </a:lnTo>
                  <a:lnTo>
                    <a:pt x="898" y="1748"/>
                  </a:lnTo>
                  <a:lnTo>
                    <a:pt x="898" y="1748"/>
                  </a:lnTo>
                  <a:lnTo>
                    <a:pt x="928" y="1774"/>
                  </a:lnTo>
                  <a:lnTo>
                    <a:pt x="958" y="1798"/>
                  </a:lnTo>
                  <a:lnTo>
                    <a:pt x="992" y="1818"/>
                  </a:lnTo>
                  <a:lnTo>
                    <a:pt x="1026" y="1836"/>
                  </a:lnTo>
                  <a:lnTo>
                    <a:pt x="1064" y="1848"/>
                  </a:lnTo>
                  <a:lnTo>
                    <a:pt x="1102" y="1858"/>
                  </a:lnTo>
                  <a:lnTo>
                    <a:pt x="1140" y="1864"/>
                  </a:lnTo>
                  <a:lnTo>
                    <a:pt x="1180" y="1866"/>
                  </a:lnTo>
                  <a:lnTo>
                    <a:pt x="1180" y="1866"/>
                  </a:lnTo>
                  <a:lnTo>
                    <a:pt x="1206" y="1866"/>
                  </a:lnTo>
                  <a:lnTo>
                    <a:pt x="1232" y="1862"/>
                  </a:lnTo>
                  <a:lnTo>
                    <a:pt x="1264" y="1856"/>
                  </a:lnTo>
                  <a:lnTo>
                    <a:pt x="1306" y="1846"/>
                  </a:lnTo>
                  <a:lnTo>
                    <a:pt x="1306" y="1846"/>
                  </a:lnTo>
                  <a:lnTo>
                    <a:pt x="1310" y="1846"/>
                  </a:lnTo>
                  <a:lnTo>
                    <a:pt x="1310" y="1846"/>
                  </a:lnTo>
                  <a:lnTo>
                    <a:pt x="1378" y="1826"/>
                  </a:lnTo>
                  <a:lnTo>
                    <a:pt x="1444" y="1802"/>
                  </a:lnTo>
                  <a:lnTo>
                    <a:pt x="1506" y="1774"/>
                  </a:lnTo>
                  <a:lnTo>
                    <a:pt x="1566" y="1744"/>
                  </a:lnTo>
                  <a:lnTo>
                    <a:pt x="1624" y="1708"/>
                  </a:lnTo>
                  <a:lnTo>
                    <a:pt x="1678" y="1670"/>
                  </a:lnTo>
                  <a:lnTo>
                    <a:pt x="1730" y="1630"/>
                  </a:lnTo>
                  <a:lnTo>
                    <a:pt x="1778" y="1584"/>
                  </a:lnTo>
                  <a:lnTo>
                    <a:pt x="1778" y="1584"/>
                  </a:lnTo>
                  <a:lnTo>
                    <a:pt x="1812" y="1550"/>
                  </a:lnTo>
                  <a:lnTo>
                    <a:pt x="1844" y="1516"/>
                  </a:lnTo>
                  <a:lnTo>
                    <a:pt x="1872" y="1480"/>
                  </a:lnTo>
                  <a:lnTo>
                    <a:pt x="1900" y="1442"/>
                  </a:lnTo>
                  <a:lnTo>
                    <a:pt x="1924" y="1404"/>
                  </a:lnTo>
                  <a:lnTo>
                    <a:pt x="1946" y="1364"/>
                  </a:lnTo>
                  <a:lnTo>
                    <a:pt x="1966" y="1324"/>
                  </a:lnTo>
                  <a:lnTo>
                    <a:pt x="1986" y="1282"/>
                  </a:lnTo>
                  <a:lnTo>
                    <a:pt x="2002" y="1238"/>
                  </a:lnTo>
                  <a:lnTo>
                    <a:pt x="2016" y="1194"/>
                  </a:lnTo>
                  <a:lnTo>
                    <a:pt x="2028" y="1150"/>
                  </a:lnTo>
                  <a:lnTo>
                    <a:pt x="2036" y="1102"/>
                  </a:lnTo>
                  <a:lnTo>
                    <a:pt x="2044" y="1056"/>
                  </a:lnTo>
                  <a:lnTo>
                    <a:pt x="2050" y="1006"/>
                  </a:lnTo>
                  <a:lnTo>
                    <a:pt x="2054" y="958"/>
                  </a:lnTo>
                  <a:lnTo>
                    <a:pt x="2054" y="906"/>
                  </a:lnTo>
                  <a:lnTo>
                    <a:pt x="2054" y="906"/>
                  </a:lnTo>
                  <a:lnTo>
                    <a:pt x="2052" y="840"/>
                  </a:lnTo>
                  <a:lnTo>
                    <a:pt x="2046" y="778"/>
                  </a:lnTo>
                  <a:lnTo>
                    <a:pt x="2038" y="718"/>
                  </a:lnTo>
                  <a:lnTo>
                    <a:pt x="2026" y="662"/>
                  </a:lnTo>
                  <a:lnTo>
                    <a:pt x="2012" y="608"/>
                  </a:lnTo>
                  <a:lnTo>
                    <a:pt x="1996" y="560"/>
                  </a:lnTo>
                  <a:lnTo>
                    <a:pt x="1976" y="512"/>
                  </a:lnTo>
                  <a:lnTo>
                    <a:pt x="1956" y="470"/>
                  </a:lnTo>
                  <a:lnTo>
                    <a:pt x="1934" y="428"/>
                  </a:lnTo>
                  <a:lnTo>
                    <a:pt x="1910" y="390"/>
                  </a:lnTo>
                  <a:lnTo>
                    <a:pt x="1884" y="356"/>
                  </a:lnTo>
                  <a:lnTo>
                    <a:pt x="1858" y="324"/>
                  </a:lnTo>
                  <a:lnTo>
                    <a:pt x="1832" y="294"/>
                  </a:lnTo>
                  <a:lnTo>
                    <a:pt x="1806" y="266"/>
                  </a:lnTo>
                  <a:lnTo>
                    <a:pt x="1780" y="242"/>
                  </a:lnTo>
                  <a:lnTo>
                    <a:pt x="1754" y="220"/>
                  </a:lnTo>
                  <a:lnTo>
                    <a:pt x="1754" y="220"/>
                  </a:lnTo>
                  <a:lnTo>
                    <a:pt x="1720" y="192"/>
                  </a:lnTo>
                  <a:lnTo>
                    <a:pt x="1686" y="168"/>
                  </a:lnTo>
                  <a:lnTo>
                    <a:pt x="1650" y="146"/>
                  </a:lnTo>
                  <a:lnTo>
                    <a:pt x="1612" y="124"/>
                  </a:lnTo>
                  <a:lnTo>
                    <a:pt x="1572" y="104"/>
                  </a:lnTo>
                  <a:lnTo>
                    <a:pt x="1532" y="86"/>
                  </a:lnTo>
                  <a:lnTo>
                    <a:pt x="1490" y="70"/>
                  </a:lnTo>
                  <a:lnTo>
                    <a:pt x="1448" y="56"/>
                  </a:lnTo>
                  <a:lnTo>
                    <a:pt x="1404" y="42"/>
                  </a:lnTo>
                  <a:lnTo>
                    <a:pt x="1358" y="32"/>
                  </a:lnTo>
                  <a:lnTo>
                    <a:pt x="1312" y="22"/>
                  </a:lnTo>
                  <a:lnTo>
                    <a:pt x="1264" y="14"/>
                  </a:lnTo>
                  <a:lnTo>
                    <a:pt x="1214" y="8"/>
                  </a:lnTo>
                  <a:lnTo>
                    <a:pt x="1164" y="4"/>
                  </a:lnTo>
                  <a:lnTo>
                    <a:pt x="1112" y="2"/>
                  </a:lnTo>
                  <a:lnTo>
                    <a:pt x="1060" y="0"/>
                  </a:lnTo>
                  <a:lnTo>
                    <a:pt x="1060" y="0"/>
                  </a:lnTo>
                  <a:lnTo>
                    <a:pt x="1000" y="2"/>
                  </a:lnTo>
                  <a:lnTo>
                    <a:pt x="940" y="6"/>
                  </a:lnTo>
                  <a:lnTo>
                    <a:pt x="884" y="12"/>
                  </a:lnTo>
                  <a:lnTo>
                    <a:pt x="828" y="20"/>
                  </a:lnTo>
                  <a:lnTo>
                    <a:pt x="774" y="32"/>
                  </a:lnTo>
                  <a:lnTo>
                    <a:pt x="720" y="44"/>
                  </a:lnTo>
                  <a:lnTo>
                    <a:pt x="668" y="60"/>
                  </a:lnTo>
                  <a:lnTo>
                    <a:pt x="618" y="80"/>
                  </a:lnTo>
                  <a:lnTo>
                    <a:pt x="570" y="100"/>
                  </a:lnTo>
                  <a:lnTo>
                    <a:pt x="524" y="124"/>
                  </a:lnTo>
                  <a:lnTo>
                    <a:pt x="478" y="148"/>
                  </a:lnTo>
                  <a:lnTo>
                    <a:pt x="434" y="176"/>
                  </a:lnTo>
                  <a:lnTo>
                    <a:pt x="392" y="208"/>
                  </a:lnTo>
                  <a:lnTo>
                    <a:pt x="352" y="240"/>
                  </a:lnTo>
                  <a:lnTo>
                    <a:pt x="314" y="276"/>
                  </a:lnTo>
                  <a:lnTo>
                    <a:pt x="276" y="314"/>
                  </a:lnTo>
                  <a:lnTo>
                    <a:pt x="276" y="314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8"/>
            <p:cNvSpPr/>
            <p:nvPr/>
          </p:nvSpPr>
          <p:spPr>
            <a:xfrm>
              <a:off x="23466600" y="5594400"/>
              <a:ext cx="10137600" cy="4156200"/>
            </a:xfrm>
            <a:custGeom>
              <a:avLst/>
              <a:gdLst>
                <a:gd name="textAreaLeft" fmla="*/ 0 w 10137600"/>
                <a:gd name="textAreaRight" fmla="*/ 10137960 w 10137600"/>
                <a:gd name="textAreaTop" fmla="*/ 0 h 4156200"/>
                <a:gd name="textAreaBottom" fmla="*/ 4156560 h 4156200"/>
              </a:gdLst>
              <a:ahLst/>
              <a:rect l="textAreaLeft" t="textAreaTop" r="textAreaRight" b="textAreaBottom"/>
              <a:pathLst>
                <a:path w="6386" h="2618">
                  <a:moveTo>
                    <a:pt x="6034" y="1834"/>
                  </a:moveTo>
                  <a:lnTo>
                    <a:pt x="6034" y="1834"/>
                  </a:lnTo>
                  <a:lnTo>
                    <a:pt x="6002" y="1836"/>
                  </a:lnTo>
                  <a:lnTo>
                    <a:pt x="5902" y="1848"/>
                  </a:lnTo>
                  <a:lnTo>
                    <a:pt x="5902" y="1848"/>
                  </a:lnTo>
                  <a:lnTo>
                    <a:pt x="5824" y="1854"/>
                  </a:lnTo>
                  <a:lnTo>
                    <a:pt x="5786" y="1856"/>
                  </a:lnTo>
                  <a:lnTo>
                    <a:pt x="5748" y="1858"/>
                  </a:lnTo>
                  <a:lnTo>
                    <a:pt x="5748" y="1858"/>
                  </a:lnTo>
                  <a:lnTo>
                    <a:pt x="5722" y="1856"/>
                  </a:lnTo>
                  <a:lnTo>
                    <a:pt x="5722" y="1856"/>
                  </a:lnTo>
                  <a:lnTo>
                    <a:pt x="5722" y="1830"/>
                  </a:lnTo>
                  <a:lnTo>
                    <a:pt x="5722" y="1830"/>
                  </a:lnTo>
                  <a:lnTo>
                    <a:pt x="5722" y="1804"/>
                  </a:lnTo>
                  <a:lnTo>
                    <a:pt x="5718" y="1776"/>
                  </a:lnTo>
                  <a:lnTo>
                    <a:pt x="5714" y="1750"/>
                  </a:lnTo>
                  <a:lnTo>
                    <a:pt x="5706" y="1726"/>
                  </a:lnTo>
                  <a:lnTo>
                    <a:pt x="5698" y="1702"/>
                  </a:lnTo>
                  <a:lnTo>
                    <a:pt x="5686" y="1678"/>
                  </a:lnTo>
                  <a:lnTo>
                    <a:pt x="5672" y="1656"/>
                  </a:lnTo>
                  <a:lnTo>
                    <a:pt x="5658" y="1634"/>
                  </a:lnTo>
                  <a:lnTo>
                    <a:pt x="5658" y="1634"/>
                  </a:lnTo>
                  <a:lnTo>
                    <a:pt x="5732" y="1632"/>
                  </a:lnTo>
                  <a:lnTo>
                    <a:pt x="5732" y="1632"/>
                  </a:lnTo>
                  <a:lnTo>
                    <a:pt x="5846" y="1636"/>
                  </a:lnTo>
                  <a:lnTo>
                    <a:pt x="5898" y="1638"/>
                  </a:lnTo>
                  <a:lnTo>
                    <a:pt x="5942" y="1642"/>
                  </a:lnTo>
                  <a:lnTo>
                    <a:pt x="5942" y="1642"/>
                  </a:lnTo>
                  <a:lnTo>
                    <a:pt x="5986" y="1644"/>
                  </a:lnTo>
                  <a:lnTo>
                    <a:pt x="6028" y="1642"/>
                  </a:lnTo>
                  <a:lnTo>
                    <a:pt x="6068" y="1636"/>
                  </a:lnTo>
                  <a:lnTo>
                    <a:pt x="6106" y="1626"/>
                  </a:lnTo>
                  <a:lnTo>
                    <a:pt x="6142" y="1612"/>
                  </a:lnTo>
                  <a:lnTo>
                    <a:pt x="6176" y="1594"/>
                  </a:lnTo>
                  <a:lnTo>
                    <a:pt x="6208" y="1572"/>
                  </a:lnTo>
                  <a:lnTo>
                    <a:pt x="6238" y="1546"/>
                  </a:lnTo>
                  <a:lnTo>
                    <a:pt x="6238" y="1546"/>
                  </a:lnTo>
                  <a:lnTo>
                    <a:pt x="6242" y="1542"/>
                  </a:lnTo>
                  <a:lnTo>
                    <a:pt x="6242" y="1542"/>
                  </a:lnTo>
                  <a:lnTo>
                    <a:pt x="6264" y="1516"/>
                  </a:lnTo>
                  <a:lnTo>
                    <a:pt x="6282" y="1488"/>
                  </a:lnTo>
                  <a:lnTo>
                    <a:pt x="6300" y="1460"/>
                  </a:lnTo>
                  <a:lnTo>
                    <a:pt x="6312" y="1430"/>
                  </a:lnTo>
                  <a:lnTo>
                    <a:pt x="6324" y="1398"/>
                  </a:lnTo>
                  <a:lnTo>
                    <a:pt x="6332" y="1364"/>
                  </a:lnTo>
                  <a:lnTo>
                    <a:pt x="6336" y="1330"/>
                  </a:lnTo>
                  <a:lnTo>
                    <a:pt x="6338" y="1296"/>
                  </a:lnTo>
                  <a:lnTo>
                    <a:pt x="6338" y="1296"/>
                  </a:lnTo>
                  <a:lnTo>
                    <a:pt x="6336" y="1264"/>
                  </a:lnTo>
                  <a:lnTo>
                    <a:pt x="6332" y="1232"/>
                  </a:lnTo>
                  <a:lnTo>
                    <a:pt x="6326" y="1204"/>
                  </a:lnTo>
                  <a:lnTo>
                    <a:pt x="6316" y="1174"/>
                  </a:lnTo>
                  <a:lnTo>
                    <a:pt x="6304" y="1146"/>
                  </a:lnTo>
                  <a:lnTo>
                    <a:pt x="6290" y="1120"/>
                  </a:lnTo>
                  <a:lnTo>
                    <a:pt x="6274" y="1094"/>
                  </a:lnTo>
                  <a:lnTo>
                    <a:pt x="6254" y="1070"/>
                  </a:lnTo>
                  <a:lnTo>
                    <a:pt x="6254" y="1070"/>
                  </a:lnTo>
                  <a:lnTo>
                    <a:pt x="6232" y="1046"/>
                  </a:lnTo>
                  <a:lnTo>
                    <a:pt x="6206" y="1024"/>
                  </a:lnTo>
                  <a:lnTo>
                    <a:pt x="6178" y="1004"/>
                  </a:lnTo>
                  <a:lnTo>
                    <a:pt x="6150" y="988"/>
                  </a:lnTo>
                  <a:lnTo>
                    <a:pt x="6120" y="974"/>
                  </a:lnTo>
                  <a:lnTo>
                    <a:pt x="6088" y="964"/>
                  </a:lnTo>
                  <a:lnTo>
                    <a:pt x="6054" y="956"/>
                  </a:lnTo>
                  <a:lnTo>
                    <a:pt x="6020" y="952"/>
                  </a:lnTo>
                  <a:lnTo>
                    <a:pt x="6020" y="952"/>
                  </a:lnTo>
                  <a:lnTo>
                    <a:pt x="5934" y="944"/>
                  </a:lnTo>
                  <a:lnTo>
                    <a:pt x="5852" y="938"/>
                  </a:lnTo>
                  <a:lnTo>
                    <a:pt x="5774" y="934"/>
                  </a:lnTo>
                  <a:lnTo>
                    <a:pt x="5704" y="934"/>
                  </a:lnTo>
                  <a:lnTo>
                    <a:pt x="5704" y="934"/>
                  </a:lnTo>
                  <a:lnTo>
                    <a:pt x="5630" y="934"/>
                  </a:lnTo>
                  <a:lnTo>
                    <a:pt x="5554" y="938"/>
                  </a:lnTo>
                  <a:lnTo>
                    <a:pt x="5472" y="944"/>
                  </a:lnTo>
                  <a:lnTo>
                    <a:pt x="5384" y="952"/>
                  </a:lnTo>
                  <a:lnTo>
                    <a:pt x="5384" y="952"/>
                  </a:lnTo>
                  <a:lnTo>
                    <a:pt x="5356" y="954"/>
                  </a:lnTo>
                  <a:lnTo>
                    <a:pt x="5330" y="960"/>
                  </a:lnTo>
                  <a:lnTo>
                    <a:pt x="5304" y="966"/>
                  </a:lnTo>
                  <a:lnTo>
                    <a:pt x="5278" y="974"/>
                  </a:lnTo>
                  <a:lnTo>
                    <a:pt x="5278" y="974"/>
                  </a:lnTo>
                  <a:lnTo>
                    <a:pt x="5256" y="948"/>
                  </a:lnTo>
                  <a:lnTo>
                    <a:pt x="5230" y="926"/>
                  </a:lnTo>
                  <a:lnTo>
                    <a:pt x="5230" y="926"/>
                  </a:lnTo>
                  <a:lnTo>
                    <a:pt x="5206" y="908"/>
                  </a:lnTo>
                  <a:lnTo>
                    <a:pt x="5178" y="892"/>
                  </a:lnTo>
                  <a:lnTo>
                    <a:pt x="5150" y="878"/>
                  </a:lnTo>
                  <a:lnTo>
                    <a:pt x="5122" y="866"/>
                  </a:lnTo>
                  <a:lnTo>
                    <a:pt x="5090" y="858"/>
                  </a:lnTo>
                  <a:lnTo>
                    <a:pt x="5060" y="850"/>
                  </a:lnTo>
                  <a:lnTo>
                    <a:pt x="5026" y="848"/>
                  </a:lnTo>
                  <a:lnTo>
                    <a:pt x="4994" y="846"/>
                  </a:lnTo>
                  <a:lnTo>
                    <a:pt x="4994" y="846"/>
                  </a:lnTo>
                  <a:lnTo>
                    <a:pt x="4966" y="846"/>
                  </a:lnTo>
                  <a:lnTo>
                    <a:pt x="4938" y="850"/>
                  </a:lnTo>
                  <a:lnTo>
                    <a:pt x="4912" y="854"/>
                  </a:lnTo>
                  <a:lnTo>
                    <a:pt x="4886" y="862"/>
                  </a:lnTo>
                  <a:lnTo>
                    <a:pt x="4862" y="870"/>
                  </a:lnTo>
                  <a:lnTo>
                    <a:pt x="4838" y="880"/>
                  </a:lnTo>
                  <a:lnTo>
                    <a:pt x="4814" y="892"/>
                  </a:lnTo>
                  <a:lnTo>
                    <a:pt x="4792" y="906"/>
                  </a:lnTo>
                  <a:lnTo>
                    <a:pt x="4792" y="906"/>
                  </a:lnTo>
                  <a:lnTo>
                    <a:pt x="4798" y="878"/>
                  </a:lnTo>
                  <a:lnTo>
                    <a:pt x="4800" y="850"/>
                  </a:lnTo>
                  <a:lnTo>
                    <a:pt x="4800" y="506"/>
                  </a:lnTo>
                  <a:lnTo>
                    <a:pt x="4800" y="506"/>
                  </a:lnTo>
                  <a:lnTo>
                    <a:pt x="4798" y="480"/>
                  </a:lnTo>
                  <a:lnTo>
                    <a:pt x="4794" y="456"/>
                  </a:lnTo>
                  <a:lnTo>
                    <a:pt x="4788" y="432"/>
                  </a:lnTo>
                  <a:lnTo>
                    <a:pt x="4778" y="408"/>
                  </a:lnTo>
                  <a:lnTo>
                    <a:pt x="4768" y="386"/>
                  </a:lnTo>
                  <a:lnTo>
                    <a:pt x="4754" y="366"/>
                  </a:lnTo>
                  <a:lnTo>
                    <a:pt x="4738" y="346"/>
                  </a:lnTo>
                  <a:lnTo>
                    <a:pt x="4720" y="328"/>
                  </a:lnTo>
                  <a:lnTo>
                    <a:pt x="4720" y="328"/>
                  </a:lnTo>
                  <a:lnTo>
                    <a:pt x="4700" y="314"/>
                  </a:lnTo>
                  <a:lnTo>
                    <a:pt x="4678" y="300"/>
                  </a:lnTo>
                  <a:lnTo>
                    <a:pt x="4656" y="290"/>
                  </a:lnTo>
                  <a:lnTo>
                    <a:pt x="4634" y="280"/>
                  </a:lnTo>
                  <a:lnTo>
                    <a:pt x="4610" y="274"/>
                  </a:lnTo>
                  <a:lnTo>
                    <a:pt x="4584" y="272"/>
                  </a:lnTo>
                  <a:lnTo>
                    <a:pt x="4560" y="270"/>
                  </a:lnTo>
                  <a:lnTo>
                    <a:pt x="4534" y="272"/>
                  </a:lnTo>
                  <a:lnTo>
                    <a:pt x="4534" y="272"/>
                  </a:lnTo>
                  <a:lnTo>
                    <a:pt x="4496" y="276"/>
                  </a:lnTo>
                  <a:lnTo>
                    <a:pt x="4450" y="280"/>
                  </a:lnTo>
                  <a:lnTo>
                    <a:pt x="4392" y="282"/>
                  </a:lnTo>
                  <a:lnTo>
                    <a:pt x="4308" y="282"/>
                  </a:lnTo>
                  <a:lnTo>
                    <a:pt x="4280" y="282"/>
                  </a:lnTo>
                  <a:lnTo>
                    <a:pt x="4280" y="282"/>
                  </a:lnTo>
                  <a:lnTo>
                    <a:pt x="4282" y="276"/>
                  </a:lnTo>
                  <a:lnTo>
                    <a:pt x="4282" y="276"/>
                  </a:lnTo>
                  <a:lnTo>
                    <a:pt x="4284" y="250"/>
                  </a:lnTo>
                  <a:lnTo>
                    <a:pt x="4284" y="224"/>
                  </a:lnTo>
                  <a:lnTo>
                    <a:pt x="4282" y="200"/>
                  </a:lnTo>
                  <a:lnTo>
                    <a:pt x="4278" y="174"/>
                  </a:lnTo>
                  <a:lnTo>
                    <a:pt x="4270" y="150"/>
                  </a:lnTo>
                  <a:lnTo>
                    <a:pt x="4258" y="126"/>
                  </a:lnTo>
                  <a:lnTo>
                    <a:pt x="4246" y="104"/>
                  </a:lnTo>
                  <a:lnTo>
                    <a:pt x="4230" y="84"/>
                  </a:lnTo>
                  <a:lnTo>
                    <a:pt x="4230" y="84"/>
                  </a:lnTo>
                  <a:lnTo>
                    <a:pt x="4212" y="64"/>
                  </a:lnTo>
                  <a:lnTo>
                    <a:pt x="4194" y="48"/>
                  </a:lnTo>
                  <a:lnTo>
                    <a:pt x="4172" y="34"/>
                  </a:lnTo>
                  <a:lnTo>
                    <a:pt x="4150" y="22"/>
                  </a:lnTo>
                  <a:lnTo>
                    <a:pt x="4126" y="12"/>
                  </a:lnTo>
                  <a:lnTo>
                    <a:pt x="4102" y="6"/>
                  </a:lnTo>
                  <a:lnTo>
                    <a:pt x="4076" y="0"/>
                  </a:lnTo>
                  <a:lnTo>
                    <a:pt x="4050" y="0"/>
                  </a:lnTo>
                  <a:lnTo>
                    <a:pt x="3682" y="0"/>
                  </a:lnTo>
                  <a:lnTo>
                    <a:pt x="3682" y="0"/>
                  </a:lnTo>
                  <a:lnTo>
                    <a:pt x="3656" y="0"/>
                  </a:lnTo>
                  <a:lnTo>
                    <a:pt x="3632" y="6"/>
                  </a:lnTo>
                  <a:lnTo>
                    <a:pt x="3608" y="12"/>
                  </a:lnTo>
                  <a:lnTo>
                    <a:pt x="3584" y="22"/>
                  </a:lnTo>
                  <a:lnTo>
                    <a:pt x="3562" y="32"/>
                  </a:lnTo>
                  <a:lnTo>
                    <a:pt x="3540" y="46"/>
                  </a:lnTo>
                  <a:lnTo>
                    <a:pt x="3522" y="64"/>
                  </a:lnTo>
                  <a:lnTo>
                    <a:pt x="3504" y="82"/>
                  </a:lnTo>
                  <a:lnTo>
                    <a:pt x="3504" y="82"/>
                  </a:lnTo>
                  <a:lnTo>
                    <a:pt x="3492" y="96"/>
                  </a:lnTo>
                  <a:lnTo>
                    <a:pt x="3482" y="110"/>
                  </a:lnTo>
                  <a:lnTo>
                    <a:pt x="3474" y="126"/>
                  </a:lnTo>
                  <a:lnTo>
                    <a:pt x="3466" y="142"/>
                  </a:lnTo>
                  <a:lnTo>
                    <a:pt x="3460" y="158"/>
                  </a:lnTo>
                  <a:lnTo>
                    <a:pt x="3456" y="176"/>
                  </a:lnTo>
                  <a:lnTo>
                    <a:pt x="3452" y="192"/>
                  </a:lnTo>
                  <a:lnTo>
                    <a:pt x="3448" y="210"/>
                  </a:lnTo>
                  <a:lnTo>
                    <a:pt x="3408" y="150"/>
                  </a:lnTo>
                  <a:lnTo>
                    <a:pt x="3408" y="150"/>
                  </a:lnTo>
                  <a:lnTo>
                    <a:pt x="3398" y="136"/>
                  </a:lnTo>
                  <a:lnTo>
                    <a:pt x="3386" y="124"/>
                  </a:lnTo>
                  <a:lnTo>
                    <a:pt x="3362" y="102"/>
                  </a:lnTo>
                  <a:lnTo>
                    <a:pt x="3336" y="82"/>
                  </a:lnTo>
                  <a:lnTo>
                    <a:pt x="3308" y="68"/>
                  </a:lnTo>
                  <a:lnTo>
                    <a:pt x="3276" y="58"/>
                  </a:lnTo>
                  <a:lnTo>
                    <a:pt x="3244" y="52"/>
                  </a:lnTo>
                  <a:lnTo>
                    <a:pt x="3212" y="50"/>
                  </a:lnTo>
                  <a:lnTo>
                    <a:pt x="3196" y="50"/>
                  </a:lnTo>
                  <a:lnTo>
                    <a:pt x="3178" y="52"/>
                  </a:lnTo>
                  <a:lnTo>
                    <a:pt x="3178" y="52"/>
                  </a:lnTo>
                  <a:lnTo>
                    <a:pt x="3158" y="54"/>
                  </a:lnTo>
                  <a:lnTo>
                    <a:pt x="3134" y="56"/>
                  </a:lnTo>
                  <a:lnTo>
                    <a:pt x="3056" y="58"/>
                  </a:lnTo>
                  <a:lnTo>
                    <a:pt x="2704" y="58"/>
                  </a:lnTo>
                  <a:lnTo>
                    <a:pt x="2704" y="58"/>
                  </a:lnTo>
                  <a:lnTo>
                    <a:pt x="2606" y="56"/>
                  </a:lnTo>
                  <a:lnTo>
                    <a:pt x="2566" y="54"/>
                  </a:lnTo>
                  <a:lnTo>
                    <a:pt x="2530" y="50"/>
                  </a:lnTo>
                  <a:lnTo>
                    <a:pt x="2530" y="50"/>
                  </a:lnTo>
                  <a:lnTo>
                    <a:pt x="2504" y="50"/>
                  </a:lnTo>
                  <a:lnTo>
                    <a:pt x="2478" y="50"/>
                  </a:lnTo>
                  <a:lnTo>
                    <a:pt x="2454" y="54"/>
                  </a:lnTo>
                  <a:lnTo>
                    <a:pt x="2428" y="62"/>
                  </a:lnTo>
                  <a:lnTo>
                    <a:pt x="2404" y="72"/>
                  </a:lnTo>
                  <a:lnTo>
                    <a:pt x="2382" y="84"/>
                  </a:lnTo>
                  <a:lnTo>
                    <a:pt x="2360" y="98"/>
                  </a:lnTo>
                  <a:lnTo>
                    <a:pt x="2340" y="116"/>
                  </a:lnTo>
                  <a:lnTo>
                    <a:pt x="2340" y="116"/>
                  </a:lnTo>
                  <a:lnTo>
                    <a:pt x="2322" y="136"/>
                  </a:lnTo>
                  <a:lnTo>
                    <a:pt x="2308" y="156"/>
                  </a:lnTo>
                  <a:lnTo>
                    <a:pt x="2294" y="178"/>
                  </a:lnTo>
                  <a:lnTo>
                    <a:pt x="2284" y="202"/>
                  </a:lnTo>
                  <a:lnTo>
                    <a:pt x="2276" y="226"/>
                  </a:lnTo>
                  <a:lnTo>
                    <a:pt x="2272" y="252"/>
                  </a:lnTo>
                  <a:lnTo>
                    <a:pt x="2270" y="278"/>
                  </a:lnTo>
                  <a:lnTo>
                    <a:pt x="2270" y="304"/>
                  </a:lnTo>
                  <a:lnTo>
                    <a:pt x="2270" y="304"/>
                  </a:lnTo>
                  <a:lnTo>
                    <a:pt x="2272" y="328"/>
                  </a:lnTo>
                  <a:lnTo>
                    <a:pt x="2112" y="138"/>
                  </a:lnTo>
                  <a:lnTo>
                    <a:pt x="2112" y="138"/>
                  </a:lnTo>
                  <a:lnTo>
                    <a:pt x="2092" y="116"/>
                  </a:lnTo>
                  <a:lnTo>
                    <a:pt x="2068" y="96"/>
                  </a:lnTo>
                  <a:lnTo>
                    <a:pt x="2042" y="82"/>
                  </a:lnTo>
                  <a:lnTo>
                    <a:pt x="2016" y="68"/>
                  </a:lnTo>
                  <a:lnTo>
                    <a:pt x="1988" y="60"/>
                  </a:lnTo>
                  <a:lnTo>
                    <a:pt x="1958" y="56"/>
                  </a:lnTo>
                  <a:lnTo>
                    <a:pt x="1928" y="54"/>
                  </a:lnTo>
                  <a:lnTo>
                    <a:pt x="1898" y="56"/>
                  </a:lnTo>
                  <a:lnTo>
                    <a:pt x="1898" y="56"/>
                  </a:lnTo>
                  <a:lnTo>
                    <a:pt x="1866" y="60"/>
                  </a:lnTo>
                  <a:lnTo>
                    <a:pt x="1830" y="64"/>
                  </a:lnTo>
                  <a:lnTo>
                    <a:pt x="1780" y="64"/>
                  </a:lnTo>
                  <a:lnTo>
                    <a:pt x="1712" y="66"/>
                  </a:lnTo>
                  <a:lnTo>
                    <a:pt x="746" y="66"/>
                  </a:lnTo>
                  <a:lnTo>
                    <a:pt x="746" y="66"/>
                  </a:lnTo>
                  <a:lnTo>
                    <a:pt x="644" y="64"/>
                  </a:lnTo>
                  <a:lnTo>
                    <a:pt x="570" y="62"/>
                  </a:lnTo>
                  <a:lnTo>
                    <a:pt x="508" y="60"/>
                  </a:lnTo>
                  <a:lnTo>
                    <a:pt x="454" y="54"/>
                  </a:lnTo>
                  <a:lnTo>
                    <a:pt x="454" y="54"/>
                  </a:lnTo>
                  <a:lnTo>
                    <a:pt x="428" y="52"/>
                  </a:lnTo>
                  <a:lnTo>
                    <a:pt x="404" y="52"/>
                  </a:lnTo>
                  <a:lnTo>
                    <a:pt x="380" y="56"/>
                  </a:lnTo>
                  <a:lnTo>
                    <a:pt x="356" y="62"/>
                  </a:lnTo>
                  <a:lnTo>
                    <a:pt x="332" y="70"/>
                  </a:lnTo>
                  <a:lnTo>
                    <a:pt x="310" y="82"/>
                  </a:lnTo>
                  <a:lnTo>
                    <a:pt x="290" y="94"/>
                  </a:lnTo>
                  <a:lnTo>
                    <a:pt x="270" y="110"/>
                  </a:lnTo>
                  <a:lnTo>
                    <a:pt x="270" y="110"/>
                  </a:lnTo>
                  <a:lnTo>
                    <a:pt x="252" y="128"/>
                  </a:lnTo>
                  <a:lnTo>
                    <a:pt x="236" y="148"/>
                  </a:lnTo>
                  <a:lnTo>
                    <a:pt x="222" y="168"/>
                  </a:lnTo>
                  <a:lnTo>
                    <a:pt x="212" y="190"/>
                  </a:lnTo>
                  <a:lnTo>
                    <a:pt x="202" y="212"/>
                  </a:lnTo>
                  <a:lnTo>
                    <a:pt x="196" y="236"/>
                  </a:lnTo>
                  <a:lnTo>
                    <a:pt x="192" y="262"/>
                  </a:lnTo>
                  <a:lnTo>
                    <a:pt x="190" y="286"/>
                  </a:lnTo>
                  <a:lnTo>
                    <a:pt x="190" y="634"/>
                  </a:lnTo>
                  <a:lnTo>
                    <a:pt x="190" y="634"/>
                  </a:lnTo>
                  <a:lnTo>
                    <a:pt x="192" y="658"/>
                  </a:lnTo>
                  <a:lnTo>
                    <a:pt x="196" y="682"/>
                  </a:lnTo>
                  <a:lnTo>
                    <a:pt x="202" y="704"/>
                  </a:lnTo>
                  <a:lnTo>
                    <a:pt x="210" y="728"/>
                  </a:lnTo>
                  <a:lnTo>
                    <a:pt x="220" y="748"/>
                  </a:lnTo>
                  <a:lnTo>
                    <a:pt x="232" y="768"/>
                  </a:lnTo>
                  <a:lnTo>
                    <a:pt x="248" y="788"/>
                  </a:lnTo>
                  <a:lnTo>
                    <a:pt x="264" y="804"/>
                  </a:lnTo>
                  <a:lnTo>
                    <a:pt x="264" y="804"/>
                  </a:lnTo>
                  <a:lnTo>
                    <a:pt x="262" y="804"/>
                  </a:lnTo>
                  <a:lnTo>
                    <a:pt x="262" y="804"/>
                  </a:lnTo>
                  <a:lnTo>
                    <a:pt x="236" y="804"/>
                  </a:lnTo>
                  <a:lnTo>
                    <a:pt x="212" y="804"/>
                  </a:lnTo>
                  <a:lnTo>
                    <a:pt x="188" y="808"/>
                  </a:lnTo>
                  <a:lnTo>
                    <a:pt x="164" y="814"/>
                  </a:lnTo>
                  <a:lnTo>
                    <a:pt x="140" y="824"/>
                  </a:lnTo>
                  <a:lnTo>
                    <a:pt x="118" y="834"/>
                  </a:lnTo>
                  <a:lnTo>
                    <a:pt x="98" y="848"/>
                  </a:lnTo>
                  <a:lnTo>
                    <a:pt x="78" y="862"/>
                  </a:lnTo>
                  <a:lnTo>
                    <a:pt x="78" y="862"/>
                  </a:lnTo>
                  <a:lnTo>
                    <a:pt x="62" y="880"/>
                  </a:lnTo>
                  <a:lnTo>
                    <a:pt x="46" y="900"/>
                  </a:lnTo>
                  <a:lnTo>
                    <a:pt x="32" y="920"/>
                  </a:lnTo>
                  <a:lnTo>
                    <a:pt x="22" y="942"/>
                  </a:lnTo>
                  <a:lnTo>
                    <a:pt x="12" y="964"/>
                  </a:lnTo>
                  <a:lnTo>
                    <a:pt x="6" y="988"/>
                  </a:lnTo>
                  <a:lnTo>
                    <a:pt x="2" y="1012"/>
                  </a:lnTo>
                  <a:lnTo>
                    <a:pt x="0" y="1038"/>
                  </a:lnTo>
                  <a:lnTo>
                    <a:pt x="0" y="1388"/>
                  </a:lnTo>
                  <a:lnTo>
                    <a:pt x="0" y="1388"/>
                  </a:lnTo>
                  <a:lnTo>
                    <a:pt x="2" y="1412"/>
                  </a:lnTo>
                  <a:lnTo>
                    <a:pt x="6" y="1436"/>
                  </a:lnTo>
                  <a:lnTo>
                    <a:pt x="12" y="1460"/>
                  </a:lnTo>
                  <a:lnTo>
                    <a:pt x="20" y="1484"/>
                  </a:lnTo>
                  <a:lnTo>
                    <a:pt x="32" y="1504"/>
                  </a:lnTo>
                  <a:lnTo>
                    <a:pt x="46" y="1526"/>
                  </a:lnTo>
                  <a:lnTo>
                    <a:pt x="60" y="1544"/>
                  </a:lnTo>
                  <a:lnTo>
                    <a:pt x="78" y="1562"/>
                  </a:lnTo>
                  <a:lnTo>
                    <a:pt x="78" y="1562"/>
                  </a:lnTo>
                  <a:lnTo>
                    <a:pt x="98" y="1578"/>
                  </a:lnTo>
                  <a:lnTo>
                    <a:pt x="118" y="1590"/>
                  </a:lnTo>
                  <a:lnTo>
                    <a:pt x="140" y="1602"/>
                  </a:lnTo>
                  <a:lnTo>
                    <a:pt x="162" y="1610"/>
                  </a:lnTo>
                  <a:lnTo>
                    <a:pt x="186" y="1618"/>
                  </a:lnTo>
                  <a:lnTo>
                    <a:pt x="210" y="1620"/>
                  </a:lnTo>
                  <a:lnTo>
                    <a:pt x="234" y="1622"/>
                  </a:lnTo>
                  <a:lnTo>
                    <a:pt x="260" y="1622"/>
                  </a:lnTo>
                  <a:lnTo>
                    <a:pt x="260" y="1622"/>
                  </a:lnTo>
                  <a:lnTo>
                    <a:pt x="324" y="1616"/>
                  </a:lnTo>
                  <a:lnTo>
                    <a:pt x="396" y="1612"/>
                  </a:lnTo>
                  <a:lnTo>
                    <a:pt x="478" y="1610"/>
                  </a:lnTo>
                  <a:lnTo>
                    <a:pt x="574" y="1608"/>
                  </a:lnTo>
                  <a:lnTo>
                    <a:pt x="830" y="1608"/>
                  </a:lnTo>
                  <a:lnTo>
                    <a:pt x="830" y="1770"/>
                  </a:lnTo>
                  <a:lnTo>
                    <a:pt x="830" y="1770"/>
                  </a:lnTo>
                  <a:lnTo>
                    <a:pt x="756" y="1764"/>
                  </a:lnTo>
                  <a:lnTo>
                    <a:pt x="674" y="1754"/>
                  </a:lnTo>
                  <a:lnTo>
                    <a:pt x="674" y="1754"/>
                  </a:lnTo>
                  <a:lnTo>
                    <a:pt x="642" y="1752"/>
                  </a:lnTo>
                  <a:lnTo>
                    <a:pt x="612" y="1754"/>
                  </a:lnTo>
                  <a:lnTo>
                    <a:pt x="582" y="1760"/>
                  </a:lnTo>
                  <a:lnTo>
                    <a:pt x="554" y="1770"/>
                  </a:lnTo>
                  <a:lnTo>
                    <a:pt x="526" y="1782"/>
                  </a:lnTo>
                  <a:lnTo>
                    <a:pt x="502" y="1800"/>
                  </a:lnTo>
                  <a:lnTo>
                    <a:pt x="478" y="1820"/>
                  </a:lnTo>
                  <a:lnTo>
                    <a:pt x="458" y="1842"/>
                  </a:lnTo>
                  <a:lnTo>
                    <a:pt x="458" y="1842"/>
                  </a:lnTo>
                  <a:lnTo>
                    <a:pt x="440" y="1868"/>
                  </a:lnTo>
                  <a:lnTo>
                    <a:pt x="428" y="1896"/>
                  </a:lnTo>
                  <a:lnTo>
                    <a:pt x="418" y="1924"/>
                  </a:lnTo>
                  <a:lnTo>
                    <a:pt x="412" y="1954"/>
                  </a:lnTo>
                  <a:lnTo>
                    <a:pt x="410" y="1984"/>
                  </a:lnTo>
                  <a:lnTo>
                    <a:pt x="412" y="2014"/>
                  </a:lnTo>
                  <a:lnTo>
                    <a:pt x="416" y="2044"/>
                  </a:lnTo>
                  <a:lnTo>
                    <a:pt x="426" y="2074"/>
                  </a:lnTo>
                  <a:lnTo>
                    <a:pt x="426" y="2074"/>
                  </a:lnTo>
                  <a:lnTo>
                    <a:pt x="458" y="2156"/>
                  </a:lnTo>
                  <a:lnTo>
                    <a:pt x="470" y="2192"/>
                  </a:lnTo>
                  <a:lnTo>
                    <a:pt x="480" y="2226"/>
                  </a:lnTo>
                  <a:lnTo>
                    <a:pt x="488" y="2258"/>
                  </a:lnTo>
                  <a:lnTo>
                    <a:pt x="494" y="2292"/>
                  </a:lnTo>
                  <a:lnTo>
                    <a:pt x="500" y="2328"/>
                  </a:lnTo>
                  <a:lnTo>
                    <a:pt x="506" y="2366"/>
                  </a:lnTo>
                  <a:lnTo>
                    <a:pt x="506" y="2366"/>
                  </a:lnTo>
                  <a:lnTo>
                    <a:pt x="510" y="2386"/>
                  </a:lnTo>
                  <a:lnTo>
                    <a:pt x="514" y="2408"/>
                  </a:lnTo>
                  <a:lnTo>
                    <a:pt x="522" y="2428"/>
                  </a:lnTo>
                  <a:lnTo>
                    <a:pt x="530" y="2446"/>
                  </a:lnTo>
                  <a:lnTo>
                    <a:pt x="540" y="2464"/>
                  </a:lnTo>
                  <a:lnTo>
                    <a:pt x="552" y="2480"/>
                  </a:lnTo>
                  <a:lnTo>
                    <a:pt x="566" y="2496"/>
                  </a:lnTo>
                  <a:lnTo>
                    <a:pt x="580" y="2510"/>
                  </a:lnTo>
                  <a:lnTo>
                    <a:pt x="596" y="2524"/>
                  </a:lnTo>
                  <a:lnTo>
                    <a:pt x="612" y="2536"/>
                  </a:lnTo>
                  <a:lnTo>
                    <a:pt x="630" y="2546"/>
                  </a:lnTo>
                  <a:lnTo>
                    <a:pt x="648" y="2554"/>
                  </a:lnTo>
                  <a:lnTo>
                    <a:pt x="668" y="2562"/>
                  </a:lnTo>
                  <a:lnTo>
                    <a:pt x="688" y="2568"/>
                  </a:lnTo>
                  <a:lnTo>
                    <a:pt x="710" y="2570"/>
                  </a:lnTo>
                  <a:lnTo>
                    <a:pt x="732" y="2572"/>
                  </a:lnTo>
                  <a:lnTo>
                    <a:pt x="732" y="2572"/>
                  </a:lnTo>
                  <a:lnTo>
                    <a:pt x="824" y="2574"/>
                  </a:lnTo>
                  <a:lnTo>
                    <a:pt x="880" y="2574"/>
                  </a:lnTo>
                  <a:lnTo>
                    <a:pt x="880" y="2574"/>
                  </a:lnTo>
                  <a:lnTo>
                    <a:pt x="974" y="2574"/>
                  </a:lnTo>
                  <a:lnTo>
                    <a:pt x="1056" y="2572"/>
                  </a:lnTo>
                  <a:lnTo>
                    <a:pt x="1132" y="2568"/>
                  </a:lnTo>
                  <a:lnTo>
                    <a:pt x="1200" y="2562"/>
                  </a:lnTo>
                  <a:lnTo>
                    <a:pt x="1260" y="2554"/>
                  </a:lnTo>
                  <a:lnTo>
                    <a:pt x="1316" y="2540"/>
                  </a:lnTo>
                  <a:lnTo>
                    <a:pt x="1340" y="2534"/>
                  </a:lnTo>
                  <a:lnTo>
                    <a:pt x="1364" y="2524"/>
                  </a:lnTo>
                  <a:lnTo>
                    <a:pt x="1388" y="2516"/>
                  </a:lnTo>
                  <a:lnTo>
                    <a:pt x="1410" y="2504"/>
                  </a:lnTo>
                  <a:lnTo>
                    <a:pt x="1410" y="2504"/>
                  </a:lnTo>
                  <a:lnTo>
                    <a:pt x="1446" y="2486"/>
                  </a:lnTo>
                  <a:lnTo>
                    <a:pt x="1478" y="2464"/>
                  </a:lnTo>
                  <a:lnTo>
                    <a:pt x="1506" y="2442"/>
                  </a:lnTo>
                  <a:lnTo>
                    <a:pt x="1532" y="2418"/>
                  </a:lnTo>
                  <a:lnTo>
                    <a:pt x="1554" y="2392"/>
                  </a:lnTo>
                  <a:lnTo>
                    <a:pt x="1574" y="2366"/>
                  </a:lnTo>
                  <a:lnTo>
                    <a:pt x="1590" y="2340"/>
                  </a:lnTo>
                  <a:lnTo>
                    <a:pt x="1606" y="2314"/>
                  </a:lnTo>
                  <a:lnTo>
                    <a:pt x="1618" y="2286"/>
                  </a:lnTo>
                  <a:lnTo>
                    <a:pt x="1628" y="2260"/>
                  </a:lnTo>
                  <a:lnTo>
                    <a:pt x="1636" y="2232"/>
                  </a:lnTo>
                  <a:lnTo>
                    <a:pt x="1642" y="2206"/>
                  </a:lnTo>
                  <a:lnTo>
                    <a:pt x="1652" y="2158"/>
                  </a:lnTo>
                  <a:lnTo>
                    <a:pt x="1656" y="2112"/>
                  </a:lnTo>
                  <a:lnTo>
                    <a:pt x="1656" y="2112"/>
                  </a:lnTo>
                  <a:lnTo>
                    <a:pt x="1678" y="2124"/>
                  </a:lnTo>
                  <a:lnTo>
                    <a:pt x="1700" y="2132"/>
                  </a:lnTo>
                  <a:lnTo>
                    <a:pt x="1724" y="2138"/>
                  </a:lnTo>
                  <a:lnTo>
                    <a:pt x="1750" y="2140"/>
                  </a:lnTo>
                  <a:lnTo>
                    <a:pt x="1750" y="2140"/>
                  </a:lnTo>
                  <a:lnTo>
                    <a:pt x="1774" y="2142"/>
                  </a:lnTo>
                  <a:lnTo>
                    <a:pt x="1798" y="2140"/>
                  </a:lnTo>
                  <a:lnTo>
                    <a:pt x="1820" y="2136"/>
                  </a:lnTo>
                  <a:lnTo>
                    <a:pt x="1844" y="2128"/>
                  </a:lnTo>
                  <a:lnTo>
                    <a:pt x="1866" y="2120"/>
                  </a:lnTo>
                  <a:lnTo>
                    <a:pt x="1888" y="2110"/>
                  </a:lnTo>
                  <a:lnTo>
                    <a:pt x="1908" y="2096"/>
                  </a:lnTo>
                  <a:lnTo>
                    <a:pt x="1926" y="2080"/>
                  </a:lnTo>
                  <a:lnTo>
                    <a:pt x="1926" y="2080"/>
                  </a:lnTo>
                  <a:lnTo>
                    <a:pt x="2024" y="1988"/>
                  </a:lnTo>
                  <a:lnTo>
                    <a:pt x="2068" y="1944"/>
                  </a:lnTo>
                  <a:lnTo>
                    <a:pt x="2112" y="1898"/>
                  </a:lnTo>
                  <a:lnTo>
                    <a:pt x="2156" y="1852"/>
                  </a:lnTo>
                  <a:lnTo>
                    <a:pt x="2196" y="1806"/>
                  </a:lnTo>
                  <a:lnTo>
                    <a:pt x="2238" y="1756"/>
                  </a:lnTo>
                  <a:lnTo>
                    <a:pt x="2278" y="1708"/>
                  </a:lnTo>
                  <a:lnTo>
                    <a:pt x="2278" y="2042"/>
                  </a:lnTo>
                  <a:lnTo>
                    <a:pt x="2278" y="2042"/>
                  </a:lnTo>
                  <a:lnTo>
                    <a:pt x="2278" y="2122"/>
                  </a:lnTo>
                  <a:lnTo>
                    <a:pt x="2276" y="2196"/>
                  </a:lnTo>
                  <a:lnTo>
                    <a:pt x="2272" y="2264"/>
                  </a:lnTo>
                  <a:lnTo>
                    <a:pt x="2266" y="2328"/>
                  </a:lnTo>
                  <a:lnTo>
                    <a:pt x="2266" y="2328"/>
                  </a:lnTo>
                  <a:lnTo>
                    <a:pt x="2264" y="2352"/>
                  </a:lnTo>
                  <a:lnTo>
                    <a:pt x="2266" y="2378"/>
                  </a:lnTo>
                  <a:lnTo>
                    <a:pt x="2270" y="2402"/>
                  </a:lnTo>
                  <a:lnTo>
                    <a:pt x="2276" y="2424"/>
                  </a:lnTo>
                  <a:lnTo>
                    <a:pt x="2286" y="2448"/>
                  </a:lnTo>
                  <a:lnTo>
                    <a:pt x="2296" y="2470"/>
                  </a:lnTo>
                  <a:lnTo>
                    <a:pt x="2310" y="2490"/>
                  </a:lnTo>
                  <a:lnTo>
                    <a:pt x="2326" y="2510"/>
                  </a:lnTo>
                  <a:lnTo>
                    <a:pt x="2326" y="2510"/>
                  </a:lnTo>
                  <a:lnTo>
                    <a:pt x="2342" y="2526"/>
                  </a:lnTo>
                  <a:lnTo>
                    <a:pt x="2362" y="2542"/>
                  </a:lnTo>
                  <a:lnTo>
                    <a:pt x="2382" y="2556"/>
                  </a:lnTo>
                  <a:lnTo>
                    <a:pt x="2404" y="2566"/>
                  </a:lnTo>
                  <a:lnTo>
                    <a:pt x="2426" y="2574"/>
                  </a:lnTo>
                  <a:lnTo>
                    <a:pt x="2450" y="2582"/>
                  </a:lnTo>
                  <a:lnTo>
                    <a:pt x="2474" y="2584"/>
                  </a:lnTo>
                  <a:lnTo>
                    <a:pt x="2500" y="2586"/>
                  </a:lnTo>
                  <a:lnTo>
                    <a:pt x="2858" y="2586"/>
                  </a:lnTo>
                  <a:lnTo>
                    <a:pt x="2858" y="2586"/>
                  </a:lnTo>
                  <a:lnTo>
                    <a:pt x="2882" y="2584"/>
                  </a:lnTo>
                  <a:lnTo>
                    <a:pt x="2908" y="2582"/>
                  </a:lnTo>
                  <a:lnTo>
                    <a:pt x="2930" y="2574"/>
                  </a:lnTo>
                  <a:lnTo>
                    <a:pt x="2954" y="2566"/>
                  </a:lnTo>
                  <a:lnTo>
                    <a:pt x="2974" y="2556"/>
                  </a:lnTo>
                  <a:lnTo>
                    <a:pt x="2996" y="2542"/>
                  </a:lnTo>
                  <a:lnTo>
                    <a:pt x="3014" y="2526"/>
                  </a:lnTo>
                  <a:lnTo>
                    <a:pt x="3032" y="2510"/>
                  </a:lnTo>
                  <a:lnTo>
                    <a:pt x="3032" y="2510"/>
                  </a:lnTo>
                  <a:lnTo>
                    <a:pt x="3048" y="2490"/>
                  </a:lnTo>
                  <a:lnTo>
                    <a:pt x="3048" y="2490"/>
                  </a:lnTo>
                  <a:lnTo>
                    <a:pt x="3056" y="2502"/>
                  </a:lnTo>
                  <a:lnTo>
                    <a:pt x="3056" y="2502"/>
                  </a:lnTo>
                  <a:lnTo>
                    <a:pt x="3072" y="2520"/>
                  </a:lnTo>
                  <a:lnTo>
                    <a:pt x="3088" y="2538"/>
                  </a:lnTo>
                  <a:lnTo>
                    <a:pt x="3106" y="2554"/>
                  </a:lnTo>
                  <a:lnTo>
                    <a:pt x="3126" y="2566"/>
                  </a:lnTo>
                  <a:lnTo>
                    <a:pt x="3148" y="2578"/>
                  </a:lnTo>
                  <a:lnTo>
                    <a:pt x="3170" y="2588"/>
                  </a:lnTo>
                  <a:lnTo>
                    <a:pt x="3194" y="2594"/>
                  </a:lnTo>
                  <a:lnTo>
                    <a:pt x="3218" y="2598"/>
                  </a:lnTo>
                  <a:lnTo>
                    <a:pt x="3218" y="2598"/>
                  </a:lnTo>
                  <a:lnTo>
                    <a:pt x="3246" y="2600"/>
                  </a:lnTo>
                  <a:lnTo>
                    <a:pt x="3246" y="2600"/>
                  </a:lnTo>
                  <a:lnTo>
                    <a:pt x="3268" y="2598"/>
                  </a:lnTo>
                  <a:lnTo>
                    <a:pt x="3288" y="2596"/>
                  </a:lnTo>
                  <a:lnTo>
                    <a:pt x="3308" y="2592"/>
                  </a:lnTo>
                  <a:lnTo>
                    <a:pt x="3328" y="2586"/>
                  </a:lnTo>
                  <a:lnTo>
                    <a:pt x="3346" y="2578"/>
                  </a:lnTo>
                  <a:lnTo>
                    <a:pt x="3364" y="2568"/>
                  </a:lnTo>
                  <a:lnTo>
                    <a:pt x="3382" y="2556"/>
                  </a:lnTo>
                  <a:lnTo>
                    <a:pt x="3398" y="2544"/>
                  </a:lnTo>
                  <a:lnTo>
                    <a:pt x="3398" y="2544"/>
                  </a:lnTo>
                  <a:lnTo>
                    <a:pt x="3460" y="2492"/>
                  </a:lnTo>
                  <a:lnTo>
                    <a:pt x="3516" y="2440"/>
                  </a:lnTo>
                  <a:lnTo>
                    <a:pt x="3516" y="2440"/>
                  </a:lnTo>
                  <a:lnTo>
                    <a:pt x="3530" y="2464"/>
                  </a:lnTo>
                  <a:lnTo>
                    <a:pt x="3550" y="2488"/>
                  </a:lnTo>
                  <a:lnTo>
                    <a:pt x="3570" y="2508"/>
                  </a:lnTo>
                  <a:lnTo>
                    <a:pt x="3594" y="2524"/>
                  </a:lnTo>
                  <a:lnTo>
                    <a:pt x="3620" y="2538"/>
                  </a:lnTo>
                  <a:lnTo>
                    <a:pt x="3648" y="2550"/>
                  </a:lnTo>
                  <a:lnTo>
                    <a:pt x="3676" y="2558"/>
                  </a:lnTo>
                  <a:lnTo>
                    <a:pt x="3708" y="2562"/>
                  </a:lnTo>
                  <a:lnTo>
                    <a:pt x="3708" y="2562"/>
                  </a:lnTo>
                  <a:lnTo>
                    <a:pt x="3862" y="2570"/>
                  </a:lnTo>
                  <a:lnTo>
                    <a:pt x="3942" y="2570"/>
                  </a:lnTo>
                  <a:lnTo>
                    <a:pt x="3942" y="2570"/>
                  </a:lnTo>
                  <a:lnTo>
                    <a:pt x="4002" y="2570"/>
                  </a:lnTo>
                  <a:lnTo>
                    <a:pt x="4060" y="2566"/>
                  </a:lnTo>
                  <a:lnTo>
                    <a:pt x="4112" y="2562"/>
                  </a:lnTo>
                  <a:lnTo>
                    <a:pt x="4162" y="2554"/>
                  </a:lnTo>
                  <a:lnTo>
                    <a:pt x="4208" y="2546"/>
                  </a:lnTo>
                  <a:lnTo>
                    <a:pt x="4252" y="2534"/>
                  </a:lnTo>
                  <a:lnTo>
                    <a:pt x="4292" y="2520"/>
                  </a:lnTo>
                  <a:lnTo>
                    <a:pt x="4330" y="2506"/>
                  </a:lnTo>
                  <a:lnTo>
                    <a:pt x="4330" y="2506"/>
                  </a:lnTo>
                  <a:lnTo>
                    <a:pt x="4360" y="2490"/>
                  </a:lnTo>
                  <a:lnTo>
                    <a:pt x="4392" y="2472"/>
                  </a:lnTo>
                  <a:lnTo>
                    <a:pt x="4424" y="2450"/>
                  </a:lnTo>
                  <a:lnTo>
                    <a:pt x="4456" y="2424"/>
                  </a:lnTo>
                  <a:lnTo>
                    <a:pt x="4488" y="2392"/>
                  </a:lnTo>
                  <a:lnTo>
                    <a:pt x="4518" y="2356"/>
                  </a:lnTo>
                  <a:lnTo>
                    <a:pt x="4534" y="2334"/>
                  </a:lnTo>
                  <a:lnTo>
                    <a:pt x="4548" y="2312"/>
                  </a:lnTo>
                  <a:lnTo>
                    <a:pt x="4562" y="2288"/>
                  </a:lnTo>
                  <a:lnTo>
                    <a:pt x="4574" y="2264"/>
                  </a:lnTo>
                  <a:lnTo>
                    <a:pt x="4574" y="2264"/>
                  </a:lnTo>
                  <a:lnTo>
                    <a:pt x="4576" y="2312"/>
                  </a:lnTo>
                  <a:lnTo>
                    <a:pt x="4576" y="2312"/>
                  </a:lnTo>
                  <a:lnTo>
                    <a:pt x="4580" y="2346"/>
                  </a:lnTo>
                  <a:lnTo>
                    <a:pt x="4588" y="2380"/>
                  </a:lnTo>
                  <a:lnTo>
                    <a:pt x="4598" y="2412"/>
                  </a:lnTo>
                  <a:lnTo>
                    <a:pt x="4612" y="2442"/>
                  </a:lnTo>
                  <a:lnTo>
                    <a:pt x="4630" y="2470"/>
                  </a:lnTo>
                  <a:lnTo>
                    <a:pt x="4650" y="2498"/>
                  </a:lnTo>
                  <a:lnTo>
                    <a:pt x="4672" y="2522"/>
                  </a:lnTo>
                  <a:lnTo>
                    <a:pt x="4698" y="2546"/>
                  </a:lnTo>
                  <a:lnTo>
                    <a:pt x="4698" y="2546"/>
                  </a:lnTo>
                  <a:lnTo>
                    <a:pt x="4722" y="2562"/>
                  </a:lnTo>
                  <a:lnTo>
                    <a:pt x="4746" y="2576"/>
                  </a:lnTo>
                  <a:lnTo>
                    <a:pt x="4772" y="2590"/>
                  </a:lnTo>
                  <a:lnTo>
                    <a:pt x="4798" y="2600"/>
                  </a:lnTo>
                  <a:lnTo>
                    <a:pt x="4826" y="2608"/>
                  </a:lnTo>
                  <a:lnTo>
                    <a:pt x="4854" y="2614"/>
                  </a:lnTo>
                  <a:lnTo>
                    <a:pt x="4882" y="2616"/>
                  </a:lnTo>
                  <a:lnTo>
                    <a:pt x="4910" y="2618"/>
                  </a:lnTo>
                  <a:lnTo>
                    <a:pt x="4910" y="2618"/>
                  </a:lnTo>
                  <a:lnTo>
                    <a:pt x="4944" y="2616"/>
                  </a:lnTo>
                  <a:lnTo>
                    <a:pt x="4978" y="2612"/>
                  </a:lnTo>
                  <a:lnTo>
                    <a:pt x="5010" y="2606"/>
                  </a:lnTo>
                  <a:lnTo>
                    <a:pt x="5040" y="2596"/>
                  </a:lnTo>
                  <a:lnTo>
                    <a:pt x="5072" y="2584"/>
                  </a:lnTo>
                  <a:lnTo>
                    <a:pt x="5100" y="2570"/>
                  </a:lnTo>
                  <a:lnTo>
                    <a:pt x="5128" y="2552"/>
                  </a:lnTo>
                  <a:lnTo>
                    <a:pt x="5154" y="2534"/>
                  </a:lnTo>
                  <a:lnTo>
                    <a:pt x="5154" y="2534"/>
                  </a:lnTo>
                  <a:lnTo>
                    <a:pt x="5158" y="2530"/>
                  </a:lnTo>
                  <a:lnTo>
                    <a:pt x="5158" y="2530"/>
                  </a:lnTo>
                  <a:lnTo>
                    <a:pt x="5178" y="2512"/>
                  </a:lnTo>
                  <a:lnTo>
                    <a:pt x="5196" y="2494"/>
                  </a:lnTo>
                  <a:lnTo>
                    <a:pt x="5212" y="2474"/>
                  </a:lnTo>
                  <a:lnTo>
                    <a:pt x="5228" y="2454"/>
                  </a:lnTo>
                  <a:lnTo>
                    <a:pt x="5228" y="2454"/>
                  </a:lnTo>
                  <a:lnTo>
                    <a:pt x="5252" y="2468"/>
                  </a:lnTo>
                  <a:lnTo>
                    <a:pt x="5252" y="2468"/>
                  </a:lnTo>
                  <a:lnTo>
                    <a:pt x="5254" y="2468"/>
                  </a:lnTo>
                  <a:lnTo>
                    <a:pt x="5254" y="2468"/>
                  </a:lnTo>
                  <a:lnTo>
                    <a:pt x="5300" y="2488"/>
                  </a:lnTo>
                  <a:lnTo>
                    <a:pt x="5350" y="2506"/>
                  </a:lnTo>
                  <a:lnTo>
                    <a:pt x="5406" y="2520"/>
                  </a:lnTo>
                  <a:lnTo>
                    <a:pt x="5466" y="2532"/>
                  </a:lnTo>
                  <a:lnTo>
                    <a:pt x="5532" y="2542"/>
                  </a:lnTo>
                  <a:lnTo>
                    <a:pt x="5602" y="2548"/>
                  </a:lnTo>
                  <a:lnTo>
                    <a:pt x="5678" y="2552"/>
                  </a:lnTo>
                  <a:lnTo>
                    <a:pt x="5760" y="2554"/>
                  </a:lnTo>
                  <a:lnTo>
                    <a:pt x="5760" y="2554"/>
                  </a:lnTo>
                  <a:lnTo>
                    <a:pt x="5876" y="2552"/>
                  </a:lnTo>
                  <a:lnTo>
                    <a:pt x="5974" y="2546"/>
                  </a:lnTo>
                  <a:lnTo>
                    <a:pt x="6016" y="2542"/>
                  </a:lnTo>
                  <a:lnTo>
                    <a:pt x="6056" y="2536"/>
                  </a:lnTo>
                  <a:lnTo>
                    <a:pt x="6092" y="2530"/>
                  </a:lnTo>
                  <a:lnTo>
                    <a:pt x="6124" y="2524"/>
                  </a:lnTo>
                  <a:lnTo>
                    <a:pt x="6124" y="2524"/>
                  </a:lnTo>
                  <a:lnTo>
                    <a:pt x="6154" y="2514"/>
                  </a:lnTo>
                  <a:lnTo>
                    <a:pt x="6182" y="2504"/>
                  </a:lnTo>
                  <a:lnTo>
                    <a:pt x="6208" y="2490"/>
                  </a:lnTo>
                  <a:lnTo>
                    <a:pt x="6234" y="2476"/>
                  </a:lnTo>
                  <a:lnTo>
                    <a:pt x="6256" y="2460"/>
                  </a:lnTo>
                  <a:lnTo>
                    <a:pt x="6278" y="2442"/>
                  </a:lnTo>
                  <a:lnTo>
                    <a:pt x="6298" y="2422"/>
                  </a:lnTo>
                  <a:lnTo>
                    <a:pt x="6316" y="2400"/>
                  </a:lnTo>
                  <a:lnTo>
                    <a:pt x="6332" y="2376"/>
                  </a:lnTo>
                  <a:lnTo>
                    <a:pt x="6346" y="2352"/>
                  </a:lnTo>
                  <a:lnTo>
                    <a:pt x="6358" y="2326"/>
                  </a:lnTo>
                  <a:lnTo>
                    <a:pt x="6368" y="2298"/>
                  </a:lnTo>
                  <a:lnTo>
                    <a:pt x="6376" y="2270"/>
                  </a:lnTo>
                  <a:lnTo>
                    <a:pt x="6382" y="2240"/>
                  </a:lnTo>
                  <a:lnTo>
                    <a:pt x="6386" y="2210"/>
                  </a:lnTo>
                  <a:lnTo>
                    <a:pt x="6386" y="2178"/>
                  </a:lnTo>
                  <a:lnTo>
                    <a:pt x="6386" y="2178"/>
                  </a:lnTo>
                  <a:lnTo>
                    <a:pt x="6386" y="2140"/>
                  </a:lnTo>
                  <a:lnTo>
                    <a:pt x="6380" y="2106"/>
                  </a:lnTo>
                  <a:lnTo>
                    <a:pt x="6372" y="2072"/>
                  </a:lnTo>
                  <a:lnTo>
                    <a:pt x="6360" y="2038"/>
                  </a:lnTo>
                  <a:lnTo>
                    <a:pt x="6346" y="2008"/>
                  </a:lnTo>
                  <a:lnTo>
                    <a:pt x="6330" y="1980"/>
                  </a:lnTo>
                  <a:lnTo>
                    <a:pt x="6310" y="1954"/>
                  </a:lnTo>
                  <a:lnTo>
                    <a:pt x="6288" y="1930"/>
                  </a:lnTo>
                  <a:lnTo>
                    <a:pt x="6264" y="1908"/>
                  </a:lnTo>
                  <a:lnTo>
                    <a:pt x="6238" y="1890"/>
                  </a:lnTo>
                  <a:lnTo>
                    <a:pt x="6208" y="1874"/>
                  </a:lnTo>
                  <a:lnTo>
                    <a:pt x="6178" y="1860"/>
                  </a:lnTo>
                  <a:lnTo>
                    <a:pt x="6144" y="1848"/>
                  </a:lnTo>
                  <a:lnTo>
                    <a:pt x="6110" y="1840"/>
                  </a:lnTo>
                  <a:lnTo>
                    <a:pt x="6072" y="1836"/>
                  </a:lnTo>
                  <a:lnTo>
                    <a:pt x="6034" y="1834"/>
                  </a:lnTo>
                  <a:lnTo>
                    <a:pt x="6034" y="1834"/>
                  </a:lnTo>
                  <a:close/>
                  <a:moveTo>
                    <a:pt x="2200" y="760"/>
                  </a:moveTo>
                  <a:lnTo>
                    <a:pt x="2200" y="760"/>
                  </a:lnTo>
                  <a:lnTo>
                    <a:pt x="2204" y="756"/>
                  </a:lnTo>
                  <a:lnTo>
                    <a:pt x="2214" y="748"/>
                  </a:lnTo>
                  <a:lnTo>
                    <a:pt x="2214" y="748"/>
                  </a:lnTo>
                  <a:lnTo>
                    <a:pt x="2246" y="718"/>
                  </a:lnTo>
                  <a:lnTo>
                    <a:pt x="2276" y="692"/>
                  </a:lnTo>
                  <a:lnTo>
                    <a:pt x="2276" y="692"/>
                  </a:lnTo>
                  <a:lnTo>
                    <a:pt x="2278" y="690"/>
                  </a:lnTo>
                  <a:lnTo>
                    <a:pt x="2278" y="856"/>
                  </a:lnTo>
                  <a:lnTo>
                    <a:pt x="2278" y="856"/>
                  </a:lnTo>
                  <a:lnTo>
                    <a:pt x="2264" y="846"/>
                  </a:lnTo>
                  <a:lnTo>
                    <a:pt x="2250" y="836"/>
                  </a:lnTo>
                  <a:lnTo>
                    <a:pt x="2234" y="828"/>
                  </a:lnTo>
                  <a:lnTo>
                    <a:pt x="2218" y="820"/>
                  </a:lnTo>
                  <a:lnTo>
                    <a:pt x="2202" y="814"/>
                  </a:lnTo>
                  <a:lnTo>
                    <a:pt x="2186" y="810"/>
                  </a:lnTo>
                  <a:lnTo>
                    <a:pt x="2168" y="806"/>
                  </a:lnTo>
                  <a:lnTo>
                    <a:pt x="2152" y="804"/>
                  </a:lnTo>
                  <a:lnTo>
                    <a:pt x="2152" y="804"/>
                  </a:lnTo>
                  <a:lnTo>
                    <a:pt x="2200" y="760"/>
                  </a:lnTo>
                  <a:lnTo>
                    <a:pt x="2200" y="760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9"/>
            <p:cNvSpPr/>
            <p:nvPr/>
          </p:nvSpPr>
          <p:spPr>
            <a:xfrm>
              <a:off x="33826680" y="6766200"/>
              <a:ext cx="2149200" cy="285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1354" h="1796">
                  <a:moveTo>
                    <a:pt x="1258" y="1138"/>
                  </a:moveTo>
                  <a:lnTo>
                    <a:pt x="1258" y="1138"/>
                  </a:lnTo>
                  <a:lnTo>
                    <a:pt x="1266" y="1104"/>
                  </a:lnTo>
                  <a:lnTo>
                    <a:pt x="1270" y="1072"/>
                  </a:lnTo>
                  <a:lnTo>
                    <a:pt x="1324" y="436"/>
                  </a:lnTo>
                  <a:lnTo>
                    <a:pt x="1324" y="436"/>
                  </a:lnTo>
                  <a:lnTo>
                    <a:pt x="1324" y="434"/>
                  </a:lnTo>
                  <a:lnTo>
                    <a:pt x="1324" y="434"/>
                  </a:lnTo>
                  <a:lnTo>
                    <a:pt x="1326" y="406"/>
                  </a:lnTo>
                  <a:lnTo>
                    <a:pt x="1324" y="380"/>
                  </a:lnTo>
                  <a:lnTo>
                    <a:pt x="1324" y="354"/>
                  </a:lnTo>
                  <a:lnTo>
                    <a:pt x="1320" y="330"/>
                  </a:lnTo>
                  <a:lnTo>
                    <a:pt x="1316" y="306"/>
                  </a:lnTo>
                  <a:lnTo>
                    <a:pt x="1312" y="284"/>
                  </a:lnTo>
                  <a:lnTo>
                    <a:pt x="1300" y="244"/>
                  </a:lnTo>
                  <a:lnTo>
                    <a:pt x="1284" y="208"/>
                  </a:lnTo>
                  <a:lnTo>
                    <a:pt x="1266" y="176"/>
                  </a:lnTo>
                  <a:lnTo>
                    <a:pt x="1246" y="150"/>
                  </a:lnTo>
                  <a:lnTo>
                    <a:pt x="1228" y="126"/>
                  </a:lnTo>
                  <a:lnTo>
                    <a:pt x="1228" y="126"/>
                  </a:lnTo>
                  <a:lnTo>
                    <a:pt x="1224" y="122"/>
                  </a:lnTo>
                  <a:lnTo>
                    <a:pt x="1224" y="122"/>
                  </a:lnTo>
                  <a:lnTo>
                    <a:pt x="1196" y="94"/>
                  </a:lnTo>
                  <a:lnTo>
                    <a:pt x="1164" y="70"/>
                  </a:lnTo>
                  <a:lnTo>
                    <a:pt x="1130" y="48"/>
                  </a:lnTo>
                  <a:lnTo>
                    <a:pt x="1094" y="32"/>
                  </a:lnTo>
                  <a:lnTo>
                    <a:pt x="1056" y="18"/>
                  </a:lnTo>
                  <a:lnTo>
                    <a:pt x="1016" y="8"/>
                  </a:lnTo>
                  <a:lnTo>
                    <a:pt x="976" y="2"/>
                  </a:lnTo>
                  <a:lnTo>
                    <a:pt x="932" y="0"/>
                  </a:lnTo>
                  <a:lnTo>
                    <a:pt x="932" y="0"/>
                  </a:lnTo>
                  <a:lnTo>
                    <a:pt x="888" y="2"/>
                  </a:lnTo>
                  <a:lnTo>
                    <a:pt x="848" y="8"/>
                  </a:lnTo>
                  <a:lnTo>
                    <a:pt x="812" y="16"/>
                  </a:lnTo>
                  <a:lnTo>
                    <a:pt x="778" y="26"/>
                  </a:lnTo>
                  <a:lnTo>
                    <a:pt x="748" y="38"/>
                  </a:lnTo>
                  <a:lnTo>
                    <a:pt x="720" y="52"/>
                  </a:lnTo>
                  <a:lnTo>
                    <a:pt x="696" y="68"/>
                  </a:lnTo>
                  <a:lnTo>
                    <a:pt x="674" y="84"/>
                  </a:lnTo>
                  <a:lnTo>
                    <a:pt x="674" y="84"/>
                  </a:lnTo>
                  <a:lnTo>
                    <a:pt x="648" y="64"/>
                  </a:lnTo>
                  <a:lnTo>
                    <a:pt x="620" y="48"/>
                  </a:lnTo>
                  <a:lnTo>
                    <a:pt x="590" y="34"/>
                  </a:lnTo>
                  <a:lnTo>
                    <a:pt x="560" y="22"/>
                  </a:lnTo>
                  <a:lnTo>
                    <a:pt x="528" y="12"/>
                  </a:lnTo>
                  <a:lnTo>
                    <a:pt x="494" y="6"/>
                  </a:lnTo>
                  <a:lnTo>
                    <a:pt x="460" y="2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96" y="0"/>
                  </a:lnTo>
                  <a:lnTo>
                    <a:pt x="370" y="4"/>
                  </a:lnTo>
                  <a:lnTo>
                    <a:pt x="344" y="6"/>
                  </a:lnTo>
                  <a:lnTo>
                    <a:pt x="320" y="12"/>
                  </a:lnTo>
                  <a:lnTo>
                    <a:pt x="296" y="16"/>
                  </a:lnTo>
                  <a:lnTo>
                    <a:pt x="276" y="24"/>
                  </a:lnTo>
                  <a:lnTo>
                    <a:pt x="256" y="30"/>
                  </a:lnTo>
                  <a:lnTo>
                    <a:pt x="236" y="40"/>
                  </a:lnTo>
                  <a:lnTo>
                    <a:pt x="202" y="58"/>
                  </a:lnTo>
                  <a:lnTo>
                    <a:pt x="174" y="78"/>
                  </a:lnTo>
                  <a:lnTo>
                    <a:pt x="148" y="98"/>
                  </a:lnTo>
                  <a:lnTo>
                    <a:pt x="128" y="120"/>
                  </a:lnTo>
                  <a:lnTo>
                    <a:pt x="128" y="120"/>
                  </a:lnTo>
                  <a:lnTo>
                    <a:pt x="108" y="142"/>
                  </a:lnTo>
                  <a:lnTo>
                    <a:pt x="88" y="170"/>
                  </a:lnTo>
                  <a:lnTo>
                    <a:pt x="72" y="202"/>
                  </a:lnTo>
                  <a:lnTo>
                    <a:pt x="56" y="238"/>
                  </a:lnTo>
                  <a:lnTo>
                    <a:pt x="48" y="258"/>
                  </a:lnTo>
                  <a:lnTo>
                    <a:pt x="42" y="280"/>
                  </a:lnTo>
                  <a:lnTo>
                    <a:pt x="38" y="302"/>
                  </a:lnTo>
                  <a:lnTo>
                    <a:pt x="34" y="326"/>
                  </a:lnTo>
                  <a:lnTo>
                    <a:pt x="30" y="352"/>
                  </a:lnTo>
                  <a:lnTo>
                    <a:pt x="30" y="378"/>
                  </a:lnTo>
                  <a:lnTo>
                    <a:pt x="30" y="408"/>
                  </a:lnTo>
                  <a:lnTo>
                    <a:pt x="32" y="436"/>
                  </a:lnTo>
                  <a:lnTo>
                    <a:pt x="80" y="1070"/>
                  </a:lnTo>
                  <a:lnTo>
                    <a:pt x="80" y="1070"/>
                  </a:lnTo>
                  <a:lnTo>
                    <a:pt x="86" y="1106"/>
                  </a:lnTo>
                  <a:lnTo>
                    <a:pt x="94" y="1140"/>
                  </a:lnTo>
                  <a:lnTo>
                    <a:pt x="94" y="1140"/>
                  </a:lnTo>
                  <a:lnTo>
                    <a:pt x="72" y="1168"/>
                  </a:lnTo>
                  <a:lnTo>
                    <a:pt x="54" y="1196"/>
                  </a:lnTo>
                  <a:lnTo>
                    <a:pt x="38" y="1226"/>
                  </a:lnTo>
                  <a:lnTo>
                    <a:pt x="24" y="1258"/>
                  </a:lnTo>
                  <a:lnTo>
                    <a:pt x="14" y="1290"/>
                  </a:lnTo>
                  <a:lnTo>
                    <a:pt x="6" y="1324"/>
                  </a:lnTo>
                  <a:lnTo>
                    <a:pt x="2" y="1358"/>
                  </a:lnTo>
                  <a:lnTo>
                    <a:pt x="0" y="1394"/>
                  </a:lnTo>
                  <a:lnTo>
                    <a:pt x="0" y="1394"/>
                  </a:lnTo>
                  <a:lnTo>
                    <a:pt x="4" y="1438"/>
                  </a:lnTo>
                  <a:lnTo>
                    <a:pt x="10" y="1480"/>
                  </a:lnTo>
                  <a:lnTo>
                    <a:pt x="22" y="1520"/>
                  </a:lnTo>
                  <a:lnTo>
                    <a:pt x="36" y="1560"/>
                  </a:lnTo>
                  <a:lnTo>
                    <a:pt x="56" y="1596"/>
                  </a:lnTo>
                  <a:lnTo>
                    <a:pt x="80" y="1630"/>
                  </a:lnTo>
                  <a:lnTo>
                    <a:pt x="110" y="1664"/>
                  </a:lnTo>
                  <a:lnTo>
                    <a:pt x="140" y="1692"/>
                  </a:lnTo>
                  <a:lnTo>
                    <a:pt x="140" y="1692"/>
                  </a:lnTo>
                  <a:lnTo>
                    <a:pt x="172" y="1716"/>
                  </a:lnTo>
                  <a:lnTo>
                    <a:pt x="204" y="1738"/>
                  </a:lnTo>
                  <a:lnTo>
                    <a:pt x="238" y="1754"/>
                  </a:lnTo>
                  <a:lnTo>
                    <a:pt x="272" y="1770"/>
                  </a:lnTo>
                  <a:lnTo>
                    <a:pt x="308" y="1780"/>
                  </a:lnTo>
                  <a:lnTo>
                    <a:pt x="346" y="1788"/>
                  </a:lnTo>
                  <a:lnTo>
                    <a:pt x="384" y="1794"/>
                  </a:lnTo>
                  <a:lnTo>
                    <a:pt x="422" y="1796"/>
                  </a:lnTo>
                  <a:lnTo>
                    <a:pt x="422" y="1796"/>
                  </a:lnTo>
                  <a:lnTo>
                    <a:pt x="458" y="1794"/>
                  </a:lnTo>
                  <a:lnTo>
                    <a:pt x="490" y="1790"/>
                  </a:lnTo>
                  <a:lnTo>
                    <a:pt x="524" y="1784"/>
                  </a:lnTo>
                  <a:lnTo>
                    <a:pt x="556" y="1774"/>
                  </a:lnTo>
                  <a:lnTo>
                    <a:pt x="588" y="1764"/>
                  </a:lnTo>
                  <a:lnTo>
                    <a:pt x="618" y="1750"/>
                  </a:lnTo>
                  <a:lnTo>
                    <a:pt x="648" y="1732"/>
                  </a:lnTo>
                  <a:lnTo>
                    <a:pt x="676" y="1714"/>
                  </a:lnTo>
                  <a:lnTo>
                    <a:pt x="676" y="1714"/>
                  </a:lnTo>
                  <a:lnTo>
                    <a:pt x="704" y="1732"/>
                  </a:lnTo>
                  <a:lnTo>
                    <a:pt x="734" y="1750"/>
                  </a:lnTo>
                  <a:lnTo>
                    <a:pt x="766" y="1764"/>
                  </a:lnTo>
                  <a:lnTo>
                    <a:pt x="796" y="1774"/>
                  </a:lnTo>
                  <a:lnTo>
                    <a:pt x="830" y="1784"/>
                  </a:lnTo>
                  <a:lnTo>
                    <a:pt x="862" y="1790"/>
                  </a:lnTo>
                  <a:lnTo>
                    <a:pt x="896" y="1794"/>
                  </a:lnTo>
                  <a:lnTo>
                    <a:pt x="930" y="1796"/>
                  </a:lnTo>
                  <a:lnTo>
                    <a:pt x="930" y="1796"/>
                  </a:lnTo>
                  <a:lnTo>
                    <a:pt x="970" y="1794"/>
                  </a:lnTo>
                  <a:lnTo>
                    <a:pt x="1008" y="1788"/>
                  </a:lnTo>
                  <a:lnTo>
                    <a:pt x="1044" y="1780"/>
                  </a:lnTo>
                  <a:lnTo>
                    <a:pt x="1082" y="1770"/>
                  </a:lnTo>
                  <a:lnTo>
                    <a:pt x="1116" y="1754"/>
                  </a:lnTo>
                  <a:lnTo>
                    <a:pt x="1150" y="1736"/>
                  </a:lnTo>
                  <a:lnTo>
                    <a:pt x="1182" y="1716"/>
                  </a:lnTo>
                  <a:lnTo>
                    <a:pt x="1212" y="1692"/>
                  </a:lnTo>
                  <a:lnTo>
                    <a:pt x="1212" y="1692"/>
                  </a:lnTo>
                  <a:lnTo>
                    <a:pt x="1244" y="1662"/>
                  </a:lnTo>
                  <a:lnTo>
                    <a:pt x="1274" y="1630"/>
                  </a:lnTo>
                  <a:lnTo>
                    <a:pt x="1298" y="1596"/>
                  </a:lnTo>
                  <a:lnTo>
                    <a:pt x="1318" y="1558"/>
                  </a:lnTo>
                  <a:lnTo>
                    <a:pt x="1334" y="1520"/>
                  </a:lnTo>
                  <a:lnTo>
                    <a:pt x="1344" y="1478"/>
                  </a:lnTo>
                  <a:lnTo>
                    <a:pt x="1352" y="1436"/>
                  </a:lnTo>
                  <a:lnTo>
                    <a:pt x="1354" y="1394"/>
                  </a:lnTo>
                  <a:lnTo>
                    <a:pt x="1354" y="1394"/>
                  </a:lnTo>
                  <a:lnTo>
                    <a:pt x="1352" y="1358"/>
                  </a:lnTo>
                  <a:lnTo>
                    <a:pt x="1348" y="1322"/>
                  </a:lnTo>
                  <a:lnTo>
                    <a:pt x="1340" y="1288"/>
                  </a:lnTo>
                  <a:lnTo>
                    <a:pt x="1330" y="1256"/>
                  </a:lnTo>
                  <a:lnTo>
                    <a:pt x="1316" y="1224"/>
                  </a:lnTo>
                  <a:lnTo>
                    <a:pt x="1300" y="1194"/>
                  </a:lnTo>
                  <a:lnTo>
                    <a:pt x="1280" y="1164"/>
                  </a:lnTo>
                  <a:lnTo>
                    <a:pt x="1258" y="1138"/>
                  </a:lnTo>
                  <a:lnTo>
                    <a:pt x="1258" y="113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グループ化 219"/>
          <p:cNvGrpSpPr/>
          <p:nvPr/>
        </p:nvGrpSpPr>
        <p:grpSpPr>
          <a:xfrm>
            <a:off x="4346640" y="1749600"/>
            <a:ext cx="31365720" cy="7737480"/>
            <a:chOff x="4346640" y="1749600"/>
            <a:chExt cx="31365720" cy="7737480"/>
          </a:xfrm>
        </p:grpSpPr>
        <p:sp>
          <p:nvSpPr>
            <p:cNvPr id="256" name="Freeform 5"/>
            <p:cNvSpPr/>
            <p:nvPr/>
          </p:nvSpPr>
          <p:spPr>
            <a:xfrm>
              <a:off x="4346640" y="1749600"/>
              <a:ext cx="3412800" cy="3483000"/>
            </a:xfrm>
            <a:custGeom>
              <a:avLst/>
              <a:gdLst>
                <a:gd name="textAreaLeft" fmla="*/ 0 w 3412800"/>
                <a:gd name="textAreaRight" fmla="*/ 3413160 w 3412800"/>
                <a:gd name="textAreaTop" fmla="*/ 0 h 3483000"/>
                <a:gd name="textAreaBottom" fmla="*/ 3483360 h 3483000"/>
              </a:gdLst>
              <a:ahLst/>
              <a:rect l="textAreaLeft" t="textAreaTop" r="textAreaRight" b="textAreaBottom"/>
              <a:pathLst>
                <a:path w="2150" h="2194">
                  <a:moveTo>
                    <a:pt x="2150" y="264"/>
                  </a:moveTo>
                  <a:lnTo>
                    <a:pt x="2150" y="264"/>
                  </a:lnTo>
                  <a:lnTo>
                    <a:pt x="2098" y="312"/>
                  </a:lnTo>
                  <a:lnTo>
                    <a:pt x="2054" y="356"/>
                  </a:lnTo>
                  <a:lnTo>
                    <a:pt x="2054" y="356"/>
                  </a:lnTo>
                  <a:lnTo>
                    <a:pt x="1982" y="428"/>
                  </a:lnTo>
                  <a:lnTo>
                    <a:pt x="1912" y="496"/>
                  </a:lnTo>
                  <a:lnTo>
                    <a:pt x="1842" y="562"/>
                  </a:lnTo>
                  <a:lnTo>
                    <a:pt x="1772" y="624"/>
                  </a:lnTo>
                  <a:lnTo>
                    <a:pt x="1704" y="684"/>
                  </a:lnTo>
                  <a:lnTo>
                    <a:pt x="1632" y="740"/>
                  </a:lnTo>
                  <a:lnTo>
                    <a:pt x="1560" y="796"/>
                  </a:lnTo>
                  <a:lnTo>
                    <a:pt x="1488" y="850"/>
                  </a:lnTo>
                  <a:lnTo>
                    <a:pt x="1488" y="1796"/>
                  </a:lnTo>
                  <a:lnTo>
                    <a:pt x="1488" y="1796"/>
                  </a:lnTo>
                  <a:lnTo>
                    <a:pt x="1488" y="1924"/>
                  </a:lnTo>
                  <a:lnTo>
                    <a:pt x="1490" y="2020"/>
                  </a:lnTo>
                  <a:lnTo>
                    <a:pt x="1494" y="2104"/>
                  </a:lnTo>
                  <a:lnTo>
                    <a:pt x="1502" y="2194"/>
                  </a:lnTo>
                  <a:lnTo>
                    <a:pt x="1026" y="2194"/>
                  </a:lnTo>
                  <a:lnTo>
                    <a:pt x="1026" y="2194"/>
                  </a:lnTo>
                  <a:lnTo>
                    <a:pt x="1032" y="2106"/>
                  </a:lnTo>
                  <a:lnTo>
                    <a:pt x="1038" y="2026"/>
                  </a:lnTo>
                  <a:lnTo>
                    <a:pt x="1040" y="1930"/>
                  </a:lnTo>
                  <a:lnTo>
                    <a:pt x="1040" y="1798"/>
                  </a:lnTo>
                  <a:lnTo>
                    <a:pt x="1040" y="1120"/>
                  </a:lnTo>
                  <a:lnTo>
                    <a:pt x="1040" y="1120"/>
                  </a:lnTo>
                  <a:lnTo>
                    <a:pt x="946" y="1174"/>
                  </a:lnTo>
                  <a:lnTo>
                    <a:pt x="856" y="1222"/>
                  </a:lnTo>
                  <a:lnTo>
                    <a:pt x="766" y="1268"/>
                  </a:lnTo>
                  <a:lnTo>
                    <a:pt x="674" y="1310"/>
                  </a:lnTo>
                  <a:lnTo>
                    <a:pt x="578" y="1352"/>
                  </a:lnTo>
                  <a:lnTo>
                    <a:pt x="474" y="1394"/>
                  </a:lnTo>
                  <a:lnTo>
                    <a:pt x="362" y="1438"/>
                  </a:lnTo>
                  <a:lnTo>
                    <a:pt x="236" y="1484"/>
                  </a:lnTo>
                  <a:lnTo>
                    <a:pt x="236" y="1484"/>
                  </a:lnTo>
                  <a:lnTo>
                    <a:pt x="212" y="1426"/>
                  </a:lnTo>
                  <a:lnTo>
                    <a:pt x="188" y="1374"/>
                  </a:lnTo>
                  <a:lnTo>
                    <a:pt x="164" y="1326"/>
                  </a:lnTo>
                  <a:lnTo>
                    <a:pt x="140" y="1280"/>
                  </a:lnTo>
                  <a:lnTo>
                    <a:pt x="110" y="1236"/>
                  </a:lnTo>
                  <a:lnTo>
                    <a:pt x="80" y="1190"/>
                  </a:lnTo>
                  <a:lnTo>
                    <a:pt x="42" y="1142"/>
                  </a:lnTo>
                  <a:lnTo>
                    <a:pt x="0" y="1088"/>
                  </a:lnTo>
                  <a:lnTo>
                    <a:pt x="0" y="1088"/>
                  </a:lnTo>
                  <a:lnTo>
                    <a:pt x="98" y="1060"/>
                  </a:lnTo>
                  <a:lnTo>
                    <a:pt x="194" y="1030"/>
                  </a:lnTo>
                  <a:lnTo>
                    <a:pt x="286" y="1000"/>
                  </a:lnTo>
                  <a:lnTo>
                    <a:pt x="374" y="968"/>
                  </a:lnTo>
                  <a:lnTo>
                    <a:pt x="460" y="934"/>
                  </a:lnTo>
                  <a:lnTo>
                    <a:pt x="544" y="900"/>
                  </a:lnTo>
                  <a:lnTo>
                    <a:pt x="626" y="864"/>
                  </a:lnTo>
                  <a:lnTo>
                    <a:pt x="704" y="826"/>
                  </a:lnTo>
                  <a:lnTo>
                    <a:pt x="782" y="786"/>
                  </a:lnTo>
                  <a:lnTo>
                    <a:pt x="860" y="746"/>
                  </a:lnTo>
                  <a:lnTo>
                    <a:pt x="934" y="702"/>
                  </a:lnTo>
                  <a:lnTo>
                    <a:pt x="1010" y="656"/>
                  </a:lnTo>
                  <a:lnTo>
                    <a:pt x="1084" y="608"/>
                  </a:lnTo>
                  <a:lnTo>
                    <a:pt x="1158" y="558"/>
                  </a:lnTo>
                  <a:lnTo>
                    <a:pt x="1232" y="504"/>
                  </a:lnTo>
                  <a:lnTo>
                    <a:pt x="1306" y="448"/>
                  </a:lnTo>
                  <a:lnTo>
                    <a:pt x="1306" y="448"/>
                  </a:lnTo>
                  <a:lnTo>
                    <a:pt x="1382" y="388"/>
                  </a:lnTo>
                  <a:lnTo>
                    <a:pt x="1454" y="328"/>
                  </a:lnTo>
                  <a:lnTo>
                    <a:pt x="1520" y="268"/>
                  </a:lnTo>
                  <a:lnTo>
                    <a:pt x="1582" y="210"/>
                  </a:lnTo>
                  <a:lnTo>
                    <a:pt x="1636" y="154"/>
                  </a:lnTo>
                  <a:lnTo>
                    <a:pt x="1682" y="100"/>
                  </a:lnTo>
                  <a:lnTo>
                    <a:pt x="1722" y="48"/>
                  </a:lnTo>
                  <a:lnTo>
                    <a:pt x="1738" y="22"/>
                  </a:lnTo>
                  <a:lnTo>
                    <a:pt x="1752" y="0"/>
                  </a:lnTo>
                  <a:lnTo>
                    <a:pt x="2150" y="26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>
              <a:off x="8461440" y="1962000"/>
              <a:ext cx="3311280" cy="31719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2086" h="1998">
                  <a:moveTo>
                    <a:pt x="284" y="0"/>
                  </a:moveTo>
                  <a:lnTo>
                    <a:pt x="284" y="0"/>
                  </a:lnTo>
                  <a:lnTo>
                    <a:pt x="392" y="66"/>
                  </a:lnTo>
                  <a:lnTo>
                    <a:pt x="490" y="126"/>
                  </a:lnTo>
                  <a:lnTo>
                    <a:pt x="578" y="184"/>
                  </a:lnTo>
                  <a:lnTo>
                    <a:pt x="660" y="240"/>
                  </a:lnTo>
                  <a:lnTo>
                    <a:pt x="736" y="296"/>
                  </a:lnTo>
                  <a:lnTo>
                    <a:pt x="810" y="354"/>
                  </a:lnTo>
                  <a:lnTo>
                    <a:pt x="884" y="416"/>
                  </a:lnTo>
                  <a:lnTo>
                    <a:pt x="958" y="482"/>
                  </a:lnTo>
                  <a:lnTo>
                    <a:pt x="670" y="866"/>
                  </a:lnTo>
                  <a:lnTo>
                    <a:pt x="670" y="866"/>
                  </a:lnTo>
                  <a:lnTo>
                    <a:pt x="590" y="784"/>
                  </a:lnTo>
                  <a:lnTo>
                    <a:pt x="508" y="708"/>
                  </a:lnTo>
                  <a:lnTo>
                    <a:pt x="428" y="638"/>
                  </a:lnTo>
                  <a:lnTo>
                    <a:pt x="346" y="572"/>
                  </a:lnTo>
                  <a:lnTo>
                    <a:pt x="264" y="510"/>
                  </a:lnTo>
                  <a:lnTo>
                    <a:pt x="178" y="452"/>
                  </a:lnTo>
                  <a:lnTo>
                    <a:pt x="92" y="398"/>
                  </a:lnTo>
                  <a:lnTo>
                    <a:pt x="0" y="346"/>
                  </a:lnTo>
                  <a:lnTo>
                    <a:pt x="284" y="0"/>
                  </a:lnTo>
                  <a:close/>
                  <a:moveTo>
                    <a:pt x="26" y="1526"/>
                  </a:moveTo>
                  <a:lnTo>
                    <a:pt x="26" y="1526"/>
                  </a:lnTo>
                  <a:lnTo>
                    <a:pt x="120" y="1516"/>
                  </a:lnTo>
                  <a:lnTo>
                    <a:pt x="214" y="1504"/>
                  </a:lnTo>
                  <a:lnTo>
                    <a:pt x="308" y="1486"/>
                  </a:lnTo>
                  <a:lnTo>
                    <a:pt x="402" y="1466"/>
                  </a:lnTo>
                  <a:lnTo>
                    <a:pt x="496" y="1442"/>
                  </a:lnTo>
                  <a:lnTo>
                    <a:pt x="588" y="1414"/>
                  </a:lnTo>
                  <a:lnTo>
                    <a:pt x="678" y="1384"/>
                  </a:lnTo>
                  <a:lnTo>
                    <a:pt x="764" y="1350"/>
                  </a:lnTo>
                  <a:lnTo>
                    <a:pt x="764" y="1350"/>
                  </a:lnTo>
                  <a:lnTo>
                    <a:pt x="822" y="1324"/>
                  </a:lnTo>
                  <a:lnTo>
                    <a:pt x="876" y="1298"/>
                  </a:lnTo>
                  <a:lnTo>
                    <a:pt x="930" y="1272"/>
                  </a:lnTo>
                  <a:lnTo>
                    <a:pt x="982" y="1242"/>
                  </a:lnTo>
                  <a:lnTo>
                    <a:pt x="1030" y="1212"/>
                  </a:lnTo>
                  <a:lnTo>
                    <a:pt x="1078" y="1178"/>
                  </a:lnTo>
                  <a:lnTo>
                    <a:pt x="1126" y="1144"/>
                  </a:lnTo>
                  <a:lnTo>
                    <a:pt x="1170" y="1108"/>
                  </a:lnTo>
                  <a:lnTo>
                    <a:pt x="1214" y="1070"/>
                  </a:lnTo>
                  <a:lnTo>
                    <a:pt x="1256" y="1030"/>
                  </a:lnTo>
                  <a:lnTo>
                    <a:pt x="1296" y="988"/>
                  </a:lnTo>
                  <a:lnTo>
                    <a:pt x="1336" y="944"/>
                  </a:lnTo>
                  <a:lnTo>
                    <a:pt x="1374" y="898"/>
                  </a:lnTo>
                  <a:lnTo>
                    <a:pt x="1412" y="848"/>
                  </a:lnTo>
                  <a:lnTo>
                    <a:pt x="1448" y="796"/>
                  </a:lnTo>
                  <a:lnTo>
                    <a:pt x="1484" y="742"/>
                  </a:lnTo>
                  <a:lnTo>
                    <a:pt x="1484" y="742"/>
                  </a:lnTo>
                  <a:lnTo>
                    <a:pt x="1522" y="684"/>
                  </a:lnTo>
                  <a:lnTo>
                    <a:pt x="1556" y="628"/>
                  </a:lnTo>
                  <a:lnTo>
                    <a:pt x="1588" y="570"/>
                  </a:lnTo>
                  <a:lnTo>
                    <a:pt x="1618" y="514"/>
                  </a:lnTo>
                  <a:lnTo>
                    <a:pt x="1646" y="454"/>
                  </a:lnTo>
                  <a:lnTo>
                    <a:pt x="1672" y="394"/>
                  </a:lnTo>
                  <a:lnTo>
                    <a:pt x="1698" y="330"/>
                  </a:lnTo>
                  <a:lnTo>
                    <a:pt x="1726" y="260"/>
                  </a:lnTo>
                  <a:lnTo>
                    <a:pt x="1726" y="260"/>
                  </a:lnTo>
                  <a:lnTo>
                    <a:pt x="1768" y="312"/>
                  </a:lnTo>
                  <a:lnTo>
                    <a:pt x="1806" y="354"/>
                  </a:lnTo>
                  <a:lnTo>
                    <a:pt x="1844" y="394"/>
                  </a:lnTo>
                  <a:lnTo>
                    <a:pt x="1882" y="430"/>
                  </a:lnTo>
                  <a:lnTo>
                    <a:pt x="1924" y="464"/>
                  </a:lnTo>
                  <a:lnTo>
                    <a:pt x="1970" y="502"/>
                  </a:lnTo>
                  <a:lnTo>
                    <a:pt x="2024" y="544"/>
                  </a:lnTo>
                  <a:lnTo>
                    <a:pt x="2086" y="590"/>
                  </a:lnTo>
                  <a:lnTo>
                    <a:pt x="2086" y="590"/>
                  </a:lnTo>
                  <a:lnTo>
                    <a:pt x="2044" y="678"/>
                  </a:lnTo>
                  <a:lnTo>
                    <a:pt x="2002" y="762"/>
                  </a:lnTo>
                  <a:lnTo>
                    <a:pt x="1960" y="842"/>
                  </a:lnTo>
                  <a:lnTo>
                    <a:pt x="1916" y="918"/>
                  </a:lnTo>
                  <a:lnTo>
                    <a:pt x="1872" y="990"/>
                  </a:lnTo>
                  <a:lnTo>
                    <a:pt x="1826" y="1060"/>
                  </a:lnTo>
                  <a:lnTo>
                    <a:pt x="1780" y="1124"/>
                  </a:lnTo>
                  <a:lnTo>
                    <a:pt x="1732" y="1186"/>
                  </a:lnTo>
                  <a:lnTo>
                    <a:pt x="1682" y="1244"/>
                  </a:lnTo>
                  <a:lnTo>
                    <a:pt x="1632" y="1300"/>
                  </a:lnTo>
                  <a:lnTo>
                    <a:pt x="1578" y="1354"/>
                  </a:lnTo>
                  <a:lnTo>
                    <a:pt x="1524" y="1404"/>
                  </a:lnTo>
                  <a:lnTo>
                    <a:pt x="1468" y="1452"/>
                  </a:lnTo>
                  <a:lnTo>
                    <a:pt x="1410" y="1498"/>
                  </a:lnTo>
                  <a:lnTo>
                    <a:pt x="1348" y="1542"/>
                  </a:lnTo>
                  <a:lnTo>
                    <a:pt x="1286" y="1586"/>
                  </a:lnTo>
                  <a:lnTo>
                    <a:pt x="1286" y="1586"/>
                  </a:lnTo>
                  <a:lnTo>
                    <a:pt x="1236" y="1616"/>
                  </a:lnTo>
                  <a:lnTo>
                    <a:pt x="1188" y="1646"/>
                  </a:lnTo>
                  <a:lnTo>
                    <a:pt x="1138" y="1674"/>
                  </a:lnTo>
                  <a:lnTo>
                    <a:pt x="1088" y="1700"/>
                  </a:lnTo>
                  <a:lnTo>
                    <a:pt x="1038" y="1726"/>
                  </a:lnTo>
                  <a:lnTo>
                    <a:pt x="988" y="1750"/>
                  </a:lnTo>
                  <a:lnTo>
                    <a:pt x="934" y="1772"/>
                  </a:lnTo>
                  <a:lnTo>
                    <a:pt x="880" y="1794"/>
                  </a:lnTo>
                  <a:lnTo>
                    <a:pt x="822" y="1816"/>
                  </a:lnTo>
                  <a:lnTo>
                    <a:pt x="764" y="1836"/>
                  </a:lnTo>
                  <a:lnTo>
                    <a:pt x="700" y="1856"/>
                  </a:lnTo>
                  <a:lnTo>
                    <a:pt x="634" y="1876"/>
                  </a:lnTo>
                  <a:lnTo>
                    <a:pt x="492" y="1914"/>
                  </a:lnTo>
                  <a:lnTo>
                    <a:pt x="330" y="1954"/>
                  </a:lnTo>
                  <a:lnTo>
                    <a:pt x="330" y="1954"/>
                  </a:lnTo>
                  <a:lnTo>
                    <a:pt x="230" y="1976"/>
                  </a:lnTo>
                  <a:lnTo>
                    <a:pt x="154" y="1998"/>
                  </a:lnTo>
                  <a:lnTo>
                    <a:pt x="26" y="152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>
              <a:off x="12411000" y="1987560"/>
              <a:ext cx="3152520" cy="3273480"/>
            </a:xfrm>
            <a:custGeom>
              <a:avLst/>
              <a:gdLst>
                <a:gd name="textAreaLeft" fmla="*/ 0 w 3152520"/>
                <a:gd name="textAreaRight" fmla="*/ 3152880 w 3152520"/>
                <a:gd name="textAreaTop" fmla="*/ 0 h 3273480"/>
                <a:gd name="textAreaBottom" fmla="*/ 3273840 h 3273480"/>
              </a:gdLst>
              <a:ahLst/>
              <a:rect l="textAreaLeft" t="textAreaTop" r="textAreaRight" b="textAreaBottom"/>
              <a:pathLst>
                <a:path w="1986" h="2062">
                  <a:moveTo>
                    <a:pt x="1986" y="214"/>
                  </a:moveTo>
                  <a:lnTo>
                    <a:pt x="1986" y="214"/>
                  </a:lnTo>
                  <a:lnTo>
                    <a:pt x="1970" y="240"/>
                  </a:lnTo>
                  <a:lnTo>
                    <a:pt x="1958" y="266"/>
                  </a:lnTo>
                  <a:lnTo>
                    <a:pt x="1948" y="300"/>
                  </a:lnTo>
                  <a:lnTo>
                    <a:pt x="1936" y="350"/>
                  </a:lnTo>
                  <a:lnTo>
                    <a:pt x="1936" y="350"/>
                  </a:lnTo>
                  <a:lnTo>
                    <a:pt x="1914" y="434"/>
                  </a:lnTo>
                  <a:lnTo>
                    <a:pt x="1892" y="516"/>
                  </a:lnTo>
                  <a:lnTo>
                    <a:pt x="1868" y="592"/>
                  </a:lnTo>
                  <a:lnTo>
                    <a:pt x="1844" y="668"/>
                  </a:lnTo>
                  <a:lnTo>
                    <a:pt x="1818" y="738"/>
                  </a:lnTo>
                  <a:lnTo>
                    <a:pt x="1792" y="808"/>
                  </a:lnTo>
                  <a:lnTo>
                    <a:pt x="1764" y="874"/>
                  </a:lnTo>
                  <a:lnTo>
                    <a:pt x="1736" y="938"/>
                  </a:lnTo>
                  <a:lnTo>
                    <a:pt x="1704" y="1002"/>
                  </a:lnTo>
                  <a:lnTo>
                    <a:pt x="1672" y="1062"/>
                  </a:lnTo>
                  <a:lnTo>
                    <a:pt x="1638" y="1120"/>
                  </a:lnTo>
                  <a:lnTo>
                    <a:pt x="1602" y="1178"/>
                  </a:lnTo>
                  <a:lnTo>
                    <a:pt x="1564" y="1234"/>
                  </a:lnTo>
                  <a:lnTo>
                    <a:pt x="1526" y="1288"/>
                  </a:lnTo>
                  <a:lnTo>
                    <a:pt x="1484" y="1342"/>
                  </a:lnTo>
                  <a:lnTo>
                    <a:pt x="1442" y="1394"/>
                  </a:lnTo>
                  <a:lnTo>
                    <a:pt x="1442" y="1394"/>
                  </a:lnTo>
                  <a:lnTo>
                    <a:pt x="1398" y="1444"/>
                  </a:lnTo>
                  <a:lnTo>
                    <a:pt x="1354" y="1494"/>
                  </a:lnTo>
                  <a:lnTo>
                    <a:pt x="1308" y="1540"/>
                  </a:lnTo>
                  <a:lnTo>
                    <a:pt x="1260" y="1586"/>
                  </a:lnTo>
                  <a:lnTo>
                    <a:pt x="1210" y="1630"/>
                  </a:lnTo>
                  <a:lnTo>
                    <a:pt x="1158" y="1674"/>
                  </a:lnTo>
                  <a:lnTo>
                    <a:pt x="1106" y="1716"/>
                  </a:lnTo>
                  <a:lnTo>
                    <a:pt x="1050" y="1756"/>
                  </a:lnTo>
                  <a:lnTo>
                    <a:pt x="992" y="1796"/>
                  </a:lnTo>
                  <a:lnTo>
                    <a:pt x="932" y="1836"/>
                  </a:lnTo>
                  <a:lnTo>
                    <a:pt x="868" y="1874"/>
                  </a:lnTo>
                  <a:lnTo>
                    <a:pt x="802" y="1912"/>
                  </a:lnTo>
                  <a:lnTo>
                    <a:pt x="732" y="1950"/>
                  </a:lnTo>
                  <a:lnTo>
                    <a:pt x="660" y="1988"/>
                  </a:lnTo>
                  <a:lnTo>
                    <a:pt x="584" y="2026"/>
                  </a:lnTo>
                  <a:lnTo>
                    <a:pt x="506" y="2062"/>
                  </a:lnTo>
                  <a:lnTo>
                    <a:pt x="506" y="2062"/>
                  </a:lnTo>
                  <a:lnTo>
                    <a:pt x="470" y="1998"/>
                  </a:lnTo>
                  <a:lnTo>
                    <a:pt x="440" y="1942"/>
                  </a:lnTo>
                  <a:lnTo>
                    <a:pt x="408" y="1892"/>
                  </a:lnTo>
                  <a:lnTo>
                    <a:pt x="376" y="1846"/>
                  </a:lnTo>
                  <a:lnTo>
                    <a:pt x="340" y="1802"/>
                  </a:lnTo>
                  <a:lnTo>
                    <a:pt x="298" y="1756"/>
                  </a:lnTo>
                  <a:lnTo>
                    <a:pt x="252" y="1706"/>
                  </a:lnTo>
                  <a:lnTo>
                    <a:pt x="196" y="1650"/>
                  </a:lnTo>
                  <a:lnTo>
                    <a:pt x="196" y="1650"/>
                  </a:lnTo>
                  <a:lnTo>
                    <a:pt x="260" y="1628"/>
                  </a:lnTo>
                  <a:lnTo>
                    <a:pt x="324" y="1606"/>
                  </a:lnTo>
                  <a:lnTo>
                    <a:pt x="384" y="1582"/>
                  </a:lnTo>
                  <a:lnTo>
                    <a:pt x="444" y="1556"/>
                  </a:lnTo>
                  <a:lnTo>
                    <a:pt x="500" y="1530"/>
                  </a:lnTo>
                  <a:lnTo>
                    <a:pt x="556" y="1504"/>
                  </a:lnTo>
                  <a:lnTo>
                    <a:pt x="610" y="1476"/>
                  </a:lnTo>
                  <a:lnTo>
                    <a:pt x="662" y="1448"/>
                  </a:lnTo>
                  <a:lnTo>
                    <a:pt x="712" y="1418"/>
                  </a:lnTo>
                  <a:lnTo>
                    <a:pt x="760" y="1386"/>
                  </a:lnTo>
                  <a:lnTo>
                    <a:pt x="806" y="1352"/>
                  </a:lnTo>
                  <a:lnTo>
                    <a:pt x="852" y="1318"/>
                  </a:lnTo>
                  <a:lnTo>
                    <a:pt x="898" y="1284"/>
                  </a:lnTo>
                  <a:lnTo>
                    <a:pt x="940" y="1246"/>
                  </a:lnTo>
                  <a:lnTo>
                    <a:pt x="982" y="1208"/>
                  </a:lnTo>
                  <a:lnTo>
                    <a:pt x="1024" y="1168"/>
                  </a:lnTo>
                  <a:lnTo>
                    <a:pt x="1024" y="1168"/>
                  </a:lnTo>
                  <a:lnTo>
                    <a:pt x="1062" y="1130"/>
                  </a:lnTo>
                  <a:lnTo>
                    <a:pt x="1098" y="1090"/>
                  </a:lnTo>
                  <a:lnTo>
                    <a:pt x="1132" y="1050"/>
                  </a:lnTo>
                  <a:lnTo>
                    <a:pt x="1164" y="1008"/>
                  </a:lnTo>
                  <a:lnTo>
                    <a:pt x="1194" y="966"/>
                  </a:lnTo>
                  <a:lnTo>
                    <a:pt x="1224" y="924"/>
                  </a:lnTo>
                  <a:lnTo>
                    <a:pt x="1250" y="882"/>
                  </a:lnTo>
                  <a:lnTo>
                    <a:pt x="1276" y="838"/>
                  </a:lnTo>
                  <a:lnTo>
                    <a:pt x="1300" y="792"/>
                  </a:lnTo>
                  <a:lnTo>
                    <a:pt x="1324" y="746"/>
                  </a:lnTo>
                  <a:lnTo>
                    <a:pt x="1344" y="698"/>
                  </a:lnTo>
                  <a:lnTo>
                    <a:pt x="1364" y="650"/>
                  </a:lnTo>
                  <a:lnTo>
                    <a:pt x="1384" y="600"/>
                  </a:lnTo>
                  <a:lnTo>
                    <a:pt x="1400" y="548"/>
                  </a:lnTo>
                  <a:lnTo>
                    <a:pt x="1416" y="496"/>
                  </a:lnTo>
                  <a:lnTo>
                    <a:pt x="1432" y="442"/>
                  </a:lnTo>
                  <a:lnTo>
                    <a:pt x="412" y="442"/>
                  </a:lnTo>
                  <a:lnTo>
                    <a:pt x="412" y="442"/>
                  </a:lnTo>
                  <a:lnTo>
                    <a:pt x="266" y="442"/>
                  </a:lnTo>
                  <a:lnTo>
                    <a:pt x="164" y="444"/>
                  </a:lnTo>
                  <a:lnTo>
                    <a:pt x="84" y="448"/>
                  </a:lnTo>
                  <a:lnTo>
                    <a:pt x="0" y="45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76" y="22"/>
                  </a:lnTo>
                  <a:lnTo>
                    <a:pt x="114" y="26"/>
                  </a:lnTo>
                  <a:lnTo>
                    <a:pt x="158" y="28"/>
                  </a:lnTo>
                  <a:lnTo>
                    <a:pt x="266" y="30"/>
                  </a:lnTo>
                  <a:lnTo>
                    <a:pt x="420" y="32"/>
                  </a:lnTo>
                  <a:lnTo>
                    <a:pt x="1586" y="32"/>
                  </a:lnTo>
                  <a:lnTo>
                    <a:pt x="1586" y="32"/>
                  </a:lnTo>
                  <a:lnTo>
                    <a:pt x="1640" y="30"/>
                  </a:lnTo>
                  <a:lnTo>
                    <a:pt x="1664" y="28"/>
                  </a:lnTo>
                  <a:lnTo>
                    <a:pt x="1686" y="24"/>
                  </a:lnTo>
                  <a:lnTo>
                    <a:pt x="1706" y="20"/>
                  </a:lnTo>
                  <a:lnTo>
                    <a:pt x="1726" y="14"/>
                  </a:lnTo>
                  <a:lnTo>
                    <a:pt x="1746" y="8"/>
                  </a:lnTo>
                  <a:lnTo>
                    <a:pt x="1766" y="0"/>
                  </a:lnTo>
                  <a:lnTo>
                    <a:pt x="1986" y="21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15982920" y="1841400"/>
              <a:ext cx="3774960" cy="343224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0 h 3432240"/>
                <a:gd name="textAreaBottom" fmla="*/ 3432600 h 3432240"/>
              </a:gdLst>
              <a:ahLst/>
              <a:rect l="textAreaLeft" t="textAreaTop" r="textAreaRight" b="textAreaBottom"/>
              <a:pathLst>
                <a:path w="2378" h="2162">
                  <a:moveTo>
                    <a:pt x="902" y="40"/>
                  </a:moveTo>
                  <a:lnTo>
                    <a:pt x="902" y="40"/>
                  </a:lnTo>
                  <a:lnTo>
                    <a:pt x="896" y="96"/>
                  </a:lnTo>
                  <a:lnTo>
                    <a:pt x="890" y="174"/>
                  </a:lnTo>
                  <a:lnTo>
                    <a:pt x="874" y="610"/>
                  </a:lnTo>
                  <a:lnTo>
                    <a:pt x="874" y="610"/>
                  </a:lnTo>
                  <a:lnTo>
                    <a:pt x="866" y="792"/>
                  </a:lnTo>
                  <a:lnTo>
                    <a:pt x="862" y="874"/>
                  </a:lnTo>
                  <a:lnTo>
                    <a:pt x="856" y="954"/>
                  </a:lnTo>
                  <a:lnTo>
                    <a:pt x="850" y="1028"/>
                  </a:lnTo>
                  <a:lnTo>
                    <a:pt x="842" y="1098"/>
                  </a:lnTo>
                  <a:lnTo>
                    <a:pt x="832" y="1166"/>
                  </a:lnTo>
                  <a:lnTo>
                    <a:pt x="822" y="1228"/>
                  </a:lnTo>
                  <a:lnTo>
                    <a:pt x="810" y="1290"/>
                  </a:lnTo>
                  <a:lnTo>
                    <a:pt x="798" y="1348"/>
                  </a:lnTo>
                  <a:lnTo>
                    <a:pt x="784" y="1404"/>
                  </a:lnTo>
                  <a:lnTo>
                    <a:pt x="768" y="1458"/>
                  </a:lnTo>
                  <a:lnTo>
                    <a:pt x="752" y="1510"/>
                  </a:lnTo>
                  <a:lnTo>
                    <a:pt x="734" y="1562"/>
                  </a:lnTo>
                  <a:lnTo>
                    <a:pt x="714" y="1614"/>
                  </a:lnTo>
                  <a:lnTo>
                    <a:pt x="692" y="1664"/>
                  </a:lnTo>
                  <a:lnTo>
                    <a:pt x="692" y="1664"/>
                  </a:lnTo>
                  <a:lnTo>
                    <a:pt x="662" y="1730"/>
                  </a:lnTo>
                  <a:lnTo>
                    <a:pt x="628" y="1792"/>
                  </a:lnTo>
                  <a:lnTo>
                    <a:pt x="592" y="1852"/>
                  </a:lnTo>
                  <a:lnTo>
                    <a:pt x="554" y="1912"/>
                  </a:lnTo>
                  <a:lnTo>
                    <a:pt x="510" y="1970"/>
                  </a:lnTo>
                  <a:lnTo>
                    <a:pt x="464" y="2030"/>
                  </a:lnTo>
                  <a:lnTo>
                    <a:pt x="410" y="2090"/>
                  </a:lnTo>
                  <a:lnTo>
                    <a:pt x="350" y="2154"/>
                  </a:lnTo>
                  <a:lnTo>
                    <a:pt x="350" y="2154"/>
                  </a:lnTo>
                  <a:lnTo>
                    <a:pt x="306" y="2098"/>
                  </a:lnTo>
                  <a:lnTo>
                    <a:pt x="266" y="2048"/>
                  </a:lnTo>
                  <a:lnTo>
                    <a:pt x="226" y="2002"/>
                  </a:lnTo>
                  <a:lnTo>
                    <a:pt x="188" y="1962"/>
                  </a:lnTo>
                  <a:lnTo>
                    <a:pt x="146" y="1926"/>
                  </a:lnTo>
                  <a:lnTo>
                    <a:pt x="104" y="1888"/>
                  </a:lnTo>
                  <a:lnTo>
                    <a:pt x="54" y="1850"/>
                  </a:lnTo>
                  <a:lnTo>
                    <a:pt x="0" y="1812"/>
                  </a:lnTo>
                  <a:lnTo>
                    <a:pt x="0" y="1812"/>
                  </a:lnTo>
                  <a:lnTo>
                    <a:pt x="50" y="1764"/>
                  </a:lnTo>
                  <a:lnTo>
                    <a:pt x="94" y="1720"/>
                  </a:lnTo>
                  <a:lnTo>
                    <a:pt x="134" y="1676"/>
                  </a:lnTo>
                  <a:lnTo>
                    <a:pt x="170" y="1630"/>
                  </a:lnTo>
                  <a:lnTo>
                    <a:pt x="202" y="1582"/>
                  </a:lnTo>
                  <a:lnTo>
                    <a:pt x="234" y="1532"/>
                  </a:lnTo>
                  <a:lnTo>
                    <a:pt x="264" y="1478"/>
                  </a:lnTo>
                  <a:lnTo>
                    <a:pt x="292" y="1420"/>
                  </a:lnTo>
                  <a:lnTo>
                    <a:pt x="292" y="1420"/>
                  </a:lnTo>
                  <a:lnTo>
                    <a:pt x="312" y="1374"/>
                  </a:lnTo>
                  <a:lnTo>
                    <a:pt x="332" y="1326"/>
                  </a:lnTo>
                  <a:lnTo>
                    <a:pt x="350" y="1276"/>
                  </a:lnTo>
                  <a:lnTo>
                    <a:pt x="364" y="1224"/>
                  </a:lnTo>
                  <a:lnTo>
                    <a:pt x="378" y="1168"/>
                  </a:lnTo>
                  <a:lnTo>
                    <a:pt x="392" y="1108"/>
                  </a:lnTo>
                  <a:lnTo>
                    <a:pt x="402" y="1046"/>
                  </a:lnTo>
                  <a:lnTo>
                    <a:pt x="412" y="978"/>
                  </a:lnTo>
                  <a:lnTo>
                    <a:pt x="420" y="906"/>
                  </a:lnTo>
                  <a:lnTo>
                    <a:pt x="428" y="828"/>
                  </a:lnTo>
                  <a:lnTo>
                    <a:pt x="434" y="746"/>
                  </a:lnTo>
                  <a:lnTo>
                    <a:pt x="438" y="658"/>
                  </a:lnTo>
                  <a:lnTo>
                    <a:pt x="442" y="564"/>
                  </a:lnTo>
                  <a:lnTo>
                    <a:pt x="444" y="462"/>
                  </a:lnTo>
                  <a:lnTo>
                    <a:pt x="446" y="238"/>
                  </a:lnTo>
                  <a:lnTo>
                    <a:pt x="446" y="238"/>
                  </a:lnTo>
                  <a:lnTo>
                    <a:pt x="446" y="166"/>
                  </a:lnTo>
                  <a:lnTo>
                    <a:pt x="444" y="110"/>
                  </a:lnTo>
                  <a:lnTo>
                    <a:pt x="442" y="60"/>
                  </a:lnTo>
                  <a:lnTo>
                    <a:pt x="436" y="12"/>
                  </a:lnTo>
                  <a:lnTo>
                    <a:pt x="902" y="40"/>
                  </a:lnTo>
                  <a:close/>
                  <a:moveTo>
                    <a:pt x="1596" y="0"/>
                  </a:moveTo>
                  <a:lnTo>
                    <a:pt x="1596" y="0"/>
                  </a:lnTo>
                  <a:lnTo>
                    <a:pt x="1588" y="68"/>
                  </a:lnTo>
                  <a:lnTo>
                    <a:pt x="1582" y="126"/>
                  </a:lnTo>
                  <a:lnTo>
                    <a:pt x="1578" y="194"/>
                  </a:lnTo>
                  <a:lnTo>
                    <a:pt x="1576" y="286"/>
                  </a:lnTo>
                  <a:lnTo>
                    <a:pt x="1564" y="1572"/>
                  </a:lnTo>
                  <a:lnTo>
                    <a:pt x="1564" y="1572"/>
                  </a:lnTo>
                  <a:lnTo>
                    <a:pt x="1612" y="1542"/>
                  </a:lnTo>
                  <a:lnTo>
                    <a:pt x="1654" y="1512"/>
                  </a:lnTo>
                  <a:lnTo>
                    <a:pt x="1694" y="1480"/>
                  </a:lnTo>
                  <a:lnTo>
                    <a:pt x="1730" y="1450"/>
                  </a:lnTo>
                  <a:lnTo>
                    <a:pt x="1764" y="1416"/>
                  </a:lnTo>
                  <a:lnTo>
                    <a:pt x="1796" y="1382"/>
                  </a:lnTo>
                  <a:lnTo>
                    <a:pt x="1828" y="1344"/>
                  </a:lnTo>
                  <a:lnTo>
                    <a:pt x="1860" y="1302"/>
                  </a:lnTo>
                  <a:lnTo>
                    <a:pt x="1860" y="1302"/>
                  </a:lnTo>
                  <a:lnTo>
                    <a:pt x="1892" y="1256"/>
                  </a:lnTo>
                  <a:lnTo>
                    <a:pt x="1920" y="1208"/>
                  </a:lnTo>
                  <a:lnTo>
                    <a:pt x="1948" y="1158"/>
                  </a:lnTo>
                  <a:lnTo>
                    <a:pt x="1972" y="1108"/>
                  </a:lnTo>
                  <a:lnTo>
                    <a:pt x="1994" y="1056"/>
                  </a:lnTo>
                  <a:lnTo>
                    <a:pt x="2014" y="1000"/>
                  </a:lnTo>
                  <a:lnTo>
                    <a:pt x="2034" y="944"/>
                  </a:lnTo>
                  <a:lnTo>
                    <a:pt x="2050" y="882"/>
                  </a:lnTo>
                  <a:lnTo>
                    <a:pt x="2050" y="882"/>
                  </a:lnTo>
                  <a:lnTo>
                    <a:pt x="2094" y="936"/>
                  </a:lnTo>
                  <a:lnTo>
                    <a:pt x="2134" y="982"/>
                  </a:lnTo>
                  <a:lnTo>
                    <a:pt x="2172" y="1024"/>
                  </a:lnTo>
                  <a:lnTo>
                    <a:pt x="2208" y="1062"/>
                  </a:lnTo>
                  <a:lnTo>
                    <a:pt x="2246" y="1096"/>
                  </a:lnTo>
                  <a:lnTo>
                    <a:pt x="2284" y="1132"/>
                  </a:lnTo>
                  <a:lnTo>
                    <a:pt x="2328" y="1168"/>
                  </a:lnTo>
                  <a:lnTo>
                    <a:pt x="2378" y="1206"/>
                  </a:lnTo>
                  <a:lnTo>
                    <a:pt x="2378" y="1206"/>
                  </a:lnTo>
                  <a:lnTo>
                    <a:pt x="2336" y="1306"/>
                  </a:lnTo>
                  <a:lnTo>
                    <a:pt x="2314" y="1352"/>
                  </a:lnTo>
                  <a:lnTo>
                    <a:pt x="2290" y="1398"/>
                  </a:lnTo>
                  <a:lnTo>
                    <a:pt x="2268" y="1442"/>
                  </a:lnTo>
                  <a:lnTo>
                    <a:pt x="2244" y="1482"/>
                  </a:lnTo>
                  <a:lnTo>
                    <a:pt x="2220" y="1524"/>
                  </a:lnTo>
                  <a:lnTo>
                    <a:pt x="2194" y="1562"/>
                  </a:lnTo>
                  <a:lnTo>
                    <a:pt x="2168" y="1600"/>
                  </a:lnTo>
                  <a:lnTo>
                    <a:pt x="2140" y="1636"/>
                  </a:lnTo>
                  <a:lnTo>
                    <a:pt x="2112" y="1670"/>
                  </a:lnTo>
                  <a:lnTo>
                    <a:pt x="2082" y="1704"/>
                  </a:lnTo>
                  <a:lnTo>
                    <a:pt x="2052" y="1738"/>
                  </a:lnTo>
                  <a:lnTo>
                    <a:pt x="2020" y="1770"/>
                  </a:lnTo>
                  <a:lnTo>
                    <a:pt x="1986" y="1800"/>
                  </a:lnTo>
                  <a:lnTo>
                    <a:pt x="1952" y="1830"/>
                  </a:lnTo>
                  <a:lnTo>
                    <a:pt x="1952" y="1830"/>
                  </a:lnTo>
                  <a:lnTo>
                    <a:pt x="1898" y="1874"/>
                  </a:lnTo>
                  <a:lnTo>
                    <a:pt x="1844" y="1914"/>
                  </a:lnTo>
                  <a:lnTo>
                    <a:pt x="1790" y="1950"/>
                  </a:lnTo>
                  <a:lnTo>
                    <a:pt x="1732" y="1984"/>
                  </a:lnTo>
                  <a:lnTo>
                    <a:pt x="1670" y="2016"/>
                  </a:lnTo>
                  <a:lnTo>
                    <a:pt x="1602" y="2046"/>
                  </a:lnTo>
                  <a:lnTo>
                    <a:pt x="1524" y="2078"/>
                  </a:lnTo>
                  <a:lnTo>
                    <a:pt x="1436" y="2110"/>
                  </a:lnTo>
                  <a:lnTo>
                    <a:pt x="1436" y="2110"/>
                  </a:lnTo>
                  <a:lnTo>
                    <a:pt x="1362" y="2138"/>
                  </a:lnTo>
                  <a:lnTo>
                    <a:pt x="1338" y="2150"/>
                  </a:lnTo>
                  <a:lnTo>
                    <a:pt x="1316" y="2162"/>
                  </a:lnTo>
                  <a:lnTo>
                    <a:pt x="1106" y="1942"/>
                  </a:lnTo>
                  <a:lnTo>
                    <a:pt x="1106" y="1942"/>
                  </a:lnTo>
                  <a:lnTo>
                    <a:pt x="1118" y="1896"/>
                  </a:lnTo>
                  <a:lnTo>
                    <a:pt x="1124" y="1874"/>
                  </a:lnTo>
                  <a:lnTo>
                    <a:pt x="1126" y="1852"/>
                  </a:lnTo>
                  <a:lnTo>
                    <a:pt x="1130" y="1800"/>
                  </a:lnTo>
                  <a:lnTo>
                    <a:pt x="1132" y="1734"/>
                  </a:lnTo>
                  <a:lnTo>
                    <a:pt x="1144" y="280"/>
                  </a:lnTo>
                  <a:lnTo>
                    <a:pt x="1144" y="192"/>
                  </a:lnTo>
                  <a:lnTo>
                    <a:pt x="1144" y="192"/>
                  </a:lnTo>
                  <a:lnTo>
                    <a:pt x="1144" y="138"/>
                  </a:lnTo>
                  <a:lnTo>
                    <a:pt x="1142" y="88"/>
                  </a:lnTo>
                  <a:lnTo>
                    <a:pt x="1140" y="44"/>
                  </a:lnTo>
                  <a:lnTo>
                    <a:pt x="1134" y="0"/>
                  </a:lnTo>
                  <a:lnTo>
                    <a:pt x="1596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20027880" y="2108160"/>
              <a:ext cx="3457440" cy="278748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2787480"/>
                <a:gd name="textAreaBottom" fmla="*/ 2787840 h 2787480"/>
              </a:gdLst>
              <a:ahLst/>
              <a:rect l="textAreaLeft" t="textAreaTop" r="textAreaRight" b="textAreaBottom"/>
              <a:pathLst>
                <a:path w="2178" h="1756">
                  <a:moveTo>
                    <a:pt x="1296" y="1344"/>
                  </a:moveTo>
                  <a:lnTo>
                    <a:pt x="1774" y="1344"/>
                  </a:lnTo>
                  <a:lnTo>
                    <a:pt x="1774" y="1344"/>
                  </a:lnTo>
                  <a:lnTo>
                    <a:pt x="1914" y="1342"/>
                  </a:lnTo>
                  <a:lnTo>
                    <a:pt x="2016" y="1340"/>
                  </a:lnTo>
                  <a:lnTo>
                    <a:pt x="2100" y="1334"/>
                  </a:lnTo>
                  <a:lnTo>
                    <a:pt x="2178" y="1324"/>
                  </a:lnTo>
                  <a:lnTo>
                    <a:pt x="2178" y="1756"/>
                  </a:lnTo>
                  <a:lnTo>
                    <a:pt x="2178" y="1756"/>
                  </a:lnTo>
                  <a:lnTo>
                    <a:pt x="2104" y="1750"/>
                  </a:lnTo>
                  <a:lnTo>
                    <a:pt x="2014" y="1744"/>
                  </a:lnTo>
                  <a:lnTo>
                    <a:pt x="1908" y="1742"/>
                  </a:lnTo>
                  <a:lnTo>
                    <a:pt x="1780" y="1742"/>
                  </a:lnTo>
                  <a:lnTo>
                    <a:pt x="394" y="1742"/>
                  </a:lnTo>
                  <a:lnTo>
                    <a:pt x="394" y="1742"/>
                  </a:lnTo>
                  <a:lnTo>
                    <a:pt x="254" y="1742"/>
                  </a:lnTo>
                  <a:lnTo>
                    <a:pt x="154" y="1744"/>
                  </a:lnTo>
                  <a:lnTo>
                    <a:pt x="76" y="1748"/>
                  </a:lnTo>
                  <a:lnTo>
                    <a:pt x="0" y="1754"/>
                  </a:lnTo>
                  <a:lnTo>
                    <a:pt x="0" y="1324"/>
                  </a:lnTo>
                  <a:lnTo>
                    <a:pt x="0" y="1324"/>
                  </a:lnTo>
                  <a:lnTo>
                    <a:pt x="84" y="1332"/>
                  </a:lnTo>
                  <a:lnTo>
                    <a:pt x="172" y="1338"/>
                  </a:lnTo>
                  <a:lnTo>
                    <a:pt x="272" y="1342"/>
                  </a:lnTo>
                  <a:lnTo>
                    <a:pt x="402" y="1344"/>
                  </a:lnTo>
                  <a:lnTo>
                    <a:pt x="850" y="1344"/>
                  </a:lnTo>
                  <a:lnTo>
                    <a:pt x="850" y="412"/>
                  </a:lnTo>
                  <a:lnTo>
                    <a:pt x="580" y="412"/>
                  </a:lnTo>
                  <a:lnTo>
                    <a:pt x="580" y="412"/>
                  </a:lnTo>
                  <a:lnTo>
                    <a:pt x="434" y="412"/>
                  </a:lnTo>
                  <a:lnTo>
                    <a:pt x="334" y="414"/>
                  </a:lnTo>
                  <a:lnTo>
                    <a:pt x="256" y="418"/>
                  </a:lnTo>
                  <a:lnTo>
                    <a:pt x="182" y="42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272" y="10"/>
                  </a:lnTo>
                  <a:lnTo>
                    <a:pt x="358" y="16"/>
                  </a:lnTo>
                  <a:lnTo>
                    <a:pt x="458" y="18"/>
                  </a:lnTo>
                  <a:lnTo>
                    <a:pt x="586" y="20"/>
                  </a:lnTo>
                  <a:lnTo>
                    <a:pt x="1586" y="20"/>
                  </a:lnTo>
                  <a:lnTo>
                    <a:pt x="1586" y="20"/>
                  </a:lnTo>
                  <a:lnTo>
                    <a:pt x="1720" y="18"/>
                  </a:lnTo>
                  <a:lnTo>
                    <a:pt x="1824" y="14"/>
                  </a:lnTo>
                  <a:lnTo>
                    <a:pt x="1910" y="8"/>
                  </a:lnTo>
                  <a:lnTo>
                    <a:pt x="1992" y="0"/>
                  </a:lnTo>
                  <a:lnTo>
                    <a:pt x="1992" y="424"/>
                  </a:lnTo>
                  <a:lnTo>
                    <a:pt x="1992" y="424"/>
                  </a:lnTo>
                  <a:lnTo>
                    <a:pt x="1914" y="418"/>
                  </a:lnTo>
                  <a:lnTo>
                    <a:pt x="1836" y="414"/>
                  </a:lnTo>
                  <a:lnTo>
                    <a:pt x="1738" y="412"/>
                  </a:lnTo>
                  <a:lnTo>
                    <a:pt x="1594" y="412"/>
                  </a:lnTo>
                  <a:lnTo>
                    <a:pt x="1296" y="412"/>
                  </a:lnTo>
                  <a:lnTo>
                    <a:pt x="1296" y="134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24063480" y="1962000"/>
              <a:ext cx="3311280" cy="31719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2086" h="1998">
                  <a:moveTo>
                    <a:pt x="282" y="0"/>
                  </a:moveTo>
                  <a:lnTo>
                    <a:pt x="282" y="0"/>
                  </a:lnTo>
                  <a:lnTo>
                    <a:pt x="392" y="66"/>
                  </a:lnTo>
                  <a:lnTo>
                    <a:pt x="490" y="126"/>
                  </a:lnTo>
                  <a:lnTo>
                    <a:pt x="578" y="184"/>
                  </a:lnTo>
                  <a:lnTo>
                    <a:pt x="660" y="240"/>
                  </a:lnTo>
                  <a:lnTo>
                    <a:pt x="736" y="296"/>
                  </a:lnTo>
                  <a:lnTo>
                    <a:pt x="810" y="354"/>
                  </a:lnTo>
                  <a:lnTo>
                    <a:pt x="882" y="416"/>
                  </a:lnTo>
                  <a:lnTo>
                    <a:pt x="958" y="482"/>
                  </a:lnTo>
                  <a:lnTo>
                    <a:pt x="668" y="866"/>
                  </a:lnTo>
                  <a:lnTo>
                    <a:pt x="668" y="866"/>
                  </a:lnTo>
                  <a:lnTo>
                    <a:pt x="588" y="784"/>
                  </a:lnTo>
                  <a:lnTo>
                    <a:pt x="508" y="708"/>
                  </a:lnTo>
                  <a:lnTo>
                    <a:pt x="428" y="638"/>
                  </a:lnTo>
                  <a:lnTo>
                    <a:pt x="346" y="572"/>
                  </a:lnTo>
                  <a:lnTo>
                    <a:pt x="264" y="510"/>
                  </a:lnTo>
                  <a:lnTo>
                    <a:pt x="178" y="452"/>
                  </a:lnTo>
                  <a:lnTo>
                    <a:pt x="90" y="398"/>
                  </a:lnTo>
                  <a:lnTo>
                    <a:pt x="0" y="346"/>
                  </a:lnTo>
                  <a:lnTo>
                    <a:pt x="282" y="0"/>
                  </a:lnTo>
                  <a:close/>
                  <a:moveTo>
                    <a:pt x="24" y="1526"/>
                  </a:moveTo>
                  <a:lnTo>
                    <a:pt x="24" y="1526"/>
                  </a:lnTo>
                  <a:lnTo>
                    <a:pt x="118" y="1516"/>
                  </a:lnTo>
                  <a:lnTo>
                    <a:pt x="214" y="1504"/>
                  </a:lnTo>
                  <a:lnTo>
                    <a:pt x="308" y="1486"/>
                  </a:lnTo>
                  <a:lnTo>
                    <a:pt x="402" y="1466"/>
                  </a:lnTo>
                  <a:lnTo>
                    <a:pt x="494" y="1442"/>
                  </a:lnTo>
                  <a:lnTo>
                    <a:pt x="586" y="1414"/>
                  </a:lnTo>
                  <a:lnTo>
                    <a:pt x="676" y="1384"/>
                  </a:lnTo>
                  <a:lnTo>
                    <a:pt x="764" y="1350"/>
                  </a:lnTo>
                  <a:lnTo>
                    <a:pt x="764" y="1350"/>
                  </a:lnTo>
                  <a:lnTo>
                    <a:pt x="822" y="1324"/>
                  </a:lnTo>
                  <a:lnTo>
                    <a:pt x="876" y="1298"/>
                  </a:lnTo>
                  <a:lnTo>
                    <a:pt x="930" y="1272"/>
                  </a:lnTo>
                  <a:lnTo>
                    <a:pt x="980" y="1242"/>
                  </a:lnTo>
                  <a:lnTo>
                    <a:pt x="1030" y="1212"/>
                  </a:lnTo>
                  <a:lnTo>
                    <a:pt x="1078" y="1178"/>
                  </a:lnTo>
                  <a:lnTo>
                    <a:pt x="1124" y="1144"/>
                  </a:lnTo>
                  <a:lnTo>
                    <a:pt x="1170" y="1108"/>
                  </a:lnTo>
                  <a:lnTo>
                    <a:pt x="1212" y="1070"/>
                  </a:lnTo>
                  <a:lnTo>
                    <a:pt x="1254" y="1030"/>
                  </a:lnTo>
                  <a:lnTo>
                    <a:pt x="1296" y="988"/>
                  </a:lnTo>
                  <a:lnTo>
                    <a:pt x="1336" y="944"/>
                  </a:lnTo>
                  <a:lnTo>
                    <a:pt x="1374" y="898"/>
                  </a:lnTo>
                  <a:lnTo>
                    <a:pt x="1412" y="848"/>
                  </a:lnTo>
                  <a:lnTo>
                    <a:pt x="1448" y="796"/>
                  </a:lnTo>
                  <a:lnTo>
                    <a:pt x="1484" y="742"/>
                  </a:lnTo>
                  <a:lnTo>
                    <a:pt x="1484" y="742"/>
                  </a:lnTo>
                  <a:lnTo>
                    <a:pt x="1520" y="684"/>
                  </a:lnTo>
                  <a:lnTo>
                    <a:pt x="1556" y="628"/>
                  </a:lnTo>
                  <a:lnTo>
                    <a:pt x="1586" y="570"/>
                  </a:lnTo>
                  <a:lnTo>
                    <a:pt x="1616" y="514"/>
                  </a:lnTo>
                  <a:lnTo>
                    <a:pt x="1644" y="454"/>
                  </a:lnTo>
                  <a:lnTo>
                    <a:pt x="1672" y="394"/>
                  </a:lnTo>
                  <a:lnTo>
                    <a:pt x="1698" y="330"/>
                  </a:lnTo>
                  <a:lnTo>
                    <a:pt x="1724" y="260"/>
                  </a:lnTo>
                  <a:lnTo>
                    <a:pt x="1724" y="260"/>
                  </a:lnTo>
                  <a:lnTo>
                    <a:pt x="1768" y="312"/>
                  </a:lnTo>
                  <a:lnTo>
                    <a:pt x="1806" y="354"/>
                  </a:lnTo>
                  <a:lnTo>
                    <a:pt x="1844" y="394"/>
                  </a:lnTo>
                  <a:lnTo>
                    <a:pt x="1882" y="430"/>
                  </a:lnTo>
                  <a:lnTo>
                    <a:pt x="1922" y="464"/>
                  </a:lnTo>
                  <a:lnTo>
                    <a:pt x="1968" y="502"/>
                  </a:lnTo>
                  <a:lnTo>
                    <a:pt x="2022" y="544"/>
                  </a:lnTo>
                  <a:lnTo>
                    <a:pt x="2086" y="590"/>
                  </a:lnTo>
                  <a:lnTo>
                    <a:pt x="2086" y="590"/>
                  </a:lnTo>
                  <a:lnTo>
                    <a:pt x="2044" y="678"/>
                  </a:lnTo>
                  <a:lnTo>
                    <a:pt x="2002" y="762"/>
                  </a:lnTo>
                  <a:lnTo>
                    <a:pt x="1958" y="842"/>
                  </a:lnTo>
                  <a:lnTo>
                    <a:pt x="1914" y="918"/>
                  </a:lnTo>
                  <a:lnTo>
                    <a:pt x="1870" y="990"/>
                  </a:lnTo>
                  <a:lnTo>
                    <a:pt x="1824" y="1060"/>
                  </a:lnTo>
                  <a:lnTo>
                    <a:pt x="1778" y="1124"/>
                  </a:lnTo>
                  <a:lnTo>
                    <a:pt x="1730" y="1186"/>
                  </a:lnTo>
                  <a:lnTo>
                    <a:pt x="1682" y="1244"/>
                  </a:lnTo>
                  <a:lnTo>
                    <a:pt x="1630" y="1300"/>
                  </a:lnTo>
                  <a:lnTo>
                    <a:pt x="1578" y="1354"/>
                  </a:lnTo>
                  <a:lnTo>
                    <a:pt x="1524" y="1404"/>
                  </a:lnTo>
                  <a:lnTo>
                    <a:pt x="1468" y="1452"/>
                  </a:lnTo>
                  <a:lnTo>
                    <a:pt x="1408" y="1498"/>
                  </a:lnTo>
                  <a:lnTo>
                    <a:pt x="1348" y="1542"/>
                  </a:lnTo>
                  <a:lnTo>
                    <a:pt x="1284" y="1586"/>
                  </a:lnTo>
                  <a:lnTo>
                    <a:pt x="1284" y="1586"/>
                  </a:lnTo>
                  <a:lnTo>
                    <a:pt x="1236" y="1616"/>
                  </a:lnTo>
                  <a:lnTo>
                    <a:pt x="1186" y="1646"/>
                  </a:lnTo>
                  <a:lnTo>
                    <a:pt x="1138" y="1674"/>
                  </a:lnTo>
                  <a:lnTo>
                    <a:pt x="1088" y="1700"/>
                  </a:lnTo>
                  <a:lnTo>
                    <a:pt x="1038" y="1726"/>
                  </a:lnTo>
                  <a:lnTo>
                    <a:pt x="986" y="1750"/>
                  </a:lnTo>
                  <a:lnTo>
                    <a:pt x="934" y="1772"/>
                  </a:lnTo>
                  <a:lnTo>
                    <a:pt x="878" y="1794"/>
                  </a:lnTo>
                  <a:lnTo>
                    <a:pt x="822" y="1816"/>
                  </a:lnTo>
                  <a:lnTo>
                    <a:pt x="762" y="1836"/>
                  </a:lnTo>
                  <a:lnTo>
                    <a:pt x="700" y="1856"/>
                  </a:lnTo>
                  <a:lnTo>
                    <a:pt x="634" y="1876"/>
                  </a:lnTo>
                  <a:lnTo>
                    <a:pt x="490" y="1914"/>
                  </a:lnTo>
                  <a:lnTo>
                    <a:pt x="330" y="1954"/>
                  </a:lnTo>
                  <a:lnTo>
                    <a:pt x="330" y="1954"/>
                  </a:lnTo>
                  <a:lnTo>
                    <a:pt x="230" y="1976"/>
                  </a:lnTo>
                  <a:lnTo>
                    <a:pt x="152" y="1998"/>
                  </a:lnTo>
                  <a:lnTo>
                    <a:pt x="24" y="152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11"/>
            <p:cNvSpPr/>
            <p:nvPr/>
          </p:nvSpPr>
          <p:spPr>
            <a:xfrm>
              <a:off x="27717840" y="1752480"/>
              <a:ext cx="3784320" cy="3540240"/>
            </a:xfrm>
            <a:custGeom>
              <a:avLst/>
              <a:gdLst>
                <a:gd name="textAreaLeft" fmla="*/ 0 w 3784320"/>
                <a:gd name="textAreaRight" fmla="*/ 3784680 w 3784320"/>
                <a:gd name="textAreaTop" fmla="*/ 0 h 3540240"/>
                <a:gd name="textAreaBottom" fmla="*/ 3540600 h 3540240"/>
              </a:gdLst>
              <a:ahLst/>
              <a:rect l="textAreaLeft" t="textAreaTop" r="textAreaRight" b="textAreaBottom"/>
              <a:pathLst>
                <a:path w="2384" h="2230">
                  <a:moveTo>
                    <a:pt x="1388" y="478"/>
                  </a:moveTo>
                  <a:lnTo>
                    <a:pt x="1388" y="478"/>
                  </a:lnTo>
                  <a:lnTo>
                    <a:pt x="1388" y="388"/>
                  </a:lnTo>
                  <a:lnTo>
                    <a:pt x="1388" y="316"/>
                  </a:lnTo>
                  <a:lnTo>
                    <a:pt x="1388" y="316"/>
                  </a:lnTo>
                  <a:lnTo>
                    <a:pt x="1388" y="224"/>
                  </a:lnTo>
                  <a:lnTo>
                    <a:pt x="1386" y="150"/>
                  </a:lnTo>
                  <a:lnTo>
                    <a:pt x="1382" y="90"/>
                  </a:lnTo>
                  <a:lnTo>
                    <a:pt x="1376" y="42"/>
                  </a:lnTo>
                  <a:lnTo>
                    <a:pt x="1816" y="42"/>
                  </a:lnTo>
                  <a:lnTo>
                    <a:pt x="1816" y="42"/>
                  </a:lnTo>
                  <a:lnTo>
                    <a:pt x="1810" y="90"/>
                  </a:lnTo>
                  <a:lnTo>
                    <a:pt x="1806" y="152"/>
                  </a:lnTo>
                  <a:lnTo>
                    <a:pt x="1804" y="268"/>
                  </a:lnTo>
                  <a:lnTo>
                    <a:pt x="1804" y="478"/>
                  </a:lnTo>
                  <a:lnTo>
                    <a:pt x="1902" y="478"/>
                  </a:lnTo>
                  <a:lnTo>
                    <a:pt x="1902" y="478"/>
                  </a:lnTo>
                  <a:lnTo>
                    <a:pt x="2020" y="478"/>
                  </a:lnTo>
                  <a:lnTo>
                    <a:pt x="2110" y="476"/>
                  </a:lnTo>
                  <a:lnTo>
                    <a:pt x="2184" y="470"/>
                  </a:lnTo>
                  <a:lnTo>
                    <a:pt x="2256" y="462"/>
                  </a:lnTo>
                  <a:lnTo>
                    <a:pt x="2256" y="880"/>
                  </a:lnTo>
                  <a:lnTo>
                    <a:pt x="2256" y="880"/>
                  </a:lnTo>
                  <a:lnTo>
                    <a:pt x="2174" y="874"/>
                  </a:lnTo>
                  <a:lnTo>
                    <a:pt x="2098" y="870"/>
                  </a:lnTo>
                  <a:lnTo>
                    <a:pt x="2014" y="868"/>
                  </a:lnTo>
                  <a:lnTo>
                    <a:pt x="1910" y="868"/>
                  </a:lnTo>
                  <a:lnTo>
                    <a:pt x="1798" y="868"/>
                  </a:lnTo>
                  <a:lnTo>
                    <a:pt x="1798" y="868"/>
                  </a:lnTo>
                  <a:lnTo>
                    <a:pt x="1796" y="988"/>
                  </a:lnTo>
                  <a:lnTo>
                    <a:pt x="1792" y="1076"/>
                  </a:lnTo>
                  <a:lnTo>
                    <a:pt x="1788" y="1146"/>
                  </a:lnTo>
                  <a:lnTo>
                    <a:pt x="1782" y="1212"/>
                  </a:lnTo>
                  <a:lnTo>
                    <a:pt x="1782" y="1212"/>
                  </a:lnTo>
                  <a:lnTo>
                    <a:pt x="1770" y="1294"/>
                  </a:lnTo>
                  <a:lnTo>
                    <a:pt x="1758" y="1368"/>
                  </a:lnTo>
                  <a:lnTo>
                    <a:pt x="1742" y="1438"/>
                  </a:lnTo>
                  <a:lnTo>
                    <a:pt x="1724" y="1504"/>
                  </a:lnTo>
                  <a:lnTo>
                    <a:pt x="1702" y="1566"/>
                  </a:lnTo>
                  <a:lnTo>
                    <a:pt x="1676" y="1624"/>
                  </a:lnTo>
                  <a:lnTo>
                    <a:pt x="1644" y="1682"/>
                  </a:lnTo>
                  <a:lnTo>
                    <a:pt x="1610" y="1740"/>
                  </a:lnTo>
                  <a:lnTo>
                    <a:pt x="1610" y="1740"/>
                  </a:lnTo>
                  <a:lnTo>
                    <a:pt x="1570" y="1796"/>
                  </a:lnTo>
                  <a:lnTo>
                    <a:pt x="1526" y="1848"/>
                  </a:lnTo>
                  <a:lnTo>
                    <a:pt x="1478" y="1900"/>
                  </a:lnTo>
                  <a:lnTo>
                    <a:pt x="1426" y="1948"/>
                  </a:lnTo>
                  <a:lnTo>
                    <a:pt x="1370" y="1994"/>
                  </a:lnTo>
                  <a:lnTo>
                    <a:pt x="1312" y="2038"/>
                  </a:lnTo>
                  <a:lnTo>
                    <a:pt x="1248" y="2078"/>
                  </a:lnTo>
                  <a:lnTo>
                    <a:pt x="1182" y="2116"/>
                  </a:lnTo>
                  <a:lnTo>
                    <a:pt x="1182" y="2116"/>
                  </a:lnTo>
                  <a:lnTo>
                    <a:pt x="1128" y="2142"/>
                  </a:lnTo>
                  <a:lnTo>
                    <a:pt x="1070" y="2168"/>
                  </a:lnTo>
                  <a:lnTo>
                    <a:pt x="1000" y="2198"/>
                  </a:lnTo>
                  <a:lnTo>
                    <a:pt x="912" y="2230"/>
                  </a:lnTo>
                  <a:lnTo>
                    <a:pt x="912" y="2230"/>
                  </a:lnTo>
                  <a:lnTo>
                    <a:pt x="882" y="2174"/>
                  </a:lnTo>
                  <a:lnTo>
                    <a:pt x="856" y="2122"/>
                  </a:lnTo>
                  <a:lnTo>
                    <a:pt x="828" y="2076"/>
                  </a:lnTo>
                  <a:lnTo>
                    <a:pt x="798" y="2032"/>
                  </a:lnTo>
                  <a:lnTo>
                    <a:pt x="766" y="1990"/>
                  </a:lnTo>
                  <a:lnTo>
                    <a:pt x="730" y="1948"/>
                  </a:lnTo>
                  <a:lnTo>
                    <a:pt x="690" y="1904"/>
                  </a:lnTo>
                  <a:lnTo>
                    <a:pt x="644" y="1854"/>
                  </a:lnTo>
                  <a:lnTo>
                    <a:pt x="644" y="1854"/>
                  </a:lnTo>
                  <a:lnTo>
                    <a:pt x="728" y="1828"/>
                  </a:lnTo>
                  <a:lnTo>
                    <a:pt x="802" y="1804"/>
                  </a:lnTo>
                  <a:lnTo>
                    <a:pt x="870" y="1778"/>
                  </a:lnTo>
                  <a:lnTo>
                    <a:pt x="928" y="1754"/>
                  </a:lnTo>
                  <a:lnTo>
                    <a:pt x="982" y="1728"/>
                  </a:lnTo>
                  <a:lnTo>
                    <a:pt x="1030" y="1700"/>
                  </a:lnTo>
                  <a:lnTo>
                    <a:pt x="1076" y="1670"/>
                  </a:lnTo>
                  <a:lnTo>
                    <a:pt x="1118" y="1638"/>
                  </a:lnTo>
                  <a:lnTo>
                    <a:pt x="1118" y="1638"/>
                  </a:lnTo>
                  <a:lnTo>
                    <a:pt x="1148" y="1614"/>
                  </a:lnTo>
                  <a:lnTo>
                    <a:pt x="1176" y="1588"/>
                  </a:lnTo>
                  <a:lnTo>
                    <a:pt x="1202" y="1560"/>
                  </a:lnTo>
                  <a:lnTo>
                    <a:pt x="1226" y="1532"/>
                  </a:lnTo>
                  <a:lnTo>
                    <a:pt x="1248" y="1504"/>
                  </a:lnTo>
                  <a:lnTo>
                    <a:pt x="1268" y="1472"/>
                  </a:lnTo>
                  <a:lnTo>
                    <a:pt x="1286" y="1440"/>
                  </a:lnTo>
                  <a:lnTo>
                    <a:pt x="1302" y="1408"/>
                  </a:lnTo>
                  <a:lnTo>
                    <a:pt x="1316" y="1372"/>
                  </a:lnTo>
                  <a:lnTo>
                    <a:pt x="1330" y="1336"/>
                  </a:lnTo>
                  <a:lnTo>
                    <a:pt x="1340" y="1296"/>
                  </a:lnTo>
                  <a:lnTo>
                    <a:pt x="1350" y="1256"/>
                  </a:lnTo>
                  <a:lnTo>
                    <a:pt x="1360" y="1214"/>
                  </a:lnTo>
                  <a:lnTo>
                    <a:pt x="1366" y="1168"/>
                  </a:lnTo>
                  <a:lnTo>
                    <a:pt x="1372" y="1120"/>
                  </a:lnTo>
                  <a:lnTo>
                    <a:pt x="1376" y="1072"/>
                  </a:lnTo>
                  <a:lnTo>
                    <a:pt x="1376" y="1072"/>
                  </a:lnTo>
                  <a:lnTo>
                    <a:pt x="1378" y="1006"/>
                  </a:lnTo>
                  <a:lnTo>
                    <a:pt x="1380" y="868"/>
                  </a:lnTo>
                  <a:lnTo>
                    <a:pt x="862" y="868"/>
                  </a:lnTo>
                  <a:lnTo>
                    <a:pt x="862" y="1144"/>
                  </a:lnTo>
                  <a:lnTo>
                    <a:pt x="862" y="1144"/>
                  </a:lnTo>
                  <a:lnTo>
                    <a:pt x="862" y="1226"/>
                  </a:lnTo>
                  <a:lnTo>
                    <a:pt x="864" y="1292"/>
                  </a:lnTo>
                  <a:lnTo>
                    <a:pt x="868" y="1348"/>
                  </a:lnTo>
                  <a:lnTo>
                    <a:pt x="872" y="1398"/>
                  </a:lnTo>
                  <a:lnTo>
                    <a:pt x="426" y="1398"/>
                  </a:lnTo>
                  <a:lnTo>
                    <a:pt x="426" y="1398"/>
                  </a:lnTo>
                  <a:lnTo>
                    <a:pt x="432" y="1344"/>
                  </a:lnTo>
                  <a:lnTo>
                    <a:pt x="436" y="1284"/>
                  </a:lnTo>
                  <a:lnTo>
                    <a:pt x="438" y="1216"/>
                  </a:lnTo>
                  <a:lnTo>
                    <a:pt x="440" y="1140"/>
                  </a:lnTo>
                  <a:lnTo>
                    <a:pt x="440" y="868"/>
                  </a:lnTo>
                  <a:lnTo>
                    <a:pt x="346" y="868"/>
                  </a:lnTo>
                  <a:lnTo>
                    <a:pt x="346" y="868"/>
                  </a:lnTo>
                  <a:lnTo>
                    <a:pt x="238" y="868"/>
                  </a:lnTo>
                  <a:lnTo>
                    <a:pt x="158" y="868"/>
                  </a:lnTo>
                  <a:lnTo>
                    <a:pt x="88" y="872"/>
                  </a:lnTo>
                  <a:lnTo>
                    <a:pt x="0" y="880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74" y="470"/>
                  </a:lnTo>
                  <a:lnTo>
                    <a:pt x="146" y="476"/>
                  </a:lnTo>
                  <a:lnTo>
                    <a:pt x="232" y="478"/>
                  </a:lnTo>
                  <a:lnTo>
                    <a:pt x="354" y="478"/>
                  </a:lnTo>
                  <a:lnTo>
                    <a:pt x="440" y="478"/>
                  </a:lnTo>
                  <a:lnTo>
                    <a:pt x="440" y="300"/>
                  </a:lnTo>
                  <a:lnTo>
                    <a:pt x="440" y="300"/>
                  </a:lnTo>
                  <a:lnTo>
                    <a:pt x="440" y="222"/>
                  </a:lnTo>
                  <a:lnTo>
                    <a:pt x="438" y="160"/>
                  </a:lnTo>
                  <a:lnTo>
                    <a:pt x="432" y="102"/>
                  </a:lnTo>
                  <a:lnTo>
                    <a:pt x="426" y="40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66" y="100"/>
                  </a:lnTo>
                  <a:lnTo>
                    <a:pt x="864" y="146"/>
                  </a:lnTo>
                  <a:lnTo>
                    <a:pt x="862" y="204"/>
                  </a:lnTo>
                  <a:lnTo>
                    <a:pt x="862" y="290"/>
                  </a:lnTo>
                  <a:lnTo>
                    <a:pt x="862" y="478"/>
                  </a:lnTo>
                  <a:lnTo>
                    <a:pt x="1388" y="478"/>
                  </a:lnTo>
                  <a:close/>
                  <a:moveTo>
                    <a:pt x="2008" y="68"/>
                  </a:moveTo>
                  <a:lnTo>
                    <a:pt x="2008" y="68"/>
                  </a:lnTo>
                  <a:lnTo>
                    <a:pt x="2028" y="108"/>
                  </a:lnTo>
                  <a:lnTo>
                    <a:pt x="2046" y="144"/>
                  </a:lnTo>
                  <a:lnTo>
                    <a:pt x="2062" y="180"/>
                  </a:lnTo>
                  <a:lnTo>
                    <a:pt x="2078" y="214"/>
                  </a:lnTo>
                  <a:lnTo>
                    <a:pt x="2092" y="252"/>
                  </a:lnTo>
                  <a:lnTo>
                    <a:pt x="2104" y="290"/>
                  </a:lnTo>
                  <a:lnTo>
                    <a:pt x="2128" y="376"/>
                  </a:lnTo>
                  <a:lnTo>
                    <a:pt x="1938" y="434"/>
                  </a:lnTo>
                  <a:lnTo>
                    <a:pt x="1938" y="434"/>
                  </a:lnTo>
                  <a:lnTo>
                    <a:pt x="1916" y="348"/>
                  </a:lnTo>
                  <a:lnTo>
                    <a:pt x="1904" y="310"/>
                  </a:lnTo>
                  <a:lnTo>
                    <a:pt x="1890" y="272"/>
                  </a:lnTo>
                  <a:lnTo>
                    <a:pt x="1878" y="236"/>
                  </a:lnTo>
                  <a:lnTo>
                    <a:pt x="1862" y="200"/>
                  </a:lnTo>
                  <a:lnTo>
                    <a:pt x="1844" y="162"/>
                  </a:lnTo>
                  <a:lnTo>
                    <a:pt x="1824" y="120"/>
                  </a:lnTo>
                  <a:lnTo>
                    <a:pt x="2008" y="68"/>
                  </a:lnTo>
                  <a:close/>
                  <a:moveTo>
                    <a:pt x="2262" y="0"/>
                  </a:moveTo>
                  <a:lnTo>
                    <a:pt x="2262" y="0"/>
                  </a:lnTo>
                  <a:lnTo>
                    <a:pt x="2282" y="34"/>
                  </a:lnTo>
                  <a:lnTo>
                    <a:pt x="2300" y="68"/>
                  </a:lnTo>
                  <a:lnTo>
                    <a:pt x="2318" y="106"/>
                  </a:lnTo>
                  <a:lnTo>
                    <a:pt x="2334" y="142"/>
                  </a:lnTo>
                  <a:lnTo>
                    <a:pt x="2348" y="182"/>
                  </a:lnTo>
                  <a:lnTo>
                    <a:pt x="2360" y="220"/>
                  </a:lnTo>
                  <a:lnTo>
                    <a:pt x="2372" y="260"/>
                  </a:lnTo>
                  <a:lnTo>
                    <a:pt x="2384" y="302"/>
                  </a:lnTo>
                  <a:lnTo>
                    <a:pt x="2196" y="364"/>
                  </a:lnTo>
                  <a:lnTo>
                    <a:pt x="2196" y="364"/>
                  </a:lnTo>
                  <a:lnTo>
                    <a:pt x="2172" y="282"/>
                  </a:lnTo>
                  <a:lnTo>
                    <a:pt x="2146" y="202"/>
                  </a:lnTo>
                  <a:lnTo>
                    <a:pt x="2114" y="126"/>
                  </a:lnTo>
                  <a:lnTo>
                    <a:pt x="2078" y="52"/>
                  </a:lnTo>
                  <a:lnTo>
                    <a:pt x="226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31727880" y="3191040"/>
              <a:ext cx="2450880" cy="214956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2149560"/>
                <a:gd name="textAreaBottom" fmla="*/ 2149920 h 2149560"/>
              </a:gdLst>
              <a:ahLst/>
              <a:rect l="textAreaLeft" t="textAreaTop" r="textAreaRight" b="textAreaBottom"/>
              <a:pathLst>
                <a:path w="1544" h="1354">
                  <a:moveTo>
                    <a:pt x="1544" y="650"/>
                  </a:moveTo>
                  <a:lnTo>
                    <a:pt x="1544" y="650"/>
                  </a:lnTo>
                  <a:lnTo>
                    <a:pt x="1544" y="688"/>
                  </a:lnTo>
                  <a:lnTo>
                    <a:pt x="1542" y="724"/>
                  </a:lnTo>
                  <a:lnTo>
                    <a:pt x="1538" y="760"/>
                  </a:lnTo>
                  <a:lnTo>
                    <a:pt x="1532" y="796"/>
                  </a:lnTo>
                  <a:lnTo>
                    <a:pt x="1526" y="830"/>
                  </a:lnTo>
                  <a:lnTo>
                    <a:pt x="1518" y="862"/>
                  </a:lnTo>
                  <a:lnTo>
                    <a:pt x="1506" y="896"/>
                  </a:lnTo>
                  <a:lnTo>
                    <a:pt x="1496" y="926"/>
                  </a:lnTo>
                  <a:lnTo>
                    <a:pt x="1482" y="956"/>
                  </a:lnTo>
                  <a:lnTo>
                    <a:pt x="1468" y="986"/>
                  </a:lnTo>
                  <a:lnTo>
                    <a:pt x="1452" y="1016"/>
                  </a:lnTo>
                  <a:lnTo>
                    <a:pt x="1434" y="1044"/>
                  </a:lnTo>
                  <a:lnTo>
                    <a:pt x="1414" y="1070"/>
                  </a:lnTo>
                  <a:lnTo>
                    <a:pt x="1394" y="1096"/>
                  </a:lnTo>
                  <a:lnTo>
                    <a:pt x="1370" y="1122"/>
                  </a:lnTo>
                  <a:lnTo>
                    <a:pt x="1346" y="1146"/>
                  </a:lnTo>
                  <a:lnTo>
                    <a:pt x="1346" y="1146"/>
                  </a:lnTo>
                  <a:lnTo>
                    <a:pt x="1310" y="1180"/>
                  </a:lnTo>
                  <a:lnTo>
                    <a:pt x="1272" y="1210"/>
                  </a:lnTo>
                  <a:lnTo>
                    <a:pt x="1230" y="1240"/>
                  </a:lnTo>
                  <a:lnTo>
                    <a:pt x="1186" y="1266"/>
                  </a:lnTo>
                  <a:lnTo>
                    <a:pt x="1142" y="1288"/>
                  </a:lnTo>
                  <a:lnTo>
                    <a:pt x="1094" y="1308"/>
                  </a:lnTo>
                  <a:lnTo>
                    <a:pt x="1044" y="1326"/>
                  </a:lnTo>
                  <a:lnTo>
                    <a:pt x="992" y="1342"/>
                  </a:lnTo>
                  <a:lnTo>
                    <a:pt x="992" y="1342"/>
                  </a:lnTo>
                  <a:lnTo>
                    <a:pt x="950" y="1352"/>
                  </a:lnTo>
                  <a:lnTo>
                    <a:pt x="926" y="1354"/>
                  </a:lnTo>
                  <a:lnTo>
                    <a:pt x="926" y="1354"/>
                  </a:lnTo>
                  <a:lnTo>
                    <a:pt x="912" y="1354"/>
                  </a:lnTo>
                  <a:lnTo>
                    <a:pt x="898" y="1352"/>
                  </a:lnTo>
                  <a:lnTo>
                    <a:pt x="886" y="1350"/>
                  </a:lnTo>
                  <a:lnTo>
                    <a:pt x="872" y="1344"/>
                  </a:lnTo>
                  <a:lnTo>
                    <a:pt x="862" y="1340"/>
                  </a:lnTo>
                  <a:lnTo>
                    <a:pt x="850" y="1332"/>
                  </a:lnTo>
                  <a:lnTo>
                    <a:pt x="840" y="1324"/>
                  </a:lnTo>
                  <a:lnTo>
                    <a:pt x="830" y="1316"/>
                  </a:lnTo>
                  <a:lnTo>
                    <a:pt x="830" y="1316"/>
                  </a:lnTo>
                  <a:lnTo>
                    <a:pt x="820" y="1304"/>
                  </a:lnTo>
                  <a:lnTo>
                    <a:pt x="814" y="1294"/>
                  </a:lnTo>
                  <a:lnTo>
                    <a:pt x="806" y="1282"/>
                  </a:lnTo>
                  <a:lnTo>
                    <a:pt x="802" y="1270"/>
                  </a:lnTo>
                  <a:lnTo>
                    <a:pt x="798" y="1258"/>
                  </a:lnTo>
                  <a:lnTo>
                    <a:pt x="794" y="1244"/>
                  </a:lnTo>
                  <a:lnTo>
                    <a:pt x="792" y="1230"/>
                  </a:lnTo>
                  <a:lnTo>
                    <a:pt x="792" y="1216"/>
                  </a:lnTo>
                  <a:lnTo>
                    <a:pt x="792" y="1216"/>
                  </a:lnTo>
                  <a:lnTo>
                    <a:pt x="794" y="1196"/>
                  </a:lnTo>
                  <a:lnTo>
                    <a:pt x="798" y="1180"/>
                  </a:lnTo>
                  <a:lnTo>
                    <a:pt x="804" y="1164"/>
                  </a:lnTo>
                  <a:lnTo>
                    <a:pt x="814" y="1148"/>
                  </a:lnTo>
                  <a:lnTo>
                    <a:pt x="826" y="1136"/>
                  </a:lnTo>
                  <a:lnTo>
                    <a:pt x="842" y="1124"/>
                  </a:lnTo>
                  <a:lnTo>
                    <a:pt x="860" y="1114"/>
                  </a:lnTo>
                  <a:lnTo>
                    <a:pt x="880" y="1104"/>
                  </a:lnTo>
                  <a:lnTo>
                    <a:pt x="880" y="1104"/>
                  </a:lnTo>
                  <a:lnTo>
                    <a:pt x="928" y="1086"/>
                  </a:lnTo>
                  <a:lnTo>
                    <a:pt x="972" y="1066"/>
                  </a:lnTo>
                  <a:lnTo>
                    <a:pt x="1014" y="1046"/>
                  </a:lnTo>
                  <a:lnTo>
                    <a:pt x="1050" y="1026"/>
                  </a:lnTo>
                  <a:lnTo>
                    <a:pt x="1084" y="1006"/>
                  </a:lnTo>
                  <a:lnTo>
                    <a:pt x="1116" y="986"/>
                  </a:lnTo>
                  <a:lnTo>
                    <a:pt x="1142" y="966"/>
                  </a:lnTo>
                  <a:lnTo>
                    <a:pt x="1166" y="946"/>
                  </a:lnTo>
                  <a:lnTo>
                    <a:pt x="1166" y="946"/>
                  </a:lnTo>
                  <a:lnTo>
                    <a:pt x="1194" y="916"/>
                  </a:lnTo>
                  <a:lnTo>
                    <a:pt x="1218" y="886"/>
                  </a:lnTo>
                  <a:lnTo>
                    <a:pt x="1238" y="852"/>
                  </a:lnTo>
                  <a:lnTo>
                    <a:pt x="1254" y="816"/>
                  </a:lnTo>
                  <a:lnTo>
                    <a:pt x="1268" y="778"/>
                  </a:lnTo>
                  <a:lnTo>
                    <a:pt x="1276" y="738"/>
                  </a:lnTo>
                  <a:lnTo>
                    <a:pt x="1282" y="696"/>
                  </a:lnTo>
                  <a:lnTo>
                    <a:pt x="1284" y="650"/>
                  </a:lnTo>
                  <a:lnTo>
                    <a:pt x="1284" y="650"/>
                  </a:lnTo>
                  <a:lnTo>
                    <a:pt x="1282" y="606"/>
                  </a:lnTo>
                  <a:lnTo>
                    <a:pt x="1278" y="564"/>
                  </a:lnTo>
                  <a:lnTo>
                    <a:pt x="1270" y="524"/>
                  </a:lnTo>
                  <a:lnTo>
                    <a:pt x="1260" y="488"/>
                  </a:lnTo>
                  <a:lnTo>
                    <a:pt x="1246" y="454"/>
                  </a:lnTo>
                  <a:lnTo>
                    <a:pt x="1230" y="422"/>
                  </a:lnTo>
                  <a:lnTo>
                    <a:pt x="1212" y="392"/>
                  </a:lnTo>
                  <a:lnTo>
                    <a:pt x="1190" y="366"/>
                  </a:lnTo>
                  <a:lnTo>
                    <a:pt x="1164" y="342"/>
                  </a:lnTo>
                  <a:lnTo>
                    <a:pt x="1136" y="320"/>
                  </a:lnTo>
                  <a:lnTo>
                    <a:pt x="1104" y="300"/>
                  </a:lnTo>
                  <a:lnTo>
                    <a:pt x="1070" y="284"/>
                  </a:lnTo>
                  <a:lnTo>
                    <a:pt x="1034" y="270"/>
                  </a:lnTo>
                  <a:lnTo>
                    <a:pt x="994" y="258"/>
                  </a:lnTo>
                  <a:lnTo>
                    <a:pt x="952" y="250"/>
                  </a:lnTo>
                  <a:lnTo>
                    <a:pt x="906" y="244"/>
                  </a:lnTo>
                  <a:lnTo>
                    <a:pt x="906" y="244"/>
                  </a:lnTo>
                  <a:lnTo>
                    <a:pt x="908" y="276"/>
                  </a:lnTo>
                  <a:lnTo>
                    <a:pt x="908" y="312"/>
                  </a:lnTo>
                  <a:lnTo>
                    <a:pt x="908" y="312"/>
                  </a:lnTo>
                  <a:lnTo>
                    <a:pt x="908" y="354"/>
                  </a:lnTo>
                  <a:lnTo>
                    <a:pt x="906" y="396"/>
                  </a:lnTo>
                  <a:lnTo>
                    <a:pt x="904" y="438"/>
                  </a:lnTo>
                  <a:lnTo>
                    <a:pt x="898" y="478"/>
                  </a:lnTo>
                  <a:lnTo>
                    <a:pt x="894" y="520"/>
                  </a:lnTo>
                  <a:lnTo>
                    <a:pt x="886" y="560"/>
                  </a:lnTo>
                  <a:lnTo>
                    <a:pt x="878" y="602"/>
                  </a:lnTo>
                  <a:lnTo>
                    <a:pt x="868" y="642"/>
                  </a:lnTo>
                  <a:lnTo>
                    <a:pt x="858" y="682"/>
                  </a:lnTo>
                  <a:lnTo>
                    <a:pt x="846" y="720"/>
                  </a:lnTo>
                  <a:lnTo>
                    <a:pt x="832" y="760"/>
                  </a:lnTo>
                  <a:lnTo>
                    <a:pt x="818" y="800"/>
                  </a:lnTo>
                  <a:lnTo>
                    <a:pt x="802" y="838"/>
                  </a:lnTo>
                  <a:lnTo>
                    <a:pt x="784" y="876"/>
                  </a:lnTo>
                  <a:lnTo>
                    <a:pt x="766" y="916"/>
                  </a:lnTo>
                  <a:lnTo>
                    <a:pt x="746" y="954"/>
                  </a:lnTo>
                  <a:lnTo>
                    <a:pt x="746" y="954"/>
                  </a:lnTo>
                  <a:lnTo>
                    <a:pt x="724" y="992"/>
                  </a:lnTo>
                  <a:lnTo>
                    <a:pt x="702" y="1028"/>
                  </a:lnTo>
                  <a:lnTo>
                    <a:pt x="678" y="1062"/>
                  </a:lnTo>
                  <a:lnTo>
                    <a:pt x="656" y="1094"/>
                  </a:lnTo>
                  <a:lnTo>
                    <a:pt x="632" y="1124"/>
                  </a:lnTo>
                  <a:lnTo>
                    <a:pt x="606" y="1150"/>
                  </a:lnTo>
                  <a:lnTo>
                    <a:pt x="582" y="1174"/>
                  </a:lnTo>
                  <a:lnTo>
                    <a:pt x="558" y="1194"/>
                  </a:lnTo>
                  <a:lnTo>
                    <a:pt x="532" y="1214"/>
                  </a:lnTo>
                  <a:lnTo>
                    <a:pt x="506" y="1230"/>
                  </a:lnTo>
                  <a:lnTo>
                    <a:pt x="480" y="1244"/>
                  </a:lnTo>
                  <a:lnTo>
                    <a:pt x="452" y="1256"/>
                  </a:lnTo>
                  <a:lnTo>
                    <a:pt x="426" y="1264"/>
                  </a:lnTo>
                  <a:lnTo>
                    <a:pt x="398" y="1270"/>
                  </a:lnTo>
                  <a:lnTo>
                    <a:pt x="370" y="1274"/>
                  </a:lnTo>
                  <a:lnTo>
                    <a:pt x="342" y="1276"/>
                  </a:lnTo>
                  <a:lnTo>
                    <a:pt x="342" y="1276"/>
                  </a:lnTo>
                  <a:lnTo>
                    <a:pt x="320" y="1274"/>
                  </a:lnTo>
                  <a:lnTo>
                    <a:pt x="300" y="1274"/>
                  </a:lnTo>
                  <a:lnTo>
                    <a:pt x="280" y="1270"/>
                  </a:lnTo>
                  <a:lnTo>
                    <a:pt x="262" y="1266"/>
                  </a:lnTo>
                  <a:lnTo>
                    <a:pt x="242" y="1260"/>
                  </a:lnTo>
                  <a:lnTo>
                    <a:pt x="224" y="1254"/>
                  </a:lnTo>
                  <a:lnTo>
                    <a:pt x="208" y="1246"/>
                  </a:lnTo>
                  <a:lnTo>
                    <a:pt x="190" y="1236"/>
                  </a:lnTo>
                  <a:lnTo>
                    <a:pt x="174" y="1226"/>
                  </a:lnTo>
                  <a:lnTo>
                    <a:pt x="160" y="1214"/>
                  </a:lnTo>
                  <a:lnTo>
                    <a:pt x="144" y="1202"/>
                  </a:lnTo>
                  <a:lnTo>
                    <a:pt x="130" y="1188"/>
                  </a:lnTo>
                  <a:lnTo>
                    <a:pt x="116" y="1172"/>
                  </a:lnTo>
                  <a:lnTo>
                    <a:pt x="102" y="1156"/>
                  </a:lnTo>
                  <a:lnTo>
                    <a:pt x="78" y="1118"/>
                  </a:lnTo>
                  <a:lnTo>
                    <a:pt x="78" y="1118"/>
                  </a:lnTo>
                  <a:lnTo>
                    <a:pt x="60" y="1086"/>
                  </a:lnTo>
                  <a:lnTo>
                    <a:pt x="44" y="1052"/>
                  </a:lnTo>
                  <a:lnTo>
                    <a:pt x="32" y="1016"/>
                  </a:lnTo>
                  <a:lnTo>
                    <a:pt x="20" y="980"/>
                  </a:lnTo>
                  <a:lnTo>
                    <a:pt x="12" y="942"/>
                  </a:lnTo>
                  <a:lnTo>
                    <a:pt x="6" y="902"/>
                  </a:lnTo>
                  <a:lnTo>
                    <a:pt x="2" y="862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2" y="776"/>
                  </a:lnTo>
                  <a:lnTo>
                    <a:pt x="4" y="732"/>
                  </a:lnTo>
                  <a:lnTo>
                    <a:pt x="8" y="688"/>
                  </a:lnTo>
                  <a:lnTo>
                    <a:pt x="14" y="646"/>
                  </a:lnTo>
                  <a:lnTo>
                    <a:pt x="22" y="606"/>
                  </a:lnTo>
                  <a:lnTo>
                    <a:pt x="30" y="566"/>
                  </a:lnTo>
                  <a:lnTo>
                    <a:pt x="40" y="526"/>
                  </a:lnTo>
                  <a:lnTo>
                    <a:pt x="52" y="490"/>
                  </a:lnTo>
                  <a:lnTo>
                    <a:pt x="66" y="454"/>
                  </a:lnTo>
                  <a:lnTo>
                    <a:pt x="82" y="418"/>
                  </a:lnTo>
                  <a:lnTo>
                    <a:pt x="98" y="384"/>
                  </a:lnTo>
                  <a:lnTo>
                    <a:pt x="118" y="352"/>
                  </a:lnTo>
                  <a:lnTo>
                    <a:pt x="138" y="320"/>
                  </a:lnTo>
                  <a:lnTo>
                    <a:pt x="160" y="290"/>
                  </a:lnTo>
                  <a:lnTo>
                    <a:pt x="182" y="260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36" y="204"/>
                  </a:lnTo>
                  <a:lnTo>
                    <a:pt x="266" y="178"/>
                  </a:lnTo>
                  <a:lnTo>
                    <a:pt x="296" y="154"/>
                  </a:lnTo>
                  <a:lnTo>
                    <a:pt x="328" y="130"/>
                  </a:lnTo>
                  <a:lnTo>
                    <a:pt x="360" y="110"/>
                  </a:lnTo>
                  <a:lnTo>
                    <a:pt x="394" y="90"/>
                  </a:lnTo>
                  <a:lnTo>
                    <a:pt x="430" y="74"/>
                  </a:lnTo>
                  <a:lnTo>
                    <a:pt x="466" y="58"/>
                  </a:lnTo>
                  <a:lnTo>
                    <a:pt x="504" y="44"/>
                  </a:lnTo>
                  <a:lnTo>
                    <a:pt x="544" y="32"/>
                  </a:lnTo>
                  <a:lnTo>
                    <a:pt x="584" y="22"/>
                  </a:lnTo>
                  <a:lnTo>
                    <a:pt x="626" y="14"/>
                  </a:lnTo>
                  <a:lnTo>
                    <a:pt x="670" y="8"/>
                  </a:lnTo>
                  <a:lnTo>
                    <a:pt x="714" y="4"/>
                  </a:lnTo>
                  <a:lnTo>
                    <a:pt x="760" y="0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848" y="0"/>
                  </a:lnTo>
                  <a:lnTo>
                    <a:pt x="888" y="2"/>
                  </a:lnTo>
                  <a:lnTo>
                    <a:pt x="928" y="6"/>
                  </a:lnTo>
                  <a:lnTo>
                    <a:pt x="966" y="10"/>
                  </a:lnTo>
                  <a:lnTo>
                    <a:pt x="1002" y="16"/>
                  </a:lnTo>
                  <a:lnTo>
                    <a:pt x="1038" y="22"/>
                  </a:lnTo>
                  <a:lnTo>
                    <a:pt x="1074" y="30"/>
                  </a:lnTo>
                  <a:lnTo>
                    <a:pt x="1108" y="40"/>
                  </a:lnTo>
                  <a:lnTo>
                    <a:pt x="1140" y="50"/>
                  </a:lnTo>
                  <a:lnTo>
                    <a:pt x="1172" y="62"/>
                  </a:lnTo>
                  <a:lnTo>
                    <a:pt x="1202" y="76"/>
                  </a:lnTo>
                  <a:lnTo>
                    <a:pt x="1232" y="90"/>
                  </a:lnTo>
                  <a:lnTo>
                    <a:pt x="1260" y="106"/>
                  </a:lnTo>
                  <a:lnTo>
                    <a:pt x="1286" y="122"/>
                  </a:lnTo>
                  <a:lnTo>
                    <a:pt x="1312" y="140"/>
                  </a:lnTo>
                  <a:lnTo>
                    <a:pt x="1338" y="160"/>
                  </a:lnTo>
                  <a:lnTo>
                    <a:pt x="1338" y="160"/>
                  </a:lnTo>
                  <a:lnTo>
                    <a:pt x="1362" y="182"/>
                  </a:lnTo>
                  <a:lnTo>
                    <a:pt x="1386" y="206"/>
                  </a:lnTo>
                  <a:lnTo>
                    <a:pt x="1408" y="230"/>
                  </a:lnTo>
                  <a:lnTo>
                    <a:pt x="1428" y="256"/>
                  </a:lnTo>
                  <a:lnTo>
                    <a:pt x="1446" y="282"/>
                  </a:lnTo>
                  <a:lnTo>
                    <a:pt x="1464" y="310"/>
                  </a:lnTo>
                  <a:lnTo>
                    <a:pt x="1480" y="338"/>
                  </a:lnTo>
                  <a:lnTo>
                    <a:pt x="1494" y="368"/>
                  </a:lnTo>
                  <a:lnTo>
                    <a:pt x="1506" y="400"/>
                  </a:lnTo>
                  <a:lnTo>
                    <a:pt x="1516" y="432"/>
                  </a:lnTo>
                  <a:lnTo>
                    <a:pt x="1524" y="466"/>
                  </a:lnTo>
                  <a:lnTo>
                    <a:pt x="1532" y="500"/>
                  </a:lnTo>
                  <a:lnTo>
                    <a:pt x="1538" y="536"/>
                  </a:lnTo>
                  <a:lnTo>
                    <a:pt x="1542" y="572"/>
                  </a:lnTo>
                  <a:lnTo>
                    <a:pt x="1544" y="612"/>
                  </a:lnTo>
                  <a:lnTo>
                    <a:pt x="1544" y="650"/>
                  </a:lnTo>
                  <a:lnTo>
                    <a:pt x="1544" y="650"/>
                  </a:lnTo>
                  <a:close/>
                  <a:moveTo>
                    <a:pt x="648" y="312"/>
                  </a:moveTo>
                  <a:lnTo>
                    <a:pt x="648" y="312"/>
                  </a:lnTo>
                  <a:lnTo>
                    <a:pt x="648" y="278"/>
                  </a:lnTo>
                  <a:lnTo>
                    <a:pt x="646" y="256"/>
                  </a:lnTo>
                  <a:lnTo>
                    <a:pt x="646" y="256"/>
                  </a:lnTo>
                  <a:lnTo>
                    <a:pt x="600" y="268"/>
                  </a:lnTo>
                  <a:lnTo>
                    <a:pt x="558" y="284"/>
                  </a:lnTo>
                  <a:lnTo>
                    <a:pt x="516" y="302"/>
                  </a:lnTo>
                  <a:lnTo>
                    <a:pt x="480" y="324"/>
                  </a:lnTo>
                  <a:lnTo>
                    <a:pt x="444" y="350"/>
                  </a:lnTo>
                  <a:lnTo>
                    <a:pt x="412" y="378"/>
                  </a:lnTo>
                  <a:lnTo>
                    <a:pt x="382" y="410"/>
                  </a:lnTo>
                  <a:lnTo>
                    <a:pt x="354" y="444"/>
                  </a:lnTo>
                  <a:lnTo>
                    <a:pt x="354" y="444"/>
                  </a:lnTo>
                  <a:lnTo>
                    <a:pt x="330" y="484"/>
                  </a:lnTo>
                  <a:lnTo>
                    <a:pt x="308" y="524"/>
                  </a:lnTo>
                  <a:lnTo>
                    <a:pt x="290" y="566"/>
                  </a:lnTo>
                  <a:lnTo>
                    <a:pt x="276" y="612"/>
                  </a:lnTo>
                  <a:lnTo>
                    <a:pt x="264" y="660"/>
                  </a:lnTo>
                  <a:lnTo>
                    <a:pt x="256" y="710"/>
                  </a:lnTo>
                  <a:lnTo>
                    <a:pt x="252" y="762"/>
                  </a:lnTo>
                  <a:lnTo>
                    <a:pt x="250" y="818"/>
                  </a:lnTo>
                  <a:lnTo>
                    <a:pt x="250" y="818"/>
                  </a:lnTo>
                  <a:lnTo>
                    <a:pt x="250" y="864"/>
                  </a:lnTo>
                  <a:lnTo>
                    <a:pt x="256" y="904"/>
                  </a:lnTo>
                  <a:lnTo>
                    <a:pt x="262" y="938"/>
                  </a:lnTo>
                  <a:lnTo>
                    <a:pt x="272" y="966"/>
                  </a:lnTo>
                  <a:lnTo>
                    <a:pt x="278" y="976"/>
                  </a:lnTo>
                  <a:lnTo>
                    <a:pt x="286" y="986"/>
                  </a:lnTo>
                  <a:lnTo>
                    <a:pt x="292" y="996"/>
                  </a:lnTo>
                  <a:lnTo>
                    <a:pt x="302" y="1002"/>
                  </a:lnTo>
                  <a:lnTo>
                    <a:pt x="310" y="1008"/>
                  </a:lnTo>
                  <a:lnTo>
                    <a:pt x="320" y="1012"/>
                  </a:lnTo>
                  <a:lnTo>
                    <a:pt x="330" y="1014"/>
                  </a:lnTo>
                  <a:lnTo>
                    <a:pt x="342" y="1014"/>
                  </a:lnTo>
                  <a:lnTo>
                    <a:pt x="342" y="1014"/>
                  </a:lnTo>
                  <a:lnTo>
                    <a:pt x="354" y="1012"/>
                  </a:lnTo>
                  <a:lnTo>
                    <a:pt x="366" y="1008"/>
                  </a:lnTo>
                  <a:lnTo>
                    <a:pt x="380" y="1002"/>
                  </a:lnTo>
                  <a:lnTo>
                    <a:pt x="394" y="994"/>
                  </a:lnTo>
                  <a:lnTo>
                    <a:pt x="408" y="982"/>
                  </a:lnTo>
                  <a:lnTo>
                    <a:pt x="422" y="966"/>
                  </a:lnTo>
                  <a:lnTo>
                    <a:pt x="438" y="950"/>
                  </a:lnTo>
                  <a:lnTo>
                    <a:pt x="454" y="930"/>
                  </a:lnTo>
                  <a:lnTo>
                    <a:pt x="454" y="930"/>
                  </a:lnTo>
                  <a:lnTo>
                    <a:pt x="474" y="904"/>
                  </a:lnTo>
                  <a:lnTo>
                    <a:pt x="492" y="878"/>
                  </a:lnTo>
                  <a:lnTo>
                    <a:pt x="510" y="852"/>
                  </a:lnTo>
                  <a:lnTo>
                    <a:pt x="526" y="822"/>
                  </a:lnTo>
                  <a:lnTo>
                    <a:pt x="542" y="792"/>
                  </a:lnTo>
                  <a:lnTo>
                    <a:pt x="558" y="758"/>
                  </a:lnTo>
                  <a:lnTo>
                    <a:pt x="572" y="726"/>
                  </a:lnTo>
                  <a:lnTo>
                    <a:pt x="584" y="690"/>
                  </a:lnTo>
                  <a:lnTo>
                    <a:pt x="584" y="690"/>
                  </a:lnTo>
                  <a:lnTo>
                    <a:pt x="600" y="646"/>
                  </a:lnTo>
                  <a:lnTo>
                    <a:pt x="612" y="600"/>
                  </a:lnTo>
                  <a:lnTo>
                    <a:pt x="624" y="554"/>
                  </a:lnTo>
                  <a:lnTo>
                    <a:pt x="632" y="506"/>
                  </a:lnTo>
                  <a:lnTo>
                    <a:pt x="638" y="458"/>
                  </a:lnTo>
                  <a:lnTo>
                    <a:pt x="644" y="410"/>
                  </a:lnTo>
                  <a:lnTo>
                    <a:pt x="646" y="362"/>
                  </a:lnTo>
                  <a:lnTo>
                    <a:pt x="648" y="312"/>
                  </a:lnTo>
                  <a:lnTo>
                    <a:pt x="648" y="31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23949000" y="6156360"/>
              <a:ext cx="3321000" cy="326052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260520"/>
                <a:gd name="textAreaBottom" fmla="*/ 3260880 h 3260520"/>
              </a:gdLst>
              <a:ahLst/>
              <a:rect l="textAreaLeft" t="textAreaTop" r="textAreaRight" b="textAreaBottom"/>
              <a:pathLst>
                <a:path w="2092" h="2054">
                  <a:moveTo>
                    <a:pt x="1886" y="228"/>
                  </a:moveTo>
                  <a:lnTo>
                    <a:pt x="1886" y="228"/>
                  </a:lnTo>
                  <a:lnTo>
                    <a:pt x="1850" y="260"/>
                  </a:lnTo>
                  <a:lnTo>
                    <a:pt x="1808" y="300"/>
                  </a:lnTo>
                  <a:lnTo>
                    <a:pt x="1808" y="300"/>
                  </a:lnTo>
                  <a:lnTo>
                    <a:pt x="1756" y="346"/>
                  </a:lnTo>
                  <a:lnTo>
                    <a:pt x="1704" y="390"/>
                  </a:lnTo>
                  <a:lnTo>
                    <a:pt x="1652" y="434"/>
                  </a:lnTo>
                  <a:lnTo>
                    <a:pt x="1594" y="478"/>
                  </a:lnTo>
                  <a:lnTo>
                    <a:pt x="1534" y="524"/>
                  </a:lnTo>
                  <a:lnTo>
                    <a:pt x="1466" y="572"/>
                  </a:lnTo>
                  <a:lnTo>
                    <a:pt x="1306" y="682"/>
                  </a:lnTo>
                  <a:lnTo>
                    <a:pt x="1306" y="682"/>
                  </a:lnTo>
                  <a:lnTo>
                    <a:pt x="1370" y="724"/>
                  </a:lnTo>
                  <a:lnTo>
                    <a:pt x="1428" y="766"/>
                  </a:lnTo>
                  <a:lnTo>
                    <a:pt x="1634" y="766"/>
                  </a:lnTo>
                  <a:lnTo>
                    <a:pt x="1634" y="766"/>
                  </a:lnTo>
                  <a:lnTo>
                    <a:pt x="1722" y="764"/>
                  </a:lnTo>
                  <a:lnTo>
                    <a:pt x="1794" y="762"/>
                  </a:lnTo>
                  <a:lnTo>
                    <a:pt x="1852" y="758"/>
                  </a:lnTo>
                  <a:lnTo>
                    <a:pt x="1894" y="752"/>
                  </a:lnTo>
                  <a:lnTo>
                    <a:pt x="2092" y="960"/>
                  </a:lnTo>
                  <a:lnTo>
                    <a:pt x="2092" y="960"/>
                  </a:lnTo>
                  <a:lnTo>
                    <a:pt x="2080" y="970"/>
                  </a:lnTo>
                  <a:lnTo>
                    <a:pt x="2072" y="982"/>
                  </a:lnTo>
                  <a:lnTo>
                    <a:pt x="2038" y="1030"/>
                  </a:lnTo>
                  <a:lnTo>
                    <a:pt x="2038" y="1030"/>
                  </a:lnTo>
                  <a:lnTo>
                    <a:pt x="1974" y="1120"/>
                  </a:lnTo>
                  <a:lnTo>
                    <a:pt x="1914" y="1202"/>
                  </a:lnTo>
                  <a:lnTo>
                    <a:pt x="1856" y="1280"/>
                  </a:lnTo>
                  <a:lnTo>
                    <a:pt x="1796" y="1352"/>
                  </a:lnTo>
                  <a:lnTo>
                    <a:pt x="1736" y="1420"/>
                  </a:lnTo>
                  <a:lnTo>
                    <a:pt x="1672" y="1486"/>
                  </a:lnTo>
                  <a:lnTo>
                    <a:pt x="1604" y="1554"/>
                  </a:lnTo>
                  <a:lnTo>
                    <a:pt x="1532" y="1620"/>
                  </a:lnTo>
                  <a:lnTo>
                    <a:pt x="1532" y="1620"/>
                  </a:lnTo>
                  <a:lnTo>
                    <a:pt x="1500" y="1582"/>
                  </a:lnTo>
                  <a:lnTo>
                    <a:pt x="1470" y="1546"/>
                  </a:lnTo>
                  <a:lnTo>
                    <a:pt x="1438" y="1514"/>
                  </a:lnTo>
                  <a:lnTo>
                    <a:pt x="1408" y="1484"/>
                  </a:lnTo>
                  <a:lnTo>
                    <a:pt x="1376" y="1456"/>
                  </a:lnTo>
                  <a:lnTo>
                    <a:pt x="1342" y="1428"/>
                  </a:lnTo>
                  <a:lnTo>
                    <a:pt x="1304" y="1400"/>
                  </a:lnTo>
                  <a:lnTo>
                    <a:pt x="1264" y="1372"/>
                  </a:lnTo>
                  <a:lnTo>
                    <a:pt x="1264" y="1372"/>
                  </a:lnTo>
                  <a:lnTo>
                    <a:pt x="1310" y="1340"/>
                  </a:lnTo>
                  <a:lnTo>
                    <a:pt x="1354" y="1306"/>
                  </a:lnTo>
                  <a:lnTo>
                    <a:pt x="1392" y="1276"/>
                  </a:lnTo>
                  <a:lnTo>
                    <a:pt x="1430" y="1244"/>
                  </a:lnTo>
                  <a:lnTo>
                    <a:pt x="1466" y="1210"/>
                  </a:lnTo>
                  <a:lnTo>
                    <a:pt x="1504" y="1172"/>
                  </a:lnTo>
                  <a:lnTo>
                    <a:pt x="1542" y="1132"/>
                  </a:lnTo>
                  <a:lnTo>
                    <a:pt x="1582" y="1088"/>
                  </a:lnTo>
                  <a:lnTo>
                    <a:pt x="1186" y="1088"/>
                  </a:lnTo>
                  <a:lnTo>
                    <a:pt x="1186" y="1764"/>
                  </a:lnTo>
                  <a:lnTo>
                    <a:pt x="1186" y="1764"/>
                  </a:lnTo>
                  <a:lnTo>
                    <a:pt x="1186" y="1810"/>
                  </a:lnTo>
                  <a:lnTo>
                    <a:pt x="1180" y="1854"/>
                  </a:lnTo>
                  <a:lnTo>
                    <a:pt x="1172" y="1890"/>
                  </a:lnTo>
                  <a:lnTo>
                    <a:pt x="1166" y="1906"/>
                  </a:lnTo>
                  <a:lnTo>
                    <a:pt x="1160" y="1922"/>
                  </a:lnTo>
                  <a:lnTo>
                    <a:pt x="1152" y="1936"/>
                  </a:lnTo>
                  <a:lnTo>
                    <a:pt x="1144" y="1950"/>
                  </a:lnTo>
                  <a:lnTo>
                    <a:pt x="1134" y="1962"/>
                  </a:lnTo>
                  <a:lnTo>
                    <a:pt x="1122" y="1972"/>
                  </a:lnTo>
                  <a:lnTo>
                    <a:pt x="1112" y="1984"/>
                  </a:lnTo>
                  <a:lnTo>
                    <a:pt x="1098" y="1992"/>
                  </a:lnTo>
                  <a:lnTo>
                    <a:pt x="1084" y="2002"/>
                  </a:lnTo>
                  <a:lnTo>
                    <a:pt x="1070" y="2010"/>
                  </a:lnTo>
                  <a:lnTo>
                    <a:pt x="1070" y="2010"/>
                  </a:lnTo>
                  <a:lnTo>
                    <a:pt x="1042" y="2020"/>
                  </a:lnTo>
                  <a:lnTo>
                    <a:pt x="1010" y="2030"/>
                  </a:lnTo>
                  <a:lnTo>
                    <a:pt x="970" y="2038"/>
                  </a:lnTo>
                  <a:lnTo>
                    <a:pt x="924" y="2044"/>
                  </a:lnTo>
                  <a:lnTo>
                    <a:pt x="868" y="2050"/>
                  </a:lnTo>
                  <a:lnTo>
                    <a:pt x="804" y="2052"/>
                  </a:lnTo>
                  <a:lnTo>
                    <a:pt x="730" y="2054"/>
                  </a:lnTo>
                  <a:lnTo>
                    <a:pt x="644" y="2054"/>
                  </a:lnTo>
                  <a:lnTo>
                    <a:pt x="644" y="2054"/>
                  </a:lnTo>
                  <a:lnTo>
                    <a:pt x="590" y="2054"/>
                  </a:lnTo>
                  <a:lnTo>
                    <a:pt x="502" y="2052"/>
                  </a:lnTo>
                  <a:lnTo>
                    <a:pt x="502" y="2052"/>
                  </a:lnTo>
                  <a:lnTo>
                    <a:pt x="496" y="2004"/>
                  </a:lnTo>
                  <a:lnTo>
                    <a:pt x="488" y="1960"/>
                  </a:lnTo>
                  <a:lnTo>
                    <a:pt x="480" y="1918"/>
                  </a:lnTo>
                  <a:lnTo>
                    <a:pt x="470" y="1876"/>
                  </a:lnTo>
                  <a:lnTo>
                    <a:pt x="458" y="1834"/>
                  </a:lnTo>
                  <a:lnTo>
                    <a:pt x="444" y="1792"/>
                  </a:lnTo>
                  <a:lnTo>
                    <a:pt x="426" y="1748"/>
                  </a:lnTo>
                  <a:lnTo>
                    <a:pt x="408" y="1700"/>
                  </a:lnTo>
                  <a:lnTo>
                    <a:pt x="408" y="1700"/>
                  </a:lnTo>
                  <a:lnTo>
                    <a:pt x="504" y="1712"/>
                  </a:lnTo>
                  <a:lnTo>
                    <a:pt x="586" y="1718"/>
                  </a:lnTo>
                  <a:lnTo>
                    <a:pt x="664" y="1722"/>
                  </a:lnTo>
                  <a:lnTo>
                    <a:pt x="750" y="1722"/>
                  </a:lnTo>
                  <a:lnTo>
                    <a:pt x="750" y="1722"/>
                  </a:lnTo>
                  <a:lnTo>
                    <a:pt x="774" y="1722"/>
                  </a:lnTo>
                  <a:lnTo>
                    <a:pt x="790" y="1720"/>
                  </a:lnTo>
                  <a:lnTo>
                    <a:pt x="804" y="1716"/>
                  </a:lnTo>
                  <a:lnTo>
                    <a:pt x="814" y="1712"/>
                  </a:lnTo>
                  <a:lnTo>
                    <a:pt x="820" y="1704"/>
                  </a:lnTo>
                  <a:lnTo>
                    <a:pt x="824" y="1694"/>
                  </a:lnTo>
                  <a:lnTo>
                    <a:pt x="828" y="1680"/>
                  </a:lnTo>
                  <a:lnTo>
                    <a:pt x="828" y="1662"/>
                  </a:lnTo>
                  <a:lnTo>
                    <a:pt x="828" y="1088"/>
                  </a:lnTo>
                  <a:lnTo>
                    <a:pt x="338" y="1088"/>
                  </a:lnTo>
                  <a:lnTo>
                    <a:pt x="338" y="1088"/>
                  </a:lnTo>
                  <a:lnTo>
                    <a:pt x="232" y="1090"/>
                  </a:lnTo>
                  <a:lnTo>
                    <a:pt x="144" y="1092"/>
                  </a:lnTo>
                  <a:lnTo>
                    <a:pt x="68" y="1096"/>
                  </a:lnTo>
                  <a:lnTo>
                    <a:pt x="0" y="1102"/>
                  </a:lnTo>
                  <a:lnTo>
                    <a:pt x="0" y="752"/>
                  </a:lnTo>
                  <a:lnTo>
                    <a:pt x="0" y="752"/>
                  </a:lnTo>
                  <a:lnTo>
                    <a:pt x="64" y="758"/>
                  </a:lnTo>
                  <a:lnTo>
                    <a:pt x="138" y="762"/>
                  </a:lnTo>
                  <a:lnTo>
                    <a:pt x="228" y="764"/>
                  </a:lnTo>
                  <a:lnTo>
                    <a:pt x="342" y="766"/>
                  </a:lnTo>
                  <a:lnTo>
                    <a:pt x="840" y="766"/>
                  </a:lnTo>
                  <a:lnTo>
                    <a:pt x="840" y="766"/>
                  </a:lnTo>
                  <a:lnTo>
                    <a:pt x="734" y="696"/>
                  </a:lnTo>
                  <a:lnTo>
                    <a:pt x="640" y="636"/>
                  </a:lnTo>
                  <a:lnTo>
                    <a:pt x="546" y="580"/>
                  </a:lnTo>
                  <a:lnTo>
                    <a:pt x="442" y="522"/>
                  </a:lnTo>
                  <a:lnTo>
                    <a:pt x="658" y="336"/>
                  </a:lnTo>
                  <a:lnTo>
                    <a:pt x="502" y="336"/>
                  </a:lnTo>
                  <a:lnTo>
                    <a:pt x="502" y="336"/>
                  </a:lnTo>
                  <a:lnTo>
                    <a:pt x="394" y="338"/>
                  </a:lnTo>
                  <a:lnTo>
                    <a:pt x="314" y="338"/>
                  </a:lnTo>
                  <a:lnTo>
                    <a:pt x="250" y="342"/>
                  </a:lnTo>
                  <a:lnTo>
                    <a:pt x="188" y="348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56" y="8"/>
                  </a:lnTo>
                  <a:lnTo>
                    <a:pt x="326" y="12"/>
                  </a:lnTo>
                  <a:lnTo>
                    <a:pt x="408" y="14"/>
                  </a:lnTo>
                  <a:lnTo>
                    <a:pt x="510" y="14"/>
                  </a:lnTo>
                  <a:lnTo>
                    <a:pt x="1476" y="14"/>
                  </a:lnTo>
                  <a:lnTo>
                    <a:pt x="1476" y="14"/>
                  </a:lnTo>
                  <a:lnTo>
                    <a:pt x="1552" y="14"/>
                  </a:lnTo>
                  <a:lnTo>
                    <a:pt x="1608" y="12"/>
                  </a:lnTo>
                  <a:lnTo>
                    <a:pt x="1654" y="8"/>
                  </a:lnTo>
                  <a:lnTo>
                    <a:pt x="1696" y="2"/>
                  </a:lnTo>
                  <a:lnTo>
                    <a:pt x="1886" y="228"/>
                  </a:lnTo>
                  <a:close/>
                  <a:moveTo>
                    <a:pt x="726" y="336"/>
                  </a:moveTo>
                  <a:lnTo>
                    <a:pt x="726" y="336"/>
                  </a:lnTo>
                  <a:lnTo>
                    <a:pt x="852" y="404"/>
                  </a:lnTo>
                  <a:lnTo>
                    <a:pt x="1012" y="496"/>
                  </a:lnTo>
                  <a:lnTo>
                    <a:pt x="1012" y="496"/>
                  </a:lnTo>
                  <a:lnTo>
                    <a:pt x="1072" y="464"/>
                  </a:lnTo>
                  <a:lnTo>
                    <a:pt x="1126" y="430"/>
                  </a:lnTo>
                  <a:lnTo>
                    <a:pt x="1180" y="390"/>
                  </a:lnTo>
                  <a:lnTo>
                    <a:pt x="1248" y="336"/>
                  </a:lnTo>
                  <a:lnTo>
                    <a:pt x="726" y="33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27543240" y="6073920"/>
              <a:ext cx="3276360" cy="338436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3384360"/>
                <a:gd name="textAreaBottom" fmla="*/ 3384720 h 3384360"/>
              </a:gdLst>
              <a:ahLst/>
              <a:rect l="textAreaLeft" t="textAreaTop" r="textAreaRight" b="textAreaBottom"/>
              <a:pathLst>
                <a:path w="2064" h="2132">
                  <a:moveTo>
                    <a:pt x="922" y="606"/>
                  </a:moveTo>
                  <a:lnTo>
                    <a:pt x="922" y="606"/>
                  </a:lnTo>
                  <a:lnTo>
                    <a:pt x="888" y="606"/>
                  </a:lnTo>
                  <a:lnTo>
                    <a:pt x="858" y="608"/>
                  </a:lnTo>
                  <a:lnTo>
                    <a:pt x="830" y="610"/>
                  </a:lnTo>
                  <a:lnTo>
                    <a:pt x="798" y="614"/>
                  </a:lnTo>
                  <a:lnTo>
                    <a:pt x="798" y="424"/>
                  </a:lnTo>
                  <a:lnTo>
                    <a:pt x="798" y="424"/>
                  </a:lnTo>
                  <a:lnTo>
                    <a:pt x="760" y="542"/>
                  </a:lnTo>
                  <a:lnTo>
                    <a:pt x="722" y="642"/>
                  </a:lnTo>
                  <a:lnTo>
                    <a:pt x="704" y="686"/>
                  </a:lnTo>
                  <a:lnTo>
                    <a:pt x="686" y="728"/>
                  </a:lnTo>
                  <a:lnTo>
                    <a:pt x="668" y="770"/>
                  </a:lnTo>
                  <a:lnTo>
                    <a:pt x="648" y="808"/>
                  </a:lnTo>
                  <a:lnTo>
                    <a:pt x="648" y="808"/>
                  </a:lnTo>
                  <a:lnTo>
                    <a:pt x="696" y="884"/>
                  </a:lnTo>
                  <a:lnTo>
                    <a:pt x="716" y="914"/>
                  </a:lnTo>
                  <a:lnTo>
                    <a:pt x="732" y="944"/>
                  </a:lnTo>
                  <a:lnTo>
                    <a:pt x="746" y="972"/>
                  </a:lnTo>
                  <a:lnTo>
                    <a:pt x="758" y="998"/>
                  </a:lnTo>
                  <a:lnTo>
                    <a:pt x="768" y="1024"/>
                  </a:lnTo>
                  <a:lnTo>
                    <a:pt x="778" y="1052"/>
                  </a:lnTo>
                  <a:lnTo>
                    <a:pt x="778" y="1052"/>
                  </a:lnTo>
                  <a:lnTo>
                    <a:pt x="792" y="1104"/>
                  </a:lnTo>
                  <a:lnTo>
                    <a:pt x="802" y="1160"/>
                  </a:lnTo>
                  <a:lnTo>
                    <a:pt x="810" y="1214"/>
                  </a:lnTo>
                  <a:lnTo>
                    <a:pt x="812" y="1266"/>
                  </a:lnTo>
                  <a:lnTo>
                    <a:pt x="812" y="1266"/>
                  </a:lnTo>
                  <a:lnTo>
                    <a:pt x="810" y="1306"/>
                  </a:lnTo>
                  <a:lnTo>
                    <a:pt x="806" y="1342"/>
                  </a:lnTo>
                  <a:lnTo>
                    <a:pt x="798" y="1376"/>
                  </a:lnTo>
                  <a:lnTo>
                    <a:pt x="788" y="1410"/>
                  </a:lnTo>
                  <a:lnTo>
                    <a:pt x="774" y="1440"/>
                  </a:lnTo>
                  <a:lnTo>
                    <a:pt x="758" y="1468"/>
                  </a:lnTo>
                  <a:lnTo>
                    <a:pt x="738" y="1492"/>
                  </a:lnTo>
                  <a:lnTo>
                    <a:pt x="716" y="1516"/>
                  </a:lnTo>
                  <a:lnTo>
                    <a:pt x="692" y="1536"/>
                  </a:lnTo>
                  <a:lnTo>
                    <a:pt x="664" y="1554"/>
                  </a:lnTo>
                  <a:lnTo>
                    <a:pt x="634" y="1570"/>
                  </a:lnTo>
                  <a:lnTo>
                    <a:pt x="602" y="1582"/>
                  </a:lnTo>
                  <a:lnTo>
                    <a:pt x="566" y="1592"/>
                  </a:lnTo>
                  <a:lnTo>
                    <a:pt x="530" y="1600"/>
                  </a:lnTo>
                  <a:lnTo>
                    <a:pt x="490" y="1604"/>
                  </a:lnTo>
                  <a:lnTo>
                    <a:pt x="448" y="1606"/>
                  </a:lnTo>
                  <a:lnTo>
                    <a:pt x="448" y="1606"/>
                  </a:lnTo>
                  <a:lnTo>
                    <a:pt x="412" y="1606"/>
                  </a:lnTo>
                  <a:lnTo>
                    <a:pt x="412" y="1606"/>
                  </a:lnTo>
                  <a:lnTo>
                    <a:pt x="410" y="1550"/>
                  </a:lnTo>
                  <a:lnTo>
                    <a:pt x="406" y="1502"/>
                  </a:lnTo>
                  <a:lnTo>
                    <a:pt x="402" y="1460"/>
                  </a:lnTo>
                  <a:lnTo>
                    <a:pt x="396" y="1422"/>
                  </a:lnTo>
                  <a:lnTo>
                    <a:pt x="386" y="1388"/>
                  </a:lnTo>
                  <a:lnTo>
                    <a:pt x="376" y="1356"/>
                  </a:lnTo>
                  <a:lnTo>
                    <a:pt x="364" y="1322"/>
                  </a:lnTo>
                  <a:lnTo>
                    <a:pt x="348" y="1290"/>
                  </a:lnTo>
                  <a:lnTo>
                    <a:pt x="348" y="1290"/>
                  </a:lnTo>
                  <a:lnTo>
                    <a:pt x="390" y="1294"/>
                  </a:lnTo>
                  <a:lnTo>
                    <a:pt x="410" y="1294"/>
                  </a:lnTo>
                  <a:lnTo>
                    <a:pt x="410" y="1294"/>
                  </a:lnTo>
                  <a:lnTo>
                    <a:pt x="432" y="1292"/>
                  </a:lnTo>
                  <a:lnTo>
                    <a:pt x="448" y="1290"/>
                  </a:lnTo>
                  <a:lnTo>
                    <a:pt x="462" y="1284"/>
                  </a:lnTo>
                  <a:lnTo>
                    <a:pt x="466" y="1280"/>
                  </a:lnTo>
                  <a:lnTo>
                    <a:pt x="472" y="1274"/>
                  </a:lnTo>
                  <a:lnTo>
                    <a:pt x="478" y="1262"/>
                  </a:lnTo>
                  <a:lnTo>
                    <a:pt x="482" y="1244"/>
                  </a:lnTo>
                  <a:lnTo>
                    <a:pt x="484" y="1220"/>
                  </a:lnTo>
                  <a:lnTo>
                    <a:pt x="484" y="1190"/>
                  </a:lnTo>
                  <a:lnTo>
                    <a:pt x="484" y="1190"/>
                  </a:lnTo>
                  <a:lnTo>
                    <a:pt x="482" y="1144"/>
                  </a:lnTo>
                  <a:lnTo>
                    <a:pt x="476" y="1100"/>
                  </a:lnTo>
                  <a:lnTo>
                    <a:pt x="466" y="1056"/>
                  </a:lnTo>
                  <a:lnTo>
                    <a:pt x="452" y="1012"/>
                  </a:lnTo>
                  <a:lnTo>
                    <a:pt x="432" y="968"/>
                  </a:lnTo>
                  <a:lnTo>
                    <a:pt x="408" y="922"/>
                  </a:lnTo>
                  <a:lnTo>
                    <a:pt x="380" y="876"/>
                  </a:lnTo>
                  <a:lnTo>
                    <a:pt x="344" y="826"/>
                  </a:lnTo>
                  <a:lnTo>
                    <a:pt x="344" y="1816"/>
                  </a:lnTo>
                  <a:lnTo>
                    <a:pt x="344" y="1816"/>
                  </a:lnTo>
                  <a:lnTo>
                    <a:pt x="346" y="1892"/>
                  </a:lnTo>
                  <a:lnTo>
                    <a:pt x="348" y="1968"/>
                  </a:lnTo>
                  <a:lnTo>
                    <a:pt x="352" y="2044"/>
                  </a:lnTo>
                  <a:lnTo>
                    <a:pt x="358" y="2118"/>
                  </a:lnTo>
                  <a:lnTo>
                    <a:pt x="0" y="2118"/>
                  </a:lnTo>
                  <a:lnTo>
                    <a:pt x="0" y="2118"/>
                  </a:lnTo>
                  <a:lnTo>
                    <a:pt x="6" y="2048"/>
                  </a:lnTo>
                  <a:lnTo>
                    <a:pt x="10" y="1974"/>
                  </a:lnTo>
                  <a:lnTo>
                    <a:pt x="12" y="1894"/>
                  </a:lnTo>
                  <a:lnTo>
                    <a:pt x="12" y="1808"/>
                  </a:lnTo>
                  <a:lnTo>
                    <a:pt x="12" y="308"/>
                  </a:lnTo>
                  <a:lnTo>
                    <a:pt x="12" y="308"/>
                  </a:lnTo>
                  <a:lnTo>
                    <a:pt x="12" y="170"/>
                  </a:lnTo>
                  <a:lnTo>
                    <a:pt x="8" y="10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8" y="54"/>
                  </a:lnTo>
                  <a:lnTo>
                    <a:pt x="92" y="56"/>
                  </a:lnTo>
                  <a:lnTo>
                    <a:pt x="144" y="58"/>
                  </a:lnTo>
                  <a:lnTo>
                    <a:pt x="204" y="58"/>
                  </a:lnTo>
                  <a:lnTo>
                    <a:pt x="558" y="58"/>
                  </a:lnTo>
                  <a:lnTo>
                    <a:pt x="558" y="58"/>
                  </a:lnTo>
                  <a:lnTo>
                    <a:pt x="608" y="58"/>
                  </a:lnTo>
                  <a:lnTo>
                    <a:pt x="648" y="56"/>
                  </a:lnTo>
                  <a:lnTo>
                    <a:pt x="682" y="54"/>
                  </a:lnTo>
                  <a:lnTo>
                    <a:pt x="716" y="50"/>
                  </a:lnTo>
                  <a:lnTo>
                    <a:pt x="858" y="256"/>
                  </a:lnTo>
                  <a:lnTo>
                    <a:pt x="858" y="256"/>
                  </a:lnTo>
                  <a:lnTo>
                    <a:pt x="852" y="268"/>
                  </a:lnTo>
                  <a:lnTo>
                    <a:pt x="848" y="278"/>
                  </a:lnTo>
                  <a:lnTo>
                    <a:pt x="848" y="278"/>
                  </a:lnTo>
                  <a:lnTo>
                    <a:pt x="922" y="282"/>
                  </a:lnTo>
                  <a:lnTo>
                    <a:pt x="992" y="282"/>
                  </a:lnTo>
                  <a:lnTo>
                    <a:pt x="1194" y="282"/>
                  </a:lnTo>
                  <a:lnTo>
                    <a:pt x="1194" y="176"/>
                  </a:lnTo>
                  <a:lnTo>
                    <a:pt x="1194" y="176"/>
                  </a:lnTo>
                  <a:lnTo>
                    <a:pt x="1192" y="122"/>
                  </a:lnTo>
                  <a:lnTo>
                    <a:pt x="1190" y="76"/>
                  </a:lnTo>
                  <a:lnTo>
                    <a:pt x="1186" y="36"/>
                  </a:lnTo>
                  <a:lnTo>
                    <a:pt x="1182" y="0"/>
                  </a:lnTo>
                  <a:lnTo>
                    <a:pt x="1550" y="0"/>
                  </a:lnTo>
                  <a:lnTo>
                    <a:pt x="1550" y="0"/>
                  </a:lnTo>
                  <a:lnTo>
                    <a:pt x="1544" y="38"/>
                  </a:lnTo>
                  <a:lnTo>
                    <a:pt x="1542" y="78"/>
                  </a:lnTo>
                  <a:lnTo>
                    <a:pt x="1540" y="122"/>
                  </a:lnTo>
                  <a:lnTo>
                    <a:pt x="1538" y="176"/>
                  </a:lnTo>
                  <a:lnTo>
                    <a:pt x="1538" y="282"/>
                  </a:lnTo>
                  <a:lnTo>
                    <a:pt x="1808" y="282"/>
                  </a:lnTo>
                  <a:lnTo>
                    <a:pt x="1808" y="282"/>
                  </a:lnTo>
                  <a:lnTo>
                    <a:pt x="1896" y="282"/>
                  </a:lnTo>
                  <a:lnTo>
                    <a:pt x="1960" y="280"/>
                  </a:lnTo>
                  <a:lnTo>
                    <a:pt x="2014" y="276"/>
                  </a:lnTo>
                  <a:lnTo>
                    <a:pt x="2064" y="272"/>
                  </a:lnTo>
                  <a:lnTo>
                    <a:pt x="2064" y="616"/>
                  </a:lnTo>
                  <a:lnTo>
                    <a:pt x="2064" y="616"/>
                  </a:lnTo>
                  <a:lnTo>
                    <a:pt x="2014" y="610"/>
                  </a:lnTo>
                  <a:lnTo>
                    <a:pt x="1960" y="608"/>
                  </a:lnTo>
                  <a:lnTo>
                    <a:pt x="1896" y="606"/>
                  </a:lnTo>
                  <a:lnTo>
                    <a:pt x="1814" y="606"/>
                  </a:lnTo>
                  <a:lnTo>
                    <a:pt x="1354" y="606"/>
                  </a:lnTo>
                  <a:lnTo>
                    <a:pt x="1354" y="606"/>
                  </a:lnTo>
                  <a:lnTo>
                    <a:pt x="1352" y="726"/>
                  </a:lnTo>
                  <a:lnTo>
                    <a:pt x="1350" y="798"/>
                  </a:lnTo>
                  <a:lnTo>
                    <a:pt x="1760" y="798"/>
                  </a:lnTo>
                  <a:lnTo>
                    <a:pt x="1760" y="798"/>
                  </a:lnTo>
                  <a:lnTo>
                    <a:pt x="1818" y="796"/>
                  </a:lnTo>
                  <a:lnTo>
                    <a:pt x="1870" y="796"/>
                  </a:lnTo>
                  <a:lnTo>
                    <a:pt x="1918" y="792"/>
                  </a:lnTo>
                  <a:lnTo>
                    <a:pt x="1970" y="788"/>
                  </a:lnTo>
                  <a:lnTo>
                    <a:pt x="1970" y="788"/>
                  </a:lnTo>
                  <a:lnTo>
                    <a:pt x="1966" y="828"/>
                  </a:lnTo>
                  <a:lnTo>
                    <a:pt x="1964" y="866"/>
                  </a:lnTo>
                  <a:lnTo>
                    <a:pt x="1962" y="984"/>
                  </a:lnTo>
                  <a:lnTo>
                    <a:pt x="1962" y="984"/>
                  </a:lnTo>
                  <a:lnTo>
                    <a:pt x="1958" y="1140"/>
                  </a:lnTo>
                  <a:lnTo>
                    <a:pt x="1952" y="1286"/>
                  </a:lnTo>
                  <a:lnTo>
                    <a:pt x="1946" y="1418"/>
                  </a:lnTo>
                  <a:lnTo>
                    <a:pt x="1936" y="1538"/>
                  </a:lnTo>
                  <a:lnTo>
                    <a:pt x="1926" y="1644"/>
                  </a:lnTo>
                  <a:lnTo>
                    <a:pt x="1916" y="1734"/>
                  </a:lnTo>
                  <a:lnTo>
                    <a:pt x="1902" y="1806"/>
                  </a:lnTo>
                  <a:lnTo>
                    <a:pt x="1896" y="1836"/>
                  </a:lnTo>
                  <a:lnTo>
                    <a:pt x="1888" y="1862"/>
                  </a:lnTo>
                  <a:lnTo>
                    <a:pt x="1888" y="1862"/>
                  </a:lnTo>
                  <a:lnTo>
                    <a:pt x="1876" y="1898"/>
                  </a:lnTo>
                  <a:lnTo>
                    <a:pt x="1862" y="1930"/>
                  </a:lnTo>
                  <a:lnTo>
                    <a:pt x="1844" y="1960"/>
                  </a:lnTo>
                  <a:lnTo>
                    <a:pt x="1826" y="1986"/>
                  </a:lnTo>
                  <a:lnTo>
                    <a:pt x="1806" y="2008"/>
                  </a:lnTo>
                  <a:lnTo>
                    <a:pt x="1784" y="2028"/>
                  </a:lnTo>
                  <a:lnTo>
                    <a:pt x="1760" y="2044"/>
                  </a:lnTo>
                  <a:lnTo>
                    <a:pt x="1736" y="2056"/>
                  </a:lnTo>
                  <a:lnTo>
                    <a:pt x="1736" y="2056"/>
                  </a:lnTo>
                  <a:lnTo>
                    <a:pt x="1708" y="2068"/>
                  </a:lnTo>
                  <a:lnTo>
                    <a:pt x="1680" y="2078"/>
                  </a:lnTo>
                  <a:lnTo>
                    <a:pt x="1646" y="2084"/>
                  </a:lnTo>
                  <a:lnTo>
                    <a:pt x="1612" y="2092"/>
                  </a:lnTo>
                  <a:lnTo>
                    <a:pt x="1574" y="2096"/>
                  </a:lnTo>
                  <a:lnTo>
                    <a:pt x="1532" y="2100"/>
                  </a:lnTo>
                  <a:lnTo>
                    <a:pt x="1488" y="2102"/>
                  </a:lnTo>
                  <a:lnTo>
                    <a:pt x="1442" y="2102"/>
                  </a:lnTo>
                  <a:lnTo>
                    <a:pt x="1442" y="2102"/>
                  </a:lnTo>
                  <a:lnTo>
                    <a:pt x="1370" y="2100"/>
                  </a:lnTo>
                  <a:lnTo>
                    <a:pt x="1220" y="2092"/>
                  </a:lnTo>
                  <a:lnTo>
                    <a:pt x="1220" y="2092"/>
                  </a:lnTo>
                  <a:lnTo>
                    <a:pt x="1218" y="2046"/>
                  </a:lnTo>
                  <a:lnTo>
                    <a:pt x="1214" y="2002"/>
                  </a:lnTo>
                  <a:lnTo>
                    <a:pt x="1208" y="1960"/>
                  </a:lnTo>
                  <a:lnTo>
                    <a:pt x="1200" y="1920"/>
                  </a:lnTo>
                  <a:lnTo>
                    <a:pt x="1190" y="1880"/>
                  </a:lnTo>
                  <a:lnTo>
                    <a:pt x="1180" y="1838"/>
                  </a:lnTo>
                  <a:lnTo>
                    <a:pt x="1166" y="1796"/>
                  </a:lnTo>
                  <a:lnTo>
                    <a:pt x="1150" y="1752"/>
                  </a:lnTo>
                  <a:lnTo>
                    <a:pt x="1150" y="1752"/>
                  </a:lnTo>
                  <a:lnTo>
                    <a:pt x="1232" y="1764"/>
                  </a:lnTo>
                  <a:lnTo>
                    <a:pt x="1304" y="1772"/>
                  </a:lnTo>
                  <a:lnTo>
                    <a:pt x="1368" y="1776"/>
                  </a:lnTo>
                  <a:lnTo>
                    <a:pt x="1426" y="1776"/>
                  </a:lnTo>
                  <a:lnTo>
                    <a:pt x="1426" y="1776"/>
                  </a:lnTo>
                  <a:lnTo>
                    <a:pt x="1464" y="1776"/>
                  </a:lnTo>
                  <a:lnTo>
                    <a:pt x="1494" y="1774"/>
                  </a:lnTo>
                  <a:lnTo>
                    <a:pt x="1508" y="1770"/>
                  </a:lnTo>
                  <a:lnTo>
                    <a:pt x="1518" y="1766"/>
                  </a:lnTo>
                  <a:lnTo>
                    <a:pt x="1528" y="1762"/>
                  </a:lnTo>
                  <a:lnTo>
                    <a:pt x="1536" y="1756"/>
                  </a:lnTo>
                  <a:lnTo>
                    <a:pt x="1542" y="1748"/>
                  </a:lnTo>
                  <a:lnTo>
                    <a:pt x="1548" y="1740"/>
                  </a:lnTo>
                  <a:lnTo>
                    <a:pt x="1554" y="1730"/>
                  </a:lnTo>
                  <a:lnTo>
                    <a:pt x="1560" y="1716"/>
                  </a:lnTo>
                  <a:lnTo>
                    <a:pt x="1568" y="1686"/>
                  </a:lnTo>
                  <a:lnTo>
                    <a:pt x="1578" y="1646"/>
                  </a:lnTo>
                  <a:lnTo>
                    <a:pt x="1578" y="1646"/>
                  </a:lnTo>
                  <a:lnTo>
                    <a:pt x="1584" y="1602"/>
                  </a:lnTo>
                  <a:lnTo>
                    <a:pt x="1592" y="1552"/>
                  </a:lnTo>
                  <a:lnTo>
                    <a:pt x="1598" y="1492"/>
                  </a:lnTo>
                  <a:lnTo>
                    <a:pt x="1602" y="1426"/>
                  </a:lnTo>
                  <a:lnTo>
                    <a:pt x="1610" y="1278"/>
                  </a:lnTo>
                  <a:lnTo>
                    <a:pt x="1614" y="1106"/>
                  </a:lnTo>
                  <a:lnTo>
                    <a:pt x="1316" y="1106"/>
                  </a:lnTo>
                  <a:lnTo>
                    <a:pt x="1316" y="1106"/>
                  </a:lnTo>
                  <a:lnTo>
                    <a:pt x="1300" y="1198"/>
                  </a:lnTo>
                  <a:lnTo>
                    <a:pt x="1282" y="1282"/>
                  </a:lnTo>
                  <a:lnTo>
                    <a:pt x="1262" y="1360"/>
                  </a:lnTo>
                  <a:lnTo>
                    <a:pt x="1240" y="1434"/>
                  </a:lnTo>
                  <a:lnTo>
                    <a:pt x="1216" y="1504"/>
                  </a:lnTo>
                  <a:lnTo>
                    <a:pt x="1186" y="1570"/>
                  </a:lnTo>
                  <a:lnTo>
                    <a:pt x="1156" y="1636"/>
                  </a:lnTo>
                  <a:lnTo>
                    <a:pt x="1120" y="1702"/>
                  </a:lnTo>
                  <a:lnTo>
                    <a:pt x="1120" y="1702"/>
                  </a:lnTo>
                  <a:lnTo>
                    <a:pt x="1084" y="1762"/>
                  </a:lnTo>
                  <a:lnTo>
                    <a:pt x="1046" y="1816"/>
                  </a:lnTo>
                  <a:lnTo>
                    <a:pt x="1008" y="1870"/>
                  </a:lnTo>
                  <a:lnTo>
                    <a:pt x="966" y="1920"/>
                  </a:lnTo>
                  <a:lnTo>
                    <a:pt x="918" y="1972"/>
                  </a:lnTo>
                  <a:lnTo>
                    <a:pt x="868" y="2024"/>
                  </a:lnTo>
                  <a:lnTo>
                    <a:pt x="810" y="2076"/>
                  </a:lnTo>
                  <a:lnTo>
                    <a:pt x="746" y="2132"/>
                  </a:lnTo>
                  <a:lnTo>
                    <a:pt x="746" y="2132"/>
                  </a:lnTo>
                  <a:lnTo>
                    <a:pt x="716" y="2088"/>
                  </a:lnTo>
                  <a:lnTo>
                    <a:pt x="684" y="2050"/>
                  </a:lnTo>
                  <a:lnTo>
                    <a:pt x="654" y="2014"/>
                  </a:lnTo>
                  <a:lnTo>
                    <a:pt x="622" y="1978"/>
                  </a:lnTo>
                  <a:lnTo>
                    <a:pt x="590" y="1946"/>
                  </a:lnTo>
                  <a:lnTo>
                    <a:pt x="556" y="1914"/>
                  </a:lnTo>
                  <a:lnTo>
                    <a:pt x="518" y="1880"/>
                  </a:lnTo>
                  <a:lnTo>
                    <a:pt x="478" y="1846"/>
                  </a:lnTo>
                  <a:lnTo>
                    <a:pt x="478" y="1846"/>
                  </a:lnTo>
                  <a:lnTo>
                    <a:pt x="522" y="1816"/>
                  </a:lnTo>
                  <a:lnTo>
                    <a:pt x="564" y="1786"/>
                  </a:lnTo>
                  <a:lnTo>
                    <a:pt x="602" y="1756"/>
                  </a:lnTo>
                  <a:lnTo>
                    <a:pt x="640" y="1724"/>
                  </a:lnTo>
                  <a:lnTo>
                    <a:pt x="674" y="1692"/>
                  </a:lnTo>
                  <a:lnTo>
                    <a:pt x="706" y="1660"/>
                  </a:lnTo>
                  <a:lnTo>
                    <a:pt x="736" y="1628"/>
                  </a:lnTo>
                  <a:lnTo>
                    <a:pt x="764" y="1594"/>
                  </a:lnTo>
                  <a:lnTo>
                    <a:pt x="790" y="1558"/>
                  </a:lnTo>
                  <a:lnTo>
                    <a:pt x="816" y="1522"/>
                  </a:lnTo>
                  <a:lnTo>
                    <a:pt x="838" y="1486"/>
                  </a:lnTo>
                  <a:lnTo>
                    <a:pt x="858" y="1448"/>
                  </a:lnTo>
                  <a:lnTo>
                    <a:pt x="878" y="1408"/>
                  </a:lnTo>
                  <a:lnTo>
                    <a:pt x="896" y="1366"/>
                  </a:lnTo>
                  <a:lnTo>
                    <a:pt x="912" y="1322"/>
                  </a:lnTo>
                  <a:lnTo>
                    <a:pt x="928" y="1278"/>
                  </a:lnTo>
                  <a:lnTo>
                    <a:pt x="928" y="1278"/>
                  </a:lnTo>
                  <a:lnTo>
                    <a:pt x="946" y="1212"/>
                  </a:lnTo>
                  <a:lnTo>
                    <a:pt x="962" y="1146"/>
                  </a:lnTo>
                  <a:lnTo>
                    <a:pt x="974" y="1076"/>
                  </a:lnTo>
                  <a:lnTo>
                    <a:pt x="986" y="1000"/>
                  </a:lnTo>
                  <a:lnTo>
                    <a:pt x="994" y="918"/>
                  </a:lnTo>
                  <a:lnTo>
                    <a:pt x="1000" y="826"/>
                  </a:lnTo>
                  <a:lnTo>
                    <a:pt x="1004" y="722"/>
                  </a:lnTo>
                  <a:lnTo>
                    <a:pt x="1006" y="606"/>
                  </a:lnTo>
                  <a:lnTo>
                    <a:pt x="922" y="606"/>
                  </a:lnTo>
                  <a:close/>
                  <a:moveTo>
                    <a:pt x="344" y="808"/>
                  </a:moveTo>
                  <a:lnTo>
                    <a:pt x="344" y="808"/>
                  </a:lnTo>
                  <a:lnTo>
                    <a:pt x="372" y="750"/>
                  </a:lnTo>
                  <a:lnTo>
                    <a:pt x="396" y="698"/>
                  </a:lnTo>
                  <a:lnTo>
                    <a:pt x="418" y="646"/>
                  </a:lnTo>
                  <a:lnTo>
                    <a:pt x="436" y="594"/>
                  </a:lnTo>
                  <a:lnTo>
                    <a:pt x="452" y="544"/>
                  </a:lnTo>
                  <a:lnTo>
                    <a:pt x="466" y="488"/>
                  </a:lnTo>
                  <a:lnTo>
                    <a:pt x="478" y="430"/>
                  </a:lnTo>
                  <a:lnTo>
                    <a:pt x="492" y="366"/>
                  </a:lnTo>
                  <a:lnTo>
                    <a:pt x="344" y="366"/>
                  </a:lnTo>
                  <a:lnTo>
                    <a:pt x="344" y="80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5"/>
            <p:cNvSpPr/>
            <p:nvPr/>
          </p:nvSpPr>
          <p:spPr>
            <a:xfrm>
              <a:off x="31194360" y="7417080"/>
              <a:ext cx="2145960" cy="207000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2070000"/>
                <a:gd name="textAreaBottom" fmla="*/ 2070360 h 2070000"/>
              </a:gdLst>
              <a:ahLst/>
              <a:rect l="textAreaLeft" t="textAreaTop" r="textAreaRight" b="textAreaBottom"/>
              <a:pathLst>
                <a:path w="1352" h="1304">
                  <a:moveTo>
                    <a:pt x="318" y="108"/>
                  </a:moveTo>
                  <a:lnTo>
                    <a:pt x="318" y="108"/>
                  </a:lnTo>
                  <a:lnTo>
                    <a:pt x="312" y="136"/>
                  </a:lnTo>
                  <a:lnTo>
                    <a:pt x="312" y="136"/>
                  </a:lnTo>
                  <a:lnTo>
                    <a:pt x="294" y="216"/>
                  </a:lnTo>
                  <a:lnTo>
                    <a:pt x="278" y="292"/>
                  </a:lnTo>
                  <a:lnTo>
                    <a:pt x="266" y="366"/>
                  </a:lnTo>
                  <a:lnTo>
                    <a:pt x="254" y="440"/>
                  </a:lnTo>
                  <a:lnTo>
                    <a:pt x="246" y="510"/>
                  </a:lnTo>
                  <a:lnTo>
                    <a:pt x="240" y="576"/>
                  </a:lnTo>
                  <a:lnTo>
                    <a:pt x="236" y="642"/>
                  </a:lnTo>
                  <a:lnTo>
                    <a:pt x="234" y="706"/>
                  </a:lnTo>
                  <a:lnTo>
                    <a:pt x="234" y="706"/>
                  </a:lnTo>
                  <a:lnTo>
                    <a:pt x="236" y="792"/>
                  </a:lnTo>
                  <a:lnTo>
                    <a:pt x="244" y="934"/>
                  </a:lnTo>
                  <a:lnTo>
                    <a:pt x="244" y="934"/>
                  </a:lnTo>
                  <a:lnTo>
                    <a:pt x="246" y="1084"/>
                  </a:lnTo>
                  <a:lnTo>
                    <a:pt x="248" y="1194"/>
                  </a:lnTo>
                  <a:lnTo>
                    <a:pt x="248" y="1194"/>
                  </a:lnTo>
                  <a:lnTo>
                    <a:pt x="248" y="1204"/>
                  </a:lnTo>
                  <a:lnTo>
                    <a:pt x="246" y="1214"/>
                  </a:lnTo>
                  <a:lnTo>
                    <a:pt x="242" y="1224"/>
                  </a:lnTo>
                  <a:lnTo>
                    <a:pt x="238" y="1234"/>
                  </a:lnTo>
                  <a:lnTo>
                    <a:pt x="232" y="1244"/>
                  </a:lnTo>
                  <a:lnTo>
                    <a:pt x="226" y="1254"/>
                  </a:lnTo>
                  <a:lnTo>
                    <a:pt x="208" y="1270"/>
                  </a:lnTo>
                  <a:lnTo>
                    <a:pt x="208" y="1270"/>
                  </a:lnTo>
                  <a:lnTo>
                    <a:pt x="186" y="1284"/>
                  </a:lnTo>
                  <a:lnTo>
                    <a:pt x="164" y="1296"/>
                  </a:lnTo>
                  <a:lnTo>
                    <a:pt x="138" y="1302"/>
                  </a:lnTo>
                  <a:lnTo>
                    <a:pt x="110" y="1304"/>
                  </a:lnTo>
                  <a:lnTo>
                    <a:pt x="110" y="1304"/>
                  </a:lnTo>
                  <a:lnTo>
                    <a:pt x="92" y="1302"/>
                  </a:lnTo>
                  <a:lnTo>
                    <a:pt x="74" y="1298"/>
                  </a:lnTo>
                  <a:lnTo>
                    <a:pt x="58" y="1290"/>
                  </a:lnTo>
                  <a:lnTo>
                    <a:pt x="42" y="1280"/>
                  </a:lnTo>
                  <a:lnTo>
                    <a:pt x="42" y="1280"/>
                  </a:lnTo>
                  <a:lnTo>
                    <a:pt x="30" y="1268"/>
                  </a:lnTo>
                  <a:lnTo>
                    <a:pt x="20" y="1254"/>
                  </a:lnTo>
                  <a:lnTo>
                    <a:pt x="14" y="1236"/>
                  </a:lnTo>
                  <a:lnTo>
                    <a:pt x="12" y="1218"/>
                  </a:lnTo>
                  <a:lnTo>
                    <a:pt x="12" y="1218"/>
                  </a:lnTo>
                  <a:lnTo>
                    <a:pt x="6" y="1118"/>
                  </a:lnTo>
                  <a:lnTo>
                    <a:pt x="2" y="1004"/>
                  </a:lnTo>
                  <a:lnTo>
                    <a:pt x="0" y="878"/>
                  </a:lnTo>
                  <a:lnTo>
                    <a:pt x="0" y="738"/>
                  </a:lnTo>
                  <a:lnTo>
                    <a:pt x="0" y="738"/>
                  </a:lnTo>
                  <a:lnTo>
                    <a:pt x="0" y="652"/>
                  </a:lnTo>
                  <a:lnTo>
                    <a:pt x="4" y="566"/>
                  </a:lnTo>
                  <a:lnTo>
                    <a:pt x="10" y="484"/>
                  </a:lnTo>
                  <a:lnTo>
                    <a:pt x="18" y="402"/>
                  </a:lnTo>
                  <a:lnTo>
                    <a:pt x="30" y="324"/>
                  </a:lnTo>
                  <a:lnTo>
                    <a:pt x="42" y="246"/>
                  </a:lnTo>
                  <a:lnTo>
                    <a:pt x="58" y="170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84" y="72"/>
                  </a:lnTo>
                  <a:lnTo>
                    <a:pt x="94" y="54"/>
                  </a:lnTo>
                  <a:lnTo>
                    <a:pt x="104" y="38"/>
                  </a:lnTo>
                  <a:lnTo>
                    <a:pt x="118" y="24"/>
                  </a:lnTo>
                  <a:lnTo>
                    <a:pt x="134" y="14"/>
                  </a:lnTo>
                  <a:lnTo>
                    <a:pt x="152" y="6"/>
                  </a:lnTo>
                  <a:lnTo>
                    <a:pt x="172" y="2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44" y="8"/>
                  </a:lnTo>
                  <a:lnTo>
                    <a:pt x="264" y="16"/>
                  </a:lnTo>
                  <a:lnTo>
                    <a:pt x="282" y="28"/>
                  </a:lnTo>
                  <a:lnTo>
                    <a:pt x="282" y="28"/>
                  </a:lnTo>
                  <a:lnTo>
                    <a:pt x="290" y="36"/>
                  </a:lnTo>
                  <a:lnTo>
                    <a:pt x="298" y="44"/>
                  </a:lnTo>
                  <a:lnTo>
                    <a:pt x="304" y="52"/>
                  </a:lnTo>
                  <a:lnTo>
                    <a:pt x="308" y="62"/>
                  </a:lnTo>
                  <a:lnTo>
                    <a:pt x="312" y="72"/>
                  </a:lnTo>
                  <a:lnTo>
                    <a:pt x="316" y="84"/>
                  </a:lnTo>
                  <a:lnTo>
                    <a:pt x="318" y="108"/>
                  </a:lnTo>
                  <a:lnTo>
                    <a:pt x="318" y="108"/>
                  </a:lnTo>
                  <a:close/>
                  <a:moveTo>
                    <a:pt x="1352" y="1098"/>
                  </a:moveTo>
                  <a:lnTo>
                    <a:pt x="1352" y="1098"/>
                  </a:lnTo>
                  <a:lnTo>
                    <a:pt x="1350" y="1120"/>
                  </a:lnTo>
                  <a:lnTo>
                    <a:pt x="1346" y="1142"/>
                  </a:lnTo>
                  <a:lnTo>
                    <a:pt x="1340" y="1160"/>
                  </a:lnTo>
                  <a:lnTo>
                    <a:pt x="1330" y="1176"/>
                  </a:lnTo>
                  <a:lnTo>
                    <a:pt x="1318" y="1188"/>
                  </a:lnTo>
                  <a:lnTo>
                    <a:pt x="1304" y="1200"/>
                  </a:lnTo>
                  <a:lnTo>
                    <a:pt x="1286" y="1210"/>
                  </a:lnTo>
                  <a:lnTo>
                    <a:pt x="1266" y="1216"/>
                  </a:lnTo>
                  <a:lnTo>
                    <a:pt x="1266" y="1216"/>
                  </a:lnTo>
                  <a:lnTo>
                    <a:pt x="1242" y="1220"/>
                  </a:lnTo>
                  <a:lnTo>
                    <a:pt x="1212" y="1226"/>
                  </a:lnTo>
                  <a:lnTo>
                    <a:pt x="1144" y="1232"/>
                  </a:lnTo>
                  <a:lnTo>
                    <a:pt x="1060" y="1238"/>
                  </a:lnTo>
                  <a:lnTo>
                    <a:pt x="960" y="1238"/>
                  </a:lnTo>
                  <a:lnTo>
                    <a:pt x="960" y="1238"/>
                  </a:lnTo>
                  <a:lnTo>
                    <a:pt x="892" y="1238"/>
                  </a:lnTo>
                  <a:lnTo>
                    <a:pt x="830" y="1234"/>
                  </a:lnTo>
                  <a:lnTo>
                    <a:pt x="772" y="1230"/>
                  </a:lnTo>
                  <a:lnTo>
                    <a:pt x="720" y="1224"/>
                  </a:lnTo>
                  <a:lnTo>
                    <a:pt x="672" y="1214"/>
                  </a:lnTo>
                  <a:lnTo>
                    <a:pt x="630" y="1204"/>
                  </a:lnTo>
                  <a:lnTo>
                    <a:pt x="592" y="1192"/>
                  </a:lnTo>
                  <a:lnTo>
                    <a:pt x="558" y="1178"/>
                  </a:lnTo>
                  <a:lnTo>
                    <a:pt x="558" y="1178"/>
                  </a:lnTo>
                  <a:lnTo>
                    <a:pt x="538" y="1168"/>
                  </a:lnTo>
                  <a:lnTo>
                    <a:pt x="522" y="1156"/>
                  </a:lnTo>
                  <a:lnTo>
                    <a:pt x="504" y="1144"/>
                  </a:lnTo>
                  <a:lnTo>
                    <a:pt x="490" y="1130"/>
                  </a:lnTo>
                  <a:lnTo>
                    <a:pt x="476" y="1116"/>
                  </a:lnTo>
                  <a:lnTo>
                    <a:pt x="462" y="1102"/>
                  </a:lnTo>
                  <a:lnTo>
                    <a:pt x="452" y="1086"/>
                  </a:lnTo>
                  <a:lnTo>
                    <a:pt x="440" y="1068"/>
                  </a:lnTo>
                  <a:lnTo>
                    <a:pt x="432" y="1050"/>
                  </a:lnTo>
                  <a:lnTo>
                    <a:pt x="424" y="1030"/>
                  </a:lnTo>
                  <a:lnTo>
                    <a:pt x="418" y="1010"/>
                  </a:lnTo>
                  <a:lnTo>
                    <a:pt x="412" y="990"/>
                  </a:lnTo>
                  <a:lnTo>
                    <a:pt x="408" y="966"/>
                  </a:lnTo>
                  <a:lnTo>
                    <a:pt x="404" y="944"/>
                  </a:lnTo>
                  <a:lnTo>
                    <a:pt x="402" y="920"/>
                  </a:lnTo>
                  <a:lnTo>
                    <a:pt x="402" y="894"/>
                  </a:lnTo>
                  <a:lnTo>
                    <a:pt x="402" y="894"/>
                  </a:lnTo>
                  <a:lnTo>
                    <a:pt x="402" y="874"/>
                  </a:lnTo>
                  <a:lnTo>
                    <a:pt x="406" y="856"/>
                  </a:lnTo>
                  <a:lnTo>
                    <a:pt x="410" y="836"/>
                  </a:lnTo>
                  <a:lnTo>
                    <a:pt x="414" y="816"/>
                  </a:lnTo>
                  <a:lnTo>
                    <a:pt x="422" y="796"/>
                  </a:lnTo>
                  <a:lnTo>
                    <a:pt x="430" y="774"/>
                  </a:lnTo>
                  <a:lnTo>
                    <a:pt x="442" y="754"/>
                  </a:lnTo>
                  <a:lnTo>
                    <a:pt x="454" y="734"/>
                  </a:lnTo>
                  <a:lnTo>
                    <a:pt x="454" y="734"/>
                  </a:lnTo>
                  <a:lnTo>
                    <a:pt x="466" y="714"/>
                  </a:lnTo>
                  <a:lnTo>
                    <a:pt x="480" y="698"/>
                  </a:lnTo>
                  <a:lnTo>
                    <a:pt x="492" y="684"/>
                  </a:lnTo>
                  <a:lnTo>
                    <a:pt x="506" y="672"/>
                  </a:lnTo>
                  <a:lnTo>
                    <a:pt x="520" y="662"/>
                  </a:lnTo>
                  <a:lnTo>
                    <a:pt x="534" y="656"/>
                  </a:lnTo>
                  <a:lnTo>
                    <a:pt x="550" y="652"/>
                  </a:lnTo>
                  <a:lnTo>
                    <a:pt x="564" y="652"/>
                  </a:lnTo>
                  <a:lnTo>
                    <a:pt x="564" y="652"/>
                  </a:lnTo>
                  <a:lnTo>
                    <a:pt x="592" y="652"/>
                  </a:lnTo>
                  <a:lnTo>
                    <a:pt x="616" y="658"/>
                  </a:lnTo>
                  <a:lnTo>
                    <a:pt x="638" y="666"/>
                  </a:lnTo>
                  <a:lnTo>
                    <a:pt x="656" y="680"/>
                  </a:lnTo>
                  <a:lnTo>
                    <a:pt x="656" y="680"/>
                  </a:lnTo>
                  <a:lnTo>
                    <a:pt x="670" y="694"/>
                  </a:lnTo>
                  <a:lnTo>
                    <a:pt x="680" y="712"/>
                  </a:lnTo>
                  <a:lnTo>
                    <a:pt x="686" y="730"/>
                  </a:lnTo>
                  <a:lnTo>
                    <a:pt x="688" y="750"/>
                  </a:lnTo>
                  <a:lnTo>
                    <a:pt x="688" y="750"/>
                  </a:lnTo>
                  <a:lnTo>
                    <a:pt x="682" y="768"/>
                  </a:lnTo>
                  <a:lnTo>
                    <a:pt x="662" y="814"/>
                  </a:lnTo>
                  <a:lnTo>
                    <a:pt x="662" y="814"/>
                  </a:lnTo>
                  <a:lnTo>
                    <a:pt x="652" y="840"/>
                  </a:lnTo>
                  <a:lnTo>
                    <a:pt x="644" y="860"/>
                  </a:lnTo>
                  <a:lnTo>
                    <a:pt x="640" y="878"/>
                  </a:lnTo>
                  <a:lnTo>
                    <a:pt x="638" y="894"/>
                  </a:lnTo>
                  <a:lnTo>
                    <a:pt x="638" y="894"/>
                  </a:lnTo>
                  <a:lnTo>
                    <a:pt x="640" y="908"/>
                  </a:lnTo>
                  <a:lnTo>
                    <a:pt x="644" y="922"/>
                  </a:lnTo>
                  <a:lnTo>
                    <a:pt x="650" y="934"/>
                  </a:lnTo>
                  <a:lnTo>
                    <a:pt x="658" y="946"/>
                  </a:lnTo>
                  <a:lnTo>
                    <a:pt x="668" y="956"/>
                  </a:lnTo>
                  <a:lnTo>
                    <a:pt x="682" y="966"/>
                  </a:lnTo>
                  <a:lnTo>
                    <a:pt x="698" y="974"/>
                  </a:lnTo>
                  <a:lnTo>
                    <a:pt x="716" y="982"/>
                  </a:lnTo>
                  <a:lnTo>
                    <a:pt x="736" y="990"/>
                  </a:lnTo>
                  <a:lnTo>
                    <a:pt x="760" y="996"/>
                  </a:lnTo>
                  <a:lnTo>
                    <a:pt x="786" y="1000"/>
                  </a:lnTo>
                  <a:lnTo>
                    <a:pt x="812" y="1004"/>
                  </a:lnTo>
                  <a:lnTo>
                    <a:pt x="876" y="1010"/>
                  </a:lnTo>
                  <a:lnTo>
                    <a:pt x="948" y="1012"/>
                  </a:lnTo>
                  <a:lnTo>
                    <a:pt x="948" y="1012"/>
                  </a:lnTo>
                  <a:lnTo>
                    <a:pt x="992" y="1012"/>
                  </a:lnTo>
                  <a:lnTo>
                    <a:pt x="1038" y="1010"/>
                  </a:lnTo>
                  <a:lnTo>
                    <a:pt x="1084" y="1006"/>
                  </a:lnTo>
                  <a:lnTo>
                    <a:pt x="1130" y="1000"/>
                  </a:lnTo>
                  <a:lnTo>
                    <a:pt x="1130" y="1000"/>
                  </a:lnTo>
                  <a:lnTo>
                    <a:pt x="1234" y="988"/>
                  </a:lnTo>
                  <a:lnTo>
                    <a:pt x="1234" y="988"/>
                  </a:lnTo>
                  <a:lnTo>
                    <a:pt x="1262" y="990"/>
                  </a:lnTo>
                  <a:lnTo>
                    <a:pt x="1286" y="996"/>
                  </a:lnTo>
                  <a:lnTo>
                    <a:pt x="1306" y="1004"/>
                  </a:lnTo>
                  <a:lnTo>
                    <a:pt x="1316" y="1010"/>
                  </a:lnTo>
                  <a:lnTo>
                    <a:pt x="1322" y="1016"/>
                  </a:lnTo>
                  <a:lnTo>
                    <a:pt x="1330" y="1024"/>
                  </a:lnTo>
                  <a:lnTo>
                    <a:pt x="1336" y="1032"/>
                  </a:lnTo>
                  <a:lnTo>
                    <a:pt x="1340" y="1040"/>
                  </a:lnTo>
                  <a:lnTo>
                    <a:pt x="1344" y="1050"/>
                  </a:lnTo>
                  <a:lnTo>
                    <a:pt x="1350" y="1072"/>
                  </a:lnTo>
                  <a:lnTo>
                    <a:pt x="1352" y="1098"/>
                  </a:lnTo>
                  <a:lnTo>
                    <a:pt x="1352" y="1098"/>
                  </a:lnTo>
                  <a:close/>
                  <a:moveTo>
                    <a:pt x="1302" y="216"/>
                  </a:moveTo>
                  <a:lnTo>
                    <a:pt x="1302" y="216"/>
                  </a:lnTo>
                  <a:lnTo>
                    <a:pt x="1300" y="240"/>
                  </a:lnTo>
                  <a:lnTo>
                    <a:pt x="1294" y="262"/>
                  </a:lnTo>
                  <a:lnTo>
                    <a:pt x="1284" y="282"/>
                  </a:lnTo>
                  <a:lnTo>
                    <a:pt x="1272" y="300"/>
                  </a:lnTo>
                  <a:lnTo>
                    <a:pt x="1272" y="300"/>
                  </a:lnTo>
                  <a:lnTo>
                    <a:pt x="1262" y="308"/>
                  </a:lnTo>
                  <a:lnTo>
                    <a:pt x="1252" y="316"/>
                  </a:lnTo>
                  <a:lnTo>
                    <a:pt x="1240" y="322"/>
                  </a:lnTo>
                  <a:lnTo>
                    <a:pt x="1228" y="326"/>
                  </a:lnTo>
                  <a:lnTo>
                    <a:pt x="1214" y="328"/>
                  </a:lnTo>
                  <a:lnTo>
                    <a:pt x="1200" y="330"/>
                  </a:lnTo>
                  <a:lnTo>
                    <a:pt x="1184" y="330"/>
                  </a:lnTo>
                  <a:lnTo>
                    <a:pt x="1168" y="328"/>
                  </a:lnTo>
                  <a:lnTo>
                    <a:pt x="1168" y="328"/>
                  </a:lnTo>
                  <a:lnTo>
                    <a:pt x="1116" y="324"/>
                  </a:lnTo>
                  <a:lnTo>
                    <a:pt x="1060" y="320"/>
                  </a:lnTo>
                  <a:lnTo>
                    <a:pt x="998" y="318"/>
                  </a:lnTo>
                  <a:lnTo>
                    <a:pt x="932" y="318"/>
                  </a:lnTo>
                  <a:lnTo>
                    <a:pt x="932" y="318"/>
                  </a:lnTo>
                  <a:lnTo>
                    <a:pt x="848" y="320"/>
                  </a:lnTo>
                  <a:lnTo>
                    <a:pt x="768" y="322"/>
                  </a:lnTo>
                  <a:lnTo>
                    <a:pt x="690" y="328"/>
                  </a:lnTo>
                  <a:lnTo>
                    <a:pt x="618" y="334"/>
                  </a:lnTo>
                  <a:lnTo>
                    <a:pt x="618" y="334"/>
                  </a:lnTo>
                  <a:lnTo>
                    <a:pt x="602" y="336"/>
                  </a:lnTo>
                  <a:lnTo>
                    <a:pt x="588" y="334"/>
                  </a:lnTo>
                  <a:lnTo>
                    <a:pt x="576" y="332"/>
                  </a:lnTo>
                  <a:lnTo>
                    <a:pt x="564" y="330"/>
                  </a:lnTo>
                  <a:lnTo>
                    <a:pt x="552" y="324"/>
                  </a:lnTo>
                  <a:lnTo>
                    <a:pt x="542" y="320"/>
                  </a:lnTo>
                  <a:lnTo>
                    <a:pt x="532" y="312"/>
                  </a:lnTo>
                  <a:lnTo>
                    <a:pt x="522" y="304"/>
                  </a:lnTo>
                  <a:lnTo>
                    <a:pt x="522" y="304"/>
                  </a:lnTo>
                  <a:lnTo>
                    <a:pt x="508" y="284"/>
                  </a:lnTo>
                  <a:lnTo>
                    <a:pt x="502" y="274"/>
                  </a:lnTo>
                  <a:lnTo>
                    <a:pt x="496" y="262"/>
                  </a:lnTo>
                  <a:lnTo>
                    <a:pt x="490" y="240"/>
                  </a:lnTo>
                  <a:lnTo>
                    <a:pt x="488" y="214"/>
                  </a:lnTo>
                  <a:lnTo>
                    <a:pt x="488" y="214"/>
                  </a:lnTo>
                  <a:lnTo>
                    <a:pt x="490" y="190"/>
                  </a:lnTo>
                  <a:lnTo>
                    <a:pt x="496" y="170"/>
                  </a:lnTo>
                  <a:lnTo>
                    <a:pt x="504" y="152"/>
                  </a:lnTo>
                  <a:lnTo>
                    <a:pt x="518" y="138"/>
                  </a:lnTo>
                  <a:lnTo>
                    <a:pt x="534" y="126"/>
                  </a:lnTo>
                  <a:lnTo>
                    <a:pt x="556" y="116"/>
                  </a:lnTo>
                  <a:lnTo>
                    <a:pt x="580" y="108"/>
                  </a:lnTo>
                  <a:lnTo>
                    <a:pt x="608" y="104"/>
                  </a:lnTo>
                  <a:lnTo>
                    <a:pt x="608" y="104"/>
                  </a:lnTo>
                  <a:lnTo>
                    <a:pt x="688" y="98"/>
                  </a:lnTo>
                  <a:lnTo>
                    <a:pt x="764" y="92"/>
                  </a:lnTo>
                  <a:lnTo>
                    <a:pt x="836" y="90"/>
                  </a:lnTo>
                  <a:lnTo>
                    <a:pt x="904" y="88"/>
                  </a:lnTo>
                  <a:lnTo>
                    <a:pt x="904" y="88"/>
                  </a:lnTo>
                  <a:lnTo>
                    <a:pt x="970" y="90"/>
                  </a:lnTo>
                  <a:lnTo>
                    <a:pt x="1040" y="92"/>
                  </a:lnTo>
                  <a:lnTo>
                    <a:pt x="1116" y="98"/>
                  </a:lnTo>
                  <a:lnTo>
                    <a:pt x="1196" y="104"/>
                  </a:lnTo>
                  <a:lnTo>
                    <a:pt x="1196" y="104"/>
                  </a:lnTo>
                  <a:lnTo>
                    <a:pt x="1220" y="110"/>
                  </a:lnTo>
                  <a:lnTo>
                    <a:pt x="1242" y="118"/>
                  </a:lnTo>
                  <a:lnTo>
                    <a:pt x="1262" y="128"/>
                  </a:lnTo>
                  <a:lnTo>
                    <a:pt x="1278" y="144"/>
                  </a:lnTo>
                  <a:lnTo>
                    <a:pt x="1278" y="144"/>
                  </a:lnTo>
                  <a:lnTo>
                    <a:pt x="1288" y="160"/>
                  </a:lnTo>
                  <a:lnTo>
                    <a:pt x="1296" y="176"/>
                  </a:lnTo>
                  <a:lnTo>
                    <a:pt x="1302" y="196"/>
                  </a:lnTo>
                  <a:lnTo>
                    <a:pt x="1302" y="216"/>
                  </a:lnTo>
                  <a:lnTo>
                    <a:pt x="1302" y="216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6"/>
            <p:cNvSpPr/>
            <p:nvPr/>
          </p:nvSpPr>
          <p:spPr>
            <a:xfrm>
              <a:off x="34309080" y="7245720"/>
              <a:ext cx="596880" cy="2104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376" h="1326">
                  <a:moveTo>
                    <a:pt x="376" y="1160"/>
                  </a:moveTo>
                  <a:lnTo>
                    <a:pt x="376" y="1160"/>
                  </a:lnTo>
                  <a:lnTo>
                    <a:pt x="374" y="1178"/>
                  </a:lnTo>
                  <a:lnTo>
                    <a:pt x="372" y="1194"/>
                  </a:lnTo>
                  <a:lnTo>
                    <a:pt x="368" y="1210"/>
                  </a:lnTo>
                  <a:lnTo>
                    <a:pt x="360" y="1226"/>
                  </a:lnTo>
                  <a:lnTo>
                    <a:pt x="352" y="1240"/>
                  </a:lnTo>
                  <a:lnTo>
                    <a:pt x="342" y="1254"/>
                  </a:lnTo>
                  <a:lnTo>
                    <a:pt x="330" y="1266"/>
                  </a:lnTo>
                  <a:lnTo>
                    <a:pt x="318" y="1278"/>
                  </a:lnTo>
                  <a:lnTo>
                    <a:pt x="318" y="1278"/>
                  </a:lnTo>
                  <a:lnTo>
                    <a:pt x="302" y="1290"/>
                  </a:lnTo>
                  <a:lnTo>
                    <a:pt x="288" y="1300"/>
                  </a:lnTo>
                  <a:lnTo>
                    <a:pt x="272" y="1308"/>
                  </a:lnTo>
                  <a:lnTo>
                    <a:pt x="256" y="1314"/>
                  </a:lnTo>
                  <a:lnTo>
                    <a:pt x="240" y="1320"/>
                  </a:lnTo>
                  <a:lnTo>
                    <a:pt x="222" y="1324"/>
                  </a:lnTo>
                  <a:lnTo>
                    <a:pt x="204" y="1326"/>
                  </a:lnTo>
                  <a:lnTo>
                    <a:pt x="186" y="1326"/>
                  </a:lnTo>
                  <a:lnTo>
                    <a:pt x="186" y="1326"/>
                  </a:lnTo>
                  <a:lnTo>
                    <a:pt x="168" y="1326"/>
                  </a:lnTo>
                  <a:lnTo>
                    <a:pt x="150" y="1324"/>
                  </a:lnTo>
                  <a:lnTo>
                    <a:pt x="134" y="1320"/>
                  </a:lnTo>
                  <a:lnTo>
                    <a:pt x="116" y="1314"/>
                  </a:lnTo>
                  <a:lnTo>
                    <a:pt x="100" y="1308"/>
                  </a:lnTo>
                  <a:lnTo>
                    <a:pt x="86" y="1300"/>
                  </a:lnTo>
                  <a:lnTo>
                    <a:pt x="70" y="1290"/>
                  </a:lnTo>
                  <a:lnTo>
                    <a:pt x="56" y="1278"/>
                  </a:lnTo>
                  <a:lnTo>
                    <a:pt x="56" y="1278"/>
                  </a:lnTo>
                  <a:lnTo>
                    <a:pt x="42" y="1266"/>
                  </a:lnTo>
                  <a:lnTo>
                    <a:pt x="32" y="1254"/>
                  </a:lnTo>
                  <a:lnTo>
                    <a:pt x="22" y="1240"/>
                  </a:lnTo>
                  <a:lnTo>
                    <a:pt x="14" y="1226"/>
                  </a:lnTo>
                  <a:lnTo>
                    <a:pt x="8" y="1210"/>
                  </a:lnTo>
                  <a:lnTo>
                    <a:pt x="2" y="1194"/>
                  </a:lnTo>
                  <a:lnTo>
                    <a:pt x="0" y="1178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0" y="1142"/>
                  </a:lnTo>
                  <a:lnTo>
                    <a:pt x="2" y="1124"/>
                  </a:lnTo>
                  <a:lnTo>
                    <a:pt x="8" y="1108"/>
                  </a:lnTo>
                  <a:lnTo>
                    <a:pt x="14" y="1094"/>
                  </a:lnTo>
                  <a:lnTo>
                    <a:pt x="22" y="1078"/>
                  </a:lnTo>
                  <a:lnTo>
                    <a:pt x="32" y="1064"/>
                  </a:lnTo>
                  <a:lnTo>
                    <a:pt x="42" y="1052"/>
                  </a:lnTo>
                  <a:lnTo>
                    <a:pt x="56" y="1038"/>
                  </a:lnTo>
                  <a:lnTo>
                    <a:pt x="56" y="1038"/>
                  </a:lnTo>
                  <a:lnTo>
                    <a:pt x="70" y="1028"/>
                  </a:lnTo>
                  <a:lnTo>
                    <a:pt x="86" y="1018"/>
                  </a:lnTo>
                  <a:lnTo>
                    <a:pt x="100" y="1010"/>
                  </a:lnTo>
                  <a:lnTo>
                    <a:pt x="116" y="1002"/>
                  </a:lnTo>
                  <a:lnTo>
                    <a:pt x="134" y="998"/>
                  </a:lnTo>
                  <a:lnTo>
                    <a:pt x="150" y="994"/>
                  </a:lnTo>
                  <a:lnTo>
                    <a:pt x="168" y="992"/>
                  </a:lnTo>
                  <a:lnTo>
                    <a:pt x="186" y="990"/>
                  </a:lnTo>
                  <a:lnTo>
                    <a:pt x="186" y="990"/>
                  </a:lnTo>
                  <a:lnTo>
                    <a:pt x="204" y="992"/>
                  </a:lnTo>
                  <a:lnTo>
                    <a:pt x="222" y="994"/>
                  </a:lnTo>
                  <a:lnTo>
                    <a:pt x="240" y="998"/>
                  </a:lnTo>
                  <a:lnTo>
                    <a:pt x="256" y="1002"/>
                  </a:lnTo>
                  <a:lnTo>
                    <a:pt x="274" y="1010"/>
                  </a:lnTo>
                  <a:lnTo>
                    <a:pt x="288" y="1018"/>
                  </a:lnTo>
                  <a:lnTo>
                    <a:pt x="304" y="1028"/>
                  </a:lnTo>
                  <a:lnTo>
                    <a:pt x="318" y="1038"/>
                  </a:lnTo>
                  <a:lnTo>
                    <a:pt x="318" y="1038"/>
                  </a:lnTo>
                  <a:lnTo>
                    <a:pt x="332" y="1052"/>
                  </a:lnTo>
                  <a:lnTo>
                    <a:pt x="344" y="1064"/>
                  </a:lnTo>
                  <a:lnTo>
                    <a:pt x="354" y="1078"/>
                  </a:lnTo>
                  <a:lnTo>
                    <a:pt x="362" y="1094"/>
                  </a:lnTo>
                  <a:lnTo>
                    <a:pt x="368" y="1108"/>
                  </a:lnTo>
                  <a:lnTo>
                    <a:pt x="372" y="1124"/>
                  </a:lnTo>
                  <a:lnTo>
                    <a:pt x="374" y="1142"/>
                  </a:lnTo>
                  <a:lnTo>
                    <a:pt x="376" y="1160"/>
                  </a:lnTo>
                  <a:lnTo>
                    <a:pt x="376" y="1160"/>
                  </a:lnTo>
                  <a:close/>
                  <a:moveTo>
                    <a:pt x="346" y="182"/>
                  </a:moveTo>
                  <a:lnTo>
                    <a:pt x="292" y="818"/>
                  </a:lnTo>
                  <a:lnTo>
                    <a:pt x="292" y="818"/>
                  </a:lnTo>
                  <a:lnTo>
                    <a:pt x="290" y="838"/>
                  </a:lnTo>
                  <a:lnTo>
                    <a:pt x="282" y="856"/>
                  </a:lnTo>
                  <a:lnTo>
                    <a:pt x="274" y="872"/>
                  </a:lnTo>
                  <a:lnTo>
                    <a:pt x="262" y="884"/>
                  </a:lnTo>
                  <a:lnTo>
                    <a:pt x="246" y="892"/>
                  </a:lnTo>
                  <a:lnTo>
                    <a:pt x="226" y="900"/>
                  </a:lnTo>
                  <a:lnTo>
                    <a:pt x="204" y="904"/>
                  </a:lnTo>
                  <a:lnTo>
                    <a:pt x="180" y="904"/>
                  </a:lnTo>
                  <a:lnTo>
                    <a:pt x="180" y="904"/>
                  </a:lnTo>
                  <a:lnTo>
                    <a:pt x="158" y="904"/>
                  </a:lnTo>
                  <a:lnTo>
                    <a:pt x="138" y="900"/>
                  </a:lnTo>
                  <a:lnTo>
                    <a:pt x="122" y="892"/>
                  </a:lnTo>
                  <a:lnTo>
                    <a:pt x="108" y="884"/>
                  </a:lnTo>
                  <a:lnTo>
                    <a:pt x="96" y="872"/>
                  </a:lnTo>
                  <a:lnTo>
                    <a:pt x="88" y="856"/>
                  </a:lnTo>
                  <a:lnTo>
                    <a:pt x="82" y="838"/>
                  </a:lnTo>
                  <a:lnTo>
                    <a:pt x="78" y="818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8" y="162"/>
                  </a:lnTo>
                  <a:lnTo>
                    <a:pt x="28" y="142"/>
                  </a:lnTo>
                  <a:lnTo>
                    <a:pt x="30" y="122"/>
                  </a:lnTo>
                  <a:lnTo>
                    <a:pt x="34" y="104"/>
                  </a:lnTo>
                  <a:lnTo>
                    <a:pt x="38" y="88"/>
                  </a:lnTo>
                  <a:lnTo>
                    <a:pt x="44" y="72"/>
                  </a:lnTo>
                  <a:lnTo>
                    <a:pt x="52" y="58"/>
                  </a:lnTo>
                  <a:lnTo>
                    <a:pt x="62" y="46"/>
                  </a:lnTo>
                  <a:lnTo>
                    <a:pt x="72" y="36"/>
                  </a:lnTo>
                  <a:lnTo>
                    <a:pt x="84" y="26"/>
                  </a:lnTo>
                  <a:lnTo>
                    <a:pt x="98" y="18"/>
                  </a:lnTo>
                  <a:lnTo>
                    <a:pt x="114" y="12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6" y="2"/>
                  </a:lnTo>
                  <a:lnTo>
                    <a:pt x="224" y="4"/>
                  </a:lnTo>
                  <a:lnTo>
                    <a:pt x="240" y="8"/>
                  </a:lnTo>
                  <a:lnTo>
                    <a:pt x="256" y="12"/>
                  </a:lnTo>
                  <a:lnTo>
                    <a:pt x="272" y="20"/>
                  </a:lnTo>
                  <a:lnTo>
                    <a:pt x="284" y="28"/>
                  </a:lnTo>
                  <a:lnTo>
                    <a:pt x="298" y="38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20" y="62"/>
                  </a:lnTo>
                  <a:lnTo>
                    <a:pt x="328" y="76"/>
                  </a:lnTo>
                  <a:lnTo>
                    <a:pt x="334" y="90"/>
                  </a:lnTo>
                  <a:lnTo>
                    <a:pt x="340" y="106"/>
                  </a:lnTo>
                  <a:lnTo>
                    <a:pt x="344" y="124"/>
                  </a:lnTo>
                  <a:lnTo>
                    <a:pt x="346" y="142"/>
                  </a:lnTo>
                  <a:lnTo>
                    <a:pt x="346" y="162"/>
                  </a:lnTo>
                  <a:lnTo>
                    <a:pt x="346" y="182"/>
                  </a:lnTo>
                  <a:lnTo>
                    <a:pt x="346" y="18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5115480" y="7245720"/>
              <a:ext cx="596880" cy="2104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376" h="1326">
                  <a:moveTo>
                    <a:pt x="376" y="1160"/>
                  </a:moveTo>
                  <a:lnTo>
                    <a:pt x="376" y="1160"/>
                  </a:lnTo>
                  <a:lnTo>
                    <a:pt x="374" y="1178"/>
                  </a:lnTo>
                  <a:lnTo>
                    <a:pt x="372" y="1194"/>
                  </a:lnTo>
                  <a:lnTo>
                    <a:pt x="368" y="1210"/>
                  </a:lnTo>
                  <a:lnTo>
                    <a:pt x="360" y="1226"/>
                  </a:lnTo>
                  <a:lnTo>
                    <a:pt x="352" y="1240"/>
                  </a:lnTo>
                  <a:lnTo>
                    <a:pt x="342" y="1254"/>
                  </a:lnTo>
                  <a:lnTo>
                    <a:pt x="332" y="1266"/>
                  </a:lnTo>
                  <a:lnTo>
                    <a:pt x="318" y="1278"/>
                  </a:lnTo>
                  <a:lnTo>
                    <a:pt x="318" y="1278"/>
                  </a:lnTo>
                  <a:lnTo>
                    <a:pt x="304" y="1290"/>
                  </a:lnTo>
                  <a:lnTo>
                    <a:pt x="288" y="1300"/>
                  </a:lnTo>
                  <a:lnTo>
                    <a:pt x="272" y="1308"/>
                  </a:lnTo>
                  <a:lnTo>
                    <a:pt x="256" y="1314"/>
                  </a:lnTo>
                  <a:lnTo>
                    <a:pt x="240" y="1320"/>
                  </a:lnTo>
                  <a:lnTo>
                    <a:pt x="222" y="1324"/>
                  </a:lnTo>
                  <a:lnTo>
                    <a:pt x="206" y="1326"/>
                  </a:lnTo>
                  <a:lnTo>
                    <a:pt x="186" y="1326"/>
                  </a:lnTo>
                  <a:lnTo>
                    <a:pt x="186" y="1326"/>
                  </a:lnTo>
                  <a:lnTo>
                    <a:pt x="168" y="1326"/>
                  </a:lnTo>
                  <a:lnTo>
                    <a:pt x="150" y="1324"/>
                  </a:lnTo>
                  <a:lnTo>
                    <a:pt x="134" y="1320"/>
                  </a:lnTo>
                  <a:lnTo>
                    <a:pt x="116" y="1314"/>
                  </a:lnTo>
                  <a:lnTo>
                    <a:pt x="100" y="1308"/>
                  </a:lnTo>
                  <a:lnTo>
                    <a:pt x="86" y="1300"/>
                  </a:lnTo>
                  <a:lnTo>
                    <a:pt x="70" y="1290"/>
                  </a:lnTo>
                  <a:lnTo>
                    <a:pt x="56" y="1278"/>
                  </a:lnTo>
                  <a:lnTo>
                    <a:pt x="56" y="1278"/>
                  </a:lnTo>
                  <a:lnTo>
                    <a:pt x="42" y="1266"/>
                  </a:lnTo>
                  <a:lnTo>
                    <a:pt x="32" y="1254"/>
                  </a:lnTo>
                  <a:lnTo>
                    <a:pt x="22" y="1240"/>
                  </a:lnTo>
                  <a:lnTo>
                    <a:pt x="14" y="1226"/>
                  </a:lnTo>
                  <a:lnTo>
                    <a:pt x="8" y="1210"/>
                  </a:lnTo>
                  <a:lnTo>
                    <a:pt x="4" y="1194"/>
                  </a:lnTo>
                  <a:lnTo>
                    <a:pt x="0" y="1178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0" y="1142"/>
                  </a:lnTo>
                  <a:lnTo>
                    <a:pt x="4" y="1124"/>
                  </a:lnTo>
                  <a:lnTo>
                    <a:pt x="8" y="1108"/>
                  </a:lnTo>
                  <a:lnTo>
                    <a:pt x="14" y="1094"/>
                  </a:lnTo>
                  <a:lnTo>
                    <a:pt x="22" y="1078"/>
                  </a:lnTo>
                  <a:lnTo>
                    <a:pt x="32" y="1064"/>
                  </a:lnTo>
                  <a:lnTo>
                    <a:pt x="42" y="1052"/>
                  </a:lnTo>
                  <a:lnTo>
                    <a:pt x="56" y="1038"/>
                  </a:lnTo>
                  <a:lnTo>
                    <a:pt x="56" y="1038"/>
                  </a:lnTo>
                  <a:lnTo>
                    <a:pt x="70" y="1028"/>
                  </a:lnTo>
                  <a:lnTo>
                    <a:pt x="86" y="1018"/>
                  </a:lnTo>
                  <a:lnTo>
                    <a:pt x="100" y="1010"/>
                  </a:lnTo>
                  <a:lnTo>
                    <a:pt x="116" y="1002"/>
                  </a:lnTo>
                  <a:lnTo>
                    <a:pt x="134" y="998"/>
                  </a:lnTo>
                  <a:lnTo>
                    <a:pt x="150" y="994"/>
                  </a:lnTo>
                  <a:lnTo>
                    <a:pt x="168" y="992"/>
                  </a:lnTo>
                  <a:lnTo>
                    <a:pt x="186" y="990"/>
                  </a:lnTo>
                  <a:lnTo>
                    <a:pt x="186" y="990"/>
                  </a:lnTo>
                  <a:lnTo>
                    <a:pt x="206" y="992"/>
                  </a:lnTo>
                  <a:lnTo>
                    <a:pt x="222" y="994"/>
                  </a:lnTo>
                  <a:lnTo>
                    <a:pt x="240" y="998"/>
                  </a:lnTo>
                  <a:lnTo>
                    <a:pt x="258" y="1002"/>
                  </a:lnTo>
                  <a:lnTo>
                    <a:pt x="274" y="1010"/>
                  </a:lnTo>
                  <a:lnTo>
                    <a:pt x="290" y="1018"/>
                  </a:lnTo>
                  <a:lnTo>
                    <a:pt x="304" y="1028"/>
                  </a:lnTo>
                  <a:lnTo>
                    <a:pt x="320" y="1038"/>
                  </a:lnTo>
                  <a:lnTo>
                    <a:pt x="320" y="1038"/>
                  </a:lnTo>
                  <a:lnTo>
                    <a:pt x="332" y="1052"/>
                  </a:lnTo>
                  <a:lnTo>
                    <a:pt x="344" y="1064"/>
                  </a:lnTo>
                  <a:lnTo>
                    <a:pt x="354" y="1078"/>
                  </a:lnTo>
                  <a:lnTo>
                    <a:pt x="362" y="1094"/>
                  </a:lnTo>
                  <a:lnTo>
                    <a:pt x="368" y="1108"/>
                  </a:lnTo>
                  <a:lnTo>
                    <a:pt x="372" y="1124"/>
                  </a:lnTo>
                  <a:lnTo>
                    <a:pt x="374" y="1142"/>
                  </a:lnTo>
                  <a:lnTo>
                    <a:pt x="376" y="1160"/>
                  </a:lnTo>
                  <a:lnTo>
                    <a:pt x="376" y="1160"/>
                  </a:lnTo>
                  <a:close/>
                  <a:moveTo>
                    <a:pt x="346" y="182"/>
                  </a:moveTo>
                  <a:lnTo>
                    <a:pt x="292" y="818"/>
                  </a:lnTo>
                  <a:lnTo>
                    <a:pt x="292" y="818"/>
                  </a:lnTo>
                  <a:lnTo>
                    <a:pt x="290" y="838"/>
                  </a:lnTo>
                  <a:lnTo>
                    <a:pt x="284" y="856"/>
                  </a:lnTo>
                  <a:lnTo>
                    <a:pt x="274" y="872"/>
                  </a:lnTo>
                  <a:lnTo>
                    <a:pt x="262" y="884"/>
                  </a:lnTo>
                  <a:lnTo>
                    <a:pt x="246" y="892"/>
                  </a:lnTo>
                  <a:lnTo>
                    <a:pt x="226" y="900"/>
                  </a:lnTo>
                  <a:lnTo>
                    <a:pt x="206" y="904"/>
                  </a:lnTo>
                  <a:lnTo>
                    <a:pt x="180" y="904"/>
                  </a:lnTo>
                  <a:lnTo>
                    <a:pt x="180" y="904"/>
                  </a:lnTo>
                  <a:lnTo>
                    <a:pt x="158" y="904"/>
                  </a:lnTo>
                  <a:lnTo>
                    <a:pt x="138" y="900"/>
                  </a:lnTo>
                  <a:lnTo>
                    <a:pt x="122" y="892"/>
                  </a:lnTo>
                  <a:lnTo>
                    <a:pt x="108" y="884"/>
                  </a:lnTo>
                  <a:lnTo>
                    <a:pt x="96" y="872"/>
                  </a:lnTo>
                  <a:lnTo>
                    <a:pt x="88" y="856"/>
                  </a:lnTo>
                  <a:lnTo>
                    <a:pt x="82" y="838"/>
                  </a:lnTo>
                  <a:lnTo>
                    <a:pt x="80" y="818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8" y="162"/>
                  </a:lnTo>
                  <a:lnTo>
                    <a:pt x="28" y="142"/>
                  </a:lnTo>
                  <a:lnTo>
                    <a:pt x="30" y="122"/>
                  </a:lnTo>
                  <a:lnTo>
                    <a:pt x="34" y="104"/>
                  </a:lnTo>
                  <a:lnTo>
                    <a:pt x="38" y="88"/>
                  </a:lnTo>
                  <a:lnTo>
                    <a:pt x="44" y="72"/>
                  </a:lnTo>
                  <a:lnTo>
                    <a:pt x="52" y="58"/>
                  </a:lnTo>
                  <a:lnTo>
                    <a:pt x="62" y="46"/>
                  </a:lnTo>
                  <a:lnTo>
                    <a:pt x="72" y="36"/>
                  </a:lnTo>
                  <a:lnTo>
                    <a:pt x="84" y="26"/>
                  </a:lnTo>
                  <a:lnTo>
                    <a:pt x="98" y="18"/>
                  </a:lnTo>
                  <a:lnTo>
                    <a:pt x="114" y="12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6" y="2"/>
                  </a:lnTo>
                  <a:lnTo>
                    <a:pt x="224" y="4"/>
                  </a:lnTo>
                  <a:lnTo>
                    <a:pt x="242" y="8"/>
                  </a:lnTo>
                  <a:lnTo>
                    <a:pt x="256" y="12"/>
                  </a:lnTo>
                  <a:lnTo>
                    <a:pt x="272" y="20"/>
                  </a:lnTo>
                  <a:lnTo>
                    <a:pt x="284" y="28"/>
                  </a:lnTo>
                  <a:lnTo>
                    <a:pt x="298" y="38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20" y="62"/>
                  </a:lnTo>
                  <a:lnTo>
                    <a:pt x="328" y="76"/>
                  </a:lnTo>
                  <a:lnTo>
                    <a:pt x="334" y="90"/>
                  </a:lnTo>
                  <a:lnTo>
                    <a:pt x="340" y="106"/>
                  </a:lnTo>
                  <a:lnTo>
                    <a:pt x="344" y="124"/>
                  </a:lnTo>
                  <a:lnTo>
                    <a:pt x="346" y="142"/>
                  </a:lnTo>
                  <a:lnTo>
                    <a:pt x="346" y="162"/>
                  </a:lnTo>
                  <a:lnTo>
                    <a:pt x="346" y="182"/>
                  </a:lnTo>
                  <a:lnTo>
                    <a:pt x="346" y="182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グループ化 233"/>
          <p:cNvGrpSpPr/>
          <p:nvPr/>
        </p:nvGrpSpPr>
        <p:grpSpPr>
          <a:xfrm>
            <a:off x="4238640" y="1641600"/>
            <a:ext cx="31365720" cy="7737480"/>
            <a:chOff x="4238640" y="1641600"/>
            <a:chExt cx="31365720" cy="7737480"/>
          </a:xfrm>
        </p:grpSpPr>
        <p:sp>
          <p:nvSpPr>
            <p:cNvPr id="270" name="Freeform 5"/>
            <p:cNvSpPr/>
            <p:nvPr/>
          </p:nvSpPr>
          <p:spPr>
            <a:xfrm>
              <a:off x="4238640" y="1641600"/>
              <a:ext cx="3412800" cy="3483000"/>
            </a:xfrm>
            <a:custGeom>
              <a:avLst/>
              <a:gdLst>
                <a:gd name="textAreaLeft" fmla="*/ 0 w 3412800"/>
                <a:gd name="textAreaRight" fmla="*/ 3413160 w 3412800"/>
                <a:gd name="textAreaTop" fmla="*/ 0 h 3483000"/>
                <a:gd name="textAreaBottom" fmla="*/ 3483360 h 3483000"/>
              </a:gdLst>
              <a:ahLst/>
              <a:rect l="textAreaLeft" t="textAreaTop" r="textAreaRight" b="textAreaBottom"/>
              <a:pathLst>
                <a:path w="2150" h="2194">
                  <a:moveTo>
                    <a:pt x="2150" y="264"/>
                  </a:moveTo>
                  <a:lnTo>
                    <a:pt x="2150" y="264"/>
                  </a:lnTo>
                  <a:lnTo>
                    <a:pt x="2098" y="312"/>
                  </a:lnTo>
                  <a:lnTo>
                    <a:pt x="2054" y="356"/>
                  </a:lnTo>
                  <a:lnTo>
                    <a:pt x="2054" y="356"/>
                  </a:lnTo>
                  <a:lnTo>
                    <a:pt x="1982" y="428"/>
                  </a:lnTo>
                  <a:lnTo>
                    <a:pt x="1912" y="496"/>
                  </a:lnTo>
                  <a:lnTo>
                    <a:pt x="1842" y="562"/>
                  </a:lnTo>
                  <a:lnTo>
                    <a:pt x="1772" y="624"/>
                  </a:lnTo>
                  <a:lnTo>
                    <a:pt x="1702" y="684"/>
                  </a:lnTo>
                  <a:lnTo>
                    <a:pt x="1632" y="740"/>
                  </a:lnTo>
                  <a:lnTo>
                    <a:pt x="1560" y="796"/>
                  </a:lnTo>
                  <a:lnTo>
                    <a:pt x="1488" y="850"/>
                  </a:lnTo>
                  <a:lnTo>
                    <a:pt x="1488" y="1796"/>
                  </a:lnTo>
                  <a:lnTo>
                    <a:pt x="1488" y="1796"/>
                  </a:lnTo>
                  <a:lnTo>
                    <a:pt x="1488" y="1924"/>
                  </a:lnTo>
                  <a:lnTo>
                    <a:pt x="1490" y="2020"/>
                  </a:lnTo>
                  <a:lnTo>
                    <a:pt x="1494" y="2104"/>
                  </a:lnTo>
                  <a:lnTo>
                    <a:pt x="1502" y="2194"/>
                  </a:lnTo>
                  <a:lnTo>
                    <a:pt x="1026" y="2194"/>
                  </a:lnTo>
                  <a:lnTo>
                    <a:pt x="1026" y="2194"/>
                  </a:lnTo>
                  <a:lnTo>
                    <a:pt x="1032" y="2106"/>
                  </a:lnTo>
                  <a:lnTo>
                    <a:pt x="1038" y="2026"/>
                  </a:lnTo>
                  <a:lnTo>
                    <a:pt x="1040" y="1930"/>
                  </a:lnTo>
                  <a:lnTo>
                    <a:pt x="1040" y="1798"/>
                  </a:lnTo>
                  <a:lnTo>
                    <a:pt x="1040" y="1120"/>
                  </a:lnTo>
                  <a:lnTo>
                    <a:pt x="1040" y="1120"/>
                  </a:lnTo>
                  <a:lnTo>
                    <a:pt x="946" y="1174"/>
                  </a:lnTo>
                  <a:lnTo>
                    <a:pt x="856" y="1222"/>
                  </a:lnTo>
                  <a:lnTo>
                    <a:pt x="766" y="1268"/>
                  </a:lnTo>
                  <a:lnTo>
                    <a:pt x="674" y="1310"/>
                  </a:lnTo>
                  <a:lnTo>
                    <a:pt x="578" y="1352"/>
                  </a:lnTo>
                  <a:lnTo>
                    <a:pt x="474" y="1394"/>
                  </a:lnTo>
                  <a:lnTo>
                    <a:pt x="362" y="1438"/>
                  </a:lnTo>
                  <a:lnTo>
                    <a:pt x="236" y="1484"/>
                  </a:lnTo>
                  <a:lnTo>
                    <a:pt x="236" y="1484"/>
                  </a:lnTo>
                  <a:lnTo>
                    <a:pt x="212" y="1426"/>
                  </a:lnTo>
                  <a:lnTo>
                    <a:pt x="188" y="1374"/>
                  </a:lnTo>
                  <a:lnTo>
                    <a:pt x="164" y="1326"/>
                  </a:lnTo>
                  <a:lnTo>
                    <a:pt x="138" y="1280"/>
                  </a:lnTo>
                  <a:lnTo>
                    <a:pt x="110" y="1236"/>
                  </a:lnTo>
                  <a:lnTo>
                    <a:pt x="80" y="1190"/>
                  </a:lnTo>
                  <a:lnTo>
                    <a:pt x="42" y="1142"/>
                  </a:lnTo>
                  <a:lnTo>
                    <a:pt x="0" y="1088"/>
                  </a:lnTo>
                  <a:lnTo>
                    <a:pt x="0" y="1088"/>
                  </a:lnTo>
                  <a:lnTo>
                    <a:pt x="98" y="1060"/>
                  </a:lnTo>
                  <a:lnTo>
                    <a:pt x="194" y="1030"/>
                  </a:lnTo>
                  <a:lnTo>
                    <a:pt x="286" y="1000"/>
                  </a:lnTo>
                  <a:lnTo>
                    <a:pt x="374" y="968"/>
                  </a:lnTo>
                  <a:lnTo>
                    <a:pt x="460" y="934"/>
                  </a:lnTo>
                  <a:lnTo>
                    <a:pt x="544" y="900"/>
                  </a:lnTo>
                  <a:lnTo>
                    <a:pt x="626" y="864"/>
                  </a:lnTo>
                  <a:lnTo>
                    <a:pt x="704" y="826"/>
                  </a:lnTo>
                  <a:lnTo>
                    <a:pt x="782" y="786"/>
                  </a:lnTo>
                  <a:lnTo>
                    <a:pt x="860" y="746"/>
                  </a:lnTo>
                  <a:lnTo>
                    <a:pt x="934" y="702"/>
                  </a:lnTo>
                  <a:lnTo>
                    <a:pt x="1010" y="656"/>
                  </a:lnTo>
                  <a:lnTo>
                    <a:pt x="1084" y="608"/>
                  </a:lnTo>
                  <a:lnTo>
                    <a:pt x="1158" y="558"/>
                  </a:lnTo>
                  <a:lnTo>
                    <a:pt x="1232" y="504"/>
                  </a:lnTo>
                  <a:lnTo>
                    <a:pt x="1306" y="448"/>
                  </a:lnTo>
                  <a:lnTo>
                    <a:pt x="1306" y="448"/>
                  </a:lnTo>
                  <a:lnTo>
                    <a:pt x="1382" y="388"/>
                  </a:lnTo>
                  <a:lnTo>
                    <a:pt x="1454" y="328"/>
                  </a:lnTo>
                  <a:lnTo>
                    <a:pt x="1520" y="268"/>
                  </a:lnTo>
                  <a:lnTo>
                    <a:pt x="1582" y="210"/>
                  </a:lnTo>
                  <a:lnTo>
                    <a:pt x="1636" y="154"/>
                  </a:lnTo>
                  <a:lnTo>
                    <a:pt x="1682" y="98"/>
                  </a:lnTo>
                  <a:lnTo>
                    <a:pt x="1722" y="48"/>
                  </a:lnTo>
                  <a:lnTo>
                    <a:pt x="1738" y="22"/>
                  </a:lnTo>
                  <a:lnTo>
                    <a:pt x="1752" y="0"/>
                  </a:lnTo>
                  <a:lnTo>
                    <a:pt x="2150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353440" y="1854000"/>
              <a:ext cx="3311280" cy="31719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2086" h="1998">
                  <a:moveTo>
                    <a:pt x="284" y="0"/>
                  </a:moveTo>
                  <a:lnTo>
                    <a:pt x="284" y="0"/>
                  </a:lnTo>
                  <a:lnTo>
                    <a:pt x="392" y="66"/>
                  </a:lnTo>
                  <a:lnTo>
                    <a:pt x="490" y="126"/>
                  </a:lnTo>
                  <a:lnTo>
                    <a:pt x="578" y="184"/>
                  </a:lnTo>
                  <a:lnTo>
                    <a:pt x="660" y="240"/>
                  </a:lnTo>
                  <a:lnTo>
                    <a:pt x="736" y="296"/>
                  </a:lnTo>
                  <a:lnTo>
                    <a:pt x="810" y="354"/>
                  </a:lnTo>
                  <a:lnTo>
                    <a:pt x="884" y="416"/>
                  </a:lnTo>
                  <a:lnTo>
                    <a:pt x="958" y="482"/>
                  </a:lnTo>
                  <a:lnTo>
                    <a:pt x="668" y="866"/>
                  </a:lnTo>
                  <a:lnTo>
                    <a:pt x="668" y="866"/>
                  </a:lnTo>
                  <a:lnTo>
                    <a:pt x="588" y="784"/>
                  </a:lnTo>
                  <a:lnTo>
                    <a:pt x="508" y="708"/>
                  </a:lnTo>
                  <a:lnTo>
                    <a:pt x="428" y="638"/>
                  </a:lnTo>
                  <a:lnTo>
                    <a:pt x="346" y="572"/>
                  </a:lnTo>
                  <a:lnTo>
                    <a:pt x="264" y="510"/>
                  </a:lnTo>
                  <a:lnTo>
                    <a:pt x="178" y="452"/>
                  </a:lnTo>
                  <a:lnTo>
                    <a:pt x="92" y="398"/>
                  </a:lnTo>
                  <a:lnTo>
                    <a:pt x="0" y="346"/>
                  </a:lnTo>
                  <a:lnTo>
                    <a:pt x="284" y="0"/>
                  </a:lnTo>
                  <a:close/>
                  <a:moveTo>
                    <a:pt x="26" y="1526"/>
                  </a:moveTo>
                  <a:lnTo>
                    <a:pt x="26" y="1526"/>
                  </a:lnTo>
                  <a:lnTo>
                    <a:pt x="120" y="1516"/>
                  </a:lnTo>
                  <a:lnTo>
                    <a:pt x="214" y="1504"/>
                  </a:lnTo>
                  <a:lnTo>
                    <a:pt x="308" y="1486"/>
                  </a:lnTo>
                  <a:lnTo>
                    <a:pt x="402" y="1466"/>
                  </a:lnTo>
                  <a:lnTo>
                    <a:pt x="496" y="1442"/>
                  </a:lnTo>
                  <a:lnTo>
                    <a:pt x="588" y="1414"/>
                  </a:lnTo>
                  <a:lnTo>
                    <a:pt x="676" y="1384"/>
                  </a:lnTo>
                  <a:lnTo>
                    <a:pt x="764" y="1350"/>
                  </a:lnTo>
                  <a:lnTo>
                    <a:pt x="764" y="1350"/>
                  </a:lnTo>
                  <a:lnTo>
                    <a:pt x="822" y="1324"/>
                  </a:lnTo>
                  <a:lnTo>
                    <a:pt x="876" y="1298"/>
                  </a:lnTo>
                  <a:lnTo>
                    <a:pt x="930" y="1272"/>
                  </a:lnTo>
                  <a:lnTo>
                    <a:pt x="982" y="1242"/>
                  </a:lnTo>
                  <a:lnTo>
                    <a:pt x="1030" y="1212"/>
                  </a:lnTo>
                  <a:lnTo>
                    <a:pt x="1078" y="1178"/>
                  </a:lnTo>
                  <a:lnTo>
                    <a:pt x="1126" y="1144"/>
                  </a:lnTo>
                  <a:lnTo>
                    <a:pt x="1170" y="1108"/>
                  </a:lnTo>
                  <a:lnTo>
                    <a:pt x="1214" y="1070"/>
                  </a:lnTo>
                  <a:lnTo>
                    <a:pt x="1256" y="1030"/>
                  </a:lnTo>
                  <a:lnTo>
                    <a:pt x="1296" y="988"/>
                  </a:lnTo>
                  <a:lnTo>
                    <a:pt x="1336" y="944"/>
                  </a:lnTo>
                  <a:lnTo>
                    <a:pt x="1374" y="896"/>
                  </a:lnTo>
                  <a:lnTo>
                    <a:pt x="1412" y="848"/>
                  </a:lnTo>
                  <a:lnTo>
                    <a:pt x="1448" y="796"/>
                  </a:lnTo>
                  <a:lnTo>
                    <a:pt x="1484" y="742"/>
                  </a:lnTo>
                  <a:lnTo>
                    <a:pt x="1484" y="742"/>
                  </a:lnTo>
                  <a:lnTo>
                    <a:pt x="1522" y="684"/>
                  </a:lnTo>
                  <a:lnTo>
                    <a:pt x="1556" y="628"/>
                  </a:lnTo>
                  <a:lnTo>
                    <a:pt x="1588" y="570"/>
                  </a:lnTo>
                  <a:lnTo>
                    <a:pt x="1616" y="514"/>
                  </a:lnTo>
                  <a:lnTo>
                    <a:pt x="1646" y="454"/>
                  </a:lnTo>
                  <a:lnTo>
                    <a:pt x="1672" y="394"/>
                  </a:lnTo>
                  <a:lnTo>
                    <a:pt x="1698" y="330"/>
                  </a:lnTo>
                  <a:lnTo>
                    <a:pt x="1726" y="260"/>
                  </a:lnTo>
                  <a:lnTo>
                    <a:pt x="1726" y="260"/>
                  </a:lnTo>
                  <a:lnTo>
                    <a:pt x="1768" y="312"/>
                  </a:lnTo>
                  <a:lnTo>
                    <a:pt x="1806" y="354"/>
                  </a:lnTo>
                  <a:lnTo>
                    <a:pt x="1844" y="394"/>
                  </a:lnTo>
                  <a:lnTo>
                    <a:pt x="1882" y="430"/>
                  </a:lnTo>
                  <a:lnTo>
                    <a:pt x="1924" y="464"/>
                  </a:lnTo>
                  <a:lnTo>
                    <a:pt x="1970" y="502"/>
                  </a:lnTo>
                  <a:lnTo>
                    <a:pt x="2024" y="544"/>
                  </a:lnTo>
                  <a:lnTo>
                    <a:pt x="2086" y="590"/>
                  </a:lnTo>
                  <a:lnTo>
                    <a:pt x="2086" y="590"/>
                  </a:lnTo>
                  <a:lnTo>
                    <a:pt x="2044" y="678"/>
                  </a:lnTo>
                  <a:lnTo>
                    <a:pt x="2002" y="762"/>
                  </a:lnTo>
                  <a:lnTo>
                    <a:pt x="1960" y="842"/>
                  </a:lnTo>
                  <a:lnTo>
                    <a:pt x="1916" y="918"/>
                  </a:lnTo>
                  <a:lnTo>
                    <a:pt x="1872" y="990"/>
                  </a:lnTo>
                  <a:lnTo>
                    <a:pt x="1826" y="1060"/>
                  </a:lnTo>
                  <a:lnTo>
                    <a:pt x="1780" y="1124"/>
                  </a:lnTo>
                  <a:lnTo>
                    <a:pt x="1732" y="1186"/>
                  </a:lnTo>
                  <a:lnTo>
                    <a:pt x="1682" y="1244"/>
                  </a:lnTo>
                  <a:lnTo>
                    <a:pt x="1632" y="1300"/>
                  </a:lnTo>
                  <a:lnTo>
                    <a:pt x="1578" y="1354"/>
                  </a:lnTo>
                  <a:lnTo>
                    <a:pt x="1524" y="1404"/>
                  </a:lnTo>
                  <a:lnTo>
                    <a:pt x="1468" y="1452"/>
                  </a:lnTo>
                  <a:lnTo>
                    <a:pt x="1410" y="1498"/>
                  </a:lnTo>
                  <a:lnTo>
                    <a:pt x="1348" y="1542"/>
                  </a:lnTo>
                  <a:lnTo>
                    <a:pt x="1286" y="1586"/>
                  </a:lnTo>
                  <a:lnTo>
                    <a:pt x="1286" y="1586"/>
                  </a:lnTo>
                  <a:lnTo>
                    <a:pt x="1236" y="1616"/>
                  </a:lnTo>
                  <a:lnTo>
                    <a:pt x="1188" y="1646"/>
                  </a:lnTo>
                  <a:lnTo>
                    <a:pt x="1138" y="1674"/>
                  </a:lnTo>
                  <a:lnTo>
                    <a:pt x="1088" y="1700"/>
                  </a:lnTo>
                  <a:lnTo>
                    <a:pt x="1038" y="1726"/>
                  </a:lnTo>
                  <a:lnTo>
                    <a:pt x="988" y="1750"/>
                  </a:lnTo>
                  <a:lnTo>
                    <a:pt x="934" y="1772"/>
                  </a:lnTo>
                  <a:lnTo>
                    <a:pt x="880" y="1794"/>
                  </a:lnTo>
                  <a:lnTo>
                    <a:pt x="822" y="1816"/>
                  </a:lnTo>
                  <a:lnTo>
                    <a:pt x="764" y="1836"/>
                  </a:lnTo>
                  <a:lnTo>
                    <a:pt x="700" y="1856"/>
                  </a:lnTo>
                  <a:lnTo>
                    <a:pt x="634" y="1876"/>
                  </a:lnTo>
                  <a:lnTo>
                    <a:pt x="492" y="1914"/>
                  </a:lnTo>
                  <a:lnTo>
                    <a:pt x="330" y="1954"/>
                  </a:lnTo>
                  <a:lnTo>
                    <a:pt x="330" y="1954"/>
                  </a:lnTo>
                  <a:lnTo>
                    <a:pt x="230" y="1976"/>
                  </a:lnTo>
                  <a:lnTo>
                    <a:pt x="154" y="1998"/>
                  </a:lnTo>
                  <a:lnTo>
                    <a:pt x="26" y="15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12303000" y="1879560"/>
              <a:ext cx="3152520" cy="3273480"/>
            </a:xfrm>
            <a:custGeom>
              <a:avLst/>
              <a:gdLst>
                <a:gd name="textAreaLeft" fmla="*/ 0 w 3152520"/>
                <a:gd name="textAreaRight" fmla="*/ 3152880 w 3152520"/>
                <a:gd name="textAreaTop" fmla="*/ 0 h 3273480"/>
                <a:gd name="textAreaBottom" fmla="*/ 3273840 h 3273480"/>
              </a:gdLst>
              <a:ahLst/>
              <a:rect l="textAreaLeft" t="textAreaTop" r="textAreaRight" b="textAreaBottom"/>
              <a:pathLst>
                <a:path w="1986" h="2062">
                  <a:moveTo>
                    <a:pt x="1986" y="212"/>
                  </a:moveTo>
                  <a:lnTo>
                    <a:pt x="1986" y="212"/>
                  </a:lnTo>
                  <a:lnTo>
                    <a:pt x="1970" y="240"/>
                  </a:lnTo>
                  <a:lnTo>
                    <a:pt x="1958" y="266"/>
                  </a:lnTo>
                  <a:lnTo>
                    <a:pt x="1948" y="300"/>
                  </a:lnTo>
                  <a:lnTo>
                    <a:pt x="1934" y="350"/>
                  </a:lnTo>
                  <a:lnTo>
                    <a:pt x="1934" y="350"/>
                  </a:lnTo>
                  <a:lnTo>
                    <a:pt x="1914" y="434"/>
                  </a:lnTo>
                  <a:lnTo>
                    <a:pt x="1892" y="516"/>
                  </a:lnTo>
                  <a:lnTo>
                    <a:pt x="1868" y="592"/>
                  </a:lnTo>
                  <a:lnTo>
                    <a:pt x="1844" y="668"/>
                  </a:lnTo>
                  <a:lnTo>
                    <a:pt x="1818" y="738"/>
                  </a:lnTo>
                  <a:lnTo>
                    <a:pt x="1792" y="808"/>
                  </a:lnTo>
                  <a:lnTo>
                    <a:pt x="1764" y="874"/>
                  </a:lnTo>
                  <a:lnTo>
                    <a:pt x="1736" y="938"/>
                  </a:lnTo>
                  <a:lnTo>
                    <a:pt x="1704" y="1002"/>
                  </a:lnTo>
                  <a:lnTo>
                    <a:pt x="1672" y="1062"/>
                  </a:lnTo>
                  <a:lnTo>
                    <a:pt x="1638" y="1120"/>
                  </a:lnTo>
                  <a:lnTo>
                    <a:pt x="1602" y="1178"/>
                  </a:lnTo>
                  <a:lnTo>
                    <a:pt x="1564" y="1234"/>
                  </a:lnTo>
                  <a:lnTo>
                    <a:pt x="1526" y="1288"/>
                  </a:lnTo>
                  <a:lnTo>
                    <a:pt x="1484" y="1342"/>
                  </a:lnTo>
                  <a:lnTo>
                    <a:pt x="1442" y="1394"/>
                  </a:lnTo>
                  <a:lnTo>
                    <a:pt x="1442" y="1394"/>
                  </a:lnTo>
                  <a:lnTo>
                    <a:pt x="1398" y="1444"/>
                  </a:lnTo>
                  <a:lnTo>
                    <a:pt x="1354" y="1494"/>
                  </a:lnTo>
                  <a:lnTo>
                    <a:pt x="1306" y="1540"/>
                  </a:lnTo>
                  <a:lnTo>
                    <a:pt x="1260" y="1586"/>
                  </a:lnTo>
                  <a:lnTo>
                    <a:pt x="1210" y="1630"/>
                  </a:lnTo>
                  <a:lnTo>
                    <a:pt x="1158" y="1674"/>
                  </a:lnTo>
                  <a:lnTo>
                    <a:pt x="1106" y="1716"/>
                  </a:lnTo>
                  <a:lnTo>
                    <a:pt x="1050" y="1756"/>
                  </a:lnTo>
                  <a:lnTo>
                    <a:pt x="992" y="1796"/>
                  </a:lnTo>
                  <a:lnTo>
                    <a:pt x="932" y="1836"/>
                  </a:lnTo>
                  <a:lnTo>
                    <a:pt x="868" y="1874"/>
                  </a:lnTo>
                  <a:lnTo>
                    <a:pt x="802" y="1912"/>
                  </a:lnTo>
                  <a:lnTo>
                    <a:pt x="732" y="1950"/>
                  </a:lnTo>
                  <a:lnTo>
                    <a:pt x="660" y="1988"/>
                  </a:lnTo>
                  <a:lnTo>
                    <a:pt x="584" y="2026"/>
                  </a:lnTo>
                  <a:lnTo>
                    <a:pt x="506" y="2062"/>
                  </a:lnTo>
                  <a:lnTo>
                    <a:pt x="506" y="2062"/>
                  </a:lnTo>
                  <a:lnTo>
                    <a:pt x="470" y="1998"/>
                  </a:lnTo>
                  <a:lnTo>
                    <a:pt x="440" y="1942"/>
                  </a:lnTo>
                  <a:lnTo>
                    <a:pt x="408" y="1892"/>
                  </a:lnTo>
                  <a:lnTo>
                    <a:pt x="376" y="1846"/>
                  </a:lnTo>
                  <a:lnTo>
                    <a:pt x="340" y="1802"/>
                  </a:lnTo>
                  <a:lnTo>
                    <a:pt x="298" y="1756"/>
                  </a:lnTo>
                  <a:lnTo>
                    <a:pt x="252" y="1706"/>
                  </a:lnTo>
                  <a:lnTo>
                    <a:pt x="196" y="1650"/>
                  </a:lnTo>
                  <a:lnTo>
                    <a:pt x="196" y="1650"/>
                  </a:lnTo>
                  <a:lnTo>
                    <a:pt x="260" y="1628"/>
                  </a:lnTo>
                  <a:lnTo>
                    <a:pt x="324" y="1606"/>
                  </a:lnTo>
                  <a:lnTo>
                    <a:pt x="384" y="1582"/>
                  </a:lnTo>
                  <a:lnTo>
                    <a:pt x="444" y="1556"/>
                  </a:lnTo>
                  <a:lnTo>
                    <a:pt x="500" y="1530"/>
                  </a:lnTo>
                  <a:lnTo>
                    <a:pt x="556" y="1504"/>
                  </a:lnTo>
                  <a:lnTo>
                    <a:pt x="610" y="1476"/>
                  </a:lnTo>
                  <a:lnTo>
                    <a:pt x="662" y="1448"/>
                  </a:lnTo>
                  <a:lnTo>
                    <a:pt x="712" y="1418"/>
                  </a:lnTo>
                  <a:lnTo>
                    <a:pt x="760" y="1386"/>
                  </a:lnTo>
                  <a:lnTo>
                    <a:pt x="806" y="1352"/>
                  </a:lnTo>
                  <a:lnTo>
                    <a:pt x="852" y="1318"/>
                  </a:lnTo>
                  <a:lnTo>
                    <a:pt x="898" y="1284"/>
                  </a:lnTo>
                  <a:lnTo>
                    <a:pt x="940" y="1246"/>
                  </a:lnTo>
                  <a:lnTo>
                    <a:pt x="982" y="1208"/>
                  </a:lnTo>
                  <a:lnTo>
                    <a:pt x="1024" y="1168"/>
                  </a:lnTo>
                  <a:lnTo>
                    <a:pt x="1024" y="1168"/>
                  </a:lnTo>
                  <a:lnTo>
                    <a:pt x="1062" y="1130"/>
                  </a:lnTo>
                  <a:lnTo>
                    <a:pt x="1098" y="1090"/>
                  </a:lnTo>
                  <a:lnTo>
                    <a:pt x="1132" y="1050"/>
                  </a:lnTo>
                  <a:lnTo>
                    <a:pt x="1164" y="1008"/>
                  </a:lnTo>
                  <a:lnTo>
                    <a:pt x="1194" y="966"/>
                  </a:lnTo>
                  <a:lnTo>
                    <a:pt x="1224" y="924"/>
                  </a:lnTo>
                  <a:lnTo>
                    <a:pt x="1250" y="882"/>
                  </a:lnTo>
                  <a:lnTo>
                    <a:pt x="1276" y="838"/>
                  </a:lnTo>
                  <a:lnTo>
                    <a:pt x="1300" y="792"/>
                  </a:lnTo>
                  <a:lnTo>
                    <a:pt x="1324" y="746"/>
                  </a:lnTo>
                  <a:lnTo>
                    <a:pt x="1344" y="698"/>
                  </a:lnTo>
                  <a:lnTo>
                    <a:pt x="1364" y="650"/>
                  </a:lnTo>
                  <a:lnTo>
                    <a:pt x="1384" y="600"/>
                  </a:lnTo>
                  <a:lnTo>
                    <a:pt x="1400" y="548"/>
                  </a:lnTo>
                  <a:lnTo>
                    <a:pt x="1416" y="496"/>
                  </a:lnTo>
                  <a:lnTo>
                    <a:pt x="1432" y="442"/>
                  </a:lnTo>
                  <a:lnTo>
                    <a:pt x="412" y="442"/>
                  </a:lnTo>
                  <a:lnTo>
                    <a:pt x="412" y="442"/>
                  </a:lnTo>
                  <a:lnTo>
                    <a:pt x="266" y="442"/>
                  </a:lnTo>
                  <a:lnTo>
                    <a:pt x="164" y="444"/>
                  </a:lnTo>
                  <a:lnTo>
                    <a:pt x="84" y="448"/>
                  </a:lnTo>
                  <a:lnTo>
                    <a:pt x="0" y="45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76" y="22"/>
                  </a:lnTo>
                  <a:lnTo>
                    <a:pt x="114" y="26"/>
                  </a:lnTo>
                  <a:lnTo>
                    <a:pt x="158" y="28"/>
                  </a:lnTo>
                  <a:lnTo>
                    <a:pt x="266" y="30"/>
                  </a:lnTo>
                  <a:lnTo>
                    <a:pt x="420" y="32"/>
                  </a:lnTo>
                  <a:lnTo>
                    <a:pt x="1586" y="32"/>
                  </a:lnTo>
                  <a:lnTo>
                    <a:pt x="1586" y="32"/>
                  </a:lnTo>
                  <a:lnTo>
                    <a:pt x="1640" y="30"/>
                  </a:lnTo>
                  <a:lnTo>
                    <a:pt x="1664" y="28"/>
                  </a:lnTo>
                  <a:lnTo>
                    <a:pt x="1686" y="24"/>
                  </a:lnTo>
                  <a:lnTo>
                    <a:pt x="1706" y="20"/>
                  </a:lnTo>
                  <a:lnTo>
                    <a:pt x="1726" y="14"/>
                  </a:lnTo>
                  <a:lnTo>
                    <a:pt x="1746" y="8"/>
                  </a:lnTo>
                  <a:lnTo>
                    <a:pt x="1766" y="0"/>
                  </a:lnTo>
                  <a:lnTo>
                    <a:pt x="1986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15874920" y="1733400"/>
              <a:ext cx="3774960" cy="343224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0 h 3432240"/>
                <a:gd name="textAreaBottom" fmla="*/ 3432600 h 3432240"/>
              </a:gdLst>
              <a:ahLst/>
              <a:rect l="textAreaLeft" t="textAreaTop" r="textAreaRight" b="textAreaBottom"/>
              <a:pathLst>
                <a:path w="2378" h="2162">
                  <a:moveTo>
                    <a:pt x="902" y="40"/>
                  </a:moveTo>
                  <a:lnTo>
                    <a:pt x="902" y="40"/>
                  </a:lnTo>
                  <a:lnTo>
                    <a:pt x="896" y="96"/>
                  </a:lnTo>
                  <a:lnTo>
                    <a:pt x="890" y="174"/>
                  </a:lnTo>
                  <a:lnTo>
                    <a:pt x="874" y="610"/>
                  </a:lnTo>
                  <a:lnTo>
                    <a:pt x="874" y="610"/>
                  </a:lnTo>
                  <a:lnTo>
                    <a:pt x="866" y="792"/>
                  </a:lnTo>
                  <a:lnTo>
                    <a:pt x="862" y="874"/>
                  </a:lnTo>
                  <a:lnTo>
                    <a:pt x="856" y="954"/>
                  </a:lnTo>
                  <a:lnTo>
                    <a:pt x="850" y="1028"/>
                  </a:lnTo>
                  <a:lnTo>
                    <a:pt x="842" y="1098"/>
                  </a:lnTo>
                  <a:lnTo>
                    <a:pt x="832" y="1166"/>
                  </a:lnTo>
                  <a:lnTo>
                    <a:pt x="822" y="1228"/>
                  </a:lnTo>
                  <a:lnTo>
                    <a:pt x="810" y="1290"/>
                  </a:lnTo>
                  <a:lnTo>
                    <a:pt x="798" y="1348"/>
                  </a:lnTo>
                  <a:lnTo>
                    <a:pt x="784" y="1404"/>
                  </a:lnTo>
                  <a:lnTo>
                    <a:pt x="768" y="1458"/>
                  </a:lnTo>
                  <a:lnTo>
                    <a:pt x="752" y="1510"/>
                  </a:lnTo>
                  <a:lnTo>
                    <a:pt x="734" y="1562"/>
                  </a:lnTo>
                  <a:lnTo>
                    <a:pt x="714" y="1614"/>
                  </a:lnTo>
                  <a:lnTo>
                    <a:pt x="692" y="1664"/>
                  </a:lnTo>
                  <a:lnTo>
                    <a:pt x="692" y="1664"/>
                  </a:lnTo>
                  <a:lnTo>
                    <a:pt x="662" y="1730"/>
                  </a:lnTo>
                  <a:lnTo>
                    <a:pt x="628" y="1792"/>
                  </a:lnTo>
                  <a:lnTo>
                    <a:pt x="592" y="1852"/>
                  </a:lnTo>
                  <a:lnTo>
                    <a:pt x="554" y="1912"/>
                  </a:lnTo>
                  <a:lnTo>
                    <a:pt x="510" y="1970"/>
                  </a:lnTo>
                  <a:lnTo>
                    <a:pt x="464" y="2030"/>
                  </a:lnTo>
                  <a:lnTo>
                    <a:pt x="410" y="2090"/>
                  </a:lnTo>
                  <a:lnTo>
                    <a:pt x="350" y="2154"/>
                  </a:lnTo>
                  <a:lnTo>
                    <a:pt x="350" y="2154"/>
                  </a:lnTo>
                  <a:lnTo>
                    <a:pt x="306" y="2098"/>
                  </a:lnTo>
                  <a:lnTo>
                    <a:pt x="266" y="2048"/>
                  </a:lnTo>
                  <a:lnTo>
                    <a:pt x="226" y="2002"/>
                  </a:lnTo>
                  <a:lnTo>
                    <a:pt x="188" y="1962"/>
                  </a:lnTo>
                  <a:lnTo>
                    <a:pt x="146" y="1926"/>
                  </a:lnTo>
                  <a:lnTo>
                    <a:pt x="104" y="1888"/>
                  </a:lnTo>
                  <a:lnTo>
                    <a:pt x="54" y="1850"/>
                  </a:lnTo>
                  <a:lnTo>
                    <a:pt x="0" y="1810"/>
                  </a:lnTo>
                  <a:lnTo>
                    <a:pt x="0" y="1810"/>
                  </a:lnTo>
                  <a:lnTo>
                    <a:pt x="50" y="1764"/>
                  </a:lnTo>
                  <a:lnTo>
                    <a:pt x="94" y="1720"/>
                  </a:lnTo>
                  <a:lnTo>
                    <a:pt x="134" y="1676"/>
                  </a:lnTo>
                  <a:lnTo>
                    <a:pt x="170" y="1630"/>
                  </a:lnTo>
                  <a:lnTo>
                    <a:pt x="202" y="1582"/>
                  </a:lnTo>
                  <a:lnTo>
                    <a:pt x="234" y="1532"/>
                  </a:lnTo>
                  <a:lnTo>
                    <a:pt x="264" y="1478"/>
                  </a:lnTo>
                  <a:lnTo>
                    <a:pt x="292" y="1420"/>
                  </a:lnTo>
                  <a:lnTo>
                    <a:pt x="292" y="1420"/>
                  </a:lnTo>
                  <a:lnTo>
                    <a:pt x="312" y="1374"/>
                  </a:lnTo>
                  <a:lnTo>
                    <a:pt x="332" y="1326"/>
                  </a:lnTo>
                  <a:lnTo>
                    <a:pt x="348" y="1276"/>
                  </a:lnTo>
                  <a:lnTo>
                    <a:pt x="364" y="1224"/>
                  </a:lnTo>
                  <a:lnTo>
                    <a:pt x="378" y="1168"/>
                  </a:lnTo>
                  <a:lnTo>
                    <a:pt x="392" y="1108"/>
                  </a:lnTo>
                  <a:lnTo>
                    <a:pt x="402" y="1046"/>
                  </a:lnTo>
                  <a:lnTo>
                    <a:pt x="412" y="978"/>
                  </a:lnTo>
                  <a:lnTo>
                    <a:pt x="420" y="906"/>
                  </a:lnTo>
                  <a:lnTo>
                    <a:pt x="428" y="828"/>
                  </a:lnTo>
                  <a:lnTo>
                    <a:pt x="434" y="746"/>
                  </a:lnTo>
                  <a:lnTo>
                    <a:pt x="438" y="658"/>
                  </a:lnTo>
                  <a:lnTo>
                    <a:pt x="442" y="564"/>
                  </a:lnTo>
                  <a:lnTo>
                    <a:pt x="444" y="462"/>
                  </a:lnTo>
                  <a:lnTo>
                    <a:pt x="446" y="238"/>
                  </a:lnTo>
                  <a:lnTo>
                    <a:pt x="446" y="238"/>
                  </a:lnTo>
                  <a:lnTo>
                    <a:pt x="446" y="166"/>
                  </a:lnTo>
                  <a:lnTo>
                    <a:pt x="444" y="110"/>
                  </a:lnTo>
                  <a:lnTo>
                    <a:pt x="442" y="60"/>
                  </a:lnTo>
                  <a:lnTo>
                    <a:pt x="436" y="12"/>
                  </a:lnTo>
                  <a:lnTo>
                    <a:pt x="902" y="40"/>
                  </a:lnTo>
                  <a:close/>
                  <a:moveTo>
                    <a:pt x="1596" y="0"/>
                  </a:moveTo>
                  <a:lnTo>
                    <a:pt x="1596" y="0"/>
                  </a:lnTo>
                  <a:lnTo>
                    <a:pt x="1588" y="66"/>
                  </a:lnTo>
                  <a:lnTo>
                    <a:pt x="1582" y="126"/>
                  </a:lnTo>
                  <a:lnTo>
                    <a:pt x="1578" y="194"/>
                  </a:lnTo>
                  <a:lnTo>
                    <a:pt x="1576" y="286"/>
                  </a:lnTo>
                  <a:lnTo>
                    <a:pt x="1564" y="1572"/>
                  </a:lnTo>
                  <a:lnTo>
                    <a:pt x="1564" y="1572"/>
                  </a:lnTo>
                  <a:lnTo>
                    <a:pt x="1612" y="1542"/>
                  </a:lnTo>
                  <a:lnTo>
                    <a:pt x="1654" y="1512"/>
                  </a:lnTo>
                  <a:lnTo>
                    <a:pt x="1694" y="1480"/>
                  </a:lnTo>
                  <a:lnTo>
                    <a:pt x="1730" y="1450"/>
                  </a:lnTo>
                  <a:lnTo>
                    <a:pt x="1764" y="1416"/>
                  </a:lnTo>
                  <a:lnTo>
                    <a:pt x="1796" y="1382"/>
                  </a:lnTo>
                  <a:lnTo>
                    <a:pt x="1828" y="1344"/>
                  </a:lnTo>
                  <a:lnTo>
                    <a:pt x="1860" y="1302"/>
                  </a:lnTo>
                  <a:lnTo>
                    <a:pt x="1860" y="1302"/>
                  </a:lnTo>
                  <a:lnTo>
                    <a:pt x="1892" y="1256"/>
                  </a:lnTo>
                  <a:lnTo>
                    <a:pt x="1920" y="1208"/>
                  </a:lnTo>
                  <a:lnTo>
                    <a:pt x="1948" y="1158"/>
                  </a:lnTo>
                  <a:lnTo>
                    <a:pt x="1972" y="1108"/>
                  </a:lnTo>
                  <a:lnTo>
                    <a:pt x="1994" y="1056"/>
                  </a:lnTo>
                  <a:lnTo>
                    <a:pt x="2014" y="1000"/>
                  </a:lnTo>
                  <a:lnTo>
                    <a:pt x="2034" y="944"/>
                  </a:lnTo>
                  <a:lnTo>
                    <a:pt x="2050" y="882"/>
                  </a:lnTo>
                  <a:lnTo>
                    <a:pt x="2050" y="882"/>
                  </a:lnTo>
                  <a:lnTo>
                    <a:pt x="2094" y="936"/>
                  </a:lnTo>
                  <a:lnTo>
                    <a:pt x="2134" y="982"/>
                  </a:lnTo>
                  <a:lnTo>
                    <a:pt x="2172" y="1024"/>
                  </a:lnTo>
                  <a:lnTo>
                    <a:pt x="2208" y="1062"/>
                  </a:lnTo>
                  <a:lnTo>
                    <a:pt x="2246" y="1096"/>
                  </a:lnTo>
                  <a:lnTo>
                    <a:pt x="2284" y="1132"/>
                  </a:lnTo>
                  <a:lnTo>
                    <a:pt x="2328" y="1168"/>
                  </a:lnTo>
                  <a:lnTo>
                    <a:pt x="2378" y="1206"/>
                  </a:lnTo>
                  <a:lnTo>
                    <a:pt x="2378" y="1206"/>
                  </a:lnTo>
                  <a:lnTo>
                    <a:pt x="2336" y="1306"/>
                  </a:lnTo>
                  <a:lnTo>
                    <a:pt x="2314" y="1352"/>
                  </a:lnTo>
                  <a:lnTo>
                    <a:pt x="2290" y="1398"/>
                  </a:lnTo>
                  <a:lnTo>
                    <a:pt x="2268" y="1442"/>
                  </a:lnTo>
                  <a:lnTo>
                    <a:pt x="2244" y="1482"/>
                  </a:lnTo>
                  <a:lnTo>
                    <a:pt x="2220" y="1524"/>
                  </a:lnTo>
                  <a:lnTo>
                    <a:pt x="2194" y="1562"/>
                  </a:lnTo>
                  <a:lnTo>
                    <a:pt x="2168" y="1600"/>
                  </a:lnTo>
                  <a:lnTo>
                    <a:pt x="2140" y="1636"/>
                  </a:lnTo>
                  <a:lnTo>
                    <a:pt x="2112" y="1670"/>
                  </a:lnTo>
                  <a:lnTo>
                    <a:pt x="2082" y="1704"/>
                  </a:lnTo>
                  <a:lnTo>
                    <a:pt x="2052" y="1738"/>
                  </a:lnTo>
                  <a:lnTo>
                    <a:pt x="2020" y="1770"/>
                  </a:lnTo>
                  <a:lnTo>
                    <a:pt x="1986" y="1800"/>
                  </a:lnTo>
                  <a:lnTo>
                    <a:pt x="1952" y="1830"/>
                  </a:lnTo>
                  <a:lnTo>
                    <a:pt x="1952" y="1830"/>
                  </a:lnTo>
                  <a:lnTo>
                    <a:pt x="1898" y="1874"/>
                  </a:lnTo>
                  <a:lnTo>
                    <a:pt x="1844" y="1914"/>
                  </a:lnTo>
                  <a:lnTo>
                    <a:pt x="1790" y="1950"/>
                  </a:lnTo>
                  <a:lnTo>
                    <a:pt x="1732" y="1984"/>
                  </a:lnTo>
                  <a:lnTo>
                    <a:pt x="1670" y="2016"/>
                  </a:lnTo>
                  <a:lnTo>
                    <a:pt x="1602" y="2046"/>
                  </a:lnTo>
                  <a:lnTo>
                    <a:pt x="1524" y="2078"/>
                  </a:lnTo>
                  <a:lnTo>
                    <a:pt x="1436" y="2110"/>
                  </a:lnTo>
                  <a:lnTo>
                    <a:pt x="1436" y="2110"/>
                  </a:lnTo>
                  <a:lnTo>
                    <a:pt x="1362" y="2138"/>
                  </a:lnTo>
                  <a:lnTo>
                    <a:pt x="1338" y="2150"/>
                  </a:lnTo>
                  <a:lnTo>
                    <a:pt x="1316" y="2162"/>
                  </a:lnTo>
                  <a:lnTo>
                    <a:pt x="1106" y="1942"/>
                  </a:lnTo>
                  <a:lnTo>
                    <a:pt x="1106" y="1942"/>
                  </a:lnTo>
                  <a:lnTo>
                    <a:pt x="1118" y="1896"/>
                  </a:lnTo>
                  <a:lnTo>
                    <a:pt x="1124" y="1874"/>
                  </a:lnTo>
                  <a:lnTo>
                    <a:pt x="1126" y="1852"/>
                  </a:lnTo>
                  <a:lnTo>
                    <a:pt x="1130" y="1800"/>
                  </a:lnTo>
                  <a:lnTo>
                    <a:pt x="1132" y="1734"/>
                  </a:lnTo>
                  <a:lnTo>
                    <a:pt x="1144" y="280"/>
                  </a:lnTo>
                  <a:lnTo>
                    <a:pt x="1144" y="192"/>
                  </a:lnTo>
                  <a:lnTo>
                    <a:pt x="1144" y="192"/>
                  </a:lnTo>
                  <a:lnTo>
                    <a:pt x="1144" y="138"/>
                  </a:lnTo>
                  <a:lnTo>
                    <a:pt x="1142" y="88"/>
                  </a:lnTo>
                  <a:lnTo>
                    <a:pt x="1140" y="44"/>
                  </a:lnTo>
                  <a:lnTo>
                    <a:pt x="1134" y="0"/>
                  </a:lnTo>
                  <a:lnTo>
                    <a:pt x="1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19919880" y="2000160"/>
              <a:ext cx="3457440" cy="278748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2787480"/>
                <a:gd name="textAreaBottom" fmla="*/ 2787840 h 2787480"/>
              </a:gdLst>
              <a:ahLst/>
              <a:rect l="textAreaLeft" t="textAreaTop" r="textAreaRight" b="textAreaBottom"/>
              <a:pathLst>
                <a:path w="2178" h="1756">
                  <a:moveTo>
                    <a:pt x="1296" y="1344"/>
                  </a:moveTo>
                  <a:lnTo>
                    <a:pt x="1772" y="1344"/>
                  </a:lnTo>
                  <a:lnTo>
                    <a:pt x="1772" y="1344"/>
                  </a:lnTo>
                  <a:lnTo>
                    <a:pt x="1914" y="1342"/>
                  </a:lnTo>
                  <a:lnTo>
                    <a:pt x="2016" y="1340"/>
                  </a:lnTo>
                  <a:lnTo>
                    <a:pt x="2100" y="1334"/>
                  </a:lnTo>
                  <a:lnTo>
                    <a:pt x="2178" y="1324"/>
                  </a:lnTo>
                  <a:lnTo>
                    <a:pt x="2178" y="1756"/>
                  </a:lnTo>
                  <a:lnTo>
                    <a:pt x="2178" y="1756"/>
                  </a:lnTo>
                  <a:lnTo>
                    <a:pt x="2104" y="1750"/>
                  </a:lnTo>
                  <a:lnTo>
                    <a:pt x="2014" y="1744"/>
                  </a:lnTo>
                  <a:lnTo>
                    <a:pt x="1908" y="1742"/>
                  </a:lnTo>
                  <a:lnTo>
                    <a:pt x="1780" y="1742"/>
                  </a:lnTo>
                  <a:lnTo>
                    <a:pt x="394" y="1742"/>
                  </a:lnTo>
                  <a:lnTo>
                    <a:pt x="394" y="1742"/>
                  </a:lnTo>
                  <a:lnTo>
                    <a:pt x="254" y="1742"/>
                  </a:lnTo>
                  <a:lnTo>
                    <a:pt x="154" y="1744"/>
                  </a:lnTo>
                  <a:lnTo>
                    <a:pt x="76" y="1748"/>
                  </a:lnTo>
                  <a:lnTo>
                    <a:pt x="0" y="1754"/>
                  </a:lnTo>
                  <a:lnTo>
                    <a:pt x="0" y="1324"/>
                  </a:lnTo>
                  <a:lnTo>
                    <a:pt x="0" y="1324"/>
                  </a:lnTo>
                  <a:lnTo>
                    <a:pt x="84" y="1332"/>
                  </a:lnTo>
                  <a:lnTo>
                    <a:pt x="172" y="1338"/>
                  </a:lnTo>
                  <a:lnTo>
                    <a:pt x="272" y="1342"/>
                  </a:lnTo>
                  <a:lnTo>
                    <a:pt x="402" y="1344"/>
                  </a:lnTo>
                  <a:lnTo>
                    <a:pt x="850" y="1344"/>
                  </a:lnTo>
                  <a:lnTo>
                    <a:pt x="850" y="412"/>
                  </a:lnTo>
                  <a:lnTo>
                    <a:pt x="578" y="412"/>
                  </a:lnTo>
                  <a:lnTo>
                    <a:pt x="578" y="412"/>
                  </a:lnTo>
                  <a:lnTo>
                    <a:pt x="434" y="412"/>
                  </a:lnTo>
                  <a:lnTo>
                    <a:pt x="334" y="414"/>
                  </a:lnTo>
                  <a:lnTo>
                    <a:pt x="256" y="418"/>
                  </a:lnTo>
                  <a:lnTo>
                    <a:pt x="180" y="42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272" y="10"/>
                  </a:lnTo>
                  <a:lnTo>
                    <a:pt x="358" y="16"/>
                  </a:lnTo>
                  <a:lnTo>
                    <a:pt x="458" y="18"/>
                  </a:lnTo>
                  <a:lnTo>
                    <a:pt x="586" y="20"/>
                  </a:lnTo>
                  <a:lnTo>
                    <a:pt x="1586" y="20"/>
                  </a:lnTo>
                  <a:lnTo>
                    <a:pt x="1586" y="20"/>
                  </a:lnTo>
                  <a:lnTo>
                    <a:pt x="1720" y="18"/>
                  </a:lnTo>
                  <a:lnTo>
                    <a:pt x="1824" y="14"/>
                  </a:lnTo>
                  <a:lnTo>
                    <a:pt x="1910" y="8"/>
                  </a:lnTo>
                  <a:lnTo>
                    <a:pt x="1992" y="0"/>
                  </a:lnTo>
                  <a:lnTo>
                    <a:pt x="1992" y="424"/>
                  </a:lnTo>
                  <a:lnTo>
                    <a:pt x="1992" y="424"/>
                  </a:lnTo>
                  <a:lnTo>
                    <a:pt x="1914" y="418"/>
                  </a:lnTo>
                  <a:lnTo>
                    <a:pt x="1836" y="414"/>
                  </a:lnTo>
                  <a:lnTo>
                    <a:pt x="1738" y="412"/>
                  </a:lnTo>
                  <a:lnTo>
                    <a:pt x="1594" y="412"/>
                  </a:lnTo>
                  <a:lnTo>
                    <a:pt x="1296" y="412"/>
                  </a:lnTo>
                  <a:lnTo>
                    <a:pt x="1296" y="1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3955480" y="1854000"/>
              <a:ext cx="3311280" cy="31719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3171960"/>
                <a:gd name="textAreaBottom" fmla="*/ 3172320 h 3171960"/>
              </a:gdLst>
              <a:ahLst/>
              <a:rect l="textAreaLeft" t="textAreaTop" r="textAreaRight" b="textAreaBottom"/>
              <a:pathLst>
                <a:path w="2086" h="1998">
                  <a:moveTo>
                    <a:pt x="282" y="0"/>
                  </a:moveTo>
                  <a:lnTo>
                    <a:pt x="282" y="0"/>
                  </a:lnTo>
                  <a:lnTo>
                    <a:pt x="392" y="66"/>
                  </a:lnTo>
                  <a:lnTo>
                    <a:pt x="490" y="126"/>
                  </a:lnTo>
                  <a:lnTo>
                    <a:pt x="578" y="184"/>
                  </a:lnTo>
                  <a:lnTo>
                    <a:pt x="660" y="240"/>
                  </a:lnTo>
                  <a:lnTo>
                    <a:pt x="736" y="296"/>
                  </a:lnTo>
                  <a:lnTo>
                    <a:pt x="810" y="354"/>
                  </a:lnTo>
                  <a:lnTo>
                    <a:pt x="882" y="416"/>
                  </a:lnTo>
                  <a:lnTo>
                    <a:pt x="958" y="482"/>
                  </a:lnTo>
                  <a:lnTo>
                    <a:pt x="668" y="866"/>
                  </a:lnTo>
                  <a:lnTo>
                    <a:pt x="668" y="866"/>
                  </a:lnTo>
                  <a:lnTo>
                    <a:pt x="588" y="784"/>
                  </a:lnTo>
                  <a:lnTo>
                    <a:pt x="508" y="708"/>
                  </a:lnTo>
                  <a:lnTo>
                    <a:pt x="428" y="638"/>
                  </a:lnTo>
                  <a:lnTo>
                    <a:pt x="346" y="572"/>
                  </a:lnTo>
                  <a:lnTo>
                    <a:pt x="264" y="510"/>
                  </a:lnTo>
                  <a:lnTo>
                    <a:pt x="178" y="452"/>
                  </a:lnTo>
                  <a:lnTo>
                    <a:pt x="90" y="398"/>
                  </a:lnTo>
                  <a:lnTo>
                    <a:pt x="0" y="346"/>
                  </a:lnTo>
                  <a:lnTo>
                    <a:pt x="282" y="0"/>
                  </a:lnTo>
                  <a:close/>
                  <a:moveTo>
                    <a:pt x="24" y="1526"/>
                  </a:moveTo>
                  <a:lnTo>
                    <a:pt x="24" y="1526"/>
                  </a:lnTo>
                  <a:lnTo>
                    <a:pt x="118" y="1516"/>
                  </a:lnTo>
                  <a:lnTo>
                    <a:pt x="214" y="1504"/>
                  </a:lnTo>
                  <a:lnTo>
                    <a:pt x="308" y="1486"/>
                  </a:lnTo>
                  <a:lnTo>
                    <a:pt x="402" y="1466"/>
                  </a:lnTo>
                  <a:lnTo>
                    <a:pt x="494" y="1442"/>
                  </a:lnTo>
                  <a:lnTo>
                    <a:pt x="586" y="1414"/>
                  </a:lnTo>
                  <a:lnTo>
                    <a:pt x="676" y="1384"/>
                  </a:lnTo>
                  <a:lnTo>
                    <a:pt x="764" y="1350"/>
                  </a:lnTo>
                  <a:lnTo>
                    <a:pt x="764" y="1350"/>
                  </a:lnTo>
                  <a:lnTo>
                    <a:pt x="822" y="1324"/>
                  </a:lnTo>
                  <a:lnTo>
                    <a:pt x="876" y="1298"/>
                  </a:lnTo>
                  <a:lnTo>
                    <a:pt x="930" y="1272"/>
                  </a:lnTo>
                  <a:lnTo>
                    <a:pt x="980" y="1242"/>
                  </a:lnTo>
                  <a:lnTo>
                    <a:pt x="1030" y="1212"/>
                  </a:lnTo>
                  <a:lnTo>
                    <a:pt x="1078" y="1178"/>
                  </a:lnTo>
                  <a:lnTo>
                    <a:pt x="1124" y="1144"/>
                  </a:lnTo>
                  <a:lnTo>
                    <a:pt x="1170" y="1108"/>
                  </a:lnTo>
                  <a:lnTo>
                    <a:pt x="1212" y="1070"/>
                  </a:lnTo>
                  <a:lnTo>
                    <a:pt x="1254" y="1030"/>
                  </a:lnTo>
                  <a:lnTo>
                    <a:pt x="1296" y="988"/>
                  </a:lnTo>
                  <a:lnTo>
                    <a:pt x="1336" y="944"/>
                  </a:lnTo>
                  <a:lnTo>
                    <a:pt x="1374" y="896"/>
                  </a:lnTo>
                  <a:lnTo>
                    <a:pt x="1412" y="848"/>
                  </a:lnTo>
                  <a:lnTo>
                    <a:pt x="1448" y="796"/>
                  </a:lnTo>
                  <a:lnTo>
                    <a:pt x="1484" y="742"/>
                  </a:lnTo>
                  <a:lnTo>
                    <a:pt x="1484" y="742"/>
                  </a:lnTo>
                  <a:lnTo>
                    <a:pt x="1520" y="684"/>
                  </a:lnTo>
                  <a:lnTo>
                    <a:pt x="1556" y="628"/>
                  </a:lnTo>
                  <a:lnTo>
                    <a:pt x="1586" y="570"/>
                  </a:lnTo>
                  <a:lnTo>
                    <a:pt x="1616" y="514"/>
                  </a:lnTo>
                  <a:lnTo>
                    <a:pt x="1644" y="454"/>
                  </a:lnTo>
                  <a:lnTo>
                    <a:pt x="1672" y="394"/>
                  </a:lnTo>
                  <a:lnTo>
                    <a:pt x="1698" y="330"/>
                  </a:lnTo>
                  <a:lnTo>
                    <a:pt x="1724" y="260"/>
                  </a:lnTo>
                  <a:lnTo>
                    <a:pt x="1724" y="260"/>
                  </a:lnTo>
                  <a:lnTo>
                    <a:pt x="1768" y="312"/>
                  </a:lnTo>
                  <a:lnTo>
                    <a:pt x="1806" y="354"/>
                  </a:lnTo>
                  <a:lnTo>
                    <a:pt x="1844" y="394"/>
                  </a:lnTo>
                  <a:lnTo>
                    <a:pt x="1882" y="430"/>
                  </a:lnTo>
                  <a:lnTo>
                    <a:pt x="1922" y="464"/>
                  </a:lnTo>
                  <a:lnTo>
                    <a:pt x="1968" y="502"/>
                  </a:lnTo>
                  <a:lnTo>
                    <a:pt x="2022" y="544"/>
                  </a:lnTo>
                  <a:lnTo>
                    <a:pt x="2086" y="590"/>
                  </a:lnTo>
                  <a:lnTo>
                    <a:pt x="2086" y="590"/>
                  </a:lnTo>
                  <a:lnTo>
                    <a:pt x="2044" y="678"/>
                  </a:lnTo>
                  <a:lnTo>
                    <a:pt x="2002" y="762"/>
                  </a:lnTo>
                  <a:lnTo>
                    <a:pt x="1958" y="842"/>
                  </a:lnTo>
                  <a:lnTo>
                    <a:pt x="1914" y="918"/>
                  </a:lnTo>
                  <a:lnTo>
                    <a:pt x="1870" y="990"/>
                  </a:lnTo>
                  <a:lnTo>
                    <a:pt x="1824" y="1060"/>
                  </a:lnTo>
                  <a:lnTo>
                    <a:pt x="1778" y="1124"/>
                  </a:lnTo>
                  <a:lnTo>
                    <a:pt x="1730" y="1186"/>
                  </a:lnTo>
                  <a:lnTo>
                    <a:pt x="1682" y="1244"/>
                  </a:lnTo>
                  <a:lnTo>
                    <a:pt x="1630" y="1300"/>
                  </a:lnTo>
                  <a:lnTo>
                    <a:pt x="1578" y="1354"/>
                  </a:lnTo>
                  <a:lnTo>
                    <a:pt x="1524" y="1404"/>
                  </a:lnTo>
                  <a:lnTo>
                    <a:pt x="1468" y="1452"/>
                  </a:lnTo>
                  <a:lnTo>
                    <a:pt x="1408" y="1498"/>
                  </a:lnTo>
                  <a:lnTo>
                    <a:pt x="1348" y="1542"/>
                  </a:lnTo>
                  <a:lnTo>
                    <a:pt x="1284" y="1586"/>
                  </a:lnTo>
                  <a:lnTo>
                    <a:pt x="1284" y="1586"/>
                  </a:lnTo>
                  <a:lnTo>
                    <a:pt x="1236" y="1616"/>
                  </a:lnTo>
                  <a:lnTo>
                    <a:pt x="1186" y="1646"/>
                  </a:lnTo>
                  <a:lnTo>
                    <a:pt x="1138" y="1674"/>
                  </a:lnTo>
                  <a:lnTo>
                    <a:pt x="1088" y="1700"/>
                  </a:lnTo>
                  <a:lnTo>
                    <a:pt x="1038" y="1726"/>
                  </a:lnTo>
                  <a:lnTo>
                    <a:pt x="986" y="1750"/>
                  </a:lnTo>
                  <a:lnTo>
                    <a:pt x="934" y="1772"/>
                  </a:lnTo>
                  <a:lnTo>
                    <a:pt x="878" y="1794"/>
                  </a:lnTo>
                  <a:lnTo>
                    <a:pt x="822" y="1816"/>
                  </a:lnTo>
                  <a:lnTo>
                    <a:pt x="762" y="1836"/>
                  </a:lnTo>
                  <a:lnTo>
                    <a:pt x="700" y="1856"/>
                  </a:lnTo>
                  <a:lnTo>
                    <a:pt x="634" y="1876"/>
                  </a:lnTo>
                  <a:lnTo>
                    <a:pt x="490" y="1914"/>
                  </a:lnTo>
                  <a:lnTo>
                    <a:pt x="330" y="1954"/>
                  </a:lnTo>
                  <a:lnTo>
                    <a:pt x="330" y="1954"/>
                  </a:lnTo>
                  <a:lnTo>
                    <a:pt x="230" y="1976"/>
                  </a:lnTo>
                  <a:lnTo>
                    <a:pt x="152" y="1998"/>
                  </a:lnTo>
                  <a:lnTo>
                    <a:pt x="24" y="15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7609840" y="1644480"/>
              <a:ext cx="3784320" cy="3540240"/>
            </a:xfrm>
            <a:custGeom>
              <a:avLst/>
              <a:gdLst>
                <a:gd name="textAreaLeft" fmla="*/ 0 w 3784320"/>
                <a:gd name="textAreaRight" fmla="*/ 3784680 w 3784320"/>
                <a:gd name="textAreaTop" fmla="*/ 0 h 3540240"/>
                <a:gd name="textAreaBottom" fmla="*/ 3540600 h 3540240"/>
              </a:gdLst>
              <a:ahLst/>
              <a:rect l="textAreaLeft" t="textAreaTop" r="textAreaRight" b="textAreaBottom"/>
              <a:pathLst>
                <a:path w="2384" h="2230">
                  <a:moveTo>
                    <a:pt x="1388" y="478"/>
                  </a:moveTo>
                  <a:lnTo>
                    <a:pt x="1388" y="478"/>
                  </a:lnTo>
                  <a:lnTo>
                    <a:pt x="1388" y="388"/>
                  </a:lnTo>
                  <a:lnTo>
                    <a:pt x="1388" y="316"/>
                  </a:lnTo>
                  <a:lnTo>
                    <a:pt x="1388" y="316"/>
                  </a:lnTo>
                  <a:lnTo>
                    <a:pt x="1388" y="224"/>
                  </a:lnTo>
                  <a:lnTo>
                    <a:pt x="1386" y="150"/>
                  </a:lnTo>
                  <a:lnTo>
                    <a:pt x="1382" y="90"/>
                  </a:lnTo>
                  <a:lnTo>
                    <a:pt x="1376" y="42"/>
                  </a:lnTo>
                  <a:lnTo>
                    <a:pt x="1816" y="42"/>
                  </a:lnTo>
                  <a:lnTo>
                    <a:pt x="1816" y="42"/>
                  </a:lnTo>
                  <a:lnTo>
                    <a:pt x="1810" y="90"/>
                  </a:lnTo>
                  <a:lnTo>
                    <a:pt x="1806" y="152"/>
                  </a:lnTo>
                  <a:lnTo>
                    <a:pt x="1804" y="268"/>
                  </a:lnTo>
                  <a:lnTo>
                    <a:pt x="1804" y="478"/>
                  </a:lnTo>
                  <a:lnTo>
                    <a:pt x="1902" y="478"/>
                  </a:lnTo>
                  <a:lnTo>
                    <a:pt x="1902" y="478"/>
                  </a:lnTo>
                  <a:lnTo>
                    <a:pt x="2020" y="478"/>
                  </a:lnTo>
                  <a:lnTo>
                    <a:pt x="2110" y="476"/>
                  </a:lnTo>
                  <a:lnTo>
                    <a:pt x="2184" y="470"/>
                  </a:lnTo>
                  <a:lnTo>
                    <a:pt x="2256" y="462"/>
                  </a:lnTo>
                  <a:lnTo>
                    <a:pt x="2256" y="880"/>
                  </a:lnTo>
                  <a:lnTo>
                    <a:pt x="2256" y="880"/>
                  </a:lnTo>
                  <a:lnTo>
                    <a:pt x="2174" y="874"/>
                  </a:lnTo>
                  <a:lnTo>
                    <a:pt x="2098" y="870"/>
                  </a:lnTo>
                  <a:lnTo>
                    <a:pt x="2014" y="868"/>
                  </a:lnTo>
                  <a:lnTo>
                    <a:pt x="1908" y="868"/>
                  </a:lnTo>
                  <a:lnTo>
                    <a:pt x="1798" y="868"/>
                  </a:lnTo>
                  <a:lnTo>
                    <a:pt x="1798" y="868"/>
                  </a:lnTo>
                  <a:lnTo>
                    <a:pt x="1796" y="988"/>
                  </a:lnTo>
                  <a:lnTo>
                    <a:pt x="1792" y="1076"/>
                  </a:lnTo>
                  <a:lnTo>
                    <a:pt x="1788" y="1146"/>
                  </a:lnTo>
                  <a:lnTo>
                    <a:pt x="1782" y="1212"/>
                  </a:lnTo>
                  <a:lnTo>
                    <a:pt x="1782" y="1212"/>
                  </a:lnTo>
                  <a:lnTo>
                    <a:pt x="1770" y="1294"/>
                  </a:lnTo>
                  <a:lnTo>
                    <a:pt x="1758" y="1368"/>
                  </a:lnTo>
                  <a:lnTo>
                    <a:pt x="1742" y="1438"/>
                  </a:lnTo>
                  <a:lnTo>
                    <a:pt x="1724" y="1504"/>
                  </a:lnTo>
                  <a:lnTo>
                    <a:pt x="1702" y="1566"/>
                  </a:lnTo>
                  <a:lnTo>
                    <a:pt x="1676" y="1624"/>
                  </a:lnTo>
                  <a:lnTo>
                    <a:pt x="1644" y="1682"/>
                  </a:lnTo>
                  <a:lnTo>
                    <a:pt x="1610" y="1740"/>
                  </a:lnTo>
                  <a:lnTo>
                    <a:pt x="1610" y="1740"/>
                  </a:lnTo>
                  <a:lnTo>
                    <a:pt x="1570" y="1796"/>
                  </a:lnTo>
                  <a:lnTo>
                    <a:pt x="1526" y="1848"/>
                  </a:lnTo>
                  <a:lnTo>
                    <a:pt x="1478" y="1900"/>
                  </a:lnTo>
                  <a:lnTo>
                    <a:pt x="1426" y="1948"/>
                  </a:lnTo>
                  <a:lnTo>
                    <a:pt x="1370" y="1994"/>
                  </a:lnTo>
                  <a:lnTo>
                    <a:pt x="1312" y="2038"/>
                  </a:lnTo>
                  <a:lnTo>
                    <a:pt x="1248" y="2078"/>
                  </a:lnTo>
                  <a:lnTo>
                    <a:pt x="1182" y="2116"/>
                  </a:lnTo>
                  <a:lnTo>
                    <a:pt x="1182" y="2116"/>
                  </a:lnTo>
                  <a:lnTo>
                    <a:pt x="1128" y="2142"/>
                  </a:lnTo>
                  <a:lnTo>
                    <a:pt x="1070" y="2168"/>
                  </a:lnTo>
                  <a:lnTo>
                    <a:pt x="1000" y="2198"/>
                  </a:lnTo>
                  <a:lnTo>
                    <a:pt x="912" y="2230"/>
                  </a:lnTo>
                  <a:lnTo>
                    <a:pt x="912" y="2230"/>
                  </a:lnTo>
                  <a:lnTo>
                    <a:pt x="882" y="2174"/>
                  </a:lnTo>
                  <a:lnTo>
                    <a:pt x="856" y="2122"/>
                  </a:lnTo>
                  <a:lnTo>
                    <a:pt x="828" y="2076"/>
                  </a:lnTo>
                  <a:lnTo>
                    <a:pt x="798" y="2032"/>
                  </a:lnTo>
                  <a:lnTo>
                    <a:pt x="766" y="1990"/>
                  </a:lnTo>
                  <a:lnTo>
                    <a:pt x="730" y="1948"/>
                  </a:lnTo>
                  <a:lnTo>
                    <a:pt x="690" y="1904"/>
                  </a:lnTo>
                  <a:lnTo>
                    <a:pt x="644" y="1854"/>
                  </a:lnTo>
                  <a:lnTo>
                    <a:pt x="644" y="1854"/>
                  </a:lnTo>
                  <a:lnTo>
                    <a:pt x="728" y="1828"/>
                  </a:lnTo>
                  <a:lnTo>
                    <a:pt x="802" y="1804"/>
                  </a:lnTo>
                  <a:lnTo>
                    <a:pt x="870" y="1778"/>
                  </a:lnTo>
                  <a:lnTo>
                    <a:pt x="928" y="1754"/>
                  </a:lnTo>
                  <a:lnTo>
                    <a:pt x="982" y="1726"/>
                  </a:lnTo>
                  <a:lnTo>
                    <a:pt x="1030" y="1700"/>
                  </a:lnTo>
                  <a:lnTo>
                    <a:pt x="1076" y="1670"/>
                  </a:lnTo>
                  <a:lnTo>
                    <a:pt x="1118" y="1638"/>
                  </a:lnTo>
                  <a:lnTo>
                    <a:pt x="1118" y="1638"/>
                  </a:lnTo>
                  <a:lnTo>
                    <a:pt x="1148" y="1614"/>
                  </a:lnTo>
                  <a:lnTo>
                    <a:pt x="1176" y="1588"/>
                  </a:lnTo>
                  <a:lnTo>
                    <a:pt x="1202" y="1560"/>
                  </a:lnTo>
                  <a:lnTo>
                    <a:pt x="1226" y="1532"/>
                  </a:lnTo>
                  <a:lnTo>
                    <a:pt x="1248" y="1504"/>
                  </a:lnTo>
                  <a:lnTo>
                    <a:pt x="1268" y="1472"/>
                  </a:lnTo>
                  <a:lnTo>
                    <a:pt x="1286" y="1440"/>
                  </a:lnTo>
                  <a:lnTo>
                    <a:pt x="1302" y="1408"/>
                  </a:lnTo>
                  <a:lnTo>
                    <a:pt x="1316" y="1372"/>
                  </a:lnTo>
                  <a:lnTo>
                    <a:pt x="1330" y="1336"/>
                  </a:lnTo>
                  <a:lnTo>
                    <a:pt x="1340" y="1296"/>
                  </a:lnTo>
                  <a:lnTo>
                    <a:pt x="1350" y="1256"/>
                  </a:lnTo>
                  <a:lnTo>
                    <a:pt x="1360" y="1214"/>
                  </a:lnTo>
                  <a:lnTo>
                    <a:pt x="1366" y="1168"/>
                  </a:lnTo>
                  <a:lnTo>
                    <a:pt x="1372" y="1120"/>
                  </a:lnTo>
                  <a:lnTo>
                    <a:pt x="1376" y="1070"/>
                  </a:lnTo>
                  <a:lnTo>
                    <a:pt x="1376" y="1070"/>
                  </a:lnTo>
                  <a:lnTo>
                    <a:pt x="1378" y="1006"/>
                  </a:lnTo>
                  <a:lnTo>
                    <a:pt x="1380" y="868"/>
                  </a:lnTo>
                  <a:lnTo>
                    <a:pt x="862" y="868"/>
                  </a:lnTo>
                  <a:lnTo>
                    <a:pt x="862" y="1144"/>
                  </a:lnTo>
                  <a:lnTo>
                    <a:pt x="862" y="1144"/>
                  </a:lnTo>
                  <a:lnTo>
                    <a:pt x="862" y="1226"/>
                  </a:lnTo>
                  <a:lnTo>
                    <a:pt x="864" y="1292"/>
                  </a:lnTo>
                  <a:lnTo>
                    <a:pt x="868" y="1348"/>
                  </a:lnTo>
                  <a:lnTo>
                    <a:pt x="872" y="1398"/>
                  </a:lnTo>
                  <a:lnTo>
                    <a:pt x="426" y="1398"/>
                  </a:lnTo>
                  <a:lnTo>
                    <a:pt x="426" y="1398"/>
                  </a:lnTo>
                  <a:lnTo>
                    <a:pt x="432" y="1344"/>
                  </a:lnTo>
                  <a:lnTo>
                    <a:pt x="436" y="1284"/>
                  </a:lnTo>
                  <a:lnTo>
                    <a:pt x="438" y="1216"/>
                  </a:lnTo>
                  <a:lnTo>
                    <a:pt x="440" y="1140"/>
                  </a:lnTo>
                  <a:lnTo>
                    <a:pt x="440" y="868"/>
                  </a:lnTo>
                  <a:lnTo>
                    <a:pt x="346" y="868"/>
                  </a:lnTo>
                  <a:lnTo>
                    <a:pt x="346" y="868"/>
                  </a:lnTo>
                  <a:lnTo>
                    <a:pt x="238" y="868"/>
                  </a:lnTo>
                  <a:lnTo>
                    <a:pt x="158" y="868"/>
                  </a:lnTo>
                  <a:lnTo>
                    <a:pt x="88" y="872"/>
                  </a:lnTo>
                  <a:lnTo>
                    <a:pt x="0" y="880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74" y="470"/>
                  </a:lnTo>
                  <a:lnTo>
                    <a:pt x="146" y="476"/>
                  </a:lnTo>
                  <a:lnTo>
                    <a:pt x="232" y="478"/>
                  </a:lnTo>
                  <a:lnTo>
                    <a:pt x="354" y="478"/>
                  </a:lnTo>
                  <a:lnTo>
                    <a:pt x="440" y="478"/>
                  </a:lnTo>
                  <a:lnTo>
                    <a:pt x="440" y="300"/>
                  </a:lnTo>
                  <a:lnTo>
                    <a:pt x="440" y="300"/>
                  </a:lnTo>
                  <a:lnTo>
                    <a:pt x="440" y="222"/>
                  </a:lnTo>
                  <a:lnTo>
                    <a:pt x="438" y="160"/>
                  </a:lnTo>
                  <a:lnTo>
                    <a:pt x="432" y="102"/>
                  </a:lnTo>
                  <a:lnTo>
                    <a:pt x="426" y="40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66" y="100"/>
                  </a:lnTo>
                  <a:lnTo>
                    <a:pt x="864" y="146"/>
                  </a:lnTo>
                  <a:lnTo>
                    <a:pt x="862" y="204"/>
                  </a:lnTo>
                  <a:lnTo>
                    <a:pt x="862" y="290"/>
                  </a:lnTo>
                  <a:lnTo>
                    <a:pt x="862" y="478"/>
                  </a:lnTo>
                  <a:lnTo>
                    <a:pt x="1388" y="478"/>
                  </a:lnTo>
                  <a:close/>
                  <a:moveTo>
                    <a:pt x="2008" y="68"/>
                  </a:moveTo>
                  <a:lnTo>
                    <a:pt x="2008" y="68"/>
                  </a:lnTo>
                  <a:lnTo>
                    <a:pt x="2028" y="108"/>
                  </a:lnTo>
                  <a:lnTo>
                    <a:pt x="2046" y="144"/>
                  </a:lnTo>
                  <a:lnTo>
                    <a:pt x="2062" y="180"/>
                  </a:lnTo>
                  <a:lnTo>
                    <a:pt x="2078" y="214"/>
                  </a:lnTo>
                  <a:lnTo>
                    <a:pt x="2092" y="252"/>
                  </a:lnTo>
                  <a:lnTo>
                    <a:pt x="2104" y="290"/>
                  </a:lnTo>
                  <a:lnTo>
                    <a:pt x="2128" y="376"/>
                  </a:lnTo>
                  <a:lnTo>
                    <a:pt x="1938" y="434"/>
                  </a:lnTo>
                  <a:lnTo>
                    <a:pt x="1938" y="434"/>
                  </a:lnTo>
                  <a:lnTo>
                    <a:pt x="1916" y="348"/>
                  </a:lnTo>
                  <a:lnTo>
                    <a:pt x="1904" y="310"/>
                  </a:lnTo>
                  <a:lnTo>
                    <a:pt x="1890" y="272"/>
                  </a:lnTo>
                  <a:lnTo>
                    <a:pt x="1876" y="236"/>
                  </a:lnTo>
                  <a:lnTo>
                    <a:pt x="1862" y="200"/>
                  </a:lnTo>
                  <a:lnTo>
                    <a:pt x="1844" y="162"/>
                  </a:lnTo>
                  <a:lnTo>
                    <a:pt x="1822" y="120"/>
                  </a:lnTo>
                  <a:lnTo>
                    <a:pt x="2008" y="68"/>
                  </a:lnTo>
                  <a:close/>
                  <a:moveTo>
                    <a:pt x="2262" y="0"/>
                  </a:moveTo>
                  <a:lnTo>
                    <a:pt x="2262" y="0"/>
                  </a:lnTo>
                  <a:lnTo>
                    <a:pt x="2282" y="34"/>
                  </a:lnTo>
                  <a:lnTo>
                    <a:pt x="2300" y="68"/>
                  </a:lnTo>
                  <a:lnTo>
                    <a:pt x="2318" y="106"/>
                  </a:lnTo>
                  <a:lnTo>
                    <a:pt x="2334" y="142"/>
                  </a:lnTo>
                  <a:lnTo>
                    <a:pt x="2348" y="182"/>
                  </a:lnTo>
                  <a:lnTo>
                    <a:pt x="2360" y="220"/>
                  </a:lnTo>
                  <a:lnTo>
                    <a:pt x="2372" y="260"/>
                  </a:lnTo>
                  <a:lnTo>
                    <a:pt x="2384" y="302"/>
                  </a:lnTo>
                  <a:lnTo>
                    <a:pt x="2196" y="364"/>
                  </a:lnTo>
                  <a:lnTo>
                    <a:pt x="2196" y="364"/>
                  </a:lnTo>
                  <a:lnTo>
                    <a:pt x="2172" y="282"/>
                  </a:lnTo>
                  <a:lnTo>
                    <a:pt x="2146" y="202"/>
                  </a:lnTo>
                  <a:lnTo>
                    <a:pt x="2114" y="126"/>
                  </a:lnTo>
                  <a:lnTo>
                    <a:pt x="2078" y="52"/>
                  </a:lnTo>
                  <a:lnTo>
                    <a:pt x="2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31619880" y="3083040"/>
              <a:ext cx="2450880" cy="214956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2149560"/>
                <a:gd name="textAreaBottom" fmla="*/ 2149920 h 2149560"/>
              </a:gdLst>
              <a:ahLst/>
              <a:rect l="textAreaLeft" t="textAreaTop" r="textAreaRight" b="textAreaBottom"/>
              <a:pathLst>
                <a:path w="1544" h="1354">
                  <a:moveTo>
                    <a:pt x="1544" y="650"/>
                  </a:moveTo>
                  <a:lnTo>
                    <a:pt x="1544" y="650"/>
                  </a:lnTo>
                  <a:lnTo>
                    <a:pt x="1544" y="688"/>
                  </a:lnTo>
                  <a:lnTo>
                    <a:pt x="1542" y="724"/>
                  </a:lnTo>
                  <a:lnTo>
                    <a:pt x="1538" y="760"/>
                  </a:lnTo>
                  <a:lnTo>
                    <a:pt x="1532" y="796"/>
                  </a:lnTo>
                  <a:lnTo>
                    <a:pt x="1526" y="830"/>
                  </a:lnTo>
                  <a:lnTo>
                    <a:pt x="1518" y="862"/>
                  </a:lnTo>
                  <a:lnTo>
                    <a:pt x="1506" y="896"/>
                  </a:lnTo>
                  <a:lnTo>
                    <a:pt x="1496" y="926"/>
                  </a:lnTo>
                  <a:lnTo>
                    <a:pt x="1482" y="956"/>
                  </a:lnTo>
                  <a:lnTo>
                    <a:pt x="1468" y="986"/>
                  </a:lnTo>
                  <a:lnTo>
                    <a:pt x="1452" y="1016"/>
                  </a:lnTo>
                  <a:lnTo>
                    <a:pt x="1434" y="1044"/>
                  </a:lnTo>
                  <a:lnTo>
                    <a:pt x="1414" y="1070"/>
                  </a:lnTo>
                  <a:lnTo>
                    <a:pt x="1394" y="1096"/>
                  </a:lnTo>
                  <a:lnTo>
                    <a:pt x="1370" y="1122"/>
                  </a:lnTo>
                  <a:lnTo>
                    <a:pt x="1346" y="1146"/>
                  </a:lnTo>
                  <a:lnTo>
                    <a:pt x="1346" y="1146"/>
                  </a:lnTo>
                  <a:lnTo>
                    <a:pt x="1310" y="1180"/>
                  </a:lnTo>
                  <a:lnTo>
                    <a:pt x="1272" y="1210"/>
                  </a:lnTo>
                  <a:lnTo>
                    <a:pt x="1230" y="1240"/>
                  </a:lnTo>
                  <a:lnTo>
                    <a:pt x="1186" y="1266"/>
                  </a:lnTo>
                  <a:lnTo>
                    <a:pt x="1142" y="1288"/>
                  </a:lnTo>
                  <a:lnTo>
                    <a:pt x="1094" y="1308"/>
                  </a:lnTo>
                  <a:lnTo>
                    <a:pt x="1044" y="1326"/>
                  </a:lnTo>
                  <a:lnTo>
                    <a:pt x="992" y="1342"/>
                  </a:lnTo>
                  <a:lnTo>
                    <a:pt x="992" y="1342"/>
                  </a:lnTo>
                  <a:lnTo>
                    <a:pt x="950" y="1352"/>
                  </a:lnTo>
                  <a:lnTo>
                    <a:pt x="926" y="1354"/>
                  </a:lnTo>
                  <a:lnTo>
                    <a:pt x="926" y="1354"/>
                  </a:lnTo>
                  <a:lnTo>
                    <a:pt x="912" y="1354"/>
                  </a:lnTo>
                  <a:lnTo>
                    <a:pt x="898" y="1352"/>
                  </a:lnTo>
                  <a:lnTo>
                    <a:pt x="886" y="1350"/>
                  </a:lnTo>
                  <a:lnTo>
                    <a:pt x="872" y="1344"/>
                  </a:lnTo>
                  <a:lnTo>
                    <a:pt x="862" y="1340"/>
                  </a:lnTo>
                  <a:lnTo>
                    <a:pt x="850" y="1332"/>
                  </a:lnTo>
                  <a:lnTo>
                    <a:pt x="840" y="1324"/>
                  </a:lnTo>
                  <a:lnTo>
                    <a:pt x="830" y="1316"/>
                  </a:lnTo>
                  <a:lnTo>
                    <a:pt x="830" y="1316"/>
                  </a:lnTo>
                  <a:lnTo>
                    <a:pt x="820" y="1304"/>
                  </a:lnTo>
                  <a:lnTo>
                    <a:pt x="814" y="1294"/>
                  </a:lnTo>
                  <a:lnTo>
                    <a:pt x="806" y="1282"/>
                  </a:lnTo>
                  <a:lnTo>
                    <a:pt x="802" y="1270"/>
                  </a:lnTo>
                  <a:lnTo>
                    <a:pt x="798" y="1258"/>
                  </a:lnTo>
                  <a:lnTo>
                    <a:pt x="794" y="1244"/>
                  </a:lnTo>
                  <a:lnTo>
                    <a:pt x="792" y="1230"/>
                  </a:lnTo>
                  <a:lnTo>
                    <a:pt x="792" y="1216"/>
                  </a:lnTo>
                  <a:lnTo>
                    <a:pt x="792" y="1216"/>
                  </a:lnTo>
                  <a:lnTo>
                    <a:pt x="794" y="1196"/>
                  </a:lnTo>
                  <a:lnTo>
                    <a:pt x="798" y="1180"/>
                  </a:lnTo>
                  <a:lnTo>
                    <a:pt x="804" y="1164"/>
                  </a:lnTo>
                  <a:lnTo>
                    <a:pt x="814" y="1148"/>
                  </a:lnTo>
                  <a:lnTo>
                    <a:pt x="826" y="1136"/>
                  </a:lnTo>
                  <a:lnTo>
                    <a:pt x="842" y="1124"/>
                  </a:lnTo>
                  <a:lnTo>
                    <a:pt x="860" y="1114"/>
                  </a:lnTo>
                  <a:lnTo>
                    <a:pt x="880" y="1104"/>
                  </a:lnTo>
                  <a:lnTo>
                    <a:pt x="880" y="1104"/>
                  </a:lnTo>
                  <a:lnTo>
                    <a:pt x="928" y="1086"/>
                  </a:lnTo>
                  <a:lnTo>
                    <a:pt x="972" y="1066"/>
                  </a:lnTo>
                  <a:lnTo>
                    <a:pt x="1014" y="1046"/>
                  </a:lnTo>
                  <a:lnTo>
                    <a:pt x="1050" y="1026"/>
                  </a:lnTo>
                  <a:lnTo>
                    <a:pt x="1084" y="1006"/>
                  </a:lnTo>
                  <a:lnTo>
                    <a:pt x="1116" y="986"/>
                  </a:lnTo>
                  <a:lnTo>
                    <a:pt x="1142" y="966"/>
                  </a:lnTo>
                  <a:lnTo>
                    <a:pt x="1166" y="946"/>
                  </a:lnTo>
                  <a:lnTo>
                    <a:pt x="1166" y="946"/>
                  </a:lnTo>
                  <a:lnTo>
                    <a:pt x="1194" y="916"/>
                  </a:lnTo>
                  <a:lnTo>
                    <a:pt x="1218" y="886"/>
                  </a:lnTo>
                  <a:lnTo>
                    <a:pt x="1238" y="852"/>
                  </a:lnTo>
                  <a:lnTo>
                    <a:pt x="1254" y="816"/>
                  </a:lnTo>
                  <a:lnTo>
                    <a:pt x="1268" y="778"/>
                  </a:lnTo>
                  <a:lnTo>
                    <a:pt x="1276" y="738"/>
                  </a:lnTo>
                  <a:lnTo>
                    <a:pt x="1282" y="696"/>
                  </a:lnTo>
                  <a:lnTo>
                    <a:pt x="1284" y="650"/>
                  </a:lnTo>
                  <a:lnTo>
                    <a:pt x="1284" y="650"/>
                  </a:lnTo>
                  <a:lnTo>
                    <a:pt x="1282" y="606"/>
                  </a:lnTo>
                  <a:lnTo>
                    <a:pt x="1278" y="564"/>
                  </a:lnTo>
                  <a:lnTo>
                    <a:pt x="1270" y="524"/>
                  </a:lnTo>
                  <a:lnTo>
                    <a:pt x="1260" y="488"/>
                  </a:lnTo>
                  <a:lnTo>
                    <a:pt x="1246" y="454"/>
                  </a:lnTo>
                  <a:lnTo>
                    <a:pt x="1230" y="422"/>
                  </a:lnTo>
                  <a:lnTo>
                    <a:pt x="1212" y="392"/>
                  </a:lnTo>
                  <a:lnTo>
                    <a:pt x="1190" y="366"/>
                  </a:lnTo>
                  <a:lnTo>
                    <a:pt x="1164" y="342"/>
                  </a:lnTo>
                  <a:lnTo>
                    <a:pt x="1136" y="320"/>
                  </a:lnTo>
                  <a:lnTo>
                    <a:pt x="1104" y="300"/>
                  </a:lnTo>
                  <a:lnTo>
                    <a:pt x="1070" y="284"/>
                  </a:lnTo>
                  <a:lnTo>
                    <a:pt x="1034" y="270"/>
                  </a:lnTo>
                  <a:lnTo>
                    <a:pt x="994" y="258"/>
                  </a:lnTo>
                  <a:lnTo>
                    <a:pt x="952" y="250"/>
                  </a:lnTo>
                  <a:lnTo>
                    <a:pt x="906" y="244"/>
                  </a:lnTo>
                  <a:lnTo>
                    <a:pt x="906" y="244"/>
                  </a:lnTo>
                  <a:lnTo>
                    <a:pt x="908" y="276"/>
                  </a:lnTo>
                  <a:lnTo>
                    <a:pt x="908" y="312"/>
                  </a:lnTo>
                  <a:lnTo>
                    <a:pt x="908" y="312"/>
                  </a:lnTo>
                  <a:lnTo>
                    <a:pt x="908" y="354"/>
                  </a:lnTo>
                  <a:lnTo>
                    <a:pt x="906" y="396"/>
                  </a:lnTo>
                  <a:lnTo>
                    <a:pt x="904" y="438"/>
                  </a:lnTo>
                  <a:lnTo>
                    <a:pt x="898" y="478"/>
                  </a:lnTo>
                  <a:lnTo>
                    <a:pt x="894" y="520"/>
                  </a:lnTo>
                  <a:lnTo>
                    <a:pt x="886" y="560"/>
                  </a:lnTo>
                  <a:lnTo>
                    <a:pt x="878" y="602"/>
                  </a:lnTo>
                  <a:lnTo>
                    <a:pt x="868" y="642"/>
                  </a:lnTo>
                  <a:lnTo>
                    <a:pt x="858" y="682"/>
                  </a:lnTo>
                  <a:lnTo>
                    <a:pt x="846" y="720"/>
                  </a:lnTo>
                  <a:lnTo>
                    <a:pt x="832" y="760"/>
                  </a:lnTo>
                  <a:lnTo>
                    <a:pt x="818" y="800"/>
                  </a:lnTo>
                  <a:lnTo>
                    <a:pt x="802" y="838"/>
                  </a:lnTo>
                  <a:lnTo>
                    <a:pt x="784" y="876"/>
                  </a:lnTo>
                  <a:lnTo>
                    <a:pt x="766" y="916"/>
                  </a:lnTo>
                  <a:lnTo>
                    <a:pt x="746" y="952"/>
                  </a:lnTo>
                  <a:lnTo>
                    <a:pt x="746" y="952"/>
                  </a:lnTo>
                  <a:lnTo>
                    <a:pt x="724" y="992"/>
                  </a:lnTo>
                  <a:lnTo>
                    <a:pt x="702" y="1028"/>
                  </a:lnTo>
                  <a:lnTo>
                    <a:pt x="678" y="1062"/>
                  </a:lnTo>
                  <a:lnTo>
                    <a:pt x="656" y="1094"/>
                  </a:lnTo>
                  <a:lnTo>
                    <a:pt x="632" y="1124"/>
                  </a:lnTo>
                  <a:lnTo>
                    <a:pt x="606" y="1150"/>
                  </a:lnTo>
                  <a:lnTo>
                    <a:pt x="582" y="1174"/>
                  </a:lnTo>
                  <a:lnTo>
                    <a:pt x="558" y="1194"/>
                  </a:lnTo>
                  <a:lnTo>
                    <a:pt x="532" y="1214"/>
                  </a:lnTo>
                  <a:lnTo>
                    <a:pt x="506" y="1230"/>
                  </a:lnTo>
                  <a:lnTo>
                    <a:pt x="480" y="1244"/>
                  </a:lnTo>
                  <a:lnTo>
                    <a:pt x="452" y="1256"/>
                  </a:lnTo>
                  <a:lnTo>
                    <a:pt x="426" y="1264"/>
                  </a:lnTo>
                  <a:lnTo>
                    <a:pt x="398" y="1270"/>
                  </a:lnTo>
                  <a:lnTo>
                    <a:pt x="370" y="1274"/>
                  </a:lnTo>
                  <a:lnTo>
                    <a:pt x="342" y="1276"/>
                  </a:lnTo>
                  <a:lnTo>
                    <a:pt x="342" y="1276"/>
                  </a:lnTo>
                  <a:lnTo>
                    <a:pt x="320" y="1274"/>
                  </a:lnTo>
                  <a:lnTo>
                    <a:pt x="300" y="1274"/>
                  </a:lnTo>
                  <a:lnTo>
                    <a:pt x="280" y="1270"/>
                  </a:lnTo>
                  <a:lnTo>
                    <a:pt x="262" y="1266"/>
                  </a:lnTo>
                  <a:lnTo>
                    <a:pt x="242" y="1260"/>
                  </a:lnTo>
                  <a:lnTo>
                    <a:pt x="224" y="1254"/>
                  </a:lnTo>
                  <a:lnTo>
                    <a:pt x="208" y="1246"/>
                  </a:lnTo>
                  <a:lnTo>
                    <a:pt x="190" y="1236"/>
                  </a:lnTo>
                  <a:lnTo>
                    <a:pt x="174" y="1226"/>
                  </a:lnTo>
                  <a:lnTo>
                    <a:pt x="160" y="1214"/>
                  </a:lnTo>
                  <a:lnTo>
                    <a:pt x="144" y="1202"/>
                  </a:lnTo>
                  <a:lnTo>
                    <a:pt x="130" y="1188"/>
                  </a:lnTo>
                  <a:lnTo>
                    <a:pt x="116" y="1172"/>
                  </a:lnTo>
                  <a:lnTo>
                    <a:pt x="102" y="1156"/>
                  </a:lnTo>
                  <a:lnTo>
                    <a:pt x="78" y="1118"/>
                  </a:lnTo>
                  <a:lnTo>
                    <a:pt x="78" y="1118"/>
                  </a:lnTo>
                  <a:lnTo>
                    <a:pt x="60" y="1086"/>
                  </a:lnTo>
                  <a:lnTo>
                    <a:pt x="44" y="1052"/>
                  </a:lnTo>
                  <a:lnTo>
                    <a:pt x="32" y="1016"/>
                  </a:lnTo>
                  <a:lnTo>
                    <a:pt x="20" y="980"/>
                  </a:lnTo>
                  <a:lnTo>
                    <a:pt x="12" y="942"/>
                  </a:lnTo>
                  <a:lnTo>
                    <a:pt x="6" y="902"/>
                  </a:lnTo>
                  <a:lnTo>
                    <a:pt x="2" y="862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2" y="776"/>
                  </a:lnTo>
                  <a:lnTo>
                    <a:pt x="4" y="732"/>
                  </a:lnTo>
                  <a:lnTo>
                    <a:pt x="8" y="688"/>
                  </a:lnTo>
                  <a:lnTo>
                    <a:pt x="14" y="646"/>
                  </a:lnTo>
                  <a:lnTo>
                    <a:pt x="22" y="606"/>
                  </a:lnTo>
                  <a:lnTo>
                    <a:pt x="30" y="566"/>
                  </a:lnTo>
                  <a:lnTo>
                    <a:pt x="40" y="526"/>
                  </a:lnTo>
                  <a:lnTo>
                    <a:pt x="52" y="490"/>
                  </a:lnTo>
                  <a:lnTo>
                    <a:pt x="66" y="454"/>
                  </a:lnTo>
                  <a:lnTo>
                    <a:pt x="82" y="418"/>
                  </a:lnTo>
                  <a:lnTo>
                    <a:pt x="98" y="384"/>
                  </a:lnTo>
                  <a:lnTo>
                    <a:pt x="118" y="352"/>
                  </a:lnTo>
                  <a:lnTo>
                    <a:pt x="138" y="320"/>
                  </a:lnTo>
                  <a:lnTo>
                    <a:pt x="160" y="290"/>
                  </a:lnTo>
                  <a:lnTo>
                    <a:pt x="182" y="260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36" y="204"/>
                  </a:lnTo>
                  <a:lnTo>
                    <a:pt x="266" y="178"/>
                  </a:lnTo>
                  <a:lnTo>
                    <a:pt x="296" y="154"/>
                  </a:lnTo>
                  <a:lnTo>
                    <a:pt x="328" y="130"/>
                  </a:lnTo>
                  <a:lnTo>
                    <a:pt x="360" y="110"/>
                  </a:lnTo>
                  <a:lnTo>
                    <a:pt x="394" y="90"/>
                  </a:lnTo>
                  <a:lnTo>
                    <a:pt x="430" y="74"/>
                  </a:lnTo>
                  <a:lnTo>
                    <a:pt x="466" y="58"/>
                  </a:lnTo>
                  <a:lnTo>
                    <a:pt x="504" y="44"/>
                  </a:lnTo>
                  <a:lnTo>
                    <a:pt x="544" y="32"/>
                  </a:lnTo>
                  <a:lnTo>
                    <a:pt x="584" y="22"/>
                  </a:lnTo>
                  <a:lnTo>
                    <a:pt x="626" y="14"/>
                  </a:lnTo>
                  <a:lnTo>
                    <a:pt x="670" y="8"/>
                  </a:lnTo>
                  <a:lnTo>
                    <a:pt x="714" y="4"/>
                  </a:lnTo>
                  <a:lnTo>
                    <a:pt x="760" y="0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848" y="0"/>
                  </a:lnTo>
                  <a:lnTo>
                    <a:pt x="888" y="2"/>
                  </a:lnTo>
                  <a:lnTo>
                    <a:pt x="928" y="6"/>
                  </a:lnTo>
                  <a:lnTo>
                    <a:pt x="966" y="10"/>
                  </a:lnTo>
                  <a:lnTo>
                    <a:pt x="1002" y="16"/>
                  </a:lnTo>
                  <a:lnTo>
                    <a:pt x="1038" y="22"/>
                  </a:lnTo>
                  <a:lnTo>
                    <a:pt x="1074" y="30"/>
                  </a:lnTo>
                  <a:lnTo>
                    <a:pt x="1108" y="40"/>
                  </a:lnTo>
                  <a:lnTo>
                    <a:pt x="1140" y="50"/>
                  </a:lnTo>
                  <a:lnTo>
                    <a:pt x="1172" y="62"/>
                  </a:lnTo>
                  <a:lnTo>
                    <a:pt x="1202" y="76"/>
                  </a:lnTo>
                  <a:lnTo>
                    <a:pt x="1232" y="90"/>
                  </a:lnTo>
                  <a:lnTo>
                    <a:pt x="1260" y="106"/>
                  </a:lnTo>
                  <a:lnTo>
                    <a:pt x="1286" y="122"/>
                  </a:lnTo>
                  <a:lnTo>
                    <a:pt x="1312" y="140"/>
                  </a:lnTo>
                  <a:lnTo>
                    <a:pt x="1338" y="160"/>
                  </a:lnTo>
                  <a:lnTo>
                    <a:pt x="1338" y="160"/>
                  </a:lnTo>
                  <a:lnTo>
                    <a:pt x="1362" y="182"/>
                  </a:lnTo>
                  <a:lnTo>
                    <a:pt x="1386" y="206"/>
                  </a:lnTo>
                  <a:lnTo>
                    <a:pt x="1408" y="230"/>
                  </a:lnTo>
                  <a:lnTo>
                    <a:pt x="1428" y="256"/>
                  </a:lnTo>
                  <a:lnTo>
                    <a:pt x="1446" y="282"/>
                  </a:lnTo>
                  <a:lnTo>
                    <a:pt x="1464" y="310"/>
                  </a:lnTo>
                  <a:lnTo>
                    <a:pt x="1480" y="338"/>
                  </a:lnTo>
                  <a:lnTo>
                    <a:pt x="1494" y="368"/>
                  </a:lnTo>
                  <a:lnTo>
                    <a:pt x="1506" y="400"/>
                  </a:lnTo>
                  <a:lnTo>
                    <a:pt x="1516" y="432"/>
                  </a:lnTo>
                  <a:lnTo>
                    <a:pt x="1524" y="466"/>
                  </a:lnTo>
                  <a:lnTo>
                    <a:pt x="1532" y="500"/>
                  </a:lnTo>
                  <a:lnTo>
                    <a:pt x="1538" y="536"/>
                  </a:lnTo>
                  <a:lnTo>
                    <a:pt x="1542" y="572"/>
                  </a:lnTo>
                  <a:lnTo>
                    <a:pt x="1544" y="610"/>
                  </a:lnTo>
                  <a:lnTo>
                    <a:pt x="1544" y="650"/>
                  </a:lnTo>
                  <a:lnTo>
                    <a:pt x="1544" y="650"/>
                  </a:lnTo>
                  <a:close/>
                  <a:moveTo>
                    <a:pt x="648" y="312"/>
                  </a:moveTo>
                  <a:lnTo>
                    <a:pt x="648" y="312"/>
                  </a:lnTo>
                  <a:lnTo>
                    <a:pt x="648" y="278"/>
                  </a:lnTo>
                  <a:lnTo>
                    <a:pt x="646" y="256"/>
                  </a:lnTo>
                  <a:lnTo>
                    <a:pt x="646" y="256"/>
                  </a:lnTo>
                  <a:lnTo>
                    <a:pt x="600" y="268"/>
                  </a:lnTo>
                  <a:lnTo>
                    <a:pt x="558" y="284"/>
                  </a:lnTo>
                  <a:lnTo>
                    <a:pt x="516" y="302"/>
                  </a:lnTo>
                  <a:lnTo>
                    <a:pt x="480" y="324"/>
                  </a:lnTo>
                  <a:lnTo>
                    <a:pt x="444" y="350"/>
                  </a:lnTo>
                  <a:lnTo>
                    <a:pt x="412" y="378"/>
                  </a:lnTo>
                  <a:lnTo>
                    <a:pt x="382" y="410"/>
                  </a:lnTo>
                  <a:lnTo>
                    <a:pt x="354" y="444"/>
                  </a:lnTo>
                  <a:lnTo>
                    <a:pt x="354" y="444"/>
                  </a:lnTo>
                  <a:lnTo>
                    <a:pt x="330" y="484"/>
                  </a:lnTo>
                  <a:lnTo>
                    <a:pt x="308" y="524"/>
                  </a:lnTo>
                  <a:lnTo>
                    <a:pt x="290" y="566"/>
                  </a:lnTo>
                  <a:lnTo>
                    <a:pt x="276" y="612"/>
                  </a:lnTo>
                  <a:lnTo>
                    <a:pt x="264" y="660"/>
                  </a:lnTo>
                  <a:lnTo>
                    <a:pt x="256" y="710"/>
                  </a:lnTo>
                  <a:lnTo>
                    <a:pt x="252" y="762"/>
                  </a:lnTo>
                  <a:lnTo>
                    <a:pt x="250" y="818"/>
                  </a:lnTo>
                  <a:lnTo>
                    <a:pt x="250" y="818"/>
                  </a:lnTo>
                  <a:lnTo>
                    <a:pt x="250" y="864"/>
                  </a:lnTo>
                  <a:lnTo>
                    <a:pt x="256" y="904"/>
                  </a:lnTo>
                  <a:lnTo>
                    <a:pt x="262" y="938"/>
                  </a:lnTo>
                  <a:lnTo>
                    <a:pt x="272" y="966"/>
                  </a:lnTo>
                  <a:lnTo>
                    <a:pt x="278" y="976"/>
                  </a:lnTo>
                  <a:lnTo>
                    <a:pt x="286" y="986"/>
                  </a:lnTo>
                  <a:lnTo>
                    <a:pt x="292" y="996"/>
                  </a:lnTo>
                  <a:lnTo>
                    <a:pt x="302" y="1002"/>
                  </a:lnTo>
                  <a:lnTo>
                    <a:pt x="310" y="1008"/>
                  </a:lnTo>
                  <a:lnTo>
                    <a:pt x="320" y="1012"/>
                  </a:lnTo>
                  <a:lnTo>
                    <a:pt x="330" y="1014"/>
                  </a:lnTo>
                  <a:lnTo>
                    <a:pt x="342" y="1014"/>
                  </a:lnTo>
                  <a:lnTo>
                    <a:pt x="342" y="1014"/>
                  </a:lnTo>
                  <a:lnTo>
                    <a:pt x="354" y="1012"/>
                  </a:lnTo>
                  <a:lnTo>
                    <a:pt x="366" y="1008"/>
                  </a:lnTo>
                  <a:lnTo>
                    <a:pt x="380" y="1002"/>
                  </a:lnTo>
                  <a:lnTo>
                    <a:pt x="394" y="994"/>
                  </a:lnTo>
                  <a:lnTo>
                    <a:pt x="408" y="982"/>
                  </a:lnTo>
                  <a:lnTo>
                    <a:pt x="422" y="966"/>
                  </a:lnTo>
                  <a:lnTo>
                    <a:pt x="438" y="950"/>
                  </a:lnTo>
                  <a:lnTo>
                    <a:pt x="454" y="930"/>
                  </a:lnTo>
                  <a:lnTo>
                    <a:pt x="454" y="930"/>
                  </a:lnTo>
                  <a:lnTo>
                    <a:pt x="474" y="904"/>
                  </a:lnTo>
                  <a:lnTo>
                    <a:pt x="492" y="878"/>
                  </a:lnTo>
                  <a:lnTo>
                    <a:pt x="510" y="852"/>
                  </a:lnTo>
                  <a:lnTo>
                    <a:pt x="526" y="822"/>
                  </a:lnTo>
                  <a:lnTo>
                    <a:pt x="542" y="792"/>
                  </a:lnTo>
                  <a:lnTo>
                    <a:pt x="558" y="758"/>
                  </a:lnTo>
                  <a:lnTo>
                    <a:pt x="572" y="726"/>
                  </a:lnTo>
                  <a:lnTo>
                    <a:pt x="584" y="690"/>
                  </a:lnTo>
                  <a:lnTo>
                    <a:pt x="584" y="690"/>
                  </a:lnTo>
                  <a:lnTo>
                    <a:pt x="600" y="646"/>
                  </a:lnTo>
                  <a:lnTo>
                    <a:pt x="612" y="600"/>
                  </a:lnTo>
                  <a:lnTo>
                    <a:pt x="622" y="554"/>
                  </a:lnTo>
                  <a:lnTo>
                    <a:pt x="632" y="506"/>
                  </a:lnTo>
                  <a:lnTo>
                    <a:pt x="638" y="458"/>
                  </a:lnTo>
                  <a:lnTo>
                    <a:pt x="644" y="410"/>
                  </a:lnTo>
                  <a:lnTo>
                    <a:pt x="646" y="362"/>
                  </a:lnTo>
                  <a:lnTo>
                    <a:pt x="648" y="312"/>
                  </a:lnTo>
                  <a:lnTo>
                    <a:pt x="648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3841000" y="6048360"/>
              <a:ext cx="3321000" cy="326052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260520"/>
                <a:gd name="textAreaBottom" fmla="*/ 3260880 h 3260520"/>
              </a:gdLst>
              <a:ahLst/>
              <a:rect l="textAreaLeft" t="textAreaTop" r="textAreaRight" b="textAreaBottom"/>
              <a:pathLst>
                <a:path w="2092" h="2054">
                  <a:moveTo>
                    <a:pt x="1886" y="228"/>
                  </a:moveTo>
                  <a:lnTo>
                    <a:pt x="1886" y="228"/>
                  </a:lnTo>
                  <a:lnTo>
                    <a:pt x="1850" y="260"/>
                  </a:lnTo>
                  <a:lnTo>
                    <a:pt x="1808" y="300"/>
                  </a:lnTo>
                  <a:lnTo>
                    <a:pt x="1808" y="300"/>
                  </a:lnTo>
                  <a:lnTo>
                    <a:pt x="1756" y="346"/>
                  </a:lnTo>
                  <a:lnTo>
                    <a:pt x="1704" y="390"/>
                  </a:lnTo>
                  <a:lnTo>
                    <a:pt x="1652" y="434"/>
                  </a:lnTo>
                  <a:lnTo>
                    <a:pt x="1594" y="478"/>
                  </a:lnTo>
                  <a:lnTo>
                    <a:pt x="1534" y="524"/>
                  </a:lnTo>
                  <a:lnTo>
                    <a:pt x="1466" y="572"/>
                  </a:lnTo>
                  <a:lnTo>
                    <a:pt x="1306" y="682"/>
                  </a:lnTo>
                  <a:lnTo>
                    <a:pt x="1306" y="682"/>
                  </a:lnTo>
                  <a:lnTo>
                    <a:pt x="1370" y="724"/>
                  </a:lnTo>
                  <a:lnTo>
                    <a:pt x="1428" y="766"/>
                  </a:lnTo>
                  <a:lnTo>
                    <a:pt x="1634" y="766"/>
                  </a:lnTo>
                  <a:lnTo>
                    <a:pt x="1634" y="766"/>
                  </a:lnTo>
                  <a:lnTo>
                    <a:pt x="1722" y="764"/>
                  </a:lnTo>
                  <a:lnTo>
                    <a:pt x="1794" y="762"/>
                  </a:lnTo>
                  <a:lnTo>
                    <a:pt x="1852" y="758"/>
                  </a:lnTo>
                  <a:lnTo>
                    <a:pt x="1894" y="752"/>
                  </a:lnTo>
                  <a:lnTo>
                    <a:pt x="2092" y="960"/>
                  </a:lnTo>
                  <a:lnTo>
                    <a:pt x="2092" y="960"/>
                  </a:lnTo>
                  <a:lnTo>
                    <a:pt x="2080" y="970"/>
                  </a:lnTo>
                  <a:lnTo>
                    <a:pt x="2072" y="982"/>
                  </a:lnTo>
                  <a:lnTo>
                    <a:pt x="2038" y="1030"/>
                  </a:lnTo>
                  <a:lnTo>
                    <a:pt x="2038" y="1030"/>
                  </a:lnTo>
                  <a:lnTo>
                    <a:pt x="1974" y="1120"/>
                  </a:lnTo>
                  <a:lnTo>
                    <a:pt x="1914" y="1202"/>
                  </a:lnTo>
                  <a:lnTo>
                    <a:pt x="1856" y="1280"/>
                  </a:lnTo>
                  <a:lnTo>
                    <a:pt x="1796" y="1352"/>
                  </a:lnTo>
                  <a:lnTo>
                    <a:pt x="1736" y="1420"/>
                  </a:lnTo>
                  <a:lnTo>
                    <a:pt x="1672" y="1486"/>
                  </a:lnTo>
                  <a:lnTo>
                    <a:pt x="1604" y="1554"/>
                  </a:lnTo>
                  <a:lnTo>
                    <a:pt x="1532" y="1620"/>
                  </a:lnTo>
                  <a:lnTo>
                    <a:pt x="1532" y="1620"/>
                  </a:lnTo>
                  <a:lnTo>
                    <a:pt x="1500" y="1582"/>
                  </a:lnTo>
                  <a:lnTo>
                    <a:pt x="1470" y="1546"/>
                  </a:lnTo>
                  <a:lnTo>
                    <a:pt x="1438" y="1514"/>
                  </a:lnTo>
                  <a:lnTo>
                    <a:pt x="1408" y="1484"/>
                  </a:lnTo>
                  <a:lnTo>
                    <a:pt x="1376" y="1456"/>
                  </a:lnTo>
                  <a:lnTo>
                    <a:pt x="1342" y="1428"/>
                  </a:lnTo>
                  <a:lnTo>
                    <a:pt x="1304" y="1400"/>
                  </a:lnTo>
                  <a:lnTo>
                    <a:pt x="1264" y="1372"/>
                  </a:lnTo>
                  <a:lnTo>
                    <a:pt x="1264" y="1372"/>
                  </a:lnTo>
                  <a:lnTo>
                    <a:pt x="1310" y="1340"/>
                  </a:lnTo>
                  <a:lnTo>
                    <a:pt x="1354" y="1306"/>
                  </a:lnTo>
                  <a:lnTo>
                    <a:pt x="1392" y="1276"/>
                  </a:lnTo>
                  <a:lnTo>
                    <a:pt x="1430" y="1244"/>
                  </a:lnTo>
                  <a:lnTo>
                    <a:pt x="1466" y="1210"/>
                  </a:lnTo>
                  <a:lnTo>
                    <a:pt x="1504" y="1172"/>
                  </a:lnTo>
                  <a:lnTo>
                    <a:pt x="1542" y="1132"/>
                  </a:lnTo>
                  <a:lnTo>
                    <a:pt x="1582" y="1088"/>
                  </a:lnTo>
                  <a:lnTo>
                    <a:pt x="1186" y="1088"/>
                  </a:lnTo>
                  <a:lnTo>
                    <a:pt x="1186" y="1764"/>
                  </a:lnTo>
                  <a:lnTo>
                    <a:pt x="1186" y="1764"/>
                  </a:lnTo>
                  <a:lnTo>
                    <a:pt x="1186" y="1810"/>
                  </a:lnTo>
                  <a:lnTo>
                    <a:pt x="1180" y="1854"/>
                  </a:lnTo>
                  <a:lnTo>
                    <a:pt x="1172" y="1890"/>
                  </a:lnTo>
                  <a:lnTo>
                    <a:pt x="1166" y="1906"/>
                  </a:lnTo>
                  <a:lnTo>
                    <a:pt x="1160" y="1922"/>
                  </a:lnTo>
                  <a:lnTo>
                    <a:pt x="1152" y="1936"/>
                  </a:lnTo>
                  <a:lnTo>
                    <a:pt x="1144" y="1950"/>
                  </a:lnTo>
                  <a:lnTo>
                    <a:pt x="1134" y="1962"/>
                  </a:lnTo>
                  <a:lnTo>
                    <a:pt x="1122" y="1972"/>
                  </a:lnTo>
                  <a:lnTo>
                    <a:pt x="1112" y="1982"/>
                  </a:lnTo>
                  <a:lnTo>
                    <a:pt x="1098" y="1992"/>
                  </a:lnTo>
                  <a:lnTo>
                    <a:pt x="1084" y="2002"/>
                  </a:lnTo>
                  <a:lnTo>
                    <a:pt x="1070" y="2010"/>
                  </a:lnTo>
                  <a:lnTo>
                    <a:pt x="1070" y="2010"/>
                  </a:lnTo>
                  <a:lnTo>
                    <a:pt x="1042" y="2020"/>
                  </a:lnTo>
                  <a:lnTo>
                    <a:pt x="1010" y="2030"/>
                  </a:lnTo>
                  <a:lnTo>
                    <a:pt x="970" y="2038"/>
                  </a:lnTo>
                  <a:lnTo>
                    <a:pt x="924" y="2044"/>
                  </a:lnTo>
                  <a:lnTo>
                    <a:pt x="868" y="2048"/>
                  </a:lnTo>
                  <a:lnTo>
                    <a:pt x="804" y="2052"/>
                  </a:lnTo>
                  <a:lnTo>
                    <a:pt x="730" y="2054"/>
                  </a:lnTo>
                  <a:lnTo>
                    <a:pt x="644" y="2054"/>
                  </a:lnTo>
                  <a:lnTo>
                    <a:pt x="644" y="2054"/>
                  </a:lnTo>
                  <a:lnTo>
                    <a:pt x="590" y="2054"/>
                  </a:lnTo>
                  <a:lnTo>
                    <a:pt x="502" y="2052"/>
                  </a:lnTo>
                  <a:lnTo>
                    <a:pt x="502" y="2052"/>
                  </a:lnTo>
                  <a:lnTo>
                    <a:pt x="496" y="2004"/>
                  </a:lnTo>
                  <a:lnTo>
                    <a:pt x="488" y="1960"/>
                  </a:lnTo>
                  <a:lnTo>
                    <a:pt x="480" y="1918"/>
                  </a:lnTo>
                  <a:lnTo>
                    <a:pt x="470" y="1876"/>
                  </a:lnTo>
                  <a:lnTo>
                    <a:pt x="458" y="1834"/>
                  </a:lnTo>
                  <a:lnTo>
                    <a:pt x="444" y="1792"/>
                  </a:lnTo>
                  <a:lnTo>
                    <a:pt x="426" y="1748"/>
                  </a:lnTo>
                  <a:lnTo>
                    <a:pt x="408" y="1700"/>
                  </a:lnTo>
                  <a:lnTo>
                    <a:pt x="408" y="1700"/>
                  </a:lnTo>
                  <a:lnTo>
                    <a:pt x="504" y="1712"/>
                  </a:lnTo>
                  <a:lnTo>
                    <a:pt x="586" y="1718"/>
                  </a:lnTo>
                  <a:lnTo>
                    <a:pt x="664" y="1722"/>
                  </a:lnTo>
                  <a:lnTo>
                    <a:pt x="750" y="1722"/>
                  </a:lnTo>
                  <a:lnTo>
                    <a:pt x="750" y="1722"/>
                  </a:lnTo>
                  <a:lnTo>
                    <a:pt x="774" y="1722"/>
                  </a:lnTo>
                  <a:lnTo>
                    <a:pt x="790" y="1720"/>
                  </a:lnTo>
                  <a:lnTo>
                    <a:pt x="804" y="1716"/>
                  </a:lnTo>
                  <a:lnTo>
                    <a:pt x="814" y="1712"/>
                  </a:lnTo>
                  <a:lnTo>
                    <a:pt x="820" y="1704"/>
                  </a:lnTo>
                  <a:lnTo>
                    <a:pt x="824" y="1692"/>
                  </a:lnTo>
                  <a:lnTo>
                    <a:pt x="828" y="1680"/>
                  </a:lnTo>
                  <a:lnTo>
                    <a:pt x="828" y="1662"/>
                  </a:lnTo>
                  <a:lnTo>
                    <a:pt x="828" y="1088"/>
                  </a:lnTo>
                  <a:lnTo>
                    <a:pt x="338" y="1088"/>
                  </a:lnTo>
                  <a:lnTo>
                    <a:pt x="338" y="1088"/>
                  </a:lnTo>
                  <a:lnTo>
                    <a:pt x="232" y="1090"/>
                  </a:lnTo>
                  <a:lnTo>
                    <a:pt x="144" y="1092"/>
                  </a:lnTo>
                  <a:lnTo>
                    <a:pt x="68" y="1096"/>
                  </a:lnTo>
                  <a:lnTo>
                    <a:pt x="0" y="1102"/>
                  </a:lnTo>
                  <a:lnTo>
                    <a:pt x="0" y="752"/>
                  </a:lnTo>
                  <a:lnTo>
                    <a:pt x="0" y="752"/>
                  </a:lnTo>
                  <a:lnTo>
                    <a:pt x="64" y="758"/>
                  </a:lnTo>
                  <a:lnTo>
                    <a:pt x="138" y="762"/>
                  </a:lnTo>
                  <a:lnTo>
                    <a:pt x="228" y="764"/>
                  </a:lnTo>
                  <a:lnTo>
                    <a:pt x="342" y="766"/>
                  </a:lnTo>
                  <a:lnTo>
                    <a:pt x="840" y="766"/>
                  </a:lnTo>
                  <a:lnTo>
                    <a:pt x="840" y="766"/>
                  </a:lnTo>
                  <a:lnTo>
                    <a:pt x="734" y="696"/>
                  </a:lnTo>
                  <a:lnTo>
                    <a:pt x="640" y="636"/>
                  </a:lnTo>
                  <a:lnTo>
                    <a:pt x="546" y="580"/>
                  </a:lnTo>
                  <a:lnTo>
                    <a:pt x="442" y="522"/>
                  </a:lnTo>
                  <a:lnTo>
                    <a:pt x="658" y="336"/>
                  </a:lnTo>
                  <a:lnTo>
                    <a:pt x="502" y="336"/>
                  </a:lnTo>
                  <a:lnTo>
                    <a:pt x="502" y="336"/>
                  </a:lnTo>
                  <a:lnTo>
                    <a:pt x="394" y="336"/>
                  </a:lnTo>
                  <a:lnTo>
                    <a:pt x="314" y="338"/>
                  </a:lnTo>
                  <a:lnTo>
                    <a:pt x="250" y="342"/>
                  </a:lnTo>
                  <a:lnTo>
                    <a:pt x="188" y="348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56" y="8"/>
                  </a:lnTo>
                  <a:lnTo>
                    <a:pt x="326" y="12"/>
                  </a:lnTo>
                  <a:lnTo>
                    <a:pt x="408" y="14"/>
                  </a:lnTo>
                  <a:lnTo>
                    <a:pt x="510" y="14"/>
                  </a:lnTo>
                  <a:lnTo>
                    <a:pt x="1476" y="14"/>
                  </a:lnTo>
                  <a:lnTo>
                    <a:pt x="1476" y="14"/>
                  </a:lnTo>
                  <a:lnTo>
                    <a:pt x="1552" y="14"/>
                  </a:lnTo>
                  <a:lnTo>
                    <a:pt x="1608" y="12"/>
                  </a:lnTo>
                  <a:lnTo>
                    <a:pt x="1654" y="8"/>
                  </a:lnTo>
                  <a:lnTo>
                    <a:pt x="1696" y="2"/>
                  </a:lnTo>
                  <a:lnTo>
                    <a:pt x="1886" y="228"/>
                  </a:lnTo>
                  <a:close/>
                  <a:moveTo>
                    <a:pt x="726" y="336"/>
                  </a:moveTo>
                  <a:lnTo>
                    <a:pt x="726" y="336"/>
                  </a:lnTo>
                  <a:lnTo>
                    <a:pt x="852" y="404"/>
                  </a:lnTo>
                  <a:lnTo>
                    <a:pt x="1012" y="496"/>
                  </a:lnTo>
                  <a:lnTo>
                    <a:pt x="1012" y="496"/>
                  </a:lnTo>
                  <a:lnTo>
                    <a:pt x="1072" y="464"/>
                  </a:lnTo>
                  <a:lnTo>
                    <a:pt x="1126" y="430"/>
                  </a:lnTo>
                  <a:lnTo>
                    <a:pt x="1180" y="390"/>
                  </a:lnTo>
                  <a:lnTo>
                    <a:pt x="1248" y="336"/>
                  </a:lnTo>
                  <a:lnTo>
                    <a:pt x="72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27435240" y="5965920"/>
              <a:ext cx="3276360" cy="338436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3384360"/>
                <a:gd name="textAreaBottom" fmla="*/ 3384720 h 3384360"/>
              </a:gdLst>
              <a:ahLst/>
              <a:rect l="textAreaLeft" t="textAreaTop" r="textAreaRight" b="textAreaBottom"/>
              <a:pathLst>
                <a:path w="2064" h="2132">
                  <a:moveTo>
                    <a:pt x="922" y="606"/>
                  </a:moveTo>
                  <a:lnTo>
                    <a:pt x="922" y="606"/>
                  </a:lnTo>
                  <a:lnTo>
                    <a:pt x="888" y="606"/>
                  </a:lnTo>
                  <a:lnTo>
                    <a:pt x="858" y="608"/>
                  </a:lnTo>
                  <a:lnTo>
                    <a:pt x="830" y="610"/>
                  </a:lnTo>
                  <a:lnTo>
                    <a:pt x="798" y="614"/>
                  </a:lnTo>
                  <a:lnTo>
                    <a:pt x="798" y="424"/>
                  </a:lnTo>
                  <a:lnTo>
                    <a:pt x="798" y="424"/>
                  </a:lnTo>
                  <a:lnTo>
                    <a:pt x="760" y="542"/>
                  </a:lnTo>
                  <a:lnTo>
                    <a:pt x="722" y="642"/>
                  </a:lnTo>
                  <a:lnTo>
                    <a:pt x="704" y="686"/>
                  </a:lnTo>
                  <a:lnTo>
                    <a:pt x="686" y="728"/>
                  </a:lnTo>
                  <a:lnTo>
                    <a:pt x="668" y="770"/>
                  </a:lnTo>
                  <a:lnTo>
                    <a:pt x="648" y="808"/>
                  </a:lnTo>
                  <a:lnTo>
                    <a:pt x="648" y="808"/>
                  </a:lnTo>
                  <a:lnTo>
                    <a:pt x="696" y="884"/>
                  </a:lnTo>
                  <a:lnTo>
                    <a:pt x="716" y="914"/>
                  </a:lnTo>
                  <a:lnTo>
                    <a:pt x="732" y="944"/>
                  </a:lnTo>
                  <a:lnTo>
                    <a:pt x="746" y="972"/>
                  </a:lnTo>
                  <a:lnTo>
                    <a:pt x="758" y="998"/>
                  </a:lnTo>
                  <a:lnTo>
                    <a:pt x="768" y="1024"/>
                  </a:lnTo>
                  <a:lnTo>
                    <a:pt x="778" y="1052"/>
                  </a:lnTo>
                  <a:lnTo>
                    <a:pt x="778" y="1052"/>
                  </a:lnTo>
                  <a:lnTo>
                    <a:pt x="792" y="1104"/>
                  </a:lnTo>
                  <a:lnTo>
                    <a:pt x="802" y="1160"/>
                  </a:lnTo>
                  <a:lnTo>
                    <a:pt x="810" y="1214"/>
                  </a:lnTo>
                  <a:lnTo>
                    <a:pt x="812" y="1266"/>
                  </a:lnTo>
                  <a:lnTo>
                    <a:pt x="812" y="1266"/>
                  </a:lnTo>
                  <a:lnTo>
                    <a:pt x="810" y="1306"/>
                  </a:lnTo>
                  <a:lnTo>
                    <a:pt x="806" y="1342"/>
                  </a:lnTo>
                  <a:lnTo>
                    <a:pt x="798" y="1376"/>
                  </a:lnTo>
                  <a:lnTo>
                    <a:pt x="788" y="1410"/>
                  </a:lnTo>
                  <a:lnTo>
                    <a:pt x="774" y="1440"/>
                  </a:lnTo>
                  <a:lnTo>
                    <a:pt x="758" y="1466"/>
                  </a:lnTo>
                  <a:lnTo>
                    <a:pt x="738" y="1492"/>
                  </a:lnTo>
                  <a:lnTo>
                    <a:pt x="716" y="1516"/>
                  </a:lnTo>
                  <a:lnTo>
                    <a:pt x="692" y="1536"/>
                  </a:lnTo>
                  <a:lnTo>
                    <a:pt x="664" y="1554"/>
                  </a:lnTo>
                  <a:lnTo>
                    <a:pt x="634" y="1570"/>
                  </a:lnTo>
                  <a:lnTo>
                    <a:pt x="602" y="1582"/>
                  </a:lnTo>
                  <a:lnTo>
                    <a:pt x="566" y="1592"/>
                  </a:lnTo>
                  <a:lnTo>
                    <a:pt x="530" y="1600"/>
                  </a:lnTo>
                  <a:lnTo>
                    <a:pt x="490" y="1604"/>
                  </a:lnTo>
                  <a:lnTo>
                    <a:pt x="448" y="1606"/>
                  </a:lnTo>
                  <a:lnTo>
                    <a:pt x="448" y="1606"/>
                  </a:lnTo>
                  <a:lnTo>
                    <a:pt x="412" y="1606"/>
                  </a:lnTo>
                  <a:lnTo>
                    <a:pt x="412" y="1606"/>
                  </a:lnTo>
                  <a:lnTo>
                    <a:pt x="410" y="1550"/>
                  </a:lnTo>
                  <a:lnTo>
                    <a:pt x="406" y="1502"/>
                  </a:lnTo>
                  <a:lnTo>
                    <a:pt x="402" y="1460"/>
                  </a:lnTo>
                  <a:lnTo>
                    <a:pt x="396" y="1422"/>
                  </a:lnTo>
                  <a:lnTo>
                    <a:pt x="386" y="1388"/>
                  </a:lnTo>
                  <a:lnTo>
                    <a:pt x="376" y="1356"/>
                  </a:lnTo>
                  <a:lnTo>
                    <a:pt x="364" y="1322"/>
                  </a:lnTo>
                  <a:lnTo>
                    <a:pt x="348" y="1290"/>
                  </a:lnTo>
                  <a:lnTo>
                    <a:pt x="348" y="1290"/>
                  </a:lnTo>
                  <a:lnTo>
                    <a:pt x="390" y="1294"/>
                  </a:lnTo>
                  <a:lnTo>
                    <a:pt x="410" y="1294"/>
                  </a:lnTo>
                  <a:lnTo>
                    <a:pt x="410" y="1294"/>
                  </a:lnTo>
                  <a:lnTo>
                    <a:pt x="432" y="1292"/>
                  </a:lnTo>
                  <a:lnTo>
                    <a:pt x="448" y="1290"/>
                  </a:lnTo>
                  <a:lnTo>
                    <a:pt x="462" y="1284"/>
                  </a:lnTo>
                  <a:lnTo>
                    <a:pt x="466" y="1280"/>
                  </a:lnTo>
                  <a:lnTo>
                    <a:pt x="472" y="1274"/>
                  </a:lnTo>
                  <a:lnTo>
                    <a:pt x="478" y="1262"/>
                  </a:lnTo>
                  <a:lnTo>
                    <a:pt x="482" y="1244"/>
                  </a:lnTo>
                  <a:lnTo>
                    <a:pt x="484" y="1220"/>
                  </a:lnTo>
                  <a:lnTo>
                    <a:pt x="484" y="1190"/>
                  </a:lnTo>
                  <a:lnTo>
                    <a:pt x="484" y="1190"/>
                  </a:lnTo>
                  <a:lnTo>
                    <a:pt x="482" y="1144"/>
                  </a:lnTo>
                  <a:lnTo>
                    <a:pt x="476" y="1100"/>
                  </a:lnTo>
                  <a:lnTo>
                    <a:pt x="466" y="1056"/>
                  </a:lnTo>
                  <a:lnTo>
                    <a:pt x="452" y="1012"/>
                  </a:lnTo>
                  <a:lnTo>
                    <a:pt x="432" y="968"/>
                  </a:lnTo>
                  <a:lnTo>
                    <a:pt x="408" y="922"/>
                  </a:lnTo>
                  <a:lnTo>
                    <a:pt x="380" y="876"/>
                  </a:lnTo>
                  <a:lnTo>
                    <a:pt x="344" y="826"/>
                  </a:lnTo>
                  <a:lnTo>
                    <a:pt x="344" y="1816"/>
                  </a:lnTo>
                  <a:lnTo>
                    <a:pt x="344" y="1816"/>
                  </a:lnTo>
                  <a:lnTo>
                    <a:pt x="346" y="1892"/>
                  </a:lnTo>
                  <a:lnTo>
                    <a:pt x="348" y="1968"/>
                  </a:lnTo>
                  <a:lnTo>
                    <a:pt x="352" y="2044"/>
                  </a:lnTo>
                  <a:lnTo>
                    <a:pt x="358" y="2118"/>
                  </a:lnTo>
                  <a:lnTo>
                    <a:pt x="0" y="2118"/>
                  </a:lnTo>
                  <a:lnTo>
                    <a:pt x="0" y="2118"/>
                  </a:lnTo>
                  <a:lnTo>
                    <a:pt x="6" y="2048"/>
                  </a:lnTo>
                  <a:lnTo>
                    <a:pt x="10" y="1974"/>
                  </a:lnTo>
                  <a:lnTo>
                    <a:pt x="12" y="1894"/>
                  </a:lnTo>
                  <a:lnTo>
                    <a:pt x="12" y="1808"/>
                  </a:lnTo>
                  <a:lnTo>
                    <a:pt x="12" y="308"/>
                  </a:lnTo>
                  <a:lnTo>
                    <a:pt x="12" y="308"/>
                  </a:lnTo>
                  <a:lnTo>
                    <a:pt x="10" y="170"/>
                  </a:lnTo>
                  <a:lnTo>
                    <a:pt x="8" y="10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8" y="54"/>
                  </a:lnTo>
                  <a:lnTo>
                    <a:pt x="92" y="56"/>
                  </a:lnTo>
                  <a:lnTo>
                    <a:pt x="144" y="58"/>
                  </a:lnTo>
                  <a:lnTo>
                    <a:pt x="204" y="58"/>
                  </a:lnTo>
                  <a:lnTo>
                    <a:pt x="556" y="58"/>
                  </a:lnTo>
                  <a:lnTo>
                    <a:pt x="556" y="58"/>
                  </a:lnTo>
                  <a:lnTo>
                    <a:pt x="608" y="58"/>
                  </a:lnTo>
                  <a:lnTo>
                    <a:pt x="648" y="56"/>
                  </a:lnTo>
                  <a:lnTo>
                    <a:pt x="682" y="54"/>
                  </a:lnTo>
                  <a:lnTo>
                    <a:pt x="714" y="50"/>
                  </a:lnTo>
                  <a:lnTo>
                    <a:pt x="858" y="256"/>
                  </a:lnTo>
                  <a:lnTo>
                    <a:pt x="858" y="256"/>
                  </a:lnTo>
                  <a:lnTo>
                    <a:pt x="852" y="268"/>
                  </a:lnTo>
                  <a:lnTo>
                    <a:pt x="848" y="278"/>
                  </a:lnTo>
                  <a:lnTo>
                    <a:pt x="848" y="278"/>
                  </a:lnTo>
                  <a:lnTo>
                    <a:pt x="922" y="282"/>
                  </a:lnTo>
                  <a:lnTo>
                    <a:pt x="992" y="282"/>
                  </a:lnTo>
                  <a:lnTo>
                    <a:pt x="1194" y="282"/>
                  </a:lnTo>
                  <a:lnTo>
                    <a:pt x="1194" y="176"/>
                  </a:lnTo>
                  <a:lnTo>
                    <a:pt x="1194" y="176"/>
                  </a:lnTo>
                  <a:lnTo>
                    <a:pt x="1192" y="122"/>
                  </a:lnTo>
                  <a:lnTo>
                    <a:pt x="1190" y="76"/>
                  </a:lnTo>
                  <a:lnTo>
                    <a:pt x="1186" y="36"/>
                  </a:lnTo>
                  <a:lnTo>
                    <a:pt x="1182" y="0"/>
                  </a:lnTo>
                  <a:lnTo>
                    <a:pt x="1550" y="0"/>
                  </a:lnTo>
                  <a:lnTo>
                    <a:pt x="1550" y="0"/>
                  </a:lnTo>
                  <a:lnTo>
                    <a:pt x="1544" y="38"/>
                  </a:lnTo>
                  <a:lnTo>
                    <a:pt x="1542" y="78"/>
                  </a:lnTo>
                  <a:lnTo>
                    <a:pt x="1540" y="122"/>
                  </a:lnTo>
                  <a:lnTo>
                    <a:pt x="1538" y="176"/>
                  </a:lnTo>
                  <a:lnTo>
                    <a:pt x="1538" y="282"/>
                  </a:lnTo>
                  <a:lnTo>
                    <a:pt x="1808" y="282"/>
                  </a:lnTo>
                  <a:lnTo>
                    <a:pt x="1808" y="282"/>
                  </a:lnTo>
                  <a:lnTo>
                    <a:pt x="1896" y="282"/>
                  </a:lnTo>
                  <a:lnTo>
                    <a:pt x="1960" y="280"/>
                  </a:lnTo>
                  <a:lnTo>
                    <a:pt x="2014" y="276"/>
                  </a:lnTo>
                  <a:lnTo>
                    <a:pt x="2064" y="272"/>
                  </a:lnTo>
                  <a:lnTo>
                    <a:pt x="2064" y="616"/>
                  </a:lnTo>
                  <a:lnTo>
                    <a:pt x="2064" y="616"/>
                  </a:lnTo>
                  <a:lnTo>
                    <a:pt x="2014" y="610"/>
                  </a:lnTo>
                  <a:lnTo>
                    <a:pt x="1960" y="608"/>
                  </a:lnTo>
                  <a:lnTo>
                    <a:pt x="1896" y="606"/>
                  </a:lnTo>
                  <a:lnTo>
                    <a:pt x="1814" y="606"/>
                  </a:lnTo>
                  <a:lnTo>
                    <a:pt x="1354" y="606"/>
                  </a:lnTo>
                  <a:lnTo>
                    <a:pt x="1354" y="606"/>
                  </a:lnTo>
                  <a:lnTo>
                    <a:pt x="1352" y="726"/>
                  </a:lnTo>
                  <a:lnTo>
                    <a:pt x="1350" y="798"/>
                  </a:lnTo>
                  <a:lnTo>
                    <a:pt x="1760" y="798"/>
                  </a:lnTo>
                  <a:lnTo>
                    <a:pt x="1760" y="798"/>
                  </a:lnTo>
                  <a:lnTo>
                    <a:pt x="1818" y="796"/>
                  </a:lnTo>
                  <a:lnTo>
                    <a:pt x="1870" y="796"/>
                  </a:lnTo>
                  <a:lnTo>
                    <a:pt x="1918" y="792"/>
                  </a:lnTo>
                  <a:lnTo>
                    <a:pt x="1970" y="788"/>
                  </a:lnTo>
                  <a:lnTo>
                    <a:pt x="1970" y="788"/>
                  </a:lnTo>
                  <a:lnTo>
                    <a:pt x="1966" y="828"/>
                  </a:lnTo>
                  <a:lnTo>
                    <a:pt x="1964" y="866"/>
                  </a:lnTo>
                  <a:lnTo>
                    <a:pt x="1962" y="984"/>
                  </a:lnTo>
                  <a:lnTo>
                    <a:pt x="1962" y="984"/>
                  </a:lnTo>
                  <a:lnTo>
                    <a:pt x="1958" y="1140"/>
                  </a:lnTo>
                  <a:lnTo>
                    <a:pt x="1952" y="1286"/>
                  </a:lnTo>
                  <a:lnTo>
                    <a:pt x="1946" y="1418"/>
                  </a:lnTo>
                  <a:lnTo>
                    <a:pt x="1936" y="1538"/>
                  </a:lnTo>
                  <a:lnTo>
                    <a:pt x="1926" y="1644"/>
                  </a:lnTo>
                  <a:lnTo>
                    <a:pt x="1916" y="1734"/>
                  </a:lnTo>
                  <a:lnTo>
                    <a:pt x="1902" y="1806"/>
                  </a:lnTo>
                  <a:lnTo>
                    <a:pt x="1896" y="1836"/>
                  </a:lnTo>
                  <a:lnTo>
                    <a:pt x="1888" y="1862"/>
                  </a:lnTo>
                  <a:lnTo>
                    <a:pt x="1888" y="1862"/>
                  </a:lnTo>
                  <a:lnTo>
                    <a:pt x="1876" y="1898"/>
                  </a:lnTo>
                  <a:lnTo>
                    <a:pt x="1862" y="1930"/>
                  </a:lnTo>
                  <a:lnTo>
                    <a:pt x="1844" y="1960"/>
                  </a:lnTo>
                  <a:lnTo>
                    <a:pt x="1826" y="1986"/>
                  </a:lnTo>
                  <a:lnTo>
                    <a:pt x="1806" y="2008"/>
                  </a:lnTo>
                  <a:lnTo>
                    <a:pt x="1784" y="2028"/>
                  </a:lnTo>
                  <a:lnTo>
                    <a:pt x="1760" y="2044"/>
                  </a:lnTo>
                  <a:lnTo>
                    <a:pt x="1736" y="2056"/>
                  </a:lnTo>
                  <a:lnTo>
                    <a:pt x="1736" y="2056"/>
                  </a:lnTo>
                  <a:lnTo>
                    <a:pt x="1708" y="2068"/>
                  </a:lnTo>
                  <a:lnTo>
                    <a:pt x="1678" y="2078"/>
                  </a:lnTo>
                  <a:lnTo>
                    <a:pt x="1646" y="2084"/>
                  </a:lnTo>
                  <a:lnTo>
                    <a:pt x="1612" y="2092"/>
                  </a:lnTo>
                  <a:lnTo>
                    <a:pt x="1574" y="2096"/>
                  </a:lnTo>
                  <a:lnTo>
                    <a:pt x="1532" y="2100"/>
                  </a:lnTo>
                  <a:lnTo>
                    <a:pt x="1488" y="2102"/>
                  </a:lnTo>
                  <a:lnTo>
                    <a:pt x="1442" y="2102"/>
                  </a:lnTo>
                  <a:lnTo>
                    <a:pt x="1442" y="2102"/>
                  </a:lnTo>
                  <a:lnTo>
                    <a:pt x="1370" y="2100"/>
                  </a:lnTo>
                  <a:lnTo>
                    <a:pt x="1220" y="2092"/>
                  </a:lnTo>
                  <a:lnTo>
                    <a:pt x="1220" y="2092"/>
                  </a:lnTo>
                  <a:lnTo>
                    <a:pt x="1218" y="2046"/>
                  </a:lnTo>
                  <a:lnTo>
                    <a:pt x="1214" y="2002"/>
                  </a:lnTo>
                  <a:lnTo>
                    <a:pt x="1208" y="1960"/>
                  </a:lnTo>
                  <a:lnTo>
                    <a:pt x="1200" y="1920"/>
                  </a:lnTo>
                  <a:lnTo>
                    <a:pt x="1190" y="1880"/>
                  </a:lnTo>
                  <a:lnTo>
                    <a:pt x="1180" y="1838"/>
                  </a:lnTo>
                  <a:lnTo>
                    <a:pt x="1166" y="1796"/>
                  </a:lnTo>
                  <a:lnTo>
                    <a:pt x="1150" y="1752"/>
                  </a:lnTo>
                  <a:lnTo>
                    <a:pt x="1150" y="1752"/>
                  </a:lnTo>
                  <a:lnTo>
                    <a:pt x="1232" y="1764"/>
                  </a:lnTo>
                  <a:lnTo>
                    <a:pt x="1304" y="1772"/>
                  </a:lnTo>
                  <a:lnTo>
                    <a:pt x="1368" y="1776"/>
                  </a:lnTo>
                  <a:lnTo>
                    <a:pt x="1426" y="1776"/>
                  </a:lnTo>
                  <a:lnTo>
                    <a:pt x="1426" y="1776"/>
                  </a:lnTo>
                  <a:lnTo>
                    <a:pt x="1464" y="1776"/>
                  </a:lnTo>
                  <a:lnTo>
                    <a:pt x="1494" y="1774"/>
                  </a:lnTo>
                  <a:lnTo>
                    <a:pt x="1508" y="1770"/>
                  </a:lnTo>
                  <a:lnTo>
                    <a:pt x="1518" y="1766"/>
                  </a:lnTo>
                  <a:lnTo>
                    <a:pt x="1528" y="1762"/>
                  </a:lnTo>
                  <a:lnTo>
                    <a:pt x="1536" y="1756"/>
                  </a:lnTo>
                  <a:lnTo>
                    <a:pt x="1542" y="1748"/>
                  </a:lnTo>
                  <a:lnTo>
                    <a:pt x="1548" y="1740"/>
                  </a:lnTo>
                  <a:lnTo>
                    <a:pt x="1554" y="1730"/>
                  </a:lnTo>
                  <a:lnTo>
                    <a:pt x="1560" y="1716"/>
                  </a:lnTo>
                  <a:lnTo>
                    <a:pt x="1568" y="1686"/>
                  </a:lnTo>
                  <a:lnTo>
                    <a:pt x="1578" y="1646"/>
                  </a:lnTo>
                  <a:lnTo>
                    <a:pt x="1578" y="1646"/>
                  </a:lnTo>
                  <a:lnTo>
                    <a:pt x="1584" y="1602"/>
                  </a:lnTo>
                  <a:lnTo>
                    <a:pt x="1592" y="1552"/>
                  </a:lnTo>
                  <a:lnTo>
                    <a:pt x="1598" y="1492"/>
                  </a:lnTo>
                  <a:lnTo>
                    <a:pt x="1602" y="1426"/>
                  </a:lnTo>
                  <a:lnTo>
                    <a:pt x="1610" y="1276"/>
                  </a:lnTo>
                  <a:lnTo>
                    <a:pt x="1614" y="1106"/>
                  </a:lnTo>
                  <a:lnTo>
                    <a:pt x="1316" y="1106"/>
                  </a:lnTo>
                  <a:lnTo>
                    <a:pt x="1316" y="1106"/>
                  </a:lnTo>
                  <a:lnTo>
                    <a:pt x="1300" y="1198"/>
                  </a:lnTo>
                  <a:lnTo>
                    <a:pt x="1282" y="1282"/>
                  </a:lnTo>
                  <a:lnTo>
                    <a:pt x="1262" y="1360"/>
                  </a:lnTo>
                  <a:lnTo>
                    <a:pt x="1240" y="1434"/>
                  </a:lnTo>
                  <a:lnTo>
                    <a:pt x="1216" y="1504"/>
                  </a:lnTo>
                  <a:lnTo>
                    <a:pt x="1186" y="1570"/>
                  </a:lnTo>
                  <a:lnTo>
                    <a:pt x="1154" y="1636"/>
                  </a:lnTo>
                  <a:lnTo>
                    <a:pt x="1120" y="1702"/>
                  </a:lnTo>
                  <a:lnTo>
                    <a:pt x="1120" y="1702"/>
                  </a:lnTo>
                  <a:lnTo>
                    <a:pt x="1084" y="1762"/>
                  </a:lnTo>
                  <a:lnTo>
                    <a:pt x="1046" y="1816"/>
                  </a:lnTo>
                  <a:lnTo>
                    <a:pt x="1008" y="1870"/>
                  </a:lnTo>
                  <a:lnTo>
                    <a:pt x="964" y="1920"/>
                  </a:lnTo>
                  <a:lnTo>
                    <a:pt x="918" y="1972"/>
                  </a:lnTo>
                  <a:lnTo>
                    <a:pt x="868" y="2024"/>
                  </a:lnTo>
                  <a:lnTo>
                    <a:pt x="810" y="2076"/>
                  </a:lnTo>
                  <a:lnTo>
                    <a:pt x="746" y="2132"/>
                  </a:lnTo>
                  <a:lnTo>
                    <a:pt x="746" y="2132"/>
                  </a:lnTo>
                  <a:lnTo>
                    <a:pt x="716" y="2088"/>
                  </a:lnTo>
                  <a:lnTo>
                    <a:pt x="684" y="2050"/>
                  </a:lnTo>
                  <a:lnTo>
                    <a:pt x="654" y="2012"/>
                  </a:lnTo>
                  <a:lnTo>
                    <a:pt x="622" y="1978"/>
                  </a:lnTo>
                  <a:lnTo>
                    <a:pt x="590" y="1946"/>
                  </a:lnTo>
                  <a:lnTo>
                    <a:pt x="556" y="1914"/>
                  </a:lnTo>
                  <a:lnTo>
                    <a:pt x="518" y="1880"/>
                  </a:lnTo>
                  <a:lnTo>
                    <a:pt x="478" y="1846"/>
                  </a:lnTo>
                  <a:lnTo>
                    <a:pt x="478" y="1846"/>
                  </a:lnTo>
                  <a:lnTo>
                    <a:pt x="522" y="1816"/>
                  </a:lnTo>
                  <a:lnTo>
                    <a:pt x="564" y="1786"/>
                  </a:lnTo>
                  <a:lnTo>
                    <a:pt x="602" y="1756"/>
                  </a:lnTo>
                  <a:lnTo>
                    <a:pt x="640" y="1724"/>
                  </a:lnTo>
                  <a:lnTo>
                    <a:pt x="674" y="1692"/>
                  </a:lnTo>
                  <a:lnTo>
                    <a:pt x="706" y="1660"/>
                  </a:lnTo>
                  <a:lnTo>
                    <a:pt x="736" y="1628"/>
                  </a:lnTo>
                  <a:lnTo>
                    <a:pt x="764" y="1594"/>
                  </a:lnTo>
                  <a:lnTo>
                    <a:pt x="790" y="1558"/>
                  </a:lnTo>
                  <a:lnTo>
                    <a:pt x="816" y="1522"/>
                  </a:lnTo>
                  <a:lnTo>
                    <a:pt x="838" y="1486"/>
                  </a:lnTo>
                  <a:lnTo>
                    <a:pt x="858" y="1448"/>
                  </a:lnTo>
                  <a:lnTo>
                    <a:pt x="878" y="1408"/>
                  </a:lnTo>
                  <a:lnTo>
                    <a:pt x="896" y="1366"/>
                  </a:lnTo>
                  <a:lnTo>
                    <a:pt x="912" y="1322"/>
                  </a:lnTo>
                  <a:lnTo>
                    <a:pt x="928" y="1278"/>
                  </a:lnTo>
                  <a:lnTo>
                    <a:pt x="928" y="1278"/>
                  </a:lnTo>
                  <a:lnTo>
                    <a:pt x="946" y="1212"/>
                  </a:lnTo>
                  <a:lnTo>
                    <a:pt x="962" y="1146"/>
                  </a:lnTo>
                  <a:lnTo>
                    <a:pt x="974" y="1076"/>
                  </a:lnTo>
                  <a:lnTo>
                    <a:pt x="986" y="1000"/>
                  </a:lnTo>
                  <a:lnTo>
                    <a:pt x="994" y="918"/>
                  </a:lnTo>
                  <a:lnTo>
                    <a:pt x="1000" y="826"/>
                  </a:lnTo>
                  <a:lnTo>
                    <a:pt x="1004" y="722"/>
                  </a:lnTo>
                  <a:lnTo>
                    <a:pt x="1006" y="606"/>
                  </a:lnTo>
                  <a:lnTo>
                    <a:pt x="922" y="606"/>
                  </a:lnTo>
                  <a:close/>
                  <a:moveTo>
                    <a:pt x="344" y="808"/>
                  </a:moveTo>
                  <a:lnTo>
                    <a:pt x="344" y="808"/>
                  </a:lnTo>
                  <a:lnTo>
                    <a:pt x="372" y="750"/>
                  </a:lnTo>
                  <a:lnTo>
                    <a:pt x="396" y="698"/>
                  </a:lnTo>
                  <a:lnTo>
                    <a:pt x="418" y="646"/>
                  </a:lnTo>
                  <a:lnTo>
                    <a:pt x="436" y="594"/>
                  </a:lnTo>
                  <a:lnTo>
                    <a:pt x="452" y="544"/>
                  </a:lnTo>
                  <a:lnTo>
                    <a:pt x="466" y="488"/>
                  </a:lnTo>
                  <a:lnTo>
                    <a:pt x="478" y="430"/>
                  </a:lnTo>
                  <a:lnTo>
                    <a:pt x="492" y="366"/>
                  </a:lnTo>
                  <a:lnTo>
                    <a:pt x="344" y="366"/>
                  </a:lnTo>
                  <a:lnTo>
                    <a:pt x="344" y="8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31086360" y="7309080"/>
              <a:ext cx="2145960" cy="207000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2070000"/>
                <a:gd name="textAreaBottom" fmla="*/ 2070360 h 2070000"/>
              </a:gdLst>
              <a:ahLst/>
              <a:rect l="textAreaLeft" t="textAreaTop" r="textAreaRight" b="textAreaBottom"/>
              <a:pathLst>
                <a:path w="1352" h="1304">
                  <a:moveTo>
                    <a:pt x="318" y="108"/>
                  </a:moveTo>
                  <a:lnTo>
                    <a:pt x="318" y="108"/>
                  </a:lnTo>
                  <a:lnTo>
                    <a:pt x="312" y="136"/>
                  </a:lnTo>
                  <a:lnTo>
                    <a:pt x="312" y="136"/>
                  </a:lnTo>
                  <a:lnTo>
                    <a:pt x="294" y="216"/>
                  </a:lnTo>
                  <a:lnTo>
                    <a:pt x="278" y="292"/>
                  </a:lnTo>
                  <a:lnTo>
                    <a:pt x="266" y="366"/>
                  </a:lnTo>
                  <a:lnTo>
                    <a:pt x="254" y="440"/>
                  </a:lnTo>
                  <a:lnTo>
                    <a:pt x="246" y="510"/>
                  </a:lnTo>
                  <a:lnTo>
                    <a:pt x="240" y="576"/>
                  </a:lnTo>
                  <a:lnTo>
                    <a:pt x="236" y="642"/>
                  </a:lnTo>
                  <a:lnTo>
                    <a:pt x="234" y="706"/>
                  </a:lnTo>
                  <a:lnTo>
                    <a:pt x="234" y="706"/>
                  </a:lnTo>
                  <a:lnTo>
                    <a:pt x="236" y="792"/>
                  </a:lnTo>
                  <a:lnTo>
                    <a:pt x="244" y="934"/>
                  </a:lnTo>
                  <a:lnTo>
                    <a:pt x="244" y="934"/>
                  </a:lnTo>
                  <a:lnTo>
                    <a:pt x="246" y="1084"/>
                  </a:lnTo>
                  <a:lnTo>
                    <a:pt x="248" y="1194"/>
                  </a:lnTo>
                  <a:lnTo>
                    <a:pt x="248" y="1194"/>
                  </a:lnTo>
                  <a:lnTo>
                    <a:pt x="248" y="1204"/>
                  </a:lnTo>
                  <a:lnTo>
                    <a:pt x="246" y="1214"/>
                  </a:lnTo>
                  <a:lnTo>
                    <a:pt x="242" y="1224"/>
                  </a:lnTo>
                  <a:lnTo>
                    <a:pt x="238" y="1234"/>
                  </a:lnTo>
                  <a:lnTo>
                    <a:pt x="232" y="1244"/>
                  </a:lnTo>
                  <a:lnTo>
                    <a:pt x="226" y="1252"/>
                  </a:lnTo>
                  <a:lnTo>
                    <a:pt x="208" y="1270"/>
                  </a:lnTo>
                  <a:lnTo>
                    <a:pt x="208" y="1270"/>
                  </a:lnTo>
                  <a:lnTo>
                    <a:pt x="186" y="1284"/>
                  </a:lnTo>
                  <a:lnTo>
                    <a:pt x="164" y="1294"/>
                  </a:lnTo>
                  <a:lnTo>
                    <a:pt x="138" y="1302"/>
                  </a:lnTo>
                  <a:lnTo>
                    <a:pt x="110" y="1304"/>
                  </a:lnTo>
                  <a:lnTo>
                    <a:pt x="110" y="1304"/>
                  </a:lnTo>
                  <a:lnTo>
                    <a:pt x="92" y="1302"/>
                  </a:lnTo>
                  <a:lnTo>
                    <a:pt x="74" y="1298"/>
                  </a:lnTo>
                  <a:lnTo>
                    <a:pt x="58" y="1290"/>
                  </a:lnTo>
                  <a:lnTo>
                    <a:pt x="42" y="1280"/>
                  </a:lnTo>
                  <a:lnTo>
                    <a:pt x="42" y="1280"/>
                  </a:lnTo>
                  <a:lnTo>
                    <a:pt x="30" y="1268"/>
                  </a:lnTo>
                  <a:lnTo>
                    <a:pt x="20" y="1254"/>
                  </a:lnTo>
                  <a:lnTo>
                    <a:pt x="14" y="1236"/>
                  </a:lnTo>
                  <a:lnTo>
                    <a:pt x="12" y="1218"/>
                  </a:lnTo>
                  <a:lnTo>
                    <a:pt x="12" y="1218"/>
                  </a:lnTo>
                  <a:lnTo>
                    <a:pt x="6" y="1118"/>
                  </a:lnTo>
                  <a:lnTo>
                    <a:pt x="2" y="1004"/>
                  </a:lnTo>
                  <a:lnTo>
                    <a:pt x="0" y="878"/>
                  </a:lnTo>
                  <a:lnTo>
                    <a:pt x="0" y="738"/>
                  </a:lnTo>
                  <a:lnTo>
                    <a:pt x="0" y="738"/>
                  </a:lnTo>
                  <a:lnTo>
                    <a:pt x="0" y="650"/>
                  </a:lnTo>
                  <a:lnTo>
                    <a:pt x="4" y="566"/>
                  </a:lnTo>
                  <a:lnTo>
                    <a:pt x="10" y="484"/>
                  </a:lnTo>
                  <a:lnTo>
                    <a:pt x="18" y="402"/>
                  </a:lnTo>
                  <a:lnTo>
                    <a:pt x="30" y="324"/>
                  </a:lnTo>
                  <a:lnTo>
                    <a:pt x="42" y="246"/>
                  </a:lnTo>
                  <a:lnTo>
                    <a:pt x="58" y="170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84" y="72"/>
                  </a:lnTo>
                  <a:lnTo>
                    <a:pt x="94" y="54"/>
                  </a:lnTo>
                  <a:lnTo>
                    <a:pt x="104" y="38"/>
                  </a:lnTo>
                  <a:lnTo>
                    <a:pt x="118" y="24"/>
                  </a:lnTo>
                  <a:lnTo>
                    <a:pt x="134" y="14"/>
                  </a:lnTo>
                  <a:lnTo>
                    <a:pt x="152" y="6"/>
                  </a:lnTo>
                  <a:lnTo>
                    <a:pt x="172" y="2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44" y="8"/>
                  </a:lnTo>
                  <a:lnTo>
                    <a:pt x="264" y="16"/>
                  </a:lnTo>
                  <a:lnTo>
                    <a:pt x="282" y="28"/>
                  </a:lnTo>
                  <a:lnTo>
                    <a:pt x="282" y="28"/>
                  </a:lnTo>
                  <a:lnTo>
                    <a:pt x="290" y="36"/>
                  </a:lnTo>
                  <a:lnTo>
                    <a:pt x="298" y="44"/>
                  </a:lnTo>
                  <a:lnTo>
                    <a:pt x="304" y="52"/>
                  </a:lnTo>
                  <a:lnTo>
                    <a:pt x="308" y="62"/>
                  </a:lnTo>
                  <a:lnTo>
                    <a:pt x="312" y="72"/>
                  </a:lnTo>
                  <a:lnTo>
                    <a:pt x="316" y="84"/>
                  </a:lnTo>
                  <a:lnTo>
                    <a:pt x="318" y="108"/>
                  </a:lnTo>
                  <a:lnTo>
                    <a:pt x="318" y="108"/>
                  </a:lnTo>
                  <a:close/>
                  <a:moveTo>
                    <a:pt x="1352" y="1098"/>
                  </a:moveTo>
                  <a:lnTo>
                    <a:pt x="1352" y="1098"/>
                  </a:lnTo>
                  <a:lnTo>
                    <a:pt x="1350" y="1120"/>
                  </a:lnTo>
                  <a:lnTo>
                    <a:pt x="1346" y="1142"/>
                  </a:lnTo>
                  <a:lnTo>
                    <a:pt x="1340" y="1160"/>
                  </a:lnTo>
                  <a:lnTo>
                    <a:pt x="1330" y="1176"/>
                  </a:lnTo>
                  <a:lnTo>
                    <a:pt x="1318" y="1188"/>
                  </a:lnTo>
                  <a:lnTo>
                    <a:pt x="1304" y="1200"/>
                  </a:lnTo>
                  <a:lnTo>
                    <a:pt x="1286" y="1208"/>
                  </a:lnTo>
                  <a:lnTo>
                    <a:pt x="1266" y="1216"/>
                  </a:lnTo>
                  <a:lnTo>
                    <a:pt x="1266" y="1216"/>
                  </a:lnTo>
                  <a:lnTo>
                    <a:pt x="1242" y="1220"/>
                  </a:lnTo>
                  <a:lnTo>
                    <a:pt x="1212" y="1226"/>
                  </a:lnTo>
                  <a:lnTo>
                    <a:pt x="1144" y="1232"/>
                  </a:lnTo>
                  <a:lnTo>
                    <a:pt x="1060" y="1238"/>
                  </a:lnTo>
                  <a:lnTo>
                    <a:pt x="960" y="1238"/>
                  </a:lnTo>
                  <a:lnTo>
                    <a:pt x="960" y="1238"/>
                  </a:lnTo>
                  <a:lnTo>
                    <a:pt x="892" y="1238"/>
                  </a:lnTo>
                  <a:lnTo>
                    <a:pt x="830" y="1234"/>
                  </a:lnTo>
                  <a:lnTo>
                    <a:pt x="772" y="1230"/>
                  </a:lnTo>
                  <a:lnTo>
                    <a:pt x="720" y="1224"/>
                  </a:lnTo>
                  <a:lnTo>
                    <a:pt x="672" y="1214"/>
                  </a:lnTo>
                  <a:lnTo>
                    <a:pt x="630" y="1204"/>
                  </a:lnTo>
                  <a:lnTo>
                    <a:pt x="592" y="1192"/>
                  </a:lnTo>
                  <a:lnTo>
                    <a:pt x="558" y="1178"/>
                  </a:lnTo>
                  <a:lnTo>
                    <a:pt x="558" y="1178"/>
                  </a:lnTo>
                  <a:lnTo>
                    <a:pt x="538" y="1168"/>
                  </a:lnTo>
                  <a:lnTo>
                    <a:pt x="522" y="1156"/>
                  </a:lnTo>
                  <a:lnTo>
                    <a:pt x="504" y="1144"/>
                  </a:lnTo>
                  <a:lnTo>
                    <a:pt x="490" y="1130"/>
                  </a:lnTo>
                  <a:lnTo>
                    <a:pt x="476" y="1116"/>
                  </a:lnTo>
                  <a:lnTo>
                    <a:pt x="462" y="1102"/>
                  </a:lnTo>
                  <a:lnTo>
                    <a:pt x="452" y="1084"/>
                  </a:lnTo>
                  <a:lnTo>
                    <a:pt x="440" y="1068"/>
                  </a:lnTo>
                  <a:lnTo>
                    <a:pt x="432" y="1050"/>
                  </a:lnTo>
                  <a:lnTo>
                    <a:pt x="424" y="1030"/>
                  </a:lnTo>
                  <a:lnTo>
                    <a:pt x="418" y="1010"/>
                  </a:lnTo>
                  <a:lnTo>
                    <a:pt x="412" y="990"/>
                  </a:lnTo>
                  <a:lnTo>
                    <a:pt x="408" y="966"/>
                  </a:lnTo>
                  <a:lnTo>
                    <a:pt x="404" y="944"/>
                  </a:lnTo>
                  <a:lnTo>
                    <a:pt x="402" y="920"/>
                  </a:lnTo>
                  <a:lnTo>
                    <a:pt x="402" y="894"/>
                  </a:lnTo>
                  <a:lnTo>
                    <a:pt x="402" y="894"/>
                  </a:lnTo>
                  <a:lnTo>
                    <a:pt x="402" y="874"/>
                  </a:lnTo>
                  <a:lnTo>
                    <a:pt x="406" y="856"/>
                  </a:lnTo>
                  <a:lnTo>
                    <a:pt x="410" y="836"/>
                  </a:lnTo>
                  <a:lnTo>
                    <a:pt x="414" y="816"/>
                  </a:lnTo>
                  <a:lnTo>
                    <a:pt x="422" y="796"/>
                  </a:lnTo>
                  <a:lnTo>
                    <a:pt x="430" y="774"/>
                  </a:lnTo>
                  <a:lnTo>
                    <a:pt x="442" y="754"/>
                  </a:lnTo>
                  <a:lnTo>
                    <a:pt x="454" y="734"/>
                  </a:lnTo>
                  <a:lnTo>
                    <a:pt x="454" y="734"/>
                  </a:lnTo>
                  <a:lnTo>
                    <a:pt x="466" y="714"/>
                  </a:lnTo>
                  <a:lnTo>
                    <a:pt x="480" y="698"/>
                  </a:lnTo>
                  <a:lnTo>
                    <a:pt x="492" y="684"/>
                  </a:lnTo>
                  <a:lnTo>
                    <a:pt x="506" y="672"/>
                  </a:lnTo>
                  <a:lnTo>
                    <a:pt x="520" y="662"/>
                  </a:lnTo>
                  <a:lnTo>
                    <a:pt x="534" y="656"/>
                  </a:lnTo>
                  <a:lnTo>
                    <a:pt x="550" y="652"/>
                  </a:lnTo>
                  <a:lnTo>
                    <a:pt x="564" y="650"/>
                  </a:lnTo>
                  <a:lnTo>
                    <a:pt x="564" y="650"/>
                  </a:lnTo>
                  <a:lnTo>
                    <a:pt x="592" y="652"/>
                  </a:lnTo>
                  <a:lnTo>
                    <a:pt x="616" y="658"/>
                  </a:lnTo>
                  <a:lnTo>
                    <a:pt x="638" y="666"/>
                  </a:lnTo>
                  <a:lnTo>
                    <a:pt x="656" y="680"/>
                  </a:lnTo>
                  <a:lnTo>
                    <a:pt x="656" y="680"/>
                  </a:lnTo>
                  <a:lnTo>
                    <a:pt x="670" y="694"/>
                  </a:lnTo>
                  <a:lnTo>
                    <a:pt x="680" y="712"/>
                  </a:lnTo>
                  <a:lnTo>
                    <a:pt x="686" y="730"/>
                  </a:lnTo>
                  <a:lnTo>
                    <a:pt x="688" y="750"/>
                  </a:lnTo>
                  <a:lnTo>
                    <a:pt x="688" y="750"/>
                  </a:lnTo>
                  <a:lnTo>
                    <a:pt x="682" y="768"/>
                  </a:lnTo>
                  <a:lnTo>
                    <a:pt x="662" y="814"/>
                  </a:lnTo>
                  <a:lnTo>
                    <a:pt x="662" y="814"/>
                  </a:lnTo>
                  <a:lnTo>
                    <a:pt x="652" y="840"/>
                  </a:lnTo>
                  <a:lnTo>
                    <a:pt x="644" y="860"/>
                  </a:lnTo>
                  <a:lnTo>
                    <a:pt x="640" y="878"/>
                  </a:lnTo>
                  <a:lnTo>
                    <a:pt x="638" y="894"/>
                  </a:lnTo>
                  <a:lnTo>
                    <a:pt x="638" y="894"/>
                  </a:lnTo>
                  <a:lnTo>
                    <a:pt x="640" y="908"/>
                  </a:lnTo>
                  <a:lnTo>
                    <a:pt x="644" y="922"/>
                  </a:lnTo>
                  <a:lnTo>
                    <a:pt x="650" y="934"/>
                  </a:lnTo>
                  <a:lnTo>
                    <a:pt x="658" y="946"/>
                  </a:lnTo>
                  <a:lnTo>
                    <a:pt x="668" y="956"/>
                  </a:lnTo>
                  <a:lnTo>
                    <a:pt x="682" y="966"/>
                  </a:lnTo>
                  <a:lnTo>
                    <a:pt x="698" y="974"/>
                  </a:lnTo>
                  <a:lnTo>
                    <a:pt x="716" y="982"/>
                  </a:lnTo>
                  <a:lnTo>
                    <a:pt x="736" y="990"/>
                  </a:lnTo>
                  <a:lnTo>
                    <a:pt x="760" y="996"/>
                  </a:lnTo>
                  <a:lnTo>
                    <a:pt x="786" y="1000"/>
                  </a:lnTo>
                  <a:lnTo>
                    <a:pt x="812" y="1004"/>
                  </a:lnTo>
                  <a:lnTo>
                    <a:pt x="876" y="1010"/>
                  </a:lnTo>
                  <a:lnTo>
                    <a:pt x="948" y="1012"/>
                  </a:lnTo>
                  <a:lnTo>
                    <a:pt x="948" y="1012"/>
                  </a:lnTo>
                  <a:lnTo>
                    <a:pt x="992" y="1012"/>
                  </a:lnTo>
                  <a:lnTo>
                    <a:pt x="1038" y="1010"/>
                  </a:lnTo>
                  <a:lnTo>
                    <a:pt x="1084" y="1006"/>
                  </a:lnTo>
                  <a:lnTo>
                    <a:pt x="1130" y="1000"/>
                  </a:lnTo>
                  <a:lnTo>
                    <a:pt x="1130" y="1000"/>
                  </a:lnTo>
                  <a:lnTo>
                    <a:pt x="1234" y="988"/>
                  </a:lnTo>
                  <a:lnTo>
                    <a:pt x="1234" y="988"/>
                  </a:lnTo>
                  <a:lnTo>
                    <a:pt x="1262" y="990"/>
                  </a:lnTo>
                  <a:lnTo>
                    <a:pt x="1286" y="996"/>
                  </a:lnTo>
                  <a:lnTo>
                    <a:pt x="1306" y="1004"/>
                  </a:lnTo>
                  <a:lnTo>
                    <a:pt x="1316" y="1010"/>
                  </a:lnTo>
                  <a:lnTo>
                    <a:pt x="1322" y="1016"/>
                  </a:lnTo>
                  <a:lnTo>
                    <a:pt x="1330" y="1024"/>
                  </a:lnTo>
                  <a:lnTo>
                    <a:pt x="1336" y="1032"/>
                  </a:lnTo>
                  <a:lnTo>
                    <a:pt x="1340" y="1040"/>
                  </a:lnTo>
                  <a:lnTo>
                    <a:pt x="1344" y="1050"/>
                  </a:lnTo>
                  <a:lnTo>
                    <a:pt x="1350" y="1072"/>
                  </a:lnTo>
                  <a:lnTo>
                    <a:pt x="1352" y="1098"/>
                  </a:lnTo>
                  <a:lnTo>
                    <a:pt x="1352" y="1098"/>
                  </a:lnTo>
                  <a:close/>
                  <a:moveTo>
                    <a:pt x="1302" y="216"/>
                  </a:moveTo>
                  <a:lnTo>
                    <a:pt x="1302" y="216"/>
                  </a:lnTo>
                  <a:lnTo>
                    <a:pt x="1300" y="240"/>
                  </a:lnTo>
                  <a:lnTo>
                    <a:pt x="1294" y="262"/>
                  </a:lnTo>
                  <a:lnTo>
                    <a:pt x="1284" y="282"/>
                  </a:lnTo>
                  <a:lnTo>
                    <a:pt x="1272" y="300"/>
                  </a:lnTo>
                  <a:lnTo>
                    <a:pt x="1272" y="300"/>
                  </a:lnTo>
                  <a:lnTo>
                    <a:pt x="1262" y="308"/>
                  </a:lnTo>
                  <a:lnTo>
                    <a:pt x="1252" y="316"/>
                  </a:lnTo>
                  <a:lnTo>
                    <a:pt x="1240" y="322"/>
                  </a:lnTo>
                  <a:lnTo>
                    <a:pt x="1228" y="326"/>
                  </a:lnTo>
                  <a:lnTo>
                    <a:pt x="1214" y="328"/>
                  </a:lnTo>
                  <a:lnTo>
                    <a:pt x="1200" y="330"/>
                  </a:lnTo>
                  <a:lnTo>
                    <a:pt x="1184" y="330"/>
                  </a:lnTo>
                  <a:lnTo>
                    <a:pt x="1168" y="328"/>
                  </a:lnTo>
                  <a:lnTo>
                    <a:pt x="1168" y="328"/>
                  </a:lnTo>
                  <a:lnTo>
                    <a:pt x="1116" y="324"/>
                  </a:lnTo>
                  <a:lnTo>
                    <a:pt x="1060" y="320"/>
                  </a:lnTo>
                  <a:lnTo>
                    <a:pt x="998" y="318"/>
                  </a:lnTo>
                  <a:lnTo>
                    <a:pt x="932" y="318"/>
                  </a:lnTo>
                  <a:lnTo>
                    <a:pt x="932" y="318"/>
                  </a:lnTo>
                  <a:lnTo>
                    <a:pt x="848" y="320"/>
                  </a:lnTo>
                  <a:lnTo>
                    <a:pt x="768" y="322"/>
                  </a:lnTo>
                  <a:lnTo>
                    <a:pt x="690" y="328"/>
                  </a:lnTo>
                  <a:lnTo>
                    <a:pt x="618" y="334"/>
                  </a:lnTo>
                  <a:lnTo>
                    <a:pt x="618" y="334"/>
                  </a:lnTo>
                  <a:lnTo>
                    <a:pt x="602" y="336"/>
                  </a:lnTo>
                  <a:lnTo>
                    <a:pt x="588" y="334"/>
                  </a:lnTo>
                  <a:lnTo>
                    <a:pt x="576" y="332"/>
                  </a:lnTo>
                  <a:lnTo>
                    <a:pt x="564" y="330"/>
                  </a:lnTo>
                  <a:lnTo>
                    <a:pt x="552" y="324"/>
                  </a:lnTo>
                  <a:lnTo>
                    <a:pt x="542" y="318"/>
                  </a:lnTo>
                  <a:lnTo>
                    <a:pt x="532" y="312"/>
                  </a:lnTo>
                  <a:lnTo>
                    <a:pt x="522" y="304"/>
                  </a:lnTo>
                  <a:lnTo>
                    <a:pt x="522" y="304"/>
                  </a:lnTo>
                  <a:lnTo>
                    <a:pt x="508" y="284"/>
                  </a:lnTo>
                  <a:lnTo>
                    <a:pt x="502" y="274"/>
                  </a:lnTo>
                  <a:lnTo>
                    <a:pt x="496" y="262"/>
                  </a:lnTo>
                  <a:lnTo>
                    <a:pt x="490" y="240"/>
                  </a:lnTo>
                  <a:lnTo>
                    <a:pt x="488" y="214"/>
                  </a:lnTo>
                  <a:lnTo>
                    <a:pt x="488" y="214"/>
                  </a:lnTo>
                  <a:lnTo>
                    <a:pt x="490" y="190"/>
                  </a:lnTo>
                  <a:lnTo>
                    <a:pt x="496" y="170"/>
                  </a:lnTo>
                  <a:lnTo>
                    <a:pt x="504" y="152"/>
                  </a:lnTo>
                  <a:lnTo>
                    <a:pt x="518" y="138"/>
                  </a:lnTo>
                  <a:lnTo>
                    <a:pt x="534" y="126"/>
                  </a:lnTo>
                  <a:lnTo>
                    <a:pt x="556" y="116"/>
                  </a:lnTo>
                  <a:lnTo>
                    <a:pt x="580" y="108"/>
                  </a:lnTo>
                  <a:lnTo>
                    <a:pt x="608" y="104"/>
                  </a:lnTo>
                  <a:lnTo>
                    <a:pt x="608" y="104"/>
                  </a:lnTo>
                  <a:lnTo>
                    <a:pt x="688" y="98"/>
                  </a:lnTo>
                  <a:lnTo>
                    <a:pt x="764" y="92"/>
                  </a:lnTo>
                  <a:lnTo>
                    <a:pt x="836" y="90"/>
                  </a:lnTo>
                  <a:lnTo>
                    <a:pt x="904" y="88"/>
                  </a:lnTo>
                  <a:lnTo>
                    <a:pt x="904" y="88"/>
                  </a:lnTo>
                  <a:lnTo>
                    <a:pt x="970" y="90"/>
                  </a:lnTo>
                  <a:lnTo>
                    <a:pt x="1040" y="92"/>
                  </a:lnTo>
                  <a:lnTo>
                    <a:pt x="1116" y="98"/>
                  </a:lnTo>
                  <a:lnTo>
                    <a:pt x="1196" y="104"/>
                  </a:lnTo>
                  <a:lnTo>
                    <a:pt x="1196" y="104"/>
                  </a:lnTo>
                  <a:lnTo>
                    <a:pt x="1220" y="110"/>
                  </a:lnTo>
                  <a:lnTo>
                    <a:pt x="1242" y="118"/>
                  </a:lnTo>
                  <a:lnTo>
                    <a:pt x="1262" y="128"/>
                  </a:lnTo>
                  <a:lnTo>
                    <a:pt x="1278" y="144"/>
                  </a:lnTo>
                  <a:lnTo>
                    <a:pt x="1278" y="144"/>
                  </a:lnTo>
                  <a:lnTo>
                    <a:pt x="1288" y="160"/>
                  </a:lnTo>
                  <a:lnTo>
                    <a:pt x="1296" y="176"/>
                  </a:lnTo>
                  <a:lnTo>
                    <a:pt x="1300" y="196"/>
                  </a:lnTo>
                  <a:lnTo>
                    <a:pt x="1302" y="216"/>
                  </a:lnTo>
                  <a:lnTo>
                    <a:pt x="130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34201080" y="7137720"/>
              <a:ext cx="596880" cy="2104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376" h="1326">
                  <a:moveTo>
                    <a:pt x="376" y="1160"/>
                  </a:moveTo>
                  <a:lnTo>
                    <a:pt x="376" y="1160"/>
                  </a:lnTo>
                  <a:lnTo>
                    <a:pt x="374" y="1178"/>
                  </a:lnTo>
                  <a:lnTo>
                    <a:pt x="372" y="1194"/>
                  </a:lnTo>
                  <a:lnTo>
                    <a:pt x="368" y="1210"/>
                  </a:lnTo>
                  <a:lnTo>
                    <a:pt x="360" y="1226"/>
                  </a:lnTo>
                  <a:lnTo>
                    <a:pt x="352" y="1240"/>
                  </a:lnTo>
                  <a:lnTo>
                    <a:pt x="342" y="1254"/>
                  </a:lnTo>
                  <a:lnTo>
                    <a:pt x="330" y="1266"/>
                  </a:lnTo>
                  <a:lnTo>
                    <a:pt x="318" y="1278"/>
                  </a:lnTo>
                  <a:lnTo>
                    <a:pt x="318" y="1278"/>
                  </a:lnTo>
                  <a:lnTo>
                    <a:pt x="302" y="1290"/>
                  </a:lnTo>
                  <a:lnTo>
                    <a:pt x="288" y="1300"/>
                  </a:lnTo>
                  <a:lnTo>
                    <a:pt x="272" y="1308"/>
                  </a:lnTo>
                  <a:lnTo>
                    <a:pt x="256" y="1314"/>
                  </a:lnTo>
                  <a:lnTo>
                    <a:pt x="240" y="1320"/>
                  </a:lnTo>
                  <a:lnTo>
                    <a:pt x="222" y="1324"/>
                  </a:lnTo>
                  <a:lnTo>
                    <a:pt x="204" y="1326"/>
                  </a:lnTo>
                  <a:lnTo>
                    <a:pt x="186" y="1326"/>
                  </a:lnTo>
                  <a:lnTo>
                    <a:pt x="186" y="1326"/>
                  </a:lnTo>
                  <a:lnTo>
                    <a:pt x="168" y="1326"/>
                  </a:lnTo>
                  <a:lnTo>
                    <a:pt x="150" y="1324"/>
                  </a:lnTo>
                  <a:lnTo>
                    <a:pt x="134" y="1320"/>
                  </a:lnTo>
                  <a:lnTo>
                    <a:pt x="116" y="1314"/>
                  </a:lnTo>
                  <a:lnTo>
                    <a:pt x="100" y="1308"/>
                  </a:lnTo>
                  <a:lnTo>
                    <a:pt x="84" y="1300"/>
                  </a:lnTo>
                  <a:lnTo>
                    <a:pt x="70" y="1290"/>
                  </a:lnTo>
                  <a:lnTo>
                    <a:pt x="56" y="1278"/>
                  </a:lnTo>
                  <a:lnTo>
                    <a:pt x="56" y="1278"/>
                  </a:lnTo>
                  <a:lnTo>
                    <a:pt x="42" y="1266"/>
                  </a:lnTo>
                  <a:lnTo>
                    <a:pt x="32" y="1254"/>
                  </a:lnTo>
                  <a:lnTo>
                    <a:pt x="22" y="1240"/>
                  </a:lnTo>
                  <a:lnTo>
                    <a:pt x="14" y="1226"/>
                  </a:lnTo>
                  <a:lnTo>
                    <a:pt x="8" y="1210"/>
                  </a:lnTo>
                  <a:lnTo>
                    <a:pt x="2" y="1194"/>
                  </a:lnTo>
                  <a:lnTo>
                    <a:pt x="0" y="1178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0" y="1142"/>
                  </a:lnTo>
                  <a:lnTo>
                    <a:pt x="2" y="1124"/>
                  </a:lnTo>
                  <a:lnTo>
                    <a:pt x="8" y="1108"/>
                  </a:lnTo>
                  <a:lnTo>
                    <a:pt x="14" y="1092"/>
                  </a:lnTo>
                  <a:lnTo>
                    <a:pt x="22" y="1078"/>
                  </a:lnTo>
                  <a:lnTo>
                    <a:pt x="32" y="1064"/>
                  </a:lnTo>
                  <a:lnTo>
                    <a:pt x="42" y="1052"/>
                  </a:lnTo>
                  <a:lnTo>
                    <a:pt x="56" y="1038"/>
                  </a:lnTo>
                  <a:lnTo>
                    <a:pt x="56" y="1038"/>
                  </a:lnTo>
                  <a:lnTo>
                    <a:pt x="70" y="1028"/>
                  </a:lnTo>
                  <a:lnTo>
                    <a:pt x="84" y="1018"/>
                  </a:lnTo>
                  <a:lnTo>
                    <a:pt x="100" y="1010"/>
                  </a:lnTo>
                  <a:lnTo>
                    <a:pt x="116" y="1002"/>
                  </a:lnTo>
                  <a:lnTo>
                    <a:pt x="134" y="998"/>
                  </a:lnTo>
                  <a:lnTo>
                    <a:pt x="150" y="994"/>
                  </a:lnTo>
                  <a:lnTo>
                    <a:pt x="168" y="992"/>
                  </a:lnTo>
                  <a:lnTo>
                    <a:pt x="186" y="990"/>
                  </a:lnTo>
                  <a:lnTo>
                    <a:pt x="186" y="990"/>
                  </a:lnTo>
                  <a:lnTo>
                    <a:pt x="204" y="992"/>
                  </a:lnTo>
                  <a:lnTo>
                    <a:pt x="222" y="994"/>
                  </a:lnTo>
                  <a:lnTo>
                    <a:pt x="240" y="998"/>
                  </a:lnTo>
                  <a:lnTo>
                    <a:pt x="256" y="1002"/>
                  </a:lnTo>
                  <a:lnTo>
                    <a:pt x="274" y="1010"/>
                  </a:lnTo>
                  <a:lnTo>
                    <a:pt x="288" y="1018"/>
                  </a:lnTo>
                  <a:lnTo>
                    <a:pt x="304" y="1028"/>
                  </a:lnTo>
                  <a:lnTo>
                    <a:pt x="318" y="1038"/>
                  </a:lnTo>
                  <a:lnTo>
                    <a:pt x="318" y="1038"/>
                  </a:lnTo>
                  <a:lnTo>
                    <a:pt x="332" y="1052"/>
                  </a:lnTo>
                  <a:lnTo>
                    <a:pt x="344" y="1064"/>
                  </a:lnTo>
                  <a:lnTo>
                    <a:pt x="354" y="1078"/>
                  </a:lnTo>
                  <a:lnTo>
                    <a:pt x="362" y="1092"/>
                  </a:lnTo>
                  <a:lnTo>
                    <a:pt x="368" y="1108"/>
                  </a:lnTo>
                  <a:lnTo>
                    <a:pt x="372" y="1124"/>
                  </a:lnTo>
                  <a:lnTo>
                    <a:pt x="374" y="1142"/>
                  </a:lnTo>
                  <a:lnTo>
                    <a:pt x="376" y="1160"/>
                  </a:lnTo>
                  <a:lnTo>
                    <a:pt x="376" y="1160"/>
                  </a:lnTo>
                  <a:close/>
                  <a:moveTo>
                    <a:pt x="346" y="182"/>
                  </a:moveTo>
                  <a:lnTo>
                    <a:pt x="292" y="818"/>
                  </a:lnTo>
                  <a:lnTo>
                    <a:pt x="292" y="818"/>
                  </a:lnTo>
                  <a:lnTo>
                    <a:pt x="290" y="838"/>
                  </a:lnTo>
                  <a:lnTo>
                    <a:pt x="282" y="856"/>
                  </a:lnTo>
                  <a:lnTo>
                    <a:pt x="274" y="872"/>
                  </a:lnTo>
                  <a:lnTo>
                    <a:pt x="260" y="884"/>
                  </a:lnTo>
                  <a:lnTo>
                    <a:pt x="246" y="892"/>
                  </a:lnTo>
                  <a:lnTo>
                    <a:pt x="226" y="900"/>
                  </a:lnTo>
                  <a:lnTo>
                    <a:pt x="204" y="904"/>
                  </a:lnTo>
                  <a:lnTo>
                    <a:pt x="180" y="904"/>
                  </a:lnTo>
                  <a:lnTo>
                    <a:pt x="180" y="904"/>
                  </a:lnTo>
                  <a:lnTo>
                    <a:pt x="158" y="904"/>
                  </a:lnTo>
                  <a:lnTo>
                    <a:pt x="138" y="900"/>
                  </a:lnTo>
                  <a:lnTo>
                    <a:pt x="122" y="892"/>
                  </a:lnTo>
                  <a:lnTo>
                    <a:pt x="108" y="884"/>
                  </a:lnTo>
                  <a:lnTo>
                    <a:pt x="96" y="872"/>
                  </a:lnTo>
                  <a:lnTo>
                    <a:pt x="88" y="856"/>
                  </a:lnTo>
                  <a:lnTo>
                    <a:pt x="82" y="838"/>
                  </a:lnTo>
                  <a:lnTo>
                    <a:pt x="78" y="818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8" y="162"/>
                  </a:lnTo>
                  <a:lnTo>
                    <a:pt x="28" y="142"/>
                  </a:lnTo>
                  <a:lnTo>
                    <a:pt x="30" y="122"/>
                  </a:lnTo>
                  <a:lnTo>
                    <a:pt x="34" y="104"/>
                  </a:lnTo>
                  <a:lnTo>
                    <a:pt x="38" y="88"/>
                  </a:lnTo>
                  <a:lnTo>
                    <a:pt x="44" y="72"/>
                  </a:lnTo>
                  <a:lnTo>
                    <a:pt x="52" y="58"/>
                  </a:lnTo>
                  <a:lnTo>
                    <a:pt x="62" y="46"/>
                  </a:lnTo>
                  <a:lnTo>
                    <a:pt x="72" y="36"/>
                  </a:lnTo>
                  <a:lnTo>
                    <a:pt x="84" y="26"/>
                  </a:lnTo>
                  <a:lnTo>
                    <a:pt x="98" y="18"/>
                  </a:lnTo>
                  <a:lnTo>
                    <a:pt x="114" y="12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6" y="2"/>
                  </a:lnTo>
                  <a:lnTo>
                    <a:pt x="224" y="4"/>
                  </a:lnTo>
                  <a:lnTo>
                    <a:pt x="240" y="8"/>
                  </a:lnTo>
                  <a:lnTo>
                    <a:pt x="256" y="12"/>
                  </a:lnTo>
                  <a:lnTo>
                    <a:pt x="272" y="20"/>
                  </a:lnTo>
                  <a:lnTo>
                    <a:pt x="284" y="28"/>
                  </a:lnTo>
                  <a:lnTo>
                    <a:pt x="298" y="38"/>
                  </a:lnTo>
                  <a:lnTo>
                    <a:pt x="308" y="48"/>
                  </a:lnTo>
                  <a:lnTo>
                    <a:pt x="308" y="48"/>
                  </a:lnTo>
                  <a:lnTo>
                    <a:pt x="318" y="62"/>
                  </a:lnTo>
                  <a:lnTo>
                    <a:pt x="328" y="76"/>
                  </a:lnTo>
                  <a:lnTo>
                    <a:pt x="334" y="90"/>
                  </a:lnTo>
                  <a:lnTo>
                    <a:pt x="340" y="106"/>
                  </a:lnTo>
                  <a:lnTo>
                    <a:pt x="344" y="124"/>
                  </a:lnTo>
                  <a:lnTo>
                    <a:pt x="346" y="142"/>
                  </a:lnTo>
                  <a:lnTo>
                    <a:pt x="346" y="162"/>
                  </a:lnTo>
                  <a:lnTo>
                    <a:pt x="346" y="182"/>
                  </a:lnTo>
                  <a:lnTo>
                    <a:pt x="346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35007480" y="7137720"/>
              <a:ext cx="596880" cy="2104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376" h="1326">
                  <a:moveTo>
                    <a:pt x="376" y="1160"/>
                  </a:moveTo>
                  <a:lnTo>
                    <a:pt x="376" y="1160"/>
                  </a:lnTo>
                  <a:lnTo>
                    <a:pt x="374" y="1178"/>
                  </a:lnTo>
                  <a:lnTo>
                    <a:pt x="372" y="1194"/>
                  </a:lnTo>
                  <a:lnTo>
                    <a:pt x="368" y="1210"/>
                  </a:lnTo>
                  <a:lnTo>
                    <a:pt x="360" y="1226"/>
                  </a:lnTo>
                  <a:lnTo>
                    <a:pt x="352" y="1240"/>
                  </a:lnTo>
                  <a:lnTo>
                    <a:pt x="342" y="1254"/>
                  </a:lnTo>
                  <a:lnTo>
                    <a:pt x="332" y="1266"/>
                  </a:lnTo>
                  <a:lnTo>
                    <a:pt x="318" y="1278"/>
                  </a:lnTo>
                  <a:lnTo>
                    <a:pt x="318" y="1278"/>
                  </a:lnTo>
                  <a:lnTo>
                    <a:pt x="304" y="1290"/>
                  </a:lnTo>
                  <a:lnTo>
                    <a:pt x="288" y="1300"/>
                  </a:lnTo>
                  <a:lnTo>
                    <a:pt x="272" y="1308"/>
                  </a:lnTo>
                  <a:lnTo>
                    <a:pt x="256" y="1314"/>
                  </a:lnTo>
                  <a:lnTo>
                    <a:pt x="240" y="1320"/>
                  </a:lnTo>
                  <a:lnTo>
                    <a:pt x="222" y="1324"/>
                  </a:lnTo>
                  <a:lnTo>
                    <a:pt x="206" y="1326"/>
                  </a:lnTo>
                  <a:lnTo>
                    <a:pt x="186" y="1326"/>
                  </a:lnTo>
                  <a:lnTo>
                    <a:pt x="186" y="1326"/>
                  </a:lnTo>
                  <a:lnTo>
                    <a:pt x="168" y="1326"/>
                  </a:lnTo>
                  <a:lnTo>
                    <a:pt x="150" y="1324"/>
                  </a:lnTo>
                  <a:lnTo>
                    <a:pt x="134" y="1320"/>
                  </a:lnTo>
                  <a:lnTo>
                    <a:pt x="116" y="1314"/>
                  </a:lnTo>
                  <a:lnTo>
                    <a:pt x="100" y="1308"/>
                  </a:lnTo>
                  <a:lnTo>
                    <a:pt x="86" y="1300"/>
                  </a:lnTo>
                  <a:lnTo>
                    <a:pt x="70" y="1290"/>
                  </a:lnTo>
                  <a:lnTo>
                    <a:pt x="56" y="1278"/>
                  </a:lnTo>
                  <a:lnTo>
                    <a:pt x="56" y="1278"/>
                  </a:lnTo>
                  <a:lnTo>
                    <a:pt x="42" y="1266"/>
                  </a:lnTo>
                  <a:lnTo>
                    <a:pt x="32" y="1254"/>
                  </a:lnTo>
                  <a:lnTo>
                    <a:pt x="22" y="1240"/>
                  </a:lnTo>
                  <a:lnTo>
                    <a:pt x="14" y="1226"/>
                  </a:lnTo>
                  <a:lnTo>
                    <a:pt x="8" y="1210"/>
                  </a:lnTo>
                  <a:lnTo>
                    <a:pt x="4" y="1194"/>
                  </a:lnTo>
                  <a:lnTo>
                    <a:pt x="0" y="1178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0" y="1142"/>
                  </a:lnTo>
                  <a:lnTo>
                    <a:pt x="4" y="1124"/>
                  </a:lnTo>
                  <a:lnTo>
                    <a:pt x="8" y="1108"/>
                  </a:lnTo>
                  <a:lnTo>
                    <a:pt x="14" y="1092"/>
                  </a:lnTo>
                  <a:lnTo>
                    <a:pt x="22" y="1078"/>
                  </a:lnTo>
                  <a:lnTo>
                    <a:pt x="32" y="1064"/>
                  </a:lnTo>
                  <a:lnTo>
                    <a:pt x="42" y="1052"/>
                  </a:lnTo>
                  <a:lnTo>
                    <a:pt x="56" y="1038"/>
                  </a:lnTo>
                  <a:lnTo>
                    <a:pt x="56" y="1038"/>
                  </a:lnTo>
                  <a:lnTo>
                    <a:pt x="70" y="1028"/>
                  </a:lnTo>
                  <a:lnTo>
                    <a:pt x="86" y="1018"/>
                  </a:lnTo>
                  <a:lnTo>
                    <a:pt x="100" y="1010"/>
                  </a:lnTo>
                  <a:lnTo>
                    <a:pt x="116" y="1002"/>
                  </a:lnTo>
                  <a:lnTo>
                    <a:pt x="134" y="998"/>
                  </a:lnTo>
                  <a:lnTo>
                    <a:pt x="150" y="994"/>
                  </a:lnTo>
                  <a:lnTo>
                    <a:pt x="168" y="992"/>
                  </a:lnTo>
                  <a:lnTo>
                    <a:pt x="186" y="990"/>
                  </a:lnTo>
                  <a:lnTo>
                    <a:pt x="186" y="990"/>
                  </a:lnTo>
                  <a:lnTo>
                    <a:pt x="206" y="992"/>
                  </a:lnTo>
                  <a:lnTo>
                    <a:pt x="222" y="994"/>
                  </a:lnTo>
                  <a:lnTo>
                    <a:pt x="240" y="998"/>
                  </a:lnTo>
                  <a:lnTo>
                    <a:pt x="258" y="1002"/>
                  </a:lnTo>
                  <a:lnTo>
                    <a:pt x="274" y="1010"/>
                  </a:lnTo>
                  <a:lnTo>
                    <a:pt x="290" y="1018"/>
                  </a:lnTo>
                  <a:lnTo>
                    <a:pt x="304" y="1028"/>
                  </a:lnTo>
                  <a:lnTo>
                    <a:pt x="320" y="1038"/>
                  </a:lnTo>
                  <a:lnTo>
                    <a:pt x="320" y="1038"/>
                  </a:lnTo>
                  <a:lnTo>
                    <a:pt x="332" y="1052"/>
                  </a:lnTo>
                  <a:lnTo>
                    <a:pt x="344" y="1064"/>
                  </a:lnTo>
                  <a:lnTo>
                    <a:pt x="354" y="1078"/>
                  </a:lnTo>
                  <a:lnTo>
                    <a:pt x="362" y="1092"/>
                  </a:lnTo>
                  <a:lnTo>
                    <a:pt x="368" y="1108"/>
                  </a:lnTo>
                  <a:lnTo>
                    <a:pt x="372" y="1124"/>
                  </a:lnTo>
                  <a:lnTo>
                    <a:pt x="374" y="1142"/>
                  </a:lnTo>
                  <a:lnTo>
                    <a:pt x="376" y="1160"/>
                  </a:lnTo>
                  <a:lnTo>
                    <a:pt x="376" y="1160"/>
                  </a:lnTo>
                  <a:close/>
                  <a:moveTo>
                    <a:pt x="346" y="182"/>
                  </a:moveTo>
                  <a:lnTo>
                    <a:pt x="292" y="818"/>
                  </a:lnTo>
                  <a:lnTo>
                    <a:pt x="292" y="818"/>
                  </a:lnTo>
                  <a:lnTo>
                    <a:pt x="290" y="838"/>
                  </a:lnTo>
                  <a:lnTo>
                    <a:pt x="284" y="856"/>
                  </a:lnTo>
                  <a:lnTo>
                    <a:pt x="274" y="872"/>
                  </a:lnTo>
                  <a:lnTo>
                    <a:pt x="262" y="884"/>
                  </a:lnTo>
                  <a:lnTo>
                    <a:pt x="246" y="892"/>
                  </a:lnTo>
                  <a:lnTo>
                    <a:pt x="226" y="900"/>
                  </a:lnTo>
                  <a:lnTo>
                    <a:pt x="206" y="904"/>
                  </a:lnTo>
                  <a:lnTo>
                    <a:pt x="180" y="904"/>
                  </a:lnTo>
                  <a:lnTo>
                    <a:pt x="180" y="904"/>
                  </a:lnTo>
                  <a:lnTo>
                    <a:pt x="158" y="904"/>
                  </a:lnTo>
                  <a:lnTo>
                    <a:pt x="138" y="900"/>
                  </a:lnTo>
                  <a:lnTo>
                    <a:pt x="122" y="892"/>
                  </a:lnTo>
                  <a:lnTo>
                    <a:pt x="108" y="884"/>
                  </a:lnTo>
                  <a:lnTo>
                    <a:pt x="96" y="872"/>
                  </a:lnTo>
                  <a:lnTo>
                    <a:pt x="88" y="856"/>
                  </a:lnTo>
                  <a:lnTo>
                    <a:pt x="82" y="838"/>
                  </a:lnTo>
                  <a:lnTo>
                    <a:pt x="80" y="818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8" y="162"/>
                  </a:lnTo>
                  <a:lnTo>
                    <a:pt x="28" y="142"/>
                  </a:lnTo>
                  <a:lnTo>
                    <a:pt x="30" y="122"/>
                  </a:lnTo>
                  <a:lnTo>
                    <a:pt x="34" y="104"/>
                  </a:lnTo>
                  <a:lnTo>
                    <a:pt x="38" y="88"/>
                  </a:lnTo>
                  <a:lnTo>
                    <a:pt x="44" y="72"/>
                  </a:lnTo>
                  <a:lnTo>
                    <a:pt x="52" y="58"/>
                  </a:lnTo>
                  <a:lnTo>
                    <a:pt x="62" y="46"/>
                  </a:lnTo>
                  <a:lnTo>
                    <a:pt x="72" y="36"/>
                  </a:lnTo>
                  <a:lnTo>
                    <a:pt x="84" y="26"/>
                  </a:lnTo>
                  <a:lnTo>
                    <a:pt x="98" y="18"/>
                  </a:lnTo>
                  <a:lnTo>
                    <a:pt x="114" y="12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8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6" y="2"/>
                  </a:lnTo>
                  <a:lnTo>
                    <a:pt x="224" y="4"/>
                  </a:lnTo>
                  <a:lnTo>
                    <a:pt x="242" y="8"/>
                  </a:lnTo>
                  <a:lnTo>
                    <a:pt x="256" y="12"/>
                  </a:lnTo>
                  <a:lnTo>
                    <a:pt x="272" y="20"/>
                  </a:lnTo>
                  <a:lnTo>
                    <a:pt x="284" y="28"/>
                  </a:lnTo>
                  <a:lnTo>
                    <a:pt x="298" y="38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20" y="62"/>
                  </a:lnTo>
                  <a:lnTo>
                    <a:pt x="328" y="76"/>
                  </a:lnTo>
                  <a:lnTo>
                    <a:pt x="334" y="90"/>
                  </a:lnTo>
                  <a:lnTo>
                    <a:pt x="340" y="106"/>
                  </a:lnTo>
                  <a:lnTo>
                    <a:pt x="344" y="124"/>
                  </a:lnTo>
                  <a:lnTo>
                    <a:pt x="346" y="142"/>
                  </a:lnTo>
                  <a:lnTo>
                    <a:pt x="346" y="162"/>
                  </a:lnTo>
                  <a:lnTo>
                    <a:pt x="346" y="182"/>
                  </a:lnTo>
                  <a:lnTo>
                    <a:pt x="346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グループ化 247"/>
          <p:cNvGrpSpPr/>
          <p:nvPr/>
        </p:nvGrpSpPr>
        <p:grpSpPr>
          <a:xfrm>
            <a:off x="31930920" y="10109160"/>
            <a:ext cx="10557000" cy="295200"/>
            <a:chOff x="31930920" y="10109160"/>
            <a:chExt cx="10557000" cy="295200"/>
          </a:xfrm>
        </p:grpSpPr>
        <p:sp>
          <p:nvSpPr>
            <p:cNvPr id="284" name="Freeform 18"/>
            <p:cNvSpPr/>
            <p:nvPr/>
          </p:nvSpPr>
          <p:spPr>
            <a:xfrm>
              <a:off x="31930920" y="10179000"/>
              <a:ext cx="203040" cy="206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8" h="130">
                  <a:moveTo>
                    <a:pt x="124" y="0"/>
                  </a:moveTo>
                  <a:lnTo>
                    <a:pt x="128" y="4"/>
                  </a:lnTo>
                  <a:lnTo>
                    <a:pt x="70" y="64"/>
                  </a:lnTo>
                  <a:lnTo>
                    <a:pt x="128" y="124"/>
                  </a:lnTo>
                  <a:lnTo>
                    <a:pt x="124" y="130"/>
                  </a:lnTo>
                  <a:lnTo>
                    <a:pt x="64" y="70"/>
                  </a:lnTo>
                  <a:lnTo>
                    <a:pt x="4" y="130"/>
                  </a:lnTo>
                  <a:lnTo>
                    <a:pt x="0" y="124"/>
                  </a:lnTo>
                  <a:lnTo>
                    <a:pt x="58" y="64"/>
                  </a:lnTo>
                  <a:lnTo>
                    <a:pt x="0" y="4"/>
                  </a:lnTo>
                  <a:lnTo>
                    <a:pt x="4" y="0"/>
                  </a:lnTo>
                  <a:lnTo>
                    <a:pt x="64" y="58"/>
                  </a:lnTo>
                  <a:lnTo>
                    <a:pt x="124" y="0"/>
                  </a:lnTo>
                  <a:close/>
                  <a:moveTo>
                    <a:pt x="28" y="64"/>
                  </a:moveTo>
                  <a:lnTo>
                    <a:pt x="28" y="64"/>
                  </a:lnTo>
                  <a:lnTo>
                    <a:pt x="28" y="70"/>
                  </a:lnTo>
                  <a:lnTo>
                    <a:pt x="24" y="74"/>
                  </a:lnTo>
                  <a:lnTo>
                    <a:pt x="20" y="7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0" y="76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10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60"/>
                  </a:lnTo>
                  <a:lnTo>
                    <a:pt x="28" y="64"/>
                  </a:lnTo>
                  <a:lnTo>
                    <a:pt x="28" y="64"/>
                  </a:lnTo>
                  <a:close/>
                  <a:moveTo>
                    <a:pt x="76" y="114"/>
                  </a:moveTo>
                  <a:lnTo>
                    <a:pt x="76" y="114"/>
                  </a:lnTo>
                  <a:lnTo>
                    <a:pt x="76" y="118"/>
                  </a:lnTo>
                  <a:lnTo>
                    <a:pt x="72" y="122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58" y="126"/>
                  </a:lnTo>
                  <a:lnTo>
                    <a:pt x="54" y="122"/>
                  </a:lnTo>
                  <a:lnTo>
                    <a:pt x="52" y="118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52" y="108"/>
                  </a:lnTo>
                  <a:lnTo>
                    <a:pt x="54" y="104"/>
                  </a:lnTo>
                  <a:lnTo>
                    <a:pt x="58" y="102"/>
                  </a:lnTo>
                  <a:lnTo>
                    <a:pt x="62" y="100"/>
                  </a:lnTo>
                  <a:lnTo>
                    <a:pt x="62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8" y="102"/>
                  </a:lnTo>
                  <a:lnTo>
                    <a:pt x="72" y="104"/>
                  </a:lnTo>
                  <a:lnTo>
                    <a:pt x="76" y="108"/>
                  </a:lnTo>
                  <a:lnTo>
                    <a:pt x="76" y="114"/>
                  </a:lnTo>
                  <a:lnTo>
                    <a:pt x="76" y="114"/>
                  </a:lnTo>
                  <a:close/>
                  <a:moveTo>
                    <a:pt x="76" y="16"/>
                  </a:moveTo>
                  <a:lnTo>
                    <a:pt x="76" y="16"/>
                  </a:lnTo>
                  <a:lnTo>
                    <a:pt x="76" y="22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4" y="8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76" y="16"/>
                  </a:lnTo>
                  <a:close/>
                  <a:moveTo>
                    <a:pt x="124" y="64"/>
                  </a:moveTo>
                  <a:lnTo>
                    <a:pt x="124" y="64"/>
                  </a:lnTo>
                  <a:lnTo>
                    <a:pt x="124" y="70"/>
                  </a:lnTo>
                  <a:lnTo>
                    <a:pt x="120" y="74"/>
                  </a:lnTo>
                  <a:lnTo>
                    <a:pt x="116" y="76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06" y="76"/>
                  </a:lnTo>
                  <a:lnTo>
                    <a:pt x="102" y="74"/>
                  </a:lnTo>
                  <a:lnTo>
                    <a:pt x="100" y="70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100" y="60"/>
                  </a:lnTo>
                  <a:lnTo>
                    <a:pt x="102" y="56"/>
                  </a:lnTo>
                  <a:lnTo>
                    <a:pt x="106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6" y="52"/>
                  </a:lnTo>
                  <a:lnTo>
                    <a:pt x="120" y="56"/>
                  </a:lnTo>
                  <a:lnTo>
                    <a:pt x="124" y="60"/>
                  </a:lnTo>
                  <a:lnTo>
                    <a:pt x="124" y="64"/>
                  </a:lnTo>
                  <a:lnTo>
                    <a:pt x="12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9"/>
            <p:cNvSpPr/>
            <p:nvPr/>
          </p:nvSpPr>
          <p:spPr>
            <a:xfrm>
              <a:off x="32213160" y="10191600"/>
              <a:ext cx="171360" cy="187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8" h="118">
                  <a:moveTo>
                    <a:pt x="28" y="60"/>
                  </a:moveTo>
                  <a:lnTo>
                    <a:pt x="28" y="60"/>
                  </a:lnTo>
                  <a:lnTo>
                    <a:pt x="20" y="68"/>
                  </a:lnTo>
                  <a:lnTo>
                    <a:pt x="16" y="74"/>
                  </a:lnTo>
                  <a:lnTo>
                    <a:pt x="12" y="80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90"/>
                  </a:lnTo>
                  <a:lnTo>
                    <a:pt x="16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38" y="104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86" y="104"/>
                  </a:lnTo>
                  <a:lnTo>
                    <a:pt x="98" y="102"/>
                  </a:lnTo>
                  <a:lnTo>
                    <a:pt x="106" y="98"/>
                  </a:lnTo>
                  <a:lnTo>
                    <a:pt x="108" y="112"/>
                  </a:lnTo>
                  <a:lnTo>
                    <a:pt x="108" y="112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80" y="116"/>
                  </a:lnTo>
                  <a:lnTo>
                    <a:pt x="58" y="118"/>
                  </a:lnTo>
                  <a:lnTo>
                    <a:pt x="58" y="118"/>
                  </a:lnTo>
                  <a:lnTo>
                    <a:pt x="36" y="116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4" y="70"/>
                  </a:lnTo>
                  <a:lnTo>
                    <a:pt x="10" y="62"/>
                  </a:lnTo>
                  <a:lnTo>
                    <a:pt x="18" y="54"/>
                  </a:lnTo>
                  <a:lnTo>
                    <a:pt x="28" y="60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30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78" y="22"/>
                  </a:lnTo>
                  <a:lnTo>
                    <a:pt x="56" y="3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6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0"/>
            <p:cNvSpPr/>
            <p:nvPr/>
          </p:nvSpPr>
          <p:spPr>
            <a:xfrm>
              <a:off x="32457960" y="10188360"/>
              <a:ext cx="212400" cy="1969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4" h="124">
                  <a:moveTo>
                    <a:pt x="60" y="78"/>
                  </a:moveTo>
                  <a:lnTo>
                    <a:pt x="60" y="78"/>
                  </a:lnTo>
                  <a:lnTo>
                    <a:pt x="52" y="92"/>
                  </a:lnTo>
                  <a:lnTo>
                    <a:pt x="44" y="102"/>
                  </a:lnTo>
                  <a:lnTo>
                    <a:pt x="36" y="108"/>
                  </a:lnTo>
                  <a:lnTo>
                    <a:pt x="28" y="110"/>
                  </a:lnTo>
                  <a:lnTo>
                    <a:pt x="28" y="110"/>
                  </a:lnTo>
                  <a:lnTo>
                    <a:pt x="22" y="110"/>
                  </a:lnTo>
                  <a:lnTo>
                    <a:pt x="16" y="106"/>
                  </a:lnTo>
                  <a:lnTo>
                    <a:pt x="12" y="104"/>
                  </a:lnTo>
                  <a:lnTo>
                    <a:pt x="8" y="98"/>
                  </a:lnTo>
                  <a:lnTo>
                    <a:pt x="2" y="8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4" y="44"/>
                  </a:lnTo>
                  <a:lnTo>
                    <a:pt x="10" y="3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8" y="14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08" y="10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4" y="26"/>
                  </a:lnTo>
                  <a:lnTo>
                    <a:pt x="130" y="36"/>
                  </a:lnTo>
                  <a:lnTo>
                    <a:pt x="132" y="46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34" y="68"/>
                  </a:lnTo>
                  <a:lnTo>
                    <a:pt x="132" y="76"/>
                  </a:lnTo>
                  <a:lnTo>
                    <a:pt x="128" y="84"/>
                  </a:lnTo>
                  <a:lnTo>
                    <a:pt x="124" y="92"/>
                  </a:lnTo>
                  <a:lnTo>
                    <a:pt x="118" y="100"/>
                  </a:lnTo>
                  <a:lnTo>
                    <a:pt x="112" y="106"/>
                  </a:lnTo>
                  <a:lnTo>
                    <a:pt x="104" y="112"/>
                  </a:lnTo>
                  <a:lnTo>
                    <a:pt x="96" y="116"/>
                  </a:lnTo>
                  <a:lnTo>
                    <a:pt x="96" y="116"/>
                  </a:lnTo>
                  <a:lnTo>
                    <a:pt x="84" y="120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68" y="118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80" y="108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104" y="96"/>
                  </a:lnTo>
                  <a:lnTo>
                    <a:pt x="114" y="86"/>
                  </a:lnTo>
                  <a:lnTo>
                    <a:pt x="120" y="72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20" y="44"/>
                  </a:lnTo>
                  <a:lnTo>
                    <a:pt x="114" y="32"/>
                  </a:lnTo>
                  <a:lnTo>
                    <a:pt x="106" y="22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86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4" y="28"/>
                  </a:lnTo>
                  <a:lnTo>
                    <a:pt x="70" y="46"/>
                  </a:lnTo>
                  <a:lnTo>
                    <a:pt x="64" y="64"/>
                  </a:lnTo>
                  <a:lnTo>
                    <a:pt x="60" y="78"/>
                  </a:lnTo>
                  <a:lnTo>
                    <a:pt x="60" y="78"/>
                  </a:lnTo>
                  <a:close/>
                  <a:moveTo>
                    <a:pt x="38" y="20"/>
                  </a:moveTo>
                  <a:lnTo>
                    <a:pt x="38" y="20"/>
                  </a:lnTo>
                  <a:lnTo>
                    <a:pt x="28" y="28"/>
                  </a:lnTo>
                  <a:lnTo>
                    <a:pt x="18" y="40"/>
                  </a:lnTo>
                  <a:lnTo>
                    <a:pt x="14" y="54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2" y="80"/>
                  </a:lnTo>
                  <a:lnTo>
                    <a:pt x="16" y="90"/>
                  </a:lnTo>
                  <a:lnTo>
                    <a:pt x="22" y="96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2" y="96"/>
                  </a:lnTo>
                  <a:lnTo>
                    <a:pt x="38" y="92"/>
                  </a:lnTo>
                  <a:lnTo>
                    <a:pt x="44" y="84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54" y="60"/>
                  </a:lnTo>
                  <a:lnTo>
                    <a:pt x="58" y="44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50" y="14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1"/>
            <p:cNvSpPr/>
            <p:nvPr/>
          </p:nvSpPr>
          <p:spPr>
            <a:xfrm>
              <a:off x="32715000" y="10172520"/>
              <a:ext cx="228600" cy="219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44" h="138">
                  <a:moveTo>
                    <a:pt x="98" y="34"/>
                  </a:moveTo>
                  <a:lnTo>
                    <a:pt x="98" y="18"/>
                  </a:lnTo>
                  <a:lnTo>
                    <a:pt x="98" y="18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34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44" y="32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24" y="44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8" y="82"/>
                  </a:lnTo>
                  <a:lnTo>
                    <a:pt x="104" y="92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96" y="110"/>
                  </a:lnTo>
                  <a:lnTo>
                    <a:pt x="90" y="116"/>
                  </a:lnTo>
                  <a:lnTo>
                    <a:pt x="82" y="124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52" y="132"/>
                  </a:lnTo>
                  <a:lnTo>
                    <a:pt x="46" y="128"/>
                  </a:lnTo>
                  <a:lnTo>
                    <a:pt x="46" y="128"/>
                  </a:lnTo>
                  <a:lnTo>
                    <a:pt x="64" y="120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86" y="102"/>
                  </a:lnTo>
                  <a:lnTo>
                    <a:pt x="92" y="94"/>
                  </a:lnTo>
                  <a:lnTo>
                    <a:pt x="94" y="82"/>
                  </a:lnTo>
                  <a:lnTo>
                    <a:pt x="96" y="68"/>
                  </a:lnTo>
                  <a:lnTo>
                    <a:pt x="96" y="68"/>
                  </a:lnTo>
                  <a:lnTo>
                    <a:pt x="98" y="44"/>
                  </a:lnTo>
                  <a:lnTo>
                    <a:pt x="46" y="44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8" y="86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34" y="72"/>
                  </a:lnTo>
                  <a:lnTo>
                    <a:pt x="34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14"/>
                  </a:lnTo>
                  <a:lnTo>
                    <a:pt x="46" y="34"/>
                  </a:lnTo>
                  <a:lnTo>
                    <a:pt x="9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2"/>
            <p:cNvSpPr/>
            <p:nvPr/>
          </p:nvSpPr>
          <p:spPr>
            <a:xfrm>
              <a:off x="33000840" y="10194840"/>
              <a:ext cx="199800" cy="187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26" h="118">
                  <a:moveTo>
                    <a:pt x="0" y="104"/>
                  </a:moveTo>
                  <a:lnTo>
                    <a:pt x="0" y="104"/>
                  </a:lnTo>
                  <a:lnTo>
                    <a:pt x="10" y="102"/>
                  </a:lnTo>
                  <a:lnTo>
                    <a:pt x="22" y="100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60" y="84"/>
                  </a:lnTo>
                  <a:lnTo>
                    <a:pt x="70" y="78"/>
                  </a:lnTo>
                  <a:lnTo>
                    <a:pt x="80" y="70"/>
                  </a:lnTo>
                  <a:lnTo>
                    <a:pt x="90" y="62"/>
                  </a:lnTo>
                  <a:lnTo>
                    <a:pt x="98" y="52"/>
                  </a:lnTo>
                  <a:lnTo>
                    <a:pt x="104" y="40"/>
                  </a:lnTo>
                  <a:lnTo>
                    <a:pt x="110" y="30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22" y="22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16" y="46"/>
                  </a:lnTo>
                  <a:lnTo>
                    <a:pt x="104" y="64"/>
                  </a:lnTo>
                  <a:lnTo>
                    <a:pt x="90" y="78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62" y="98"/>
                  </a:lnTo>
                  <a:lnTo>
                    <a:pt x="48" y="104"/>
                  </a:lnTo>
                  <a:lnTo>
                    <a:pt x="32" y="110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2" y="118"/>
                  </a:lnTo>
                  <a:lnTo>
                    <a:pt x="0" y="104"/>
                  </a:lnTo>
                  <a:close/>
                  <a:moveTo>
                    <a:pt x="10" y="0"/>
                  </a:moveTo>
                  <a:lnTo>
                    <a:pt x="10" y="0"/>
                  </a:lnTo>
                  <a:lnTo>
                    <a:pt x="32" y="16"/>
                  </a:lnTo>
                  <a:lnTo>
                    <a:pt x="50" y="3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22" y="24"/>
                  </a:lnTo>
                  <a:lnTo>
                    <a:pt x="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3"/>
            <p:cNvSpPr/>
            <p:nvPr/>
          </p:nvSpPr>
          <p:spPr>
            <a:xfrm>
              <a:off x="33264360" y="10163160"/>
              <a:ext cx="218880" cy="225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8" h="142">
                  <a:moveTo>
                    <a:pt x="104" y="22"/>
                  </a:moveTo>
                  <a:lnTo>
                    <a:pt x="104" y="22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4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2" y="6"/>
                  </a:lnTo>
                  <a:lnTo>
                    <a:pt x="136" y="12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6" y="24"/>
                  </a:lnTo>
                  <a:lnTo>
                    <a:pt x="132" y="30"/>
                  </a:lnTo>
                  <a:lnTo>
                    <a:pt x="128" y="34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16" y="34"/>
                  </a:lnTo>
                  <a:lnTo>
                    <a:pt x="116" y="34"/>
                  </a:lnTo>
                  <a:lnTo>
                    <a:pt x="106" y="64"/>
                  </a:lnTo>
                  <a:lnTo>
                    <a:pt x="100" y="7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86" y="100"/>
                  </a:lnTo>
                  <a:lnTo>
                    <a:pt x="76" y="110"/>
                  </a:lnTo>
                  <a:lnTo>
                    <a:pt x="64" y="118"/>
                  </a:lnTo>
                  <a:lnTo>
                    <a:pt x="52" y="126"/>
                  </a:lnTo>
                  <a:lnTo>
                    <a:pt x="52" y="126"/>
                  </a:lnTo>
                  <a:lnTo>
                    <a:pt x="38" y="134"/>
                  </a:lnTo>
                  <a:lnTo>
                    <a:pt x="22" y="142"/>
                  </a:lnTo>
                  <a:lnTo>
                    <a:pt x="22" y="142"/>
                  </a:lnTo>
                  <a:lnTo>
                    <a:pt x="18" y="136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34" y="12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70" y="98"/>
                  </a:lnTo>
                  <a:lnTo>
                    <a:pt x="78" y="88"/>
                  </a:lnTo>
                  <a:lnTo>
                    <a:pt x="84" y="80"/>
                  </a:lnTo>
                  <a:lnTo>
                    <a:pt x="96" y="58"/>
                  </a:lnTo>
                  <a:lnTo>
                    <a:pt x="10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8" y="22"/>
                  </a:lnTo>
                  <a:lnTo>
                    <a:pt x="102" y="22"/>
                  </a:lnTo>
                  <a:lnTo>
                    <a:pt x="104" y="22"/>
                  </a:lnTo>
                  <a:close/>
                  <a:moveTo>
                    <a:pt x="110" y="18"/>
                  </a:moveTo>
                  <a:lnTo>
                    <a:pt x="110" y="18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6" y="28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8" y="26"/>
                  </a:lnTo>
                  <a:lnTo>
                    <a:pt x="130" y="22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0" y="14"/>
                  </a:lnTo>
                  <a:lnTo>
                    <a:pt x="128" y="10"/>
                  </a:lnTo>
                  <a:lnTo>
                    <a:pt x="124" y="8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16" y="8"/>
                  </a:lnTo>
                  <a:lnTo>
                    <a:pt x="114" y="10"/>
                  </a:lnTo>
                  <a:lnTo>
                    <a:pt x="112" y="14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4"/>
            <p:cNvSpPr/>
            <p:nvPr/>
          </p:nvSpPr>
          <p:spPr>
            <a:xfrm>
              <a:off x="33508800" y="10179000"/>
              <a:ext cx="237960" cy="2095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0" h="132">
                  <a:moveTo>
                    <a:pt x="50" y="2"/>
                  </a:moveTo>
                  <a:lnTo>
                    <a:pt x="50" y="2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64"/>
                  </a:lnTo>
                  <a:lnTo>
                    <a:pt x="44" y="78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4" y="102"/>
                  </a:lnTo>
                  <a:lnTo>
                    <a:pt x="28" y="112"/>
                  </a:lnTo>
                  <a:lnTo>
                    <a:pt x="20" y="122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6" y="12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0" y="114"/>
                  </a:lnTo>
                  <a:lnTo>
                    <a:pt x="18" y="106"/>
                  </a:lnTo>
                  <a:lnTo>
                    <a:pt x="24" y="96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32" y="72"/>
                  </a:lnTo>
                  <a:lnTo>
                    <a:pt x="34" y="5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50" y="2"/>
                  </a:lnTo>
                  <a:close/>
                  <a:moveTo>
                    <a:pt x="90" y="0"/>
                  </a:moveTo>
                  <a:lnTo>
                    <a:pt x="90" y="0"/>
                  </a:lnTo>
                  <a:lnTo>
                    <a:pt x="90" y="14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0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32" y="80"/>
                  </a:lnTo>
                  <a:lnTo>
                    <a:pt x="140" y="62"/>
                  </a:lnTo>
                  <a:lnTo>
                    <a:pt x="140" y="62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42" y="86"/>
                  </a:lnTo>
                  <a:lnTo>
                    <a:pt x="134" y="98"/>
                  </a:lnTo>
                  <a:lnTo>
                    <a:pt x="126" y="108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04" y="122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86" y="130"/>
                  </a:lnTo>
                  <a:lnTo>
                    <a:pt x="86" y="130"/>
                  </a:lnTo>
                  <a:lnTo>
                    <a:pt x="82" y="132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76" y="112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8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"/>
            <p:cNvSpPr/>
            <p:nvPr/>
          </p:nvSpPr>
          <p:spPr>
            <a:xfrm>
              <a:off x="33791400" y="10172520"/>
              <a:ext cx="212400" cy="2160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4" h="136">
                  <a:moveTo>
                    <a:pt x="24" y="2"/>
                  </a:moveTo>
                  <a:lnTo>
                    <a:pt x="24" y="2"/>
                  </a:lnTo>
                  <a:lnTo>
                    <a:pt x="20" y="18"/>
                  </a:lnTo>
                  <a:lnTo>
                    <a:pt x="16" y="38"/>
                  </a:lnTo>
                  <a:lnTo>
                    <a:pt x="12" y="6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8" y="9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4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22" y="110"/>
                  </a:lnTo>
                  <a:lnTo>
                    <a:pt x="20" y="122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4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2" y="10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4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24" y="2"/>
                  </a:lnTo>
                  <a:close/>
                  <a:moveTo>
                    <a:pt x="42" y="34"/>
                  </a:moveTo>
                  <a:lnTo>
                    <a:pt x="42" y="34"/>
                  </a:lnTo>
                  <a:lnTo>
                    <a:pt x="54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18" y="32"/>
                  </a:lnTo>
                  <a:lnTo>
                    <a:pt x="130" y="30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16" y="10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4" y="112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20" y="11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6" y="126"/>
                  </a:lnTo>
                  <a:lnTo>
                    <a:pt x="90" y="130"/>
                  </a:lnTo>
                  <a:lnTo>
                    <a:pt x="82" y="134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60" y="132"/>
                  </a:lnTo>
                  <a:lnTo>
                    <a:pt x="50" y="128"/>
                  </a:lnTo>
                  <a:lnTo>
                    <a:pt x="44" y="12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2" y="106"/>
                  </a:lnTo>
                  <a:lnTo>
                    <a:pt x="44" y="102"/>
                  </a:lnTo>
                  <a:lnTo>
                    <a:pt x="50" y="94"/>
                  </a:lnTo>
                  <a:lnTo>
                    <a:pt x="60" y="88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84" y="88"/>
                  </a:lnTo>
                  <a:lnTo>
                    <a:pt x="92" y="90"/>
                  </a:lnTo>
                  <a:lnTo>
                    <a:pt x="92" y="90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4"/>
                  </a:lnTo>
                  <a:close/>
                  <a:moveTo>
                    <a:pt x="74" y="96"/>
                  </a:moveTo>
                  <a:lnTo>
                    <a:pt x="74" y="96"/>
                  </a:lnTo>
                  <a:lnTo>
                    <a:pt x="64" y="98"/>
                  </a:lnTo>
                  <a:lnTo>
                    <a:pt x="58" y="100"/>
                  </a:lnTo>
                  <a:lnTo>
                    <a:pt x="54" y="106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54" y="116"/>
                  </a:lnTo>
                  <a:lnTo>
                    <a:pt x="58" y="120"/>
                  </a:lnTo>
                  <a:lnTo>
                    <a:pt x="64" y="124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82" y="122"/>
                  </a:lnTo>
                  <a:lnTo>
                    <a:pt x="88" y="118"/>
                  </a:lnTo>
                  <a:lnTo>
                    <a:pt x="88" y="118"/>
                  </a:lnTo>
                  <a:lnTo>
                    <a:pt x="90" y="114"/>
                  </a:lnTo>
                  <a:lnTo>
                    <a:pt x="92" y="106"/>
                  </a:lnTo>
                  <a:lnTo>
                    <a:pt x="92" y="106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82" y="98"/>
                  </a:lnTo>
                  <a:lnTo>
                    <a:pt x="74" y="96"/>
                  </a:lnTo>
                  <a:lnTo>
                    <a:pt x="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34048440" y="10204200"/>
              <a:ext cx="218880" cy="1555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38" h="98">
                  <a:moveTo>
                    <a:pt x="74" y="86"/>
                  </a:moveTo>
                  <a:lnTo>
                    <a:pt x="118" y="86"/>
                  </a:lnTo>
                  <a:lnTo>
                    <a:pt x="118" y="86"/>
                  </a:lnTo>
                  <a:lnTo>
                    <a:pt x="138" y="84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18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0" y="86"/>
                  </a:lnTo>
                  <a:lnTo>
                    <a:pt x="60" y="86"/>
                  </a:lnTo>
                  <a:lnTo>
                    <a:pt x="60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2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6" y="0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06" y="12"/>
                  </a:lnTo>
                  <a:lnTo>
                    <a:pt x="74" y="12"/>
                  </a:lnTo>
                  <a:lnTo>
                    <a:pt x="7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34334280" y="1019808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12" h="114">
                  <a:moveTo>
                    <a:pt x="18" y="104"/>
                  </a:moveTo>
                  <a:lnTo>
                    <a:pt x="18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8" y="92"/>
                  </a:lnTo>
                  <a:lnTo>
                    <a:pt x="98" y="92"/>
                  </a:lnTo>
                  <a:lnTo>
                    <a:pt x="98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14"/>
                  </a:lnTo>
                  <a:lnTo>
                    <a:pt x="110" y="98"/>
                  </a:lnTo>
                  <a:lnTo>
                    <a:pt x="110" y="98"/>
                  </a:lnTo>
                  <a:lnTo>
                    <a:pt x="112" y="114"/>
                  </a:lnTo>
                  <a:lnTo>
                    <a:pt x="98" y="114"/>
                  </a:lnTo>
                  <a:lnTo>
                    <a:pt x="98" y="104"/>
                  </a:lnTo>
                  <a:lnTo>
                    <a:pt x="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34585200" y="10166040"/>
              <a:ext cx="193680" cy="225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42">
                  <a:moveTo>
                    <a:pt x="66" y="4"/>
                  </a:moveTo>
                  <a:lnTo>
                    <a:pt x="66" y="4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14" y="22"/>
                  </a:lnTo>
                  <a:lnTo>
                    <a:pt x="122" y="30"/>
                  </a:lnTo>
                  <a:lnTo>
                    <a:pt x="122" y="30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2" y="56"/>
                  </a:lnTo>
                  <a:lnTo>
                    <a:pt x="104" y="72"/>
                  </a:lnTo>
                  <a:lnTo>
                    <a:pt x="96" y="88"/>
                  </a:lnTo>
                  <a:lnTo>
                    <a:pt x="84" y="100"/>
                  </a:lnTo>
                  <a:lnTo>
                    <a:pt x="84" y="100"/>
                  </a:lnTo>
                  <a:lnTo>
                    <a:pt x="72" y="114"/>
                  </a:lnTo>
                  <a:lnTo>
                    <a:pt x="60" y="124"/>
                  </a:lnTo>
                  <a:lnTo>
                    <a:pt x="44" y="134"/>
                  </a:lnTo>
                  <a:lnTo>
                    <a:pt x="26" y="142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36" y="124"/>
                  </a:lnTo>
                  <a:lnTo>
                    <a:pt x="52" y="114"/>
                  </a:lnTo>
                  <a:lnTo>
                    <a:pt x="64" y="104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6" y="78"/>
                  </a:lnTo>
                  <a:lnTo>
                    <a:pt x="94" y="64"/>
                  </a:lnTo>
                  <a:lnTo>
                    <a:pt x="102" y="50"/>
                  </a:lnTo>
                  <a:lnTo>
                    <a:pt x="106" y="34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2" y="48"/>
                  </a:lnTo>
                  <a:lnTo>
                    <a:pt x="32" y="58"/>
                  </a:lnTo>
                  <a:lnTo>
                    <a:pt x="22" y="7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6" y="74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60"/>
                  </a:lnTo>
                  <a:lnTo>
                    <a:pt x="24" y="50"/>
                  </a:lnTo>
                  <a:lnTo>
                    <a:pt x="34" y="3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34883640" y="10175760"/>
              <a:ext cx="139680" cy="2160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8" h="136">
                  <a:moveTo>
                    <a:pt x="14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4" y="0"/>
                  </a:lnTo>
                  <a:close/>
                  <a:moveTo>
                    <a:pt x="88" y="0"/>
                  </a:moveTo>
                  <a:lnTo>
                    <a:pt x="88" y="0"/>
                  </a:lnTo>
                  <a:lnTo>
                    <a:pt x="88" y="1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6" y="68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8" y="98"/>
                  </a:lnTo>
                  <a:lnTo>
                    <a:pt x="72" y="108"/>
                  </a:lnTo>
                  <a:lnTo>
                    <a:pt x="62" y="116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38" y="130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18" y="130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32" y="120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56" y="106"/>
                  </a:lnTo>
                  <a:lnTo>
                    <a:pt x="64" y="98"/>
                  </a:lnTo>
                  <a:lnTo>
                    <a:pt x="70" y="8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4" y="62"/>
                  </a:lnTo>
                  <a:lnTo>
                    <a:pt x="76" y="34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74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35112240" y="10188360"/>
              <a:ext cx="215640" cy="196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6" h="124">
                  <a:moveTo>
                    <a:pt x="126" y="124"/>
                  </a:moveTo>
                  <a:lnTo>
                    <a:pt x="126" y="124"/>
                  </a:lnTo>
                  <a:lnTo>
                    <a:pt x="114" y="110"/>
                  </a:lnTo>
                  <a:lnTo>
                    <a:pt x="102" y="98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6" y="88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24" y="112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4" y="11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6" y="104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52" y="76"/>
                  </a:lnTo>
                  <a:lnTo>
                    <a:pt x="68" y="58"/>
                  </a:lnTo>
                  <a:lnTo>
                    <a:pt x="82" y="38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0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18" y="1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4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94" y="42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108" y="86"/>
                  </a:lnTo>
                  <a:lnTo>
                    <a:pt x="136" y="114"/>
                  </a:lnTo>
                  <a:lnTo>
                    <a:pt x="126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>
              <a:off x="35382240" y="10163160"/>
              <a:ext cx="196560" cy="231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24" h="146">
                  <a:moveTo>
                    <a:pt x="66" y="4"/>
                  </a:moveTo>
                  <a:lnTo>
                    <a:pt x="66" y="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16" y="22"/>
                  </a:lnTo>
                  <a:lnTo>
                    <a:pt x="124" y="30"/>
                  </a:lnTo>
                  <a:lnTo>
                    <a:pt x="124" y="30"/>
                  </a:lnTo>
                  <a:lnTo>
                    <a:pt x="120" y="40"/>
                  </a:lnTo>
                  <a:lnTo>
                    <a:pt x="120" y="40"/>
                  </a:lnTo>
                  <a:lnTo>
                    <a:pt x="110" y="62"/>
                  </a:lnTo>
                  <a:lnTo>
                    <a:pt x="100" y="82"/>
                  </a:lnTo>
                  <a:lnTo>
                    <a:pt x="88" y="98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64" y="122"/>
                  </a:lnTo>
                  <a:lnTo>
                    <a:pt x="52" y="130"/>
                  </a:lnTo>
                  <a:lnTo>
                    <a:pt x="38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18" y="140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32" y="128"/>
                  </a:lnTo>
                  <a:lnTo>
                    <a:pt x="50" y="118"/>
                  </a:lnTo>
                  <a:lnTo>
                    <a:pt x="50" y="118"/>
                  </a:lnTo>
                  <a:lnTo>
                    <a:pt x="66" y="106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60" y="76"/>
                  </a:lnTo>
                  <a:lnTo>
                    <a:pt x="40" y="6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66" y="68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98" y="58"/>
                  </a:lnTo>
                  <a:lnTo>
                    <a:pt x="108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42" y="46"/>
                  </a:lnTo>
                  <a:lnTo>
                    <a:pt x="32" y="58"/>
                  </a:lnTo>
                  <a:lnTo>
                    <a:pt x="22" y="6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6" y="74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4" y="60"/>
                  </a:lnTo>
                  <a:lnTo>
                    <a:pt x="24" y="50"/>
                  </a:lnTo>
                  <a:lnTo>
                    <a:pt x="34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35636040" y="10179000"/>
              <a:ext cx="234720" cy="2095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8" h="132">
                  <a:moveTo>
                    <a:pt x="48" y="2"/>
                  </a:moveTo>
                  <a:lnTo>
                    <a:pt x="48" y="2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4" y="64"/>
                  </a:lnTo>
                  <a:lnTo>
                    <a:pt x="42" y="7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4" y="102"/>
                  </a:lnTo>
                  <a:lnTo>
                    <a:pt x="28" y="112"/>
                  </a:lnTo>
                  <a:lnTo>
                    <a:pt x="20" y="122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4" y="12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8" y="114"/>
                  </a:lnTo>
                  <a:lnTo>
                    <a:pt x="16" y="106"/>
                  </a:lnTo>
                  <a:lnTo>
                    <a:pt x="22" y="96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30" y="72"/>
                  </a:lnTo>
                  <a:lnTo>
                    <a:pt x="34" y="5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48" y="2"/>
                  </a:lnTo>
                  <a:close/>
                  <a:moveTo>
                    <a:pt x="90" y="0"/>
                  </a:moveTo>
                  <a:lnTo>
                    <a:pt x="90" y="0"/>
                  </a:lnTo>
                  <a:lnTo>
                    <a:pt x="88" y="14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08"/>
                  </a:lnTo>
                  <a:lnTo>
                    <a:pt x="118" y="96"/>
                  </a:lnTo>
                  <a:lnTo>
                    <a:pt x="118" y="96"/>
                  </a:lnTo>
                  <a:lnTo>
                    <a:pt x="130" y="80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48" y="72"/>
                  </a:lnTo>
                  <a:lnTo>
                    <a:pt x="148" y="72"/>
                  </a:lnTo>
                  <a:lnTo>
                    <a:pt x="142" y="86"/>
                  </a:lnTo>
                  <a:lnTo>
                    <a:pt x="134" y="98"/>
                  </a:lnTo>
                  <a:lnTo>
                    <a:pt x="124" y="108"/>
                  </a:lnTo>
                  <a:lnTo>
                    <a:pt x="114" y="116"/>
                  </a:lnTo>
                  <a:lnTo>
                    <a:pt x="114" y="116"/>
                  </a:lnTo>
                  <a:lnTo>
                    <a:pt x="104" y="122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86" y="130"/>
                  </a:lnTo>
                  <a:lnTo>
                    <a:pt x="86" y="130"/>
                  </a:lnTo>
                  <a:lnTo>
                    <a:pt x="82" y="132"/>
                  </a:lnTo>
                  <a:lnTo>
                    <a:pt x="74" y="124"/>
                  </a:lnTo>
                  <a:lnTo>
                    <a:pt x="74" y="124"/>
                  </a:lnTo>
                  <a:lnTo>
                    <a:pt x="76" y="1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35893440" y="101725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84" y="120"/>
                  </a:moveTo>
                  <a:lnTo>
                    <a:pt x="84" y="120"/>
                  </a:lnTo>
                  <a:lnTo>
                    <a:pt x="86" y="138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74" y="120"/>
                  </a:lnTo>
                  <a:lnTo>
                    <a:pt x="74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6" y="106"/>
                  </a:lnTo>
                  <a:lnTo>
                    <a:pt x="22" y="120"/>
                  </a:lnTo>
                  <a:lnTo>
                    <a:pt x="18" y="132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16" y="96"/>
                  </a:lnTo>
                  <a:lnTo>
                    <a:pt x="18" y="7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16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4" y="136"/>
                  </a:lnTo>
                  <a:lnTo>
                    <a:pt x="140" y="140"/>
                  </a:lnTo>
                  <a:lnTo>
                    <a:pt x="134" y="142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04" y="140"/>
                  </a:lnTo>
                  <a:lnTo>
                    <a:pt x="104" y="140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32" y="130"/>
                  </a:lnTo>
                  <a:lnTo>
                    <a:pt x="134" y="130"/>
                  </a:lnTo>
                  <a:lnTo>
                    <a:pt x="134" y="126"/>
                  </a:lnTo>
                  <a:lnTo>
                    <a:pt x="134" y="90"/>
                  </a:lnTo>
                  <a:lnTo>
                    <a:pt x="84" y="90"/>
                  </a:lnTo>
                  <a:lnTo>
                    <a:pt x="84" y="120"/>
                  </a:lnTo>
                  <a:close/>
                  <a:moveTo>
                    <a:pt x="30" y="50"/>
                  </a:moveTo>
                  <a:lnTo>
                    <a:pt x="30" y="5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8" y="80"/>
                  </a:lnTo>
                  <a:lnTo>
                    <a:pt x="74" y="80"/>
                  </a:lnTo>
                  <a:lnTo>
                    <a:pt x="74" y="50"/>
                  </a:lnTo>
                  <a:lnTo>
                    <a:pt x="30" y="50"/>
                  </a:lnTo>
                  <a:close/>
                  <a:moveTo>
                    <a:pt x="74" y="10"/>
                  </a:moveTo>
                  <a:lnTo>
                    <a:pt x="30" y="10"/>
                  </a:lnTo>
                  <a:lnTo>
                    <a:pt x="30" y="30"/>
                  </a:lnTo>
                  <a:lnTo>
                    <a:pt x="30" y="40"/>
                  </a:lnTo>
                  <a:lnTo>
                    <a:pt x="74" y="40"/>
                  </a:lnTo>
                  <a:lnTo>
                    <a:pt x="74" y="10"/>
                  </a:lnTo>
                  <a:close/>
                  <a:moveTo>
                    <a:pt x="134" y="40"/>
                  </a:moveTo>
                  <a:lnTo>
                    <a:pt x="134" y="10"/>
                  </a:lnTo>
                  <a:lnTo>
                    <a:pt x="84" y="10"/>
                  </a:lnTo>
                  <a:lnTo>
                    <a:pt x="84" y="40"/>
                  </a:lnTo>
                  <a:lnTo>
                    <a:pt x="134" y="40"/>
                  </a:lnTo>
                  <a:close/>
                  <a:moveTo>
                    <a:pt x="84" y="80"/>
                  </a:moveTo>
                  <a:lnTo>
                    <a:pt x="134" y="80"/>
                  </a:lnTo>
                  <a:lnTo>
                    <a:pt x="134" y="50"/>
                  </a:lnTo>
                  <a:lnTo>
                    <a:pt x="84" y="50"/>
                  </a:lnTo>
                  <a:lnTo>
                    <a:pt x="8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36163080" y="10159920"/>
              <a:ext cx="244440" cy="2412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4" h="152">
                  <a:moveTo>
                    <a:pt x="18" y="96"/>
                  </a:moveTo>
                  <a:lnTo>
                    <a:pt x="18" y="96"/>
                  </a:lnTo>
                  <a:lnTo>
                    <a:pt x="14" y="124"/>
                  </a:lnTo>
                  <a:lnTo>
                    <a:pt x="8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6" y="120"/>
                  </a:lnTo>
                  <a:lnTo>
                    <a:pt x="8" y="94"/>
                  </a:lnTo>
                  <a:lnTo>
                    <a:pt x="18" y="96"/>
                  </a:lnTo>
                  <a:close/>
                  <a:moveTo>
                    <a:pt x="0" y="74"/>
                  </a:moveTo>
                  <a:lnTo>
                    <a:pt x="0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46"/>
                  </a:lnTo>
                  <a:lnTo>
                    <a:pt x="0" y="3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24" y="14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44" y="30"/>
                  </a:lnTo>
                  <a:lnTo>
                    <a:pt x="48" y="18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36" y="60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2" y="5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8" y="70"/>
                  </a:lnTo>
                  <a:lnTo>
                    <a:pt x="66" y="84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38" y="82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38" y="152"/>
                  </a:lnTo>
                  <a:lnTo>
                    <a:pt x="26" y="152"/>
                  </a:lnTo>
                  <a:lnTo>
                    <a:pt x="26" y="152"/>
                  </a:lnTo>
                  <a:lnTo>
                    <a:pt x="28" y="136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0" y="84"/>
                  </a:lnTo>
                  <a:lnTo>
                    <a:pt x="0" y="74"/>
                  </a:lnTo>
                  <a:close/>
                  <a:moveTo>
                    <a:pt x="54" y="92"/>
                  </a:moveTo>
                  <a:lnTo>
                    <a:pt x="54" y="92"/>
                  </a:lnTo>
                  <a:lnTo>
                    <a:pt x="58" y="108"/>
                  </a:lnTo>
                  <a:lnTo>
                    <a:pt x="62" y="126"/>
                  </a:lnTo>
                  <a:lnTo>
                    <a:pt x="54" y="130"/>
                  </a:lnTo>
                  <a:lnTo>
                    <a:pt x="54" y="130"/>
                  </a:lnTo>
                  <a:lnTo>
                    <a:pt x="50" y="110"/>
                  </a:lnTo>
                  <a:lnTo>
                    <a:pt x="46" y="96"/>
                  </a:lnTo>
                  <a:lnTo>
                    <a:pt x="54" y="92"/>
                  </a:lnTo>
                  <a:close/>
                  <a:moveTo>
                    <a:pt x="148" y="12"/>
                  </a:moveTo>
                  <a:lnTo>
                    <a:pt x="148" y="12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6" y="64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50" y="62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136" y="7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22" y="98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32" y="128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40" y="136"/>
                  </a:lnTo>
                  <a:lnTo>
                    <a:pt x="140" y="136"/>
                  </a:lnTo>
                  <a:lnTo>
                    <a:pt x="142" y="134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4" y="120"/>
                  </a:lnTo>
                  <a:lnTo>
                    <a:pt x="154" y="120"/>
                  </a:lnTo>
                  <a:lnTo>
                    <a:pt x="152" y="134"/>
                  </a:lnTo>
                  <a:lnTo>
                    <a:pt x="148" y="142"/>
                  </a:lnTo>
                  <a:lnTo>
                    <a:pt x="144" y="146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34" y="146"/>
                  </a:lnTo>
                  <a:lnTo>
                    <a:pt x="128" y="142"/>
                  </a:lnTo>
                  <a:lnTo>
                    <a:pt x="124" y="136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112" y="104"/>
                  </a:lnTo>
                  <a:lnTo>
                    <a:pt x="108" y="74"/>
                  </a:lnTo>
                  <a:lnTo>
                    <a:pt x="80" y="74"/>
                  </a:lnTo>
                  <a:lnTo>
                    <a:pt x="80" y="134"/>
                  </a:lnTo>
                  <a:lnTo>
                    <a:pt x="80" y="134"/>
                  </a:lnTo>
                  <a:lnTo>
                    <a:pt x="108" y="122"/>
                  </a:lnTo>
                  <a:lnTo>
                    <a:pt x="110" y="132"/>
                  </a:lnTo>
                  <a:lnTo>
                    <a:pt x="110" y="132"/>
                  </a:lnTo>
                  <a:lnTo>
                    <a:pt x="78" y="144"/>
                  </a:lnTo>
                  <a:lnTo>
                    <a:pt x="78" y="144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54" y="15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70" y="136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102" y="14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38" y="2"/>
                  </a:lnTo>
                  <a:lnTo>
                    <a:pt x="148" y="12"/>
                  </a:lnTo>
                  <a:close/>
                  <a:moveTo>
                    <a:pt x="106" y="64"/>
                  </a:moveTo>
                  <a:lnTo>
                    <a:pt x="106" y="64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80" y="26"/>
                  </a:lnTo>
                  <a:lnTo>
                    <a:pt x="80" y="64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5"/>
            <p:cNvSpPr/>
            <p:nvPr/>
          </p:nvSpPr>
          <p:spPr>
            <a:xfrm>
              <a:off x="36452160" y="10175760"/>
              <a:ext cx="199800" cy="2127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26" h="134">
                  <a:moveTo>
                    <a:pt x="24" y="2"/>
                  </a:moveTo>
                  <a:lnTo>
                    <a:pt x="24" y="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2" y="54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112"/>
                  </a:lnTo>
                  <a:lnTo>
                    <a:pt x="12" y="112"/>
                  </a:lnTo>
                  <a:lnTo>
                    <a:pt x="16" y="96"/>
                  </a:lnTo>
                  <a:lnTo>
                    <a:pt x="22" y="80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22" y="110"/>
                  </a:lnTo>
                  <a:lnTo>
                    <a:pt x="18" y="122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8" y="132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0" y="10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4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0"/>
                  </a:lnTo>
                  <a:lnTo>
                    <a:pt x="24" y="2"/>
                  </a:lnTo>
                  <a:close/>
                  <a:moveTo>
                    <a:pt x="66" y="68"/>
                  </a:moveTo>
                  <a:lnTo>
                    <a:pt x="66" y="68"/>
                  </a:lnTo>
                  <a:lnTo>
                    <a:pt x="56" y="82"/>
                  </a:lnTo>
                  <a:lnTo>
                    <a:pt x="54" y="88"/>
                  </a:lnTo>
                  <a:lnTo>
                    <a:pt x="54" y="94"/>
                  </a:lnTo>
                  <a:lnTo>
                    <a:pt x="54" y="94"/>
                  </a:lnTo>
                  <a:lnTo>
                    <a:pt x="56" y="102"/>
                  </a:lnTo>
                  <a:lnTo>
                    <a:pt x="62" y="108"/>
                  </a:lnTo>
                  <a:lnTo>
                    <a:pt x="72" y="110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106" y="110"/>
                  </a:lnTo>
                  <a:lnTo>
                    <a:pt x="124" y="106"/>
                  </a:lnTo>
                  <a:lnTo>
                    <a:pt x="126" y="118"/>
                  </a:lnTo>
                  <a:lnTo>
                    <a:pt x="126" y="118"/>
                  </a:lnTo>
                  <a:lnTo>
                    <a:pt x="120" y="120"/>
                  </a:lnTo>
                  <a:lnTo>
                    <a:pt x="120" y="120"/>
                  </a:lnTo>
                  <a:lnTo>
                    <a:pt x="102" y="122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72" y="122"/>
                  </a:lnTo>
                  <a:lnTo>
                    <a:pt x="62" y="120"/>
                  </a:lnTo>
                  <a:lnTo>
                    <a:pt x="54" y="116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4" y="104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2" y="88"/>
                  </a:lnTo>
                  <a:lnTo>
                    <a:pt x="46" y="80"/>
                  </a:lnTo>
                  <a:lnTo>
                    <a:pt x="50" y="72"/>
                  </a:lnTo>
                  <a:lnTo>
                    <a:pt x="56" y="64"/>
                  </a:lnTo>
                  <a:lnTo>
                    <a:pt x="66" y="68"/>
                  </a:lnTo>
                  <a:close/>
                  <a:moveTo>
                    <a:pt x="44" y="20"/>
                  </a:moveTo>
                  <a:lnTo>
                    <a:pt x="44" y="20"/>
                  </a:lnTo>
                  <a:lnTo>
                    <a:pt x="56" y="22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98" y="20"/>
                  </a:lnTo>
                  <a:lnTo>
                    <a:pt x="118" y="18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44" y="32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36693360" y="1032840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2" h="46">
                  <a:moveTo>
                    <a:pt x="10" y="0"/>
                  </a:moveTo>
                  <a:lnTo>
                    <a:pt x="10" y="0"/>
                  </a:lnTo>
                  <a:lnTo>
                    <a:pt x="26" y="18"/>
                  </a:lnTo>
                  <a:lnTo>
                    <a:pt x="42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18" y="26"/>
                  </a:lnTo>
                  <a:lnTo>
                    <a:pt x="0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36823680" y="10159920"/>
              <a:ext cx="250560" cy="241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8" h="152">
                  <a:moveTo>
                    <a:pt x="24" y="28"/>
                  </a:moveTo>
                  <a:lnTo>
                    <a:pt x="24" y="28"/>
                  </a:lnTo>
                  <a:lnTo>
                    <a:pt x="4" y="2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4" y="18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16"/>
                  </a:lnTo>
                  <a:lnTo>
                    <a:pt x="82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52" y="18"/>
                  </a:lnTo>
                  <a:lnTo>
                    <a:pt x="152" y="28"/>
                  </a:lnTo>
                  <a:lnTo>
                    <a:pt x="152" y="28"/>
                  </a:lnTo>
                  <a:lnTo>
                    <a:pt x="132" y="28"/>
                  </a:lnTo>
                  <a:lnTo>
                    <a:pt x="82" y="28"/>
                  </a:lnTo>
                  <a:lnTo>
                    <a:pt x="82" y="42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38" y="40"/>
                  </a:lnTo>
                  <a:lnTo>
                    <a:pt x="138" y="40"/>
                  </a:lnTo>
                  <a:lnTo>
                    <a:pt x="136" y="58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8" y="100"/>
                  </a:lnTo>
                  <a:lnTo>
                    <a:pt x="138" y="100"/>
                  </a:lnTo>
                  <a:lnTo>
                    <a:pt x="11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104" y="112"/>
                  </a:lnTo>
                  <a:lnTo>
                    <a:pt x="120" y="122"/>
                  </a:lnTo>
                  <a:lnTo>
                    <a:pt x="138" y="130"/>
                  </a:lnTo>
                  <a:lnTo>
                    <a:pt x="158" y="136"/>
                  </a:lnTo>
                  <a:lnTo>
                    <a:pt x="158" y="136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32" y="140"/>
                  </a:lnTo>
                  <a:lnTo>
                    <a:pt x="114" y="130"/>
                  </a:lnTo>
                  <a:lnTo>
                    <a:pt x="114" y="130"/>
                  </a:lnTo>
                  <a:lnTo>
                    <a:pt x="96" y="118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82" y="116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82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72" y="134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62" y="114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30" y="136"/>
                  </a:lnTo>
                  <a:lnTo>
                    <a:pt x="6" y="148"/>
                  </a:lnTo>
                  <a:lnTo>
                    <a:pt x="6" y="14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0" y="130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54" y="110"/>
                  </a:lnTo>
                  <a:lnTo>
                    <a:pt x="64" y="100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20" y="100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20" y="82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38" y="42"/>
                  </a:lnTo>
                  <a:lnTo>
                    <a:pt x="72" y="42"/>
                  </a:lnTo>
                  <a:lnTo>
                    <a:pt x="72" y="28"/>
                  </a:lnTo>
                  <a:lnTo>
                    <a:pt x="24" y="28"/>
                  </a:lnTo>
                  <a:close/>
                  <a:moveTo>
                    <a:pt x="30" y="50"/>
                  </a:moveTo>
                  <a:lnTo>
                    <a:pt x="30" y="66"/>
                  </a:lnTo>
                  <a:lnTo>
                    <a:pt x="72" y="66"/>
                  </a:lnTo>
                  <a:lnTo>
                    <a:pt x="72" y="50"/>
                  </a:lnTo>
                  <a:lnTo>
                    <a:pt x="30" y="50"/>
                  </a:lnTo>
                  <a:close/>
                  <a:moveTo>
                    <a:pt x="30" y="74"/>
                  </a:moveTo>
                  <a:lnTo>
                    <a:pt x="30" y="92"/>
                  </a:lnTo>
                  <a:lnTo>
                    <a:pt x="72" y="92"/>
                  </a:lnTo>
                  <a:lnTo>
                    <a:pt x="72" y="74"/>
                  </a:lnTo>
                  <a:lnTo>
                    <a:pt x="30" y="74"/>
                  </a:lnTo>
                  <a:close/>
                  <a:moveTo>
                    <a:pt x="82" y="66"/>
                  </a:moveTo>
                  <a:lnTo>
                    <a:pt x="126" y="66"/>
                  </a:lnTo>
                  <a:lnTo>
                    <a:pt x="126" y="50"/>
                  </a:lnTo>
                  <a:lnTo>
                    <a:pt x="82" y="50"/>
                  </a:lnTo>
                  <a:lnTo>
                    <a:pt x="82" y="66"/>
                  </a:lnTo>
                  <a:close/>
                  <a:moveTo>
                    <a:pt x="82" y="92"/>
                  </a:moveTo>
                  <a:lnTo>
                    <a:pt x="126" y="92"/>
                  </a:lnTo>
                  <a:lnTo>
                    <a:pt x="126" y="74"/>
                  </a:lnTo>
                  <a:lnTo>
                    <a:pt x="82" y="74"/>
                  </a:lnTo>
                  <a:lnTo>
                    <a:pt x="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8"/>
            <p:cNvSpPr/>
            <p:nvPr/>
          </p:nvSpPr>
          <p:spPr>
            <a:xfrm>
              <a:off x="37096560" y="10163160"/>
              <a:ext cx="237960" cy="235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50" h="148">
                  <a:moveTo>
                    <a:pt x="42" y="12"/>
                  </a:moveTo>
                  <a:lnTo>
                    <a:pt x="42" y="12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94" y="18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4" y="12"/>
                  </a:lnTo>
                  <a:lnTo>
                    <a:pt x="104" y="18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46" y="16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28" y="28"/>
                  </a:lnTo>
                  <a:lnTo>
                    <a:pt x="104" y="28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106" y="46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4" y="36"/>
                  </a:lnTo>
                  <a:lnTo>
                    <a:pt x="94" y="28"/>
                  </a:lnTo>
                  <a:lnTo>
                    <a:pt x="52" y="28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8"/>
                  </a:lnTo>
                  <a:lnTo>
                    <a:pt x="42" y="18"/>
                  </a:lnTo>
                  <a:lnTo>
                    <a:pt x="42" y="12"/>
                  </a:lnTo>
                  <a:close/>
                  <a:moveTo>
                    <a:pt x="68" y="46"/>
                  </a:moveTo>
                  <a:lnTo>
                    <a:pt x="68" y="46"/>
                  </a:lnTo>
                  <a:lnTo>
                    <a:pt x="6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46"/>
                  </a:lnTo>
                  <a:lnTo>
                    <a:pt x="78" y="58"/>
                  </a:lnTo>
                  <a:lnTo>
                    <a:pt x="112" y="58"/>
                  </a:lnTo>
                  <a:lnTo>
                    <a:pt x="112" y="58"/>
                  </a:lnTo>
                  <a:lnTo>
                    <a:pt x="124" y="58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10" y="86"/>
                  </a:lnTo>
                  <a:lnTo>
                    <a:pt x="92" y="100"/>
                  </a:lnTo>
                  <a:lnTo>
                    <a:pt x="72" y="114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60" y="130"/>
                  </a:lnTo>
                  <a:lnTo>
                    <a:pt x="72" y="134"/>
                  </a:lnTo>
                  <a:lnTo>
                    <a:pt x="86" y="136"/>
                  </a:lnTo>
                  <a:lnTo>
                    <a:pt x="106" y="136"/>
                  </a:lnTo>
                  <a:lnTo>
                    <a:pt x="106" y="136"/>
                  </a:lnTo>
                  <a:lnTo>
                    <a:pt x="130" y="136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12" y="146"/>
                  </a:lnTo>
                  <a:lnTo>
                    <a:pt x="112" y="146"/>
                  </a:lnTo>
                  <a:lnTo>
                    <a:pt x="92" y="146"/>
                  </a:lnTo>
                  <a:lnTo>
                    <a:pt x="78" y="144"/>
                  </a:lnTo>
                  <a:lnTo>
                    <a:pt x="66" y="142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48" y="134"/>
                  </a:lnTo>
                  <a:lnTo>
                    <a:pt x="42" y="128"/>
                  </a:lnTo>
                  <a:lnTo>
                    <a:pt x="38" y="12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24" y="130"/>
                  </a:lnTo>
                  <a:lnTo>
                    <a:pt x="10" y="14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2" y="128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6" y="104"/>
                  </a:lnTo>
                  <a:lnTo>
                    <a:pt x="28" y="96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0" y="106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64" y="106"/>
                  </a:lnTo>
                  <a:lnTo>
                    <a:pt x="82" y="96"/>
                  </a:lnTo>
                  <a:lnTo>
                    <a:pt x="98" y="82"/>
                  </a:lnTo>
                  <a:lnTo>
                    <a:pt x="114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14" y="6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30" y="58"/>
                  </a:lnTo>
                  <a:lnTo>
                    <a:pt x="68" y="58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39"/>
            <p:cNvSpPr/>
            <p:nvPr/>
          </p:nvSpPr>
          <p:spPr>
            <a:xfrm>
              <a:off x="37353960" y="10159920"/>
              <a:ext cx="250560" cy="244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8" h="154">
                  <a:moveTo>
                    <a:pt x="36" y="136"/>
                  </a:moveTo>
                  <a:lnTo>
                    <a:pt x="36" y="136"/>
                  </a:lnTo>
                  <a:lnTo>
                    <a:pt x="38" y="154"/>
                  </a:lnTo>
                  <a:lnTo>
                    <a:pt x="24" y="154"/>
                  </a:lnTo>
                  <a:lnTo>
                    <a:pt x="24" y="154"/>
                  </a:lnTo>
                  <a:lnTo>
                    <a:pt x="26" y="13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16" y="94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4" y="82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6" y="54"/>
                  </a:lnTo>
                  <a:lnTo>
                    <a:pt x="44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4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14"/>
                  </a:lnTo>
                  <a:lnTo>
                    <a:pt x="36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52" y="30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58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50" y="70"/>
                  </a:lnTo>
                  <a:lnTo>
                    <a:pt x="56" y="60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44" y="92"/>
                  </a:lnTo>
                  <a:lnTo>
                    <a:pt x="36" y="82"/>
                  </a:lnTo>
                  <a:lnTo>
                    <a:pt x="36" y="136"/>
                  </a:lnTo>
                  <a:close/>
                  <a:moveTo>
                    <a:pt x="84" y="86"/>
                  </a:moveTo>
                  <a:lnTo>
                    <a:pt x="78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70" y="70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6" y="28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4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54" y="1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3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84" y="38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52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44" y="86"/>
                  </a:lnTo>
                  <a:lnTo>
                    <a:pt x="144" y="86"/>
                  </a:lnTo>
                  <a:lnTo>
                    <a:pt x="128" y="86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90" y="96"/>
                  </a:lnTo>
                  <a:lnTo>
                    <a:pt x="124" y="96"/>
                  </a:lnTo>
                  <a:lnTo>
                    <a:pt x="124" y="96"/>
                  </a:lnTo>
                  <a:lnTo>
                    <a:pt x="136" y="94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28" y="11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34" y="136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2" y="152"/>
                  </a:lnTo>
                  <a:lnTo>
                    <a:pt x="152" y="152"/>
                  </a:lnTo>
                  <a:lnTo>
                    <a:pt x="128" y="144"/>
                  </a:lnTo>
                  <a:lnTo>
                    <a:pt x="106" y="134"/>
                  </a:lnTo>
                  <a:lnTo>
                    <a:pt x="106" y="134"/>
                  </a:lnTo>
                  <a:lnTo>
                    <a:pt x="94" y="140"/>
                  </a:lnTo>
                  <a:lnTo>
                    <a:pt x="82" y="144"/>
                  </a:lnTo>
                  <a:lnTo>
                    <a:pt x="68" y="148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74" y="136"/>
                  </a:lnTo>
                  <a:lnTo>
                    <a:pt x="86" y="132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86" y="11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66" y="11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60" y="112"/>
                  </a:lnTo>
                  <a:lnTo>
                    <a:pt x="70" y="104"/>
                  </a:lnTo>
                  <a:lnTo>
                    <a:pt x="80" y="96"/>
                  </a:lnTo>
                  <a:lnTo>
                    <a:pt x="88" y="86"/>
                  </a:lnTo>
                  <a:lnTo>
                    <a:pt x="84" y="86"/>
                  </a:lnTo>
                  <a:close/>
                  <a:moveTo>
                    <a:pt x="80" y="56"/>
                  </a:moveTo>
                  <a:lnTo>
                    <a:pt x="134" y="56"/>
                  </a:lnTo>
                  <a:lnTo>
                    <a:pt x="134" y="46"/>
                  </a:lnTo>
                  <a:lnTo>
                    <a:pt x="80" y="46"/>
                  </a:lnTo>
                  <a:lnTo>
                    <a:pt x="80" y="56"/>
                  </a:lnTo>
                  <a:close/>
                  <a:moveTo>
                    <a:pt x="80" y="78"/>
                  </a:moveTo>
                  <a:lnTo>
                    <a:pt x="134" y="78"/>
                  </a:lnTo>
                  <a:lnTo>
                    <a:pt x="134" y="64"/>
                  </a:lnTo>
                  <a:lnTo>
                    <a:pt x="80" y="64"/>
                  </a:lnTo>
                  <a:lnTo>
                    <a:pt x="80" y="78"/>
                  </a:lnTo>
                  <a:close/>
                  <a:moveTo>
                    <a:pt x="86" y="104"/>
                  </a:moveTo>
                  <a:lnTo>
                    <a:pt x="86" y="104"/>
                  </a:lnTo>
                  <a:lnTo>
                    <a:pt x="94" y="114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18" y="114"/>
                  </a:lnTo>
                  <a:lnTo>
                    <a:pt x="128" y="104"/>
                  </a:lnTo>
                  <a:lnTo>
                    <a:pt x="86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37620720" y="10163160"/>
              <a:ext cx="250560" cy="2383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58" h="150">
                  <a:moveTo>
                    <a:pt x="84" y="0"/>
                  </a:moveTo>
                  <a:lnTo>
                    <a:pt x="84" y="0"/>
                  </a:lnTo>
                  <a:lnTo>
                    <a:pt x="96" y="14"/>
                  </a:lnTo>
                  <a:lnTo>
                    <a:pt x="112" y="30"/>
                  </a:lnTo>
                  <a:lnTo>
                    <a:pt x="112" y="30"/>
                  </a:lnTo>
                  <a:lnTo>
                    <a:pt x="134" y="46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0" y="68"/>
                  </a:lnTo>
                  <a:lnTo>
                    <a:pt x="150" y="68"/>
                  </a:lnTo>
                  <a:lnTo>
                    <a:pt x="126" y="54"/>
                  </a:lnTo>
                  <a:lnTo>
                    <a:pt x="104" y="36"/>
                  </a:lnTo>
                  <a:lnTo>
                    <a:pt x="104" y="36"/>
                  </a:lnTo>
                  <a:lnTo>
                    <a:pt x="90" y="24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62" y="2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26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4" y="6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4" y="4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60" y="14"/>
                  </a:lnTo>
                  <a:lnTo>
                    <a:pt x="72" y="0"/>
                  </a:lnTo>
                  <a:lnTo>
                    <a:pt x="84" y="0"/>
                  </a:lnTo>
                  <a:close/>
                  <a:moveTo>
                    <a:pt x="26" y="150"/>
                  </a:moveTo>
                  <a:lnTo>
                    <a:pt x="26" y="150"/>
                  </a:lnTo>
                  <a:lnTo>
                    <a:pt x="26" y="132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8" y="80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30" y="80"/>
                  </a:lnTo>
                  <a:lnTo>
                    <a:pt x="130" y="80"/>
                  </a:lnTo>
                  <a:lnTo>
                    <a:pt x="130" y="96"/>
                  </a:lnTo>
                  <a:lnTo>
                    <a:pt x="130" y="132"/>
                  </a:lnTo>
                  <a:lnTo>
                    <a:pt x="130" y="132"/>
                  </a:lnTo>
                  <a:lnTo>
                    <a:pt x="130" y="150"/>
                  </a:lnTo>
                  <a:lnTo>
                    <a:pt x="118" y="150"/>
                  </a:lnTo>
                  <a:lnTo>
                    <a:pt x="118" y="140"/>
                  </a:lnTo>
                  <a:lnTo>
                    <a:pt x="38" y="140"/>
                  </a:lnTo>
                  <a:lnTo>
                    <a:pt x="38" y="150"/>
                  </a:lnTo>
                  <a:lnTo>
                    <a:pt x="26" y="150"/>
                  </a:lnTo>
                  <a:close/>
                  <a:moveTo>
                    <a:pt x="38" y="130"/>
                  </a:moveTo>
                  <a:lnTo>
                    <a:pt x="118" y="130"/>
                  </a:lnTo>
                  <a:lnTo>
                    <a:pt x="118" y="92"/>
                  </a:lnTo>
                  <a:lnTo>
                    <a:pt x="38" y="92"/>
                  </a:lnTo>
                  <a:lnTo>
                    <a:pt x="38" y="130"/>
                  </a:lnTo>
                  <a:close/>
                  <a:moveTo>
                    <a:pt x="38" y="50"/>
                  </a:moveTo>
                  <a:lnTo>
                    <a:pt x="38" y="50"/>
                  </a:lnTo>
                  <a:lnTo>
                    <a:pt x="52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18" y="50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04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38" y="62"/>
                  </a:lnTo>
                  <a:lnTo>
                    <a:pt x="3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37881000" y="10163160"/>
              <a:ext cx="250560" cy="241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8" h="152">
                  <a:moveTo>
                    <a:pt x="24" y="16"/>
                  </a:moveTo>
                  <a:lnTo>
                    <a:pt x="24" y="16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6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50" y="3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0" y="5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8" y="6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78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34" y="152"/>
                  </a:lnTo>
                  <a:lnTo>
                    <a:pt x="24" y="152"/>
                  </a:lnTo>
                  <a:lnTo>
                    <a:pt x="24" y="152"/>
                  </a:lnTo>
                  <a:lnTo>
                    <a:pt x="24" y="132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8" y="86"/>
                  </a:lnTo>
                  <a:lnTo>
                    <a:pt x="14" y="72"/>
                  </a:lnTo>
                  <a:lnTo>
                    <a:pt x="18" y="58"/>
                  </a:lnTo>
                  <a:lnTo>
                    <a:pt x="22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6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16"/>
                  </a:lnTo>
                  <a:close/>
                  <a:moveTo>
                    <a:pt x="72" y="94"/>
                  </a:moveTo>
                  <a:lnTo>
                    <a:pt x="72" y="94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82" y="110"/>
                  </a:lnTo>
                  <a:lnTo>
                    <a:pt x="94" y="118"/>
                  </a:lnTo>
                  <a:lnTo>
                    <a:pt x="94" y="118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78" y="120"/>
                  </a:lnTo>
                  <a:lnTo>
                    <a:pt x="70" y="112"/>
                  </a:lnTo>
                  <a:lnTo>
                    <a:pt x="70" y="112"/>
                  </a:lnTo>
                  <a:lnTo>
                    <a:pt x="66" y="122"/>
                  </a:lnTo>
                  <a:lnTo>
                    <a:pt x="62" y="132"/>
                  </a:lnTo>
                  <a:lnTo>
                    <a:pt x="56" y="140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44" y="144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50" y="132"/>
                  </a:lnTo>
                  <a:lnTo>
                    <a:pt x="56" y="122"/>
                  </a:lnTo>
                  <a:lnTo>
                    <a:pt x="62" y="110"/>
                  </a:lnTo>
                  <a:lnTo>
                    <a:pt x="64" y="9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46" y="94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62" y="84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96" y="4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6" y="52"/>
                  </a:lnTo>
                  <a:lnTo>
                    <a:pt x="110" y="84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56" y="8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38" y="94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114" y="104"/>
                  </a:lnTo>
                  <a:lnTo>
                    <a:pt x="120" y="116"/>
                  </a:lnTo>
                  <a:lnTo>
                    <a:pt x="120" y="116"/>
                  </a:lnTo>
                  <a:lnTo>
                    <a:pt x="128" y="106"/>
                  </a:lnTo>
                  <a:lnTo>
                    <a:pt x="134" y="96"/>
                  </a:lnTo>
                  <a:lnTo>
                    <a:pt x="144" y="102"/>
                  </a:lnTo>
                  <a:lnTo>
                    <a:pt x="144" y="102"/>
                  </a:lnTo>
                  <a:lnTo>
                    <a:pt x="124" y="122"/>
                  </a:lnTo>
                  <a:lnTo>
                    <a:pt x="124" y="122"/>
                  </a:lnTo>
                  <a:lnTo>
                    <a:pt x="134" y="134"/>
                  </a:lnTo>
                  <a:lnTo>
                    <a:pt x="138" y="138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50" y="116"/>
                  </a:lnTo>
                  <a:lnTo>
                    <a:pt x="150" y="116"/>
                  </a:lnTo>
                  <a:lnTo>
                    <a:pt x="158" y="122"/>
                  </a:lnTo>
                  <a:lnTo>
                    <a:pt x="158" y="122"/>
                  </a:lnTo>
                  <a:lnTo>
                    <a:pt x="156" y="136"/>
                  </a:lnTo>
                  <a:lnTo>
                    <a:pt x="152" y="144"/>
                  </a:lnTo>
                  <a:lnTo>
                    <a:pt x="148" y="148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36" y="148"/>
                  </a:lnTo>
                  <a:lnTo>
                    <a:pt x="130" y="144"/>
                  </a:lnTo>
                  <a:lnTo>
                    <a:pt x="124" y="138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98" y="142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92" y="134"/>
                  </a:lnTo>
                  <a:lnTo>
                    <a:pt x="102" y="128"/>
                  </a:lnTo>
                  <a:lnTo>
                    <a:pt x="112" y="122"/>
                  </a:lnTo>
                  <a:lnTo>
                    <a:pt x="112" y="122"/>
                  </a:lnTo>
                  <a:lnTo>
                    <a:pt x="106" y="108"/>
                  </a:lnTo>
                  <a:lnTo>
                    <a:pt x="102" y="94"/>
                  </a:lnTo>
                  <a:lnTo>
                    <a:pt x="72" y="94"/>
                  </a:lnTo>
                  <a:close/>
                  <a:moveTo>
                    <a:pt x="78" y="4"/>
                  </a:moveTo>
                  <a:lnTo>
                    <a:pt x="78" y="4"/>
                  </a:lnTo>
                  <a:lnTo>
                    <a:pt x="70" y="1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80" y="22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76" y="48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50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96" y="72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56" y="36"/>
                  </a:lnTo>
                  <a:lnTo>
                    <a:pt x="46" y="26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4" y="12"/>
                  </a:lnTo>
                  <a:lnTo>
                    <a:pt x="70" y="0"/>
                  </a:lnTo>
                  <a:lnTo>
                    <a:pt x="78" y="4"/>
                  </a:lnTo>
                  <a:close/>
                  <a:moveTo>
                    <a:pt x="110" y="60"/>
                  </a:moveTo>
                  <a:lnTo>
                    <a:pt x="110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16" y="34"/>
                  </a:lnTo>
                  <a:lnTo>
                    <a:pt x="106" y="24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24" y="12"/>
                  </a:lnTo>
                  <a:lnTo>
                    <a:pt x="130" y="0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30" y="38"/>
                  </a:lnTo>
                  <a:lnTo>
                    <a:pt x="130" y="38"/>
                  </a:lnTo>
                  <a:lnTo>
                    <a:pt x="144" y="18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44" y="58"/>
                  </a:lnTo>
                  <a:lnTo>
                    <a:pt x="144" y="58"/>
                  </a:lnTo>
                  <a:lnTo>
                    <a:pt x="138" y="48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52" y="56"/>
                  </a:lnTo>
                  <a:lnTo>
                    <a:pt x="158" y="70"/>
                  </a:lnTo>
                  <a:lnTo>
                    <a:pt x="150" y="74"/>
                  </a:lnTo>
                  <a:lnTo>
                    <a:pt x="150" y="74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0" y="70"/>
                  </a:lnTo>
                  <a:lnTo>
                    <a:pt x="110" y="60"/>
                  </a:lnTo>
                  <a:close/>
                  <a:moveTo>
                    <a:pt x="128" y="68"/>
                  </a:moveTo>
                  <a:lnTo>
                    <a:pt x="128" y="68"/>
                  </a:lnTo>
                  <a:lnTo>
                    <a:pt x="134" y="72"/>
                  </a:lnTo>
                  <a:lnTo>
                    <a:pt x="140" y="78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22" y="72"/>
                  </a:lnTo>
                  <a:lnTo>
                    <a:pt x="12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39509640" y="10179000"/>
              <a:ext cx="203040" cy="206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8" h="130">
                  <a:moveTo>
                    <a:pt x="6" y="40"/>
                  </a:moveTo>
                  <a:lnTo>
                    <a:pt x="6" y="40"/>
                  </a:lnTo>
                  <a:lnTo>
                    <a:pt x="28" y="50"/>
                  </a:lnTo>
                  <a:lnTo>
                    <a:pt x="50" y="6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22" y="60"/>
                  </a:lnTo>
                  <a:lnTo>
                    <a:pt x="0" y="50"/>
                  </a:lnTo>
                  <a:lnTo>
                    <a:pt x="6" y="40"/>
                  </a:lnTo>
                  <a:close/>
                  <a:moveTo>
                    <a:pt x="2" y="116"/>
                  </a:moveTo>
                  <a:lnTo>
                    <a:pt x="2" y="116"/>
                  </a:lnTo>
                  <a:lnTo>
                    <a:pt x="22" y="114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62" y="98"/>
                  </a:lnTo>
                  <a:lnTo>
                    <a:pt x="76" y="90"/>
                  </a:lnTo>
                  <a:lnTo>
                    <a:pt x="88" y="80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0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16" y="64"/>
                  </a:lnTo>
                  <a:lnTo>
                    <a:pt x="102" y="84"/>
                  </a:lnTo>
                  <a:lnTo>
                    <a:pt x="84" y="100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44" y="120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6" y="130"/>
                  </a:lnTo>
                  <a:lnTo>
                    <a:pt x="2" y="116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42" y="10"/>
                  </a:lnTo>
                  <a:lnTo>
                    <a:pt x="62" y="2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34" y="20"/>
                  </a:lnTo>
                  <a:lnTo>
                    <a:pt x="14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43"/>
            <p:cNvSpPr/>
            <p:nvPr/>
          </p:nvSpPr>
          <p:spPr>
            <a:xfrm>
              <a:off x="39798720" y="10175760"/>
              <a:ext cx="139680" cy="2160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8" h="136">
                  <a:moveTo>
                    <a:pt x="14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4" y="0"/>
                  </a:lnTo>
                  <a:close/>
                  <a:moveTo>
                    <a:pt x="88" y="0"/>
                  </a:moveTo>
                  <a:lnTo>
                    <a:pt x="88" y="0"/>
                  </a:lnTo>
                  <a:lnTo>
                    <a:pt x="88" y="1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8" y="68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80" y="98"/>
                  </a:lnTo>
                  <a:lnTo>
                    <a:pt x="72" y="108"/>
                  </a:lnTo>
                  <a:lnTo>
                    <a:pt x="64" y="116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40" y="130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18" y="130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32" y="120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56" y="106"/>
                  </a:lnTo>
                  <a:lnTo>
                    <a:pt x="64" y="98"/>
                  </a:lnTo>
                  <a:lnTo>
                    <a:pt x="70" y="8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4" y="62"/>
                  </a:lnTo>
                  <a:lnTo>
                    <a:pt x="76" y="34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74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44"/>
            <p:cNvSpPr/>
            <p:nvPr/>
          </p:nvSpPr>
          <p:spPr>
            <a:xfrm>
              <a:off x="40027320" y="10271160"/>
              <a:ext cx="218880" cy="18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38" h="12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40290840" y="10153440"/>
              <a:ext cx="237960" cy="231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50" h="146">
                  <a:moveTo>
                    <a:pt x="126" y="146"/>
                  </a:moveTo>
                  <a:lnTo>
                    <a:pt x="126" y="146"/>
                  </a:lnTo>
                  <a:lnTo>
                    <a:pt x="102" y="122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56" y="112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24" y="136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4" y="14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6" y="12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52" y="98"/>
                  </a:lnTo>
                  <a:lnTo>
                    <a:pt x="68" y="80"/>
                  </a:lnTo>
                  <a:lnTo>
                    <a:pt x="82" y="60"/>
                  </a:lnTo>
                  <a:lnTo>
                    <a:pt x="94" y="40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18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106" y="24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94" y="66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108" y="110"/>
                  </a:lnTo>
                  <a:lnTo>
                    <a:pt x="136" y="136"/>
                  </a:lnTo>
                  <a:lnTo>
                    <a:pt x="126" y="146"/>
                  </a:lnTo>
                  <a:close/>
                  <a:moveTo>
                    <a:pt x="118" y="6"/>
                  </a:moveTo>
                  <a:lnTo>
                    <a:pt x="118" y="6"/>
                  </a:lnTo>
                  <a:lnTo>
                    <a:pt x="126" y="18"/>
                  </a:lnTo>
                  <a:lnTo>
                    <a:pt x="134" y="30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18" y="22"/>
                  </a:lnTo>
                  <a:lnTo>
                    <a:pt x="108" y="10"/>
                  </a:lnTo>
                  <a:lnTo>
                    <a:pt x="118" y="6"/>
                  </a:lnTo>
                  <a:close/>
                  <a:moveTo>
                    <a:pt x="134" y="0"/>
                  </a:moveTo>
                  <a:lnTo>
                    <a:pt x="134" y="0"/>
                  </a:lnTo>
                  <a:lnTo>
                    <a:pt x="142" y="10"/>
                  </a:lnTo>
                  <a:lnTo>
                    <a:pt x="150" y="22"/>
                  </a:lnTo>
                  <a:lnTo>
                    <a:pt x="142" y="26"/>
                  </a:lnTo>
                  <a:lnTo>
                    <a:pt x="142" y="26"/>
                  </a:lnTo>
                  <a:lnTo>
                    <a:pt x="134" y="14"/>
                  </a:lnTo>
                  <a:lnTo>
                    <a:pt x="126" y="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46"/>
            <p:cNvSpPr/>
            <p:nvPr/>
          </p:nvSpPr>
          <p:spPr>
            <a:xfrm>
              <a:off x="40557600" y="10194840"/>
              <a:ext cx="228600" cy="190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" h="120">
                  <a:moveTo>
                    <a:pt x="0" y="8"/>
                  </a:moveTo>
                  <a:lnTo>
                    <a:pt x="0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22" y="12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96" y="20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72" y="40"/>
                  </a:lnTo>
                  <a:lnTo>
                    <a:pt x="66" y="50"/>
                  </a:lnTo>
                  <a:lnTo>
                    <a:pt x="62" y="6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2" y="80"/>
                  </a:lnTo>
                  <a:lnTo>
                    <a:pt x="66" y="88"/>
                  </a:lnTo>
                  <a:lnTo>
                    <a:pt x="74" y="96"/>
                  </a:lnTo>
                  <a:lnTo>
                    <a:pt x="84" y="100"/>
                  </a:lnTo>
                  <a:lnTo>
                    <a:pt x="84" y="100"/>
                  </a:lnTo>
                  <a:lnTo>
                    <a:pt x="98" y="104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0" y="100"/>
                  </a:lnTo>
                  <a:lnTo>
                    <a:pt x="54" y="90"/>
                  </a:lnTo>
                  <a:lnTo>
                    <a:pt x="50" y="8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50" y="58"/>
                  </a:lnTo>
                  <a:lnTo>
                    <a:pt x="58" y="44"/>
                  </a:lnTo>
                  <a:lnTo>
                    <a:pt x="66" y="32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20" y="18"/>
                  </a:lnTo>
                  <a:lnTo>
                    <a:pt x="2" y="20"/>
                  </a:lnTo>
                  <a:lnTo>
                    <a:pt x="0" y="8"/>
                  </a:lnTo>
                  <a:close/>
                  <a:moveTo>
                    <a:pt x="112" y="26"/>
                  </a:moveTo>
                  <a:lnTo>
                    <a:pt x="112" y="26"/>
                  </a:lnTo>
                  <a:lnTo>
                    <a:pt x="120" y="38"/>
                  </a:lnTo>
                  <a:lnTo>
                    <a:pt x="126" y="50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12" y="42"/>
                  </a:lnTo>
                  <a:lnTo>
                    <a:pt x="104" y="30"/>
                  </a:lnTo>
                  <a:lnTo>
                    <a:pt x="112" y="26"/>
                  </a:lnTo>
                  <a:close/>
                  <a:moveTo>
                    <a:pt x="128" y="18"/>
                  </a:moveTo>
                  <a:lnTo>
                    <a:pt x="128" y="18"/>
                  </a:lnTo>
                  <a:lnTo>
                    <a:pt x="136" y="30"/>
                  </a:lnTo>
                  <a:lnTo>
                    <a:pt x="144" y="42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28" y="34"/>
                  </a:lnTo>
                  <a:lnTo>
                    <a:pt x="120" y="22"/>
                  </a:lnTo>
                  <a:lnTo>
                    <a:pt x="1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7"/>
            <p:cNvSpPr/>
            <p:nvPr/>
          </p:nvSpPr>
          <p:spPr>
            <a:xfrm>
              <a:off x="40824360" y="10166040"/>
              <a:ext cx="218880" cy="235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38" h="148">
                  <a:moveTo>
                    <a:pt x="12" y="128"/>
                  </a:moveTo>
                  <a:lnTo>
                    <a:pt x="12" y="128"/>
                  </a:lnTo>
                  <a:lnTo>
                    <a:pt x="12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36" y="18"/>
                  </a:lnTo>
                  <a:lnTo>
                    <a:pt x="12" y="26"/>
                  </a:lnTo>
                  <a:lnTo>
                    <a:pt x="12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58" y="56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44" y="68"/>
                  </a:lnTo>
                  <a:lnTo>
                    <a:pt x="12" y="68"/>
                  </a:lnTo>
                  <a:lnTo>
                    <a:pt x="12" y="110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60" y="11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46" y="120"/>
                  </a:lnTo>
                  <a:lnTo>
                    <a:pt x="12" y="120"/>
                  </a:lnTo>
                  <a:lnTo>
                    <a:pt x="12" y="128"/>
                  </a:lnTo>
                  <a:close/>
                  <a:moveTo>
                    <a:pt x="72" y="22"/>
                  </a:moveTo>
                  <a:lnTo>
                    <a:pt x="72" y="22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6" y="22"/>
                  </a:lnTo>
                  <a:lnTo>
                    <a:pt x="136" y="112"/>
                  </a:lnTo>
                  <a:lnTo>
                    <a:pt x="136" y="112"/>
                  </a:lnTo>
                  <a:lnTo>
                    <a:pt x="136" y="118"/>
                  </a:lnTo>
                  <a:lnTo>
                    <a:pt x="134" y="124"/>
                  </a:lnTo>
                  <a:lnTo>
                    <a:pt x="128" y="126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20" y="116"/>
                  </a:lnTo>
                  <a:lnTo>
                    <a:pt x="120" y="116"/>
                  </a:lnTo>
                  <a:lnTo>
                    <a:pt x="124" y="114"/>
                  </a:lnTo>
                  <a:lnTo>
                    <a:pt x="126" y="110"/>
                  </a:lnTo>
                  <a:lnTo>
                    <a:pt x="126" y="18"/>
                  </a:lnTo>
                  <a:lnTo>
                    <a:pt x="82" y="18"/>
                  </a:lnTo>
                  <a:lnTo>
                    <a:pt x="82" y="128"/>
                  </a:lnTo>
                  <a:lnTo>
                    <a:pt x="82" y="128"/>
                  </a:lnTo>
                  <a:lnTo>
                    <a:pt x="84" y="148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2" y="130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8"/>
            <p:cNvSpPr/>
            <p:nvPr/>
          </p:nvSpPr>
          <p:spPr>
            <a:xfrm>
              <a:off x="41075280" y="10163160"/>
              <a:ext cx="234720" cy="238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48" h="150">
                  <a:moveTo>
                    <a:pt x="26" y="48"/>
                  </a:moveTo>
                  <a:lnTo>
                    <a:pt x="26" y="48"/>
                  </a:lnTo>
                  <a:lnTo>
                    <a:pt x="24" y="78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16" y="122"/>
                  </a:lnTo>
                  <a:lnTo>
                    <a:pt x="8" y="142"/>
                  </a:lnTo>
                  <a:lnTo>
                    <a:pt x="8" y="14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6" y="116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4" y="6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34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0" y="2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76" y="48"/>
                  </a:lnTo>
                  <a:lnTo>
                    <a:pt x="26" y="48"/>
                  </a:lnTo>
                  <a:close/>
                  <a:moveTo>
                    <a:pt x="26" y="38"/>
                  </a:moveTo>
                  <a:lnTo>
                    <a:pt x="80" y="38"/>
                  </a:lnTo>
                  <a:lnTo>
                    <a:pt x="80" y="16"/>
                  </a:lnTo>
                  <a:lnTo>
                    <a:pt x="26" y="16"/>
                  </a:lnTo>
                  <a:lnTo>
                    <a:pt x="26" y="38"/>
                  </a:lnTo>
                  <a:close/>
                  <a:moveTo>
                    <a:pt x="40" y="78"/>
                  </a:moveTo>
                  <a:lnTo>
                    <a:pt x="40" y="118"/>
                  </a:lnTo>
                  <a:lnTo>
                    <a:pt x="40" y="118"/>
                  </a:lnTo>
                  <a:lnTo>
                    <a:pt x="40" y="136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30" y="11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44" y="70"/>
                  </a:lnTo>
                  <a:lnTo>
                    <a:pt x="56" y="70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4" y="5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66" y="68"/>
                  </a:lnTo>
                  <a:lnTo>
                    <a:pt x="66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92" y="84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4" y="134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80" y="124"/>
                  </a:lnTo>
                  <a:lnTo>
                    <a:pt x="82" y="122"/>
                  </a:lnTo>
                  <a:lnTo>
                    <a:pt x="82" y="78"/>
                  </a:lnTo>
                  <a:lnTo>
                    <a:pt x="66" y="78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66" y="150"/>
                  </a:lnTo>
                  <a:lnTo>
                    <a:pt x="54" y="150"/>
                  </a:lnTo>
                  <a:lnTo>
                    <a:pt x="54" y="150"/>
                  </a:lnTo>
                  <a:lnTo>
                    <a:pt x="56" y="132"/>
                  </a:lnTo>
                  <a:lnTo>
                    <a:pt x="56" y="78"/>
                  </a:lnTo>
                  <a:lnTo>
                    <a:pt x="40" y="78"/>
                  </a:lnTo>
                  <a:close/>
                  <a:moveTo>
                    <a:pt x="116" y="12"/>
                  </a:moveTo>
                  <a:lnTo>
                    <a:pt x="116" y="12"/>
                  </a:lnTo>
                  <a:lnTo>
                    <a:pt x="116" y="30"/>
                  </a:lnTo>
                  <a:lnTo>
                    <a:pt x="116" y="92"/>
                  </a:lnTo>
                  <a:lnTo>
                    <a:pt x="116" y="92"/>
                  </a:lnTo>
                  <a:lnTo>
                    <a:pt x="116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6" y="92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104" y="12"/>
                  </a:lnTo>
                  <a:lnTo>
                    <a:pt x="116" y="12"/>
                  </a:lnTo>
                  <a:close/>
                  <a:moveTo>
                    <a:pt x="148" y="0"/>
                  </a:moveTo>
                  <a:lnTo>
                    <a:pt x="148" y="0"/>
                  </a:lnTo>
                  <a:lnTo>
                    <a:pt x="148" y="22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6" y="140"/>
                  </a:lnTo>
                  <a:lnTo>
                    <a:pt x="144" y="144"/>
                  </a:lnTo>
                  <a:lnTo>
                    <a:pt x="138" y="146"/>
                  </a:lnTo>
                  <a:lnTo>
                    <a:pt x="128" y="148"/>
                  </a:lnTo>
                  <a:lnTo>
                    <a:pt x="128" y="148"/>
                  </a:lnTo>
                  <a:lnTo>
                    <a:pt x="114" y="146"/>
                  </a:lnTo>
                  <a:lnTo>
                    <a:pt x="114" y="146"/>
                  </a:lnTo>
                  <a:lnTo>
                    <a:pt x="110" y="136"/>
                  </a:lnTo>
                  <a:lnTo>
                    <a:pt x="110" y="136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49"/>
            <p:cNvSpPr/>
            <p:nvPr/>
          </p:nvSpPr>
          <p:spPr>
            <a:xfrm>
              <a:off x="41392800" y="10175760"/>
              <a:ext cx="168120" cy="212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06" h="134">
                  <a:moveTo>
                    <a:pt x="16" y="0"/>
                  </a:moveTo>
                  <a:lnTo>
                    <a:pt x="16" y="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4" y="108"/>
                  </a:lnTo>
                  <a:lnTo>
                    <a:pt x="16" y="112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28" y="120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54" y="120"/>
                  </a:lnTo>
                  <a:lnTo>
                    <a:pt x="68" y="114"/>
                  </a:lnTo>
                  <a:lnTo>
                    <a:pt x="78" y="106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90" y="82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98" y="98"/>
                  </a:lnTo>
                  <a:lnTo>
                    <a:pt x="92" y="106"/>
                  </a:lnTo>
                  <a:lnTo>
                    <a:pt x="88" y="112"/>
                  </a:lnTo>
                  <a:lnTo>
                    <a:pt x="88" y="112"/>
                  </a:lnTo>
                  <a:lnTo>
                    <a:pt x="78" y="122"/>
                  </a:lnTo>
                  <a:lnTo>
                    <a:pt x="66" y="128"/>
                  </a:lnTo>
                  <a:lnTo>
                    <a:pt x="54" y="132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0" y="132"/>
                  </a:lnTo>
                  <a:lnTo>
                    <a:pt x="22" y="130"/>
                  </a:lnTo>
                  <a:lnTo>
                    <a:pt x="14" y="126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4" y="116"/>
                  </a:lnTo>
                  <a:lnTo>
                    <a:pt x="2" y="108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0"/>
            <p:cNvSpPr/>
            <p:nvPr/>
          </p:nvSpPr>
          <p:spPr>
            <a:xfrm>
              <a:off x="41637240" y="10169280"/>
              <a:ext cx="193680" cy="219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22" h="138">
                  <a:moveTo>
                    <a:pt x="114" y="132"/>
                  </a:moveTo>
                  <a:lnTo>
                    <a:pt x="114" y="132"/>
                  </a:lnTo>
                  <a:lnTo>
                    <a:pt x="100" y="120"/>
                  </a:lnTo>
                  <a:lnTo>
                    <a:pt x="80" y="108"/>
                  </a:lnTo>
                  <a:lnTo>
                    <a:pt x="80" y="108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68" y="120"/>
                  </a:lnTo>
                  <a:lnTo>
                    <a:pt x="66" y="12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4" y="136"/>
                  </a:lnTo>
                  <a:lnTo>
                    <a:pt x="46" y="13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22" y="136"/>
                  </a:lnTo>
                  <a:lnTo>
                    <a:pt x="16" y="134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8" y="128"/>
                  </a:lnTo>
                  <a:lnTo>
                    <a:pt x="4" y="124"/>
                  </a:lnTo>
                  <a:lnTo>
                    <a:pt x="2" y="120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4" y="106"/>
                  </a:lnTo>
                  <a:lnTo>
                    <a:pt x="8" y="100"/>
                  </a:lnTo>
                  <a:lnTo>
                    <a:pt x="16" y="94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58" y="58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6" y="2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98" y="22"/>
                  </a:lnTo>
                  <a:lnTo>
                    <a:pt x="118" y="18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96" y="54"/>
                  </a:lnTo>
                  <a:lnTo>
                    <a:pt x="114" y="50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70" y="92"/>
                  </a:lnTo>
                  <a:lnTo>
                    <a:pt x="70" y="92"/>
                  </a:lnTo>
                  <a:lnTo>
                    <a:pt x="80" y="96"/>
                  </a:lnTo>
                  <a:lnTo>
                    <a:pt x="92" y="102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22" y="120"/>
                  </a:lnTo>
                  <a:lnTo>
                    <a:pt x="114" y="132"/>
                  </a:lnTo>
                  <a:close/>
                  <a:moveTo>
                    <a:pt x="58" y="100"/>
                  </a:moveTo>
                  <a:lnTo>
                    <a:pt x="58" y="100"/>
                  </a:lnTo>
                  <a:lnTo>
                    <a:pt x="50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0" y="100"/>
                  </a:lnTo>
                  <a:lnTo>
                    <a:pt x="22" y="104"/>
                  </a:lnTo>
                  <a:lnTo>
                    <a:pt x="16" y="108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6" y="120"/>
                  </a:lnTo>
                  <a:lnTo>
                    <a:pt x="20" y="124"/>
                  </a:lnTo>
                  <a:lnTo>
                    <a:pt x="26" y="12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48" y="126"/>
                  </a:lnTo>
                  <a:lnTo>
                    <a:pt x="56" y="122"/>
                  </a:lnTo>
                  <a:lnTo>
                    <a:pt x="56" y="122"/>
                  </a:lnTo>
                  <a:lnTo>
                    <a:pt x="58" y="116"/>
                  </a:lnTo>
                  <a:lnTo>
                    <a:pt x="58" y="108"/>
                  </a:lnTo>
                  <a:lnTo>
                    <a:pt x="5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51"/>
            <p:cNvSpPr/>
            <p:nvPr/>
          </p:nvSpPr>
          <p:spPr>
            <a:xfrm>
              <a:off x="41923080" y="10175760"/>
              <a:ext cx="168120" cy="212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06" h="134">
                  <a:moveTo>
                    <a:pt x="16" y="0"/>
                  </a:moveTo>
                  <a:lnTo>
                    <a:pt x="16" y="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6" y="108"/>
                  </a:lnTo>
                  <a:lnTo>
                    <a:pt x="18" y="112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30" y="120"/>
                  </a:lnTo>
                  <a:lnTo>
                    <a:pt x="42" y="122"/>
                  </a:lnTo>
                  <a:lnTo>
                    <a:pt x="42" y="122"/>
                  </a:lnTo>
                  <a:lnTo>
                    <a:pt x="56" y="120"/>
                  </a:lnTo>
                  <a:lnTo>
                    <a:pt x="68" y="114"/>
                  </a:lnTo>
                  <a:lnTo>
                    <a:pt x="78" y="106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92" y="82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98" y="98"/>
                  </a:lnTo>
                  <a:lnTo>
                    <a:pt x="94" y="106"/>
                  </a:lnTo>
                  <a:lnTo>
                    <a:pt x="88" y="112"/>
                  </a:lnTo>
                  <a:lnTo>
                    <a:pt x="88" y="112"/>
                  </a:lnTo>
                  <a:lnTo>
                    <a:pt x="78" y="122"/>
                  </a:lnTo>
                  <a:lnTo>
                    <a:pt x="68" y="128"/>
                  </a:lnTo>
                  <a:lnTo>
                    <a:pt x="54" y="132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0" y="132"/>
                  </a:lnTo>
                  <a:lnTo>
                    <a:pt x="22" y="130"/>
                  </a:lnTo>
                  <a:lnTo>
                    <a:pt x="16" y="126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6" y="116"/>
                  </a:lnTo>
                  <a:lnTo>
                    <a:pt x="2" y="108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52"/>
            <p:cNvSpPr/>
            <p:nvPr/>
          </p:nvSpPr>
          <p:spPr>
            <a:xfrm>
              <a:off x="42154560" y="10169280"/>
              <a:ext cx="215640" cy="219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6" h="138">
                  <a:moveTo>
                    <a:pt x="2" y="30"/>
                  </a:moveTo>
                  <a:lnTo>
                    <a:pt x="2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6" y="1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2" y="28"/>
                  </a:lnTo>
                  <a:lnTo>
                    <a:pt x="76" y="24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2" y="112"/>
                  </a:lnTo>
                  <a:lnTo>
                    <a:pt x="12" y="13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0" y="114"/>
                  </a:lnTo>
                  <a:lnTo>
                    <a:pt x="18" y="92"/>
                  </a:lnTo>
                  <a:lnTo>
                    <a:pt x="26" y="66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2" y="40"/>
                  </a:lnTo>
                  <a:lnTo>
                    <a:pt x="2" y="30"/>
                  </a:lnTo>
                  <a:close/>
                  <a:moveTo>
                    <a:pt x="78" y="90"/>
                  </a:moveTo>
                  <a:lnTo>
                    <a:pt x="78" y="90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70" y="10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70" y="114"/>
                  </a:lnTo>
                  <a:lnTo>
                    <a:pt x="76" y="120"/>
                  </a:lnTo>
                  <a:lnTo>
                    <a:pt x="8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16" y="122"/>
                  </a:lnTo>
                  <a:lnTo>
                    <a:pt x="134" y="118"/>
                  </a:lnTo>
                  <a:lnTo>
                    <a:pt x="136" y="130"/>
                  </a:lnTo>
                  <a:lnTo>
                    <a:pt x="136" y="130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12" y="13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80" y="132"/>
                  </a:lnTo>
                  <a:lnTo>
                    <a:pt x="68" y="128"/>
                  </a:lnTo>
                  <a:lnTo>
                    <a:pt x="62" y="124"/>
                  </a:lnTo>
                  <a:lnTo>
                    <a:pt x="60" y="120"/>
                  </a:lnTo>
                  <a:lnTo>
                    <a:pt x="58" y="116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8" y="104"/>
                  </a:lnTo>
                  <a:lnTo>
                    <a:pt x="58" y="98"/>
                  </a:lnTo>
                  <a:lnTo>
                    <a:pt x="68" y="86"/>
                  </a:lnTo>
                  <a:lnTo>
                    <a:pt x="78" y="90"/>
                  </a:lnTo>
                  <a:close/>
                  <a:moveTo>
                    <a:pt x="128" y="60"/>
                  </a:moveTo>
                  <a:lnTo>
                    <a:pt x="128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88" y="62"/>
                  </a:lnTo>
                  <a:lnTo>
                    <a:pt x="68" y="66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90" y="50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28" y="50"/>
                  </a:lnTo>
                  <a:lnTo>
                    <a:pt x="12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3"/>
            <p:cNvSpPr/>
            <p:nvPr/>
          </p:nvSpPr>
          <p:spPr>
            <a:xfrm>
              <a:off x="42408720" y="103186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50" y="26"/>
                  </a:move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12" y="32"/>
                  </a:lnTo>
                  <a:lnTo>
                    <a:pt x="14" y="36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54"/>
            <p:cNvSpPr/>
            <p:nvPr/>
          </p:nvSpPr>
          <p:spPr>
            <a:xfrm>
              <a:off x="38201760" y="10109160"/>
              <a:ext cx="295200" cy="292320"/>
            </a:xfrm>
            <a:prstGeom prst="rect">
              <a:avLst/>
            </a:prstGeom>
            <a:solidFill>
              <a:srgbClr val="e60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55"/>
            <p:cNvSpPr/>
            <p:nvPr/>
          </p:nvSpPr>
          <p:spPr>
            <a:xfrm>
              <a:off x="38293560" y="10169280"/>
              <a:ext cx="203040" cy="2318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28" h="146">
                  <a:moveTo>
                    <a:pt x="40" y="64"/>
                  </a:moveTo>
                  <a:lnTo>
                    <a:pt x="40" y="64"/>
                  </a:lnTo>
                  <a:lnTo>
                    <a:pt x="42" y="52"/>
                  </a:lnTo>
                  <a:lnTo>
                    <a:pt x="46" y="42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70" y="32"/>
                  </a:lnTo>
                  <a:lnTo>
                    <a:pt x="78" y="34"/>
                  </a:lnTo>
                  <a:lnTo>
                    <a:pt x="84" y="42"/>
                  </a:lnTo>
                  <a:lnTo>
                    <a:pt x="86" y="52"/>
                  </a:lnTo>
                  <a:lnTo>
                    <a:pt x="40" y="64"/>
                  </a:lnTo>
                  <a:close/>
                  <a:moveTo>
                    <a:pt x="128" y="64"/>
                  </a:moveTo>
                  <a:lnTo>
                    <a:pt x="128" y="64"/>
                  </a:lnTo>
                  <a:lnTo>
                    <a:pt x="126" y="46"/>
                  </a:lnTo>
                  <a:lnTo>
                    <a:pt x="122" y="32"/>
                  </a:lnTo>
                  <a:lnTo>
                    <a:pt x="114" y="20"/>
                  </a:lnTo>
                  <a:lnTo>
                    <a:pt x="106" y="12"/>
                  </a:lnTo>
                  <a:lnTo>
                    <a:pt x="94" y="4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0" y="8"/>
                  </a:lnTo>
                  <a:lnTo>
                    <a:pt x="28" y="16"/>
                  </a:lnTo>
                  <a:lnTo>
                    <a:pt x="16" y="26"/>
                  </a:lnTo>
                  <a:lnTo>
                    <a:pt x="8" y="38"/>
                  </a:lnTo>
                  <a:lnTo>
                    <a:pt x="2" y="50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8" y="110"/>
                  </a:lnTo>
                  <a:lnTo>
                    <a:pt x="14" y="122"/>
                  </a:lnTo>
                  <a:lnTo>
                    <a:pt x="22" y="132"/>
                  </a:lnTo>
                  <a:lnTo>
                    <a:pt x="32" y="138"/>
                  </a:lnTo>
                  <a:lnTo>
                    <a:pt x="44" y="144"/>
                  </a:lnTo>
                  <a:lnTo>
                    <a:pt x="56" y="146"/>
                  </a:lnTo>
                  <a:lnTo>
                    <a:pt x="70" y="146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96" y="140"/>
                  </a:lnTo>
                  <a:lnTo>
                    <a:pt x="106" y="136"/>
                  </a:lnTo>
                  <a:lnTo>
                    <a:pt x="128" y="122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02" y="104"/>
                  </a:lnTo>
                  <a:lnTo>
                    <a:pt x="92" y="110"/>
                  </a:lnTo>
                  <a:lnTo>
                    <a:pt x="82" y="114"/>
                  </a:lnTo>
                  <a:lnTo>
                    <a:pt x="82" y="114"/>
                  </a:lnTo>
                  <a:lnTo>
                    <a:pt x="74" y="114"/>
                  </a:lnTo>
                  <a:lnTo>
                    <a:pt x="68" y="114"/>
                  </a:lnTo>
                  <a:lnTo>
                    <a:pt x="62" y="112"/>
                  </a:lnTo>
                  <a:lnTo>
                    <a:pt x="56" y="110"/>
                  </a:lnTo>
                  <a:lnTo>
                    <a:pt x="52" y="106"/>
                  </a:lnTo>
                  <a:lnTo>
                    <a:pt x="48" y="100"/>
                  </a:lnTo>
                  <a:lnTo>
                    <a:pt x="44" y="94"/>
                  </a:lnTo>
                  <a:lnTo>
                    <a:pt x="42" y="86"/>
                  </a:lnTo>
                  <a:lnTo>
                    <a:pt x="128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56"/>
            <p:cNvSpPr/>
            <p:nvPr/>
          </p:nvSpPr>
          <p:spPr>
            <a:xfrm>
              <a:off x="38560320" y="10191600"/>
              <a:ext cx="422280" cy="2127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66" h="134">
                  <a:moveTo>
                    <a:pt x="14" y="36"/>
                  </a:moveTo>
                  <a:lnTo>
                    <a:pt x="14" y="36"/>
                  </a:lnTo>
                  <a:lnTo>
                    <a:pt x="16" y="46"/>
                  </a:lnTo>
                  <a:lnTo>
                    <a:pt x="22" y="56"/>
                  </a:lnTo>
                  <a:lnTo>
                    <a:pt x="30" y="66"/>
                  </a:lnTo>
                  <a:lnTo>
                    <a:pt x="40" y="72"/>
                  </a:lnTo>
                  <a:lnTo>
                    <a:pt x="58" y="86"/>
                  </a:lnTo>
                  <a:lnTo>
                    <a:pt x="64" y="90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0" y="104"/>
                  </a:lnTo>
                  <a:lnTo>
                    <a:pt x="58" y="106"/>
                  </a:lnTo>
                  <a:lnTo>
                    <a:pt x="0" y="106"/>
                  </a:lnTo>
                  <a:lnTo>
                    <a:pt x="0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68" y="130"/>
                  </a:lnTo>
                  <a:lnTo>
                    <a:pt x="76" y="128"/>
                  </a:lnTo>
                  <a:lnTo>
                    <a:pt x="82" y="124"/>
                  </a:lnTo>
                  <a:lnTo>
                    <a:pt x="88" y="118"/>
                  </a:lnTo>
                  <a:lnTo>
                    <a:pt x="92" y="112"/>
                  </a:lnTo>
                  <a:lnTo>
                    <a:pt x="94" y="106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94" y="82"/>
                  </a:lnTo>
                  <a:lnTo>
                    <a:pt x="88" y="74"/>
                  </a:lnTo>
                  <a:lnTo>
                    <a:pt x="78" y="64"/>
                  </a:lnTo>
                  <a:lnTo>
                    <a:pt x="70" y="58"/>
                  </a:lnTo>
                  <a:lnTo>
                    <a:pt x="52" y="44"/>
                  </a:lnTo>
                  <a:lnTo>
                    <a:pt x="46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6"/>
                  </a:lnTo>
                  <a:lnTo>
                    <a:pt x="52" y="24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118" y="24"/>
                  </a:lnTo>
                  <a:lnTo>
                    <a:pt x="118" y="132"/>
                  </a:lnTo>
                  <a:lnTo>
                    <a:pt x="146" y="132"/>
                  </a:lnTo>
                  <a:lnTo>
                    <a:pt x="146" y="24"/>
                  </a:lnTo>
                  <a:lnTo>
                    <a:pt x="172" y="24"/>
                  </a:lnTo>
                  <a:lnTo>
                    <a:pt x="172" y="94"/>
                  </a:lnTo>
                  <a:lnTo>
                    <a:pt x="172" y="94"/>
                  </a:lnTo>
                  <a:lnTo>
                    <a:pt x="174" y="100"/>
                  </a:lnTo>
                  <a:lnTo>
                    <a:pt x="176" y="108"/>
                  </a:lnTo>
                  <a:lnTo>
                    <a:pt x="180" y="116"/>
                  </a:lnTo>
                  <a:lnTo>
                    <a:pt x="184" y="122"/>
                  </a:lnTo>
                  <a:lnTo>
                    <a:pt x="190" y="126"/>
                  </a:lnTo>
                  <a:lnTo>
                    <a:pt x="198" y="130"/>
                  </a:lnTo>
                  <a:lnTo>
                    <a:pt x="208" y="134"/>
                  </a:lnTo>
                  <a:lnTo>
                    <a:pt x="220" y="134"/>
                  </a:lnTo>
                  <a:lnTo>
                    <a:pt x="220" y="134"/>
                  </a:lnTo>
                  <a:lnTo>
                    <a:pt x="230" y="134"/>
                  </a:lnTo>
                  <a:lnTo>
                    <a:pt x="240" y="130"/>
                  </a:lnTo>
                  <a:lnTo>
                    <a:pt x="248" y="126"/>
                  </a:lnTo>
                  <a:lnTo>
                    <a:pt x="254" y="122"/>
                  </a:lnTo>
                  <a:lnTo>
                    <a:pt x="258" y="116"/>
                  </a:lnTo>
                  <a:lnTo>
                    <a:pt x="262" y="108"/>
                  </a:lnTo>
                  <a:lnTo>
                    <a:pt x="264" y="100"/>
                  </a:lnTo>
                  <a:lnTo>
                    <a:pt x="266" y="94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38" y="86"/>
                  </a:lnTo>
                  <a:lnTo>
                    <a:pt x="238" y="86"/>
                  </a:lnTo>
                  <a:lnTo>
                    <a:pt x="236" y="96"/>
                  </a:lnTo>
                  <a:lnTo>
                    <a:pt x="232" y="102"/>
                  </a:lnTo>
                  <a:lnTo>
                    <a:pt x="226" y="106"/>
                  </a:lnTo>
                  <a:lnTo>
                    <a:pt x="220" y="108"/>
                  </a:lnTo>
                  <a:lnTo>
                    <a:pt x="220" y="108"/>
                  </a:lnTo>
                  <a:lnTo>
                    <a:pt x="212" y="106"/>
                  </a:lnTo>
                  <a:lnTo>
                    <a:pt x="206" y="102"/>
                  </a:lnTo>
                  <a:lnTo>
                    <a:pt x="202" y="96"/>
                  </a:lnTo>
                  <a:lnTo>
                    <a:pt x="200" y="86"/>
                  </a:lnTo>
                  <a:lnTo>
                    <a:pt x="200" y="0"/>
                  </a:lnTo>
                  <a:lnTo>
                    <a:pt x="174" y="0"/>
                  </a:lnTo>
                  <a:lnTo>
                    <a:pt x="172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4" y="2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7"/>
            <p:cNvSpPr/>
            <p:nvPr/>
          </p:nvSpPr>
          <p:spPr>
            <a:xfrm>
              <a:off x="38560320" y="10191600"/>
              <a:ext cx="422280" cy="2127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66" h="134">
                  <a:moveTo>
                    <a:pt x="14" y="36"/>
                  </a:moveTo>
                  <a:lnTo>
                    <a:pt x="14" y="36"/>
                  </a:lnTo>
                  <a:lnTo>
                    <a:pt x="16" y="46"/>
                  </a:lnTo>
                  <a:lnTo>
                    <a:pt x="22" y="56"/>
                  </a:lnTo>
                  <a:lnTo>
                    <a:pt x="30" y="66"/>
                  </a:lnTo>
                  <a:lnTo>
                    <a:pt x="40" y="72"/>
                  </a:lnTo>
                  <a:lnTo>
                    <a:pt x="58" y="86"/>
                  </a:lnTo>
                  <a:lnTo>
                    <a:pt x="64" y="90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0" y="104"/>
                  </a:lnTo>
                  <a:lnTo>
                    <a:pt x="58" y="106"/>
                  </a:lnTo>
                  <a:lnTo>
                    <a:pt x="0" y="106"/>
                  </a:lnTo>
                  <a:lnTo>
                    <a:pt x="0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68" y="130"/>
                  </a:lnTo>
                  <a:lnTo>
                    <a:pt x="76" y="128"/>
                  </a:lnTo>
                  <a:lnTo>
                    <a:pt x="82" y="124"/>
                  </a:lnTo>
                  <a:lnTo>
                    <a:pt x="88" y="118"/>
                  </a:lnTo>
                  <a:lnTo>
                    <a:pt x="92" y="112"/>
                  </a:lnTo>
                  <a:lnTo>
                    <a:pt x="94" y="106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94" y="82"/>
                  </a:lnTo>
                  <a:lnTo>
                    <a:pt x="88" y="74"/>
                  </a:lnTo>
                  <a:lnTo>
                    <a:pt x="78" y="64"/>
                  </a:lnTo>
                  <a:lnTo>
                    <a:pt x="70" y="58"/>
                  </a:lnTo>
                  <a:lnTo>
                    <a:pt x="52" y="44"/>
                  </a:lnTo>
                  <a:lnTo>
                    <a:pt x="46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6"/>
                  </a:lnTo>
                  <a:lnTo>
                    <a:pt x="52" y="24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118" y="24"/>
                  </a:lnTo>
                  <a:lnTo>
                    <a:pt x="118" y="132"/>
                  </a:lnTo>
                  <a:lnTo>
                    <a:pt x="146" y="132"/>
                  </a:lnTo>
                  <a:lnTo>
                    <a:pt x="146" y="24"/>
                  </a:lnTo>
                  <a:lnTo>
                    <a:pt x="172" y="24"/>
                  </a:lnTo>
                  <a:lnTo>
                    <a:pt x="172" y="94"/>
                  </a:lnTo>
                  <a:lnTo>
                    <a:pt x="172" y="94"/>
                  </a:lnTo>
                  <a:lnTo>
                    <a:pt x="174" y="100"/>
                  </a:lnTo>
                  <a:lnTo>
                    <a:pt x="176" y="108"/>
                  </a:lnTo>
                  <a:lnTo>
                    <a:pt x="180" y="116"/>
                  </a:lnTo>
                  <a:lnTo>
                    <a:pt x="184" y="122"/>
                  </a:lnTo>
                  <a:lnTo>
                    <a:pt x="190" y="126"/>
                  </a:lnTo>
                  <a:lnTo>
                    <a:pt x="198" y="130"/>
                  </a:lnTo>
                  <a:lnTo>
                    <a:pt x="208" y="134"/>
                  </a:lnTo>
                  <a:lnTo>
                    <a:pt x="220" y="134"/>
                  </a:lnTo>
                  <a:lnTo>
                    <a:pt x="220" y="134"/>
                  </a:lnTo>
                  <a:lnTo>
                    <a:pt x="230" y="134"/>
                  </a:lnTo>
                  <a:lnTo>
                    <a:pt x="240" y="130"/>
                  </a:lnTo>
                  <a:lnTo>
                    <a:pt x="248" y="126"/>
                  </a:lnTo>
                  <a:lnTo>
                    <a:pt x="254" y="122"/>
                  </a:lnTo>
                  <a:lnTo>
                    <a:pt x="258" y="116"/>
                  </a:lnTo>
                  <a:lnTo>
                    <a:pt x="262" y="108"/>
                  </a:lnTo>
                  <a:lnTo>
                    <a:pt x="264" y="100"/>
                  </a:lnTo>
                  <a:lnTo>
                    <a:pt x="266" y="94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38" y="86"/>
                  </a:lnTo>
                  <a:lnTo>
                    <a:pt x="238" y="86"/>
                  </a:lnTo>
                  <a:lnTo>
                    <a:pt x="236" y="96"/>
                  </a:lnTo>
                  <a:lnTo>
                    <a:pt x="232" y="102"/>
                  </a:lnTo>
                  <a:lnTo>
                    <a:pt x="226" y="106"/>
                  </a:lnTo>
                  <a:lnTo>
                    <a:pt x="220" y="108"/>
                  </a:lnTo>
                  <a:lnTo>
                    <a:pt x="220" y="108"/>
                  </a:lnTo>
                  <a:lnTo>
                    <a:pt x="212" y="106"/>
                  </a:lnTo>
                  <a:lnTo>
                    <a:pt x="206" y="102"/>
                  </a:lnTo>
                  <a:lnTo>
                    <a:pt x="202" y="96"/>
                  </a:lnTo>
                  <a:lnTo>
                    <a:pt x="200" y="86"/>
                  </a:lnTo>
                  <a:lnTo>
                    <a:pt x="200" y="0"/>
                  </a:lnTo>
                  <a:lnTo>
                    <a:pt x="174" y="0"/>
                  </a:lnTo>
                  <a:lnTo>
                    <a:pt x="172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4" y="26"/>
                  </a:lnTo>
                  <a:lnTo>
                    <a:pt x="14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58"/>
            <p:cNvSpPr/>
            <p:nvPr/>
          </p:nvSpPr>
          <p:spPr>
            <a:xfrm>
              <a:off x="39004920" y="1019160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8" y="132"/>
                  </a:lnTo>
                  <a:lnTo>
                    <a:pt x="28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8" y="28"/>
                  </a:lnTo>
                  <a:lnTo>
                    <a:pt x="56" y="30"/>
                  </a:lnTo>
                  <a:lnTo>
                    <a:pt x="62" y="32"/>
                  </a:lnTo>
                  <a:lnTo>
                    <a:pt x="68" y="36"/>
                  </a:lnTo>
                  <a:lnTo>
                    <a:pt x="74" y="42"/>
                  </a:lnTo>
                  <a:lnTo>
                    <a:pt x="76" y="50"/>
                  </a:lnTo>
                  <a:lnTo>
                    <a:pt x="80" y="58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74"/>
                  </a:lnTo>
                  <a:lnTo>
                    <a:pt x="78" y="80"/>
                  </a:lnTo>
                  <a:lnTo>
                    <a:pt x="74" y="88"/>
                  </a:lnTo>
                  <a:lnTo>
                    <a:pt x="70" y="94"/>
                  </a:lnTo>
                  <a:lnTo>
                    <a:pt x="64" y="98"/>
                  </a:lnTo>
                  <a:lnTo>
                    <a:pt x="58" y="102"/>
                  </a:lnTo>
                  <a:lnTo>
                    <a:pt x="50" y="104"/>
                  </a:lnTo>
                  <a:lnTo>
                    <a:pt x="44" y="106"/>
                  </a:lnTo>
                  <a:lnTo>
                    <a:pt x="36" y="106"/>
                  </a:lnTo>
                  <a:lnTo>
                    <a:pt x="36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0" y="122"/>
                  </a:lnTo>
                  <a:lnTo>
                    <a:pt x="88" y="114"/>
                  </a:lnTo>
                  <a:lnTo>
                    <a:pt x="96" y="104"/>
                  </a:lnTo>
                  <a:lnTo>
                    <a:pt x="102" y="94"/>
                  </a:lnTo>
                  <a:lnTo>
                    <a:pt x="106" y="82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06" y="52"/>
                  </a:lnTo>
                  <a:lnTo>
                    <a:pt x="102" y="38"/>
                  </a:lnTo>
                  <a:lnTo>
                    <a:pt x="96" y="28"/>
                  </a:lnTo>
                  <a:lnTo>
                    <a:pt x="88" y="18"/>
                  </a:lnTo>
                  <a:lnTo>
                    <a:pt x="78" y="10"/>
                  </a:lnTo>
                  <a:lnTo>
                    <a:pt x="68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9"/>
            <p:cNvSpPr/>
            <p:nvPr/>
          </p:nvSpPr>
          <p:spPr>
            <a:xfrm>
              <a:off x="39189240" y="10191600"/>
              <a:ext cx="44280" cy="20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60"/>
            <p:cNvSpPr/>
            <p:nvPr/>
          </p:nvSpPr>
          <p:spPr>
            <a:xfrm>
              <a:off x="39246120" y="1018836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6" h="136">
                  <a:moveTo>
                    <a:pt x="68" y="0"/>
                  </a:moveTo>
                  <a:lnTo>
                    <a:pt x="68" y="0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82"/>
                  </a:lnTo>
                  <a:lnTo>
                    <a:pt x="6" y="94"/>
                  </a:lnTo>
                  <a:lnTo>
                    <a:pt x="12" y="106"/>
                  </a:lnTo>
                  <a:lnTo>
                    <a:pt x="20" y="116"/>
                  </a:lnTo>
                  <a:lnTo>
                    <a:pt x="30" y="124"/>
                  </a:lnTo>
                  <a:lnTo>
                    <a:pt x="40" y="130"/>
                  </a:lnTo>
                  <a:lnTo>
                    <a:pt x="54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2" y="134"/>
                  </a:lnTo>
                  <a:lnTo>
                    <a:pt x="94" y="130"/>
                  </a:lnTo>
                  <a:lnTo>
                    <a:pt x="106" y="124"/>
                  </a:lnTo>
                  <a:lnTo>
                    <a:pt x="116" y="116"/>
                  </a:lnTo>
                  <a:lnTo>
                    <a:pt x="124" y="106"/>
                  </a:lnTo>
                  <a:lnTo>
                    <a:pt x="130" y="94"/>
                  </a:lnTo>
                  <a:lnTo>
                    <a:pt x="134" y="82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34" y="54"/>
                  </a:lnTo>
                  <a:lnTo>
                    <a:pt x="130" y="42"/>
                  </a:lnTo>
                  <a:lnTo>
                    <a:pt x="124" y="30"/>
                  </a:lnTo>
                  <a:lnTo>
                    <a:pt x="116" y="20"/>
                  </a:lnTo>
                  <a:lnTo>
                    <a:pt x="106" y="12"/>
                  </a:lnTo>
                  <a:lnTo>
                    <a:pt x="94" y="6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68" y="0"/>
                  </a:lnTo>
                  <a:close/>
                  <a:moveTo>
                    <a:pt x="68" y="110"/>
                  </a:moveTo>
                  <a:lnTo>
                    <a:pt x="68" y="110"/>
                  </a:lnTo>
                  <a:lnTo>
                    <a:pt x="60" y="108"/>
                  </a:lnTo>
                  <a:lnTo>
                    <a:pt x="52" y="106"/>
                  </a:lnTo>
                  <a:lnTo>
                    <a:pt x="44" y="102"/>
                  </a:lnTo>
                  <a:lnTo>
                    <a:pt x="40" y="96"/>
                  </a:lnTo>
                  <a:lnTo>
                    <a:pt x="34" y="90"/>
                  </a:lnTo>
                  <a:lnTo>
                    <a:pt x="32" y="84"/>
                  </a:lnTo>
                  <a:lnTo>
                    <a:pt x="30" y="76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4" y="46"/>
                  </a:lnTo>
                  <a:lnTo>
                    <a:pt x="40" y="40"/>
                  </a:lnTo>
                  <a:lnTo>
                    <a:pt x="44" y="34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6" y="28"/>
                  </a:lnTo>
                  <a:lnTo>
                    <a:pt x="84" y="30"/>
                  </a:lnTo>
                  <a:lnTo>
                    <a:pt x="92" y="34"/>
                  </a:lnTo>
                  <a:lnTo>
                    <a:pt x="96" y="40"/>
                  </a:lnTo>
                  <a:lnTo>
                    <a:pt x="102" y="46"/>
                  </a:lnTo>
                  <a:lnTo>
                    <a:pt x="104" y="52"/>
                  </a:lnTo>
                  <a:lnTo>
                    <a:pt x="106" y="60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06" y="76"/>
                  </a:lnTo>
                  <a:lnTo>
                    <a:pt x="104" y="84"/>
                  </a:lnTo>
                  <a:lnTo>
                    <a:pt x="102" y="90"/>
                  </a:lnTo>
                  <a:lnTo>
                    <a:pt x="96" y="96"/>
                  </a:lnTo>
                  <a:lnTo>
                    <a:pt x="92" y="102"/>
                  </a:lnTo>
                  <a:lnTo>
                    <a:pt x="84" y="106"/>
                  </a:lnTo>
                  <a:lnTo>
                    <a:pt x="76" y="108"/>
                  </a:lnTo>
                  <a:lnTo>
                    <a:pt x="68" y="110"/>
                  </a:lnTo>
                  <a:lnTo>
                    <a:pt x="68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61"/>
            <p:cNvSpPr/>
            <p:nvPr/>
          </p:nvSpPr>
          <p:spPr>
            <a:xfrm>
              <a:off x="38525400" y="10277280"/>
              <a:ext cx="37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1:15:48Z</dcterms:created>
  <dc:creator>seisaku</dc:creator>
  <dc:description/>
  <dc:language>en-US</dc:language>
  <cp:lastModifiedBy>seisaku</cp:lastModifiedBy>
  <dcterms:modified xsi:type="dcterms:W3CDTF">2012-05-15T01:30:28Z</dcterms:modified>
  <cp:revision>3</cp:revision>
  <dc:subject/>
  <dc:title>スライド 1</dc:title>
</cp:coreProperties>
</file>